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sterBodoni BT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7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4.png"/><Relationship Id="rId25" Type="http://schemas.openxmlformats.org/officeDocument/2006/relationships/image" Target="../media/image3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3.png"/><Relationship Id="rId29" Type="http://schemas.openxmlformats.org/officeDocument/2006/relationships/image" Target="../media/image7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7.png"/><Relationship Id="rId34" Type="http://schemas.openxmlformats.org/officeDocument/2006/relationships/image" Target="../media/image4.png"/><Relationship Id="rId35" Type="http://schemas.openxmlformats.org/officeDocument/2006/relationships/image" Target="../media/image3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7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3.png"/><Relationship Id="rId48" Type="http://schemas.openxmlformats.org/officeDocument/2006/relationships/image" Target="../media/image4.png"/><Relationship Id="rId49" Type="http://schemas.openxmlformats.org/officeDocument/2006/relationships/image" Target="../media/image8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7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5.png"/><Relationship Id="rId57" Type="http://schemas.openxmlformats.org/officeDocument/2006/relationships/image" Target="../media/image4.png"/><Relationship Id="rId58" Type="http://schemas.openxmlformats.org/officeDocument/2006/relationships/image" Target="../media/image3.png"/><Relationship Id="rId59" Type="http://schemas.openxmlformats.org/officeDocument/2006/relationships/image" Target="../media/image6.png"/><Relationship Id="rId60" Type="http://schemas.openxmlformats.org/officeDocument/2006/relationships/image" Target="../media/image9.png"/><Relationship Id="rId61" Type="http://schemas.openxmlformats.org/officeDocument/2006/relationships/image" Target="../media/image3.png"/><Relationship Id="rId62" Type="http://schemas.openxmlformats.org/officeDocument/2006/relationships/image" Target="../media/image4.png"/><Relationship Id="rId6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3"/>
          <p:cNvSpPr/>
          <p:nvPr/>
        </p:nvSpPr>
        <p:spPr>
          <a:xfrm>
            <a:off x="1440" y="-158760"/>
            <a:ext cx="9812520" cy="7203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val 4"/>
          <p:cNvSpPr/>
          <p:nvPr/>
        </p:nvSpPr>
        <p:spPr>
          <a:xfrm rot="5340000">
            <a:off x="1558800" y="174240"/>
            <a:ext cx="6515280" cy="65152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4d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val 5"/>
          <p:cNvSpPr/>
          <p:nvPr/>
        </p:nvSpPr>
        <p:spPr>
          <a:xfrm rot="5340000">
            <a:off x="2459880" y="1177560"/>
            <a:ext cx="4654440" cy="4654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4d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val 6"/>
          <p:cNvSpPr/>
          <p:nvPr/>
        </p:nvSpPr>
        <p:spPr>
          <a:xfrm rot="5340000">
            <a:off x="3454560" y="2144880"/>
            <a:ext cx="2666880" cy="26668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val 7"/>
          <p:cNvSpPr/>
          <p:nvPr/>
        </p:nvSpPr>
        <p:spPr>
          <a:xfrm rot="5340000">
            <a:off x="4260600" y="2963880"/>
            <a:ext cx="1054080" cy="1054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2160720" y="2827440"/>
            <a:ext cx="54403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osterBodoni BT Roman"/>
              </a:rPr>
              <a:t>Los Cuatro Círcul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2070000" y="2736720"/>
            <a:ext cx="54403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osterBodoni BT Roman"/>
              </a:rPr>
              <a:t>Los Cuatro Círcul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"/>
          <p:cNvSpPr/>
          <p:nvPr/>
        </p:nvSpPr>
        <p:spPr>
          <a:xfrm>
            <a:off x="3240" y="-152280"/>
            <a:ext cx="9804240" cy="7197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4"/>
          <p:cNvSpPr/>
          <p:nvPr/>
        </p:nvSpPr>
        <p:spPr>
          <a:xfrm rot="5340000">
            <a:off x="3609360" y="4361040"/>
            <a:ext cx="1136520" cy="1136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66600">
            <a:solidFill>
              <a:srgbClr val="00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5"/>
          <p:cNvSpPr/>
          <p:nvPr/>
        </p:nvSpPr>
        <p:spPr>
          <a:xfrm rot="5340000">
            <a:off x="5809680" y="4344840"/>
            <a:ext cx="1136520" cy="1133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66600">
            <a:solidFill>
              <a:srgbClr val="00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6"/>
          <p:cNvSpPr/>
          <p:nvPr/>
        </p:nvSpPr>
        <p:spPr>
          <a:xfrm>
            <a:off x="2479680" y="4962600"/>
            <a:ext cx="1111320" cy="3312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00" h="21">
                <a:moveTo>
                  <a:pt x="0" y="0"/>
                </a:moveTo>
                <a:lnTo>
                  <a:pt x="19" y="21"/>
                </a:lnTo>
                <a:lnTo>
                  <a:pt x="0" y="0"/>
                </a:lnTo>
                <a:lnTo>
                  <a:pt x="700" y="0"/>
                </a:lnTo>
              </a:path>
            </a:pathLst>
          </a:custGeom>
          <a:noFill/>
          <a:ln w="66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4757760" y="4952880"/>
            <a:ext cx="1058760" cy="360"/>
          </a:xfrm>
          <a:custGeom>
            <a:avLst/>
            <a:gdLst/>
            <a:ahLst/>
            <a:rect l="l" t="t" r="r" b="b"/>
            <a:pathLst>
              <a:path w="667" h="0">
                <a:moveTo>
                  <a:pt x="0" y="0"/>
                </a:moveTo>
                <a:lnTo>
                  <a:pt x="667" y="0"/>
                </a:lnTo>
              </a:path>
            </a:pathLst>
          </a:custGeom>
          <a:noFill/>
          <a:ln w="66600">
            <a:solidFill>
              <a:srgbClr val="00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551400" y="4748040"/>
            <a:ext cx="1271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2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eli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5526000" y="4791240"/>
            <a:ext cx="1752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tana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2765520" y="4170240"/>
            <a:ext cx="5259240" cy="1522440"/>
          </a:xfrm>
          <a:prstGeom prst="rect">
            <a:avLst/>
          </a:prstGeom>
          <a:noFill/>
          <a:ln w="29880">
            <a:solidFill>
              <a:srgbClr val="00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1"/>
          <p:cNvSpPr/>
          <p:nvPr/>
        </p:nvSpPr>
        <p:spPr>
          <a:xfrm>
            <a:off x="6951600" y="4456080"/>
            <a:ext cx="2289240" cy="725400"/>
          </a:xfrm>
          <a:custGeom>
            <a:avLst/>
            <a:gdLst>
              <a:gd name="textAreaLeft" fmla="*/ 0 w 2289240"/>
              <a:gd name="textAreaRight" fmla="*/ 2289600 w 228924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442" h="457">
                <a:moveTo>
                  <a:pt x="0" y="228"/>
                </a:moveTo>
                <a:lnTo>
                  <a:pt x="0" y="228"/>
                </a:lnTo>
                <a:lnTo>
                  <a:pt x="1" y="227"/>
                </a:lnTo>
                <a:lnTo>
                  <a:pt x="3" y="226"/>
                </a:lnTo>
                <a:lnTo>
                  <a:pt x="5" y="225"/>
                </a:lnTo>
                <a:lnTo>
                  <a:pt x="8" y="223"/>
                </a:lnTo>
                <a:lnTo>
                  <a:pt x="11" y="221"/>
                </a:lnTo>
                <a:lnTo>
                  <a:pt x="15" y="219"/>
                </a:lnTo>
                <a:lnTo>
                  <a:pt x="19" y="216"/>
                </a:lnTo>
                <a:lnTo>
                  <a:pt x="23" y="213"/>
                </a:lnTo>
                <a:lnTo>
                  <a:pt x="28" y="210"/>
                </a:lnTo>
                <a:lnTo>
                  <a:pt x="34" y="206"/>
                </a:lnTo>
                <a:lnTo>
                  <a:pt x="40" y="203"/>
                </a:lnTo>
                <a:lnTo>
                  <a:pt x="46" y="199"/>
                </a:lnTo>
                <a:lnTo>
                  <a:pt x="53" y="195"/>
                </a:lnTo>
                <a:lnTo>
                  <a:pt x="60" y="190"/>
                </a:lnTo>
                <a:lnTo>
                  <a:pt x="67" y="185"/>
                </a:lnTo>
                <a:lnTo>
                  <a:pt x="75" y="181"/>
                </a:lnTo>
                <a:lnTo>
                  <a:pt x="83" y="176"/>
                </a:lnTo>
                <a:lnTo>
                  <a:pt x="91" y="171"/>
                </a:lnTo>
                <a:lnTo>
                  <a:pt x="99" y="165"/>
                </a:lnTo>
                <a:lnTo>
                  <a:pt x="108" y="160"/>
                </a:lnTo>
                <a:lnTo>
                  <a:pt x="116" y="154"/>
                </a:lnTo>
                <a:lnTo>
                  <a:pt x="125" y="149"/>
                </a:lnTo>
                <a:lnTo>
                  <a:pt x="134" y="143"/>
                </a:lnTo>
                <a:lnTo>
                  <a:pt x="143" y="137"/>
                </a:lnTo>
                <a:lnTo>
                  <a:pt x="152" y="131"/>
                </a:lnTo>
                <a:lnTo>
                  <a:pt x="162" y="126"/>
                </a:lnTo>
                <a:lnTo>
                  <a:pt x="171" y="120"/>
                </a:lnTo>
                <a:lnTo>
                  <a:pt x="180" y="114"/>
                </a:lnTo>
                <a:lnTo>
                  <a:pt x="190" y="108"/>
                </a:lnTo>
                <a:lnTo>
                  <a:pt x="199" y="102"/>
                </a:lnTo>
                <a:lnTo>
                  <a:pt x="208" y="96"/>
                </a:lnTo>
                <a:lnTo>
                  <a:pt x="217" y="90"/>
                </a:lnTo>
                <a:lnTo>
                  <a:pt x="226" y="85"/>
                </a:lnTo>
                <a:lnTo>
                  <a:pt x="235" y="79"/>
                </a:lnTo>
                <a:lnTo>
                  <a:pt x="244" y="73"/>
                </a:lnTo>
                <a:lnTo>
                  <a:pt x="253" y="68"/>
                </a:lnTo>
                <a:lnTo>
                  <a:pt x="261" y="62"/>
                </a:lnTo>
                <a:lnTo>
                  <a:pt x="270" y="57"/>
                </a:lnTo>
                <a:lnTo>
                  <a:pt x="278" y="52"/>
                </a:lnTo>
                <a:lnTo>
                  <a:pt x="286" y="47"/>
                </a:lnTo>
                <a:lnTo>
                  <a:pt x="293" y="42"/>
                </a:lnTo>
                <a:lnTo>
                  <a:pt x="301" y="37"/>
                </a:lnTo>
                <a:lnTo>
                  <a:pt x="308" y="33"/>
                </a:lnTo>
                <a:lnTo>
                  <a:pt x="314" y="29"/>
                </a:lnTo>
                <a:lnTo>
                  <a:pt x="321" y="25"/>
                </a:lnTo>
                <a:lnTo>
                  <a:pt x="327" y="21"/>
                </a:lnTo>
                <a:lnTo>
                  <a:pt x="332" y="18"/>
                </a:lnTo>
                <a:lnTo>
                  <a:pt x="337" y="14"/>
                </a:lnTo>
                <a:lnTo>
                  <a:pt x="342" y="11"/>
                </a:lnTo>
                <a:lnTo>
                  <a:pt x="346" y="9"/>
                </a:lnTo>
                <a:lnTo>
                  <a:pt x="350" y="6"/>
                </a:lnTo>
                <a:lnTo>
                  <a:pt x="353" y="4"/>
                </a:lnTo>
                <a:lnTo>
                  <a:pt x="356" y="3"/>
                </a:lnTo>
                <a:lnTo>
                  <a:pt x="358" y="1"/>
                </a:lnTo>
                <a:lnTo>
                  <a:pt x="359" y="0"/>
                </a:lnTo>
                <a:lnTo>
                  <a:pt x="360" y="0"/>
                </a:lnTo>
                <a:lnTo>
                  <a:pt x="361" y="0"/>
                </a:lnTo>
                <a:lnTo>
                  <a:pt x="361" y="0"/>
                </a:lnTo>
                <a:lnTo>
                  <a:pt x="361" y="1"/>
                </a:lnTo>
                <a:lnTo>
                  <a:pt x="361" y="6"/>
                </a:lnTo>
                <a:lnTo>
                  <a:pt x="361" y="13"/>
                </a:lnTo>
                <a:lnTo>
                  <a:pt x="361" y="22"/>
                </a:lnTo>
                <a:lnTo>
                  <a:pt x="361" y="33"/>
                </a:lnTo>
                <a:lnTo>
                  <a:pt x="361" y="45"/>
                </a:lnTo>
                <a:lnTo>
                  <a:pt x="361" y="57"/>
                </a:lnTo>
                <a:lnTo>
                  <a:pt x="361" y="69"/>
                </a:lnTo>
                <a:lnTo>
                  <a:pt x="361" y="80"/>
                </a:lnTo>
                <a:lnTo>
                  <a:pt x="361" y="91"/>
                </a:lnTo>
                <a:lnTo>
                  <a:pt x="361" y="100"/>
                </a:lnTo>
                <a:lnTo>
                  <a:pt x="361" y="107"/>
                </a:lnTo>
                <a:lnTo>
                  <a:pt x="361" y="112"/>
                </a:lnTo>
                <a:lnTo>
                  <a:pt x="361" y="114"/>
                </a:lnTo>
                <a:lnTo>
                  <a:pt x="361" y="114"/>
                </a:lnTo>
                <a:lnTo>
                  <a:pt x="368" y="114"/>
                </a:lnTo>
                <a:lnTo>
                  <a:pt x="375" y="114"/>
                </a:lnTo>
                <a:lnTo>
                  <a:pt x="383" y="114"/>
                </a:lnTo>
                <a:lnTo>
                  <a:pt x="390" y="114"/>
                </a:lnTo>
                <a:lnTo>
                  <a:pt x="398" y="114"/>
                </a:lnTo>
                <a:lnTo>
                  <a:pt x="406" y="114"/>
                </a:lnTo>
                <a:lnTo>
                  <a:pt x="414" y="114"/>
                </a:lnTo>
                <a:lnTo>
                  <a:pt x="422" y="114"/>
                </a:lnTo>
                <a:lnTo>
                  <a:pt x="430" y="114"/>
                </a:lnTo>
                <a:lnTo>
                  <a:pt x="438" y="114"/>
                </a:lnTo>
                <a:lnTo>
                  <a:pt x="446" y="114"/>
                </a:lnTo>
                <a:lnTo>
                  <a:pt x="454" y="114"/>
                </a:lnTo>
                <a:lnTo>
                  <a:pt x="462" y="114"/>
                </a:lnTo>
                <a:lnTo>
                  <a:pt x="471" y="114"/>
                </a:lnTo>
                <a:lnTo>
                  <a:pt x="479" y="114"/>
                </a:lnTo>
                <a:lnTo>
                  <a:pt x="488" y="114"/>
                </a:lnTo>
                <a:lnTo>
                  <a:pt x="497" y="114"/>
                </a:lnTo>
                <a:lnTo>
                  <a:pt x="505" y="114"/>
                </a:lnTo>
                <a:lnTo>
                  <a:pt x="514" y="114"/>
                </a:lnTo>
                <a:lnTo>
                  <a:pt x="523" y="114"/>
                </a:lnTo>
                <a:lnTo>
                  <a:pt x="532" y="114"/>
                </a:lnTo>
                <a:lnTo>
                  <a:pt x="540" y="114"/>
                </a:lnTo>
                <a:lnTo>
                  <a:pt x="549" y="114"/>
                </a:lnTo>
                <a:lnTo>
                  <a:pt x="558" y="114"/>
                </a:lnTo>
                <a:lnTo>
                  <a:pt x="567" y="114"/>
                </a:lnTo>
                <a:lnTo>
                  <a:pt x="577" y="114"/>
                </a:lnTo>
                <a:lnTo>
                  <a:pt x="586" y="114"/>
                </a:lnTo>
                <a:lnTo>
                  <a:pt x="595" y="114"/>
                </a:lnTo>
                <a:lnTo>
                  <a:pt x="604" y="114"/>
                </a:lnTo>
                <a:lnTo>
                  <a:pt x="613" y="114"/>
                </a:lnTo>
                <a:lnTo>
                  <a:pt x="623" y="114"/>
                </a:lnTo>
                <a:lnTo>
                  <a:pt x="632" y="114"/>
                </a:lnTo>
                <a:lnTo>
                  <a:pt x="642" y="114"/>
                </a:lnTo>
                <a:lnTo>
                  <a:pt x="651" y="114"/>
                </a:lnTo>
                <a:lnTo>
                  <a:pt x="660" y="114"/>
                </a:lnTo>
                <a:lnTo>
                  <a:pt x="670" y="114"/>
                </a:lnTo>
                <a:lnTo>
                  <a:pt x="679" y="114"/>
                </a:lnTo>
                <a:lnTo>
                  <a:pt x="689" y="114"/>
                </a:lnTo>
                <a:lnTo>
                  <a:pt x="699" y="114"/>
                </a:lnTo>
                <a:lnTo>
                  <a:pt x="708" y="114"/>
                </a:lnTo>
                <a:lnTo>
                  <a:pt x="718" y="114"/>
                </a:lnTo>
                <a:lnTo>
                  <a:pt x="727" y="114"/>
                </a:lnTo>
                <a:lnTo>
                  <a:pt x="737" y="114"/>
                </a:lnTo>
                <a:lnTo>
                  <a:pt x="747" y="114"/>
                </a:lnTo>
                <a:lnTo>
                  <a:pt x="756" y="114"/>
                </a:lnTo>
                <a:lnTo>
                  <a:pt x="766" y="114"/>
                </a:lnTo>
                <a:lnTo>
                  <a:pt x="776" y="114"/>
                </a:lnTo>
                <a:lnTo>
                  <a:pt x="785" y="114"/>
                </a:lnTo>
                <a:lnTo>
                  <a:pt x="795" y="114"/>
                </a:lnTo>
                <a:lnTo>
                  <a:pt x="805" y="114"/>
                </a:lnTo>
                <a:lnTo>
                  <a:pt x="814" y="114"/>
                </a:lnTo>
                <a:lnTo>
                  <a:pt x="824" y="114"/>
                </a:lnTo>
                <a:lnTo>
                  <a:pt x="834" y="114"/>
                </a:lnTo>
                <a:lnTo>
                  <a:pt x="843" y="114"/>
                </a:lnTo>
                <a:lnTo>
                  <a:pt x="853" y="114"/>
                </a:lnTo>
                <a:lnTo>
                  <a:pt x="863" y="114"/>
                </a:lnTo>
                <a:lnTo>
                  <a:pt x="872" y="114"/>
                </a:lnTo>
                <a:lnTo>
                  <a:pt x="882" y="114"/>
                </a:lnTo>
                <a:lnTo>
                  <a:pt x="892" y="114"/>
                </a:lnTo>
                <a:lnTo>
                  <a:pt x="901" y="114"/>
                </a:lnTo>
                <a:lnTo>
                  <a:pt x="911" y="114"/>
                </a:lnTo>
                <a:lnTo>
                  <a:pt x="920" y="114"/>
                </a:lnTo>
                <a:lnTo>
                  <a:pt x="930" y="114"/>
                </a:lnTo>
                <a:lnTo>
                  <a:pt x="939" y="114"/>
                </a:lnTo>
                <a:lnTo>
                  <a:pt x="949" y="114"/>
                </a:lnTo>
                <a:lnTo>
                  <a:pt x="958" y="114"/>
                </a:lnTo>
                <a:lnTo>
                  <a:pt x="968" y="114"/>
                </a:lnTo>
                <a:lnTo>
                  <a:pt x="977" y="114"/>
                </a:lnTo>
                <a:lnTo>
                  <a:pt x="986" y="114"/>
                </a:lnTo>
                <a:lnTo>
                  <a:pt x="996" y="114"/>
                </a:lnTo>
                <a:lnTo>
                  <a:pt x="1005" y="114"/>
                </a:lnTo>
                <a:lnTo>
                  <a:pt x="1014" y="114"/>
                </a:lnTo>
                <a:lnTo>
                  <a:pt x="1023" y="114"/>
                </a:lnTo>
                <a:lnTo>
                  <a:pt x="1032" y="114"/>
                </a:lnTo>
                <a:lnTo>
                  <a:pt x="1041" y="114"/>
                </a:lnTo>
                <a:lnTo>
                  <a:pt x="1050" y="114"/>
                </a:lnTo>
                <a:lnTo>
                  <a:pt x="1059" y="114"/>
                </a:lnTo>
                <a:lnTo>
                  <a:pt x="1068" y="114"/>
                </a:lnTo>
                <a:lnTo>
                  <a:pt x="1077" y="114"/>
                </a:lnTo>
                <a:lnTo>
                  <a:pt x="1086" y="114"/>
                </a:lnTo>
                <a:lnTo>
                  <a:pt x="1095" y="114"/>
                </a:lnTo>
                <a:lnTo>
                  <a:pt x="1103" y="114"/>
                </a:lnTo>
                <a:lnTo>
                  <a:pt x="1112" y="114"/>
                </a:lnTo>
                <a:lnTo>
                  <a:pt x="1121" y="114"/>
                </a:lnTo>
                <a:lnTo>
                  <a:pt x="1129" y="114"/>
                </a:lnTo>
                <a:lnTo>
                  <a:pt x="1137" y="114"/>
                </a:lnTo>
                <a:lnTo>
                  <a:pt x="1146" y="114"/>
                </a:lnTo>
                <a:lnTo>
                  <a:pt x="1154" y="114"/>
                </a:lnTo>
                <a:lnTo>
                  <a:pt x="1162" y="114"/>
                </a:lnTo>
                <a:lnTo>
                  <a:pt x="1170" y="114"/>
                </a:lnTo>
                <a:lnTo>
                  <a:pt x="1178" y="114"/>
                </a:lnTo>
                <a:lnTo>
                  <a:pt x="1186" y="114"/>
                </a:lnTo>
                <a:lnTo>
                  <a:pt x="1194" y="114"/>
                </a:lnTo>
                <a:lnTo>
                  <a:pt x="1202" y="114"/>
                </a:lnTo>
                <a:lnTo>
                  <a:pt x="1210" y="114"/>
                </a:lnTo>
                <a:lnTo>
                  <a:pt x="1217" y="114"/>
                </a:lnTo>
                <a:lnTo>
                  <a:pt x="1225" y="114"/>
                </a:lnTo>
                <a:lnTo>
                  <a:pt x="1232" y="114"/>
                </a:lnTo>
                <a:lnTo>
                  <a:pt x="1240" y="114"/>
                </a:lnTo>
                <a:lnTo>
                  <a:pt x="1247" y="114"/>
                </a:lnTo>
                <a:lnTo>
                  <a:pt x="1254" y="114"/>
                </a:lnTo>
                <a:lnTo>
                  <a:pt x="1261" y="114"/>
                </a:lnTo>
                <a:lnTo>
                  <a:pt x="1268" y="114"/>
                </a:lnTo>
                <a:lnTo>
                  <a:pt x="1275" y="114"/>
                </a:lnTo>
                <a:lnTo>
                  <a:pt x="1282" y="114"/>
                </a:lnTo>
                <a:lnTo>
                  <a:pt x="1288" y="114"/>
                </a:lnTo>
                <a:lnTo>
                  <a:pt x="1295" y="114"/>
                </a:lnTo>
                <a:lnTo>
                  <a:pt x="1301" y="114"/>
                </a:lnTo>
                <a:lnTo>
                  <a:pt x="1307" y="114"/>
                </a:lnTo>
                <a:lnTo>
                  <a:pt x="1314" y="114"/>
                </a:lnTo>
                <a:lnTo>
                  <a:pt x="1320" y="114"/>
                </a:lnTo>
                <a:lnTo>
                  <a:pt x="1326" y="114"/>
                </a:lnTo>
                <a:lnTo>
                  <a:pt x="1331" y="114"/>
                </a:lnTo>
                <a:lnTo>
                  <a:pt x="1337" y="114"/>
                </a:lnTo>
                <a:lnTo>
                  <a:pt x="1343" y="114"/>
                </a:lnTo>
                <a:lnTo>
                  <a:pt x="1348" y="114"/>
                </a:lnTo>
                <a:lnTo>
                  <a:pt x="1353" y="114"/>
                </a:lnTo>
                <a:lnTo>
                  <a:pt x="1359" y="114"/>
                </a:lnTo>
                <a:lnTo>
                  <a:pt x="1364" y="114"/>
                </a:lnTo>
                <a:lnTo>
                  <a:pt x="1368" y="114"/>
                </a:lnTo>
                <a:lnTo>
                  <a:pt x="1373" y="114"/>
                </a:lnTo>
                <a:lnTo>
                  <a:pt x="1378" y="114"/>
                </a:lnTo>
                <a:lnTo>
                  <a:pt x="1382" y="114"/>
                </a:lnTo>
                <a:lnTo>
                  <a:pt x="1387" y="114"/>
                </a:lnTo>
                <a:lnTo>
                  <a:pt x="1391" y="114"/>
                </a:lnTo>
                <a:lnTo>
                  <a:pt x="1395" y="114"/>
                </a:lnTo>
                <a:lnTo>
                  <a:pt x="1399" y="114"/>
                </a:lnTo>
                <a:lnTo>
                  <a:pt x="1402" y="114"/>
                </a:lnTo>
                <a:lnTo>
                  <a:pt x="1406" y="114"/>
                </a:lnTo>
                <a:lnTo>
                  <a:pt x="1409" y="114"/>
                </a:lnTo>
                <a:lnTo>
                  <a:pt x="1413" y="114"/>
                </a:lnTo>
                <a:lnTo>
                  <a:pt x="1416" y="114"/>
                </a:lnTo>
                <a:lnTo>
                  <a:pt x="1419" y="114"/>
                </a:lnTo>
                <a:lnTo>
                  <a:pt x="1422" y="114"/>
                </a:lnTo>
                <a:lnTo>
                  <a:pt x="1424" y="114"/>
                </a:lnTo>
                <a:lnTo>
                  <a:pt x="1427" y="114"/>
                </a:lnTo>
                <a:lnTo>
                  <a:pt x="1429" y="114"/>
                </a:lnTo>
                <a:lnTo>
                  <a:pt x="1431" y="114"/>
                </a:lnTo>
                <a:lnTo>
                  <a:pt x="1433" y="114"/>
                </a:lnTo>
                <a:lnTo>
                  <a:pt x="1435" y="114"/>
                </a:lnTo>
                <a:lnTo>
                  <a:pt x="1436" y="114"/>
                </a:lnTo>
                <a:lnTo>
                  <a:pt x="1438" y="114"/>
                </a:lnTo>
                <a:lnTo>
                  <a:pt x="1439" y="114"/>
                </a:lnTo>
                <a:lnTo>
                  <a:pt x="1440" y="114"/>
                </a:lnTo>
                <a:lnTo>
                  <a:pt x="1441" y="114"/>
                </a:lnTo>
                <a:lnTo>
                  <a:pt x="1442" y="114"/>
                </a:lnTo>
                <a:lnTo>
                  <a:pt x="1442" y="114"/>
                </a:lnTo>
                <a:lnTo>
                  <a:pt x="1442" y="114"/>
                </a:lnTo>
                <a:lnTo>
                  <a:pt x="1442" y="114"/>
                </a:lnTo>
                <a:lnTo>
                  <a:pt x="1442" y="114"/>
                </a:lnTo>
                <a:lnTo>
                  <a:pt x="1442" y="115"/>
                </a:lnTo>
                <a:lnTo>
                  <a:pt x="1442" y="120"/>
                </a:lnTo>
                <a:lnTo>
                  <a:pt x="1442" y="127"/>
                </a:lnTo>
                <a:lnTo>
                  <a:pt x="1442" y="136"/>
                </a:lnTo>
                <a:lnTo>
                  <a:pt x="1442" y="147"/>
                </a:lnTo>
                <a:lnTo>
                  <a:pt x="1442" y="159"/>
                </a:lnTo>
                <a:lnTo>
                  <a:pt x="1442" y="171"/>
                </a:lnTo>
                <a:lnTo>
                  <a:pt x="1442" y="183"/>
                </a:lnTo>
                <a:lnTo>
                  <a:pt x="1442" y="195"/>
                </a:lnTo>
                <a:lnTo>
                  <a:pt x="1442" y="205"/>
                </a:lnTo>
                <a:lnTo>
                  <a:pt x="1442" y="215"/>
                </a:lnTo>
                <a:lnTo>
                  <a:pt x="1442" y="222"/>
                </a:lnTo>
                <a:lnTo>
                  <a:pt x="1442" y="226"/>
                </a:lnTo>
                <a:lnTo>
                  <a:pt x="1442" y="228"/>
                </a:lnTo>
                <a:lnTo>
                  <a:pt x="1442" y="228"/>
                </a:lnTo>
                <a:lnTo>
                  <a:pt x="1442" y="230"/>
                </a:lnTo>
                <a:lnTo>
                  <a:pt x="1442" y="234"/>
                </a:lnTo>
                <a:lnTo>
                  <a:pt x="1442" y="242"/>
                </a:lnTo>
                <a:lnTo>
                  <a:pt x="1442" y="251"/>
                </a:lnTo>
                <a:lnTo>
                  <a:pt x="1442" y="261"/>
                </a:lnTo>
                <a:lnTo>
                  <a:pt x="1442" y="273"/>
                </a:lnTo>
                <a:lnTo>
                  <a:pt x="1442" y="285"/>
                </a:lnTo>
                <a:lnTo>
                  <a:pt x="1442" y="297"/>
                </a:lnTo>
                <a:lnTo>
                  <a:pt x="1442" y="309"/>
                </a:lnTo>
                <a:lnTo>
                  <a:pt x="1442" y="320"/>
                </a:lnTo>
                <a:lnTo>
                  <a:pt x="1442" y="329"/>
                </a:lnTo>
                <a:lnTo>
                  <a:pt x="1442" y="336"/>
                </a:lnTo>
                <a:lnTo>
                  <a:pt x="1442" y="341"/>
                </a:lnTo>
                <a:lnTo>
                  <a:pt x="1442" y="342"/>
                </a:lnTo>
                <a:lnTo>
                  <a:pt x="1442" y="342"/>
                </a:lnTo>
                <a:lnTo>
                  <a:pt x="1442" y="342"/>
                </a:lnTo>
                <a:lnTo>
                  <a:pt x="1442" y="342"/>
                </a:lnTo>
                <a:lnTo>
                  <a:pt x="1442" y="342"/>
                </a:lnTo>
                <a:lnTo>
                  <a:pt x="1441" y="342"/>
                </a:lnTo>
                <a:lnTo>
                  <a:pt x="1440" y="342"/>
                </a:lnTo>
                <a:lnTo>
                  <a:pt x="1439" y="342"/>
                </a:lnTo>
                <a:lnTo>
                  <a:pt x="1438" y="342"/>
                </a:lnTo>
                <a:lnTo>
                  <a:pt x="1436" y="342"/>
                </a:lnTo>
                <a:lnTo>
                  <a:pt x="1435" y="342"/>
                </a:lnTo>
                <a:lnTo>
                  <a:pt x="1433" y="342"/>
                </a:lnTo>
                <a:lnTo>
                  <a:pt x="1431" y="342"/>
                </a:lnTo>
                <a:lnTo>
                  <a:pt x="1429" y="342"/>
                </a:lnTo>
                <a:lnTo>
                  <a:pt x="1427" y="342"/>
                </a:lnTo>
                <a:lnTo>
                  <a:pt x="1424" y="342"/>
                </a:lnTo>
                <a:lnTo>
                  <a:pt x="1422" y="342"/>
                </a:lnTo>
                <a:lnTo>
                  <a:pt x="1419" y="342"/>
                </a:lnTo>
                <a:lnTo>
                  <a:pt x="1416" y="342"/>
                </a:lnTo>
                <a:lnTo>
                  <a:pt x="1413" y="342"/>
                </a:lnTo>
                <a:lnTo>
                  <a:pt x="1409" y="342"/>
                </a:lnTo>
                <a:lnTo>
                  <a:pt x="1406" y="342"/>
                </a:lnTo>
                <a:lnTo>
                  <a:pt x="1402" y="342"/>
                </a:lnTo>
                <a:lnTo>
                  <a:pt x="1399" y="342"/>
                </a:lnTo>
                <a:lnTo>
                  <a:pt x="1395" y="342"/>
                </a:lnTo>
                <a:lnTo>
                  <a:pt x="1391" y="342"/>
                </a:lnTo>
                <a:lnTo>
                  <a:pt x="1387" y="342"/>
                </a:lnTo>
                <a:lnTo>
                  <a:pt x="1382" y="342"/>
                </a:lnTo>
                <a:lnTo>
                  <a:pt x="1378" y="342"/>
                </a:lnTo>
                <a:lnTo>
                  <a:pt x="1373" y="342"/>
                </a:lnTo>
                <a:lnTo>
                  <a:pt x="1368" y="342"/>
                </a:lnTo>
                <a:lnTo>
                  <a:pt x="1364" y="342"/>
                </a:lnTo>
                <a:lnTo>
                  <a:pt x="1359" y="342"/>
                </a:lnTo>
                <a:lnTo>
                  <a:pt x="1353" y="342"/>
                </a:lnTo>
                <a:lnTo>
                  <a:pt x="1348" y="342"/>
                </a:lnTo>
                <a:lnTo>
                  <a:pt x="1343" y="342"/>
                </a:lnTo>
                <a:lnTo>
                  <a:pt x="1337" y="342"/>
                </a:lnTo>
                <a:lnTo>
                  <a:pt x="1331" y="342"/>
                </a:lnTo>
                <a:lnTo>
                  <a:pt x="1326" y="342"/>
                </a:lnTo>
                <a:lnTo>
                  <a:pt x="1320" y="342"/>
                </a:lnTo>
                <a:lnTo>
                  <a:pt x="1314" y="342"/>
                </a:lnTo>
                <a:lnTo>
                  <a:pt x="1307" y="342"/>
                </a:lnTo>
                <a:lnTo>
                  <a:pt x="1301" y="342"/>
                </a:lnTo>
                <a:lnTo>
                  <a:pt x="1295" y="342"/>
                </a:lnTo>
                <a:lnTo>
                  <a:pt x="1288" y="342"/>
                </a:lnTo>
                <a:lnTo>
                  <a:pt x="1282" y="342"/>
                </a:lnTo>
                <a:lnTo>
                  <a:pt x="1275" y="342"/>
                </a:lnTo>
                <a:lnTo>
                  <a:pt x="1268" y="342"/>
                </a:lnTo>
                <a:lnTo>
                  <a:pt x="1261" y="342"/>
                </a:lnTo>
                <a:lnTo>
                  <a:pt x="1254" y="342"/>
                </a:lnTo>
                <a:lnTo>
                  <a:pt x="1247" y="342"/>
                </a:lnTo>
                <a:lnTo>
                  <a:pt x="1240" y="342"/>
                </a:lnTo>
                <a:lnTo>
                  <a:pt x="1232" y="342"/>
                </a:lnTo>
                <a:lnTo>
                  <a:pt x="1225" y="342"/>
                </a:lnTo>
                <a:lnTo>
                  <a:pt x="1217" y="342"/>
                </a:lnTo>
                <a:lnTo>
                  <a:pt x="1210" y="342"/>
                </a:lnTo>
                <a:lnTo>
                  <a:pt x="1202" y="342"/>
                </a:lnTo>
                <a:lnTo>
                  <a:pt x="1194" y="342"/>
                </a:lnTo>
                <a:lnTo>
                  <a:pt x="1186" y="342"/>
                </a:lnTo>
                <a:lnTo>
                  <a:pt x="1178" y="342"/>
                </a:lnTo>
                <a:lnTo>
                  <a:pt x="1170" y="342"/>
                </a:lnTo>
                <a:lnTo>
                  <a:pt x="1162" y="342"/>
                </a:lnTo>
                <a:lnTo>
                  <a:pt x="1154" y="342"/>
                </a:lnTo>
                <a:lnTo>
                  <a:pt x="1146" y="342"/>
                </a:lnTo>
                <a:lnTo>
                  <a:pt x="1137" y="342"/>
                </a:lnTo>
                <a:lnTo>
                  <a:pt x="1129" y="342"/>
                </a:lnTo>
                <a:lnTo>
                  <a:pt x="1121" y="342"/>
                </a:lnTo>
                <a:lnTo>
                  <a:pt x="1112" y="342"/>
                </a:lnTo>
                <a:lnTo>
                  <a:pt x="1103" y="342"/>
                </a:lnTo>
                <a:lnTo>
                  <a:pt x="1095" y="342"/>
                </a:lnTo>
                <a:lnTo>
                  <a:pt x="1086" y="342"/>
                </a:lnTo>
                <a:lnTo>
                  <a:pt x="1077" y="342"/>
                </a:lnTo>
                <a:lnTo>
                  <a:pt x="1068" y="342"/>
                </a:lnTo>
                <a:lnTo>
                  <a:pt x="1059" y="342"/>
                </a:lnTo>
                <a:lnTo>
                  <a:pt x="1050" y="342"/>
                </a:lnTo>
                <a:lnTo>
                  <a:pt x="1041" y="342"/>
                </a:lnTo>
                <a:lnTo>
                  <a:pt x="1032" y="342"/>
                </a:lnTo>
                <a:lnTo>
                  <a:pt x="1023" y="342"/>
                </a:lnTo>
                <a:lnTo>
                  <a:pt x="1014" y="342"/>
                </a:lnTo>
                <a:lnTo>
                  <a:pt x="1005" y="342"/>
                </a:lnTo>
                <a:lnTo>
                  <a:pt x="996" y="342"/>
                </a:lnTo>
                <a:lnTo>
                  <a:pt x="986" y="342"/>
                </a:lnTo>
                <a:lnTo>
                  <a:pt x="977" y="342"/>
                </a:lnTo>
                <a:lnTo>
                  <a:pt x="968" y="342"/>
                </a:lnTo>
                <a:lnTo>
                  <a:pt x="958" y="342"/>
                </a:lnTo>
                <a:lnTo>
                  <a:pt x="949" y="342"/>
                </a:lnTo>
                <a:lnTo>
                  <a:pt x="939" y="342"/>
                </a:lnTo>
                <a:lnTo>
                  <a:pt x="930" y="342"/>
                </a:lnTo>
                <a:lnTo>
                  <a:pt x="920" y="342"/>
                </a:lnTo>
                <a:lnTo>
                  <a:pt x="911" y="342"/>
                </a:lnTo>
                <a:lnTo>
                  <a:pt x="901" y="342"/>
                </a:lnTo>
                <a:lnTo>
                  <a:pt x="892" y="342"/>
                </a:lnTo>
                <a:lnTo>
                  <a:pt x="882" y="342"/>
                </a:lnTo>
                <a:lnTo>
                  <a:pt x="872" y="342"/>
                </a:lnTo>
                <a:lnTo>
                  <a:pt x="863" y="342"/>
                </a:lnTo>
                <a:lnTo>
                  <a:pt x="853" y="342"/>
                </a:lnTo>
                <a:lnTo>
                  <a:pt x="843" y="342"/>
                </a:lnTo>
                <a:lnTo>
                  <a:pt x="834" y="342"/>
                </a:lnTo>
                <a:lnTo>
                  <a:pt x="824" y="342"/>
                </a:lnTo>
                <a:lnTo>
                  <a:pt x="814" y="342"/>
                </a:lnTo>
                <a:lnTo>
                  <a:pt x="805" y="342"/>
                </a:lnTo>
                <a:lnTo>
                  <a:pt x="795" y="342"/>
                </a:lnTo>
                <a:lnTo>
                  <a:pt x="785" y="342"/>
                </a:lnTo>
                <a:lnTo>
                  <a:pt x="776" y="342"/>
                </a:lnTo>
                <a:lnTo>
                  <a:pt x="766" y="342"/>
                </a:lnTo>
                <a:lnTo>
                  <a:pt x="756" y="342"/>
                </a:lnTo>
                <a:lnTo>
                  <a:pt x="747" y="342"/>
                </a:lnTo>
                <a:lnTo>
                  <a:pt x="737" y="342"/>
                </a:lnTo>
                <a:lnTo>
                  <a:pt x="727" y="342"/>
                </a:lnTo>
                <a:lnTo>
                  <a:pt x="718" y="342"/>
                </a:lnTo>
                <a:lnTo>
                  <a:pt x="708" y="342"/>
                </a:lnTo>
                <a:lnTo>
                  <a:pt x="699" y="342"/>
                </a:lnTo>
                <a:lnTo>
                  <a:pt x="689" y="342"/>
                </a:lnTo>
                <a:lnTo>
                  <a:pt x="679" y="342"/>
                </a:lnTo>
                <a:lnTo>
                  <a:pt x="670" y="342"/>
                </a:lnTo>
                <a:lnTo>
                  <a:pt x="660" y="342"/>
                </a:lnTo>
                <a:lnTo>
                  <a:pt x="651" y="342"/>
                </a:lnTo>
                <a:lnTo>
                  <a:pt x="642" y="342"/>
                </a:lnTo>
                <a:lnTo>
                  <a:pt x="632" y="342"/>
                </a:lnTo>
                <a:lnTo>
                  <a:pt x="623" y="342"/>
                </a:lnTo>
                <a:lnTo>
                  <a:pt x="613" y="342"/>
                </a:lnTo>
                <a:lnTo>
                  <a:pt x="604" y="342"/>
                </a:lnTo>
                <a:lnTo>
                  <a:pt x="595" y="342"/>
                </a:lnTo>
                <a:lnTo>
                  <a:pt x="586" y="342"/>
                </a:lnTo>
                <a:lnTo>
                  <a:pt x="577" y="342"/>
                </a:lnTo>
                <a:lnTo>
                  <a:pt x="567" y="342"/>
                </a:lnTo>
                <a:lnTo>
                  <a:pt x="558" y="342"/>
                </a:lnTo>
                <a:lnTo>
                  <a:pt x="549" y="342"/>
                </a:lnTo>
                <a:lnTo>
                  <a:pt x="540" y="342"/>
                </a:lnTo>
                <a:lnTo>
                  <a:pt x="532" y="342"/>
                </a:lnTo>
                <a:lnTo>
                  <a:pt x="523" y="342"/>
                </a:lnTo>
                <a:lnTo>
                  <a:pt x="514" y="342"/>
                </a:lnTo>
                <a:lnTo>
                  <a:pt x="505" y="342"/>
                </a:lnTo>
                <a:lnTo>
                  <a:pt x="497" y="342"/>
                </a:lnTo>
                <a:lnTo>
                  <a:pt x="488" y="342"/>
                </a:lnTo>
                <a:lnTo>
                  <a:pt x="479" y="342"/>
                </a:lnTo>
                <a:lnTo>
                  <a:pt x="471" y="342"/>
                </a:lnTo>
                <a:lnTo>
                  <a:pt x="462" y="342"/>
                </a:lnTo>
                <a:lnTo>
                  <a:pt x="454" y="342"/>
                </a:lnTo>
                <a:lnTo>
                  <a:pt x="446" y="342"/>
                </a:lnTo>
                <a:lnTo>
                  <a:pt x="438" y="342"/>
                </a:lnTo>
                <a:lnTo>
                  <a:pt x="430" y="342"/>
                </a:lnTo>
                <a:lnTo>
                  <a:pt x="422" y="342"/>
                </a:lnTo>
                <a:lnTo>
                  <a:pt x="414" y="342"/>
                </a:lnTo>
                <a:lnTo>
                  <a:pt x="406" y="342"/>
                </a:lnTo>
                <a:lnTo>
                  <a:pt x="398" y="342"/>
                </a:lnTo>
                <a:lnTo>
                  <a:pt x="390" y="342"/>
                </a:lnTo>
                <a:lnTo>
                  <a:pt x="383" y="342"/>
                </a:lnTo>
                <a:lnTo>
                  <a:pt x="375" y="342"/>
                </a:lnTo>
                <a:lnTo>
                  <a:pt x="368" y="342"/>
                </a:lnTo>
                <a:lnTo>
                  <a:pt x="361" y="342"/>
                </a:lnTo>
                <a:lnTo>
                  <a:pt x="361" y="342"/>
                </a:lnTo>
                <a:lnTo>
                  <a:pt x="361" y="344"/>
                </a:lnTo>
                <a:lnTo>
                  <a:pt x="361" y="349"/>
                </a:lnTo>
                <a:lnTo>
                  <a:pt x="361" y="356"/>
                </a:lnTo>
                <a:lnTo>
                  <a:pt x="361" y="365"/>
                </a:lnTo>
                <a:lnTo>
                  <a:pt x="361" y="376"/>
                </a:lnTo>
                <a:lnTo>
                  <a:pt x="361" y="387"/>
                </a:lnTo>
                <a:lnTo>
                  <a:pt x="361" y="399"/>
                </a:lnTo>
                <a:lnTo>
                  <a:pt x="361" y="412"/>
                </a:lnTo>
                <a:lnTo>
                  <a:pt x="361" y="423"/>
                </a:lnTo>
                <a:lnTo>
                  <a:pt x="361" y="434"/>
                </a:lnTo>
                <a:lnTo>
                  <a:pt x="361" y="443"/>
                </a:lnTo>
                <a:lnTo>
                  <a:pt x="361" y="450"/>
                </a:lnTo>
                <a:lnTo>
                  <a:pt x="361" y="455"/>
                </a:lnTo>
                <a:lnTo>
                  <a:pt x="361" y="457"/>
                </a:lnTo>
                <a:lnTo>
                  <a:pt x="361" y="457"/>
                </a:lnTo>
                <a:lnTo>
                  <a:pt x="360" y="456"/>
                </a:lnTo>
                <a:lnTo>
                  <a:pt x="359" y="456"/>
                </a:lnTo>
                <a:lnTo>
                  <a:pt x="358" y="455"/>
                </a:lnTo>
                <a:lnTo>
                  <a:pt x="356" y="453"/>
                </a:lnTo>
                <a:lnTo>
                  <a:pt x="353" y="452"/>
                </a:lnTo>
                <a:lnTo>
                  <a:pt x="350" y="450"/>
                </a:lnTo>
                <a:lnTo>
                  <a:pt x="346" y="447"/>
                </a:lnTo>
                <a:lnTo>
                  <a:pt x="342" y="445"/>
                </a:lnTo>
                <a:lnTo>
                  <a:pt x="337" y="442"/>
                </a:lnTo>
                <a:lnTo>
                  <a:pt x="332" y="438"/>
                </a:lnTo>
                <a:lnTo>
                  <a:pt x="327" y="435"/>
                </a:lnTo>
                <a:lnTo>
                  <a:pt x="321" y="431"/>
                </a:lnTo>
                <a:lnTo>
                  <a:pt x="314" y="427"/>
                </a:lnTo>
                <a:lnTo>
                  <a:pt x="308" y="423"/>
                </a:lnTo>
                <a:lnTo>
                  <a:pt x="301" y="419"/>
                </a:lnTo>
                <a:lnTo>
                  <a:pt x="293" y="414"/>
                </a:lnTo>
                <a:lnTo>
                  <a:pt x="286" y="409"/>
                </a:lnTo>
                <a:lnTo>
                  <a:pt x="278" y="404"/>
                </a:lnTo>
                <a:lnTo>
                  <a:pt x="270" y="399"/>
                </a:lnTo>
                <a:lnTo>
                  <a:pt x="261" y="394"/>
                </a:lnTo>
                <a:lnTo>
                  <a:pt x="253" y="388"/>
                </a:lnTo>
                <a:lnTo>
                  <a:pt x="244" y="383"/>
                </a:lnTo>
                <a:lnTo>
                  <a:pt x="235" y="377"/>
                </a:lnTo>
                <a:lnTo>
                  <a:pt x="226" y="372"/>
                </a:lnTo>
                <a:lnTo>
                  <a:pt x="217" y="366"/>
                </a:lnTo>
                <a:lnTo>
                  <a:pt x="208" y="360"/>
                </a:lnTo>
                <a:lnTo>
                  <a:pt x="199" y="354"/>
                </a:lnTo>
                <a:lnTo>
                  <a:pt x="190" y="348"/>
                </a:lnTo>
                <a:lnTo>
                  <a:pt x="180" y="342"/>
                </a:lnTo>
                <a:lnTo>
                  <a:pt x="171" y="336"/>
                </a:lnTo>
                <a:lnTo>
                  <a:pt x="162" y="330"/>
                </a:lnTo>
                <a:lnTo>
                  <a:pt x="152" y="325"/>
                </a:lnTo>
                <a:lnTo>
                  <a:pt x="143" y="319"/>
                </a:lnTo>
                <a:lnTo>
                  <a:pt x="134" y="313"/>
                </a:lnTo>
                <a:lnTo>
                  <a:pt x="125" y="307"/>
                </a:lnTo>
                <a:lnTo>
                  <a:pt x="116" y="302"/>
                </a:lnTo>
                <a:lnTo>
                  <a:pt x="108" y="296"/>
                </a:lnTo>
                <a:lnTo>
                  <a:pt x="99" y="291"/>
                </a:lnTo>
                <a:lnTo>
                  <a:pt x="91" y="286"/>
                </a:lnTo>
                <a:lnTo>
                  <a:pt x="83" y="280"/>
                </a:lnTo>
                <a:lnTo>
                  <a:pt x="75" y="275"/>
                </a:lnTo>
                <a:lnTo>
                  <a:pt x="67" y="271"/>
                </a:lnTo>
                <a:lnTo>
                  <a:pt x="60" y="266"/>
                </a:lnTo>
                <a:lnTo>
                  <a:pt x="53" y="262"/>
                </a:lnTo>
                <a:lnTo>
                  <a:pt x="46" y="257"/>
                </a:lnTo>
                <a:lnTo>
                  <a:pt x="40" y="253"/>
                </a:lnTo>
                <a:lnTo>
                  <a:pt x="34" y="250"/>
                </a:lnTo>
                <a:lnTo>
                  <a:pt x="28" y="246"/>
                </a:lnTo>
                <a:lnTo>
                  <a:pt x="23" y="243"/>
                </a:lnTo>
                <a:lnTo>
                  <a:pt x="19" y="240"/>
                </a:lnTo>
                <a:lnTo>
                  <a:pt x="15" y="237"/>
                </a:lnTo>
                <a:lnTo>
                  <a:pt x="11" y="235"/>
                </a:lnTo>
                <a:lnTo>
                  <a:pt x="8" y="233"/>
                </a:lnTo>
                <a:lnTo>
                  <a:pt x="5" y="231"/>
                </a:lnTo>
                <a:lnTo>
                  <a:pt x="3" y="230"/>
                </a:lnTo>
                <a:lnTo>
                  <a:pt x="1" y="229"/>
                </a:lnTo>
                <a:lnTo>
                  <a:pt x="0" y="228"/>
                </a:lnTo>
                <a:lnTo>
                  <a:pt x="0" y="228"/>
                </a:lnTo>
                <a:lnTo>
                  <a:pt x="0" y="228"/>
                </a:lnTo>
                <a:lnTo>
                  <a:pt x="0" y="228"/>
                </a:lnTo>
                <a:close/>
              </a:path>
            </a:pathLst>
          </a:custGeom>
          <a:noFill/>
          <a:ln w="66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12"/>
          <p:cNvSpPr/>
          <p:nvPr/>
        </p:nvSpPr>
        <p:spPr>
          <a:xfrm>
            <a:off x="6934320" y="4437000"/>
            <a:ext cx="2288880" cy="725400"/>
          </a:xfrm>
          <a:custGeom>
            <a:avLst/>
            <a:gdLst>
              <a:gd name="textAreaLeft" fmla="*/ 0 w 2288880"/>
              <a:gd name="textAreaRight" fmla="*/ 2288880 w 228888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442" h="457">
                <a:moveTo>
                  <a:pt x="0" y="229"/>
                </a:moveTo>
                <a:lnTo>
                  <a:pt x="0" y="228"/>
                </a:lnTo>
                <a:lnTo>
                  <a:pt x="1" y="228"/>
                </a:lnTo>
                <a:lnTo>
                  <a:pt x="2" y="227"/>
                </a:lnTo>
                <a:lnTo>
                  <a:pt x="4" y="225"/>
                </a:lnTo>
                <a:lnTo>
                  <a:pt x="7" y="224"/>
                </a:lnTo>
                <a:lnTo>
                  <a:pt x="10" y="222"/>
                </a:lnTo>
                <a:lnTo>
                  <a:pt x="14" y="219"/>
                </a:lnTo>
                <a:lnTo>
                  <a:pt x="18" y="217"/>
                </a:lnTo>
                <a:lnTo>
                  <a:pt x="23" y="214"/>
                </a:lnTo>
                <a:lnTo>
                  <a:pt x="28" y="210"/>
                </a:lnTo>
                <a:lnTo>
                  <a:pt x="33" y="207"/>
                </a:lnTo>
                <a:lnTo>
                  <a:pt x="39" y="203"/>
                </a:lnTo>
                <a:lnTo>
                  <a:pt x="46" y="199"/>
                </a:lnTo>
                <a:lnTo>
                  <a:pt x="52" y="195"/>
                </a:lnTo>
                <a:lnTo>
                  <a:pt x="59" y="191"/>
                </a:lnTo>
                <a:lnTo>
                  <a:pt x="67" y="186"/>
                </a:lnTo>
                <a:lnTo>
                  <a:pt x="74" y="181"/>
                </a:lnTo>
                <a:lnTo>
                  <a:pt x="82" y="176"/>
                </a:lnTo>
                <a:lnTo>
                  <a:pt x="90" y="171"/>
                </a:lnTo>
                <a:lnTo>
                  <a:pt x="99" y="166"/>
                </a:lnTo>
                <a:lnTo>
                  <a:pt x="107" y="160"/>
                </a:lnTo>
                <a:lnTo>
                  <a:pt x="116" y="155"/>
                </a:lnTo>
                <a:lnTo>
                  <a:pt x="125" y="149"/>
                </a:lnTo>
                <a:lnTo>
                  <a:pt x="134" y="144"/>
                </a:lnTo>
                <a:lnTo>
                  <a:pt x="143" y="138"/>
                </a:lnTo>
                <a:lnTo>
                  <a:pt x="152" y="132"/>
                </a:lnTo>
                <a:lnTo>
                  <a:pt x="161" y="126"/>
                </a:lnTo>
                <a:lnTo>
                  <a:pt x="170" y="120"/>
                </a:lnTo>
                <a:lnTo>
                  <a:pt x="180" y="114"/>
                </a:lnTo>
                <a:lnTo>
                  <a:pt x="189" y="108"/>
                </a:lnTo>
                <a:lnTo>
                  <a:pt x="198" y="102"/>
                </a:lnTo>
                <a:lnTo>
                  <a:pt x="208" y="97"/>
                </a:lnTo>
                <a:lnTo>
                  <a:pt x="217" y="91"/>
                </a:lnTo>
                <a:lnTo>
                  <a:pt x="226" y="85"/>
                </a:lnTo>
                <a:lnTo>
                  <a:pt x="235" y="79"/>
                </a:lnTo>
                <a:lnTo>
                  <a:pt x="244" y="74"/>
                </a:lnTo>
                <a:lnTo>
                  <a:pt x="252" y="68"/>
                </a:lnTo>
                <a:lnTo>
                  <a:pt x="261" y="63"/>
                </a:lnTo>
                <a:lnTo>
                  <a:pt x="269" y="58"/>
                </a:lnTo>
                <a:lnTo>
                  <a:pt x="277" y="52"/>
                </a:lnTo>
                <a:lnTo>
                  <a:pt x="285" y="47"/>
                </a:lnTo>
                <a:lnTo>
                  <a:pt x="293" y="43"/>
                </a:lnTo>
                <a:lnTo>
                  <a:pt x="300" y="38"/>
                </a:lnTo>
                <a:lnTo>
                  <a:pt x="307" y="34"/>
                </a:lnTo>
                <a:lnTo>
                  <a:pt x="314" y="29"/>
                </a:lnTo>
                <a:lnTo>
                  <a:pt x="320" y="25"/>
                </a:lnTo>
                <a:lnTo>
                  <a:pt x="326" y="22"/>
                </a:lnTo>
                <a:lnTo>
                  <a:pt x="332" y="18"/>
                </a:lnTo>
                <a:lnTo>
                  <a:pt x="337" y="15"/>
                </a:lnTo>
                <a:lnTo>
                  <a:pt x="341" y="12"/>
                </a:lnTo>
                <a:lnTo>
                  <a:pt x="345" y="9"/>
                </a:lnTo>
                <a:lnTo>
                  <a:pt x="349" y="7"/>
                </a:lnTo>
                <a:lnTo>
                  <a:pt x="352" y="5"/>
                </a:lnTo>
                <a:lnTo>
                  <a:pt x="355" y="3"/>
                </a:lnTo>
                <a:lnTo>
                  <a:pt x="357" y="2"/>
                </a:lnTo>
                <a:lnTo>
                  <a:pt x="359" y="1"/>
                </a:lnTo>
                <a:lnTo>
                  <a:pt x="360" y="0"/>
                </a:lnTo>
                <a:lnTo>
                  <a:pt x="360" y="0"/>
                </a:lnTo>
                <a:lnTo>
                  <a:pt x="360" y="0"/>
                </a:lnTo>
                <a:lnTo>
                  <a:pt x="360" y="2"/>
                </a:lnTo>
                <a:lnTo>
                  <a:pt x="360" y="6"/>
                </a:lnTo>
                <a:lnTo>
                  <a:pt x="360" y="14"/>
                </a:lnTo>
                <a:lnTo>
                  <a:pt x="360" y="23"/>
                </a:lnTo>
                <a:lnTo>
                  <a:pt x="360" y="33"/>
                </a:lnTo>
                <a:lnTo>
                  <a:pt x="360" y="45"/>
                </a:lnTo>
                <a:lnTo>
                  <a:pt x="360" y="57"/>
                </a:lnTo>
                <a:lnTo>
                  <a:pt x="360" y="69"/>
                </a:lnTo>
                <a:lnTo>
                  <a:pt x="360" y="81"/>
                </a:lnTo>
                <a:lnTo>
                  <a:pt x="360" y="92"/>
                </a:lnTo>
                <a:lnTo>
                  <a:pt x="360" y="101"/>
                </a:lnTo>
                <a:lnTo>
                  <a:pt x="360" y="108"/>
                </a:lnTo>
                <a:lnTo>
                  <a:pt x="360" y="113"/>
                </a:lnTo>
                <a:lnTo>
                  <a:pt x="360" y="114"/>
                </a:lnTo>
                <a:lnTo>
                  <a:pt x="360" y="114"/>
                </a:lnTo>
                <a:lnTo>
                  <a:pt x="367" y="114"/>
                </a:lnTo>
                <a:lnTo>
                  <a:pt x="375" y="114"/>
                </a:lnTo>
                <a:lnTo>
                  <a:pt x="382" y="114"/>
                </a:lnTo>
                <a:lnTo>
                  <a:pt x="390" y="114"/>
                </a:lnTo>
                <a:lnTo>
                  <a:pt x="397" y="114"/>
                </a:lnTo>
                <a:lnTo>
                  <a:pt x="405" y="114"/>
                </a:lnTo>
                <a:lnTo>
                  <a:pt x="413" y="114"/>
                </a:lnTo>
                <a:lnTo>
                  <a:pt x="421" y="114"/>
                </a:lnTo>
                <a:lnTo>
                  <a:pt x="429" y="114"/>
                </a:lnTo>
                <a:lnTo>
                  <a:pt x="437" y="114"/>
                </a:lnTo>
                <a:lnTo>
                  <a:pt x="445" y="114"/>
                </a:lnTo>
                <a:lnTo>
                  <a:pt x="454" y="114"/>
                </a:lnTo>
                <a:lnTo>
                  <a:pt x="462" y="114"/>
                </a:lnTo>
                <a:lnTo>
                  <a:pt x="470" y="114"/>
                </a:lnTo>
                <a:lnTo>
                  <a:pt x="479" y="114"/>
                </a:lnTo>
                <a:lnTo>
                  <a:pt x="487" y="114"/>
                </a:lnTo>
                <a:lnTo>
                  <a:pt x="496" y="114"/>
                </a:lnTo>
                <a:lnTo>
                  <a:pt x="505" y="114"/>
                </a:lnTo>
                <a:lnTo>
                  <a:pt x="513" y="114"/>
                </a:lnTo>
                <a:lnTo>
                  <a:pt x="522" y="114"/>
                </a:lnTo>
                <a:lnTo>
                  <a:pt x="531" y="114"/>
                </a:lnTo>
                <a:lnTo>
                  <a:pt x="540" y="114"/>
                </a:lnTo>
                <a:lnTo>
                  <a:pt x="549" y="114"/>
                </a:lnTo>
                <a:lnTo>
                  <a:pt x="558" y="114"/>
                </a:lnTo>
                <a:lnTo>
                  <a:pt x="567" y="114"/>
                </a:lnTo>
                <a:lnTo>
                  <a:pt x="576" y="114"/>
                </a:lnTo>
                <a:lnTo>
                  <a:pt x="585" y="114"/>
                </a:lnTo>
                <a:lnTo>
                  <a:pt x="594" y="114"/>
                </a:lnTo>
                <a:lnTo>
                  <a:pt x="604" y="114"/>
                </a:lnTo>
                <a:lnTo>
                  <a:pt x="613" y="114"/>
                </a:lnTo>
                <a:lnTo>
                  <a:pt x="622" y="114"/>
                </a:lnTo>
                <a:lnTo>
                  <a:pt x="632" y="114"/>
                </a:lnTo>
                <a:lnTo>
                  <a:pt x="641" y="114"/>
                </a:lnTo>
                <a:lnTo>
                  <a:pt x="650" y="114"/>
                </a:lnTo>
                <a:lnTo>
                  <a:pt x="660" y="114"/>
                </a:lnTo>
                <a:lnTo>
                  <a:pt x="669" y="114"/>
                </a:lnTo>
                <a:lnTo>
                  <a:pt x="679" y="114"/>
                </a:lnTo>
                <a:lnTo>
                  <a:pt x="688" y="114"/>
                </a:lnTo>
                <a:lnTo>
                  <a:pt x="698" y="114"/>
                </a:lnTo>
                <a:lnTo>
                  <a:pt x="708" y="114"/>
                </a:lnTo>
                <a:lnTo>
                  <a:pt x="717" y="114"/>
                </a:lnTo>
                <a:lnTo>
                  <a:pt x="727" y="114"/>
                </a:lnTo>
                <a:lnTo>
                  <a:pt x="736" y="114"/>
                </a:lnTo>
                <a:lnTo>
                  <a:pt x="746" y="114"/>
                </a:lnTo>
                <a:lnTo>
                  <a:pt x="756" y="114"/>
                </a:lnTo>
                <a:lnTo>
                  <a:pt x="765" y="114"/>
                </a:lnTo>
                <a:lnTo>
                  <a:pt x="775" y="114"/>
                </a:lnTo>
                <a:lnTo>
                  <a:pt x="785" y="114"/>
                </a:lnTo>
                <a:lnTo>
                  <a:pt x="794" y="114"/>
                </a:lnTo>
                <a:lnTo>
                  <a:pt x="804" y="114"/>
                </a:lnTo>
                <a:lnTo>
                  <a:pt x="814" y="114"/>
                </a:lnTo>
                <a:lnTo>
                  <a:pt x="823" y="114"/>
                </a:lnTo>
                <a:lnTo>
                  <a:pt x="833" y="114"/>
                </a:lnTo>
                <a:lnTo>
                  <a:pt x="843" y="114"/>
                </a:lnTo>
                <a:lnTo>
                  <a:pt x="852" y="114"/>
                </a:lnTo>
                <a:lnTo>
                  <a:pt x="862" y="114"/>
                </a:lnTo>
                <a:lnTo>
                  <a:pt x="872" y="114"/>
                </a:lnTo>
                <a:lnTo>
                  <a:pt x="881" y="114"/>
                </a:lnTo>
                <a:lnTo>
                  <a:pt x="891" y="114"/>
                </a:lnTo>
                <a:lnTo>
                  <a:pt x="901" y="114"/>
                </a:lnTo>
                <a:lnTo>
                  <a:pt x="910" y="114"/>
                </a:lnTo>
                <a:lnTo>
                  <a:pt x="920" y="114"/>
                </a:lnTo>
                <a:lnTo>
                  <a:pt x="929" y="114"/>
                </a:lnTo>
                <a:lnTo>
                  <a:pt x="939" y="114"/>
                </a:lnTo>
                <a:lnTo>
                  <a:pt x="948" y="114"/>
                </a:lnTo>
                <a:lnTo>
                  <a:pt x="958" y="114"/>
                </a:lnTo>
                <a:lnTo>
                  <a:pt x="967" y="114"/>
                </a:lnTo>
                <a:lnTo>
                  <a:pt x="976" y="114"/>
                </a:lnTo>
                <a:lnTo>
                  <a:pt x="986" y="114"/>
                </a:lnTo>
                <a:lnTo>
                  <a:pt x="995" y="114"/>
                </a:lnTo>
                <a:lnTo>
                  <a:pt x="1004" y="114"/>
                </a:lnTo>
                <a:lnTo>
                  <a:pt x="1013" y="114"/>
                </a:lnTo>
                <a:lnTo>
                  <a:pt x="1023" y="114"/>
                </a:lnTo>
                <a:lnTo>
                  <a:pt x="1032" y="114"/>
                </a:lnTo>
                <a:lnTo>
                  <a:pt x="1041" y="114"/>
                </a:lnTo>
                <a:lnTo>
                  <a:pt x="1050" y="114"/>
                </a:lnTo>
                <a:lnTo>
                  <a:pt x="1059" y="114"/>
                </a:lnTo>
                <a:lnTo>
                  <a:pt x="1068" y="114"/>
                </a:lnTo>
                <a:lnTo>
                  <a:pt x="1077" y="114"/>
                </a:lnTo>
                <a:lnTo>
                  <a:pt x="1085" y="114"/>
                </a:lnTo>
                <a:lnTo>
                  <a:pt x="1094" y="114"/>
                </a:lnTo>
                <a:lnTo>
                  <a:pt x="1103" y="114"/>
                </a:lnTo>
                <a:lnTo>
                  <a:pt x="1111" y="114"/>
                </a:lnTo>
                <a:lnTo>
                  <a:pt x="1120" y="114"/>
                </a:lnTo>
                <a:lnTo>
                  <a:pt x="1129" y="114"/>
                </a:lnTo>
                <a:lnTo>
                  <a:pt x="1137" y="114"/>
                </a:lnTo>
                <a:lnTo>
                  <a:pt x="1145" y="114"/>
                </a:lnTo>
                <a:lnTo>
                  <a:pt x="1154" y="114"/>
                </a:lnTo>
                <a:lnTo>
                  <a:pt x="1162" y="114"/>
                </a:lnTo>
                <a:lnTo>
                  <a:pt x="1170" y="114"/>
                </a:lnTo>
                <a:lnTo>
                  <a:pt x="1178" y="114"/>
                </a:lnTo>
                <a:lnTo>
                  <a:pt x="1186" y="114"/>
                </a:lnTo>
                <a:lnTo>
                  <a:pt x="1194" y="114"/>
                </a:lnTo>
                <a:lnTo>
                  <a:pt x="1202" y="114"/>
                </a:lnTo>
                <a:lnTo>
                  <a:pt x="1209" y="114"/>
                </a:lnTo>
                <a:lnTo>
                  <a:pt x="1217" y="114"/>
                </a:lnTo>
                <a:lnTo>
                  <a:pt x="1224" y="114"/>
                </a:lnTo>
                <a:lnTo>
                  <a:pt x="1232" y="114"/>
                </a:lnTo>
                <a:lnTo>
                  <a:pt x="1239" y="114"/>
                </a:lnTo>
                <a:lnTo>
                  <a:pt x="1246" y="114"/>
                </a:lnTo>
                <a:lnTo>
                  <a:pt x="1254" y="114"/>
                </a:lnTo>
                <a:lnTo>
                  <a:pt x="1261" y="114"/>
                </a:lnTo>
                <a:lnTo>
                  <a:pt x="1268" y="114"/>
                </a:lnTo>
                <a:lnTo>
                  <a:pt x="1274" y="114"/>
                </a:lnTo>
                <a:lnTo>
                  <a:pt x="1281" y="114"/>
                </a:lnTo>
                <a:lnTo>
                  <a:pt x="1288" y="114"/>
                </a:lnTo>
                <a:lnTo>
                  <a:pt x="1294" y="114"/>
                </a:lnTo>
                <a:lnTo>
                  <a:pt x="1301" y="114"/>
                </a:lnTo>
                <a:lnTo>
                  <a:pt x="1307" y="114"/>
                </a:lnTo>
                <a:lnTo>
                  <a:pt x="1313" y="114"/>
                </a:lnTo>
                <a:lnTo>
                  <a:pt x="1319" y="114"/>
                </a:lnTo>
                <a:lnTo>
                  <a:pt x="1325" y="114"/>
                </a:lnTo>
                <a:lnTo>
                  <a:pt x="1331" y="114"/>
                </a:lnTo>
                <a:lnTo>
                  <a:pt x="1337" y="114"/>
                </a:lnTo>
                <a:lnTo>
                  <a:pt x="1342" y="114"/>
                </a:lnTo>
                <a:lnTo>
                  <a:pt x="1348" y="114"/>
                </a:lnTo>
                <a:lnTo>
                  <a:pt x="1353" y="114"/>
                </a:lnTo>
                <a:lnTo>
                  <a:pt x="1358" y="114"/>
                </a:lnTo>
                <a:lnTo>
                  <a:pt x="1363" y="114"/>
                </a:lnTo>
                <a:lnTo>
                  <a:pt x="1368" y="114"/>
                </a:lnTo>
                <a:lnTo>
                  <a:pt x="1373" y="114"/>
                </a:lnTo>
                <a:lnTo>
                  <a:pt x="1377" y="114"/>
                </a:lnTo>
                <a:lnTo>
                  <a:pt x="1382" y="114"/>
                </a:lnTo>
                <a:lnTo>
                  <a:pt x="1386" y="114"/>
                </a:lnTo>
                <a:lnTo>
                  <a:pt x="1390" y="114"/>
                </a:lnTo>
                <a:lnTo>
                  <a:pt x="1394" y="114"/>
                </a:lnTo>
                <a:lnTo>
                  <a:pt x="1398" y="114"/>
                </a:lnTo>
                <a:lnTo>
                  <a:pt x="1402" y="114"/>
                </a:lnTo>
                <a:lnTo>
                  <a:pt x="1406" y="114"/>
                </a:lnTo>
                <a:lnTo>
                  <a:pt x="1409" y="114"/>
                </a:lnTo>
                <a:lnTo>
                  <a:pt x="1412" y="114"/>
                </a:lnTo>
                <a:lnTo>
                  <a:pt x="1415" y="114"/>
                </a:lnTo>
                <a:lnTo>
                  <a:pt x="1418" y="114"/>
                </a:lnTo>
                <a:lnTo>
                  <a:pt x="1421" y="114"/>
                </a:lnTo>
                <a:lnTo>
                  <a:pt x="1424" y="114"/>
                </a:lnTo>
                <a:lnTo>
                  <a:pt x="1426" y="114"/>
                </a:lnTo>
                <a:lnTo>
                  <a:pt x="1428" y="114"/>
                </a:lnTo>
                <a:lnTo>
                  <a:pt x="1431" y="114"/>
                </a:lnTo>
                <a:lnTo>
                  <a:pt x="1432" y="114"/>
                </a:lnTo>
                <a:lnTo>
                  <a:pt x="1434" y="114"/>
                </a:lnTo>
                <a:lnTo>
                  <a:pt x="1436" y="114"/>
                </a:lnTo>
                <a:lnTo>
                  <a:pt x="1437" y="114"/>
                </a:lnTo>
                <a:lnTo>
                  <a:pt x="1438" y="114"/>
                </a:lnTo>
                <a:lnTo>
                  <a:pt x="1440" y="114"/>
                </a:lnTo>
                <a:lnTo>
                  <a:pt x="1440" y="114"/>
                </a:lnTo>
                <a:lnTo>
                  <a:pt x="1441" y="114"/>
                </a:lnTo>
                <a:lnTo>
                  <a:pt x="1442" y="114"/>
                </a:lnTo>
                <a:lnTo>
                  <a:pt x="1442" y="114"/>
                </a:lnTo>
                <a:lnTo>
                  <a:pt x="1442" y="114"/>
                </a:lnTo>
                <a:lnTo>
                  <a:pt x="1442" y="114"/>
                </a:lnTo>
                <a:lnTo>
                  <a:pt x="1442" y="116"/>
                </a:lnTo>
                <a:lnTo>
                  <a:pt x="1442" y="121"/>
                </a:lnTo>
                <a:lnTo>
                  <a:pt x="1442" y="128"/>
                </a:lnTo>
                <a:lnTo>
                  <a:pt x="1442" y="137"/>
                </a:lnTo>
                <a:lnTo>
                  <a:pt x="1442" y="148"/>
                </a:lnTo>
                <a:lnTo>
                  <a:pt x="1442" y="159"/>
                </a:lnTo>
                <a:lnTo>
                  <a:pt x="1442" y="171"/>
                </a:lnTo>
                <a:lnTo>
                  <a:pt x="1442" y="184"/>
                </a:lnTo>
                <a:lnTo>
                  <a:pt x="1442" y="195"/>
                </a:lnTo>
                <a:lnTo>
                  <a:pt x="1442" y="206"/>
                </a:lnTo>
                <a:lnTo>
                  <a:pt x="1442" y="215"/>
                </a:lnTo>
                <a:lnTo>
                  <a:pt x="1442" y="222"/>
                </a:lnTo>
                <a:lnTo>
                  <a:pt x="1442" y="227"/>
                </a:lnTo>
                <a:lnTo>
                  <a:pt x="1442" y="229"/>
                </a:lnTo>
                <a:lnTo>
                  <a:pt x="1442" y="229"/>
                </a:lnTo>
                <a:lnTo>
                  <a:pt x="1442" y="230"/>
                </a:lnTo>
                <a:lnTo>
                  <a:pt x="1442" y="235"/>
                </a:lnTo>
                <a:lnTo>
                  <a:pt x="1442" y="242"/>
                </a:lnTo>
                <a:lnTo>
                  <a:pt x="1442" y="251"/>
                </a:lnTo>
                <a:lnTo>
                  <a:pt x="1442" y="262"/>
                </a:lnTo>
                <a:lnTo>
                  <a:pt x="1442" y="273"/>
                </a:lnTo>
                <a:lnTo>
                  <a:pt x="1442" y="286"/>
                </a:lnTo>
                <a:lnTo>
                  <a:pt x="1442" y="298"/>
                </a:lnTo>
                <a:lnTo>
                  <a:pt x="1442" y="309"/>
                </a:lnTo>
                <a:lnTo>
                  <a:pt x="1442" y="320"/>
                </a:lnTo>
                <a:lnTo>
                  <a:pt x="1442" y="329"/>
                </a:lnTo>
                <a:lnTo>
                  <a:pt x="1442" y="336"/>
                </a:lnTo>
                <a:lnTo>
                  <a:pt x="1442" y="341"/>
                </a:lnTo>
                <a:lnTo>
                  <a:pt x="1442" y="343"/>
                </a:lnTo>
                <a:lnTo>
                  <a:pt x="1442" y="343"/>
                </a:lnTo>
                <a:lnTo>
                  <a:pt x="1442" y="343"/>
                </a:lnTo>
                <a:lnTo>
                  <a:pt x="1442" y="343"/>
                </a:lnTo>
                <a:lnTo>
                  <a:pt x="1441" y="343"/>
                </a:lnTo>
                <a:lnTo>
                  <a:pt x="1440" y="343"/>
                </a:lnTo>
                <a:lnTo>
                  <a:pt x="1440" y="343"/>
                </a:lnTo>
                <a:lnTo>
                  <a:pt x="1438" y="343"/>
                </a:lnTo>
                <a:lnTo>
                  <a:pt x="1437" y="343"/>
                </a:lnTo>
                <a:lnTo>
                  <a:pt x="1436" y="343"/>
                </a:lnTo>
                <a:lnTo>
                  <a:pt x="1434" y="343"/>
                </a:lnTo>
                <a:lnTo>
                  <a:pt x="1432" y="343"/>
                </a:lnTo>
                <a:lnTo>
                  <a:pt x="1431" y="343"/>
                </a:lnTo>
                <a:lnTo>
                  <a:pt x="1428" y="343"/>
                </a:lnTo>
                <a:lnTo>
                  <a:pt x="1426" y="343"/>
                </a:lnTo>
                <a:lnTo>
                  <a:pt x="1424" y="343"/>
                </a:lnTo>
                <a:lnTo>
                  <a:pt x="1421" y="343"/>
                </a:lnTo>
                <a:lnTo>
                  <a:pt x="1418" y="343"/>
                </a:lnTo>
                <a:lnTo>
                  <a:pt x="1415" y="343"/>
                </a:lnTo>
                <a:lnTo>
                  <a:pt x="1412" y="343"/>
                </a:lnTo>
                <a:lnTo>
                  <a:pt x="1409" y="343"/>
                </a:lnTo>
                <a:lnTo>
                  <a:pt x="1406" y="343"/>
                </a:lnTo>
                <a:lnTo>
                  <a:pt x="1402" y="343"/>
                </a:lnTo>
                <a:lnTo>
                  <a:pt x="1398" y="343"/>
                </a:lnTo>
                <a:lnTo>
                  <a:pt x="1394" y="343"/>
                </a:lnTo>
                <a:lnTo>
                  <a:pt x="1390" y="343"/>
                </a:lnTo>
                <a:lnTo>
                  <a:pt x="1386" y="343"/>
                </a:lnTo>
                <a:lnTo>
                  <a:pt x="1382" y="343"/>
                </a:lnTo>
                <a:lnTo>
                  <a:pt x="1377" y="343"/>
                </a:lnTo>
                <a:lnTo>
                  <a:pt x="1373" y="343"/>
                </a:lnTo>
                <a:lnTo>
                  <a:pt x="1368" y="343"/>
                </a:lnTo>
                <a:lnTo>
                  <a:pt x="1363" y="343"/>
                </a:lnTo>
                <a:lnTo>
                  <a:pt x="1358" y="343"/>
                </a:lnTo>
                <a:lnTo>
                  <a:pt x="1353" y="343"/>
                </a:lnTo>
                <a:lnTo>
                  <a:pt x="1348" y="343"/>
                </a:lnTo>
                <a:lnTo>
                  <a:pt x="1342" y="343"/>
                </a:lnTo>
                <a:lnTo>
                  <a:pt x="1337" y="343"/>
                </a:lnTo>
                <a:lnTo>
                  <a:pt x="1331" y="343"/>
                </a:lnTo>
                <a:lnTo>
                  <a:pt x="1325" y="343"/>
                </a:lnTo>
                <a:lnTo>
                  <a:pt x="1319" y="343"/>
                </a:lnTo>
                <a:lnTo>
                  <a:pt x="1313" y="343"/>
                </a:lnTo>
                <a:lnTo>
                  <a:pt x="1307" y="343"/>
                </a:lnTo>
                <a:lnTo>
                  <a:pt x="1301" y="343"/>
                </a:lnTo>
                <a:lnTo>
                  <a:pt x="1294" y="343"/>
                </a:lnTo>
                <a:lnTo>
                  <a:pt x="1288" y="343"/>
                </a:lnTo>
                <a:lnTo>
                  <a:pt x="1281" y="343"/>
                </a:lnTo>
                <a:lnTo>
                  <a:pt x="1274" y="343"/>
                </a:lnTo>
                <a:lnTo>
                  <a:pt x="1268" y="343"/>
                </a:lnTo>
                <a:lnTo>
                  <a:pt x="1261" y="343"/>
                </a:lnTo>
                <a:lnTo>
                  <a:pt x="1254" y="343"/>
                </a:lnTo>
                <a:lnTo>
                  <a:pt x="1246" y="343"/>
                </a:lnTo>
                <a:lnTo>
                  <a:pt x="1239" y="343"/>
                </a:lnTo>
                <a:lnTo>
                  <a:pt x="1232" y="343"/>
                </a:lnTo>
                <a:lnTo>
                  <a:pt x="1224" y="343"/>
                </a:lnTo>
                <a:lnTo>
                  <a:pt x="1217" y="343"/>
                </a:lnTo>
                <a:lnTo>
                  <a:pt x="1209" y="343"/>
                </a:lnTo>
                <a:lnTo>
                  <a:pt x="1202" y="343"/>
                </a:lnTo>
                <a:lnTo>
                  <a:pt x="1194" y="343"/>
                </a:lnTo>
                <a:lnTo>
                  <a:pt x="1186" y="343"/>
                </a:lnTo>
                <a:lnTo>
                  <a:pt x="1178" y="343"/>
                </a:lnTo>
                <a:lnTo>
                  <a:pt x="1170" y="343"/>
                </a:lnTo>
                <a:lnTo>
                  <a:pt x="1162" y="343"/>
                </a:lnTo>
                <a:lnTo>
                  <a:pt x="1154" y="343"/>
                </a:lnTo>
                <a:lnTo>
                  <a:pt x="1145" y="343"/>
                </a:lnTo>
                <a:lnTo>
                  <a:pt x="1137" y="343"/>
                </a:lnTo>
                <a:lnTo>
                  <a:pt x="1129" y="343"/>
                </a:lnTo>
                <a:lnTo>
                  <a:pt x="1120" y="343"/>
                </a:lnTo>
                <a:lnTo>
                  <a:pt x="1111" y="343"/>
                </a:lnTo>
                <a:lnTo>
                  <a:pt x="1103" y="343"/>
                </a:lnTo>
                <a:lnTo>
                  <a:pt x="1094" y="343"/>
                </a:lnTo>
                <a:lnTo>
                  <a:pt x="1085" y="343"/>
                </a:lnTo>
                <a:lnTo>
                  <a:pt x="1077" y="343"/>
                </a:lnTo>
                <a:lnTo>
                  <a:pt x="1068" y="343"/>
                </a:lnTo>
                <a:lnTo>
                  <a:pt x="1059" y="343"/>
                </a:lnTo>
                <a:lnTo>
                  <a:pt x="1050" y="343"/>
                </a:lnTo>
                <a:lnTo>
                  <a:pt x="1041" y="343"/>
                </a:lnTo>
                <a:lnTo>
                  <a:pt x="1032" y="343"/>
                </a:lnTo>
                <a:lnTo>
                  <a:pt x="1023" y="343"/>
                </a:lnTo>
                <a:lnTo>
                  <a:pt x="1013" y="343"/>
                </a:lnTo>
                <a:lnTo>
                  <a:pt x="1004" y="343"/>
                </a:lnTo>
                <a:lnTo>
                  <a:pt x="995" y="343"/>
                </a:lnTo>
                <a:lnTo>
                  <a:pt x="986" y="343"/>
                </a:lnTo>
                <a:lnTo>
                  <a:pt x="976" y="343"/>
                </a:lnTo>
                <a:lnTo>
                  <a:pt x="967" y="343"/>
                </a:lnTo>
                <a:lnTo>
                  <a:pt x="958" y="343"/>
                </a:lnTo>
                <a:lnTo>
                  <a:pt x="948" y="343"/>
                </a:lnTo>
                <a:lnTo>
                  <a:pt x="939" y="343"/>
                </a:lnTo>
                <a:lnTo>
                  <a:pt x="929" y="343"/>
                </a:lnTo>
                <a:lnTo>
                  <a:pt x="920" y="343"/>
                </a:lnTo>
                <a:lnTo>
                  <a:pt x="910" y="343"/>
                </a:lnTo>
                <a:lnTo>
                  <a:pt x="901" y="343"/>
                </a:lnTo>
                <a:lnTo>
                  <a:pt x="891" y="343"/>
                </a:lnTo>
                <a:lnTo>
                  <a:pt x="881" y="343"/>
                </a:lnTo>
                <a:lnTo>
                  <a:pt x="872" y="343"/>
                </a:lnTo>
                <a:lnTo>
                  <a:pt x="862" y="343"/>
                </a:lnTo>
                <a:lnTo>
                  <a:pt x="852" y="343"/>
                </a:lnTo>
                <a:lnTo>
                  <a:pt x="843" y="343"/>
                </a:lnTo>
                <a:lnTo>
                  <a:pt x="833" y="343"/>
                </a:lnTo>
                <a:lnTo>
                  <a:pt x="823" y="343"/>
                </a:lnTo>
                <a:lnTo>
                  <a:pt x="814" y="343"/>
                </a:lnTo>
                <a:lnTo>
                  <a:pt x="804" y="343"/>
                </a:lnTo>
                <a:lnTo>
                  <a:pt x="794" y="343"/>
                </a:lnTo>
                <a:lnTo>
                  <a:pt x="785" y="343"/>
                </a:lnTo>
                <a:lnTo>
                  <a:pt x="775" y="343"/>
                </a:lnTo>
                <a:lnTo>
                  <a:pt x="765" y="343"/>
                </a:lnTo>
                <a:lnTo>
                  <a:pt x="756" y="343"/>
                </a:lnTo>
                <a:lnTo>
                  <a:pt x="746" y="343"/>
                </a:lnTo>
                <a:lnTo>
                  <a:pt x="736" y="343"/>
                </a:lnTo>
                <a:lnTo>
                  <a:pt x="727" y="343"/>
                </a:lnTo>
                <a:lnTo>
                  <a:pt x="717" y="343"/>
                </a:lnTo>
                <a:lnTo>
                  <a:pt x="708" y="343"/>
                </a:lnTo>
                <a:lnTo>
                  <a:pt x="698" y="343"/>
                </a:lnTo>
                <a:lnTo>
                  <a:pt x="688" y="343"/>
                </a:lnTo>
                <a:lnTo>
                  <a:pt x="679" y="343"/>
                </a:lnTo>
                <a:lnTo>
                  <a:pt x="669" y="343"/>
                </a:lnTo>
                <a:lnTo>
                  <a:pt x="660" y="343"/>
                </a:lnTo>
                <a:lnTo>
                  <a:pt x="650" y="343"/>
                </a:lnTo>
                <a:lnTo>
                  <a:pt x="641" y="343"/>
                </a:lnTo>
                <a:lnTo>
                  <a:pt x="632" y="343"/>
                </a:lnTo>
                <a:lnTo>
                  <a:pt x="622" y="343"/>
                </a:lnTo>
                <a:lnTo>
                  <a:pt x="613" y="343"/>
                </a:lnTo>
                <a:lnTo>
                  <a:pt x="604" y="343"/>
                </a:lnTo>
                <a:lnTo>
                  <a:pt x="594" y="343"/>
                </a:lnTo>
                <a:lnTo>
                  <a:pt x="585" y="343"/>
                </a:lnTo>
                <a:lnTo>
                  <a:pt x="576" y="343"/>
                </a:lnTo>
                <a:lnTo>
                  <a:pt x="567" y="343"/>
                </a:lnTo>
                <a:lnTo>
                  <a:pt x="558" y="343"/>
                </a:lnTo>
                <a:lnTo>
                  <a:pt x="549" y="343"/>
                </a:lnTo>
                <a:lnTo>
                  <a:pt x="540" y="343"/>
                </a:lnTo>
                <a:lnTo>
                  <a:pt x="531" y="343"/>
                </a:lnTo>
                <a:lnTo>
                  <a:pt x="522" y="343"/>
                </a:lnTo>
                <a:lnTo>
                  <a:pt x="513" y="343"/>
                </a:lnTo>
                <a:lnTo>
                  <a:pt x="505" y="343"/>
                </a:lnTo>
                <a:lnTo>
                  <a:pt x="496" y="343"/>
                </a:lnTo>
                <a:lnTo>
                  <a:pt x="487" y="343"/>
                </a:lnTo>
                <a:lnTo>
                  <a:pt x="479" y="343"/>
                </a:lnTo>
                <a:lnTo>
                  <a:pt x="470" y="343"/>
                </a:lnTo>
                <a:lnTo>
                  <a:pt x="462" y="343"/>
                </a:lnTo>
                <a:lnTo>
                  <a:pt x="454" y="343"/>
                </a:lnTo>
                <a:lnTo>
                  <a:pt x="445" y="343"/>
                </a:lnTo>
                <a:lnTo>
                  <a:pt x="437" y="343"/>
                </a:lnTo>
                <a:lnTo>
                  <a:pt x="429" y="343"/>
                </a:lnTo>
                <a:lnTo>
                  <a:pt x="421" y="343"/>
                </a:lnTo>
                <a:lnTo>
                  <a:pt x="413" y="343"/>
                </a:lnTo>
                <a:lnTo>
                  <a:pt x="405" y="343"/>
                </a:lnTo>
                <a:lnTo>
                  <a:pt x="397" y="343"/>
                </a:lnTo>
                <a:lnTo>
                  <a:pt x="390" y="343"/>
                </a:lnTo>
                <a:lnTo>
                  <a:pt x="382" y="343"/>
                </a:lnTo>
                <a:lnTo>
                  <a:pt x="375" y="343"/>
                </a:lnTo>
                <a:lnTo>
                  <a:pt x="367" y="343"/>
                </a:lnTo>
                <a:lnTo>
                  <a:pt x="360" y="343"/>
                </a:lnTo>
                <a:lnTo>
                  <a:pt x="360" y="343"/>
                </a:lnTo>
                <a:lnTo>
                  <a:pt x="360" y="344"/>
                </a:lnTo>
                <a:lnTo>
                  <a:pt x="360" y="349"/>
                </a:lnTo>
                <a:lnTo>
                  <a:pt x="360" y="356"/>
                </a:lnTo>
                <a:lnTo>
                  <a:pt x="360" y="365"/>
                </a:lnTo>
                <a:lnTo>
                  <a:pt x="360" y="376"/>
                </a:lnTo>
                <a:lnTo>
                  <a:pt x="360" y="388"/>
                </a:lnTo>
                <a:lnTo>
                  <a:pt x="360" y="400"/>
                </a:lnTo>
                <a:lnTo>
                  <a:pt x="360" y="412"/>
                </a:lnTo>
                <a:lnTo>
                  <a:pt x="360" y="424"/>
                </a:lnTo>
                <a:lnTo>
                  <a:pt x="360" y="434"/>
                </a:lnTo>
                <a:lnTo>
                  <a:pt x="360" y="443"/>
                </a:lnTo>
                <a:lnTo>
                  <a:pt x="360" y="451"/>
                </a:lnTo>
                <a:lnTo>
                  <a:pt x="360" y="455"/>
                </a:lnTo>
                <a:lnTo>
                  <a:pt x="360" y="457"/>
                </a:lnTo>
                <a:lnTo>
                  <a:pt x="360" y="457"/>
                </a:lnTo>
                <a:lnTo>
                  <a:pt x="360" y="457"/>
                </a:lnTo>
                <a:lnTo>
                  <a:pt x="359" y="456"/>
                </a:lnTo>
                <a:lnTo>
                  <a:pt x="357" y="455"/>
                </a:lnTo>
                <a:lnTo>
                  <a:pt x="355" y="454"/>
                </a:lnTo>
                <a:lnTo>
                  <a:pt x="352" y="452"/>
                </a:lnTo>
                <a:lnTo>
                  <a:pt x="349" y="450"/>
                </a:lnTo>
                <a:lnTo>
                  <a:pt x="345" y="448"/>
                </a:lnTo>
                <a:lnTo>
                  <a:pt x="341" y="445"/>
                </a:lnTo>
                <a:lnTo>
                  <a:pt x="337" y="442"/>
                </a:lnTo>
                <a:lnTo>
                  <a:pt x="332" y="439"/>
                </a:lnTo>
                <a:lnTo>
                  <a:pt x="326" y="435"/>
                </a:lnTo>
                <a:lnTo>
                  <a:pt x="320" y="432"/>
                </a:lnTo>
                <a:lnTo>
                  <a:pt x="314" y="428"/>
                </a:lnTo>
                <a:lnTo>
                  <a:pt x="307" y="423"/>
                </a:lnTo>
                <a:lnTo>
                  <a:pt x="300" y="419"/>
                </a:lnTo>
                <a:lnTo>
                  <a:pt x="293" y="414"/>
                </a:lnTo>
                <a:lnTo>
                  <a:pt x="285" y="410"/>
                </a:lnTo>
                <a:lnTo>
                  <a:pt x="277" y="405"/>
                </a:lnTo>
                <a:lnTo>
                  <a:pt x="269" y="399"/>
                </a:lnTo>
                <a:lnTo>
                  <a:pt x="261" y="394"/>
                </a:lnTo>
                <a:lnTo>
                  <a:pt x="252" y="389"/>
                </a:lnTo>
                <a:lnTo>
                  <a:pt x="244" y="383"/>
                </a:lnTo>
                <a:lnTo>
                  <a:pt x="235" y="378"/>
                </a:lnTo>
                <a:lnTo>
                  <a:pt x="226" y="372"/>
                </a:lnTo>
                <a:lnTo>
                  <a:pt x="217" y="366"/>
                </a:lnTo>
                <a:lnTo>
                  <a:pt x="208" y="360"/>
                </a:lnTo>
                <a:lnTo>
                  <a:pt x="198" y="355"/>
                </a:lnTo>
                <a:lnTo>
                  <a:pt x="189" y="349"/>
                </a:lnTo>
                <a:lnTo>
                  <a:pt x="180" y="343"/>
                </a:lnTo>
                <a:lnTo>
                  <a:pt x="170" y="337"/>
                </a:lnTo>
                <a:lnTo>
                  <a:pt x="161" y="331"/>
                </a:lnTo>
                <a:lnTo>
                  <a:pt x="152" y="325"/>
                </a:lnTo>
                <a:lnTo>
                  <a:pt x="143" y="319"/>
                </a:lnTo>
                <a:lnTo>
                  <a:pt x="134" y="313"/>
                </a:lnTo>
                <a:lnTo>
                  <a:pt x="125" y="308"/>
                </a:lnTo>
                <a:lnTo>
                  <a:pt x="116" y="302"/>
                </a:lnTo>
                <a:lnTo>
                  <a:pt x="107" y="297"/>
                </a:lnTo>
                <a:lnTo>
                  <a:pt x="99" y="291"/>
                </a:lnTo>
                <a:lnTo>
                  <a:pt x="90" y="286"/>
                </a:lnTo>
                <a:lnTo>
                  <a:pt x="82" y="281"/>
                </a:lnTo>
                <a:lnTo>
                  <a:pt x="74" y="276"/>
                </a:lnTo>
                <a:lnTo>
                  <a:pt x="67" y="271"/>
                </a:lnTo>
                <a:lnTo>
                  <a:pt x="59" y="266"/>
                </a:lnTo>
                <a:lnTo>
                  <a:pt x="52" y="262"/>
                </a:lnTo>
                <a:lnTo>
                  <a:pt x="46" y="258"/>
                </a:lnTo>
                <a:lnTo>
                  <a:pt x="39" y="254"/>
                </a:lnTo>
                <a:lnTo>
                  <a:pt x="33" y="250"/>
                </a:lnTo>
                <a:lnTo>
                  <a:pt x="28" y="247"/>
                </a:lnTo>
                <a:lnTo>
                  <a:pt x="23" y="243"/>
                </a:lnTo>
                <a:lnTo>
                  <a:pt x="18" y="240"/>
                </a:lnTo>
                <a:lnTo>
                  <a:pt x="14" y="238"/>
                </a:lnTo>
                <a:lnTo>
                  <a:pt x="10" y="235"/>
                </a:lnTo>
                <a:lnTo>
                  <a:pt x="7" y="233"/>
                </a:lnTo>
                <a:lnTo>
                  <a:pt x="4" y="232"/>
                </a:lnTo>
                <a:lnTo>
                  <a:pt x="2" y="230"/>
                </a:lnTo>
                <a:lnTo>
                  <a:pt x="1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close/>
              </a:path>
            </a:pathLst>
          </a:custGeom>
          <a:noFill/>
          <a:ln w="66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7199280" y="4699080"/>
            <a:ext cx="2040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upo de amig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180200" y="4681440"/>
            <a:ext cx="2040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Grupo de amig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5"/>
          <p:cNvSpPr/>
          <p:nvPr/>
        </p:nvSpPr>
        <p:spPr>
          <a:xfrm rot="5340000">
            <a:off x="1301040" y="4344840"/>
            <a:ext cx="1136520" cy="113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6"/>
          <p:cNvSpPr/>
          <p:nvPr/>
        </p:nvSpPr>
        <p:spPr>
          <a:xfrm>
            <a:off x="1146240" y="4724280"/>
            <a:ext cx="1520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300" spc="-1" strike="noStrike">
                <a:solidFill>
                  <a:srgbClr val="00007f"/>
                </a:solidFill>
                <a:latin typeface="Arial"/>
              </a:rPr>
              <a:t>Jes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7"/>
          <p:cNvSpPr/>
          <p:nvPr/>
        </p:nvSpPr>
        <p:spPr>
          <a:xfrm rot="5340000">
            <a:off x="4342680" y="2548080"/>
            <a:ext cx="1136520" cy="11365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66600">
            <a:solidFill>
              <a:srgbClr val="fff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8"/>
          <p:cNvSpPr/>
          <p:nvPr/>
        </p:nvSpPr>
        <p:spPr>
          <a:xfrm rot="5340000">
            <a:off x="2998080" y="1746000"/>
            <a:ext cx="1136880" cy="1133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66600">
            <a:solidFill>
              <a:srgbClr val="fff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9"/>
          <p:cNvSpPr/>
          <p:nvPr/>
        </p:nvSpPr>
        <p:spPr>
          <a:xfrm rot="5340000">
            <a:off x="5544360" y="1698480"/>
            <a:ext cx="1133640" cy="1133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66600">
            <a:solidFill>
              <a:srgbClr val="fff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0"/>
          <p:cNvSpPr/>
          <p:nvPr/>
        </p:nvSpPr>
        <p:spPr>
          <a:xfrm rot="5340000">
            <a:off x="6524280" y="2506320"/>
            <a:ext cx="1133280" cy="11336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66600">
            <a:solidFill>
              <a:srgbClr val="fff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2749680" y="1474920"/>
            <a:ext cx="5273640" cy="2458800"/>
          </a:xfrm>
          <a:prstGeom prst="rect">
            <a:avLst/>
          </a:prstGeom>
          <a:noFill/>
          <a:ln w="29880">
            <a:solidFill>
              <a:srgbClr val="ffff9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22"/>
          <p:cNvSpPr/>
          <p:nvPr/>
        </p:nvSpPr>
        <p:spPr>
          <a:xfrm>
            <a:off x="2065320" y="2743200"/>
            <a:ext cx="1181160" cy="164952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649520"/>
              <a:gd name="textAreaBottom" fmla="*/ 1649880 h 1649520"/>
            </a:gdLst>
            <a:ahLst/>
            <a:rect l="textAreaLeft" t="textAreaTop" r="textAreaRight" b="textAreaBottom"/>
            <a:pathLst>
              <a:path w="744" h="1039">
                <a:moveTo>
                  <a:pt x="0" y="1039"/>
                </a:moveTo>
                <a:lnTo>
                  <a:pt x="744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23"/>
          <p:cNvSpPr/>
          <p:nvPr/>
        </p:nvSpPr>
        <p:spPr>
          <a:xfrm>
            <a:off x="3983040" y="2655720"/>
            <a:ext cx="426960" cy="223920"/>
          </a:xfrm>
          <a:custGeom>
            <a:avLst/>
            <a:gdLst>
              <a:gd name="textAreaLeft" fmla="*/ 0 w 426960"/>
              <a:gd name="textAreaRight" fmla="*/ 427320 w 426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69" h="141">
                <a:moveTo>
                  <a:pt x="0" y="0"/>
                </a:moveTo>
                <a:lnTo>
                  <a:pt x="269" y="141"/>
                </a:lnTo>
              </a:path>
            </a:pathLst>
          </a:custGeom>
          <a:noFill/>
          <a:ln w="66600">
            <a:solidFill>
              <a:srgbClr val="ffff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24"/>
          <p:cNvSpPr/>
          <p:nvPr/>
        </p:nvSpPr>
        <p:spPr>
          <a:xfrm>
            <a:off x="5327640" y="2624040"/>
            <a:ext cx="325440" cy="203400"/>
          </a:xfrm>
          <a:custGeom>
            <a:avLst/>
            <a:gdLst>
              <a:gd name="textAreaLeft" fmla="*/ 0 w 325440"/>
              <a:gd name="textAreaRight" fmla="*/ 325800 w 3254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205" h="128">
                <a:moveTo>
                  <a:pt x="0" y="128"/>
                </a:moveTo>
                <a:lnTo>
                  <a:pt x="205" y="0"/>
                </a:lnTo>
              </a:path>
            </a:pathLst>
          </a:custGeom>
          <a:noFill/>
          <a:ln w="66600">
            <a:solidFill>
              <a:srgbClr val="ffff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25"/>
          <p:cNvSpPr/>
          <p:nvPr/>
        </p:nvSpPr>
        <p:spPr>
          <a:xfrm>
            <a:off x="5467320" y="3108240"/>
            <a:ext cx="1058760" cy="2088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667" h="13">
                <a:moveTo>
                  <a:pt x="0" y="13"/>
                </a:moveTo>
                <a:lnTo>
                  <a:pt x="667" y="0"/>
                </a:lnTo>
              </a:path>
            </a:pathLst>
          </a:custGeom>
          <a:noFill/>
          <a:ln w="66600">
            <a:solidFill>
              <a:srgbClr val="ffff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26"/>
          <p:cNvSpPr/>
          <p:nvPr/>
        </p:nvSpPr>
        <p:spPr>
          <a:xfrm>
            <a:off x="727200" y="1965240"/>
            <a:ext cx="1982520" cy="725400"/>
          </a:xfrm>
          <a:custGeom>
            <a:avLst/>
            <a:gdLst>
              <a:gd name="textAreaLeft" fmla="*/ 0 w 1982520"/>
              <a:gd name="textAreaRight" fmla="*/ 1982880 w 198252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249" h="457">
                <a:moveTo>
                  <a:pt x="1249" y="229"/>
                </a:moveTo>
                <a:lnTo>
                  <a:pt x="1249" y="229"/>
                </a:lnTo>
                <a:lnTo>
                  <a:pt x="1248" y="230"/>
                </a:lnTo>
                <a:lnTo>
                  <a:pt x="1246" y="231"/>
                </a:lnTo>
                <a:lnTo>
                  <a:pt x="1244" y="233"/>
                </a:lnTo>
                <a:lnTo>
                  <a:pt x="1241" y="235"/>
                </a:lnTo>
                <a:lnTo>
                  <a:pt x="1238" y="237"/>
                </a:lnTo>
                <a:lnTo>
                  <a:pt x="1234" y="240"/>
                </a:lnTo>
                <a:lnTo>
                  <a:pt x="1229" y="243"/>
                </a:lnTo>
                <a:lnTo>
                  <a:pt x="1225" y="247"/>
                </a:lnTo>
                <a:lnTo>
                  <a:pt x="1219" y="251"/>
                </a:lnTo>
                <a:lnTo>
                  <a:pt x="1213" y="255"/>
                </a:lnTo>
                <a:lnTo>
                  <a:pt x="1207" y="260"/>
                </a:lnTo>
                <a:lnTo>
                  <a:pt x="1201" y="265"/>
                </a:lnTo>
                <a:lnTo>
                  <a:pt x="1194" y="270"/>
                </a:lnTo>
                <a:lnTo>
                  <a:pt x="1186" y="275"/>
                </a:lnTo>
                <a:lnTo>
                  <a:pt x="1179" y="280"/>
                </a:lnTo>
                <a:lnTo>
                  <a:pt x="1171" y="286"/>
                </a:lnTo>
                <a:lnTo>
                  <a:pt x="1163" y="292"/>
                </a:lnTo>
                <a:lnTo>
                  <a:pt x="1155" y="298"/>
                </a:lnTo>
                <a:lnTo>
                  <a:pt x="1146" y="304"/>
                </a:lnTo>
                <a:lnTo>
                  <a:pt x="1138" y="311"/>
                </a:lnTo>
                <a:lnTo>
                  <a:pt x="1129" y="317"/>
                </a:lnTo>
                <a:lnTo>
                  <a:pt x="1120" y="323"/>
                </a:lnTo>
                <a:lnTo>
                  <a:pt x="1111" y="330"/>
                </a:lnTo>
                <a:lnTo>
                  <a:pt x="1102" y="337"/>
                </a:lnTo>
                <a:lnTo>
                  <a:pt x="1093" y="343"/>
                </a:lnTo>
                <a:lnTo>
                  <a:pt x="1084" y="350"/>
                </a:lnTo>
                <a:lnTo>
                  <a:pt x="1075" y="356"/>
                </a:lnTo>
                <a:lnTo>
                  <a:pt x="1066" y="363"/>
                </a:lnTo>
                <a:lnTo>
                  <a:pt x="1058" y="369"/>
                </a:lnTo>
                <a:lnTo>
                  <a:pt x="1049" y="376"/>
                </a:lnTo>
                <a:lnTo>
                  <a:pt x="1040" y="382"/>
                </a:lnTo>
                <a:lnTo>
                  <a:pt x="1032" y="388"/>
                </a:lnTo>
                <a:lnTo>
                  <a:pt x="1024" y="394"/>
                </a:lnTo>
                <a:lnTo>
                  <a:pt x="1016" y="400"/>
                </a:lnTo>
                <a:lnTo>
                  <a:pt x="1008" y="406"/>
                </a:lnTo>
                <a:lnTo>
                  <a:pt x="1000" y="411"/>
                </a:lnTo>
                <a:lnTo>
                  <a:pt x="993" y="417"/>
                </a:lnTo>
                <a:lnTo>
                  <a:pt x="986" y="422"/>
                </a:lnTo>
                <a:lnTo>
                  <a:pt x="980" y="426"/>
                </a:lnTo>
                <a:lnTo>
                  <a:pt x="973" y="431"/>
                </a:lnTo>
                <a:lnTo>
                  <a:pt x="968" y="435"/>
                </a:lnTo>
                <a:lnTo>
                  <a:pt x="962" y="439"/>
                </a:lnTo>
                <a:lnTo>
                  <a:pt x="957" y="443"/>
                </a:lnTo>
                <a:lnTo>
                  <a:pt x="953" y="446"/>
                </a:lnTo>
                <a:lnTo>
                  <a:pt x="949" y="449"/>
                </a:lnTo>
                <a:lnTo>
                  <a:pt x="945" y="451"/>
                </a:lnTo>
                <a:lnTo>
                  <a:pt x="943" y="453"/>
                </a:lnTo>
                <a:lnTo>
                  <a:pt x="940" y="455"/>
                </a:lnTo>
                <a:lnTo>
                  <a:pt x="939" y="456"/>
                </a:lnTo>
                <a:lnTo>
                  <a:pt x="938" y="457"/>
                </a:lnTo>
                <a:lnTo>
                  <a:pt x="937" y="457"/>
                </a:lnTo>
                <a:lnTo>
                  <a:pt x="937" y="457"/>
                </a:lnTo>
                <a:lnTo>
                  <a:pt x="937" y="456"/>
                </a:lnTo>
                <a:lnTo>
                  <a:pt x="937" y="451"/>
                </a:lnTo>
                <a:lnTo>
                  <a:pt x="937" y="444"/>
                </a:lnTo>
                <a:lnTo>
                  <a:pt x="937" y="435"/>
                </a:lnTo>
                <a:lnTo>
                  <a:pt x="937" y="424"/>
                </a:lnTo>
                <a:lnTo>
                  <a:pt x="937" y="412"/>
                </a:lnTo>
                <a:lnTo>
                  <a:pt x="937" y="400"/>
                </a:lnTo>
                <a:lnTo>
                  <a:pt x="937" y="388"/>
                </a:lnTo>
                <a:lnTo>
                  <a:pt x="937" y="376"/>
                </a:lnTo>
                <a:lnTo>
                  <a:pt x="937" y="366"/>
                </a:lnTo>
                <a:lnTo>
                  <a:pt x="937" y="357"/>
                </a:lnTo>
                <a:lnTo>
                  <a:pt x="937" y="349"/>
                </a:lnTo>
                <a:lnTo>
                  <a:pt x="937" y="345"/>
                </a:lnTo>
                <a:lnTo>
                  <a:pt x="937" y="343"/>
                </a:lnTo>
                <a:lnTo>
                  <a:pt x="937" y="343"/>
                </a:lnTo>
                <a:lnTo>
                  <a:pt x="930" y="343"/>
                </a:lnTo>
                <a:lnTo>
                  <a:pt x="923" y="343"/>
                </a:lnTo>
                <a:lnTo>
                  <a:pt x="915" y="343"/>
                </a:lnTo>
                <a:lnTo>
                  <a:pt x="907" y="343"/>
                </a:lnTo>
                <a:lnTo>
                  <a:pt x="900" y="343"/>
                </a:lnTo>
                <a:lnTo>
                  <a:pt x="892" y="343"/>
                </a:lnTo>
                <a:lnTo>
                  <a:pt x="884" y="343"/>
                </a:lnTo>
                <a:lnTo>
                  <a:pt x="876" y="343"/>
                </a:lnTo>
                <a:lnTo>
                  <a:pt x="868" y="343"/>
                </a:lnTo>
                <a:lnTo>
                  <a:pt x="859" y="343"/>
                </a:lnTo>
                <a:lnTo>
                  <a:pt x="851" y="343"/>
                </a:lnTo>
                <a:lnTo>
                  <a:pt x="843" y="343"/>
                </a:lnTo>
                <a:lnTo>
                  <a:pt x="834" y="343"/>
                </a:lnTo>
                <a:lnTo>
                  <a:pt x="826" y="343"/>
                </a:lnTo>
                <a:lnTo>
                  <a:pt x="817" y="343"/>
                </a:lnTo>
                <a:lnTo>
                  <a:pt x="808" y="343"/>
                </a:lnTo>
                <a:lnTo>
                  <a:pt x="800" y="343"/>
                </a:lnTo>
                <a:lnTo>
                  <a:pt x="791" y="343"/>
                </a:lnTo>
                <a:lnTo>
                  <a:pt x="782" y="343"/>
                </a:lnTo>
                <a:lnTo>
                  <a:pt x="773" y="343"/>
                </a:lnTo>
                <a:lnTo>
                  <a:pt x="764" y="343"/>
                </a:lnTo>
                <a:lnTo>
                  <a:pt x="755" y="343"/>
                </a:lnTo>
                <a:lnTo>
                  <a:pt x="746" y="343"/>
                </a:lnTo>
                <a:lnTo>
                  <a:pt x="737" y="343"/>
                </a:lnTo>
                <a:lnTo>
                  <a:pt x="727" y="343"/>
                </a:lnTo>
                <a:lnTo>
                  <a:pt x="718" y="343"/>
                </a:lnTo>
                <a:lnTo>
                  <a:pt x="709" y="343"/>
                </a:lnTo>
                <a:lnTo>
                  <a:pt x="699" y="343"/>
                </a:lnTo>
                <a:lnTo>
                  <a:pt x="690" y="343"/>
                </a:lnTo>
                <a:lnTo>
                  <a:pt x="680" y="343"/>
                </a:lnTo>
                <a:lnTo>
                  <a:pt x="671" y="343"/>
                </a:lnTo>
                <a:lnTo>
                  <a:pt x="661" y="343"/>
                </a:lnTo>
                <a:lnTo>
                  <a:pt x="652" y="343"/>
                </a:lnTo>
                <a:lnTo>
                  <a:pt x="642" y="343"/>
                </a:lnTo>
                <a:lnTo>
                  <a:pt x="633" y="343"/>
                </a:lnTo>
                <a:lnTo>
                  <a:pt x="623" y="343"/>
                </a:lnTo>
                <a:lnTo>
                  <a:pt x="614" y="343"/>
                </a:lnTo>
                <a:lnTo>
                  <a:pt x="604" y="343"/>
                </a:lnTo>
                <a:lnTo>
                  <a:pt x="594" y="343"/>
                </a:lnTo>
                <a:lnTo>
                  <a:pt x="585" y="343"/>
                </a:lnTo>
                <a:lnTo>
                  <a:pt x="575" y="343"/>
                </a:lnTo>
                <a:lnTo>
                  <a:pt x="565" y="343"/>
                </a:lnTo>
                <a:lnTo>
                  <a:pt x="556" y="343"/>
                </a:lnTo>
                <a:lnTo>
                  <a:pt x="546" y="343"/>
                </a:lnTo>
                <a:lnTo>
                  <a:pt x="536" y="343"/>
                </a:lnTo>
                <a:lnTo>
                  <a:pt x="527" y="343"/>
                </a:lnTo>
                <a:lnTo>
                  <a:pt x="517" y="343"/>
                </a:lnTo>
                <a:lnTo>
                  <a:pt x="507" y="343"/>
                </a:lnTo>
                <a:lnTo>
                  <a:pt x="498" y="343"/>
                </a:lnTo>
                <a:lnTo>
                  <a:pt x="488" y="343"/>
                </a:lnTo>
                <a:lnTo>
                  <a:pt x="478" y="343"/>
                </a:lnTo>
                <a:lnTo>
                  <a:pt x="469" y="343"/>
                </a:lnTo>
                <a:lnTo>
                  <a:pt x="459" y="343"/>
                </a:lnTo>
                <a:lnTo>
                  <a:pt x="450" y="343"/>
                </a:lnTo>
                <a:lnTo>
                  <a:pt x="440" y="343"/>
                </a:lnTo>
                <a:lnTo>
                  <a:pt x="431" y="343"/>
                </a:lnTo>
                <a:lnTo>
                  <a:pt x="421" y="343"/>
                </a:lnTo>
                <a:lnTo>
                  <a:pt x="412" y="343"/>
                </a:lnTo>
                <a:lnTo>
                  <a:pt x="402" y="343"/>
                </a:lnTo>
                <a:lnTo>
                  <a:pt x="393" y="343"/>
                </a:lnTo>
                <a:lnTo>
                  <a:pt x="384" y="343"/>
                </a:lnTo>
                <a:lnTo>
                  <a:pt x="375" y="343"/>
                </a:lnTo>
                <a:lnTo>
                  <a:pt x="365" y="343"/>
                </a:lnTo>
                <a:lnTo>
                  <a:pt x="356" y="343"/>
                </a:lnTo>
                <a:lnTo>
                  <a:pt x="347" y="343"/>
                </a:lnTo>
                <a:lnTo>
                  <a:pt x="338" y="343"/>
                </a:lnTo>
                <a:lnTo>
                  <a:pt x="329" y="343"/>
                </a:lnTo>
                <a:lnTo>
                  <a:pt x="320" y="343"/>
                </a:lnTo>
                <a:lnTo>
                  <a:pt x="311" y="343"/>
                </a:lnTo>
                <a:lnTo>
                  <a:pt x="303" y="343"/>
                </a:lnTo>
                <a:lnTo>
                  <a:pt x="294" y="343"/>
                </a:lnTo>
                <a:lnTo>
                  <a:pt x="285" y="343"/>
                </a:lnTo>
                <a:lnTo>
                  <a:pt x="277" y="343"/>
                </a:lnTo>
                <a:lnTo>
                  <a:pt x="268" y="343"/>
                </a:lnTo>
                <a:lnTo>
                  <a:pt x="260" y="343"/>
                </a:lnTo>
                <a:lnTo>
                  <a:pt x="252" y="343"/>
                </a:lnTo>
                <a:lnTo>
                  <a:pt x="243" y="343"/>
                </a:lnTo>
                <a:lnTo>
                  <a:pt x="235" y="343"/>
                </a:lnTo>
                <a:lnTo>
                  <a:pt x="227" y="343"/>
                </a:lnTo>
                <a:lnTo>
                  <a:pt x="219" y="343"/>
                </a:lnTo>
                <a:lnTo>
                  <a:pt x="212" y="343"/>
                </a:lnTo>
                <a:lnTo>
                  <a:pt x="204" y="343"/>
                </a:lnTo>
                <a:lnTo>
                  <a:pt x="196" y="343"/>
                </a:lnTo>
                <a:lnTo>
                  <a:pt x="189" y="343"/>
                </a:lnTo>
                <a:lnTo>
                  <a:pt x="181" y="343"/>
                </a:lnTo>
                <a:lnTo>
                  <a:pt x="174" y="343"/>
                </a:lnTo>
                <a:lnTo>
                  <a:pt x="167" y="343"/>
                </a:lnTo>
                <a:lnTo>
                  <a:pt x="160" y="343"/>
                </a:lnTo>
                <a:lnTo>
                  <a:pt x="153" y="343"/>
                </a:lnTo>
                <a:lnTo>
                  <a:pt x="146" y="343"/>
                </a:lnTo>
                <a:lnTo>
                  <a:pt x="139" y="343"/>
                </a:lnTo>
                <a:lnTo>
                  <a:pt x="132" y="343"/>
                </a:lnTo>
                <a:lnTo>
                  <a:pt x="126" y="343"/>
                </a:lnTo>
                <a:lnTo>
                  <a:pt x="120" y="343"/>
                </a:lnTo>
                <a:lnTo>
                  <a:pt x="113" y="343"/>
                </a:lnTo>
                <a:lnTo>
                  <a:pt x="107" y="343"/>
                </a:lnTo>
                <a:lnTo>
                  <a:pt x="101" y="343"/>
                </a:lnTo>
                <a:lnTo>
                  <a:pt x="96" y="343"/>
                </a:lnTo>
                <a:lnTo>
                  <a:pt x="90" y="343"/>
                </a:lnTo>
                <a:lnTo>
                  <a:pt x="84" y="343"/>
                </a:lnTo>
                <a:lnTo>
                  <a:pt x="79" y="343"/>
                </a:lnTo>
                <a:lnTo>
                  <a:pt x="74" y="343"/>
                </a:lnTo>
                <a:lnTo>
                  <a:pt x="69" y="343"/>
                </a:lnTo>
                <a:lnTo>
                  <a:pt x="64" y="343"/>
                </a:lnTo>
                <a:lnTo>
                  <a:pt x="59" y="343"/>
                </a:lnTo>
                <a:lnTo>
                  <a:pt x="55" y="343"/>
                </a:lnTo>
                <a:lnTo>
                  <a:pt x="50" y="343"/>
                </a:lnTo>
                <a:lnTo>
                  <a:pt x="46" y="343"/>
                </a:lnTo>
                <a:lnTo>
                  <a:pt x="42" y="343"/>
                </a:lnTo>
                <a:lnTo>
                  <a:pt x="38" y="343"/>
                </a:lnTo>
                <a:lnTo>
                  <a:pt x="34" y="343"/>
                </a:lnTo>
                <a:lnTo>
                  <a:pt x="31" y="343"/>
                </a:lnTo>
                <a:lnTo>
                  <a:pt x="27" y="343"/>
                </a:lnTo>
                <a:lnTo>
                  <a:pt x="24" y="343"/>
                </a:lnTo>
                <a:lnTo>
                  <a:pt x="21" y="343"/>
                </a:lnTo>
                <a:lnTo>
                  <a:pt x="18" y="343"/>
                </a:lnTo>
                <a:lnTo>
                  <a:pt x="16" y="343"/>
                </a:lnTo>
                <a:lnTo>
                  <a:pt x="13" y="343"/>
                </a:lnTo>
                <a:lnTo>
                  <a:pt x="11" y="343"/>
                </a:lnTo>
                <a:lnTo>
                  <a:pt x="9" y="343"/>
                </a:lnTo>
                <a:lnTo>
                  <a:pt x="7" y="343"/>
                </a:lnTo>
                <a:lnTo>
                  <a:pt x="6" y="343"/>
                </a:lnTo>
                <a:lnTo>
                  <a:pt x="4" y="343"/>
                </a:lnTo>
                <a:lnTo>
                  <a:pt x="3" y="343"/>
                </a:lnTo>
                <a:lnTo>
                  <a:pt x="2" y="343"/>
                </a:lnTo>
                <a:lnTo>
                  <a:pt x="1" y="343"/>
                </a:lnTo>
                <a:lnTo>
                  <a:pt x="1" y="343"/>
                </a:lnTo>
                <a:lnTo>
                  <a:pt x="0" y="343"/>
                </a:lnTo>
                <a:lnTo>
                  <a:pt x="0" y="343"/>
                </a:lnTo>
                <a:lnTo>
                  <a:pt x="0" y="343"/>
                </a:lnTo>
                <a:lnTo>
                  <a:pt x="0" y="341"/>
                </a:lnTo>
                <a:lnTo>
                  <a:pt x="0" y="337"/>
                </a:lnTo>
                <a:lnTo>
                  <a:pt x="0" y="330"/>
                </a:lnTo>
                <a:lnTo>
                  <a:pt x="0" y="320"/>
                </a:lnTo>
                <a:lnTo>
                  <a:pt x="0" y="310"/>
                </a:lnTo>
                <a:lnTo>
                  <a:pt x="0" y="298"/>
                </a:lnTo>
                <a:lnTo>
                  <a:pt x="0" y="286"/>
                </a:lnTo>
                <a:lnTo>
                  <a:pt x="0" y="274"/>
                </a:lnTo>
                <a:lnTo>
                  <a:pt x="0" y="262"/>
                </a:lnTo>
                <a:lnTo>
                  <a:pt x="0" y="252"/>
                </a:lnTo>
                <a:lnTo>
                  <a:pt x="0" y="242"/>
                </a:lnTo>
                <a:lnTo>
                  <a:pt x="0" y="235"/>
                </a:lnTo>
                <a:lnTo>
                  <a:pt x="0" y="231"/>
                </a:lnTo>
                <a:lnTo>
                  <a:pt x="0" y="229"/>
                </a:lnTo>
                <a:lnTo>
                  <a:pt x="0" y="229"/>
                </a:lnTo>
                <a:lnTo>
                  <a:pt x="0" y="227"/>
                </a:lnTo>
                <a:lnTo>
                  <a:pt x="0" y="223"/>
                </a:lnTo>
                <a:lnTo>
                  <a:pt x="0" y="215"/>
                </a:lnTo>
                <a:lnTo>
                  <a:pt x="0" y="206"/>
                </a:lnTo>
                <a:lnTo>
                  <a:pt x="0" y="196"/>
                </a:lnTo>
                <a:lnTo>
                  <a:pt x="0" y="184"/>
                </a:lnTo>
                <a:lnTo>
                  <a:pt x="0" y="172"/>
                </a:lnTo>
                <a:lnTo>
                  <a:pt x="0" y="160"/>
                </a:lnTo>
                <a:lnTo>
                  <a:pt x="0" y="148"/>
                </a:lnTo>
                <a:lnTo>
                  <a:pt x="0" y="137"/>
                </a:lnTo>
                <a:lnTo>
                  <a:pt x="0" y="128"/>
                </a:lnTo>
                <a:lnTo>
                  <a:pt x="0" y="121"/>
                </a:lnTo>
                <a:lnTo>
                  <a:pt x="0" y="116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lnTo>
                  <a:pt x="1" y="115"/>
                </a:lnTo>
                <a:lnTo>
                  <a:pt x="1" y="115"/>
                </a:lnTo>
                <a:lnTo>
                  <a:pt x="2" y="115"/>
                </a:lnTo>
                <a:lnTo>
                  <a:pt x="3" y="115"/>
                </a:lnTo>
                <a:lnTo>
                  <a:pt x="4" y="115"/>
                </a:lnTo>
                <a:lnTo>
                  <a:pt x="6" y="115"/>
                </a:lnTo>
                <a:lnTo>
                  <a:pt x="7" y="115"/>
                </a:lnTo>
                <a:lnTo>
                  <a:pt x="9" y="115"/>
                </a:lnTo>
                <a:lnTo>
                  <a:pt x="11" y="115"/>
                </a:lnTo>
                <a:lnTo>
                  <a:pt x="13" y="115"/>
                </a:lnTo>
                <a:lnTo>
                  <a:pt x="16" y="115"/>
                </a:lnTo>
                <a:lnTo>
                  <a:pt x="18" y="115"/>
                </a:lnTo>
                <a:lnTo>
                  <a:pt x="21" y="115"/>
                </a:lnTo>
                <a:lnTo>
                  <a:pt x="24" y="115"/>
                </a:lnTo>
                <a:lnTo>
                  <a:pt x="27" y="115"/>
                </a:lnTo>
                <a:lnTo>
                  <a:pt x="31" y="115"/>
                </a:lnTo>
                <a:lnTo>
                  <a:pt x="34" y="115"/>
                </a:lnTo>
                <a:lnTo>
                  <a:pt x="38" y="115"/>
                </a:lnTo>
                <a:lnTo>
                  <a:pt x="42" y="115"/>
                </a:lnTo>
                <a:lnTo>
                  <a:pt x="46" y="115"/>
                </a:lnTo>
                <a:lnTo>
                  <a:pt x="50" y="115"/>
                </a:lnTo>
                <a:lnTo>
                  <a:pt x="55" y="115"/>
                </a:lnTo>
                <a:lnTo>
                  <a:pt x="59" y="115"/>
                </a:lnTo>
                <a:lnTo>
                  <a:pt x="64" y="115"/>
                </a:lnTo>
                <a:lnTo>
                  <a:pt x="69" y="115"/>
                </a:lnTo>
                <a:lnTo>
                  <a:pt x="74" y="115"/>
                </a:lnTo>
                <a:lnTo>
                  <a:pt x="79" y="115"/>
                </a:lnTo>
                <a:lnTo>
                  <a:pt x="84" y="115"/>
                </a:lnTo>
                <a:lnTo>
                  <a:pt x="90" y="115"/>
                </a:lnTo>
                <a:lnTo>
                  <a:pt x="96" y="115"/>
                </a:lnTo>
                <a:lnTo>
                  <a:pt x="101" y="115"/>
                </a:lnTo>
                <a:lnTo>
                  <a:pt x="107" y="115"/>
                </a:lnTo>
                <a:lnTo>
                  <a:pt x="113" y="115"/>
                </a:lnTo>
                <a:lnTo>
                  <a:pt x="120" y="115"/>
                </a:lnTo>
                <a:lnTo>
                  <a:pt x="126" y="115"/>
                </a:lnTo>
                <a:lnTo>
                  <a:pt x="132" y="115"/>
                </a:lnTo>
                <a:lnTo>
                  <a:pt x="139" y="115"/>
                </a:lnTo>
                <a:lnTo>
                  <a:pt x="146" y="115"/>
                </a:lnTo>
                <a:lnTo>
                  <a:pt x="153" y="115"/>
                </a:lnTo>
                <a:lnTo>
                  <a:pt x="160" y="115"/>
                </a:lnTo>
                <a:lnTo>
                  <a:pt x="167" y="115"/>
                </a:lnTo>
                <a:lnTo>
                  <a:pt x="174" y="115"/>
                </a:lnTo>
                <a:lnTo>
                  <a:pt x="181" y="115"/>
                </a:lnTo>
                <a:lnTo>
                  <a:pt x="189" y="115"/>
                </a:lnTo>
                <a:lnTo>
                  <a:pt x="196" y="115"/>
                </a:lnTo>
                <a:lnTo>
                  <a:pt x="204" y="115"/>
                </a:lnTo>
                <a:lnTo>
                  <a:pt x="212" y="115"/>
                </a:lnTo>
                <a:lnTo>
                  <a:pt x="219" y="115"/>
                </a:lnTo>
                <a:lnTo>
                  <a:pt x="227" y="115"/>
                </a:lnTo>
                <a:lnTo>
                  <a:pt x="235" y="115"/>
                </a:lnTo>
                <a:lnTo>
                  <a:pt x="243" y="115"/>
                </a:lnTo>
                <a:lnTo>
                  <a:pt x="252" y="115"/>
                </a:lnTo>
                <a:lnTo>
                  <a:pt x="260" y="115"/>
                </a:lnTo>
                <a:lnTo>
                  <a:pt x="268" y="115"/>
                </a:lnTo>
                <a:lnTo>
                  <a:pt x="277" y="115"/>
                </a:lnTo>
                <a:lnTo>
                  <a:pt x="285" y="115"/>
                </a:lnTo>
                <a:lnTo>
                  <a:pt x="294" y="115"/>
                </a:lnTo>
                <a:lnTo>
                  <a:pt x="303" y="115"/>
                </a:lnTo>
                <a:lnTo>
                  <a:pt x="311" y="115"/>
                </a:lnTo>
                <a:lnTo>
                  <a:pt x="320" y="115"/>
                </a:lnTo>
                <a:lnTo>
                  <a:pt x="329" y="115"/>
                </a:lnTo>
                <a:lnTo>
                  <a:pt x="338" y="115"/>
                </a:lnTo>
                <a:lnTo>
                  <a:pt x="347" y="115"/>
                </a:lnTo>
                <a:lnTo>
                  <a:pt x="356" y="115"/>
                </a:lnTo>
                <a:lnTo>
                  <a:pt x="365" y="115"/>
                </a:lnTo>
                <a:lnTo>
                  <a:pt x="375" y="115"/>
                </a:lnTo>
                <a:lnTo>
                  <a:pt x="384" y="115"/>
                </a:lnTo>
                <a:lnTo>
                  <a:pt x="393" y="115"/>
                </a:lnTo>
                <a:lnTo>
                  <a:pt x="402" y="115"/>
                </a:lnTo>
                <a:lnTo>
                  <a:pt x="412" y="115"/>
                </a:lnTo>
                <a:lnTo>
                  <a:pt x="421" y="115"/>
                </a:lnTo>
                <a:lnTo>
                  <a:pt x="431" y="115"/>
                </a:lnTo>
                <a:lnTo>
                  <a:pt x="440" y="115"/>
                </a:lnTo>
                <a:lnTo>
                  <a:pt x="450" y="115"/>
                </a:lnTo>
                <a:lnTo>
                  <a:pt x="459" y="115"/>
                </a:lnTo>
                <a:lnTo>
                  <a:pt x="469" y="115"/>
                </a:lnTo>
                <a:lnTo>
                  <a:pt x="478" y="115"/>
                </a:lnTo>
                <a:lnTo>
                  <a:pt x="488" y="115"/>
                </a:lnTo>
                <a:lnTo>
                  <a:pt x="498" y="115"/>
                </a:lnTo>
                <a:lnTo>
                  <a:pt x="507" y="115"/>
                </a:lnTo>
                <a:lnTo>
                  <a:pt x="517" y="115"/>
                </a:lnTo>
                <a:lnTo>
                  <a:pt x="527" y="115"/>
                </a:lnTo>
                <a:lnTo>
                  <a:pt x="536" y="115"/>
                </a:lnTo>
                <a:lnTo>
                  <a:pt x="546" y="115"/>
                </a:lnTo>
                <a:lnTo>
                  <a:pt x="556" y="115"/>
                </a:lnTo>
                <a:lnTo>
                  <a:pt x="565" y="115"/>
                </a:lnTo>
                <a:lnTo>
                  <a:pt x="575" y="115"/>
                </a:lnTo>
                <a:lnTo>
                  <a:pt x="585" y="115"/>
                </a:lnTo>
                <a:lnTo>
                  <a:pt x="594" y="115"/>
                </a:lnTo>
                <a:lnTo>
                  <a:pt x="604" y="115"/>
                </a:lnTo>
                <a:lnTo>
                  <a:pt x="614" y="115"/>
                </a:lnTo>
                <a:lnTo>
                  <a:pt x="623" y="115"/>
                </a:lnTo>
                <a:lnTo>
                  <a:pt x="633" y="115"/>
                </a:lnTo>
                <a:lnTo>
                  <a:pt x="642" y="115"/>
                </a:lnTo>
                <a:lnTo>
                  <a:pt x="652" y="115"/>
                </a:lnTo>
                <a:lnTo>
                  <a:pt x="661" y="115"/>
                </a:lnTo>
                <a:lnTo>
                  <a:pt x="671" y="115"/>
                </a:lnTo>
                <a:lnTo>
                  <a:pt x="680" y="115"/>
                </a:lnTo>
                <a:lnTo>
                  <a:pt x="690" y="115"/>
                </a:lnTo>
                <a:lnTo>
                  <a:pt x="699" y="115"/>
                </a:lnTo>
                <a:lnTo>
                  <a:pt x="709" y="115"/>
                </a:lnTo>
                <a:lnTo>
                  <a:pt x="718" y="115"/>
                </a:lnTo>
                <a:lnTo>
                  <a:pt x="727" y="115"/>
                </a:lnTo>
                <a:lnTo>
                  <a:pt x="737" y="115"/>
                </a:lnTo>
                <a:lnTo>
                  <a:pt x="746" y="115"/>
                </a:lnTo>
                <a:lnTo>
                  <a:pt x="755" y="115"/>
                </a:lnTo>
                <a:lnTo>
                  <a:pt x="764" y="115"/>
                </a:lnTo>
                <a:lnTo>
                  <a:pt x="773" y="115"/>
                </a:lnTo>
                <a:lnTo>
                  <a:pt x="782" y="115"/>
                </a:lnTo>
                <a:lnTo>
                  <a:pt x="791" y="115"/>
                </a:lnTo>
                <a:lnTo>
                  <a:pt x="800" y="115"/>
                </a:lnTo>
                <a:lnTo>
                  <a:pt x="808" y="115"/>
                </a:lnTo>
                <a:lnTo>
                  <a:pt x="817" y="115"/>
                </a:lnTo>
                <a:lnTo>
                  <a:pt x="826" y="115"/>
                </a:lnTo>
                <a:lnTo>
                  <a:pt x="834" y="115"/>
                </a:lnTo>
                <a:lnTo>
                  <a:pt x="843" y="115"/>
                </a:lnTo>
                <a:lnTo>
                  <a:pt x="851" y="115"/>
                </a:lnTo>
                <a:lnTo>
                  <a:pt x="859" y="115"/>
                </a:lnTo>
                <a:lnTo>
                  <a:pt x="868" y="115"/>
                </a:lnTo>
                <a:lnTo>
                  <a:pt x="876" y="115"/>
                </a:lnTo>
                <a:lnTo>
                  <a:pt x="884" y="115"/>
                </a:lnTo>
                <a:lnTo>
                  <a:pt x="892" y="115"/>
                </a:lnTo>
                <a:lnTo>
                  <a:pt x="900" y="115"/>
                </a:lnTo>
                <a:lnTo>
                  <a:pt x="907" y="115"/>
                </a:lnTo>
                <a:lnTo>
                  <a:pt x="915" y="115"/>
                </a:lnTo>
                <a:lnTo>
                  <a:pt x="923" y="115"/>
                </a:lnTo>
                <a:lnTo>
                  <a:pt x="930" y="115"/>
                </a:lnTo>
                <a:lnTo>
                  <a:pt x="937" y="115"/>
                </a:lnTo>
                <a:lnTo>
                  <a:pt x="937" y="115"/>
                </a:lnTo>
                <a:lnTo>
                  <a:pt x="937" y="113"/>
                </a:lnTo>
                <a:lnTo>
                  <a:pt x="937" y="108"/>
                </a:lnTo>
                <a:lnTo>
                  <a:pt x="937" y="101"/>
                </a:lnTo>
                <a:lnTo>
                  <a:pt x="937" y="92"/>
                </a:lnTo>
                <a:lnTo>
                  <a:pt x="937" y="81"/>
                </a:lnTo>
                <a:lnTo>
                  <a:pt x="937" y="70"/>
                </a:lnTo>
                <a:lnTo>
                  <a:pt x="937" y="58"/>
                </a:lnTo>
                <a:lnTo>
                  <a:pt x="937" y="45"/>
                </a:lnTo>
                <a:lnTo>
                  <a:pt x="937" y="34"/>
                </a:lnTo>
                <a:lnTo>
                  <a:pt x="937" y="23"/>
                </a:lnTo>
                <a:lnTo>
                  <a:pt x="937" y="14"/>
                </a:lnTo>
                <a:lnTo>
                  <a:pt x="937" y="7"/>
                </a:lnTo>
                <a:lnTo>
                  <a:pt x="937" y="2"/>
                </a:lnTo>
                <a:lnTo>
                  <a:pt x="937" y="0"/>
                </a:lnTo>
                <a:lnTo>
                  <a:pt x="937" y="0"/>
                </a:lnTo>
                <a:lnTo>
                  <a:pt x="938" y="1"/>
                </a:lnTo>
                <a:lnTo>
                  <a:pt x="939" y="1"/>
                </a:lnTo>
                <a:lnTo>
                  <a:pt x="940" y="3"/>
                </a:lnTo>
                <a:lnTo>
                  <a:pt x="943" y="4"/>
                </a:lnTo>
                <a:lnTo>
                  <a:pt x="945" y="6"/>
                </a:lnTo>
                <a:lnTo>
                  <a:pt x="949" y="9"/>
                </a:lnTo>
                <a:lnTo>
                  <a:pt x="953" y="12"/>
                </a:lnTo>
                <a:lnTo>
                  <a:pt x="957" y="15"/>
                </a:lnTo>
                <a:lnTo>
                  <a:pt x="962" y="19"/>
                </a:lnTo>
                <a:lnTo>
                  <a:pt x="968" y="22"/>
                </a:lnTo>
                <a:lnTo>
                  <a:pt x="973" y="27"/>
                </a:lnTo>
                <a:lnTo>
                  <a:pt x="980" y="31"/>
                </a:lnTo>
                <a:lnTo>
                  <a:pt x="986" y="36"/>
                </a:lnTo>
                <a:lnTo>
                  <a:pt x="993" y="41"/>
                </a:lnTo>
                <a:lnTo>
                  <a:pt x="1000" y="46"/>
                </a:lnTo>
                <a:lnTo>
                  <a:pt x="1008" y="52"/>
                </a:lnTo>
                <a:lnTo>
                  <a:pt x="1016" y="58"/>
                </a:lnTo>
                <a:lnTo>
                  <a:pt x="1024" y="64"/>
                </a:lnTo>
                <a:lnTo>
                  <a:pt x="1032" y="70"/>
                </a:lnTo>
                <a:lnTo>
                  <a:pt x="1040" y="76"/>
                </a:lnTo>
                <a:lnTo>
                  <a:pt x="1049" y="82"/>
                </a:lnTo>
                <a:lnTo>
                  <a:pt x="1058" y="88"/>
                </a:lnTo>
                <a:lnTo>
                  <a:pt x="1066" y="95"/>
                </a:lnTo>
                <a:lnTo>
                  <a:pt x="1075" y="101"/>
                </a:lnTo>
                <a:lnTo>
                  <a:pt x="1084" y="108"/>
                </a:lnTo>
                <a:lnTo>
                  <a:pt x="1093" y="115"/>
                </a:lnTo>
                <a:lnTo>
                  <a:pt x="1102" y="121"/>
                </a:lnTo>
                <a:lnTo>
                  <a:pt x="1111" y="128"/>
                </a:lnTo>
                <a:lnTo>
                  <a:pt x="1120" y="134"/>
                </a:lnTo>
                <a:lnTo>
                  <a:pt x="1129" y="141"/>
                </a:lnTo>
                <a:lnTo>
                  <a:pt x="1138" y="147"/>
                </a:lnTo>
                <a:lnTo>
                  <a:pt x="1146" y="153"/>
                </a:lnTo>
                <a:lnTo>
                  <a:pt x="1155" y="160"/>
                </a:lnTo>
                <a:lnTo>
                  <a:pt x="1163" y="166"/>
                </a:lnTo>
                <a:lnTo>
                  <a:pt x="1171" y="172"/>
                </a:lnTo>
                <a:lnTo>
                  <a:pt x="1179" y="177"/>
                </a:lnTo>
                <a:lnTo>
                  <a:pt x="1186" y="183"/>
                </a:lnTo>
                <a:lnTo>
                  <a:pt x="1194" y="188"/>
                </a:lnTo>
                <a:lnTo>
                  <a:pt x="1201" y="193"/>
                </a:lnTo>
                <a:lnTo>
                  <a:pt x="1207" y="198"/>
                </a:lnTo>
                <a:lnTo>
                  <a:pt x="1213" y="203"/>
                </a:lnTo>
                <a:lnTo>
                  <a:pt x="1219" y="207"/>
                </a:lnTo>
                <a:lnTo>
                  <a:pt x="1225" y="211"/>
                </a:lnTo>
                <a:lnTo>
                  <a:pt x="1229" y="214"/>
                </a:lnTo>
                <a:lnTo>
                  <a:pt x="1234" y="218"/>
                </a:lnTo>
                <a:lnTo>
                  <a:pt x="1238" y="220"/>
                </a:lnTo>
                <a:lnTo>
                  <a:pt x="1241" y="223"/>
                </a:lnTo>
                <a:lnTo>
                  <a:pt x="1244" y="225"/>
                </a:lnTo>
                <a:lnTo>
                  <a:pt x="1246" y="227"/>
                </a:lnTo>
                <a:lnTo>
                  <a:pt x="1248" y="228"/>
                </a:lnTo>
                <a:lnTo>
                  <a:pt x="1249" y="229"/>
                </a:lnTo>
                <a:lnTo>
                  <a:pt x="1249" y="229"/>
                </a:lnTo>
                <a:lnTo>
                  <a:pt x="1249" y="229"/>
                </a:lnTo>
                <a:lnTo>
                  <a:pt x="1249" y="229"/>
                </a:lnTo>
                <a:close/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27"/>
          <p:cNvSpPr/>
          <p:nvPr/>
        </p:nvSpPr>
        <p:spPr>
          <a:xfrm>
            <a:off x="709560" y="1947960"/>
            <a:ext cx="1982880" cy="72540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249" h="457">
                <a:moveTo>
                  <a:pt x="1249" y="228"/>
                </a:moveTo>
                <a:lnTo>
                  <a:pt x="1248" y="229"/>
                </a:lnTo>
                <a:lnTo>
                  <a:pt x="1247" y="229"/>
                </a:lnTo>
                <a:lnTo>
                  <a:pt x="1246" y="231"/>
                </a:lnTo>
                <a:lnTo>
                  <a:pt x="1244" y="232"/>
                </a:lnTo>
                <a:lnTo>
                  <a:pt x="1241" y="234"/>
                </a:lnTo>
                <a:lnTo>
                  <a:pt x="1237" y="237"/>
                </a:lnTo>
                <a:lnTo>
                  <a:pt x="1233" y="240"/>
                </a:lnTo>
                <a:lnTo>
                  <a:pt x="1229" y="243"/>
                </a:lnTo>
                <a:lnTo>
                  <a:pt x="1224" y="247"/>
                </a:lnTo>
                <a:lnTo>
                  <a:pt x="1219" y="250"/>
                </a:lnTo>
                <a:lnTo>
                  <a:pt x="1213" y="255"/>
                </a:lnTo>
                <a:lnTo>
                  <a:pt x="1207" y="259"/>
                </a:lnTo>
                <a:lnTo>
                  <a:pt x="1200" y="264"/>
                </a:lnTo>
                <a:lnTo>
                  <a:pt x="1193" y="269"/>
                </a:lnTo>
                <a:lnTo>
                  <a:pt x="1186" y="274"/>
                </a:lnTo>
                <a:lnTo>
                  <a:pt x="1178" y="280"/>
                </a:lnTo>
                <a:lnTo>
                  <a:pt x="1171" y="286"/>
                </a:lnTo>
                <a:lnTo>
                  <a:pt x="1163" y="292"/>
                </a:lnTo>
                <a:lnTo>
                  <a:pt x="1154" y="298"/>
                </a:lnTo>
                <a:lnTo>
                  <a:pt x="1146" y="304"/>
                </a:lnTo>
                <a:lnTo>
                  <a:pt x="1137" y="310"/>
                </a:lnTo>
                <a:lnTo>
                  <a:pt x="1129" y="316"/>
                </a:lnTo>
                <a:lnTo>
                  <a:pt x="1120" y="323"/>
                </a:lnTo>
                <a:lnTo>
                  <a:pt x="1111" y="329"/>
                </a:lnTo>
                <a:lnTo>
                  <a:pt x="1102" y="336"/>
                </a:lnTo>
                <a:lnTo>
                  <a:pt x="1093" y="343"/>
                </a:lnTo>
                <a:lnTo>
                  <a:pt x="1084" y="349"/>
                </a:lnTo>
                <a:lnTo>
                  <a:pt x="1075" y="356"/>
                </a:lnTo>
                <a:lnTo>
                  <a:pt x="1066" y="362"/>
                </a:lnTo>
                <a:lnTo>
                  <a:pt x="1057" y="369"/>
                </a:lnTo>
                <a:lnTo>
                  <a:pt x="1048" y="375"/>
                </a:lnTo>
                <a:lnTo>
                  <a:pt x="1040" y="381"/>
                </a:lnTo>
                <a:lnTo>
                  <a:pt x="1031" y="388"/>
                </a:lnTo>
                <a:lnTo>
                  <a:pt x="1023" y="394"/>
                </a:lnTo>
                <a:lnTo>
                  <a:pt x="1015" y="400"/>
                </a:lnTo>
                <a:lnTo>
                  <a:pt x="1007" y="405"/>
                </a:lnTo>
                <a:lnTo>
                  <a:pt x="1000" y="411"/>
                </a:lnTo>
                <a:lnTo>
                  <a:pt x="992" y="416"/>
                </a:lnTo>
                <a:lnTo>
                  <a:pt x="986" y="421"/>
                </a:lnTo>
                <a:lnTo>
                  <a:pt x="979" y="426"/>
                </a:lnTo>
                <a:lnTo>
                  <a:pt x="973" y="430"/>
                </a:lnTo>
                <a:lnTo>
                  <a:pt x="967" y="435"/>
                </a:lnTo>
                <a:lnTo>
                  <a:pt x="962" y="439"/>
                </a:lnTo>
                <a:lnTo>
                  <a:pt x="957" y="442"/>
                </a:lnTo>
                <a:lnTo>
                  <a:pt x="952" y="446"/>
                </a:lnTo>
                <a:lnTo>
                  <a:pt x="948" y="448"/>
                </a:lnTo>
                <a:lnTo>
                  <a:pt x="945" y="451"/>
                </a:lnTo>
                <a:lnTo>
                  <a:pt x="942" y="453"/>
                </a:lnTo>
                <a:lnTo>
                  <a:pt x="940" y="455"/>
                </a:lnTo>
                <a:lnTo>
                  <a:pt x="938" y="456"/>
                </a:lnTo>
                <a:lnTo>
                  <a:pt x="937" y="457"/>
                </a:lnTo>
                <a:lnTo>
                  <a:pt x="937" y="457"/>
                </a:lnTo>
                <a:lnTo>
                  <a:pt x="937" y="457"/>
                </a:lnTo>
                <a:lnTo>
                  <a:pt x="937" y="455"/>
                </a:lnTo>
                <a:lnTo>
                  <a:pt x="937" y="450"/>
                </a:lnTo>
                <a:lnTo>
                  <a:pt x="937" y="443"/>
                </a:lnTo>
                <a:lnTo>
                  <a:pt x="937" y="434"/>
                </a:lnTo>
                <a:lnTo>
                  <a:pt x="937" y="424"/>
                </a:lnTo>
                <a:lnTo>
                  <a:pt x="937" y="412"/>
                </a:lnTo>
                <a:lnTo>
                  <a:pt x="937" y="400"/>
                </a:lnTo>
                <a:lnTo>
                  <a:pt x="937" y="388"/>
                </a:lnTo>
                <a:lnTo>
                  <a:pt x="937" y="376"/>
                </a:lnTo>
                <a:lnTo>
                  <a:pt x="937" y="365"/>
                </a:lnTo>
                <a:lnTo>
                  <a:pt x="937" y="356"/>
                </a:lnTo>
                <a:lnTo>
                  <a:pt x="937" y="349"/>
                </a:lnTo>
                <a:lnTo>
                  <a:pt x="937" y="344"/>
                </a:lnTo>
                <a:lnTo>
                  <a:pt x="937" y="343"/>
                </a:lnTo>
                <a:lnTo>
                  <a:pt x="937" y="343"/>
                </a:lnTo>
                <a:lnTo>
                  <a:pt x="929" y="343"/>
                </a:lnTo>
                <a:lnTo>
                  <a:pt x="922" y="343"/>
                </a:lnTo>
                <a:lnTo>
                  <a:pt x="915" y="343"/>
                </a:lnTo>
                <a:lnTo>
                  <a:pt x="907" y="343"/>
                </a:lnTo>
                <a:lnTo>
                  <a:pt x="899" y="343"/>
                </a:lnTo>
                <a:lnTo>
                  <a:pt x="891" y="343"/>
                </a:lnTo>
                <a:lnTo>
                  <a:pt x="883" y="343"/>
                </a:lnTo>
                <a:lnTo>
                  <a:pt x="875" y="343"/>
                </a:lnTo>
                <a:lnTo>
                  <a:pt x="867" y="343"/>
                </a:lnTo>
                <a:lnTo>
                  <a:pt x="859" y="343"/>
                </a:lnTo>
                <a:lnTo>
                  <a:pt x="851" y="343"/>
                </a:lnTo>
                <a:lnTo>
                  <a:pt x="842" y="343"/>
                </a:lnTo>
                <a:lnTo>
                  <a:pt x="834" y="343"/>
                </a:lnTo>
                <a:lnTo>
                  <a:pt x="825" y="343"/>
                </a:lnTo>
                <a:lnTo>
                  <a:pt x="817" y="343"/>
                </a:lnTo>
                <a:lnTo>
                  <a:pt x="808" y="343"/>
                </a:lnTo>
                <a:lnTo>
                  <a:pt x="799" y="343"/>
                </a:lnTo>
                <a:lnTo>
                  <a:pt x="790" y="343"/>
                </a:lnTo>
                <a:lnTo>
                  <a:pt x="781" y="343"/>
                </a:lnTo>
                <a:lnTo>
                  <a:pt x="772" y="343"/>
                </a:lnTo>
                <a:lnTo>
                  <a:pt x="763" y="343"/>
                </a:lnTo>
                <a:lnTo>
                  <a:pt x="754" y="343"/>
                </a:lnTo>
                <a:lnTo>
                  <a:pt x="745" y="343"/>
                </a:lnTo>
                <a:lnTo>
                  <a:pt x="736" y="343"/>
                </a:lnTo>
                <a:lnTo>
                  <a:pt x="727" y="343"/>
                </a:lnTo>
                <a:lnTo>
                  <a:pt x="718" y="343"/>
                </a:lnTo>
                <a:lnTo>
                  <a:pt x="708" y="343"/>
                </a:lnTo>
                <a:lnTo>
                  <a:pt x="699" y="343"/>
                </a:lnTo>
                <a:lnTo>
                  <a:pt x="689" y="343"/>
                </a:lnTo>
                <a:lnTo>
                  <a:pt x="680" y="343"/>
                </a:lnTo>
                <a:lnTo>
                  <a:pt x="670" y="343"/>
                </a:lnTo>
                <a:lnTo>
                  <a:pt x="661" y="343"/>
                </a:lnTo>
                <a:lnTo>
                  <a:pt x="651" y="343"/>
                </a:lnTo>
                <a:lnTo>
                  <a:pt x="642" y="343"/>
                </a:lnTo>
                <a:lnTo>
                  <a:pt x="632" y="343"/>
                </a:lnTo>
                <a:lnTo>
                  <a:pt x="623" y="343"/>
                </a:lnTo>
                <a:lnTo>
                  <a:pt x="613" y="343"/>
                </a:lnTo>
                <a:lnTo>
                  <a:pt x="603" y="343"/>
                </a:lnTo>
                <a:lnTo>
                  <a:pt x="594" y="343"/>
                </a:lnTo>
                <a:lnTo>
                  <a:pt x="584" y="343"/>
                </a:lnTo>
                <a:lnTo>
                  <a:pt x="574" y="343"/>
                </a:lnTo>
                <a:lnTo>
                  <a:pt x="565" y="343"/>
                </a:lnTo>
                <a:lnTo>
                  <a:pt x="555" y="343"/>
                </a:lnTo>
                <a:lnTo>
                  <a:pt x="545" y="343"/>
                </a:lnTo>
                <a:lnTo>
                  <a:pt x="536" y="343"/>
                </a:lnTo>
                <a:lnTo>
                  <a:pt x="526" y="343"/>
                </a:lnTo>
                <a:lnTo>
                  <a:pt x="516" y="343"/>
                </a:lnTo>
                <a:lnTo>
                  <a:pt x="507" y="343"/>
                </a:lnTo>
                <a:lnTo>
                  <a:pt x="497" y="343"/>
                </a:lnTo>
                <a:lnTo>
                  <a:pt x="487" y="343"/>
                </a:lnTo>
                <a:lnTo>
                  <a:pt x="478" y="343"/>
                </a:lnTo>
                <a:lnTo>
                  <a:pt x="468" y="343"/>
                </a:lnTo>
                <a:lnTo>
                  <a:pt x="459" y="343"/>
                </a:lnTo>
                <a:lnTo>
                  <a:pt x="449" y="343"/>
                </a:lnTo>
                <a:lnTo>
                  <a:pt x="440" y="343"/>
                </a:lnTo>
                <a:lnTo>
                  <a:pt x="430" y="343"/>
                </a:lnTo>
                <a:lnTo>
                  <a:pt x="421" y="343"/>
                </a:lnTo>
                <a:lnTo>
                  <a:pt x="411" y="343"/>
                </a:lnTo>
                <a:lnTo>
                  <a:pt x="402" y="343"/>
                </a:lnTo>
                <a:lnTo>
                  <a:pt x="393" y="343"/>
                </a:lnTo>
                <a:lnTo>
                  <a:pt x="383" y="343"/>
                </a:lnTo>
                <a:lnTo>
                  <a:pt x="374" y="343"/>
                </a:lnTo>
                <a:lnTo>
                  <a:pt x="365" y="343"/>
                </a:lnTo>
                <a:lnTo>
                  <a:pt x="356" y="343"/>
                </a:lnTo>
                <a:lnTo>
                  <a:pt x="347" y="343"/>
                </a:lnTo>
                <a:lnTo>
                  <a:pt x="338" y="343"/>
                </a:lnTo>
                <a:lnTo>
                  <a:pt x="329" y="343"/>
                </a:lnTo>
                <a:lnTo>
                  <a:pt x="320" y="343"/>
                </a:lnTo>
                <a:lnTo>
                  <a:pt x="311" y="343"/>
                </a:lnTo>
                <a:lnTo>
                  <a:pt x="302" y="343"/>
                </a:lnTo>
                <a:lnTo>
                  <a:pt x="293" y="343"/>
                </a:lnTo>
                <a:lnTo>
                  <a:pt x="285" y="343"/>
                </a:lnTo>
                <a:lnTo>
                  <a:pt x="276" y="343"/>
                </a:lnTo>
                <a:lnTo>
                  <a:pt x="268" y="343"/>
                </a:lnTo>
                <a:lnTo>
                  <a:pt x="259" y="343"/>
                </a:lnTo>
                <a:lnTo>
                  <a:pt x="251" y="343"/>
                </a:lnTo>
                <a:lnTo>
                  <a:pt x="243" y="343"/>
                </a:lnTo>
                <a:lnTo>
                  <a:pt x="235" y="343"/>
                </a:lnTo>
                <a:lnTo>
                  <a:pt x="227" y="343"/>
                </a:lnTo>
                <a:lnTo>
                  <a:pt x="219" y="343"/>
                </a:lnTo>
                <a:lnTo>
                  <a:pt x="211" y="343"/>
                </a:lnTo>
                <a:lnTo>
                  <a:pt x="203" y="343"/>
                </a:lnTo>
                <a:lnTo>
                  <a:pt x="196" y="343"/>
                </a:lnTo>
                <a:lnTo>
                  <a:pt x="188" y="343"/>
                </a:lnTo>
                <a:lnTo>
                  <a:pt x="181" y="343"/>
                </a:lnTo>
                <a:lnTo>
                  <a:pt x="173" y="343"/>
                </a:lnTo>
                <a:lnTo>
                  <a:pt x="166" y="343"/>
                </a:lnTo>
                <a:lnTo>
                  <a:pt x="159" y="343"/>
                </a:lnTo>
                <a:lnTo>
                  <a:pt x="152" y="343"/>
                </a:lnTo>
                <a:lnTo>
                  <a:pt x="145" y="343"/>
                </a:lnTo>
                <a:lnTo>
                  <a:pt x="138" y="343"/>
                </a:lnTo>
                <a:lnTo>
                  <a:pt x="132" y="343"/>
                </a:lnTo>
                <a:lnTo>
                  <a:pt x="125" y="343"/>
                </a:lnTo>
                <a:lnTo>
                  <a:pt x="119" y="343"/>
                </a:lnTo>
                <a:lnTo>
                  <a:pt x="113" y="343"/>
                </a:lnTo>
                <a:lnTo>
                  <a:pt x="107" y="343"/>
                </a:lnTo>
                <a:lnTo>
                  <a:pt x="101" y="343"/>
                </a:lnTo>
                <a:lnTo>
                  <a:pt x="95" y="343"/>
                </a:lnTo>
                <a:lnTo>
                  <a:pt x="89" y="343"/>
                </a:lnTo>
                <a:lnTo>
                  <a:pt x="84" y="343"/>
                </a:lnTo>
                <a:lnTo>
                  <a:pt x="79" y="343"/>
                </a:lnTo>
                <a:lnTo>
                  <a:pt x="73" y="343"/>
                </a:lnTo>
                <a:lnTo>
                  <a:pt x="68" y="343"/>
                </a:lnTo>
                <a:lnTo>
                  <a:pt x="63" y="343"/>
                </a:lnTo>
                <a:lnTo>
                  <a:pt x="59" y="343"/>
                </a:lnTo>
                <a:lnTo>
                  <a:pt x="54" y="343"/>
                </a:lnTo>
                <a:lnTo>
                  <a:pt x="50" y="343"/>
                </a:lnTo>
                <a:lnTo>
                  <a:pt x="45" y="343"/>
                </a:lnTo>
                <a:lnTo>
                  <a:pt x="41" y="343"/>
                </a:lnTo>
                <a:lnTo>
                  <a:pt x="38" y="343"/>
                </a:lnTo>
                <a:lnTo>
                  <a:pt x="34" y="343"/>
                </a:lnTo>
                <a:lnTo>
                  <a:pt x="30" y="343"/>
                </a:lnTo>
                <a:lnTo>
                  <a:pt x="27" y="343"/>
                </a:lnTo>
                <a:lnTo>
                  <a:pt x="24" y="343"/>
                </a:lnTo>
                <a:lnTo>
                  <a:pt x="21" y="343"/>
                </a:lnTo>
                <a:lnTo>
                  <a:pt x="18" y="343"/>
                </a:lnTo>
                <a:lnTo>
                  <a:pt x="15" y="343"/>
                </a:lnTo>
                <a:lnTo>
                  <a:pt x="13" y="343"/>
                </a:lnTo>
                <a:lnTo>
                  <a:pt x="11" y="343"/>
                </a:lnTo>
                <a:lnTo>
                  <a:pt x="9" y="343"/>
                </a:lnTo>
                <a:lnTo>
                  <a:pt x="7" y="343"/>
                </a:lnTo>
                <a:lnTo>
                  <a:pt x="5" y="343"/>
                </a:lnTo>
                <a:lnTo>
                  <a:pt x="4" y="343"/>
                </a:lnTo>
                <a:lnTo>
                  <a:pt x="3" y="343"/>
                </a:lnTo>
                <a:lnTo>
                  <a:pt x="2" y="343"/>
                </a:lnTo>
                <a:lnTo>
                  <a:pt x="1" y="343"/>
                </a:lnTo>
                <a:lnTo>
                  <a:pt x="0" y="343"/>
                </a:lnTo>
                <a:lnTo>
                  <a:pt x="0" y="343"/>
                </a:lnTo>
                <a:lnTo>
                  <a:pt x="0" y="343"/>
                </a:lnTo>
                <a:lnTo>
                  <a:pt x="0" y="343"/>
                </a:lnTo>
                <a:lnTo>
                  <a:pt x="0" y="341"/>
                </a:lnTo>
                <a:lnTo>
                  <a:pt x="0" y="336"/>
                </a:lnTo>
                <a:lnTo>
                  <a:pt x="0" y="329"/>
                </a:lnTo>
                <a:lnTo>
                  <a:pt x="0" y="320"/>
                </a:lnTo>
                <a:lnTo>
                  <a:pt x="0" y="309"/>
                </a:lnTo>
                <a:lnTo>
                  <a:pt x="0" y="298"/>
                </a:lnTo>
                <a:lnTo>
                  <a:pt x="0" y="285"/>
                </a:lnTo>
                <a:lnTo>
                  <a:pt x="0" y="273"/>
                </a:lnTo>
                <a:lnTo>
                  <a:pt x="0" y="262"/>
                </a:lnTo>
                <a:lnTo>
                  <a:pt x="0" y="251"/>
                </a:lnTo>
                <a:lnTo>
                  <a:pt x="0" y="242"/>
                </a:lnTo>
                <a:lnTo>
                  <a:pt x="0" y="235"/>
                </a:lnTo>
                <a:lnTo>
                  <a:pt x="0" y="230"/>
                </a:lnTo>
                <a:lnTo>
                  <a:pt x="0" y="228"/>
                </a:lnTo>
                <a:lnTo>
                  <a:pt x="0" y="228"/>
                </a:lnTo>
                <a:lnTo>
                  <a:pt x="0" y="227"/>
                </a:lnTo>
                <a:lnTo>
                  <a:pt x="0" y="222"/>
                </a:lnTo>
                <a:lnTo>
                  <a:pt x="0" y="215"/>
                </a:lnTo>
                <a:lnTo>
                  <a:pt x="0" y="206"/>
                </a:lnTo>
                <a:lnTo>
                  <a:pt x="0" y="195"/>
                </a:lnTo>
                <a:lnTo>
                  <a:pt x="0" y="183"/>
                </a:lnTo>
                <a:lnTo>
                  <a:pt x="0" y="171"/>
                </a:lnTo>
                <a:lnTo>
                  <a:pt x="0" y="159"/>
                </a:lnTo>
                <a:lnTo>
                  <a:pt x="0" y="147"/>
                </a:lnTo>
                <a:lnTo>
                  <a:pt x="0" y="137"/>
                </a:lnTo>
                <a:lnTo>
                  <a:pt x="0" y="128"/>
                </a:lnTo>
                <a:lnTo>
                  <a:pt x="0" y="120"/>
                </a:lnTo>
                <a:lnTo>
                  <a:pt x="0" y="116"/>
                </a:lnTo>
                <a:lnTo>
                  <a:pt x="0" y="114"/>
                </a:lnTo>
                <a:lnTo>
                  <a:pt x="0" y="114"/>
                </a:lnTo>
                <a:lnTo>
                  <a:pt x="0" y="114"/>
                </a:lnTo>
                <a:lnTo>
                  <a:pt x="0" y="114"/>
                </a:lnTo>
                <a:lnTo>
                  <a:pt x="1" y="114"/>
                </a:lnTo>
                <a:lnTo>
                  <a:pt x="2" y="114"/>
                </a:lnTo>
                <a:lnTo>
                  <a:pt x="3" y="114"/>
                </a:lnTo>
                <a:lnTo>
                  <a:pt x="4" y="114"/>
                </a:lnTo>
                <a:lnTo>
                  <a:pt x="5" y="114"/>
                </a:lnTo>
                <a:lnTo>
                  <a:pt x="7" y="114"/>
                </a:lnTo>
                <a:lnTo>
                  <a:pt x="9" y="114"/>
                </a:lnTo>
                <a:lnTo>
                  <a:pt x="11" y="114"/>
                </a:lnTo>
                <a:lnTo>
                  <a:pt x="13" y="114"/>
                </a:lnTo>
                <a:lnTo>
                  <a:pt x="15" y="114"/>
                </a:lnTo>
                <a:lnTo>
                  <a:pt x="18" y="114"/>
                </a:lnTo>
                <a:lnTo>
                  <a:pt x="21" y="114"/>
                </a:lnTo>
                <a:lnTo>
                  <a:pt x="24" y="114"/>
                </a:lnTo>
                <a:lnTo>
                  <a:pt x="27" y="114"/>
                </a:lnTo>
                <a:lnTo>
                  <a:pt x="30" y="114"/>
                </a:lnTo>
                <a:lnTo>
                  <a:pt x="34" y="114"/>
                </a:lnTo>
                <a:lnTo>
                  <a:pt x="38" y="114"/>
                </a:lnTo>
                <a:lnTo>
                  <a:pt x="41" y="114"/>
                </a:lnTo>
                <a:lnTo>
                  <a:pt x="45" y="114"/>
                </a:lnTo>
                <a:lnTo>
                  <a:pt x="50" y="114"/>
                </a:lnTo>
                <a:lnTo>
                  <a:pt x="54" y="114"/>
                </a:lnTo>
                <a:lnTo>
                  <a:pt x="59" y="114"/>
                </a:lnTo>
                <a:lnTo>
                  <a:pt x="63" y="114"/>
                </a:lnTo>
                <a:lnTo>
                  <a:pt x="68" y="114"/>
                </a:lnTo>
                <a:lnTo>
                  <a:pt x="73" y="114"/>
                </a:lnTo>
                <a:lnTo>
                  <a:pt x="79" y="114"/>
                </a:lnTo>
                <a:lnTo>
                  <a:pt x="84" y="114"/>
                </a:lnTo>
                <a:lnTo>
                  <a:pt x="89" y="114"/>
                </a:lnTo>
                <a:lnTo>
                  <a:pt x="95" y="114"/>
                </a:lnTo>
                <a:lnTo>
                  <a:pt x="101" y="114"/>
                </a:lnTo>
                <a:lnTo>
                  <a:pt x="107" y="114"/>
                </a:lnTo>
                <a:lnTo>
                  <a:pt x="113" y="114"/>
                </a:lnTo>
                <a:lnTo>
                  <a:pt x="119" y="114"/>
                </a:lnTo>
                <a:lnTo>
                  <a:pt x="125" y="114"/>
                </a:lnTo>
                <a:lnTo>
                  <a:pt x="132" y="114"/>
                </a:lnTo>
                <a:lnTo>
                  <a:pt x="138" y="114"/>
                </a:lnTo>
                <a:lnTo>
                  <a:pt x="145" y="114"/>
                </a:lnTo>
                <a:lnTo>
                  <a:pt x="152" y="114"/>
                </a:lnTo>
                <a:lnTo>
                  <a:pt x="159" y="114"/>
                </a:lnTo>
                <a:lnTo>
                  <a:pt x="166" y="114"/>
                </a:lnTo>
                <a:lnTo>
                  <a:pt x="173" y="114"/>
                </a:lnTo>
                <a:lnTo>
                  <a:pt x="181" y="114"/>
                </a:lnTo>
                <a:lnTo>
                  <a:pt x="188" y="114"/>
                </a:lnTo>
                <a:lnTo>
                  <a:pt x="196" y="114"/>
                </a:lnTo>
                <a:lnTo>
                  <a:pt x="203" y="114"/>
                </a:lnTo>
                <a:lnTo>
                  <a:pt x="211" y="114"/>
                </a:lnTo>
                <a:lnTo>
                  <a:pt x="219" y="114"/>
                </a:lnTo>
                <a:lnTo>
                  <a:pt x="227" y="114"/>
                </a:lnTo>
                <a:lnTo>
                  <a:pt x="235" y="114"/>
                </a:lnTo>
                <a:lnTo>
                  <a:pt x="243" y="114"/>
                </a:lnTo>
                <a:lnTo>
                  <a:pt x="251" y="114"/>
                </a:lnTo>
                <a:lnTo>
                  <a:pt x="259" y="114"/>
                </a:lnTo>
                <a:lnTo>
                  <a:pt x="268" y="114"/>
                </a:lnTo>
                <a:lnTo>
                  <a:pt x="276" y="114"/>
                </a:lnTo>
                <a:lnTo>
                  <a:pt x="285" y="114"/>
                </a:lnTo>
                <a:lnTo>
                  <a:pt x="293" y="114"/>
                </a:lnTo>
                <a:lnTo>
                  <a:pt x="302" y="114"/>
                </a:lnTo>
                <a:lnTo>
                  <a:pt x="311" y="114"/>
                </a:lnTo>
                <a:lnTo>
                  <a:pt x="320" y="114"/>
                </a:lnTo>
                <a:lnTo>
                  <a:pt x="329" y="114"/>
                </a:lnTo>
                <a:lnTo>
                  <a:pt x="338" y="114"/>
                </a:lnTo>
                <a:lnTo>
                  <a:pt x="347" y="114"/>
                </a:lnTo>
                <a:lnTo>
                  <a:pt x="356" y="114"/>
                </a:lnTo>
                <a:lnTo>
                  <a:pt x="365" y="114"/>
                </a:lnTo>
                <a:lnTo>
                  <a:pt x="374" y="114"/>
                </a:lnTo>
                <a:lnTo>
                  <a:pt x="383" y="114"/>
                </a:lnTo>
                <a:lnTo>
                  <a:pt x="393" y="114"/>
                </a:lnTo>
                <a:lnTo>
                  <a:pt x="402" y="114"/>
                </a:lnTo>
                <a:lnTo>
                  <a:pt x="411" y="114"/>
                </a:lnTo>
                <a:lnTo>
                  <a:pt x="421" y="114"/>
                </a:lnTo>
                <a:lnTo>
                  <a:pt x="430" y="114"/>
                </a:lnTo>
                <a:lnTo>
                  <a:pt x="440" y="114"/>
                </a:lnTo>
                <a:lnTo>
                  <a:pt x="449" y="114"/>
                </a:lnTo>
                <a:lnTo>
                  <a:pt x="459" y="114"/>
                </a:lnTo>
                <a:lnTo>
                  <a:pt x="468" y="114"/>
                </a:lnTo>
                <a:lnTo>
                  <a:pt x="478" y="114"/>
                </a:lnTo>
                <a:lnTo>
                  <a:pt x="487" y="114"/>
                </a:lnTo>
                <a:lnTo>
                  <a:pt x="497" y="114"/>
                </a:lnTo>
                <a:lnTo>
                  <a:pt x="507" y="114"/>
                </a:lnTo>
                <a:lnTo>
                  <a:pt x="516" y="114"/>
                </a:lnTo>
                <a:lnTo>
                  <a:pt x="526" y="114"/>
                </a:lnTo>
                <a:lnTo>
                  <a:pt x="536" y="114"/>
                </a:lnTo>
                <a:lnTo>
                  <a:pt x="545" y="114"/>
                </a:lnTo>
                <a:lnTo>
                  <a:pt x="555" y="114"/>
                </a:lnTo>
                <a:lnTo>
                  <a:pt x="565" y="114"/>
                </a:lnTo>
                <a:lnTo>
                  <a:pt x="574" y="114"/>
                </a:lnTo>
                <a:lnTo>
                  <a:pt x="584" y="114"/>
                </a:lnTo>
                <a:lnTo>
                  <a:pt x="594" y="114"/>
                </a:lnTo>
                <a:lnTo>
                  <a:pt x="603" y="114"/>
                </a:lnTo>
                <a:lnTo>
                  <a:pt x="613" y="114"/>
                </a:lnTo>
                <a:lnTo>
                  <a:pt x="623" y="114"/>
                </a:lnTo>
                <a:lnTo>
                  <a:pt x="632" y="114"/>
                </a:lnTo>
                <a:lnTo>
                  <a:pt x="642" y="114"/>
                </a:lnTo>
                <a:lnTo>
                  <a:pt x="651" y="114"/>
                </a:lnTo>
                <a:lnTo>
                  <a:pt x="661" y="114"/>
                </a:lnTo>
                <a:lnTo>
                  <a:pt x="670" y="114"/>
                </a:lnTo>
                <a:lnTo>
                  <a:pt x="680" y="114"/>
                </a:lnTo>
                <a:lnTo>
                  <a:pt x="689" y="114"/>
                </a:lnTo>
                <a:lnTo>
                  <a:pt x="699" y="114"/>
                </a:lnTo>
                <a:lnTo>
                  <a:pt x="708" y="114"/>
                </a:lnTo>
                <a:lnTo>
                  <a:pt x="718" y="114"/>
                </a:lnTo>
                <a:lnTo>
                  <a:pt x="727" y="114"/>
                </a:lnTo>
                <a:lnTo>
                  <a:pt x="736" y="114"/>
                </a:lnTo>
                <a:lnTo>
                  <a:pt x="745" y="114"/>
                </a:lnTo>
                <a:lnTo>
                  <a:pt x="754" y="114"/>
                </a:lnTo>
                <a:lnTo>
                  <a:pt x="763" y="114"/>
                </a:lnTo>
                <a:lnTo>
                  <a:pt x="772" y="114"/>
                </a:lnTo>
                <a:lnTo>
                  <a:pt x="781" y="114"/>
                </a:lnTo>
                <a:lnTo>
                  <a:pt x="790" y="114"/>
                </a:lnTo>
                <a:lnTo>
                  <a:pt x="799" y="114"/>
                </a:lnTo>
                <a:lnTo>
                  <a:pt x="808" y="114"/>
                </a:lnTo>
                <a:lnTo>
                  <a:pt x="817" y="114"/>
                </a:lnTo>
                <a:lnTo>
                  <a:pt x="825" y="114"/>
                </a:lnTo>
                <a:lnTo>
                  <a:pt x="834" y="114"/>
                </a:lnTo>
                <a:lnTo>
                  <a:pt x="842" y="114"/>
                </a:lnTo>
                <a:lnTo>
                  <a:pt x="851" y="114"/>
                </a:lnTo>
                <a:lnTo>
                  <a:pt x="859" y="114"/>
                </a:lnTo>
                <a:lnTo>
                  <a:pt x="867" y="114"/>
                </a:lnTo>
                <a:lnTo>
                  <a:pt x="875" y="114"/>
                </a:lnTo>
                <a:lnTo>
                  <a:pt x="883" y="114"/>
                </a:lnTo>
                <a:lnTo>
                  <a:pt x="891" y="114"/>
                </a:lnTo>
                <a:lnTo>
                  <a:pt x="899" y="114"/>
                </a:lnTo>
                <a:lnTo>
                  <a:pt x="907" y="114"/>
                </a:lnTo>
                <a:lnTo>
                  <a:pt x="915" y="114"/>
                </a:lnTo>
                <a:lnTo>
                  <a:pt x="922" y="114"/>
                </a:lnTo>
                <a:lnTo>
                  <a:pt x="929" y="114"/>
                </a:lnTo>
                <a:lnTo>
                  <a:pt x="937" y="114"/>
                </a:lnTo>
                <a:lnTo>
                  <a:pt x="937" y="114"/>
                </a:lnTo>
                <a:lnTo>
                  <a:pt x="937" y="112"/>
                </a:lnTo>
                <a:lnTo>
                  <a:pt x="937" y="108"/>
                </a:lnTo>
                <a:lnTo>
                  <a:pt x="937" y="101"/>
                </a:lnTo>
                <a:lnTo>
                  <a:pt x="937" y="91"/>
                </a:lnTo>
                <a:lnTo>
                  <a:pt x="937" y="81"/>
                </a:lnTo>
                <a:lnTo>
                  <a:pt x="937" y="69"/>
                </a:lnTo>
                <a:lnTo>
                  <a:pt x="937" y="57"/>
                </a:lnTo>
                <a:lnTo>
                  <a:pt x="937" y="45"/>
                </a:lnTo>
                <a:lnTo>
                  <a:pt x="937" y="33"/>
                </a:lnTo>
                <a:lnTo>
                  <a:pt x="937" y="23"/>
                </a:lnTo>
                <a:lnTo>
                  <a:pt x="937" y="13"/>
                </a:lnTo>
                <a:lnTo>
                  <a:pt x="937" y="6"/>
                </a:lnTo>
                <a:lnTo>
                  <a:pt x="937" y="2"/>
                </a:lnTo>
                <a:lnTo>
                  <a:pt x="937" y="0"/>
                </a:lnTo>
                <a:lnTo>
                  <a:pt x="937" y="0"/>
                </a:lnTo>
                <a:lnTo>
                  <a:pt x="937" y="0"/>
                </a:lnTo>
                <a:lnTo>
                  <a:pt x="938" y="1"/>
                </a:lnTo>
                <a:lnTo>
                  <a:pt x="940" y="2"/>
                </a:lnTo>
                <a:lnTo>
                  <a:pt x="942" y="4"/>
                </a:lnTo>
                <a:lnTo>
                  <a:pt x="945" y="6"/>
                </a:lnTo>
                <a:lnTo>
                  <a:pt x="948" y="8"/>
                </a:lnTo>
                <a:lnTo>
                  <a:pt x="952" y="11"/>
                </a:lnTo>
                <a:lnTo>
                  <a:pt x="957" y="14"/>
                </a:lnTo>
                <a:lnTo>
                  <a:pt x="962" y="18"/>
                </a:lnTo>
                <a:lnTo>
                  <a:pt x="967" y="22"/>
                </a:lnTo>
                <a:lnTo>
                  <a:pt x="973" y="26"/>
                </a:lnTo>
                <a:lnTo>
                  <a:pt x="979" y="31"/>
                </a:lnTo>
                <a:lnTo>
                  <a:pt x="986" y="36"/>
                </a:lnTo>
                <a:lnTo>
                  <a:pt x="992" y="41"/>
                </a:lnTo>
                <a:lnTo>
                  <a:pt x="1000" y="46"/>
                </a:lnTo>
                <a:lnTo>
                  <a:pt x="1007" y="51"/>
                </a:lnTo>
                <a:lnTo>
                  <a:pt x="1015" y="57"/>
                </a:lnTo>
                <a:lnTo>
                  <a:pt x="1023" y="63"/>
                </a:lnTo>
                <a:lnTo>
                  <a:pt x="1031" y="69"/>
                </a:lnTo>
                <a:lnTo>
                  <a:pt x="1040" y="75"/>
                </a:lnTo>
                <a:lnTo>
                  <a:pt x="1048" y="82"/>
                </a:lnTo>
                <a:lnTo>
                  <a:pt x="1057" y="88"/>
                </a:lnTo>
                <a:lnTo>
                  <a:pt x="1066" y="94"/>
                </a:lnTo>
                <a:lnTo>
                  <a:pt x="1075" y="101"/>
                </a:lnTo>
                <a:lnTo>
                  <a:pt x="1084" y="108"/>
                </a:lnTo>
                <a:lnTo>
                  <a:pt x="1093" y="114"/>
                </a:lnTo>
                <a:lnTo>
                  <a:pt x="1102" y="121"/>
                </a:lnTo>
                <a:lnTo>
                  <a:pt x="1111" y="127"/>
                </a:lnTo>
                <a:lnTo>
                  <a:pt x="1120" y="134"/>
                </a:lnTo>
                <a:lnTo>
                  <a:pt x="1129" y="140"/>
                </a:lnTo>
                <a:lnTo>
                  <a:pt x="1137" y="147"/>
                </a:lnTo>
                <a:lnTo>
                  <a:pt x="1146" y="153"/>
                </a:lnTo>
                <a:lnTo>
                  <a:pt x="1154" y="159"/>
                </a:lnTo>
                <a:lnTo>
                  <a:pt x="1163" y="165"/>
                </a:lnTo>
                <a:lnTo>
                  <a:pt x="1171" y="171"/>
                </a:lnTo>
                <a:lnTo>
                  <a:pt x="1178" y="177"/>
                </a:lnTo>
                <a:lnTo>
                  <a:pt x="1186" y="182"/>
                </a:lnTo>
                <a:lnTo>
                  <a:pt x="1193" y="188"/>
                </a:lnTo>
                <a:lnTo>
                  <a:pt x="1200" y="193"/>
                </a:lnTo>
                <a:lnTo>
                  <a:pt x="1207" y="197"/>
                </a:lnTo>
                <a:lnTo>
                  <a:pt x="1213" y="202"/>
                </a:lnTo>
                <a:lnTo>
                  <a:pt x="1219" y="206"/>
                </a:lnTo>
                <a:lnTo>
                  <a:pt x="1224" y="210"/>
                </a:lnTo>
                <a:lnTo>
                  <a:pt x="1229" y="214"/>
                </a:lnTo>
                <a:lnTo>
                  <a:pt x="1233" y="217"/>
                </a:lnTo>
                <a:lnTo>
                  <a:pt x="1237" y="220"/>
                </a:lnTo>
                <a:lnTo>
                  <a:pt x="1241" y="222"/>
                </a:lnTo>
                <a:lnTo>
                  <a:pt x="1244" y="224"/>
                </a:lnTo>
                <a:lnTo>
                  <a:pt x="1246" y="226"/>
                </a:lnTo>
                <a:lnTo>
                  <a:pt x="1247" y="227"/>
                </a:lnTo>
                <a:lnTo>
                  <a:pt x="1248" y="228"/>
                </a:lnTo>
                <a:lnTo>
                  <a:pt x="1249" y="228"/>
                </a:lnTo>
                <a:lnTo>
                  <a:pt x="1249" y="228"/>
                </a:lnTo>
                <a:lnTo>
                  <a:pt x="1249" y="228"/>
                </a:lnTo>
                <a:close/>
              </a:path>
            </a:pathLst>
          </a:custGeom>
          <a:noFill/>
          <a:ln w="66600">
            <a:solidFill>
              <a:srgbClr val="ffff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8"/>
          <p:cNvSpPr/>
          <p:nvPr/>
        </p:nvSpPr>
        <p:spPr>
          <a:xfrm>
            <a:off x="987480" y="2208240"/>
            <a:ext cx="1590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mili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9"/>
          <p:cNvSpPr/>
          <p:nvPr/>
        </p:nvSpPr>
        <p:spPr>
          <a:xfrm>
            <a:off x="965160" y="2185920"/>
            <a:ext cx="159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900" spc="-1" strike="noStrike">
                <a:solidFill>
                  <a:srgbClr val="ffff90"/>
                </a:solidFill>
                <a:latin typeface="Arial"/>
              </a:rPr>
              <a:t>Famili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0"/>
          <p:cNvSpPr/>
          <p:nvPr/>
        </p:nvSpPr>
        <p:spPr>
          <a:xfrm>
            <a:off x="3016080" y="2124000"/>
            <a:ext cx="1235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ré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1"/>
          <p:cNvSpPr/>
          <p:nvPr/>
        </p:nvSpPr>
        <p:spPr>
          <a:xfrm>
            <a:off x="4334040" y="3027240"/>
            <a:ext cx="1108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2"/>
          <p:cNvSpPr/>
          <p:nvPr/>
        </p:nvSpPr>
        <p:spPr>
          <a:xfrm>
            <a:off x="5448240" y="2033640"/>
            <a:ext cx="1363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eg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3"/>
          <p:cNvSpPr/>
          <p:nvPr/>
        </p:nvSpPr>
        <p:spPr>
          <a:xfrm>
            <a:off x="6364440" y="2957400"/>
            <a:ext cx="1544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posa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3"/>
          <p:cNvSpPr/>
          <p:nvPr/>
        </p:nvSpPr>
        <p:spPr>
          <a:xfrm>
            <a:off x="3240" y="-152280"/>
            <a:ext cx="9804240" cy="7197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4"/>
          <p:cNvSpPr/>
          <p:nvPr/>
        </p:nvSpPr>
        <p:spPr>
          <a:xfrm rot="5340000">
            <a:off x="3609360" y="4361040"/>
            <a:ext cx="1136520" cy="1136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66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5"/>
          <p:cNvSpPr/>
          <p:nvPr/>
        </p:nvSpPr>
        <p:spPr>
          <a:xfrm rot="5340000">
            <a:off x="5809680" y="4344840"/>
            <a:ext cx="1136520" cy="1133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66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6"/>
          <p:cNvSpPr/>
          <p:nvPr/>
        </p:nvSpPr>
        <p:spPr>
          <a:xfrm>
            <a:off x="2479680" y="4962600"/>
            <a:ext cx="1111320" cy="3312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00" h="21">
                <a:moveTo>
                  <a:pt x="0" y="0"/>
                </a:moveTo>
                <a:lnTo>
                  <a:pt x="19" y="21"/>
                </a:lnTo>
                <a:lnTo>
                  <a:pt x="0" y="0"/>
                </a:lnTo>
                <a:lnTo>
                  <a:pt x="700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7"/>
          <p:cNvSpPr/>
          <p:nvPr/>
        </p:nvSpPr>
        <p:spPr>
          <a:xfrm>
            <a:off x="4757760" y="4952880"/>
            <a:ext cx="1058760" cy="360"/>
          </a:xfrm>
          <a:custGeom>
            <a:avLst/>
            <a:gdLst/>
            <a:ahLst/>
            <a:rect l="l" t="t" r="r" b="b"/>
            <a:pathLst>
              <a:path w="667" h="0">
                <a:moveTo>
                  <a:pt x="0" y="0"/>
                </a:moveTo>
                <a:lnTo>
                  <a:pt x="667" y="0"/>
                </a:lnTo>
              </a:path>
            </a:pathLst>
          </a:custGeom>
          <a:noFill/>
          <a:ln w="66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3551400" y="4748040"/>
            <a:ext cx="1271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2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eli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5526000" y="4791240"/>
            <a:ext cx="1752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tana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0"/>
          <p:cNvSpPr/>
          <p:nvPr/>
        </p:nvSpPr>
        <p:spPr>
          <a:xfrm rot="5340000">
            <a:off x="1301040" y="4344840"/>
            <a:ext cx="1136520" cy="113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146240" y="4724280"/>
            <a:ext cx="1520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300" spc="-1" strike="noStrike">
                <a:solidFill>
                  <a:srgbClr val="00007f"/>
                </a:solidFill>
                <a:latin typeface="Arial"/>
              </a:rPr>
              <a:t>Jes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2"/>
          <p:cNvSpPr/>
          <p:nvPr/>
        </p:nvSpPr>
        <p:spPr>
          <a:xfrm rot="5340000">
            <a:off x="4342680" y="2548080"/>
            <a:ext cx="1136520" cy="11365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66600">
            <a:solidFill>
              <a:srgbClr val="fff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3"/>
          <p:cNvSpPr/>
          <p:nvPr/>
        </p:nvSpPr>
        <p:spPr>
          <a:xfrm rot="5340000">
            <a:off x="2998080" y="1746000"/>
            <a:ext cx="1136880" cy="1133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66600">
            <a:solidFill>
              <a:srgbClr val="fff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14"/>
          <p:cNvSpPr/>
          <p:nvPr/>
        </p:nvSpPr>
        <p:spPr>
          <a:xfrm rot="5340000">
            <a:off x="5544360" y="1698480"/>
            <a:ext cx="1133640" cy="1133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66600">
            <a:solidFill>
              <a:srgbClr val="fff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5"/>
          <p:cNvSpPr/>
          <p:nvPr/>
        </p:nvSpPr>
        <p:spPr>
          <a:xfrm rot="5340000">
            <a:off x="6524280" y="2506320"/>
            <a:ext cx="1133280" cy="11336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66600">
            <a:solidFill>
              <a:srgbClr val="fff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6"/>
          <p:cNvSpPr/>
          <p:nvPr/>
        </p:nvSpPr>
        <p:spPr>
          <a:xfrm>
            <a:off x="2065320" y="2743200"/>
            <a:ext cx="1181160" cy="164952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649520"/>
              <a:gd name="textAreaBottom" fmla="*/ 1649880 h 1649520"/>
            </a:gdLst>
            <a:ahLst/>
            <a:rect l="textAreaLeft" t="textAreaTop" r="textAreaRight" b="textAreaBottom"/>
            <a:pathLst>
              <a:path w="744" h="1039">
                <a:moveTo>
                  <a:pt x="0" y="1039"/>
                </a:moveTo>
                <a:lnTo>
                  <a:pt x="744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7"/>
          <p:cNvSpPr/>
          <p:nvPr/>
        </p:nvSpPr>
        <p:spPr>
          <a:xfrm>
            <a:off x="3983040" y="2655720"/>
            <a:ext cx="426960" cy="223920"/>
          </a:xfrm>
          <a:custGeom>
            <a:avLst/>
            <a:gdLst>
              <a:gd name="textAreaLeft" fmla="*/ 0 w 426960"/>
              <a:gd name="textAreaRight" fmla="*/ 427320 w 426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69" h="141">
                <a:moveTo>
                  <a:pt x="0" y="0"/>
                </a:moveTo>
                <a:lnTo>
                  <a:pt x="269" y="141"/>
                </a:lnTo>
              </a:path>
            </a:pathLst>
          </a:custGeom>
          <a:noFill/>
          <a:ln w="66600">
            <a:solidFill>
              <a:srgbClr val="ffff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8"/>
          <p:cNvSpPr/>
          <p:nvPr/>
        </p:nvSpPr>
        <p:spPr>
          <a:xfrm>
            <a:off x="5327640" y="2624040"/>
            <a:ext cx="325440" cy="203400"/>
          </a:xfrm>
          <a:custGeom>
            <a:avLst/>
            <a:gdLst>
              <a:gd name="textAreaLeft" fmla="*/ 0 w 325440"/>
              <a:gd name="textAreaRight" fmla="*/ 325800 w 3254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205" h="128">
                <a:moveTo>
                  <a:pt x="0" y="128"/>
                </a:moveTo>
                <a:lnTo>
                  <a:pt x="205" y="0"/>
                </a:lnTo>
              </a:path>
            </a:pathLst>
          </a:custGeom>
          <a:noFill/>
          <a:ln w="66600">
            <a:solidFill>
              <a:srgbClr val="ffff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9"/>
          <p:cNvSpPr/>
          <p:nvPr/>
        </p:nvSpPr>
        <p:spPr>
          <a:xfrm>
            <a:off x="5467320" y="3108240"/>
            <a:ext cx="1058760" cy="2088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667" h="13">
                <a:moveTo>
                  <a:pt x="0" y="13"/>
                </a:moveTo>
                <a:lnTo>
                  <a:pt x="667" y="0"/>
                </a:lnTo>
              </a:path>
            </a:pathLst>
          </a:custGeom>
          <a:noFill/>
          <a:ln w="66600">
            <a:solidFill>
              <a:srgbClr val="ffff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3016080" y="2124000"/>
            <a:ext cx="1235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ré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4334040" y="3027240"/>
            <a:ext cx="1108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5448240" y="2033640"/>
            <a:ext cx="1363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eg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3"/>
          <p:cNvSpPr/>
          <p:nvPr/>
        </p:nvSpPr>
        <p:spPr>
          <a:xfrm>
            <a:off x="6364440" y="2957400"/>
            <a:ext cx="1544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posa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4"/>
          <p:cNvSpPr/>
          <p:nvPr/>
        </p:nvSpPr>
        <p:spPr>
          <a:xfrm>
            <a:off x="1243080" y="876240"/>
            <a:ext cx="83786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2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Arial"/>
              </a:rPr>
              <a:t>Estableció una iglesia local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5"/>
          <p:cNvSpPr/>
          <p:nvPr/>
        </p:nvSpPr>
        <p:spPr>
          <a:xfrm>
            <a:off x="2612880" y="1349280"/>
            <a:ext cx="5523120" cy="4473720"/>
          </a:xfrm>
          <a:prstGeom prst="rect">
            <a:avLst/>
          </a:prstGeom>
          <a:noFill/>
          <a:ln w="66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6"/>
          <p:cNvSpPr/>
          <p:nvPr/>
        </p:nvSpPr>
        <p:spPr>
          <a:xfrm>
            <a:off x="1587600" y="5908680"/>
            <a:ext cx="7789680" cy="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2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Arial"/>
              </a:rPr>
              <a:t>de la región de Betsaida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(Juan 1:4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3240" y="-152280"/>
            <a:ext cx="9804240" cy="7197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4"/>
          <p:cNvSpPr/>
          <p:nvPr/>
        </p:nvSpPr>
        <p:spPr>
          <a:xfrm rot="5340000">
            <a:off x="3712680" y="1292040"/>
            <a:ext cx="2286000" cy="527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"/>
          <p:cNvSpPr/>
          <p:nvPr/>
        </p:nvSpPr>
        <p:spPr>
          <a:xfrm rot="5340000">
            <a:off x="3712680" y="1109520"/>
            <a:ext cx="2286000" cy="52768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 rot="5340000">
            <a:off x="4425480" y="2295360"/>
            <a:ext cx="936720" cy="3203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7"/>
          <p:cNvSpPr/>
          <p:nvPr/>
        </p:nvSpPr>
        <p:spPr>
          <a:xfrm rot="5340000">
            <a:off x="4425480" y="2112840"/>
            <a:ext cx="936720" cy="3203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8"/>
          <p:cNvSpPr/>
          <p:nvPr/>
        </p:nvSpPr>
        <p:spPr>
          <a:xfrm>
            <a:off x="3740040" y="968400"/>
            <a:ext cx="1944720" cy="27604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760480"/>
              <a:gd name="textAreaBottom" fmla="*/ 2760840 h 2760480"/>
            </a:gdLst>
            <a:ahLst/>
            <a:rect l="textAreaLeft" t="textAreaTop" r="textAreaRight" b="textAreaBottom"/>
            <a:pathLst>
              <a:path w="1225" h="1739">
                <a:moveTo>
                  <a:pt x="741" y="0"/>
                </a:moveTo>
                <a:lnTo>
                  <a:pt x="545" y="18"/>
                </a:lnTo>
                <a:lnTo>
                  <a:pt x="211" y="158"/>
                </a:lnTo>
                <a:lnTo>
                  <a:pt x="95" y="519"/>
                </a:lnTo>
                <a:lnTo>
                  <a:pt x="0" y="876"/>
                </a:lnTo>
                <a:lnTo>
                  <a:pt x="110" y="1327"/>
                </a:lnTo>
                <a:lnTo>
                  <a:pt x="516" y="1688"/>
                </a:lnTo>
                <a:lnTo>
                  <a:pt x="591" y="1739"/>
                </a:lnTo>
                <a:lnTo>
                  <a:pt x="748" y="1730"/>
                </a:lnTo>
                <a:lnTo>
                  <a:pt x="865" y="1681"/>
                </a:lnTo>
                <a:lnTo>
                  <a:pt x="944" y="1635"/>
                </a:lnTo>
                <a:lnTo>
                  <a:pt x="1023" y="1556"/>
                </a:lnTo>
                <a:lnTo>
                  <a:pt x="1097" y="1398"/>
                </a:lnTo>
                <a:lnTo>
                  <a:pt x="1225" y="1150"/>
                </a:lnTo>
                <a:lnTo>
                  <a:pt x="1170" y="599"/>
                </a:lnTo>
                <a:lnTo>
                  <a:pt x="1017" y="211"/>
                </a:lnTo>
                <a:lnTo>
                  <a:pt x="872" y="49"/>
                </a:lnTo>
                <a:lnTo>
                  <a:pt x="741" y="0"/>
                </a:lnTo>
                <a:lnTo>
                  <a:pt x="741" y="0"/>
                </a:lnTo>
                <a:lnTo>
                  <a:pt x="741" y="0"/>
                </a:lnTo>
                <a:close/>
              </a:path>
            </a:pathLst>
          </a:custGeom>
          <a:solidFill>
            <a:srgbClr val="ffd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9"/>
          <p:cNvSpPr/>
          <p:nvPr/>
        </p:nvSpPr>
        <p:spPr>
          <a:xfrm>
            <a:off x="4870440" y="1911240"/>
            <a:ext cx="387360" cy="144720"/>
          </a:xfrm>
          <a:custGeom>
            <a:avLst/>
            <a:gdLst>
              <a:gd name="textAreaLeft" fmla="*/ 0 w 387360"/>
              <a:gd name="textAreaRight" fmla="*/ 387720 w 387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44" h="91">
                <a:moveTo>
                  <a:pt x="0" y="78"/>
                </a:moveTo>
                <a:lnTo>
                  <a:pt x="52" y="30"/>
                </a:lnTo>
                <a:lnTo>
                  <a:pt x="98" y="7"/>
                </a:lnTo>
                <a:lnTo>
                  <a:pt x="171" y="0"/>
                </a:lnTo>
                <a:lnTo>
                  <a:pt x="244" y="44"/>
                </a:lnTo>
                <a:lnTo>
                  <a:pt x="171" y="84"/>
                </a:lnTo>
                <a:lnTo>
                  <a:pt x="88" y="91"/>
                </a:lnTo>
                <a:lnTo>
                  <a:pt x="37" y="89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0"/>
          <p:cNvSpPr/>
          <p:nvPr/>
        </p:nvSpPr>
        <p:spPr>
          <a:xfrm>
            <a:off x="4994280" y="1928880"/>
            <a:ext cx="138240" cy="119160"/>
          </a:xfrm>
          <a:custGeom>
            <a:avLst/>
            <a:gdLst>
              <a:gd name="textAreaLeft" fmla="*/ 0 w 138240"/>
              <a:gd name="textAreaRight" fmla="*/ 138240 w 1382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7" h="75">
                <a:moveTo>
                  <a:pt x="5" y="0"/>
                </a:moveTo>
                <a:lnTo>
                  <a:pt x="0" y="41"/>
                </a:lnTo>
                <a:lnTo>
                  <a:pt x="17" y="64"/>
                </a:lnTo>
                <a:lnTo>
                  <a:pt x="41" y="75"/>
                </a:lnTo>
                <a:lnTo>
                  <a:pt x="68" y="67"/>
                </a:lnTo>
                <a:lnTo>
                  <a:pt x="87" y="47"/>
                </a:lnTo>
                <a:lnTo>
                  <a:pt x="85" y="4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1"/>
          <p:cNvSpPr/>
          <p:nvPr/>
        </p:nvSpPr>
        <p:spPr>
          <a:xfrm>
            <a:off x="4089240" y="2093760"/>
            <a:ext cx="306720" cy="119160"/>
          </a:xfrm>
          <a:custGeom>
            <a:avLst/>
            <a:gdLst>
              <a:gd name="textAreaLeft" fmla="*/ 0 w 306720"/>
              <a:gd name="textAreaRight" fmla="*/ 307080 w 3067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93" h="75">
                <a:moveTo>
                  <a:pt x="0" y="57"/>
                </a:moveTo>
                <a:lnTo>
                  <a:pt x="49" y="5"/>
                </a:lnTo>
                <a:lnTo>
                  <a:pt x="134" y="0"/>
                </a:lnTo>
                <a:lnTo>
                  <a:pt x="193" y="21"/>
                </a:lnTo>
                <a:lnTo>
                  <a:pt x="188" y="38"/>
                </a:lnTo>
                <a:lnTo>
                  <a:pt x="129" y="61"/>
                </a:lnTo>
                <a:lnTo>
                  <a:pt x="56" y="75"/>
                </a:lnTo>
                <a:lnTo>
                  <a:pt x="12" y="73"/>
                </a:lnTo>
                <a:lnTo>
                  <a:pt x="0" y="57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2"/>
          <p:cNvSpPr/>
          <p:nvPr/>
        </p:nvSpPr>
        <p:spPr>
          <a:xfrm>
            <a:off x="4162320" y="2100240"/>
            <a:ext cx="155520" cy="106560"/>
          </a:xfrm>
          <a:custGeom>
            <a:avLst/>
            <a:gdLst>
              <a:gd name="textAreaLeft" fmla="*/ 0 w 155520"/>
              <a:gd name="textAreaRight" fmla="*/ 155880 w 155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98" h="67">
                <a:moveTo>
                  <a:pt x="0" y="5"/>
                </a:moveTo>
                <a:lnTo>
                  <a:pt x="8" y="46"/>
                </a:lnTo>
                <a:lnTo>
                  <a:pt x="21" y="57"/>
                </a:lnTo>
                <a:lnTo>
                  <a:pt x="62" y="67"/>
                </a:lnTo>
                <a:lnTo>
                  <a:pt x="90" y="41"/>
                </a:lnTo>
                <a:lnTo>
                  <a:pt x="98" y="10"/>
                </a:lnTo>
                <a:lnTo>
                  <a:pt x="83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3"/>
          <p:cNvSpPr/>
          <p:nvPr/>
        </p:nvSpPr>
        <p:spPr>
          <a:xfrm>
            <a:off x="4438800" y="2757600"/>
            <a:ext cx="696600" cy="247680"/>
          </a:xfrm>
          <a:custGeom>
            <a:avLst/>
            <a:gdLst>
              <a:gd name="textAreaLeft" fmla="*/ 0 w 696600"/>
              <a:gd name="textAreaRight" fmla="*/ 696960 w 6966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9" h="156">
                <a:moveTo>
                  <a:pt x="0" y="69"/>
                </a:moveTo>
                <a:lnTo>
                  <a:pt x="29" y="58"/>
                </a:lnTo>
                <a:lnTo>
                  <a:pt x="151" y="46"/>
                </a:lnTo>
                <a:lnTo>
                  <a:pt x="216" y="44"/>
                </a:lnTo>
                <a:lnTo>
                  <a:pt x="364" y="1"/>
                </a:lnTo>
                <a:lnTo>
                  <a:pt x="439" y="0"/>
                </a:lnTo>
                <a:lnTo>
                  <a:pt x="426" y="60"/>
                </a:lnTo>
                <a:lnTo>
                  <a:pt x="345" y="123"/>
                </a:lnTo>
                <a:lnTo>
                  <a:pt x="185" y="156"/>
                </a:lnTo>
                <a:lnTo>
                  <a:pt x="104" y="144"/>
                </a:lnTo>
                <a:lnTo>
                  <a:pt x="78" y="135"/>
                </a:lnTo>
                <a:lnTo>
                  <a:pt x="40" y="111"/>
                </a:lnTo>
                <a:lnTo>
                  <a:pt x="24" y="87"/>
                </a:lnTo>
                <a:lnTo>
                  <a:pt x="0" y="69"/>
                </a:lnTo>
                <a:lnTo>
                  <a:pt x="0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14"/>
          <p:cNvSpPr/>
          <p:nvPr/>
        </p:nvSpPr>
        <p:spPr>
          <a:xfrm>
            <a:off x="4402080" y="2738520"/>
            <a:ext cx="528840" cy="137880"/>
          </a:xfrm>
          <a:custGeom>
            <a:avLst/>
            <a:gdLst>
              <a:gd name="textAreaLeft" fmla="*/ 0 w 528840"/>
              <a:gd name="textAreaRight" fmla="*/ 529200 w 5288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333" h="87">
                <a:moveTo>
                  <a:pt x="0" y="87"/>
                </a:moveTo>
                <a:lnTo>
                  <a:pt x="60" y="60"/>
                </a:lnTo>
                <a:lnTo>
                  <a:pt x="103" y="51"/>
                </a:lnTo>
                <a:lnTo>
                  <a:pt x="126" y="42"/>
                </a:lnTo>
                <a:lnTo>
                  <a:pt x="152" y="26"/>
                </a:lnTo>
                <a:lnTo>
                  <a:pt x="243" y="15"/>
                </a:lnTo>
                <a:lnTo>
                  <a:pt x="333" y="0"/>
                </a:lnTo>
                <a:lnTo>
                  <a:pt x="311" y="40"/>
                </a:lnTo>
                <a:lnTo>
                  <a:pt x="222" y="58"/>
                </a:lnTo>
                <a:lnTo>
                  <a:pt x="103" y="63"/>
                </a:lnTo>
                <a:lnTo>
                  <a:pt x="0" y="87"/>
                </a:lnTo>
                <a:lnTo>
                  <a:pt x="0" y="87"/>
                </a:lnTo>
                <a:lnTo>
                  <a:pt x="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5"/>
          <p:cNvSpPr/>
          <p:nvPr/>
        </p:nvSpPr>
        <p:spPr>
          <a:xfrm>
            <a:off x="4495680" y="2927520"/>
            <a:ext cx="506520" cy="129960"/>
          </a:xfrm>
          <a:custGeom>
            <a:avLst/>
            <a:gdLst>
              <a:gd name="textAreaLeft" fmla="*/ 0 w 506520"/>
              <a:gd name="textAreaRight" fmla="*/ 506880 w 5065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19" h="82">
                <a:moveTo>
                  <a:pt x="0" y="0"/>
                </a:moveTo>
                <a:lnTo>
                  <a:pt x="58" y="34"/>
                </a:lnTo>
                <a:lnTo>
                  <a:pt x="148" y="44"/>
                </a:lnTo>
                <a:lnTo>
                  <a:pt x="248" y="30"/>
                </a:lnTo>
                <a:lnTo>
                  <a:pt x="308" y="8"/>
                </a:lnTo>
                <a:lnTo>
                  <a:pt x="319" y="41"/>
                </a:lnTo>
                <a:lnTo>
                  <a:pt x="283" y="66"/>
                </a:lnTo>
                <a:lnTo>
                  <a:pt x="235" y="82"/>
                </a:lnTo>
                <a:lnTo>
                  <a:pt x="257" y="59"/>
                </a:lnTo>
                <a:lnTo>
                  <a:pt x="250" y="51"/>
                </a:lnTo>
                <a:lnTo>
                  <a:pt x="210" y="55"/>
                </a:lnTo>
                <a:lnTo>
                  <a:pt x="150" y="63"/>
                </a:lnTo>
                <a:lnTo>
                  <a:pt x="108" y="61"/>
                </a:lnTo>
                <a:lnTo>
                  <a:pt x="68" y="53"/>
                </a:lnTo>
                <a:lnTo>
                  <a:pt x="36" y="3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6"/>
          <p:cNvSpPr/>
          <p:nvPr/>
        </p:nvSpPr>
        <p:spPr>
          <a:xfrm>
            <a:off x="5091120" y="2782800"/>
            <a:ext cx="85680" cy="100080"/>
          </a:xfrm>
          <a:custGeom>
            <a:avLst/>
            <a:gdLst>
              <a:gd name="textAreaLeft" fmla="*/ 0 w 85680"/>
              <a:gd name="textAreaRight" fmla="*/ 85680 w 856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3">
                <a:moveTo>
                  <a:pt x="36" y="6"/>
                </a:moveTo>
                <a:lnTo>
                  <a:pt x="0" y="61"/>
                </a:lnTo>
                <a:lnTo>
                  <a:pt x="26" y="63"/>
                </a:lnTo>
                <a:lnTo>
                  <a:pt x="50" y="30"/>
                </a:lnTo>
                <a:lnTo>
                  <a:pt x="54" y="0"/>
                </a:lnTo>
                <a:lnTo>
                  <a:pt x="36" y="6"/>
                </a:lnTo>
                <a:lnTo>
                  <a:pt x="36" y="6"/>
                </a:lnTo>
                <a:lnTo>
                  <a:pt x="36" y="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7"/>
          <p:cNvSpPr/>
          <p:nvPr/>
        </p:nvSpPr>
        <p:spPr>
          <a:xfrm>
            <a:off x="4219560" y="2498760"/>
            <a:ext cx="239760" cy="441360"/>
          </a:xfrm>
          <a:custGeom>
            <a:avLst/>
            <a:gdLst>
              <a:gd name="textAreaLeft" fmla="*/ 0 w 239760"/>
              <a:gd name="textAreaRight" fmla="*/ 240120 w 2397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151" h="278">
                <a:moveTo>
                  <a:pt x="29" y="278"/>
                </a:moveTo>
                <a:lnTo>
                  <a:pt x="10" y="242"/>
                </a:lnTo>
                <a:lnTo>
                  <a:pt x="0" y="197"/>
                </a:lnTo>
                <a:lnTo>
                  <a:pt x="14" y="154"/>
                </a:lnTo>
                <a:lnTo>
                  <a:pt x="31" y="129"/>
                </a:lnTo>
                <a:lnTo>
                  <a:pt x="57" y="108"/>
                </a:lnTo>
                <a:lnTo>
                  <a:pt x="81" y="84"/>
                </a:lnTo>
                <a:lnTo>
                  <a:pt x="109" y="51"/>
                </a:lnTo>
                <a:lnTo>
                  <a:pt x="151" y="0"/>
                </a:lnTo>
                <a:lnTo>
                  <a:pt x="98" y="105"/>
                </a:lnTo>
                <a:lnTo>
                  <a:pt x="36" y="188"/>
                </a:lnTo>
                <a:lnTo>
                  <a:pt x="29" y="278"/>
                </a:lnTo>
                <a:lnTo>
                  <a:pt x="29" y="278"/>
                </a:lnTo>
                <a:lnTo>
                  <a:pt x="29" y="278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18"/>
          <p:cNvSpPr/>
          <p:nvPr/>
        </p:nvSpPr>
        <p:spPr>
          <a:xfrm>
            <a:off x="5059440" y="2495520"/>
            <a:ext cx="282600" cy="243000"/>
          </a:xfrm>
          <a:custGeom>
            <a:avLst/>
            <a:gdLst>
              <a:gd name="textAreaLeft" fmla="*/ 0 w 282600"/>
              <a:gd name="textAreaRight" fmla="*/ 282960 w 282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78" h="153">
                <a:moveTo>
                  <a:pt x="0" y="0"/>
                </a:moveTo>
                <a:lnTo>
                  <a:pt x="51" y="22"/>
                </a:lnTo>
                <a:lnTo>
                  <a:pt x="91" y="42"/>
                </a:lnTo>
                <a:lnTo>
                  <a:pt x="139" y="61"/>
                </a:lnTo>
                <a:lnTo>
                  <a:pt x="173" y="88"/>
                </a:lnTo>
                <a:lnTo>
                  <a:pt x="178" y="119"/>
                </a:lnTo>
                <a:lnTo>
                  <a:pt x="157" y="153"/>
                </a:lnTo>
                <a:lnTo>
                  <a:pt x="143" y="102"/>
                </a:lnTo>
                <a:lnTo>
                  <a:pt x="83" y="65"/>
                </a:lnTo>
                <a:lnTo>
                  <a:pt x="42" y="44"/>
                </a:lnTo>
                <a:lnTo>
                  <a:pt x="8" y="1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19"/>
          <p:cNvSpPr/>
          <p:nvPr/>
        </p:nvSpPr>
        <p:spPr>
          <a:xfrm>
            <a:off x="4638600" y="1878120"/>
            <a:ext cx="411120" cy="757080"/>
          </a:xfrm>
          <a:custGeom>
            <a:avLst/>
            <a:gdLst>
              <a:gd name="textAreaLeft" fmla="*/ 0 w 411120"/>
              <a:gd name="textAreaRight" fmla="*/ 411480 w 41112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59" h="477">
                <a:moveTo>
                  <a:pt x="222" y="0"/>
                </a:moveTo>
                <a:lnTo>
                  <a:pt x="189" y="0"/>
                </a:lnTo>
                <a:lnTo>
                  <a:pt x="162" y="19"/>
                </a:lnTo>
                <a:lnTo>
                  <a:pt x="140" y="48"/>
                </a:lnTo>
                <a:lnTo>
                  <a:pt x="126" y="56"/>
                </a:lnTo>
                <a:lnTo>
                  <a:pt x="111" y="49"/>
                </a:lnTo>
                <a:lnTo>
                  <a:pt x="97" y="26"/>
                </a:lnTo>
                <a:lnTo>
                  <a:pt x="77" y="56"/>
                </a:lnTo>
                <a:lnTo>
                  <a:pt x="54" y="110"/>
                </a:lnTo>
                <a:lnTo>
                  <a:pt x="45" y="162"/>
                </a:lnTo>
                <a:lnTo>
                  <a:pt x="51" y="245"/>
                </a:lnTo>
                <a:lnTo>
                  <a:pt x="86" y="353"/>
                </a:lnTo>
                <a:lnTo>
                  <a:pt x="105" y="394"/>
                </a:lnTo>
                <a:lnTo>
                  <a:pt x="142" y="355"/>
                </a:lnTo>
                <a:lnTo>
                  <a:pt x="162" y="351"/>
                </a:lnTo>
                <a:lnTo>
                  <a:pt x="182" y="357"/>
                </a:lnTo>
                <a:lnTo>
                  <a:pt x="196" y="380"/>
                </a:lnTo>
                <a:lnTo>
                  <a:pt x="194" y="402"/>
                </a:lnTo>
                <a:lnTo>
                  <a:pt x="174" y="411"/>
                </a:lnTo>
                <a:lnTo>
                  <a:pt x="108" y="417"/>
                </a:lnTo>
                <a:lnTo>
                  <a:pt x="79" y="439"/>
                </a:lnTo>
                <a:lnTo>
                  <a:pt x="44" y="461"/>
                </a:lnTo>
                <a:lnTo>
                  <a:pt x="0" y="468"/>
                </a:lnTo>
                <a:lnTo>
                  <a:pt x="31" y="477"/>
                </a:lnTo>
                <a:lnTo>
                  <a:pt x="84" y="477"/>
                </a:lnTo>
                <a:lnTo>
                  <a:pt x="161" y="452"/>
                </a:lnTo>
                <a:lnTo>
                  <a:pt x="209" y="452"/>
                </a:lnTo>
                <a:lnTo>
                  <a:pt x="246" y="437"/>
                </a:lnTo>
                <a:lnTo>
                  <a:pt x="259" y="412"/>
                </a:lnTo>
                <a:lnTo>
                  <a:pt x="259" y="371"/>
                </a:lnTo>
                <a:lnTo>
                  <a:pt x="214" y="317"/>
                </a:lnTo>
                <a:lnTo>
                  <a:pt x="165" y="251"/>
                </a:lnTo>
                <a:lnTo>
                  <a:pt x="140" y="165"/>
                </a:lnTo>
                <a:lnTo>
                  <a:pt x="161" y="110"/>
                </a:lnTo>
                <a:lnTo>
                  <a:pt x="149" y="97"/>
                </a:lnTo>
                <a:lnTo>
                  <a:pt x="177" y="59"/>
                </a:lnTo>
                <a:lnTo>
                  <a:pt x="165" y="57"/>
                </a:lnTo>
                <a:lnTo>
                  <a:pt x="189" y="23"/>
                </a:lnTo>
                <a:lnTo>
                  <a:pt x="222" y="0"/>
                </a:lnTo>
                <a:lnTo>
                  <a:pt x="222" y="0"/>
                </a:lnTo>
                <a:lnTo>
                  <a:pt x="222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20"/>
          <p:cNvSpPr/>
          <p:nvPr/>
        </p:nvSpPr>
        <p:spPr>
          <a:xfrm>
            <a:off x="3778200" y="1125360"/>
            <a:ext cx="1389240" cy="2589480"/>
          </a:xfrm>
          <a:custGeom>
            <a:avLst/>
            <a:gdLst>
              <a:gd name="textAreaLeft" fmla="*/ 0 w 1389240"/>
              <a:gd name="textAreaRight" fmla="*/ 1389240 w 1389240"/>
              <a:gd name="textAreaTop" fmla="*/ 0 h 2589480"/>
              <a:gd name="textAreaBottom" fmla="*/ 2589840 h 2589480"/>
            </a:gdLst>
            <a:ahLst/>
            <a:rect l="textAreaLeft" t="textAreaTop" r="textAreaRight" b="textAreaBottom"/>
            <a:pathLst>
              <a:path w="875" h="1631">
                <a:moveTo>
                  <a:pt x="455" y="0"/>
                </a:moveTo>
                <a:lnTo>
                  <a:pt x="310" y="122"/>
                </a:lnTo>
                <a:lnTo>
                  <a:pt x="269" y="233"/>
                </a:lnTo>
                <a:lnTo>
                  <a:pt x="224" y="362"/>
                </a:lnTo>
                <a:lnTo>
                  <a:pt x="218" y="431"/>
                </a:lnTo>
                <a:lnTo>
                  <a:pt x="287" y="494"/>
                </a:lnTo>
                <a:lnTo>
                  <a:pt x="166" y="537"/>
                </a:lnTo>
                <a:lnTo>
                  <a:pt x="107" y="587"/>
                </a:lnTo>
                <a:lnTo>
                  <a:pt x="95" y="639"/>
                </a:lnTo>
                <a:lnTo>
                  <a:pt x="142" y="663"/>
                </a:lnTo>
                <a:lnTo>
                  <a:pt x="195" y="689"/>
                </a:lnTo>
                <a:lnTo>
                  <a:pt x="103" y="710"/>
                </a:lnTo>
                <a:lnTo>
                  <a:pt x="79" y="761"/>
                </a:lnTo>
                <a:lnTo>
                  <a:pt x="92" y="896"/>
                </a:lnTo>
                <a:lnTo>
                  <a:pt x="144" y="1058"/>
                </a:lnTo>
                <a:lnTo>
                  <a:pt x="200" y="1156"/>
                </a:lnTo>
                <a:lnTo>
                  <a:pt x="269" y="1248"/>
                </a:lnTo>
                <a:lnTo>
                  <a:pt x="356" y="1329"/>
                </a:lnTo>
                <a:lnTo>
                  <a:pt x="442" y="1393"/>
                </a:lnTo>
                <a:lnTo>
                  <a:pt x="601" y="1454"/>
                </a:lnTo>
                <a:lnTo>
                  <a:pt x="709" y="1457"/>
                </a:lnTo>
                <a:lnTo>
                  <a:pt x="795" y="1441"/>
                </a:lnTo>
                <a:lnTo>
                  <a:pt x="875" y="1413"/>
                </a:lnTo>
                <a:lnTo>
                  <a:pt x="782" y="1463"/>
                </a:lnTo>
                <a:lnTo>
                  <a:pt x="645" y="1484"/>
                </a:lnTo>
                <a:lnTo>
                  <a:pt x="543" y="1499"/>
                </a:lnTo>
                <a:lnTo>
                  <a:pt x="577" y="1631"/>
                </a:lnTo>
                <a:lnTo>
                  <a:pt x="519" y="1620"/>
                </a:lnTo>
                <a:lnTo>
                  <a:pt x="211" y="1326"/>
                </a:lnTo>
                <a:lnTo>
                  <a:pt x="0" y="977"/>
                </a:lnTo>
                <a:lnTo>
                  <a:pt x="34" y="457"/>
                </a:lnTo>
                <a:lnTo>
                  <a:pt x="237" y="33"/>
                </a:lnTo>
                <a:lnTo>
                  <a:pt x="455" y="0"/>
                </a:lnTo>
                <a:lnTo>
                  <a:pt x="455" y="0"/>
                </a:lnTo>
                <a:lnTo>
                  <a:pt x="455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21"/>
          <p:cNvSpPr/>
          <p:nvPr/>
        </p:nvSpPr>
        <p:spPr>
          <a:xfrm>
            <a:off x="4468680" y="954000"/>
            <a:ext cx="1228680" cy="24750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774" h="1559">
                <a:moveTo>
                  <a:pt x="50" y="87"/>
                </a:moveTo>
                <a:lnTo>
                  <a:pt x="171" y="83"/>
                </a:lnTo>
                <a:lnTo>
                  <a:pt x="258" y="95"/>
                </a:lnTo>
                <a:lnTo>
                  <a:pt x="332" y="130"/>
                </a:lnTo>
                <a:lnTo>
                  <a:pt x="389" y="167"/>
                </a:lnTo>
                <a:lnTo>
                  <a:pt x="440" y="246"/>
                </a:lnTo>
                <a:lnTo>
                  <a:pt x="469" y="333"/>
                </a:lnTo>
                <a:lnTo>
                  <a:pt x="492" y="436"/>
                </a:lnTo>
                <a:lnTo>
                  <a:pt x="498" y="486"/>
                </a:lnTo>
                <a:lnTo>
                  <a:pt x="421" y="489"/>
                </a:lnTo>
                <a:lnTo>
                  <a:pt x="464" y="531"/>
                </a:lnTo>
                <a:lnTo>
                  <a:pt x="427" y="551"/>
                </a:lnTo>
                <a:lnTo>
                  <a:pt x="363" y="568"/>
                </a:lnTo>
                <a:lnTo>
                  <a:pt x="392" y="602"/>
                </a:lnTo>
                <a:lnTo>
                  <a:pt x="513" y="652"/>
                </a:lnTo>
                <a:lnTo>
                  <a:pt x="571" y="647"/>
                </a:lnTo>
                <a:lnTo>
                  <a:pt x="606" y="696"/>
                </a:lnTo>
                <a:lnTo>
                  <a:pt x="629" y="777"/>
                </a:lnTo>
                <a:lnTo>
                  <a:pt x="638" y="909"/>
                </a:lnTo>
                <a:lnTo>
                  <a:pt x="629" y="1038"/>
                </a:lnTo>
                <a:lnTo>
                  <a:pt x="629" y="1159"/>
                </a:lnTo>
                <a:lnTo>
                  <a:pt x="601" y="1251"/>
                </a:lnTo>
                <a:lnTo>
                  <a:pt x="500" y="1415"/>
                </a:lnTo>
                <a:lnTo>
                  <a:pt x="427" y="1484"/>
                </a:lnTo>
                <a:lnTo>
                  <a:pt x="334" y="1559"/>
                </a:lnTo>
                <a:lnTo>
                  <a:pt x="411" y="1559"/>
                </a:lnTo>
                <a:lnTo>
                  <a:pt x="606" y="1428"/>
                </a:lnTo>
                <a:lnTo>
                  <a:pt x="774" y="1217"/>
                </a:lnTo>
                <a:lnTo>
                  <a:pt x="753" y="869"/>
                </a:lnTo>
                <a:lnTo>
                  <a:pt x="659" y="457"/>
                </a:lnTo>
                <a:lnTo>
                  <a:pt x="513" y="108"/>
                </a:lnTo>
                <a:lnTo>
                  <a:pt x="345" y="3"/>
                </a:lnTo>
                <a:lnTo>
                  <a:pt x="173" y="0"/>
                </a:lnTo>
                <a:lnTo>
                  <a:pt x="0" y="46"/>
                </a:lnTo>
                <a:lnTo>
                  <a:pt x="50" y="87"/>
                </a:lnTo>
                <a:lnTo>
                  <a:pt x="50" y="87"/>
                </a:lnTo>
                <a:lnTo>
                  <a:pt x="5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22"/>
          <p:cNvSpPr/>
          <p:nvPr/>
        </p:nvSpPr>
        <p:spPr>
          <a:xfrm>
            <a:off x="5551560" y="1257480"/>
            <a:ext cx="1287360" cy="2420640"/>
          </a:xfrm>
          <a:custGeom>
            <a:avLst/>
            <a:gdLst>
              <a:gd name="textAreaLeft" fmla="*/ 0 w 1287360"/>
              <a:gd name="textAreaRight" fmla="*/ 1287720 w 1287360"/>
              <a:gd name="textAreaTop" fmla="*/ 0 h 2420640"/>
              <a:gd name="textAreaBottom" fmla="*/ 2421000 h 2420640"/>
            </a:gdLst>
            <a:ahLst/>
            <a:rect l="textAreaLeft" t="textAreaTop" r="textAreaRight" b="textAreaBottom"/>
            <a:pathLst>
              <a:path w="811" h="1525">
                <a:moveTo>
                  <a:pt x="71" y="0"/>
                </a:moveTo>
                <a:lnTo>
                  <a:pt x="375" y="127"/>
                </a:lnTo>
                <a:lnTo>
                  <a:pt x="450" y="251"/>
                </a:lnTo>
                <a:lnTo>
                  <a:pt x="529" y="348"/>
                </a:lnTo>
                <a:lnTo>
                  <a:pt x="480" y="370"/>
                </a:lnTo>
                <a:lnTo>
                  <a:pt x="534" y="485"/>
                </a:lnTo>
                <a:lnTo>
                  <a:pt x="701" y="603"/>
                </a:lnTo>
                <a:lnTo>
                  <a:pt x="802" y="762"/>
                </a:lnTo>
                <a:lnTo>
                  <a:pt x="811" y="965"/>
                </a:lnTo>
                <a:lnTo>
                  <a:pt x="679" y="1283"/>
                </a:lnTo>
                <a:lnTo>
                  <a:pt x="736" y="1517"/>
                </a:lnTo>
                <a:lnTo>
                  <a:pt x="643" y="1525"/>
                </a:lnTo>
                <a:lnTo>
                  <a:pt x="520" y="1477"/>
                </a:lnTo>
                <a:lnTo>
                  <a:pt x="415" y="1380"/>
                </a:lnTo>
                <a:lnTo>
                  <a:pt x="27" y="1318"/>
                </a:lnTo>
                <a:lnTo>
                  <a:pt x="0" y="1235"/>
                </a:lnTo>
                <a:lnTo>
                  <a:pt x="62" y="952"/>
                </a:lnTo>
                <a:lnTo>
                  <a:pt x="35" y="700"/>
                </a:lnTo>
                <a:lnTo>
                  <a:pt x="35" y="264"/>
                </a:lnTo>
                <a:lnTo>
                  <a:pt x="71" y="0"/>
                </a:lnTo>
                <a:lnTo>
                  <a:pt x="71" y="0"/>
                </a:lnTo>
                <a:lnTo>
                  <a:pt x="71" y="0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23"/>
          <p:cNvSpPr/>
          <p:nvPr/>
        </p:nvSpPr>
        <p:spPr>
          <a:xfrm>
            <a:off x="2860560" y="430200"/>
            <a:ext cx="2559240" cy="3268800"/>
          </a:xfrm>
          <a:custGeom>
            <a:avLst/>
            <a:gdLst>
              <a:gd name="textAreaLeft" fmla="*/ 0 w 2559240"/>
              <a:gd name="textAreaRight" fmla="*/ 2559240 w 2559240"/>
              <a:gd name="textAreaTop" fmla="*/ 0 h 3268800"/>
              <a:gd name="textAreaBottom" fmla="*/ 3269160 h 3268800"/>
            </a:gdLst>
            <a:ahLst/>
            <a:rect l="textAreaLeft" t="textAreaTop" r="textAreaRight" b="textAreaBottom"/>
            <a:pathLst>
              <a:path w="1612" h="2059">
                <a:moveTo>
                  <a:pt x="228" y="749"/>
                </a:moveTo>
                <a:lnTo>
                  <a:pt x="479" y="243"/>
                </a:lnTo>
                <a:lnTo>
                  <a:pt x="643" y="155"/>
                </a:lnTo>
                <a:lnTo>
                  <a:pt x="1026" y="0"/>
                </a:lnTo>
                <a:lnTo>
                  <a:pt x="1383" y="9"/>
                </a:lnTo>
                <a:lnTo>
                  <a:pt x="1528" y="44"/>
                </a:lnTo>
                <a:lnTo>
                  <a:pt x="1594" y="133"/>
                </a:lnTo>
                <a:lnTo>
                  <a:pt x="1612" y="286"/>
                </a:lnTo>
                <a:lnTo>
                  <a:pt x="1563" y="472"/>
                </a:lnTo>
                <a:lnTo>
                  <a:pt x="1369" y="410"/>
                </a:lnTo>
                <a:lnTo>
                  <a:pt x="1273" y="340"/>
                </a:lnTo>
                <a:lnTo>
                  <a:pt x="1092" y="326"/>
                </a:lnTo>
                <a:lnTo>
                  <a:pt x="836" y="468"/>
                </a:lnTo>
                <a:lnTo>
                  <a:pt x="656" y="833"/>
                </a:lnTo>
                <a:lnTo>
                  <a:pt x="567" y="1231"/>
                </a:lnTo>
                <a:lnTo>
                  <a:pt x="761" y="1853"/>
                </a:lnTo>
                <a:lnTo>
                  <a:pt x="616" y="2011"/>
                </a:lnTo>
                <a:lnTo>
                  <a:pt x="347" y="2059"/>
                </a:lnTo>
                <a:lnTo>
                  <a:pt x="35" y="2059"/>
                </a:lnTo>
                <a:lnTo>
                  <a:pt x="22" y="1927"/>
                </a:lnTo>
                <a:lnTo>
                  <a:pt x="0" y="1769"/>
                </a:lnTo>
                <a:lnTo>
                  <a:pt x="22" y="1681"/>
                </a:lnTo>
                <a:lnTo>
                  <a:pt x="48" y="1561"/>
                </a:lnTo>
                <a:lnTo>
                  <a:pt x="9" y="1443"/>
                </a:lnTo>
                <a:lnTo>
                  <a:pt x="22" y="1270"/>
                </a:lnTo>
                <a:lnTo>
                  <a:pt x="62" y="1181"/>
                </a:lnTo>
                <a:lnTo>
                  <a:pt x="35" y="1151"/>
                </a:lnTo>
                <a:lnTo>
                  <a:pt x="44" y="1089"/>
                </a:lnTo>
                <a:lnTo>
                  <a:pt x="140" y="1068"/>
                </a:lnTo>
                <a:lnTo>
                  <a:pt x="228" y="749"/>
                </a:lnTo>
                <a:lnTo>
                  <a:pt x="228" y="749"/>
                </a:lnTo>
                <a:lnTo>
                  <a:pt x="228" y="749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24"/>
          <p:cNvSpPr/>
          <p:nvPr/>
        </p:nvSpPr>
        <p:spPr>
          <a:xfrm>
            <a:off x="3835440" y="592200"/>
            <a:ext cx="971640" cy="317520"/>
          </a:xfrm>
          <a:custGeom>
            <a:avLst/>
            <a:gdLst>
              <a:gd name="textAreaLeft" fmla="*/ 0 w 971640"/>
              <a:gd name="textAreaRight" fmla="*/ 972000 w 9716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12" h="200">
                <a:moveTo>
                  <a:pt x="0" y="164"/>
                </a:moveTo>
                <a:lnTo>
                  <a:pt x="147" y="200"/>
                </a:lnTo>
                <a:lnTo>
                  <a:pt x="332" y="200"/>
                </a:lnTo>
                <a:lnTo>
                  <a:pt x="428" y="196"/>
                </a:lnTo>
                <a:lnTo>
                  <a:pt x="550" y="143"/>
                </a:lnTo>
                <a:lnTo>
                  <a:pt x="338" y="149"/>
                </a:lnTo>
                <a:lnTo>
                  <a:pt x="271" y="123"/>
                </a:lnTo>
                <a:lnTo>
                  <a:pt x="391" y="103"/>
                </a:lnTo>
                <a:lnTo>
                  <a:pt x="494" y="62"/>
                </a:lnTo>
                <a:lnTo>
                  <a:pt x="612" y="0"/>
                </a:lnTo>
                <a:lnTo>
                  <a:pt x="276" y="10"/>
                </a:lnTo>
                <a:lnTo>
                  <a:pt x="134" y="39"/>
                </a:lnTo>
                <a:lnTo>
                  <a:pt x="315" y="62"/>
                </a:lnTo>
                <a:lnTo>
                  <a:pt x="128" y="80"/>
                </a:lnTo>
                <a:lnTo>
                  <a:pt x="271" y="155"/>
                </a:lnTo>
                <a:lnTo>
                  <a:pt x="99" y="155"/>
                </a:lnTo>
                <a:lnTo>
                  <a:pt x="0" y="164"/>
                </a:lnTo>
                <a:lnTo>
                  <a:pt x="0" y="164"/>
                </a:lnTo>
                <a:lnTo>
                  <a:pt x="0" y="16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25"/>
          <p:cNvSpPr/>
          <p:nvPr/>
        </p:nvSpPr>
        <p:spPr>
          <a:xfrm>
            <a:off x="4346640" y="438120"/>
            <a:ext cx="725400" cy="128520"/>
          </a:xfrm>
          <a:custGeom>
            <a:avLst/>
            <a:gdLst>
              <a:gd name="textAreaLeft" fmla="*/ 0 w 725400"/>
              <a:gd name="textAreaRight" fmla="*/ 725760 w 725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457" h="81">
                <a:moveTo>
                  <a:pt x="71" y="55"/>
                </a:moveTo>
                <a:lnTo>
                  <a:pt x="266" y="48"/>
                </a:lnTo>
                <a:lnTo>
                  <a:pt x="341" y="42"/>
                </a:lnTo>
                <a:lnTo>
                  <a:pt x="413" y="62"/>
                </a:lnTo>
                <a:lnTo>
                  <a:pt x="454" y="81"/>
                </a:lnTo>
                <a:lnTo>
                  <a:pt x="457" y="31"/>
                </a:lnTo>
                <a:lnTo>
                  <a:pt x="224" y="0"/>
                </a:lnTo>
                <a:lnTo>
                  <a:pt x="77" y="14"/>
                </a:lnTo>
                <a:lnTo>
                  <a:pt x="0" y="46"/>
                </a:lnTo>
                <a:lnTo>
                  <a:pt x="71" y="55"/>
                </a:lnTo>
                <a:lnTo>
                  <a:pt x="71" y="55"/>
                </a:lnTo>
                <a:lnTo>
                  <a:pt x="71" y="5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26"/>
          <p:cNvSpPr/>
          <p:nvPr/>
        </p:nvSpPr>
        <p:spPr>
          <a:xfrm>
            <a:off x="3594240" y="825480"/>
            <a:ext cx="541080" cy="309600"/>
          </a:xfrm>
          <a:custGeom>
            <a:avLst/>
            <a:gdLst>
              <a:gd name="textAreaLeft" fmla="*/ 0 w 541080"/>
              <a:gd name="textAreaRight" fmla="*/ 541080 w 5410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1" h="195">
                <a:moveTo>
                  <a:pt x="0" y="12"/>
                </a:moveTo>
                <a:lnTo>
                  <a:pt x="66" y="92"/>
                </a:lnTo>
                <a:lnTo>
                  <a:pt x="117" y="134"/>
                </a:lnTo>
                <a:lnTo>
                  <a:pt x="173" y="164"/>
                </a:lnTo>
                <a:lnTo>
                  <a:pt x="255" y="195"/>
                </a:lnTo>
                <a:lnTo>
                  <a:pt x="341" y="195"/>
                </a:lnTo>
                <a:lnTo>
                  <a:pt x="255" y="164"/>
                </a:lnTo>
                <a:lnTo>
                  <a:pt x="146" y="113"/>
                </a:lnTo>
                <a:lnTo>
                  <a:pt x="70" y="53"/>
                </a:lnTo>
                <a:lnTo>
                  <a:pt x="16" y="0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27"/>
          <p:cNvSpPr/>
          <p:nvPr/>
        </p:nvSpPr>
        <p:spPr>
          <a:xfrm>
            <a:off x="3344760" y="1020600"/>
            <a:ext cx="376200" cy="551160"/>
          </a:xfrm>
          <a:custGeom>
            <a:avLst/>
            <a:gdLst>
              <a:gd name="textAreaLeft" fmla="*/ 0 w 376200"/>
              <a:gd name="textAreaRight" fmla="*/ 376560 w 376200"/>
              <a:gd name="textAreaTop" fmla="*/ 0 h 551160"/>
              <a:gd name="textAreaBottom" fmla="*/ 551520 h 551160"/>
            </a:gdLst>
            <a:ahLst/>
            <a:rect l="textAreaLeft" t="textAreaTop" r="textAreaRight" b="textAreaBottom"/>
            <a:pathLst>
              <a:path w="237" h="347">
                <a:moveTo>
                  <a:pt x="152" y="0"/>
                </a:moveTo>
                <a:lnTo>
                  <a:pt x="207" y="95"/>
                </a:lnTo>
                <a:lnTo>
                  <a:pt x="237" y="156"/>
                </a:lnTo>
                <a:lnTo>
                  <a:pt x="237" y="197"/>
                </a:lnTo>
                <a:lnTo>
                  <a:pt x="191" y="264"/>
                </a:lnTo>
                <a:lnTo>
                  <a:pt x="0" y="347"/>
                </a:lnTo>
                <a:lnTo>
                  <a:pt x="81" y="202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28"/>
          <p:cNvSpPr/>
          <p:nvPr/>
        </p:nvSpPr>
        <p:spPr>
          <a:xfrm>
            <a:off x="3780000" y="1189080"/>
            <a:ext cx="144360" cy="355680"/>
          </a:xfrm>
          <a:custGeom>
            <a:avLst/>
            <a:gdLst>
              <a:gd name="textAreaLeft" fmla="*/ 0 w 144360"/>
              <a:gd name="textAreaRight" fmla="*/ 144720 w 1443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91" h="224">
                <a:moveTo>
                  <a:pt x="91" y="30"/>
                </a:moveTo>
                <a:lnTo>
                  <a:pt x="60" y="82"/>
                </a:lnTo>
                <a:lnTo>
                  <a:pt x="50" y="133"/>
                </a:lnTo>
                <a:lnTo>
                  <a:pt x="70" y="193"/>
                </a:lnTo>
                <a:lnTo>
                  <a:pt x="70" y="224"/>
                </a:lnTo>
                <a:lnTo>
                  <a:pt x="35" y="204"/>
                </a:lnTo>
                <a:lnTo>
                  <a:pt x="4" y="137"/>
                </a:lnTo>
                <a:lnTo>
                  <a:pt x="0" y="31"/>
                </a:lnTo>
                <a:lnTo>
                  <a:pt x="44" y="0"/>
                </a:lnTo>
                <a:lnTo>
                  <a:pt x="91" y="30"/>
                </a:lnTo>
                <a:lnTo>
                  <a:pt x="91" y="30"/>
                </a:lnTo>
                <a:lnTo>
                  <a:pt x="91" y="3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29"/>
          <p:cNvSpPr/>
          <p:nvPr/>
        </p:nvSpPr>
        <p:spPr>
          <a:xfrm>
            <a:off x="5783400" y="1344600"/>
            <a:ext cx="236520" cy="709560"/>
          </a:xfrm>
          <a:custGeom>
            <a:avLst/>
            <a:gdLst>
              <a:gd name="textAreaLeft" fmla="*/ 0 w 236520"/>
              <a:gd name="textAreaRight" fmla="*/ 236880 w 236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49" h="447">
                <a:moveTo>
                  <a:pt x="15" y="0"/>
                </a:moveTo>
                <a:lnTo>
                  <a:pt x="80" y="89"/>
                </a:lnTo>
                <a:lnTo>
                  <a:pt x="93" y="143"/>
                </a:lnTo>
                <a:lnTo>
                  <a:pt x="76" y="192"/>
                </a:lnTo>
                <a:lnTo>
                  <a:pt x="59" y="117"/>
                </a:lnTo>
                <a:lnTo>
                  <a:pt x="0" y="66"/>
                </a:lnTo>
                <a:lnTo>
                  <a:pt x="24" y="147"/>
                </a:lnTo>
                <a:lnTo>
                  <a:pt x="48" y="192"/>
                </a:lnTo>
                <a:lnTo>
                  <a:pt x="45" y="242"/>
                </a:lnTo>
                <a:lnTo>
                  <a:pt x="25" y="321"/>
                </a:lnTo>
                <a:lnTo>
                  <a:pt x="25" y="365"/>
                </a:lnTo>
                <a:lnTo>
                  <a:pt x="44" y="410"/>
                </a:lnTo>
                <a:lnTo>
                  <a:pt x="89" y="447"/>
                </a:lnTo>
                <a:lnTo>
                  <a:pt x="92" y="314"/>
                </a:lnTo>
                <a:lnTo>
                  <a:pt x="149" y="161"/>
                </a:lnTo>
                <a:lnTo>
                  <a:pt x="113" y="68"/>
                </a:lnTo>
                <a:lnTo>
                  <a:pt x="66" y="2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30"/>
          <p:cNvSpPr/>
          <p:nvPr/>
        </p:nvSpPr>
        <p:spPr>
          <a:xfrm>
            <a:off x="6294600" y="1873080"/>
            <a:ext cx="550800" cy="878040"/>
          </a:xfrm>
          <a:custGeom>
            <a:avLst/>
            <a:gdLst>
              <a:gd name="textAreaLeft" fmla="*/ 0 w 550800"/>
              <a:gd name="textAreaRight" fmla="*/ 551160 w 55080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347" h="553">
                <a:moveTo>
                  <a:pt x="6" y="0"/>
                </a:moveTo>
                <a:lnTo>
                  <a:pt x="0" y="72"/>
                </a:lnTo>
                <a:lnTo>
                  <a:pt x="12" y="137"/>
                </a:lnTo>
                <a:lnTo>
                  <a:pt x="83" y="198"/>
                </a:lnTo>
                <a:lnTo>
                  <a:pt x="139" y="242"/>
                </a:lnTo>
                <a:lnTo>
                  <a:pt x="139" y="212"/>
                </a:lnTo>
                <a:lnTo>
                  <a:pt x="237" y="295"/>
                </a:lnTo>
                <a:lnTo>
                  <a:pt x="285" y="379"/>
                </a:lnTo>
                <a:lnTo>
                  <a:pt x="320" y="461"/>
                </a:lnTo>
                <a:lnTo>
                  <a:pt x="330" y="553"/>
                </a:lnTo>
                <a:lnTo>
                  <a:pt x="347" y="450"/>
                </a:lnTo>
                <a:lnTo>
                  <a:pt x="327" y="358"/>
                </a:lnTo>
                <a:lnTo>
                  <a:pt x="272" y="276"/>
                </a:lnTo>
                <a:lnTo>
                  <a:pt x="172" y="175"/>
                </a:lnTo>
                <a:lnTo>
                  <a:pt x="58" y="5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31"/>
          <p:cNvSpPr/>
          <p:nvPr/>
        </p:nvSpPr>
        <p:spPr>
          <a:xfrm>
            <a:off x="6451560" y="2303640"/>
            <a:ext cx="216000" cy="626760"/>
          </a:xfrm>
          <a:custGeom>
            <a:avLst/>
            <a:gdLst>
              <a:gd name="textAreaLeft" fmla="*/ 0 w 216000"/>
              <a:gd name="textAreaRight" fmla="*/ 216360 w 21600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136" h="395">
                <a:moveTo>
                  <a:pt x="74" y="0"/>
                </a:moveTo>
                <a:lnTo>
                  <a:pt x="118" y="70"/>
                </a:lnTo>
                <a:lnTo>
                  <a:pt x="136" y="210"/>
                </a:lnTo>
                <a:lnTo>
                  <a:pt x="84" y="327"/>
                </a:lnTo>
                <a:lnTo>
                  <a:pt x="0" y="395"/>
                </a:lnTo>
                <a:lnTo>
                  <a:pt x="60" y="265"/>
                </a:lnTo>
                <a:lnTo>
                  <a:pt x="90" y="169"/>
                </a:lnTo>
                <a:lnTo>
                  <a:pt x="88" y="112"/>
                </a:lnTo>
                <a:lnTo>
                  <a:pt x="74" y="0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32"/>
          <p:cNvSpPr/>
          <p:nvPr/>
        </p:nvSpPr>
        <p:spPr>
          <a:xfrm>
            <a:off x="2986200" y="2068560"/>
            <a:ext cx="439560" cy="233280"/>
          </a:xfrm>
          <a:custGeom>
            <a:avLst/>
            <a:gdLst>
              <a:gd name="textAreaLeft" fmla="*/ 0 w 439560"/>
              <a:gd name="textAreaRight" fmla="*/ 439920 w 4395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7" h="147">
                <a:moveTo>
                  <a:pt x="0" y="84"/>
                </a:moveTo>
                <a:lnTo>
                  <a:pt x="37" y="126"/>
                </a:lnTo>
                <a:lnTo>
                  <a:pt x="86" y="147"/>
                </a:lnTo>
                <a:lnTo>
                  <a:pt x="146" y="147"/>
                </a:lnTo>
                <a:lnTo>
                  <a:pt x="196" y="122"/>
                </a:lnTo>
                <a:lnTo>
                  <a:pt x="249" y="81"/>
                </a:lnTo>
                <a:lnTo>
                  <a:pt x="277" y="0"/>
                </a:lnTo>
                <a:lnTo>
                  <a:pt x="0" y="84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33"/>
          <p:cNvSpPr/>
          <p:nvPr/>
        </p:nvSpPr>
        <p:spPr>
          <a:xfrm>
            <a:off x="2844720" y="2336760"/>
            <a:ext cx="192240" cy="609480"/>
          </a:xfrm>
          <a:custGeom>
            <a:avLst/>
            <a:gdLst>
              <a:gd name="textAreaLeft" fmla="*/ 0 w 192240"/>
              <a:gd name="textAreaRight" fmla="*/ 192600 w 1922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1" h="384">
                <a:moveTo>
                  <a:pt x="101" y="384"/>
                </a:moveTo>
                <a:lnTo>
                  <a:pt x="121" y="355"/>
                </a:lnTo>
                <a:lnTo>
                  <a:pt x="65" y="276"/>
                </a:lnTo>
                <a:lnTo>
                  <a:pt x="58" y="200"/>
                </a:lnTo>
                <a:lnTo>
                  <a:pt x="65" y="147"/>
                </a:lnTo>
                <a:lnTo>
                  <a:pt x="96" y="0"/>
                </a:lnTo>
                <a:lnTo>
                  <a:pt x="60" y="16"/>
                </a:lnTo>
                <a:lnTo>
                  <a:pt x="0" y="147"/>
                </a:lnTo>
                <a:lnTo>
                  <a:pt x="13" y="336"/>
                </a:lnTo>
                <a:lnTo>
                  <a:pt x="101" y="384"/>
                </a:lnTo>
                <a:lnTo>
                  <a:pt x="101" y="384"/>
                </a:lnTo>
                <a:lnTo>
                  <a:pt x="101" y="3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34"/>
          <p:cNvSpPr/>
          <p:nvPr/>
        </p:nvSpPr>
        <p:spPr>
          <a:xfrm>
            <a:off x="3089160" y="2502000"/>
            <a:ext cx="273240" cy="379440"/>
          </a:xfrm>
          <a:custGeom>
            <a:avLst/>
            <a:gdLst>
              <a:gd name="textAreaLeft" fmla="*/ 0 w 273240"/>
              <a:gd name="textAreaRight" fmla="*/ 273600 w 2732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72" h="239">
                <a:moveTo>
                  <a:pt x="43" y="151"/>
                </a:moveTo>
                <a:lnTo>
                  <a:pt x="0" y="239"/>
                </a:lnTo>
                <a:lnTo>
                  <a:pt x="40" y="234"/>
                </a:lnTo>
                <a:lnTo>
                  <a:pt x="114" y="188"/>
                </a:lnTo>
                <a:lnTo>
                  <a:pt x="151" y="129"/>
                </a:lnTo>
                <a:lnTo>
                  <a:pt x="172" y="50"/>
                </a:lnTo>
                <a:lnTo>
                  <a:pt x="157" y="0"/>
                </a:lnTo>
                <a:lnTo>
                  <a:pt x="43" y="151"/>
                </a:lnTo>
                <a:lnTo>
                  <a:pt x="43" y="151"/>
                </a:lnTo>
                <a:lnTo>
                  <a:pt x="43" y="151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35"/>
          <p:cNvSpPr/>
          <p:nvPr/>
        </p:nvSpPr>
        <p:spPr>
          <a:xfrm>
            <a:off x="3403440" y="2678040"/>
            <a:ext cx="120960" cy="498600"/>
          </a:xfrm>
          <a:custGeom>
            <a:avLst/>
            <a:gdLst>
              <a:gd name="textAreaLeft" fmla="*/ 0 w 120960"/>
              <a:gd name="textAreaRight" fmla="*/ 121320 w 12096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6" h="314">
                <a:moveTo>
                  <a:pt x="50" y="0"/>
                </a:moveTo>
                <a:lnTo>
                  <a:pt x="58" y="133"/>
                </a:lnTo>
                <a:lnTo>
                  <a:pt x="30" y="187"/>
                </a:lnTo>
                <a:lnTo>
                  <a:pt x="9" y="143"/>
                </a:lnTo>
                <a:lnTo>
                  <a:pt x="0" y="221"/>
                </a:lnTo>
                <a:lnTo>
                  <a:pt x="50" y="314"/>
                </a:lnTo>
                <a:lnTo>
                  <a:pt x="76" y="184"/>
                </a:lnTo>
                <a:lnTo>
                  <a:pt x="76" y="55"/>
                </a:lnTo>
                <a:lnTo>
                  <a:pt x="5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36"/>
          <p:cNvSpPr/>
          <p:nvPr/>
        </p:nvSpPr>
        <p:spPr>
          <a:xfrm>
            <a:off x="3000240" y="3262320"/>
            <a:ext cx="182520" cy="297000"/>
          </a:xfrm>
          <a:custGeom>
            <a:avLst/>
            <a:gdLst>
              <a:gd name="textAreaLeft" fmla="*/ 0 w 182520"/>
              <a:gd name="textAreaRight" fmla="*/ 182880 w 1825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5" h="187">
                <a:moveTo>
                  <a:pt x="69" y="5"/>
                </a:moveTo>
                <a:lnTo>
                  <a:pt x="8" y="41"/>
                </a:lnTo>
                <a:lnTo>
                  <a:pt x="15" y="101"/>
                </a:lnTo>
                <a:lnTo>
                  <a:pt x="31" y="141"/>
                </a:lnTo>
                <a:lnTo>
                  <a:pt x="0" y="187"/>
                </a:lnTo>
                <a:lnTo>
                  <a:pt x="56" y="146"/>
                </a:lnTo>
                <a:lnTo>
                  <a:pt x="61" y="96"/>
                </a:lnTo>
                <a:lnTo>
                  <a:pt x="87" y="55"/>
                </a:lnTo>
                <a:lnTo>
                  <a:pt x="115" y="0"/>
                </a:lnTo>
                <a:lnTo>
                  <a:pt x="69" y="5"/>
                </a:lnTo>
                <a:lnTo>
                  <a:pt x="69" y="5"/>
                </a:lnTo>
                <a:lnTo>
                  <a:pt x="69" y="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37"/>
          <p:cNvSpPr/>
          <p:nvPr/>
        </p:nvSpPr>
        <p:spPr>
          <a:xfrm>
            <a:off x="5802480" y="2166840"/>
            <a:ext cx="428400" cy="712800"/>
          </a:xfrm>
          <a:custGeom>
            <a:avLst/>
            <a:gdLst>
              <a:gd name="textAreaLeft" fmla="*/ 0 w 428400"/>
              <a:gd name="textAreaRight" fmla="*/ 428760 w 4284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70" h="449">
                <a:moveTo>
                  <a:pt x="0" y="0"/>
                </a:moveTo>
                <a:lnTo>
                  <a:pt x="93" y="96"/>
                </a:lnTo>
                <a:lnTo>
                  <a:pt x="162" y="154"/>
                </a:lnTo>
                <a:lnTo>
                  <a:pt x="235" y="217"/>
                </a:lnTo>
                <a:lnTo>
                  <a:pt x="270" y="286"/>
                </a:lnTo>
                <a:lnTo>
                  <a:pt x="241" y="348"/>
                </a:lnTo>
                <a:lnTo>
                  <a:pt x="186" y="419"/>
                </a:lnTo>
                <a:lnTo>
                  <a:pt x="66" y="449"/>
                </a:lnTo>
                <a:lnTo>
                  <a:pt x="147" y="322"/>
                </a:lnTo>
                <a:lnTo>
                  <a:pt x="89" y="187"/>
                </a:lnTo>
                <a:lnTo>
                  <a:pt x="8" y="10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38"/>
          <p:cNvSpPr/>
          <p:nvPr/>
        </p:nvSpPr>
        <p:spPr>
          <a:xfrm>
            <a:off x="5616720" y="2494080"/>
            <a:ext cx="252360" cy="261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59" h="165">
                <a:moveTo>
                  <a:pt x="0" y="2"/>
                </a:moveTo>
                <a:lnTo>
                  <a:pt x="8" y="58"/>
                </a:lnTo>
                <a:lnTo>
                  <a:pt x="51" y="54"/>
                </a:lnTo>
                <a:lnTo>
                  <a:pt x="101" y="81"/>
                </a:lnTo>
                <a:lnTo>
                  <a:pt x="113" y="165"/>
                </a:lnTo>
                <a:lnTo>
                  <a:pt x="159" y="127"/>
                </a:lnTo>
                <a:lnTo>
                  <a:pt x="148" y="49"/>
                </a:lnTo>
                <a:lnTo>
                  <a:pt x="9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39"/>
          <p:cNvSpPr/>
          <p:nvPr/>
        </p:nvSpPr>
        <p:spPr>
          <a:xfrm>
            <a:off x="5059440" y="438120"/>
            <a:ext cx="293760" cy="507960"/>
          </a:xfrm>
          <a:custGeom>
            <a:avLst/>
            <a:gdLst>
              <a:gd name="textAreaLeft" fmla="*/ 0 w 293760"/>
              <a:gd name="textAreaRight" fmla="*/ 294120 w 2937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85" h="320">
                <a:moveTo>
                  <a:pt x="0" y="13"/>
                </a:moveTo>
                <a:lnTo>
                  <a:pt x="55" y="58"/>
                </a:lnTo>
                <a:lnTo>
                  <a:pt x="95" y="101"/>
                </a:lnTo>
                <a:lnTo>
                  <a:pt x="103" y="144"/>
                </a:lnTo>
                <a:lnTo>
                  <a:pt x="103" y="216"/>
                </a:lnTo>
                <a:lnTo>
                  <a:pt x="137" y="172"/>
                </a:lnTo>
                <a:lnTo>
                  <a:pt x="125" y="233"/>
                </a:lnTo>
                <a:lnTo>
                  <a:pt x="108" y="320"/>
                </a:lnTo>
                <a:lnTo>
                  <a:pt x="161" y="238"/>
                </a:lnTo>
                <a:lnTo>
                  <a:pt x="185" y="172"/>
                </a:lnTo>
                <a:lnTo>
                  <a:pt x="144" y="69"/>
                </a:lnTo>
                <a:lnTo>
                  <a:pt x="31" y="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40"/>
          <p:cNvSpPr/>
          <p:nvPr/>
        </p:nvSpPr>
        <p:spPr>
          <a:xfrm>
            <a:off x="4781520" y="1681200"/>
            <a:ext cx="584280" cy="181080"/>
          </a:xfrm>
          <a:custGeom>
            <a:avLst/>
            <a:gdLst>
              <a:gd name="textAreaLeft" fmla="*/ 0 w 584280"/>
              <a:gd name="textAreaRight" fmla="*/ 584280 w 5842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368" h="114">
                <a:moveTo>
                  <a:pt x="0" y="114"/>
                </a:moveTo>
                <a:lnTo>
                  <a:pt x="41" y="106"/>
                </a:lnTo>
                <a:lnTo>
                  <a:pt x="82" y="92"/>
                </a:lnTo>
                <a:lnTo>
                  <a:pt x="171" y="53"/>
                </a:lnTo>
                <a:lnTo>
                  <a:pt x="217" y="42"/>
                </a:lnTo>
                <a:lnTo>
                  <a:pt x="280" y="44"/>
                </a:lnTo>
                <a:lnTo>
                  <a:pt x="330" y="61"/>
                </a:lnTo>
                <a:lnTo>
                  <a:pt x="368" y="86"/>
                </a:lnTo>
                <a:lnTo>
                  <a:pt x="359" y="67"/>
                </a:lnTo>
                <a:lnTo>
                  <a:pt x="366" y="45"/>
                </a:lnTo>
                <a:lnTo>
                  <a:pt x="337" y="47"/>
                </a:lnTo>
                <a:lnTo>
                  <a:pt x="316" y="44"/>
                </a:lnTo>
                <a:lnTo>
                  <a:pt x="316" y="25"/>
                </a:lnTo>
                <a:lnTo>
                  <a:pt x="266" y="6"/>
                </a:lnTo>
                <a:lnTo>
                  <a:pt x="217" y="0"/>
                </a:lnTo>
                <a:lnTo>
                  <a:pt x="167" y="4"/>
                </a:lnTo>
                <a:lnTo>
                  <a:pt x="126" y="22"/>
                </a:lnTo>
                <a:lnTo>
                  <a:pt x="57" y="35"/>
                </a:lnTo>
                <a:lnTo>
                  <a:pt x="17" y="70"/>
                </a:lnTo>
                <a:lnTo>
                  <a:pt x="7" y="95"/>
                </a:lnTo>
                <a:lnTo>
                  <a:pt x="0" y="114"/>
                </a:lnTo>
                <a:lnTo>
                  <a:pt x="0" y="114"/>
                </a:lnTo>
                <a:lnTo>
                  <a:pt x="0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1"/>
          <p:cNvSpPr/>
          <p:nvPr/>
        </p:nvSpPr>
        <p:spPr>
          <a:xfrm>
            <a:off x="3902040" y="1886040"/>
            <a:ext cx="452520" cy="169920"/>
          </a:xfrm>
          <a:custGeom>
            <a:avLst/>
            <a:gdLst>
              <a:gd name="textAreaLeft" fmla="*/ 0 w 452520"/>
              <a:gd name="textAreaRight" fmla="*/ 452880 w 4525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85" h="107">
                <a:moveTo>
                  <a:pt x="261" y="40"/>
                </a:moveTo>
                <a:lnTo>
                  <a:pt x="223" y="50"/>
                </a:lnTo>
                <a:lnTo>
                  <a:pt x="159" y="48"/>
                </a:lnTo>
                <a:lnTo>
                  <a:pt x="118" y="48"/>
                </a:lnTo>
                <a:lnTo>
                  <a:pt x="75" y="56"/>
                </a:lnTo>
                <a:lnTo>
                  <a:pt x="24" y="83"/>
                </a:lnTo>
                <a:lnTo>
                  <a:pt x="0" y="107"/>
                </a:lnTo>
                <a:lnTo>
                  <a:pt x="24" y="56"/>
                </a:lnTo>
                <a:lnTo>
                  <a:pt x="73" y="24"/>
                </a:lnTo>
                <a:lnTo>
                  <a:pt x="129" y="18"/>
                </a:lnTo>
                <a:lnTo>
                  <a:pt x="152" y="6"/>
                </a:lnTo>
                <a:lnTo>
                  <a:pt x="220" y="0"/>
                </a:lnTo>
                <a:lnTo>
                  <a:pt x="259" y="8"/>
                </a:lnTo>
                <a:lnTo>
                  <a:pt x="285" y="25"/>
                </a:lnTo>
                <a:lnTo>
                  <a:pt x="261" y="40"/>
                </a:lnTo>
                <a:lnTo>
                  <a:pt x="261" y="40"/>
                </a:lnTo>
                <a:lnTo>
                  <a:pt x="261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42"/>
          <p:cNvSpPr/>
          <p:nvPr/>
        </p:nvSpPr>
        <p:spPr>
          <a:xfrm>
            <a:off x="4673520" y="1871640"/>
            <a:ext cx="362160" cy="763560"/>
          </a:xfrm>
          <a:custGeom>
            <a:avLst/>
            <a:gdLst>
              <a:gd name="textAreaLeft" fmla="*/ 0 w 362160"/>
              <a:gd name="textAreaRight" fmla="*/ 362520 w 3621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28" h="481">
                <a:moveTo>
                  <a:pt x="212" y="0"/>
                </a:moveTo>
                <a:lnTo>
                  <a:pt x="166" y="27"/>
                </a:lnTo>
                <a:lnTo>
                  <a:pt x="125" y="65"/>
                </a:lnTo>
                <a:lnTo>
                  <a:pt x="109" y="88"/>
                </a:lnTo>
                <a:lnTo>
                  <a:pt x="113" y="117"/>
                </a:lnTo>
                <a:lnTo>
                  <a:pt x="87" y="116"/>
                </a:lnTo>
                <a:lnTo>
                  <a:pt x="89" y="144"/>
                </a:lnTo>
                <a:lnTo>
                  <a:pt x="121" y="239"/>
                </a:lnTo>
                <a:lnTo>
                  <a:pt x="148" y="298"/>
                </a:lnTo>
                <a:lnTo>
                  <a:pt x="196" y="339"/>
                </a:lnTo>
                <a:lnTo>
                  <a:pt x="228" y="388"/>
                </a:lnTo>
                <a:lnTo>
                  <a:pt x="216" y="436"/>
                </a:lnTo>
                <a:lnTo>
                  <a:pt x="178" y="452"/>
                </a:lnTo>
                <a:lnTo>
                  <a:pt x="144" y="448"/>
                </a:lnTo>
                <a:lnTo>
                  <a:pt x="59" y="481"/>
                </a:lnTo>
                <a:lnTo>
                  <a:pt x="0" y="481"/>
                </a:lnTo>
                <a:lnTo>
                  <a:pt x="41" y="466"/>
                </a:lnTo>
                <a:lnTo>
                  <a:pt x="63" y="450"/>
                </a:lnTo>
                <a:lnTo>
                  <a:pt x="79" y="434"/>
                </a:lnTo>
                <a:lnTo>
                  <a:pt x="97" y="429"/>
                </a:lnTo>
                <a:lnTo>
                  <a:pt x="132" y="422"/>
                </a:lnTo>
                <a:lnTo>
                  <a:pt x="182" y="422"/>
                </a:lnTo>
                <a:lnTo>
                  <a:pt x="198" y="402"/>
                </a:lnTo>
                <a:lnTo>
                  <a:pt x="198" y="371"/>
                </a:lnTo>
                <a:lnTo>
                  <a:pt x="182" y="345"/>
                </a:lnTo>
                <a:lnTo>
                  <a:pt x="164" y="333"/>
                </a:lnTo>
                <a:lnTo>
                  <a:pt x="140" y="329"/>
                </a:lnTo>
                <a:lnTo>
                  <a:pt x="93" y="373"/>
                </a:lnTo>
                <a:lnTo>
                  <a:pt x="75" y="331"/>
                </a:lnTo>
                <a:lnTo>
                  <a:pt x="54" y="250"/>
                </a:lnTo>
                <a:lnTo>
                  <a:pt x="48" y="156"/>
                </a:lnTo>
                <a:lnTo>
                  <a:pt x="46" y="117"/>
                </a:lnTo>
                <a:lnTo>
                  <a:pt x="55" y="86"/>
                </a:lnTo>
                <a:lnTo>
                  <a:pt x="75" y="54"/>
                </a:lnTo>
                <a:lnTo>
                  <a:pt x="82" y="69"/>
                </a:lnTo>
                <a:lnTo>
                  <a:pt x="97" y="77"/>
                </a:lnTo>
                <a:lnTo>
                  <a:pt x="116" y="65"/>
                </a:lnTo>
                <a:lnTo>
                  <a:pt x="146" y="31"/>
                </a:lnTo>
                <a:lnTo>
                  <a:pt x="178" y="9"/>
                </a:lnTo>
                <a:lnTo>
                  <a:pt x="212" y="0"/>
                </a:lnTo>
                <a:lnTo>
                  <a:pt x="212" y="0"/>
                </a:lnTo>
                <a:lnTo>
                  <a:pt x="2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43"/>
          <p:cNvSpPr/>
          <p:nvPr/>
        </p:nvSpPr>
        <p:spPr>
          <a:xfrm>
            <a:off x="4849920" y="1862280"/>
            <a:ext cx="504720" cy="193680"/>
          </a:xfrm>
          <a:custGeom>
            <a:avLst/>
            <a:gdLst>
              <a:gd name="textAreaLeft" fmla="*/ 0 w 504720"/>
              <a:gd name="textAreaRight" fmla="*/ 504720 w 504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18" h="122">
                <a:moveTo>
                  <a:pt x="0" y="111"/>
                </a:moveTo>
                <a:lnTo>
                  <a:pt x="43" y="69"/>
                </a:lnTo>
                <a:lnTo>
                  <a:pt x="77" y="45"/>
                </a:lnTo>
                <a:lnTo>
                  <a:pt x="119" y="28"/>
                </a:lnTo>
                <a:lnTo>
                  <a:pt x="142" y="24"/>
                </a:lnTo>
                <a:lnTo>
                  <a:pt x="171" y="23"/>
                </a:lnTo>
                <a:lnTo>
                  <a:pt x="148" y="0"/>
                </a:lnTo>
                <a:lnTo>
                  <a:pt x="182" y="0"/>
                </a:lnTo>
                <a:lnTo>
                  <a:pt x="209" y="6"/>
                </a:lnTo>
                <a:lnTo>
                  <a:pt x="239" y="6"/>
                </a:lnTo>
                <a:lnTo>
                  <a:pt x="235" y="21"/>
                </a:lnTo>
                <a:lnTo>
                  <a:pt x="278" y="24"/>
                </a:lnTo>
                <a:lnTo>
                  <a:pt x="298" y="17"/>
                </a:lnTo>
                <a:lnTo>
                  <a:pt x="280" y="40"/>
                </a:lnTo>
                <a:lnTo>
                  <a:pt x="318" y="31"/>
                </a:lnTo>
                <a:lnTo>
                  <a:pt x="302" y="55"/>
                </a:lnTo>
                <a:lnTo>
                  <a:pt x="316" y="75"/>
                </a:lnTo>
                <a:lnTo>
                  <a:pt x="280" y="73"/>
                </a:lnTo>
                <a:lnTo>
                  <a:pt x="262" y="81"/>
                </a:lnTo>
                <a:lnTo>
                  <a:pt x="251" y="101"/>
                </a:lnTo>
                <a:lnTo>
                  <a:pt x="227" y="101"/>
                </a:lnTo>
                <a:lnTo>
                  <a:pt x="196" y="113"/>
                </a:lnTo>
                <a:lnTo>
                  <a:pt x="164" y="122"/>
                </a:lnTo>
                <a:lnTo>
                  <a:pt x="108" y="122"/>
                </a:lnTo>
                <a:lnTo>
                  <a:pt x="189" y="106"/>
                </a:lnTo>
                <a:lnTo>
                  <a:pt x="241" y="77"/>
                </a:lnTo>
                <a:lnTo>
                  <a:pt x="207" y="62"/>
                </a:lnTo>
                <a:lnTo>
                  <a:pt x="174" y="53"/>
                </a:lnTo>
                <a:lnTo>
                  <a:pt x="142" y="51"/>
                </a:lnTo>
                <a:lnTo>
                  <a:pt x="113" y="51"/>
                </a:lnTo>
                <a:lnTo>
                  <a:pt x="85" y="57"/>
                </a:lnTo>
                <a:lnTo>
                  <a:pt x="60" y="69"/>
                </a:lnTo>
                <a:lnTo>
                  <a:pt x="43" y="87"/>
                </a:lnTo>
                <a:lnTo>
                  <a:pt x="30" y="108"/>
                </a:lnTo>
                <a:lnTo>
                  <a:pt x="73" y="122"/>
                </a:lnTo>
                <a:lnTo>
                  <a:pt x="21" y="122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4"/>
          <p:cNvSpPr/>
          <p:nvPr/>
        </p:nvSpPr>
        <p:spPr>
          <a:xfrm>
            <a:off x="5035680" y="1943280"/>
            <a:ext cx="64800" cy="64800"/>
          </a:xfrm>
          <a:custGeom>
            <a:avLst/>
            <a:gdLst>
              <a:gd name="textAreaLeft" fmla="*/ 0 w 64800"/>
              <a:gd name="textAreaRight" fmla="*/ 65160 w 648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41" h="41">
                <a:moveTo>
                  <a:pt x="0" y="12"/>
                </a:moveTo>
                <a:lnTo>
                  <a:pt x="13" y="19"/>
                </a:lnTo>
                <a:lnTo>
                  <a:pt x="15" y="28"/>
                </a:lnTo>
                <a:lnTo>
                  <a:pt x="5" y="37"/>
                </a:lnTo>
                <a:lnTo>
                  <a:pt x="21" y="41"/>
                </a:lnTo>
                <a:lnTo>
                  <a:pt x="35" y="37"/>
                </a:lnTo>
                <a:lnTo>
                  <a:pt x="41" y="24"/>
                </a:lnTo>
                <a:lnTo>
                  <a:pt x="37" y="9"/>
                </a:lnTo>
                <a:lnTo>
                  <a:pt x="23" y="0"/>
                </a:lnTo>
                <a:lnTo>
                  <a:pt x="9" y="3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45"/>
          <p:cNvSpPr/>
          <p:nvPr/>
        </p:nvSpPr>
        <p:spPr>
          <a:xfrm>
            <a:off x="4975200" y="1936800"/>
            <a:ext cx="171360" cy="115920"/>
          </a:xfrm>
          <a:custGeom>
            <a:avLst/>
            <a:gdLst>
              <a:gd name="textAreaLeft" fmla="*/ 0 w 171360"/>
              <a:gd name="textAreaRight" fmla="*/ 171720 w 1713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08" h="73">
                <a:moveTo>
                  <a:pt x="24" y="0"/>
                </a:moveTo>
                <a:lnTo>
                  <a:pt x="18" y="38"/>
                </a:lnTo>
                <a:lnTo>
                  <a:pt x="34" y="59"/>
                </a:lnTo>
                <a:lnTo>
                  <a:pt x="47" y="63"/>
                </a:lnTo>
                <a:lnTo>
                  <a:pt x="65" y="63"/>
                </a:lnTo>
                <a:lnTo>
                  <a:pt x="81" y="54"/>
                </a:lnTo>
                <a:lnTo>
                  <a:pt x="94" y="38"/>
                </a:lnTo>
                <a:lnTo>
                  <a:pt x="95" y="20"/>
                </a:lnTo>
                <a:lnTo>
                  <a:pt x="87" y="2"/>
                </a:lnTo>
                <a:lnTo>
                  <a:pt x="103" y="2"/>
                </a:lnTo>
                <a:lnTo>
                  <a:pt x="108" y="22"/>
                </a:lnTo>
                <a:lnTo>
                  <a:pt x="106" y="43"/>
                </a:lnTo>
                <a:lnTo>
                  <a:pt x="94" y="61"/>
                </a:lnTo>
                <a:lnTo>
                  <a:pt x="74" y="70"/>
                </a:lnTo>
                <a:lnTo>
                  <a:pt x="45" y="73"/>
                </a:lnTo>
                <a:lnTo>
                  <a:pt x="24" y="64"/>
                </a:lnTo>
                <a:lnTo>
                  <a:pt x="6" y="38"/>
                </a:lnTo>
                <a:lnTo>
                  <a:pt x="0" y="18"/>
                </a:lnTo>
                <a:lnTo>
                  <a:pt x="0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46"/>
          <p:cNvSpPr/>
          <p:nvPr/>
        </p:nvSpPr>
        <p:spPr>
          <a:xfrm>
            <a:off x="4511520" y="2593800"/>
            <a:ext cx="136800" cy="32040"/>
          </a:xfrm>
          <a:custGeom>
            <a:avLst/>
            <a:gdLst>
              <a:gd name="textAreaLeft" fmla="*/ 0 w 136800"/>
              <a:gd name="textAreaRight" fmla="*/ 137160 w 136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86" h="20">
                <a:moveTo>
                  <a:pt x="86" y="20"/>
                </a:moveTo>
                <a:lnTo>
                  <a:pt x="37" y="0"/>
                </a:lnTo>
                <a:lnTo>
                  <a:pt x="0" y="10"/>
                </a:lnTo>
                <a:lnTo>
                  <a:pt x="11" y="20"/>
                </a:lnTo>
                <a:lnTo>
                  <a:pt x="55" y="20"/>
                </a:lnTo>
                <a:lnTo>
                  <a:pt x="86" y="20"/>
                </a:lnTo>
                <a:lnTo>
                  <a:pt x="86" y="20"/>
                </a:lnTo>
                <a:lnTo>
                  <a:pt x="8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47"/>
          <p:cNvSpPr/>
          <p:nvPr/>
        </p:nvSpPr>
        <p:spPr>
          <a:xfrm>
            <a:off x="5062680" y="2503440"/>
            <a:ext cx="245880" cy="2239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55" h="141">
                <a:moveTo>
                  <a:pt x="0" y="0"/>
                </a:moveTo>
                <a:lnTo>
                  <a:pt x="42" y="32"/>
                </a:lnTo>
                <a:lnTo>
                  <a:pt x="137" y="81"/>
                </a:lnTo>
                <a:lnTo>
                  <a:pt x="155" y="101"/>
                </a:lnTo>
                <a:lnTo>
                  <a:pt x="155" y="141"/>
                </a:lnTo>
                <a:lnTo>
                  <a:pt x="146" y="107"/>
                </a:lnTo>
                <a:lnTo>
                  <a:pt x="111" y="81"/>
                </a:lnTo>
                <a:lnTo>
                  <a:pt x="39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48"/>
          <p:cNvSpPr/>
          <p:nvPr/>
        </p:nvSpPr>
        <p:spPr>
          <a:xfrm>
            <a:off x="4440240" y="2724120"/>
            <a:ext cx="760320" cy="139680"/>
          </a:xfrm>
          <a:custGeom>
            <a:avLst/>
            <a:gdLst>
              <a:gd name="textAreaLeft" fmla="*/ 0 w 760320"/>
              <a:gd name="textAreaRight" fmla="*/ 760680 w 760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79" h="88">
                <a:moveTo>
                  <a:pt x="0" y="88"/>
                </a:moveTo>
                <a:lnTo>
                  <a:pt x="70" y="77"/>
                </a:lnTo>
                <a:lnTo>
                  <a:pt x="117" y="73"/>
                </a:lnTo>
                <a:lnTo>
                  <a:pt x="206" y="70"/>
                </a:lnTo>
                <a:lnTo>
                  <a:pt x="238" y="63"/>
                </a:lnTo>
                <a:lnTo>
                  <a:pt x="313" y="47"/>
                </a:lnTo>
                <a:lnTo>
                  <a:pt x="377" y="31"/>
                </a:lnTo>
                <a:lnTo>
                  <a:pt x="411" y="27"/>
                </a:lnTo>
                <a:lnTo>
                  <a:pt x="429" y="27"/>
                </a:lnTo>
                <a:lnTo>
                  <a:pt x="429" y="55"/>
                </a:lnTo>
                <a:lnTo>
                  <a:pt x="431" y="72"/>
                </a:lnTo>
                <a:lnTo>
                  <a:pt x="456" y="45"/>
                </a:lnTo>
                <a:lnTo>
                  <a:pt x="456" y="72"/>
                </a:lnTo>
                <a:lnTo>
                  <a:pt x="475" y="36"/>
                </a:lnTo>
                <a:lnTo>
                  <a:pt x="479" y="9"/>
                </a:lnTo>
                <a:lnTo>
                  <a:pt x="465" y="4"/>
                </a:lnTo>
                <a:lnTo>
                  <a:pt x="429" y="0"/>
                </a:lnTo>
                <a:lnTo>
                  <a:pt x="379" y="0"/>
                </a:lnTo>
                <a:lnTo>
                  <a:pt x="311" y="2"/>
                </a:lnTo>
                <a:lnTo>
                  <a:pt x="285" y="9"/>
                </a:lnTo>
                <a:lnTo>
                  <a:pt x="229" y="18"/>
                </a:lnTo>
                <a:lnTo>
                  <a:pt x="202" y="20"/>
                </a:lnTo>
                <a:lnTo>
                  <a:pt x="119" y="31"/>
                </a:lnTo>
                <a:lnTo>
                  <a:pt x="84" y="43"/>
                </a:lnTo>
                <a:lnTo>
                  <a:pt x="134" y="36"/>
                </a:lnTo>
                <a:lnTo>
                  <a:pt x="190" y="31"/>
                </a:lnTo>
                <a:lnTo>
                  <a:pt x="224" y="31"/>
                </a:lnTo>
                <a:lnTo>
                  <a:pt x="263" y="23"/>
                </a:lnTo>
                <a:lnTo>
                  <a:pt x="291" y="18"/>
                </a:lnTo>
                <a:lnTo>
                  <a:pt x="266" y="48"/>
                </a:lnTo>
                <a:lnTo>
                  <a:pt x="227" y="57"/>
                </a:lnTo>
                <a:lnTo>
                  <a:pt x="175" y="63"/>
                </a:lnTo>
                <a:lnTo>
                  <a:pt x="122" y="65"/>
                </a:lnTo>
                <a:lnTo>
                  <a:pt x="90" y="72"/>
                </a:lnTo>
                <a:lnTo>
                  <a:pt x="41" y="75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49"/>
          <p:cNvSpPr/>
          <p:nvPr/>
        </p:nvSpPr>
        <p:spPr>
          <a:xfrm>
            <a:off x="4386240" y="2860560"/>
            <a:ext cx="109440" cy="76320"/>
          </a:xfrm>
          <a:custGeom>
            <a:avLst/>
            <a:gdLst>
              <a:gd name="textAreaLeft" fmla="*/ 0 w 109440"/>
              <a:gd name="textAreaRight" fmla="*/ 109800 w 109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9" h="48">
                <a:moveTo>
                  <a:pt x="0" y="10"/>
                </a:moveTo>
                <a:lnTo>
                  <a:pt x="41" y="48"/>
                </a:lnTo>
                <a:lnTo>
                  <a:pt x="41" y="30"/>
                </a:lnTo>
                <a:lnTo>
                  <a:pt x="69" y="32"/>
                </a:lnTo>
                <a:lnTo>
                  <a:pt x="43" y="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50"/>
          <p:cNvSpPr/>
          <p:nvPr/>
        </p:nvSpPr>
        <p:spPr>
          <a:xfrm>
            <a:off x="4492800" y="2835360"/>
            <a:ext cx="628560" cy="176040"/>
          </a:xfrm>
          <a:custGeom>
            <a:avLst/>
            <a:gdLst>
              <a:gd name="textAreaLeft" fmla="*/ 0 w 628560"/>
              <a:gd name="textAreaRight" fmla="*/ 628920 w 6285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396" h="111">
                <a:moveTo>
                  <a:pt x="0" y="61"/>
                </a:moveTo>
                <a:lnTo>
                  <a:pt x="49" y="84"/>
                </a:lnTo>
                <a:lnTo>
                  <a:pt x="118" y="97"/>
                </a:lnTo>
                <a:lnTo>
                  <a:pt x="175" y="97"/>
                </a:lnTo>
                <a:lnTo>
                  <a:pt x="241" y="84"/>
                </a:lnTo>
                <a:lnTo>
                  <a:pt x="302" y="64"/>
                </a:lnTo>
                <a:lnTo>
                  <a:pt x="353" y="34"/>
                </a:lnTo>
                <a:lnTo>
                  <a:pt x="396" y="0"/>
                </a:lnTo>
                <a:lnTo>
                  <a:pt x="351" y="44"/>
                </a:lnTo>
                <a:lnTo>
                  <a:pt x="314" y="71"/>
                </a:lnTo>
                <a:lnTo>
                  <a:pt x="254" y="95"/>
                </a:lnTo>
                <a:lnTo>
                  <a:pt x="201" y="107"/>
                </a:lnTo>
                <a:lnTo>
                  <a:pt x="146" y="111"/>
                </a:lnTo>
                <a:lnTo>
                  <a:pt x="91" y="105"/>
                </a:lnTo>
                <a:lnTo>
                  <a:pt x="42" y="91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51"/>
          <p:cNvSpPr/>
          <p:nvPr/>
        </p:nvSpPr>
        <p:spPr>
          <a:xfrm>
            <a:off x="4511520" y="2824200"/>
            <a:ext cx="649440" cy="258840"/>
          </a:xfrm>
          <a:custGeom>
            <a:avLst/>
            <a:gdLst>
              <a:gd name="textAreaLeft" fmla="*/ 0 w 649440"/>
              <a:gd name="textAreaRight" fmla="*/ 649800 w 649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09" h="163">
                <a:moveTo>
                  <a:pt x="409" y="10"/>
                </a:moveTo>
                <a:lnTo>
                  <a:pt x="384" y="59"/>
                </a:lnTo>
                <a:lnTo>
                  <a:pt x="343" y="98"/>
                </a:lnTo>
                <a:lnTo>
                  <a:pt x="282" y="134"/>
                </a:lnTo>
                <a:lnTo>
                  <a:pt x="227" y="155"/>
                </a:lnTo>
                <a:lnTo>
                  <a:pt x="170" y="163"/>
                </a:lnTo>
                <a:lnTo>
                  <a:pt x="104" y="157"/>
                </a:lnTo>
                <a:lnTo>
                  <a:pt x="43" y="136"/>
                </a:lnTo>
                <a:lnTo>
                  <a:pt x="0" y="104"/>
                </a:lnTo>
                <a:lnTo>
                  <a:pt x="51" y="132"/>
                </a:lnTo>
                <a:lnTo>
                  <a:pt x="87" y="142"/>
                </a:lnTo>
                <a:lnTo>
                  <a:pt x="143" y="150"/>
                </a:lnTo>
                <a:lnTo>
                  <a:pt x="193" y="148"/>
                </a:lnTo>
                <a:lnTo>
                  <a:pt x="240" y="139"/>
                </a:lnTo>
                <a:lnTo>
                  <a:pt x="271" y="124"/>
                </a:lnTo>
                <a:lnTo>
                  <a:pt x="286" y="114"/>
                </a:lnTo>
                <a:lnTo>
                  <a:pt x="292" y="102"/>
                </a:lnTo>
                <a:lnTo>
                  <a:pt x="280" y="91"/>
                </a:lnTo>
                <a:lnTo>
                  <a:pt x="260" y="89"/>
                </a:lnTo>
                <a:lnTo>
                  <a:pt x="304" y="69"/>
                </a:lnTo>
                <a:lnTo>
                  <a:pt x="343" y="41"/>
                </a:lnTo>
                <a:lnTo>
                  <a:pt x="391" y="0"/>
                </a:lnTo>
                <a:lnTo>
                  <a:pt x="384" y="30"/>
                </a:lnTo>
                <a:lnTo>
                  <a:pt x="409" y="10"/>
                </a:lnTo>
                <a:lnTo>
                  <a:pt x="409" y="10"/>
                </a:lnTo>
                <a:lnTo>
                  <a:pt x="4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52"/>
          <p:cNvSpPr/>
          <p:nvPr/>
        </p:nvSpPr>
        <p:spPr>
          <a:xfrm>
            <a:off x="4248000" y="2538360"/>
            <a:ext cx="184320" cy="393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16" h="248">
                <a:moveTo>
                  <a:pt x="116" y="0"/>
                </a:moveTo>
                <a:lnTo>
                  <a:pt x="98" y="59"/>
                </a:lnTo>
                <a:lnTo>
                  <a:pt x="67" y="112"/>
                </a:lnTo>
                <a:lnTo>
                  <a:pt x="45" y="142"/>
                </a:lnTo>
                <a:lnTo>
                  <a:pt x="31" y="172"/>
                </a:lnTo>
                <a:lnTo>
                  <a:pt x="16" y="217"/>
                </a:lnTo>
                <a:lnTo>
                  <a:pt x="12" y="248"/>
                </a:lnTo>
                <a:lnTo>
                  <a:pt x="0" y="209"/>
                </a:lnTo>
                <a:lnTo>
                  <a:pt x="0" y="178"/>
                </a:lnTo>
                <a:lnTo>
                  <a:pt x="9" y="146"/>
                </a:lnTo>
                <a:lnTo>
                  <a:pt x="33" y="114"/>
                </a:lnTo>
                <a:lnTo>
                  <a:pt x="57" y="89"/>
                </a:lnTo>
                <a:lnTo>
                  <a:pt x="78" y="66"/>
                </a:lnTo>
                <a:lnTo>
                  <a:pt x="93" y="41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53"/>
          <p:cNvSpPr/>
          <p:nvPr/>
        </p:nvSpPr>
        <p:spPr>
          <a:xfrm>
            <a:off x="3962520" y="2070000"/>
            <a:ext cx="477720" cy="184320"/>
          </a:xfrm>
          <a:custGeom>
            <a:avLst/>
            <a:gdLst>
              <a:gd name="textAreaLeft" fmla="*/ 0 w 477720"/>
              <a:gd name="textAreaRight" fmla="*/ 477720 w 4777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01" h="116">
                <a:moveTo>
                  <a:pt x="253" y="64"/>
                </a:moveTo>
                <a:lnTo>
                  <a:pt x="301" y="48"/>
                </a:lnTo>
                <a:lnTo>
                  <a:pt x="273" y="25"/>
                </a:lnTo>
                <a:lnTo>
                  <a:pt x="217" y="7"/>
                </a:lnTo>
                <a:lnTo>
                  <a:pt x="156" y="0"/>
                </a:lnTo>
                <a:lnTo>
                  <a:pt x="118" y="7"/>
                </a:lnTo>
                <a:lnTo>
                  <a:pt x="120" y="23"/>
                </a:lnTo>
                <a:lnTo>
                  <a:pt x="91" y="27"/>
                </a:lnTo>
                <a:lnTo>
                  <a:pt x="84" y="13"/>
                </a:lnTo>
                <a:lnTo>
                  <a:pt x="44" y="41"/>
                </a:lnTo>
                <a:lnTo>
                  <a:pt x="23" y="64"/>
                </a:lnTo>
                <a:lnTo>
                  <a:pt x="39" y="76"/>
                </a:lnTo>
                <a:lnTo>
                  <a:pt x="26" y="88"/>
                </a:lnTo>
                <a:lnTo>
                  <a:pt x="0" y="102"/>
                </a:lnTo>
                <a:lnTo>
                  <a:pt x="30" y="111"/>
                </a:lnTo>
                <a:lnTo>
                  <a:pt x="51" y="111"/>
                </a:lnTo>
                <a:lnTo>
                  <a:pt x="80" y="104"/>
                </a:lnTo>
                <a:lnTo>
                  <a:pt x="94" y="116"/>
                </a:lnTo>
                <a:lnTo>
                  <a:pt x="112" y="104"/>
                </a:lnTo>
                <a:lnTo>
                  <a:pt x="130" y="109"/>
                </a:lnTo>
                <a:lnTo>
                  <a:pt x="146" y="89"/>
                </a:lnTo>
                <a:lnTo>
                  <a:pt x="105" y="84"/>
                </a:lnTo>
                <a:lnTo>
                  <a:pt x="91" y="72"/>
                </a:lnTo>
                <a:lnTo>
                  <a:pt x="110" y="52"/>
                </a:lnTo>
                <a:lnTo>
                  <a:pt x="134" y="35"/>
                </a:lnTo>
                <a:lnTo>
                  <a:pt x="162" y="27"/>
                </a:lnTo>
                <a:lnTo>
                  <a:pt x="196" y="27"/>
                </a:lnTo>
                <a:lnTo>
                  <a:pt x="233" y="34"/>
                </a:lnTo>
                <a:lnTo>
                  <a:pt x="262" y="39"/>
                </a:lnTo>
                <a:lnTo>
                  <a:pt x="253" y="64"/>
                </a:lnTo>
                <a:lnTo>
                  <a:pt x="253" y="64"/>
                </a:lnTo>
                <a:lnTo>
                  <a:pt x="253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54"/>
          <p:cNvSpPr/>
          <p:nvPr/>
        </p:nvSpPr>
        <p:spPr>
          <a:xfrm>
            <a:off x="4213080" y="2174760"/>
            <a:ext cx="115920" cy="50760"/>
          </a:xfrm>
          <a:custGeom>
            <a:avLst/>
            <a:gdLst>
              <a:gd name="textAreaLeft" fmla="*/ 0 w 115920"/>
              <a:gd name="textAreaRight" fmla="*/ 116280 w 115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3" h="32">
                <a:moveTo>
                  <a:pt x="0" y="20"/>
                </a:moveTo>
                <a:lnTo>
                  <a:pt x="36" y="12"/>
                </a:lnTo>
                <a:lnTo>
                  <a:pt x="73" y="0"/>
                </a:lnTo>
                <a:lnTo>
                  <a:pt x="41" y="23"/>
                </a:lnTo>
                <a:lnTo>
                  <a:pt x="19" y="23"/>
                </a:lnTo>
                <a:lnTo>
                  <a:pt x="0" y="32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55"/>
          <p:cNvSpPr/>
          <p:nvPr/>
        </p:nvSpPr>
        <p:spPr>
          <a:xfrm>
            <a:off x="4057560" y="2038320"/>
            <a:ext cx="289080" cy="85680"/>
          </a:xfrm>
          <a:custGeom>
            <a:avLst/>
            <a:gdLst>
              <a:gd name="textAreaLeft" fmla="*/ 0 w 289080"/>
              <a:gd name="textAreaRight" fmla="*/ 289440 w 2890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82" h="54">
                <a:moveTo>
                  <a:pt x="0" y="51"/>
                </a:moveTo>
                <a:lnTo>
                  <a:pt x="45" y="16"/>
                </a:lnTo>
                <a:lnTo>
                  <a:pt x="98" y="0"/>
                </a:lnTo>
                <a:lnTo>
                  <a:pt x="141" y="0"/>
                </a:lnTo>
                <a:lnTo>
                  <a:pt x="182" y="9"/>
                </a:lnTo>
                <a:lnTo>
                  <a:pt x="109" y="9"/>
                </a:lnTo>
                <a:lnTo>
                  <a:pt x="52" y="25"/>
                </a:lnTo>
                <a:lnTo>
                  <a:pt x="20" y="54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56"/>
          <p:cNvSpPr/>
          <p:nvPr/>
        </p:nvSpPr>
        <p:spPr>
          <a:xfrm>
            <a:off x="4222800" y="2116080"/>
            <a:ext cx="55440" cy="47520"/>
          </a:xfrm>
          <a:custGeom>
            <a:avLst/>
            <a:gdLst>
              <a:gd name="textAreaLeft" fmla="*/ 0 w 55440"/>
              <a:gd name="textAreaRight" fmla="*/ 55800 w 554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5" h="30">
                <a:moveTo>
                  <a:pt x="5" y="5"/>
                </a:moveTo>
                <a:lnTo>
                  <a:pt x="15" y="12"/>
                </a:lnTo>
                <a:lnTo>
                  <a:pt x="15" y="23"/>
                </a:lnTo>
                <a:lnTo>
                  <a:pt x="0" y="30"/>
                </a:lnTo>
                <a:lnTo>
                  <a:pt x="18" y="30"/>
                </a:lnTo>
                <a:lnTo>
                  <a:pt x="35" y="21"/>
                </a:lnTo>
                <a:lnTo>
                  <a:pt x="35" y="8"/>
                </a:lnTo>
                <a:lnTo>
                  <a:pt x="23" y="0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57"/>
          <p:cNvSpPr/>
          <p:nvPr/>
        </p:nvSpPr>
        <p:spPr>
          <a:xfrm>
            <a:off x="4152960" y="2100240"/>
            <a:ext cx="169920" cy="103320"/>
          </a:xfrm>
          <a:custGeom>
            <a:avLst/>
            <a:gdLst>
              <a:gd name="textAreaLeft" fmla="*/ 0 w 169920"/>
              <a:gd name="textAreaRight" fmla="*/ 170280 w 1699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7" h="65">
                <a:moveTo>
                  <a:pt x="22" y="6"/>
                </a:moveTo>
                <a:lnTo>
                  <a:pt x="16" y="34"/>
                </a:lnTo>
                <a:lnTo>
                  <a:pt x="30" y="53"/>
                </a:lnTo>
                <a:lnTo>
                  <a:pt x="53" y="59"/>
                </a:lnTo>
                <a:lnTo>
                  <a:pt x="79" y="53"/>
                </a:lnTo>
                <a:lnTo>
                  <a:pt x="95" y="36"/>
                </a:lnTo>
                <a:lnTo>
                  <a:pt x="97" y="20"/>
                </a:lnTo>
                <a:lnTo>
                  <a:pt x="87" y="0"/>
                </a:lnTo>
                <a:lnTo>
                  <a:pt x="107" y="6"/>
                </a:lnTo>
                <a:lnTo>
                  <a:pt x="107" y="29"/>
                </a:lnTo>
                <a:lnTo>
                  <a:pt x="99" y="53"/>
                </a:lnTo>
                <a:lnTo>
                  <a:pt x="74" y="65"/>
                </a:lnTo>
                <a:lnTo>
                  <a:pt x="38" y="65"/>
                </a:lnTo>
                <a:lnTo>
                  <a:pt x="22" y="61"/>
                </a:lnTo>
                <a:lnTo>
                  <a:pt x="10" y="45"/>
                </a:lnTo>
                <a:lnTo>
                  <a:pt x="4" y="29"/>
                </a:lnTo>
                <a:lnTo>
                  <a:pt x="0" y="15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58"/>
          <p:cNvSpPr/>
          <p:nvPr/>
        </p:nvSpPr>
        <p:spPr>
          <a:xfrm>
            <a:off x="3735360" y="592200"/>
            <a:ext cx="1488960" cy="1679400"/>
          </a:xfrm>
          <a:custGeom>
            <a:avLst/>
            <a:gdLst>
              <a:gd name="textAreaLeft" fmla="*/ 0 w 1488960"/>
              <a:gd name="textAreaRight" fmla="*/ 1489320 w 1488960"/>
              <a:gd name="textAreaTop" fmla="*/ 0 h 1679400"/>
              <a:gd name="textAreaBottom" fmla="*/ 1679760 h 1679400"/>
            </a:gdLst>
            <a:ahLst/>
            <a:rect l="textAreaLeft" t="textAreaTop" r="textAreaRight" b="textAreaBottom"/>
            <a:pathLst>
              <a:path w="938" h="1058">
                <a:moveTo>
                  <a:pt x="599" y="311"/>
                </a:moveTo>
                <a:lnTo>
                  <a:pt x="622" y="268"/>
                </a:lnTo>
                <a:lnTo>
                  <a:pt x="636" y="311"/>
                </a:lnTo>
                <a:lnTo>
                  <a:pt x="675" y="249"/>
                </a:lnTo>
                <a:lnTo>
                  <a:pt x="680" y="316"/>
                </a:lnTo>
                <a:lnTo>
                  <a:pt x="728" y="268"/>
                </a:lnTo>
                <a:lnTo>
                  <a:pt x="732" y="321"/>
                </a:lnTo>
                <a:lnTo>
                  <a:pt x="780" y="298"/>
                </a:lnTo>
                <a:lnTo>
                  <a:pt x="804" y="331"/>
                </a:lnTo>
                <a:lnTo>
                  <a:pt x="861" y="311"/>
                </a:lnTo>
                <a:lnTo>
                  <a:pt x="899" y="273"/>
                </a:lnTo>
                <a:lnTo>
                  <a:pt x="924" y="216"/>
                </a:lnTo>
                <a:lnTo>
                  <a:pt x="938" y="134"/>
                </a:lnTo>
                <a:lnTo>
                  <a:pt x="899" y="58"/>
                </a:lnTo>
                <a:lnTo>
                  <a:pt x="833" y="0"/>
                </a:lnTo>
                <a:lnTo>
                  <a:pt x="866" y="48"/>
                </a:lnTo>
                <a:lnTo>
                  <a:pt x="885" y="106"/>
                </a:lnTo>
                <a:lnTo>
                  <a:pt x="885" y="148"/>
                </a:lnTo>
                <a:lnTo>
                  <a:pt x="842" y="76"/>
                </a:lnTo>
                <a:lnTo>
                  <a:pt x="780" y="48"/>
                </a:lnTo>
                <a:lnTo>
                  <a:pt x="695" y="38"/>
                </a:lnTo>
                <a:lnTo>
                  <a:pt x="636" y="58"/>
                </a:lnTo>
                <a:lnTo>
                  <a:pt x="565" y="96"/>
                </a:lnTo>
                <a:lnTo>
                  <a:pt x="516" y="116"/>
                </a:lnTo>
                <a:lnTo>
                  <a:pt x="460" y="134"/>
                </a:lnTo>
                <a:lnTo>
                  <a:pt x="364" y="153"/>
                </a:lnTo>
                <a:lnTo>
                  <a:pt x="465" y="163"/>
                </a:lnTo>
                <a:lnTo>
                  <a:pt x="556" y="163"/>
                </a:lnTo>
                <a:lnTo>
                  <a:pt x="627" y="148"/>
                </a:lnTo>
                <a:lnTo>
                  <a:pt x="685" y="120"/>
                </a:lnTo>
                <a:lnTo>
                  <a:pt x="728" y="116"/>
                </a:lnTo>
                <a:lnTo>
                  <a:pt x="765" y="125"/>
                </a:lnTo>
                <a:lnTo>
                  <a:pt x="785" y="148"/>
                </a:lnTo>
                <a:lnTo>
                  <a:pt x="785" y="186"/>
                </a:lnTo>
                <a:lnTo>
                  <a:pt x="742" y="153"/>
                </a:lnTo>
                <a:lnTo>
                  <a:pt x="685" y="148"/>
                </a:lnTo>
                <a:lnTo>
                  <a:pt x="636" y="167"/>
                </a:lnTo>
                <a:lnTo>
                  <a:pt x="570" y="197"/>
                </a:lnTo>
                <a:lnTo>
                  <a:pt x="488" y="220"/>
                </a:lnTo>
                <a:lnTo>
                  <a:pt x="411" y="235"/>
                </a:lnTo>
                <a:lnTo>
                  <a:pt x="331" y="235"/>
                </a:lnTo>
                <a:lnTo>
                  <a:pt x="187" y="216"/>
                </a:lnTo>
                <a:lnTo>
                  <a:pt x="216" y="259"/>
                </a:lnTo>
                <a:lnTo>
                  <a:pt x="163" y="249"/>
                </a:lnTo>
                <a:lnTo>
                  <a:pt x="77" y="211"/>
                </a:lnTo>
                <a:lnTo>
                  <a:pt x="120" y="273"/>
                </a:lnTo>
                <a:lnTo>
                  <a:pt x="167" y="316"/>
                </a:lnTo>
                <a:lnTo>
                  <a:pt x="216" y="335"/>
                </a:lnTo>
                <a:lnTo>
                  <a:pt x="163" y="345"/>
                </a:lnTo>
                <a:lnTo>
                  <a:pt x="92" y="335"/>
                </a:lnTo>
                <a:lnTo>
                  <a:pt x="0" y="307"/>
                </a:lnTo>
                <a:lnTo>
                  <a:pt x="57" y="388"/>
                </a:lnTo>
                <a:lnTo>
                  <a:pt x="115" y="422"/>
                </a:lnTo>
                <a:lnTo>
                  <a:pt x="101" y="484"/>
                </a:lnTo>
                <a:lnTo>
                  <a:pt x="110" y="537"/>
                </a:lnTo>
                <a:lnTo>
                  <a:pt x="120" y="609"/>
                </a:lnTo>
                <a:lnTo>
                  <a:pt x="68" y="675"/>
                </a:lnTo>
                <a:lnTo>
                  <a:pt x="43" y="757"/>
                </a:lnTo>
                <a:lnTo>
                  <a:pt x="34" y="824"/>
                </a:lnTo>
                <a:lnTo>
                  <a:pt x="43" y="881"/>
                </a:lnTo>
                <a:lnTo>
                  <a:pt x="34" y="967"/>
                </a:lnTo>
                <a:lnTo>
                  <a:pt x="5" y="1058"/>
                </a:lnTo>
                <a:lnTo>
                  <a:pt x="72" y="991"/>
                </a:lnTo>
                <a:lnTo>
                  <a:pt x="125" y="900"/>
                </a:lnTo>
                <a:lnTo>
                  <a:pt x="158" y="809"/>
                </a:lnTo>
                <a:lnTo>
                  <a:pt x="192" y="752"/>
                </a:lnTo>
                <a:lnTo>
                  <a:pt x="202" y="671"/>
                </a:lnTo>
                <a:lnTo>
                  <a:pt x="221" y="593"/>
                </a:lnTo>
                <a:lnTo>
                  <a:pt x="239" y="522"/>
                </a:lnTo>
                <a:lnTo>
                  <a:pt x="282" y="446"/>
                </a:lnTo>
                <a:lnTo>
                  <a:pt x="317" y="417"/>
                </a:lnTo>
                <a:lnTo>
                  <a:pt x="350" y="403"/>
                </a:lnTo>
                <a:lnTo>
                  <a:pt x="397" y="407"/>
                </a:lnTo>
                <a:lnTo>
                  <a:pt x="465" y="388"/>
                </a:lnTo>
                <a:lnTo>
                  <a:pt x="507" y="350"/>
                </a:lnTo>
                <a:lnTo>
                  <a:pt x="570" y="287"/>
                </a:lnTo>
                <a:lnTo>
                  <a:pt x="599" y="311"/>
                </a:lnTo>
                <a:lnTo>
                  <a:pt x="599" y="311"/>
                </a:lnTo>
                <a:lnTo>
                  <a:pt x="599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59"/>
          <p:cNvSpPr/>
          <p:nvPr/>
        </p:nvSpPr>
        <p:spPr>
          <a:xfrm>
            <a:off x="5079960" y="738360"/>
            <a:ext cx="2021040" cy="297972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2979720"/>
              <a:gd name="textAreaBottom" fmla="*/ 2980080 h 2979720"/>
            </a:gdLst>
            <a:ahLst/>
            <a:rect l="textAreaLeft" t="textAreaTop" r="textAreaRight" b="textAreaBottom"/>
            <a:pathLst>
              <a:path w="1273" h="1877">
                <a:moveTo>
                  <a:pt x="0" y="234"/>
                </a:moveTo>
                <a:lnTo>
                  <a:pt x="58" y="215"/>
                </a:lnTo>
                <a:lnTo>
                  <a:pt x="110" y="176"/>
                </a:lnTo>
                <a:lnTo>
                  <a:pt x="167" y="119"/>
                </a:lnTo>
                <a:lnTo>
                  <a:pt x="201" y="61"/>
                </a:lnTo>
                <a:lnTo>
                  <a:pt x="211" y="0"/>
                </a:lnTo>
                <a:lnTo>
                  <a:pt x="225" y="51"/>
                </a:lnTo>
                <a:lnTo>
                  <a:pt x="282" y="42"/>
                </a:lnTo>
                <a:lnTo>
                  <a:pt x="335" y="61"/>
                </a:lnTo>
                <a:lnTo>
                  <a:pt x="382" y="100"/>
                </a:lnTo>
                <a:lnTo>
                  <a:pt x="401" y="157"/>
                </a:lnTo>
                <a:lnTo>
                  <a:pt x="412" y="224"/>
                </a:lnTo>
                <a:lnTo>
                  <a:pt x="426" y="267"/>
                </a:lnTo>
                <a:lnTo>
                  <a:pt x="460" y="296"/>
                </a:lnTo>
                <a:lnTo>
                  <a:pt x="497" y="325"/>
                </a:lnTo>
                <a:lnTo>
                  <a:pt x="598" y="359"/>
                </a:lnTo>
                <a:lnTo>
                  <a:pt x="689" y="363"/>
                </a:lnTo>
                <a:lnTo>
                  <a:pt x="598" y="387"/>
                </a:lnTo>
                <a:lnTo>
                  <a:pt x="670" y="440"/>
                </a:lnTo>
                <a:lnTo>
                  <a:pt x="722" y="497"/>
                </a:lnTo>
                <a:lnTo>
                  <a:pt x="750" y="574"/>
                </a:lnTo>
                <a:lnTo>
                  <a:pt x="708" y="517"/>
                </a:lnTo>
                <a:lnTo>
                  <a:pt x="652" y="468"/>
                </a:lnTo>
                <a:lnTo>
                  <a:pt x="603" y="454"/>
                </a:lnTo>
                <a:lnTo>
                  <a:pt x="641" y="512"/>
                </a:lnTo>
                <a:lnTo>
                  <a:pt x="665" y="569"/>
                </a:lnTo>
                <a:lnTo>
                  <a:pt x="699" y="626"/>
                </a:lnTo>
                <a:lnTo>
                  <a:pt x="746" y="646"/>
                </a:lnTo>
                <a:lnTo>
                  <a:pt x="795" y="660"/>
                </a:lnTo>
                <a:lnTo>
                  <a:pt x="741" y="684"/>
                </a:lnTo>
                <a:lnTo>
                  <a:pt x="741" y="751"/>
                </a:lnTo>
                <a:lnTo>
                  <a:pt x="708" y="703"/>
                </a:lnTo>
                <a:lnTo>
                  <a:pt x="717" y="808"/>
                </a:lnTo>
                <a:lnTo>
                  <a:pt x="761" y="861"/>
                </a:lnTo>
                <a:lnTo>
                  <a:pt x="832" y="914"/>
                </a:lnTo>
                <a:lnTo>
                  <a:pt x="870" y="948"/>
                </a:lnTo>
                <a:lnTo>
                  <a:pt x="904" y="1005"/>
                </a:lnTo>
                <a:lnTo>
                  <a:pt x="924" y="1053"/>
                </a:lnTo>
                <a:lnTo>
                  <a:pt x="928" y="1101"/>
                </a:lnTo>
                <a:lnTo>
                  <a:pt x="924" y="1163"/>
                </a:lnTo>
                <a:lnTo>
                  <a:pt x="890" y="1220"/>
                </a:lnTo>
                <a:lnTo>
                  <a:pt x="828" y="1287"/>
                </a:lnTo>
                <a:lnTo>
                  <a:pt x="909" y="1254"/>
                </a:lnTo>
                <a:lnTo>
                  <a:pt x="904" y="1330"/>
                </a:lnTo>
                <a:lnTo>
                  <a:pt x="962" y="1263"/>
                </a:lnTo>
                <a:lnTo>
                  <a:pt x="981" y="1206"/>
                </a:lnTo>
                <a:lnTo>
                  <a:pt x="990" y="1149"/>
                </a:lnTo>
                <a:lnTo>
                  <a:pt x="981" y="1086"/>
                </a:lnTo>
                <a:lnTo>
                  <a:pt x="966" y="1034"/>
                </a:lnTo>
                <a:lnTo>
                  <a:pt x="1010" y="1091"/>
                </a:lnTo>
                <a:lnTo>
                  <a:pt x="1029" y="1129"/>
                </a:lnTo>
                <a:lnTo>
                  <a:pt x="1043" y="1178"/>
                </a:lnTo>
                <a:lnTo>
                  <a:pt x="1048" y="1229"/>
                </a:lnTo>
                <a:lnTo>
                  <a:pt x="1043" y="1297"/>
                </a:lnTo>
                <a:lnTo>
                  <a:pt x="1091" y="1229"/>
                </a:lnTo>
                <a:lnTo>
                  <a:pt x="1110" y="1154"/>
                </a:lnTo>
                <a:lnTo>
                  <a:pt x="1129" y="1240"/>
                </a:lnTo>
                <a:lnTo>
                  <a:pt x="1115" y="1311"/>
                </a:lnTo>
                <a:lnTo>
                  <a:pt x="1096" y="1369"/>
                </a:lnTo>
                <a:lnTo>
                  <a:pt x="1115" y="1451"/>
                </a:lnTo>
                <a:lnTo>
                  <a:pt x="1105" y="1513"/>
                </a:lnTo>
                <a:lnTo>
                  <a:pt x="1148" y="1551"/>
                </a:lnTo>
                <a:lnTo>
                  <a:pt x="1191" y="1556"/>
                </a:lnTo>
                <a:lnTo>
                  <a:pt x="1249" y="1537"/>
                </a:lnTo>
                <a:lnTo>
                  <a:pt x="1244" y="1594"/>
                </a:lnTo>
                <a:lnTo>
                  <a:pt x="1215" y="1641"/>
                </a:lnTo>
                <a:lnTo>
                  <a:pt x="1181" y="1671"/>
                </a:lnTo>
                <a:lnTo>
                  <a:pt x="1196" y="1718"/>
                </a:lnTo>
                <a:lnTo>
                  <a:pt x="1201" y="1791"/>
                </a:lnTo>
                <a:lnTo>
                  <a:pt x="1259" y="1828"/>
                </a:lnTo>
                <a:lnTo>
                  <a:pt x="1273" y="1877"/>
                </a:lnTo>
                <a:lnTo>
                  <a:pt x="1240" y="1838"/>
                </a:lnTo>
                <a:lnTo>
                  <a:pt x="1167" y="1857"/>
                </a:lnTo>
                <a:lnTo>
                  <a:pt x="1058" y="1857"/>
                </a:lnTo>
                <a:lnTo>
                  <a:pt x="996" y="1848"/>
                </a:lnTo>
                <a:lnTo>
                  <a:pt x="895" y="1810"/>
                </a:lnTo>
                <a:lnTo>
                  <a:pt x="828" y="1748"/>
                </a:lnTo>
                <a:lnTo>
                  <a:pt x="799" y="1685"/>
                </a:lnTo>
                <a:lnTo>
                  <a:pt x="795" y="1608"/>
                </a:lnTo>
                <a:lnTo>
                  <a:pt x="813" y="1513"/>
                </a:lnTo>
                <a:lnTo>
                  <a:pt x="861" y="1412"/>
                </a:lnTo>
                <a:lnTo>
                  <a:pt x="795" y="1493"/>
                </a:lnTo>
                <a:lnTo>
                  <a:pt x="766" y="1561"/>
                </a:lnTo>
                <a:lnTo>
                  <a:pt x="746" y="1627"/>
                </a:lnTo>
                <a:lnTo>
                  <a:pt x="755" y="1704"/>
                </a:lnTo>
                <a:lnTo>
                  <a:pt x="808" y="1771"/>
                </a:lnTo>
                <a:lnTo>
                  <a:pt x="689" y="1737"/>
                </a:lnTo>
                <a:lnTo>
                  <a:pt x="445" y="1718"/>
                </a:lnTo>
                <a:lnTo>
                  <a:pt x="263" y="1657"/>
                </a:lnTo>
                <a:lnTo>
                  <a:pt x="297" y="1571"/>
                </a:lnTo>
                <a:lnTo>
                  <a:pt x="330" y="1503"/>
                </a:lnTo>
                <a:lnTo>
                  <a:pt x="392" y="1435"/>
                </a:lnTo>
                <a:lnTo>
                  <a:pt x="344" y="1522"/>
                </a:lnTo>
                <a:lnTo>
                  <a:pt x="335" y="1604"/>
                </a:lnTo>
                <a:lnTo>
                  <a:pt x="382" y="1517"/>
                </a:lnTo>
                <a:lnTo>
                  <a:pt x="445" y="1455"/>
                </a:lnTo>
                <a:lnTo>
                  <a:pt x="527" y="1397"/>
                </a:lnTo>
                <a:lnTo>
                  <a:pt x="612" y="1321"/>
                </a:lnTo>
                <a:lnTo>
                  <a:pt x="665" y="1268"/>
                </a:lnTo>
                <a:lnTo>
                  <a:pt x="694" y="1206"/>
                </a:lnTo>
                <a:lnTo>
                  <a:pt x="694" y="1158"/>
                </a:lnTo>
                <a:lnTo>
                  <a:pt x="670" y="1101"/>
                </a:lnTo>
                <a:lnTo>
                  <a:pt x="617" y="1039"/>
                </a:lnTo>
                <a:lnTo>
                  <a:pt x="560" y="976"/>
                </a:lnTo>
                <a:lnTo>
                  <a:pt x="521" y="918"/>
                </a:lnTo>
                <a:lnTo>
                  <a:pt x="516" y="852"/>
                </a:lnTo>
                <a:lnTo>
                  <a:pt x="556" y="909"/>
                </a:lnTo>
                <a:lnTo>
                  <a:pt x="652" y="948"/>
                </a:lnTo>
                <a:lnTo>
                  <a:pt x="584" y="890"/>
                </a:lnTo>
                <a:lnTo>
                  <a:pt x="521" y="823"/>
                </a:lnTo>
                <a:lnTo>
                  <a:pt x="493" y="747"/>
                </a:lnTo>
                <a:lnTo>
                  <a:pt x="488" y="693"/>
                </a:lnTo>
                <a:lnTo>
                  <a:pt x="512" y="637"/>
                </a:lnTo>
                <a:lnTo>
                  <a:pt x="556" y="574"/>
                </a:lnTo>
                <a:lnTo>
                  <a:pt x="560" y="506"/>
                </a:lnTo>
                <a:lnTo>
                  <a:pt x="532" y="449"/>
                </a:lnTo>
                <a:lnTo>
                  <a:pt x="473" y="401"/>
                </a:lnTo>
                <a:lnTo>
                  <a:pt x="507" y="487"/>
                </a:lnTo>
                <a:lnTo>
                  <a:pt x="512" y="536"/>
                </a:lnTo>
                <a:lnTo>
                  <a:pt x="464" y="468"/>
                </a:lnTo>
                <a:lnTo>
                  <a:pt x="478" y="536"/>
                </a:lnTo>
                <a:lnTo>
                  <a:pt x="455" y="621"/>
                </a:lnTo>
                <a:lnTo>
                  <a:pt x="377" y="732"/>
                </a:lnTo>
                <a:lnTo>
                  <a:pt x="335" y="842"/>
                </a:lnTo>
                <a:lnTo>
                  <a:pt x="316" y="943"/>
                </a:lnTo>
                <a:lnTo>
                  <a:pt x="302" y="794"/>
                </a:lnTo>
                <a:lnTo>
                  <a:pt x="268" y="688"/>
                </a:lnTo>
                <a:lnTo>
                  <a:pt x="134" y="387"/>
                </a:lnTo>
                <a:lnTo>
                  <a:pt x="96" y="315"/>
                </a:lnTo>
                <a:lnTo>
                  <a:pt x="67" y="281"/>
                </a:lnTo>
                <a:lnTo>
                  <a:pt x="33" y="253"/>
                </a:lnTo>
                <a:lnTo>
                  <a:pt x="0" y="234"/>
                </a:lnTo>
                <a:lnTo>
                  <a:pt x="0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60"/>
          <p:cNvSpPr/>
          <p:nvPr/>
        </p:nvSpPr>
        <p:spPr>
          <a:xfrm>
            <a:off x="6296040" y="1693800"/>
            <a:ext cx="523800" cy="762120"/>
          </a:xfrm>
          <a:custGeom>
            <a:avLst/>
            <a:gdLst>
              <a:gd name="textAreaLeft" fmla="*/ 0 w 523800"/>
              <a:gd name="textAreaRight" fmla="*/ 524160 w 523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30" h="480">
                <a:moveTo>
                  <a:pt x="5" y="0"/>
                </a:moveTo>
                <a:lnTo>
                  <a:pt x="24" y="30"/>
                </a:lnTo>
                <a:lnTo>
                  <a:pt x="71" y="73"/>
                </a:lnTo>
                <a:lnTo>
                  <a:pt x="33" y="91"/>
                </a:lnTo>
                <a:lnTo>
                  <a:pt x="85" y="187"/>
                </a:lnTo>
                <a:lnTo>
                  <a:pt x="158" y="264"/>
                </a:lnTo>
                <a:lnTo>
                  <a:pt x="244" y="341"/>
                </a:lnTo>
                <a:lnTo>
                  <a:pt x="301" y="412"/>
                </a:lnTo>
                <a:lnTo>
                  <a:pt x="330" y="480"/>
                </a:lnTo>
                <a:lnTo>
                  <a:pt x="272" y="398"/>
                </a:lnTo>
                <a:lnTo>
                  <a:pt x="181" y="302"/>
                </a:lnTo>
                <a:lnTo>
                  <a:pt x="76" y="235"/>
                </a:lnTo>
                <a:lnTo>
                  <a:pt x="124" y="312"/>
                </a:lnTo>
                <a:lnTo>
                  <a:pt x="57" y="264"/>
                </a:lnTo>
                <a:lnTo>
                  <a:pt x="14" y="212"/>
                </a:lnTo>
                <a:lnTo>
                  <a:pt x="0" y="140"/>
                </a:lnTo>
                <a:lnTo>
                  <a:pt x="0" y="58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61"/>
          <p:cNvSpPr/>
          <p:nvPr/>
        </p:nvSpPr>
        <p:spPr>
          <a:xfrm>
            <a:off x="4792680" y="1763640"/>
            <a:ext cx="1336680" cy="197028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842" h="1241">
                <a:moveTo>
                  <a:pt x="521" y="168"/>
                </a:moveTo>
                <a:lnTo>
                  <a:pt x="582" y="91"/>
                </a:lnTo>
                <a:lnTo>
                  <a:pt x="654" y="0"/>
                </a:lnTo>
                <a:lnTo>
                  <a:pt x="636" y="91"/>
                </a:lnTo>
                <a:lnTo>
                  <a:pt x="631" y="153"/>
                </a:lnTo>
                <a:lnTo>
                  <a:pt x="636" y="215"/>
                </a:lnTo>
                <a:lnTo>
                  <a:pt x="659" y="302"/>
                </a:lnTo>
                <a:lnTo>
                  <a:pt x="702" y="354"/>
                </a:lnTo>
                <a:lnTo>
                  <a:pt x="817" y="445"/>
                </a:lnTo>
                <a:lnTo>
                  <a:pt x="842" y="483"/>
                </a:lnTo>
                <a:lnTo>
                  <a:pt x="842" y="541"/>
                </a:lnTo>
                <a:lnTo>
                  <a:pt x="812" y="603"/>
                </a:lnTo>
                <a:lnTo>
                  <a:pt x="765" y="670"/>
                </a:lnTo>
                <a:lnTo>
                  <a:pt x="645" y="756"/>
                </a:lnTo>
                <a:lnTo>
                  <a:pt x="587" y="794"/>
                </a:lnTo>
                <a:lnTo>
                  <a:pt x="535" y="862"/>
                </a:lnTo>
                <a:lnTo>
                  <a:pt x="497" y="929"/>
                </a:lnTo>
                <a:lnTo>
                  <a:pt x="473" y="1020"/>
                </a:lnTo>
                <a:lnTo>
                  <a:pt x="397" y="1005"/>
                </a:lnTo>
                <a:lnTo>
                  <a:pt x="364" y="1072"/>
                </a:lnTo>
                <a:lnTo>
                  <a:pt x="296" y="1140"/>
                </a:lnTo>
                <a:lnTo>
                  <a:pt x="195" y="1202"/>
                </a:lnTo>
                <a:lnTo>
                  <a:pt x="66" y="1241"/>
                </a:lnTo>
                <a:lnTo>
                  <a:pt x="209" y="1173"/>
                </a:lnTo>
                <a:lnTo>
                  <a:pt x="291" y="1111"/>
                </a:lnTo>
                <a:lnTo>
                  <a:pt x="343" y="1049"/>
                </a:lnTo>
                <a:lnTo>
                  <a:pt x="353" y="995"/>
                </a:lnTo>
                <a:lnTo>
                  <a:pt x="310" y="981"/>
                </a:lnTo>
                <a:lnTo>
                  <a:pt x="224" y="1034"/>
                </a:lnTo>
                <a:lnTo>
                  <a:pt x="157" y="1063"/>
                </a:lnTo>
                <a:lnTo>
                  <a:pt x="81" y="1077"/>
                </a:lnTo>
                <a:lnTo>
                  <a:pt x="0" y="1068"/>
                </a:lnTo>
                <a:lnTo>
                  <a:pt x="85" y="1068"/>
                </a:lnTo>
                <a:lnTo>
                  <a:pt x="133" y="1053"/>
                </a:lnTo>
                <a:lnTo>
                  <a:pt x="195" y="1025"/>
                </a:lnTo>
                <a:lnTo>
                  <a:pt x="286" y="958"/>
                </a:lnTo>
                <a:lnTo>
                  <a:pt x="377" y="862"/>
                </a:lnTo>
                <a:lnTo>
                  <a:pt x="478" y="723"/>
                </a:lnTo>
                <a:lnTo>
                  <a:pt x="516" y="670"/>
                </a:lnTo>
                <a:lnTo>
                  <a:pt x="525" y="613"/>
                </a:lnTo>
                <a:lnTo>
                  <a:pt x="530" y="541"/>
                </a:lnTo>
                <a:lnTo>
                  <a:pt x="549" y="627"/>
                </a:lnTo>
                <a:lnTo>
                  <a:pt x="598" y="627"/>
                </a:lnTo>
                <a:lnTo>
                  <a:pt x="587" y="560"/>
                </a:lnTo>
                <a:lnTo>
                  <a:pt x="641" y="603"/>
                </a:lnTo>
                <a:lnTo>
                  <a:pt x="654" y="551"/>
                </a:lnTo>
                <a:lnTo>
                  <a:pt x="626" y="508"/>
                </a:lnTo>
                <a:lnTo>
                  <a:pt x="602" y="488"/>
                </a:lnTo>
                <a:lnTo>
                  <a:pt x="525" y="494"/>
                </a:lnTo>
                <a:lnTo>
                  <a:pt x="506" y="421"/>
                </a:lnTo>
                <a:lnTo>
                  <a:pt x="497" y="316"/>
                </a:lnTo>
                <a:lnTo>
                  <a:pt x="497" y="206"/>
                </a:lnTo>
                <a:lnTo>
                  <a:pt x="521" y="168"/>
                </a:lnTo>
                <a:lnTo>
                  <a:pt x="521" y="168"/>
                </a:lnTo>
                <a:lnTo>
                  <a:pt x="521" y="1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62"/>
          <p:cNvSpPr/>
          <p:nvPr/>
        </p:nvSpPr>
        <p:spPr>
          <a:xfrm>
            <a:off x="3197160" y="318960"/>
            <a:ext cx="2179800" cy="10875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1373" h="685">
                <a:moveTo>
                  <a:pt x="1373" y="192"/>
                </a:moveTo>
                <a:lnTo>
                  <a:pt x="1348" y="110"/>
                </a:lnTo>
                <a:lnTo>
                  <a:pt x="1258" y="57"/>
                </a:lnTo>
                <a:lnTo>
                  <a:pt x="1148" y="47"/>
                </a:lnTo>
                <a:lnTo>
                  <a:pt x="1024" y="4"/>
                </a:lnTo>
                <a:lnTo>
                  <a:pt x="942" y="0"/>
                </a:lnTo>
                <a:lnTo>
                  <a:pt x="870" y="4"/>
                </a:lnTo>
                <a:lnTo>
                  <a:pt x="789" y="38"/>
                </a:lnTo>
                <a:lnTo>
                  <a:pt x="722" y="86"/>
                </a:lnTo>
                <a:lnTo>
                  <a:pt x="621" y="114"/>
                </a:lnTo>
                <a:lnTo>
                  <a:pt x="531" y="138"/>
                </a:lnTo>
                <a:lnTo>
                  <a:pt x="435" y="210"/>
                </a:lnTo>
                <a:lnTo>
                  <a:pt x="396" y="239"/>
                </a:lnTo>
                <a:lnTo>
                  <a:pt x="339" y="248"/>
                </a:lnTo>
                <a:lnTo>
                  <a:pt x="287" y="230"/>
                </a:lnTo>
                <a:lnTo>
                  <a:pt x="315" y="258"/>
                </a:lnTo>
                <a:lnTo>
                  <a:pt x="349" y="278"/>
                </a:lnTo>
                <a:lnTo>
                  <a:pt x="301" y="297"/>
                </a:lnTo>
                <a:lnTo>
                  <a:pt x="234" y="292"/>
                </a:lnTo>
                <a:lnTo>
                  <a:pt x="206" y="258"/>
                </a:lnTo>
                <a:lnTo>
                  <a:pt x="196" y="288"/>
                </a:lnTo>
                <a:lnTo>
                  <a:pt x="210" y="335"/>
                </a:lnTo>
                <a:lnTo>
                  <a:pt x="234" y="364"/>
                </a:lnTo>
                <a:lnTo>
                  <a:pt x="201" y="388"/>
                </a:lnTo>
                <a:lnTo>
                  <a:pt x="152" y="435"/>
                </a:lnTo>
                <a:lnTo>
                  <a:pt x="148" y="517"/>
                </a:lnTo>
                <a:lnTo>
                  <a:pt x="105" y="570"/>
                </a:lnTo>
                <a:lnTo>
                  <a:pt x="52" y="579"/>
                </a:lnTo>
                <a:lnTo>
                  <a:pt x="23" y="512"/>
                </a:lnTo>
                <a:lnTo>
                  <a:pt x="0" y="570"/>
                </a:lnTo>
                <a:lnTo>
                  <a:pt x="18" y="623"/>
                </a:lnTo>
                <a:lnTo>
                  <a:pt x="76" y="656"/>
                </a:lnTo>
                <a:lnTo>
                  <a:pt x="177" y="661"/>
                </a:lnTo>
                <a:lnTo>
                  <a:pt x="239" y="627"/>
                </a:lnTo>
                <a:lnTo>
                  <a:pt x="277" y="685"/>
                </a:lnTo>
                <a:lnTo>
                  <a:pt x="311" y="627"/>
                </a:lnTo>
                <a:lnTo>
                  <a:pt x="272" y="531"/>
                </a:lnTo>
                <a:lnTo>
                  <a:pt x="267" y="435"/>
                </a:lnTo>
                <a:lnTo>
                  <a:pt x="311" y="454"/>
                </a:lnTo>
                <a:lnTo>
                  <a:pt x="277" y="378"/>
                </a:lnTo>
                <a:lnTo>
                  <a:pt x="272" y="335"/>
                </a:lnTo>
                <a:lnTo>
                  <a:pt x="325" y="378"/>
                </a:lnTo>
                <a:lnTo>
                  <a:pt x="368" y="407"/>
                </a:lnTo>
                <a:lnTo>
                  <a:pt x="363" y="330"/>
                </a:lnTo>
                <a:lnTo>
                  <a:pt x="411" y="339"/>
                </a:lnTo>
                <a:lnTo>
                  <a:pt x="521" y="349"/>
                </a:lnTo>
                <a:lnTo>
                  <a:pt x="631" y="330"/>
                </a:lnTo>
                <a:lnTo>
                  <a:pt x="531" y="283"/>
                </a:lnTo>
                <a:lnTo>
                  <a:pt x="631" y="206"/>
                </a:lnTo>
                <a:lnTo>
                  <a:pt x="746" y="187"/>
                </a:lnTo>
                <a:lnTo>
                  <a:pt x="880" y="206"/>
                </a:lnTo>
                <a:lnTo>
                  <a:pt x="985" y="196"/>
                </a:lnTo>
                <a:lnTo>
                  <a:pt x="1052" y="168"/>
                </a:lnTo>
                <a:lnTo>
                  <a:pt x="1119" y="157"/>
                </a:lnTo>
                <a:lnTo>
                  <a:pt x="1043" y="138"/>
                </a:lnTo>
                <a:lnTo>
                  <a:pt x="966" y="148"/>
                </a:lnTo>
                <a:lnTo>
                  <a:pt x="890" y="143"/>
                </a:lnTo>
                <a:lnTo>
                  <a:pt x="799" y="110"/>
                </a:lnTo>
                <a:lnTo>
                  <a:pt x="942" y="110"/>
                </a:lnTo>
                <a:lnTo>
                  <a:pt x="1038" y="100"/>
                </a:lnTo>
                <a:lnTo>
                  <a:pt x="1115" y="110"/>
                </a:lnTo>
                <a:lnTo>
                  <a:pt x="1181" y="138"/>
                </a:lnTo>
                <a:lnTo>
                  <a:pt x="1195" y="100"/>
                </a:lnTo>
                <a:lnTo>
                  <a:pt x="1249" y="124"/>
                </a:lnTo>
                <a:lnTo>
                  <a:pt x="1282" y="176"/>
                </a:lnTo>
                <a:lnTo>
                  <a:pt x="1291" y="230"/>
                </a:lnTo>
                <a:lnTo>
                  <a:pt x="1325" y="206"/>
                </a:lnTo>
                <a:lnTo>
                  <a:pt x="1325" y="258"/>
                </a:lnTo>
                <a:lnTo>
                  <a:pt x="1301" y="349"/>
                </a:lnTo>
                <a:lnTo>
                  <a:pt x="1373" y="258"/>
                </a:lnTo>
                <a:lnTo>
                  <a:pt x="1373" y="192"/>
                </a:lnTo>
                <a:lnTo>
                  <a:pt x="1373" y="192"/>
                </a:lnTo>
                <a:lnTo>
                  <a:pt x="1373" y="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63"/>
          <p:cNvSpPr/>
          <p:nvPr/>
        </p:nvSpPr>
        <p:spPr>
          <a:xfrm>
            <a:off x="2846520" y="1093680"/>
            <a:ext cx="1831680" cy="2624400"/>
          </a:xfrm>
          <a:custGeom>
            <a:avLst/>
            <a:gdLst>
              <a:gd name="textAreaLeft" fmla="*/ 0 w 1831680"/>
              <a:gd name="textAreaRight" fmla="*/ 1832040 w 1831680"/>
              <a:gd name="textAreaTop" fmla="*/ 0 h 2624400"/>
              <a:gd name="textAreaBottom" fmla="*/ 2624760 h 2624400"/>
            </a:gdLst>
            <a:ahLst/>
            <a:rect l="textAreaLeft" t="textAreaTop" r="textAreaRight" b="textAreaBottom"/>
            <a:pathLst>
              <a:path w="1154" h="1653">
                <a:moveTo>
                  <a:pt x="536" y="15"/>
                </a:moveTo>
                <a:lnTo>
                  <a:pt x="574" y="106"/>
                </a:lnTo>
                <a:lnTo>
                  <a:pt x="560" y="197"/>
                </a:lnTo>
                <a:lnTo>
                  <a:pt x="513" y="244"/>
                </a:lnTo>
                <a:lnTo>
                  <a:pt x="446" y="282"/>
                </a:lnTo>
                <a:lnTo>
                  <a:pt x="302" y="321"/>
                </a:lnTo>
                <a:lnTo>
                  <a:pt x="408" y="263"/>
                </a:lnTo>
                <a:lnTo>
                  <a:pt x="498" y="206"/>
                </a:lnTo>
                <a:lnTo>
                  <a:pt x="441" y="187"/>
                </a:lnTo>
                <a:lnTo>
                  <a:pt x="388" y="130"/>
                </a:lnTo>
                <a:lnTo>
                  <a:pt x="283" y="139"/>
                </a:lnTo>
                <a:lnTo>
                  <a:pt x="239" y="206"/>
                </a:lnTo>
                <a:lnTo>
                  <a:pt x="221" y="293"/>
                </a:lnTo>
                <a:lnTo>
                  <a:pt x="168" y="312"/>
                </a:lnTo>
                <a:lnTo>
                  <a:pt x="134" y="244"/>
                </a:lnTo>
                <a:lnTo>
                  <a:pt x="96" y="331"/>
                </a:lnTo>
                <a:lnTo>
                  <a:pt x="96" y="378"/>
                </a:lnTo>
                <a:lnTo>
                  <a:pt x="110" y="427"/>
                </a:lnTo>
                <a:lnTo>
                  <a:pt x="91" y="464"/>
                </a:lnTo>
                <a:lnTo>
                  <a:pt x="82" y="518"/>
                </a:lnTo>
                <a:lnTo>
                  <a:pt x="106" y="570"/>
                </a:lnTo>
                <a:lnTo>
                  <a:pt x="91" y="613"/>
                </a:lnTo>
                <a:lnTo>
                  <a:pt x="49" y="632"/>
                </a:lnTo>
                <a:lnTo>
                  <a:pt x="0" y="628"/>
                </a:lnTo>
                <a:lnTo>
                  <a:pt x="15" y="651"/>
                </a:lnTo>
                <a:lnTo>
                  <a:pt x="44" y="670"/>
                </a:lnTo>
                <a:lnTo>
                  <a:pt x="96" y="680"/>
                </a:lnTo>
                <a:lnTo>
                  <a:pt x="82" y="709"/>
                </a:lnTo>
                <a:lnTo>
                  <a:pt x="125" y="738"/>
                </a:lnTo>
                <a:lnTo>
                  <a:pt x="168" y="747"/>
                </a:lnTo>
                <a:lnTo>
                  <a:pt x="225" y="738"/>
                </a:lnTo>
                <a:lnTo>
                  <a:pt x="279" y="714"/>
                </a:lnTo>
                <a:lnTo>
                  <a:pt x="359" y="632"/>
                </a:lnTo>
                <a:lnTo>
                  <a:pt x="403" y="560"/>
                </a:lnTo>
                <a:lnTo>
                  <a:pt x="373" y="666"/>
                </a:lnTo>
                <a:lnTo>
                  <a:pt x="326" y="728"/>
                </a:lnTo>
                <a:lnTo>
                  <a:pt x="254" y="776"/>
                </a:lnTo>
                <a:lnTo>
                  <a:pt x="211" y="781"/>
                </a:lnTo>
                <a:lnTo>
                  <a:pt x="158" y="776"/>
                </a:lnTo>
                <a:lnTo>
                  <a:pt x="106" y="810"/>
                </a:lnTo>
                <a:lnTo>
                  <a:pt x="78" y="886"/>
                </a:lnTo>
                <a:lnTo>
                  <a:pt x="87" y="925"/>
                </a:lnTo>
                <a:lnTo>
                  <a:pt x="63" y="987"/>
                </a:lnTo>
                <a:lnTo>
                  <a:pt x="73" y="1049"/>
                </a:lnTo>
                <a:lnTo>
                  <a:pt x="134" y="1131"/>
                </a:lnTo>
                <a:lnTo>
                  <a:pt x="139" y="1063"/>
                </a:lnTo>
                <a:lnTo>
                  <a:pt x="187" y="1021"/>
                </a:lnTo>
                <a:lnTo>
                  <a:pt x="187" y="1082"/>
                </a:lnTo>
                <a:lnTo>
                  <a:pt x="273" y="1016"/>
                </a:lnTo>
                <a:lnTo>
                  <a:pt x="317" y="939"/>
                </a:lnTo>
                <a:lnTo>
                  <a:pt x="335" y="834"/>
                </a:lnTo>
                <a:lnTo>
                  <a:pt x="364" y="939"/>
                </a:lnTo>
                <a:lnTo>
                  <a:pt x="417" y="1030"/>
                </a:lnTo>
                <a:lnTo>
                  <a:pt x="532" y="1092"/>
                </a:lnTo>
                <a:lnTo>
                  <a:pt x="598" y="1131"/>
                </a:lnTo>
                <a:lnTo>
                  <a:pt x="637" y="1173"/>
                </a:lnTo>
                <a:lnTo>
                  <a:pt x="637" y="1251"/>
                </a:lnTo>
                <a:lnTo>
                  <a:pt x="589" y="1347"/>
                </a:lnTo>
                <a:lnTo>
                  <a:pt x="570" y="1394"/>
                </a:lnTo>
                <a:lnTo>
                  <a:pt x="560" y="1451"/>
                </a:lnTo>
                <a:lnTo>
                  <a:pt x="565" y="1504"/>
                </a:lnTo>
                <a:lnTo>
                  <a:pt x="612" y="1567"/>
                </a:lnTo>
                <a:lnTo>
                  <a:pt x="451" y="1638"/>
                </a:lnTo>
                <a:lnTo>
                  <a:pt x="661" y="1576"/>
                </a:lnTo>
                <a:lnTo>
                  <a:pt x="804" y="1499"/>
                </a:lnTo>
                <a:lnTo>
                  <a:pt x="838" y="1547"/>
                </a:lnTo>
                <a:lnTo>
                  <a:pt x="919" y="1604"/>
                </a:lnTo>
                <a:lnTo>
                  <a:pt x="991" y="1628"/>
                </a:lnTo>
                <a:lnTo>
                  <a:pt x="1025" y="1653"/>
                </a:lnTo>
                <a:lnTo>
                  <a:pt x="1144" y="1653"/>
                </a:lnTo>
                <a:lnTo>
                  <a:pt x="1111" y="1557"/>
                </a:lnTo>
                <a:lnTo>
                  <a:pt x="1081" y="1494"/>
                </a:lnTo>
                <a:lnTo>
                  <a:pt x="1154" y="1485"/>
                </a:lnTo>
                <a:lnTo>
                  <a:pt x="1058" y="1466"/>
                </a:lnTo>
                <a:lnTo>
                  <a:pt x="891" y="1347"/>
                </a:lnTo>
                <a:lnTo>
                  <a:pt x="814" y="1269"/>
                </a:lnTo>
                <a:lnTo>
                  <a:pt x="766" y="1202"/>
                </a:lnTo>
                <a:lnTo>
                  <a:pt x="742" y="1155"/>
                </a:lnTo>
                <a:lnTo>
                  <a:pt x="685" y="1001"/>
                </a:lnTo>
                <a:lnTo>
                  <a:pt x="652" y="862"/>
                </a:lnTo>
                <a:lnTo>
                  <a:pt x="656" y="747"/>
                </a:lnTo>
                <a:lnTo>
                  <a:pt x="656" y="599"/>
                </a:lnTo>
                <a:lnTo>
                  <a:pt x="579" y="699"/>
                </a:lnTo>
                <a:lnTo>
                  <a:pt x="584" y="613"/>
                </a:lnTo>
                <a:lnTo>
                  <a:pt x="570" y="532"/>
                </a:lnTo>
                <a:lnTo>
                  <a:pt x="560" y="464"/>
                </a:lnTo>
                <a:lnTo>
                  <a:pt x="570" y="383"/>
                </a:lnTo>
                <a:lnTo>
                  <a:pt x="589" y="317"/>
                </a:lnTo>
                <a:lnTo>
                  <a:pt x="642" y="268"/>
                </a:lnTo>
                <a:lnTo>
                  <a:pt x="612" y="211"/>
                </a:lnTo>
                <a:lnTo>
                  <a:pt x="607" y="163"/>
                </a:lnTo>
                <a:lnTo>
                  <a:pt x="617" y="115"/>
                </a:lnTo>
                <a:lnTo>
                  <a:pt x="656" y="67"/>
                </a:lnTo>
                <a:lnTo>
                  <a:pt x="570" y="0"/>
                </a:lnTo>
                <a:lnTo>
                  <a:pt x="536" y="15"/>
                </a:lnTo>
                <a:lnTo>
                  <a:pt x="536" y="15"/>
                </a:lnTo>
                <a:lnTo>
                  <a:pt x="536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64"/>
          <p:cNvSpPr/>
          <p:nvPr/>
        </p:nvSpPr>
        <p:spPr>
          <a:xfrm>
            <a:off x="2886120" y="2417760"/>
            <a:ext cx="909720" cy="1292400"/>
          </a:xfrm>
          <a:custGeom>
            <a:avLst/>
            <a:gdLst>
              <a:gd name="textAreaLeft" fmla="*/ 0 w 909720"/>
              <a:gd name="textAreaRight" fmla="*/ 910080 w 90972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573" h="814">
                <a:moveTo>
                  <a:pt x="320" y="0"/>
                </a:moveTo>
                <a:lnTo>
                  <a:pt x="320" y="134"/>
                </a:lnTo>
                <a:lnTo>
                  <a:pt x="268" y="234"/>
                </a:lnTo>
                <a:lnTo>
                  <a:pt x="172" y="311"/>
                </a:lnTo>
                <a:lnTo>
                  <a:pt x="138" y="272"/>
                </a:lnTo>
                <a:lnTo>
                  <a:pt x="104" y="349"/>
                </a:lnTo>
                <a:lnTo>
                  <a:pt x="81" y="412"/>
                </a:lnTo>
                <a:lnTo>
                  <a:pt x="38" y="455"/>
                </a:lnTo>
                <a:lnTo>
                  <a:pt x="5" y="508"/>
                </a:lnTo>
                <a:lnTo>
                  <a:pt x="0" y="546"/>
                </a:lnTo>
                <a:lnTo>
                  <a:pt x="10" y="583"/>
                </a:lnTo>
                <a:lnTo>
                  <a:pt x="43" y="632"/>
                </a:lnTo>
                <a:lnTo>
                  <a:pt x="81" y="665"/>
                </a:lnTo>
                <a:lnTo>
                  <a:pt x="71" y="622"/>
                </a:lnTo>
                <a:lnTo>
                  <a:pt x="81" y="583"/>
                </a:lnTo>
                <a:lnTo>
                  <a:pt x="114" y="569"/>
                </a:lnTo>
                <a:lnTo>
                  <a:pt x="162" y="560"/>
                </a:lnTo>
                <a:lnTo>
                  <a:pt x="196" y="541"/>
                </a:lnTo>
                <a:lnTo>
                  <a:pt x="234" y="513"/>
                </a:lnTo>
                <a:lnTo>
                  <a:pt x="210" y="569"/>
                </a:lnTo>
                <a:lnTo>
                  <a:pt x="167" y="608"/>
                </a:lnTo>
                <a:lnTo>
                  <a:pt x="133" y="646"/>
                </a:lnTo>
                <a:lnTo>
                  <a:pt x="128" y="695"/>
                </a:lnTo>
                <a:lnTo>
                  <a:pt x="66" y="747"/>
                </a:lnTo>
                <a:lnTo>
                  <a:pt x="38" y="785"/>
                </a:lnTo>
                <a:lnTo>
                  <a:pt x="24" y="814"/>
                </a:lnTo>
                <a:lnTo>
                  <a:pt x="392" y="814"/>
                </a:lnTo>
                <a:lnTo>
                  <a:pt x="473" y="794"/>
                </a:lnTo>
                <a:lnTo>
                  <a:pt x="507" y="766"/>
                </a:lnTo>
                <a:lnTo>
                  <a:pt x="478" y="742"/>
                </a:lnTo>
                <a:lnTo>
                  <a:pt x="459" y="695"/>
                </a:lnTo>
                <a:lnTo>
                  <a:pt x="468" y="617"/>
                </a:lnTo>
                <a:lnTo>
                  <a:pt x="497" y="670"/>
                </a:lnTo>
                <a:lnTo>
                  <a:pt x="497" y="599"/>
                </a:lnTo>
                <a:lnTo>
                  <a:pt x="526" y="541"/>
                </a:lnTo>
                <a:lnTo>
                  <a:pt x="573" y="445"/>
                </a:lnTo>
                <a:lnTo>
                  <a:pt x="573" y="377"/>
                </a:lnTo>
                <a:lnTo>
                  <a:pt x="549" y="306"/>
                </a:lnTo>
                <a:lnTo>
                  <a:pt x="507" y="239"/>
                </a:lnTo>
                <a:lnTo>
                  <a:pt x="388" y="177"/>
                </a:lnTo>
                <a:lnTo>
                  <a:pt x="411" y="267"/>
                </a:lnTo>
                <a:lnTo>
                  <a:pt x="421" y="316"/>
                </a:lnTo>
                <a:lnTo>
                  <a:pt x="402" y="377"/>
                </a:lnTo>
                <a:lnTo>
                  <a:pt x="363" y="455"/>
                </a:lnTo>
                <a:lnTo>
                  <a:pt x="348" y="550"/>
                </a:lnTo>
                <a:lnTo>
                  <a:pt x="325" y="469"/>
                </a:lnTo>
                <a:lnTo>
                  <a:pt x="325" y="402"/>
                </a:lnTo>
                <a:lnTo>
                  <a:pt x="363" y="297"/>
                </a:lnTo>
                <a:lnTo>
                  <a:pt x="363" y="182"/>
                </a:lnTo>
                <a:lnTo>
                  <a:pt x="353" y="86"/>
                </a:lnTo>
                <a:lnTo>
                  <a:pt x="320" y="0"/>
                </a:lnTo>
                <a:lnTo>
                  <a:pt x="32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65"/>
          <p:cNvSpPr/>
          <p:nvPr/>
        </p:nvSpPr>
        <p:spPr>
          <a:xfrm>
            <a:off x="2841480" y="2195640"/>
            <a:ext cx="195480" cy="1065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065240"/>
              <a:gd name="textAreaBottom" fmla="*/ 1065240 h 1065240"/>
            </a:gdLst>
            <a:ahLst/>
            <a:rect l="textAreaLeft" t="textAreaTop" r="textAreaRight" b="textAreaBottom"/>
            <a:pathLst>
              <a:path w="123" h="671">
                <a:moveTo>
                  <a:pt x="52" y="0"/>
                </a:moveTo>
                <a:lnTo>
                  <a:pt x="61" y="39"/>
                </a:lnTo>
                <a:lnTo>
                  <a:pt x="123" y="82"/>
                </a:lnTo>
                <a:lnTo>
                  <a:pt x="76" y="101"/>
                </a:lnTo>
                <a:lnTo>
                  <a:pt x="52" y="168"/>
                </a:lnTo>
                <a:lnTo>
                  <a:pt x="43" y="236"/>
                </a:lnTo>
                <a:lnTo>
                  <a:pt x="33" y="297"/>
                </a:lnTo>
                <a:lnTo>
                  <a:pt x="43" y="345"/>
                </a:lnTo>
                <a:lnTo>
                  <a:pt x="71" y="422"/>
                </a:lnTo>
                <a:lnTo>
                  <a:pt x="113" y="461"/>
                </a:lnTo>
                <a:lnTo>
                  <a:pt x="76" y="537"/>
                </a:lnTo>
                <a:lnTo>
                  <a:pt x="33" y="614"/>
                </a:lnTo>
                <a:lnTo>
                  <a:pt x="13" y="671"/>
                </a:lnTo>
                <a:lnTo>
                  <a:pt x="13" y="595"/>
                </a:lnTo>
                <a:lnTo>
                  <a:pt x="38" y="537"/>
                </a:lnTo>
                <a:lnTo>
                  <a:pt x="3" y="432"/>
                </a:lnTo>
                <a:lnTo>
                  <a:pt x="0" y="317"/>
                </a:lnTo>
                <a:lnTo>
                  <a:pt x="0" y="222"/>
                </a:lnTo>
                <a:lnTo>
                  <a:pt x="38" y="116"/>
                </a:lnTo>
                <a:lnTo>
                  <a:pt x="57" y="77"/>
                </a:lnTo>
                <a:lnTo>
                  <a:pt x="43" y="39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66"/>
          <p:cNvSpPr/>
          <p:nvPr/>
        </p:nvSpPr>
        <p:spPr>
          <a:xfrm>
            <a:off x="2862360" y="3397320"/>
            <a:ext cx="152280" cy="280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96" h="177">
                <a:moveTo>
                  <a:pt x="10" y="0"/>
                </a:moveTo>
                <a:lnTo>
                  <a:pt x="34" y="48"/>
                </a:lnTo>
                <a:lnTo>
                  <a:pt x="96" y="87"/>
                </a:lnTo>
                <a:lnTo>
                  <a:pt x="39" y="177"/>
                </a:lnTo>
                <a:lnTo>
                  <a:pt x="20" y="130"/>
                </a:lnTo>
                <a:lnTo>
                  <a:pt x="0" y="53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7"/>
          <p:cNvSpPr/>
          <p:nvPr/>
        </p:nvSpPr>
        <p:spPr>
          <a:xfrm>
            <a:off x="4192560" y="212256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4" y="3"/>
                </a:moveTo>
                <a:lnTo>
                  <a:pt x="18" y="0"/>
                </a:lnTo>
                <a:lnTo>
                  <a:pt x="26" y="8"/>
                </a:lnTo>
                <a:lnTo>
                  <a:pt x="22" y="20"/>
                </a:lnTo>
                <a:lnTo>
                  <a:pt x="6" y="20"/>
                </a:lnTo>
                <a:lnTo>
                  <a:pt x="0" y="14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68"/>
          <p:cNvSpPr/>
          <p:nvPr/>
        </p:nvSpPr>
        <p:spPr>
          <a:xfrm>
            <a:off x="5011560" y="1963800"/>
            <a:ext cx="38160" cy="34920"/>
          </a:xfrm>
          <a:custGeom>
            <a:avLst/>
            <a:gdLst>
              <a:gd name="textAreaLeft" fmla="*/ 0 w 38160"/>
              <a:gd name="textAreaRight" fmla="*/ 38520 w 381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4" h="22">
                <a:moveTo>
                  <a:pt x="0" y="18"/>
                </a:moveTo>
                <a:lnTo>
                  <a:pt x="2" y="3"/>
                </a:lnTo>
                <a:lnTo>
                  <a:pt x="11" y="0"/>
                </a:lnTo>
                <a:lnTo>
                  <a:pt x="20" y="5"/>
                </a:lnTo>
                <a:lnTo>
                  <a:pt x="24" y="12"/>
                </a:lnTo>
                <a:lnTo>
                  <a:pt x="24" y="18"/>
                </a:lnTo>
                <a:lnTo>
                  <a:pt x="15" y="22"/>
                </a:lnTo>
                <a:lnTo>
                  <a:pt x="7" y="21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69"/>
          <p:cNvSpPr/>
          <p:nvPr/>
        </p:nvSpPr>
        <p:spPr>
          <a:xfrm>
            <a:off x="4221000" y="1185840"/>
            <a:ext cx="833760" cy="666720"/>
          </a:xfrm>
          <a:custGeom>
            <a:avLst/>
            <a:gdLst>
              <a:gd name="textAreaLeft" fmla="*/ 0 w 833760"/>
              <a:gd name="textAreaRight" fmla="*/ 834120 w 8337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525" h="420">
                <a:moveTo>
                  <a:pt x="99" y="409"/>
                </a:moveTo>
                <a:lnTo>
                  <a:pt x="25" y="384"/>
                </a:lnTo>
                <a:lnTo>
                  <a:pt x="0" y="342"/>
                </a:lnTo>
                <a:lnTo>
                  <a:pt x="0" y="285"/>
                </a:lnTo>
                <a:lnTo>
                  <a:pt x="36" y="201"/>
                </a:lnTo>
                <a:lnTo>
                  <a:pt x="95" y="102"/>
                </a:lnTo>
                <a:lnTo>
                  <a:pt x="177" y="43"/>
                </a:lnTo>
                <a:lnTo>
                  <a:pt x="252" y="3"/>
                </a:lnTo>
                <a:lnTo>
                  <a:pt x="339" y="0"/>
                </a:lnTo>
                <a:lnTo>
                  <a:pt x="384" y="15"/>
                </a:lnTo>
                <a:lnTo>
                  <a:pt x="457" y="57"/>
                </a:lnTo>
                <a:lnTo>
                  <a:pt x="493" y="114"/>
                </a:lnTo>
                <a:lnTo>
                  <a:pt x="525" y="187"/>
                </a:lnTo>
                <a:lnTo>
                  <a:pt x="525" y="240"/>
                </a:lnTo>
                <a:lnTo>
                  <a:pt x="507" y="290"/>
                </a:lnTo>
                <a:lnTo>
                  <a:pt x="455" y="324"/>
                </a:lnTo>
                <a:lnTo>
                  <a:pt x="395" y="328"/>
                </a:lnTo>
                <a:lnTo>
                  <a:pt x="334" y="364"/>
                </a:lnTo>
                <a:lnTo>
                  <a:pt x="278" y="402"/>
                </a:lnTo>
                <a:lnTo>
                  <a:pt x="197" y="420"/>
                </a:lnTo>
                <a:lnTo>
                  <a:pt x="99" y="409"/>
                </a:lnTo>
                <a:lnTo>
                  <a:pt x="99" y="409"/>
                </a:lnTo>
                <a:lnTo>
                  <a:pt x="99" y="40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70"/>
          <p:cNvSpPr/>
          <p:nvPr/>
        </p:nvSpPr>
        <p:spPr>
          <a:xfrm>
            <a:off x="4552920" y="2062080"/>
            <a:ext cx="155520" cy="455760"/>
          </a:xfrm>
          <a:custGeom>
            <a:avLst/>
            <a:gdLst>
              <a:gd name="textAreaLeft" fmla="*/ 0 w 155520"/>
              <a:gd name="textAreaRight" fmla="*/ 155880 w 15552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8" h="287">
                <a:moveTo>
                  <a:pt x="13" y="0"/>
                </a:moveTo>
                <a:lnTo>
                  <a:pt x="0" y="58"/>
                </a:lnTo>
                <a:lnTo>
                  <a:pt x="18" y="108"/>
                </a:lnTo>
                <a:lnTo>
                  <a:pt x="31" y="164"/>
                </a:lnTo>
                <a:lnTo>
                  <a:pt x="26" y="226"/>
                </a:lnTo>
                <a:lnTo>
                  <a:pt x="38" y="273"/>
                </a:lnTo>
                <a:lnTo>
                  <a:pt x="60" y="287"/>
                </a:lnTo>
                <a:lnTo>
                  <a:pt x="85" y="287"/>
                </a:lnTo>
                <a:lnTo>
                  <a:pt x="98" y="251"/>
                </a:lnTo>
                <a:lnTo>
                  <a:pt x="81" y="200"/>
                </a:lnTo>
                <a:lnTo>
                  <a:pt x="56" y="134"/>
                </a:lnTo>
                <a:lnTo>
                  <a:pt x="56" y="75"/>
                </a:lnTo>
                <a:lnTo>
                  <a:pt x="45" y="12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71"/>
          <p:cNvSpPr/>
          <p:nvPr/>
        </p:nvSpPr>
        <p:spPr>
          <a:xfrm>
            <a:off x="4516560" y="2490840"/>
            <a:ext cx="85680" cy="57240"/>
          </a:xfrm>
          <a:custGeom>
            <a:avLst/>
            <a:gdLst>
              <a:gd name="textAreaLeft" fmla="*/ 0 w 85680"/>
              <a:gd name="textAreaRight" fmla="*/ 85680 w 85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4" h="36">
                <a:moveTo>
                  <a:pt x="0" y="29"/>
                </a:moveTo>
                <a:lnTo>
                  <a:pt x="5" y="6"/>
                </a:lnTo>
                <a:lnTo>
                  <a:pt x="29" y="0"/>
                </a:lnTo>
                <a:lnTo>
                  <a:pt x="54" y="29"/>
                </a:lnTo>
                <a:lnTo>
                  <a:pt x="29" y="36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72"/>
          <p:cNvSpPr/>
          <p:nvPr/>
        </p:nvSpPr>
        <p:spPr>
          <a:xfrm>
            <a:off x="3959280" y="2254320"/>
            <a:ext cx="485640" cy="399960"/>
          </a:xfrm>
          <a:custGeom>
            <a:avLst/>
            <a:gdLst>
              <a:gd name="textAreaLeft" fmla="*/ 0 w 485640"/>
              <a:gd name="textAreaRight" fmla="*/ 486000 w 485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306" h="252">
                <a:moveTo>
                  <a:pt x="0" y="97"/>
                </a:moveTo>
                <a:lnTo>
                  <a:pt x="15" y="68"/>
                </a:lnTo>
                <a:lnTo>
                  <a:pt x="36" y="50"/>
                </a:lnTo>
                <a:lnTo>
                  <a:pt x="85" y="36"/>
                </a:lnTo>
                <a:lnTo>
                  <a:pt x="134" y="36"/>
                </a:lnTo>
                <a:lnTo>
                  <a:pt x="208" y="32"/>
                </a:lnTo>
                <a:lnTo>
                  <a:pt x="262" y="11"/>
                </a:lnTo>
                <a:lnTo>
                  <a:pt x="306" y="0"/>
                </a:lnTo>
                <a:lnTo>
                  <a:pt x="295" y="66"/>
                </a:lnTo>
                <a:lnTo>
                  <a:pt x="270" y="122"/>
                </a:lnTo>
                <a:lnTo>
                  <a:pt x="226" y="178"/>
                </a:lnTo>
                <a:lnTo>
                  <a:pt x="165" y="214"/>
                </a:lnTo>
                <a:lnTo>
                  <a:pt x="130" y="246"/>
                </a:lnTo>
                <a:lnTo>
                  <a:pt x="89" y="252"/>
                </a:lnTo>
                <a:lnTo>
                  <a:pt x="49" y="227"/>
                </a:lnTo>
                <a:lnTo>
                  <a:pt x="18" y="191"/>
                </a:lnTo>
                <a:lnTo>
                  <a:pt x="4" y="142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3"/>
          <p:cNvSpPr/>
          <p:nvPr/>
        </p:nvSpPr>
        <p:spPr>
          <a:xfrm>
            <a:off x="4937040" y="2068560"/>
            <a:ext cx="493920" cy="388800"/>
          </a:xfrm>
          <a:custGeom>
            <a:avLst/>
            <a:gdLst>
              <a:gd name="textAreaLeft" fmla="*/ 0 w 493920"/>
              <a:gd name="textAreaRight" fmla="*/ 494280 w 4939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311" h="245">
                <a:moveTo>
                  <a:pt x="4" y="50"/>
                </a:moveTo>
                <a:lnTo>
                  <a:pt x="71" y="54"/>
                </a:lnTo>
                <a:lnTo>
                  <a:pt x="127" y="50"/>
                </a:lnTo>
                <a:lnTo>
                  <a:pt x="188" y="30"/>
                </a:lnTo>
                <a:lnTo>
                  <a:pt x="232" y="0"/>
                </a:lnTo>
                <a:lnTo>
                  <a:pt x="262" y="0"/>
                </a:lnTo>
                <a:lnTo>
                  <a:pt x="300" y="41"/>
                </a:lnTo>
                <a:lnTo>
                  <a:pt x="311" y="92"/>
                </a:lnTo>
                <a:lnTo>
                  <a:pt x="311" y="165"/>
                </a:lnTo>
                <a:lnTo>
                  <a:pt x="302" y="203"/>
                </a:lnTo>
                <a:lnTo>
                  <a:pt x="269" y="241"/>
                </a:lnTo>
                <a:lnTo>
                  <a:pt x="208" y="245"/>
                </a:lnTo>
                <a:lnTo>
                  <a:pt x="148" y="222"/>
                </a:lnTo>
                <a:lnTo>
                  <a:pt x="85" y="191"/>
                </a:lnTo>
                <a:lnTo>
                  <a:pt x="36" y="153"/>
                </a:lnTo>
                <a:lnTo>
                  <a:pt x="6" y="117"/>
                </a:lnTo>
                <a:lnTo>
                  <a:pt x="0" y="92"/>
                </a:lnTo>
                <a:lnTo>
                  <a:pt x="4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74"/>
          <p:cNvSpPr/>
          <p:nvPr/>
        </p:nvSpPr>
        <p:spPr>
          <a:xfrm>
            <a:off x="4624560" y="3164040"/>
            <a:ext cx="485640" cy="223560"/>
          </a:xfrm>
          <a:custGeom>
            <a:avLst/>
            <a:gdLst>
              <a:gd name="textAreaLeft" fmla="*/ 0 w 485640"/>
              <a:gd name="textAreaRight" fmla="*/ 486000 w 48564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306" h="141">
                <a:moveTo>
                  <a:pt x="17" y="87"/>
                </a:moveTo>
                <a:lnTo>
                  <a:pt x="47" y="120"/>
                </a:lnTo>
                <a:lnTo>
                  <a:pt x="97" y="141"/>
                </a:lnTo>
                <a:lnTo>
                  <a:pt x="146" y="141"/>
                </a:lnTo>
                <a:lnTo>
                  <a:pt x="201" y="130"/>
                </a:lnTo>
                <a:lnTo>
                  <a:pt x="243" y="98"/>
                </a:lnTo>
                <a:lnTo>
                  <a:pt x="292" y="49"/>
                </a:lnTo>
                <a:lnTo>
                  <a:pt x="306" y="13"/>
                </a:lnTo>
                <a:lnTo>
                  <a:pt x="268" y="0"/>
                </a:lnTo>
                <a:lnTo>
                  <a:pt x="221" y="18"/>
                </a:lnTo>
                <a:lnTo>
                  <a:pt x="166" y="54"/>
                </a:lnTo>
                <a:lnTo>
                  <a:pt x="105" y="71"/>
                </a:lnTo>
                <a:lnTo>
                  <a:pt x="49" y="67"/>
                </a:lnTo>
                <a:lnTo>
                  <a:pt x="0" y="62"/>
                </a:lnTo>
                <a:lnTo>
                  <a:pt x="17" y="87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75"/>
          <p:cNvSpPr/>
          <p:nvPr/>
        </p:nvSpPr>
        <p:spPr>
          <a:xfrm>
            <a:off x="4484520" y="2714760"/>
            <a:ext cx="196920" cy="85680"/>
          </a:xfrm>
          <a:custGeom>
            <a:avLst/>
            <a:gdLst>
              <a:gd name="textAreaLeft" fmla="*/ 0 w 196920"/>
              <a:gd name="textAreaRight" fmla="*/ 197280 w 1969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24" h="54">
                <a:moveTo>
                  <a:pt x="7" y="54"/>
                </a:moveTo>
                <a:lnTo>
                  <a:pt x="74" y="29"/>
                </a:lnTo>
                <a:lnTo>
                  <a:pt x="124" y="18"/>
                </a:lnTo>
                <a:lnTo>
                  <a:pt x="81" y="0"/>
                </a:lnTo>
                <a:lnTo>
                  <a:pt x="38" y="0"/>
                </a:lnTo>
                <a:lnTo>
                  <a:pt x="0" y="29"/>
                </a:lnTo>
                <a:lnTo>
                  <a:pt x="7" y="54"/>
                </a:lnTo>
                <a:lnTo>
                  <a:pt x="7" y="54"/>
                </a:lnTo>
                <a:lnTo>
                  <a:pt x="7" y="54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76"/>
          <p:cNvSpPr/>
          <p:nvPr/>
        </p:nvSpPr>
        <p:spPr>
          <a:xfrm>
            <a:off x="3976560" y="2009880"/>
            <a:ext cx="177840" cy="123840"/>
          </a:xfrm>
          <a:custGeom>
            <a:avLst/>
            <a:gdLst>
              <a:gd name="textAreaLeft" fmla="*/ 0 w 177840"/>
              <a:gd name="textAreaRight" fmla="*/ 177840 w 177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12" h="78">
                <a:moveTo>
                  <a:pt x="0" y="65"/>
                </a:moveTo>
                <a:lnTo>
                  <a:pt x="0" y="42"/>
                </a:lnTo>
                <a:lnTo>
                  <a:pt x="17" y="18"/>
                </a:lnTo>
                <a:lnTo>
                  <a:pt x="53" y="0"/>
                </a:lnTo>
                <a:lnTo>
                  <a:pt x="91" y="5"/>
                </a:lnTo>
                <a:lnTo>
                  <a:pt x="112" y="18"/>
                </a:lnTo>
                <a:lnTo>
                  <a:pt x="42" y="49"/>
                </a:lnTo>
                <a:lnTo>
                  <a:pt x="4" y="78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7"/>
          <p:cNvSpPr/>
          <p:nvPr/>
        </p:nvSpPr>
        <p:spPr>
          <a:xfrm rot="2926200">
            <a:off x="3306240" y="3668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8"/>
          <p:cNvSpPr/>
          <p:nvPr/>
        </p:nvSpPr>
        <p:spPr>
          <a:xfrm rot="1699800">
            <a:off x="3551040" y="3862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9"/>
          <p:cNvSpPr/>
          <p:nvPr/>
        </p:nvSpPr>
        <p:spPr>
          <a:xfrm rot="781800">
            <a:off x="3882600" y="3983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0"/>
          <p:cNvSpPr/>
          <p:nvPr/>
        </p:nvSpPr>
        <p:spPr>
          <a:xfrm rot="563400">
            <a:off x="4192200" y="4041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81"/>
          <p:cNvSpPr/>
          <p:nvPr/>
        </p:nvSpPr>
        <p:spPr>
          <a:xfrm rot="273600">
            <a:off x="4543200" y="4084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82"/>
          <p:cNvSpPr/>
          <p:nvPr/>
        </p:nvSpPr>
        <p:spPr>
          <a:xfrm rot="21552600">
            <a:off x="5014800" y="4093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3"/>
          <p:cNvSpPr/>
          <p:nvPr/>
        </p:nvSpPr>
        <p:spPr>
          <a:xfrm rot="21330000">
            <a:off x="5367240" y="4071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4"/>
          <p:cNvSpPr/>
          <p:nvPr/>
        </p:nvSpPr>
        <p:spPr>
          <a:xfrm rot="21244800">
            <a:off x="5524560" y="4053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5"/>
          <p:cNvSpPr/>
          <p:nvPr/>
        </p:nvSpPr>
        <p:spPr>
          <a:xfrm rot="20866800">
            <a:off x="5873760" y="3995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86"/>
          <p:cNvSpPr/>
          <p:nvPr/>
        </p:nvSpPr>
        <p:spPr>
          <a:xfrm rot="20562000">
            <a:off x="6024600" y="3954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7"/>
          <p:cNvSpPr/>
          <p:nvPr/>
        </p:nvSpPr>
        <p:spPr>
          <a:xfrm rot="19930200">
            <a:off x="6350040" y="3816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88"/>
          <p:cNvSpPr/>
          <p:nvPr/>
        </p:nvSpPr>
        <p:spPr>
          <a:xfrm rot="18729000">
            <a:off x="6475320" y="3722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9"/>
          <p:cNvSpPr/>
          <p:nvPr/>
        </p:nvSpPr>
        <p:spPr>
          <a:xfrm rot="15335400">
            <a:off x="6432120" y="3385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0"/>
          <p:cNvSpPr/>
          <p:nvPr/>
        </p:nvSpPr>
        <p:spPr>
          <a:xfrm rot="15335400">
            <a:off x="6347880" y="308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91"/>
          <p:cNvSpPr/>
          <p:nvPr/>
        </p:nvSpPr>
        <p:spPr>
          <a:xfrm rot="1418400">
            <a:off x="2925360" y="4398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92"/>
          <p:cNvSpPr/>
          <p:nvPr/>
        </p:nvSpPr>
        <p:spPr>
          <a:xfrm rot="1275600">
            <a:off x="3266640" y="4535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93"/>
          <p:cNvSpPr/>
          <p:nvPr/>
        </p:nvSpPr>
        <p:spPr>
          <a:xfrm rot="764400">
            <a:off x="3600000" y="4649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94"/>
          <p:cNvSpPr/>
          <p:nvPr/>
        </p:nvSpPr>
        <p:spPr>
          <a:xfrm rot="514200">
            <a:off x="4065120" y="4734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95"/>
          <p:cNvSpPr/>
          <p:nvPr/>
        </p:nvSpPr>
        <p:spPr>
          <a:xfrm rot="296400">
            <a:off x="4416120" y="4776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96"/>
          <p:cNvSpPr/>
          <p:nvPr/>
        </p:nvSpPr>
        <p:spPr>
          <a:xfrm rot="135600">
            <a:off x="4573080" y="4786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97"/>
          <p:cNvSpPr/>
          <p:nvPr/>
        </p:nvSpPr>
        <p:spPr>
          <a:xfrm rot="21552000">
            <a:off x="4927680" y="4785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98"/>
          <p:cNvSpPr/>
          <p:nvPr/>
        </p:nvSpPr>
        <p:spPr>
          <a:xfrm rot="21399600">
            <a:off x="5241960" y="4770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9"/>
          <p:cNvSpPr/>
          <p:nvPr/>
        </p:nvSpPr>
        <p:spPr>
          <a:xfrm rot="21220800">
            <a:off x="5592600" y="4733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0"/>
          <p:cNvSpPr/>
          <p:nvPr/>
        </p:nvSpPr>
        <p:spPr>
          <a:xfrm rot="21023400">
            <a:off x="5904000" y="4684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01"/>
          <p:cNvSpPr/>
          <p:nvPr/>
        </p:nvSpPr>
        <p:spPr>
          <a:xfrm rot="20796000">
            <a:off x="6249960" y="460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2"/>
          <p:cNvSpPr/>
          <p:nvPr/>
        </p:nvSpPr>
        <p:spPr>
          <a:xfrm rot="20302200">
            <a:off x="6524640" y="452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3"/>
          <p:cNvSpPr/>
          <p:nvPr/>
        </p:nvSpPr>
        <p:spPr>
          <a:xfrm>
            <a:off x="3240" y="-152280"/>
            <a:ext cx="9804240" cy="7197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4"/>
          <p:cNvSpPr/>
          <p:nvPr/>
        </p:nvSpPr>
        <p:spPr>
          <a:xfrm rot="5340000">
            <a:off x="3017520" y="304560"/>
            <a:ext cx="3771720" cy="7537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5"/>
          <p:cNvSpPr/>
          <p:nvPr/>
        </p:nvSpPr>
        <p:spPr>
          <a:xfrm rot="5340000">
            <a:off x="3017160" y="120600"/>
            <a:ext cx="3772080" cy="75373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6"/>
          <p:cNvSpPr/>
          <p:nvPr/>
        </p:nvSpPr>
        <p:spPr>
          <a:xfrm rot="5340000">
            <a:off x="3712680" y="1292040"/>
            <a:ext cx="2286000" cy="5276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7"/>
          <p:cNvSpPr/>
          <p:nvPr/>
        </p:nvSpPr>
        <p:spPr>
          <a:xfrm rot="5340000">
            <a:off x="3712680" y="1109520"/>
            <a:ext cx="2286000" cy="52768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8"/>
          <p:cNvSpPr/>
          <p:nvPr/>
        </p:nvSpPr>
        <p:spPr>
          <a:xfrm rot="5340000">
            <a:off x="4425480" y="2295360"/>
            <a:ext cx="936720" cy="3203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9"/>
          <p:cNvSpPr/>
          <p:nvPr/>
        </p:nvSpPr>
        <p:spPr>
          <a:xfrm rot="5340000">
            <a:off x="4425480" y="2112840"/>
            <a:ext cx="936720" cy="3203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0"/>
          <p:cNvSpPr/>
          <p:nvPr/>
        </p:nvSpPr>
        <p:spPr>
          <a:xfrm>
            <a:off x="3740040" y="968400"/>
            <a:ext cx="1944720" cy="27604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760480"/>
              <a:gd name="textAreaBottom" fmla="*/ 2760840 h 2760480"/>
            </a:gdLst>
            <a:ahLst/>
            <a:rect l="textAreaLeft" t="textAreaTop" r="textAreaRight" b="textAreaBottom"/>
            <a:pathLst>
              <a:path w="1225" h="1739">
                <a:moveTo>
                  <a:pt x="741" y="0"/>
                </a:moveTo>
                <a:lnTo>
                  <a:pt x="545" y="18"/>
                </a:lnTo>
                <a:lnTo>
                  <a:pt x="211" y="158"/>
                </a:lnTo>
                <a:lnTo>
                  <a:pt x="95" y="519"/>
                </a:lnTo>
                <a:lnTo>
                  <a:pt x="0" y="876"/>
                </a:lnTo>
                <a:lnTo>
                  <a:pt x="110" y="1327"/>
                </a:lnTo>
                <a:lnTo>
                  <a:pt x="516" y="1688"/>
                </a:lnTo>
                <a:lnTo>
                  <a:pt x="591" y="1739"/>
                </a:lnTo>
                <a:lnTo>
                  <a:pt x="748" y="1730"/>
                </a:lnTo>
                <a:lnTo>
                  <a:pt x="865" y="1681"/>
                </a:lnTo>
                <a:lnTo>
                  <a:pt x="944" y="1635"/>
                </a:lnTo>
                <a:lnTo>
                  <a:pt x="1023" y="1556"/>
                </a:lnTo>
                <a:lnTo>
                  <a:pt x="1097" y="1398"/>
                </a:lnTo>
                <a:lnTo>
                  <a:pt x="1225" y="1150"/>
                </a:lnTo>
                <a:lnTo>
                  <a:pt x="1170" y="599"/>
                </a:lnTo>
                <a:lnTo>
                  <a:pt x="1017" y="211"/>
                </a:lnTo>
                <a:lnTo>
                  <a:pt x="872" y="49"/>
                </a:lnTo>
                <a:lnTo>
                  <a:pt x="741" y="0"/>
                </a:lnTo>
                <a:lnTo>
                  <a:pt x="741" y="0"/>
                </a:lnTo>
                <a:lnTo>
                  <a:pt x="741" y="0"/>
                </a:lnTo>
                <a:close/>
              </a:path>
            </a:pathLst>
          </a:custGeom>
          <a:solidFill>
            <a:srgbClr val="ffd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11"/>
          <p:cNvSpPr/>
          <p:nvPr/>
        </p:nvSpPr>
        <p:spPr>
          <a:xfrm>
            <a:off x="4870440" y="1911240"/>
            <a:ext cx="387360" cy="144720"/>
          </a:xfrm>
          <a:custGeom>
            <a:avLst/>
            <a:gdLst>
              <a:gd name="textAreaLeft" fmla="*/ 0 w 387360"/>
              <a:gd name="textAreaRight" fmla="*/ 387720 w 387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44" h="91">
                <a:moveTo>
                  <a:pt x="0" y="78"/>
                </a:moveTo>
                <a:lnTo>
                  <a:pt x="52" y="30"/>
                </a:lnTo>
                <a:lnTo>
                  <a:pt x="98" y="7"/>
                </a:lnTo>
                <a:lnTo>
                  <a:pt x="171" y="0"/>
                </a:lnTo>
                <a:lnTo>
                  <a:pt x="244" y="44"/>
                </a:lnTo>
                <a:lnTo>
                  <a:pt x="171" y="84"/>
                </a:lnTo>
                <a:lnTo>
                  <a:pt x="88" y="91"/>
                </a:lnTo>
                <a:lnTo>
                  <a:pt x="37" y="89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2"/>
          <p:cNvSpPr/>
          <p:nvPr/>
        </p:nvSpPr>
        <p:spPr>
          <a:xfrm>
            <a:off x="4994280" y="1928880"/>
            <a:ext cx="138240" cy="119160"/>
          </a:xfrm>
          <a:custGeom>
            <a:avLst/>
            <a:gdLst>
              <a:gd name="textAreaLeft" fmla="*/ 0 w 138240"/>
              <a:gd name="textAreaRight" fmla="*/ 138240 w 1382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7" h="75">
                <a:moveTo>
                  <a:pt x="5" y="0"/>
                </a:moveTo>
                <a:lnTo>
                  <a:pt x="0" y="41"/>
                </a:lnTo>
                <a:lnTo>
                  <a:pt x="17" y="64"/>
                </a:lnTo>
                <a:lnTo>
                  <a:pt x="41" y="75"/>
                </a:lnTo>
                <a:lnTo>
                  <a:pt x="68" y="67"/>
                </a:lnTo>
                <a:lnTo>
                  <a:pt x="87" y="47"/>
                </a:lnTo>
                <a:lnTo>
                  <a:pt x="85" y="4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13"/>
          <p:cNvSpPr/>
          <p:nvPr/>
        </p:nvSpPr>
        <p:spPr>
          <a:xfrm>
            <a:off x="4089240" y="2093760"/>
            <a:ext cx="306720" cy="119160"/>
          </a:xfrm>
          <a:custGeom>
            <a:avLst/>
            <a:gdLst>
              <a:gd name="textAreaLeft" fmla="*/ 0 w 306720"/>
              <a:gd name="textAreaRight" fmla="*/ 307080 w 3067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93" h="75">
                <a:moveTo>
                  <a:pt x="0" y="57"/>
                </a:moveTo>
                <a:lnTo>
                  <a:pt x="49" y="5"/>
                </a:lnTo>
                <a:lnTo>
                  <a:pt x="134" y="0"/>
                </a:lnTo>
                <a:lnTo>
                  <a:pt x="193" y="21"/>
                </a:lnTo>
                <a:lnTo>
                  <a:pt x="188" y="38"/>
                </a:lnTo>
                <a:lnTo>
                  <a:pt x="129" y="61"/>
                </a:lnTo>
                <a:lnTo>
                  <a:pt x="56" y="75"/>
                </a:lnTo>
                <a:lnTo>
                  <a:pt x="12" y="73"/>
                </a:lnTo>
                <a:lnTo>
                  <a:pt x="0" y="57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14"/>
          <p:cNvSpPr/>
          <p:nvPr/>
        </p:nvSpPr>
        <p:spPr>
          <a:xfrm>
            <a:off x="4162320" y="2100240"/>
            <a:ext cx="155520" cy="106560"/>
          </a:xfrm>
          <a:custGeom>
            <a:avLst/>
            <a:gdLst>
              <a:gd name="textAreaLeft" fmla="*/ 0 w 155520"/>
              <a:gd name="textAreaRight" fmla="*/ 155880 w 155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98" h="67">
                <a:moveTo>
                  <a:pt x="0" y="5"/>
                </a:moveTo>
                <a:lnTo>
                  <a:pt x="8" y="46"/>
                </a:lnTo>
                <a:lnTo>
                  <a:pt x="21" y="57"/>
                </a:lnTo>
                <a:lnTo>
                  <a:pt x="62" y="67"/>
                </a:lnTo>
                <a:lnTo>
                  <a:pt x="90" y="41"/>
                </a:lnTo>
                <a:lnTo>
                  <a:pt x="98" y="10"/>
                </a:lnTo>
                <a:lnTo>
                  <a:pt x="83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5"/>
          <p:cNvSpPr/>
          <p:nvPr/>
        </p:nvSpPr>
        <p:spPr>
          <a:xfrm>
            <a:off x="4438800" y="2757600"/>
            <a:ext cx="696600" cy="247680"/>
          </a:xfrm>
          <a:custGeom>
            <a:avLst/>
            <a:gdLst>
              <a:gd name="textAreaLeft" fmla="*/ 0 w 696600"/>
              <a:gd name="textAreaRight" fmla="*/ 696960 w 6966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9" h="156">
                <a:moveTo>
                  <a:pt x="0" y="69"/>
                </a:moveTo>
                <a:lnTo>
                  <a:pt x="29" y="58"/>
                </a:lnTo>
                <a:lnTo>
                  <a:pt x="151" y="46"/>
                </a:lnTo>
                <a:lnTo>
                  <a:pt x="216" y="44"/>
                </a:lnTo>
                <a:lnTo>
                  <a:pt x="364" y="1"/>
                </a:lnTo>
                <a:lnTo>
                  <a:pt x="439" y="0"/>
                </a:lnTo>
                <a:lnTo>
                  <a:pt x="426" y="60"/>
                </a:lnTo>
                <a:lnTo>
                  <a:pt x="345" y="123"/>
                </a:lnTo>
                <a:lnTo>
                  <a:pt x="185" y="156"/>
                </a:lnTo>
                <a:lnTo>
                  <a:pt x="104" y="144"/>
                </a:lnTo>
                <a:lnTo>
                  <a:pt x="78" y="135"/>
                </a:lnTo>
                <a:lnTo>
                  <a:pt x="40" y="111"/>
                </a:lnTo>
                <a:lnTo>
                  <a:pt x="24" y="87"/>
                </a:lnTo>
                <a:lnTo>
                  <a:pt x="0" y="69"/>
                </a:lnTo>
                <a:lnTo>
                  <a:pt x="0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6"/>
          <p:cNvSpPr/>
          <p:nvPr/>
        </p:nvSpPr>
        <p:spPr>
          <a:xfrm>
            <a:off x="4402080" y="2738520"/>
            <a:ext cx="528840" cy="137880"/>
          </a:xfrm>
          <a:custGeom>
            <a:avLst/>
            <a:gdLst>
              <a:gd name="textAreaLeft" fmla="*/ 0 w 528840"/>
              <a:gd name="textAreaRight" fmla="*/ 529200 w 5288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333" h="87">
                <a:moveTo>
                  <a:pt x="0" y="87"/>
                </a:moveTo>
                <a:lnTo>
                  <a:pt x="60" y="60"/>
                </a:lnTo>
                <a:lnTo>
                  <a:pt x="103" y="51"/>
                </a:lnTo>
                <a:lnTo>
                  <a:pt x="126" y="42"/>
                </a:lnTo>
                <a:lnTo>
                  <a:pt x="152" y="26"/>
                </a:lnTo>
                <a:lnTo>
                  <a:pt x="243" y="15"/>
                </a:lnTo>
                <a:lnTo>
                  <a:pt x="333" y="0"/>
                </a:lnTo>
                <a:lnTo>
                  <a:pt x="311" y="40"/>
                </a:lnTo>
                <a:lnTo>
                  <a:pt x="222" y="58"/>
                </a:lnTo>
                <a:lnTo>
                  <a:pt x="103" y="63"/>
                </a:lnTo>
                <a:lnTo>
                  <a:pt x="0" y="87"/>
                </a:lnTo>
                <a:lnTo>
                  <a:pt x="0" y="87"/>
                </a:lnTo>
                <a:lnTo>
                  <a:pt x="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7"/>
          <p:cNvSpPr/>
          <p:nvPr/>
        </p:nvSpPr>
        <p:spPr>
          <a:xfrm>
            <a:off x="4495680" y="2927520"/>
            <a:ext cx="506520" cy="129960"/>
          </a:xfrm>
          <a:custGeom>
            <a:avLst/>
            <a:gdLst>
              <a:gd name="textAreaLeft" fmla="*/ 0 w 506520"/>
              <a:gd name="textAreaRight" fmla="*/ 506880 w 5065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19" h="82">
                <a:moveTo>
                  <a:pt x="0" y="0"/>
                </a:moveTo>
                <a:lnTo>
                  <a:pt x="58" y="34"/>
                </a:lnTo>
                <a:lnTo>
                  <a:pt x="148" y="44"/>
                </a:lnTo>
                <a:lnTo>
                  <a:pt x="248" y="30"/>
                </a:lnTo>
                <a:lnTo>
                  <a:pt x="308" y="8"/>
                </a:lnTo>
                <a:lnTo>
                  <a:pt x="319" y="41"/>
                </a:lnTo>
                <a:lnTo>
                  <a:pt x="283" y="66"/>
                </a:lnTo>
                <a:lnTo>
                  <a:pt x="235" y="82"/>
                </a:lnTo>
                <a:lnTo>
                  <a:pt x="257" y="59"/>
                </a:lnTo>
                <a:lnTo>
                  <a:pt x="250" y="51"/>
                </a:lnTo>
                <a:lnTo>
                  <a:pt x="210" y="55"/>
                </a:lnTo>
                <a:lnTo>
                  <a:pt x="150" y="63"/>
                </a:lnTo>
                <a:lnTo>
                  <a:pt x="108" y="61"/>
                </a:lnTo>
                <a:lnTo>
                  <a:pt x="68" y="53"/>
                </a:lnTo>
                <a:lnTo>
                  <a:pt x="36" y="3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8"/>
          <p:cNvSpPr/>
          <p:nvPr/>
        </p:nvSpPr>
        <p:spPr>
          <a:xfrm>
            <a:off x="5091120" y="2782800"/>
            <a:ext cx="85680" cy="100080"/>
          </a:xfrm>
          <a:custGeom>
            <a:avLst/>
            <a:gdLst>
              <a:gd name="textAreaLeft" fmla="*/ 0 w 85680"/>
              <a:gd name="textAreaRight" fmla="*/ 85680 w 856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3">
                <a:moveTo>
                  <a:pt x="36" y="6"/>
                </a:moveTo>
                <a:lnTo>
                  <a:pt x="0" y="61"/>
                </a:lnTo>
                <a:lnTo>
                  <a:pt x="26" y="63"/>
                </a:lnTo>
                <a:lnTo>
                  <a:pt x="50" y="30"/>
                </a:lnTo>
                <a:lnTo>
                  <a:pt x="54" y="0"/>
                </a:lnTo>
                <a:lnTo>
                  <a:pt x="36" y="6"/>
                </a:lnTo>
                <a:lnTo>
                  <a:pt x="36" y="6"/>
                </a:lnTo>
                <a:lnTo>
                  <a:pt x="36" y="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9"/>
          <p:cNvSpPr/>
          <p:nvPr/>
        </p:nvSpPr>
        <p:spPr>
          <a:xfrm>
            <a:off x="4219560" y="2498760"/>
            <a:ext cx="239760" cy="441360"/>
          </a:xfrm>
          <a:custGeom>
            <a:avLst/>
            <a:gdLst>
              <a:gd name="textAreaLeft" fmla="*/ 0 w 239760"/>
              <a:gd name="textAreaRight" fmla="*/ 240120 w 2397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151" h="278">
                <a:moveTo>
                  <a:pt x="29" y="278"/>
                </a:moveTo>
                <a:lnTo>
                  <a:pt x="10" y="242"/>
                </a:lnTo>
                <a:lnTo>
                  <a:pt x="0" y="197"/>
                </a:lnTo>
                <a:lnTo>
                  <a:pt x="14" y="154"/>
                </a:lnTo>
                <a:lnTo>
                  <a:pt x="31" y="129"/>
                </a:lnTo>
                <a:lnTo>
                  <a:pt x="57" y="108"/>
                </a:lnTo>
                <a:lnTo>
                  <a:pt x="81" y="84"/>
                </a:lnTo>
                <a:lnTo>
                  <a:pt x="109" y="51"/>
                </a:lnTo>
                <a:lnTo>
                  <a:pt x="151" y="0"/>
                </a:lnTo>
                <a:lnTo>
                  <a:pt x="98" y="105"/>
                </a:lnTo>
                <a:lnTo>
                  <a:pt x="36" y="188"/>
                </a:lnTo>
                <a:lnTo>
                  <a:pt x="29" y="278"/>
                </a:lnTo>
                <a:lnTo>
                  <a:pt x="29" y="278"/>
                </a:lnTo>
                <a:lnTo>
                  <a:pt x="29" y="278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20"/>
          <p:cNvSpPr/>
          <p:nvPr/>
        </p:nvSpPr>
        <p:spPr>
          <a:xfrm>
            <a:off x="5059440" y="2495520"/>
            <a:ext cx="282600" cy="243000"/>
          </a:xfrm>
          <a:custGeom>
            <a:avLst/>
            <a:gdLst>
              <a:gd name="textAreaLeft" fmla="*/ 0 w 282600"/>
              <a:gd name="textAreaRight" fmla="*/ 282960 w 282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78" h="153">
                <a:moveTo>
                  <a:pt x="0" y="0"/>
                </a:moveTo>
                <a:lnTo>
                  <a:pt x="51" y="22"/>
                </a:lnTo>
                <a:lnTo>
                  <a:pt x="91" y="42"/>
                </a:lnTo>
                <a:lnTo>
                  <a:pt x="139" y="61"/>
                </a:lnTo>
                <a:lnTo>
                  <a:pt x="173" y="88"/>
                </a:lnTo>
                <a:lnTo>
                  <a:pt x="178" y="119"/>
                </a:lnTo>
                <a:lnTo>
                  <a:pt x="157" y="153"/>
                </a:lnTo>
                <a:lnTo>
                  <a:pt x="143" y="102"/>
                </a:lnTo>
                <a:lnTo>
                  <a:pt x="83" y="65"/>
                </a:lnTo>
                <a:lnTo>
                  <a:pt x="42" y="44"/>
                </a:lnTo>
                <a:lnTo>
                  <a:pt x="8" y="1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21"/>
          <p:cNvSpPr/>
          <p:nvPr/>
        </p:nvSpPr>
        <p:spPr>
          <a:xfrm>
            <a:off x="4638600" y="1878120"/>
            <a:ext cx="411120" cy="757080"/>
          </a:xfrm>
          <a:custGeom>
            <a:avLst/>
            <a:gdLst>
              <a:gd name="textAreaLeft" fmla="*/ 0 w 411120"/>
              <a:gd name="textAreaRight" fmla="*/ 411480 w 41112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59" h="477">
                <a:moveTo>
                  <a:pt x="222" y="0"/>
                </a:moveTo>
                <a:lnTo>
                  <a:pt x="189" y="0"/>
                </a:lnTo>
                <a:lnTo>
                  <a:pt x="162" y="19"/>
                </a:lnTo>
                <a:lnTo>
                  <a:pt x="140" y="48"/>
                </a:lnTo>
                <a:lnTo>
                  <a:pt x="126" y="56"/>
                </a:lnTo>
                <a:lnTo>
                  <a:pt x="111" y="49"/>
                </a:lnTo>
                <a:lnTo>
                  <a:pt x="97" y="26"/>
                </a:lnTo>
                <a:lnTo>
                  <a:pt x="77" y="56"/>
                </a:lnTo>
                <a:lnTo>
                  <a:pt x="54" y="110"/>
                </a:lnTo>
                <a:lnTo>
                  <a:pt x="45" y="162"/>
                </a:lnTo>
                <a:lnTo>
                  <a:pt x="51" y="245"/>
                </a:lnTo>
                <a:lnTo>
                  <a:pt x="86" y="353"/>
                </a:lnTo>
                <a:lnTo>
                  <a:pt x="105" y="394"/>
                </a:lnTo>
                <a:lnTo>
                  <a:pt x="142" y="355"/>
                </a:lnTo>
                <a:lnTo>
                  <a:pt x="162" y="351"/>
                </a:lnTo>
                <a:lnTo>
                  <a:pt x="182" y="357"/>
                </a:lnTo>
                <a:lnTo>
                  <a:pt x="196" y="380"/>
                </a:lnTo>
                <a:lnTo>
                  <a:pt x="194" y="402"/>
                </a:lnTo>
                <a:lnTo>
                  <a:pt x="174" y="411"/>
                </a:lnTo>
                <a:lnTo>
                  <a:pt x="108" y="417"/>
                </a:lnTo>
                <a:lnTo>
                  <a:pt x="79" y="439"/>
                </a:lnTo>
                <a:lnTo>
                  <a:pt x="44" y="461"/>
                </a:lnTo>
                <a:lnTo>
                  <a:pt x="0" y="468"/>
                </a:lnTo>
                <a:lnTo>
                  <a:pt x="31" y="477"/>
                </a:lnTo>
                <a:lnTo>
                  <a:pt x="84" y="477"/>
                </a:lnTo>
                <a:lnTo>
                  <a:pt x="161" y="452"/>
                </a:lnTo>
                <a:lnTo>
                  <a:pt x="209" y="452"/>
                </a:lnTo>
                <a:lnTo>
                  <a:pt x="246" y="437"/>
                </a:lnTo>
                <a:lnTo>
                  <a:pt x="259" y="412"/>
                </a:lnTo>
                <a:lnTo>
                  <a:pt x="259" y="371"/>
                </a:lnTo>
                <a:lnTo>
                  <a:pt x="214" y="317"/>
                </a:lnTo>
                <a:lnTo>
                  <a:pt x="165" y="251"/>
                </a:lnTo>
                <a:lnTo>
                  <a:pt x="140" y="165"/>
                </a:lnTo>
                <a:lnTo>
                  <a:pt x="161" y="110"/>
                </a:lnTo>
                <a:lnTo>
                  <a:pt x="149" y="97"/>
                </a:lnTo>
                <a:lnTo>
                  <a:pt x="177" y="59"/>
                </a:lnTo>
                <a:lnTo>
                  <a:pt x="165" y="57"/>
                </a:lnTo>
                <a:lnTo>
                  <a:pt x="189" y="23"/>
                </a:lnTo>
                <a:lnTo>
                  <a:pt x="222" y="0"/>
                </a:lnTo>
                <a:lnTo>
                  <a:pt x="222" y="0"/>
                </a:lnTo>
                <a:lnTo>
                  <a:pt x="222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22"/>
          <p:cNvSpPr/>
          <p:nvPr/>
        </p:nvSpPr>
        <p:spPr>
          <a:xfrm>
            <a:off x="3778200" y="1125360"/>
            <a:ext cx="1389240" cy="2589480"/>
          </a:xfrm>
          <a:custGeom>
            <a:avLst/>
            <a:gdLst>
              <a:gd name="textAreaLeft" fmla="*/ 0 w 1389240"/>
              <a:gd name="textAreaRight" fmla="*/ 1389240 w 1389240"/>
              <a:gd name="textAreaTop" fmla="*/ 0 h 2589480"/>
              <a:gd name="textAreaBottom" fmla="*/ 2589840 h 2589480"/>
            </a:gdLst>
            <a:ahLst/>
            <a:rect l="textAreaLeft" t="textAreaTop" r="textAreaRight" b="textAreaBottom"/>
            <a:pathLst>
              <a:path w="875" h="1631">
                <a:moveTo>
                  <a:pt x="455" y="0"/>
                </a:moveTo>
                <a:lnTo>
                  <a:pt x="310" y="122"/>
                </a:lnTo>
                <a:lnTo>
                  <a:pt x="269" y="233"/>
                </a:lnTo>
                <a:lnTo>
                  <a:pt x="224" y="362"/>
                </a:lnTo>
                <a:lnTo>
                  <a:pt x="218" y="431"/>
                </a:lnTo>
                <a:lnTo>
                  <a:pt x="287" y="494"/>
                </a:lnTo>
                <a:lnTo>
                  <a:pt x="166" y="537"/>
                </a:lnTo>
                <a:lnTo>
                  <a:pt x="107" y="587"/>
                </a:lnTo>
                <a:lnTo>
                  <a:pt x="95" y="639"/>
                </a:lnTo>
                <a:lnTo>
                  <a:pt x="142" y="663"/>
                </a:lnTo>
                <a:lnTo>
                  <a:pt x="195" y="689"/>
                </a:lnTo>
                <a:lnTo>
                  <a:pt x="103" y="710"/>
                </a:lnTo>
                <a:lnTo>
                  <a:pt x="79" y="761"/>
                </a:lnTo>
                <a:lnTo>
                  <a:pt x="92" y="896"/>
                </a:lnTo>
                <a:lnTo>
                  <a:pt x="144" y="1058"/>
                </a:lnTo>
                <a:lnTo>
                  <a:pt x="200" y="1156"/>
                </a:lnTo>
                <a:lnTo>
                  <a:pt x="269" y="1248"/>
                </a:lnTo>
                <a:lnTo>
                  <a:pt x="356" y="1329"/>
                </a:lnTo>
                <a:lnTo>
                  <a:pt x="442" y="1393"/>
                </a:lnTo>
                <a:lnTo>
                  <a:pt x="601" y="1454"/>
                </a:lnTo>
                <a:lnTo>
                  <a:pt x="709" y="1457"/>
                </a:lnTo>
                <a:lnTo>
                  <a:pt x="795" y="1441"/>
                </a:lnTo>
                <a:lnTo>
                  <a:pt x="875" y="1413"/>
                </a:lnTo>
                <a:lnTo>
                  <a:pt x="782" y="1463"/>
                </a:lnTo>
                <a:lnTo>
                  <a:pt x="645" y="1484"/>
                </a:lnTo>
                <a:lnTo>
                  <a:pt x="543" y="1499"/>
                </a:lnTo>
                <a:lnTo>
                  <a:pt x="577" y="1631"/>
                </a:lnTo>
                <a:lnTo>
                  <a:pt x="519" y="1620"/>
                </a:lnTo>
                <a:lnTo>
                  <a:pt x="211" y="1326"/>
                </a:lnTo>
                <a:lnTo>
                  <a:pt x="0" y="977"/>
                </a:lnTo>
                <a:lnTo>
                  <a:pt x="34" y="457"/>
                </a:lnTo>
                <a:lnTo>
                  <a:pt x="237" y="33"/>
                </a:lnTo>
                <a:lnTo>
                  <a:pt x="455" y="0"/>
                </a:lnTo>
                <a:lnTo>
                  <a:pt x="455" y="0"/>
                </a:lnTo>
                <a:lnTo>
                  <a:pt x="455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23"/>
          <p:cNvSpPr/>
          <p:nvPr/>
        </p:nvSpPr>
        <p:spPr>
          <a:xfrm>
            <a:off x="4468680" y="954000"/>
            <a:ext cx="1228680" cy="24750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774" h="1559">
                <a:moveTo>
                  <a:pt x="50" y="87"/>
                </a:moveTo>
                <a:lnTo>
                  <a:pt x="171" y="83"/>
                </a:lnTo>
                <a:lnTo>
                  <a:pt x="258" y="95"/>
                </a:lnTo>
                <a:lnTo>
                  <a:pt x="332" y="130"/>
                </a:lnTo>
                <a:lnTo>
                  <a:pt x="389" y="167"/>
                </a:lnTo>
                <a:lnTo>
                  <a:pt x="440" y="246"/>
                </a:lnTo>
                <a:lnTo>
                  <a:pt x="469" y="333"/>
                </a:lnTo>
                <a:lnTo>
                  <a:pt x="492" y="436"/>
                </a:lnTo>
                <a:lnTo>
                  <a:pt x="498" y="486"/>
                </a:lnTo>
                <a:lnTo>
                  <a:pt x="421" y="489"/>
                </a:lnTo>
                <a:lnTo>
                  <a:pt x="464" y="531"/>
                </a:lnTo>
                <a:lnTo>
                  <a:pt x="427" y="551"/>
                </a:lnTo>
                <a:lnTo>
                  <a:pt x="363" y="568"/>
                </a:lnTo>
                <a:lnTo>
                  <a:pt x="392" y="602"/>
                </a:lnTo>
                <a:lnTo>
                  <a:pt x="513" y="652"/>
                </a:lnTo>
                <a:lnTo>
                  <a:pt x="571" y="647"/>
                </a:lnTo>
                <a:lnTo>
                  <a:pt x="606" y="696"/>
                </a:lnTo>
                <a:lnTo>
                  <a:pt x="629" y="777"/>
                </a:lnTo>
                <a:lnTo>
                  <a:pt x="638" y="909"/>
                </a:lnTo>
                <a:lnTo>
                  <a:pt x="629" y="1038"/>
                </a:lnTo>
                <a:lnTo>
                  <a:pt x="629" y="1159"/>
                </a:lnTo>
                <a:lnTo>
                  <a:pt x="601" y="1251"/>
                </a:lnTo>
                <a:lnTo>
                  <a:pt x="500" y="1415"/>
                </a:lnTo>
                <a:lnTo>
                  <a:pt x="427" y="1484"/>
                </a:lnTo>
                <a:lnTo>
                  <a:pt x="334" y="1559"/>
                </a:lnTo>
                <a:lnTo>
                  <a:pt x="411" y="1559"/>
                </a:lnTo>
                <a:lnTo>
                  <a:pt x="606" y="1428"/>
                </a:lnTo>
                <a:lnTo>
                  <a:pt x="774" y="1217"/>
                </a:lnTo>
                <a:lnTo>
                  <a:pt x="753" y="869"/>
                </a:lnTo>
                <a:lnTo>
                  <a:pt x="659" y="457"/>
                </a:lnTo>
                <a:lnTo>
                  <a:pt x="513" y="108"/>
                </a:lnTo>
                <a:lnTo>
                  <a:pt x="345" y="3"/>
                </a:lnTo>
                <a:lnTo>
                  <a:pt x="173" y="0"/>
                </a:lnTo>
                <a:lnTo>
                  <a:pt x="0" y="46"/>
                </a:lnTo>
                <a:lnTo>
                  <a:pt x="50" y="87"/>
                </a:lnTo>
                <a:lnTo>
                  <a:pt x="50" y="87"/>
                </a:lnTo>
                <a:lnTo>
                  <a:pt x="5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24"/>
          <p:cNvSpPr/>
          <p:nvPr/>
        </p:nvSpPr>
        <p:spPr>
          <a:xfrm>
            <a:off x="5551560" y="1257480"/>
            <a:ext cx="1287360" cy="2420640"/>
          </a:xfrm>
          <a:custGeom>
            <a:avLst/>
            <a:gdLst>
              <a:gd name="textAreaLeft" fmla="*/ 0 w 1287360"/>
              <a:gd name="textAreaRight" fmla="*/ 1287720 w 1287360"/>
              <a:gd name="textAreaTop" fmla="*/ 0 h 2420640"/>
              <a:gd name="textAreaBottom" fmla="*/ 2421000 h 2420640"/>
            </a:gdLst>
            <a:ahLst/>
            <a:rect l="textAreaLeft" t="textAreaTop" r="textAreaRight" b="textAreaBottom"/>
            <a:pathLst>
              <a:path w="811" h="1525">
                <a:moveTo>
                  <a:pt x="71" y="0"/>
                </a:moveTo>
                <a:lnTo>
                  <a:pt x="375" y="127"/>
                </a:lnTo>
                <a:lnTo>
                  <a:pt x="450" y="251"/>
                </a:lnTo>
                <a:lnTo>
                  <a:pt x="529" y="348"/>
                </a:lnTo>
                <a:lnTo>
                  <a:pt x="480" y="370"/>
                </a:lnTo>
                <a:lnTo>
                  <a:pt x="534" y="485"/>
                </a:lnTo>
                <a:lnTo>
                  <a:pt x="701" y="603"/>
                </a:lnTo>
                <a:lnTo>
                  <a:pt x="802" y="762"/>
                </a:lnTo>
                <a:lnTo>
                  <a:pt x="811" y="965"/>
                </a:lnTo>
                <a:lnTo>
                  <a:pt x="679" y="1283"/>
                </a:lnTo>
                <a:lnTo>
                  <a:pt x="736" y="1517"/>
                </a:lnTo>
                <a:lnTo>
                  <a:pt x="643" y="1525"/>
                </a:lnTo>
                <a:lnTo>
                  <a:pt x="520" y="1477"/>
                </a:lnTo>
                <a:lnTo>
                  <a:pt x="415" y="1380"/>
                </a:lnTo>
                <a:lnTo>
                  <a:pt x="27" y="1318"/>
                </a:lnTo>
                <a:lnTo>
                  <a:pt x="0" y="1235"/>
                </a:lnTo>
                <a:lnTo>
                  <a:pt x="62" y="952"/>
                </a:lnTo>
                <a:lnTo>
                  <a:pt x="35" y="700"/>
                </a:lnTo>
                <a:lnTo>
                  <a:pt x="35" y="264"/>
                </a:lnTo>
                <a:lnTo>
                  <a:pt x="71" y="0"/>
                </a:lnTo>
                <a:lnTo>
                  <a:pt x="71" y="0"/>
                </a:lnTo>
                <a:lnTo>
                  <a:pt x="71" y="0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25"/>
          <p:cNvSpPr/>
          <p:nvPr/>
        </p:nvSpPr>
        <p:spPr>
          <a:xfrm>
            <a:off x="2860560" y="430200"/>
            <a:ext cx="2559240" cy="3268800"/>
          </a:xfrm>
          <a:custGeom>
            <a:avLst/>
            <a:gdLst>
              <a:gd name="textAreaLeft" fmla="*/ 0 w 2559240"/>
              <a:gd name="textAreaRight" fmla="*/ 2559240 w 2559240"/>
              <a:gd name="textAreaTop" fmla="*/ 0 h 3268800"/>
              <a:gd name="textAreaBottom" fmla="*/ 3269160 h 3268800"/>
            </a:gdLst>
            <a:ahLst/>
            <a:rect l="textAreaLeft" t="textAreaTop" r="textAreaRight" b="textAreaBottom"/>
            <a:pathLst>
              <a:path w="1612" h="2059">
                <a:moveTo>
                  <a:pt x="228" y="749"/>
                </a:moveTo>
                <a:lnTo>
                  <a:pt x="479" y="243"/>
                </a:lnTo>
                <a:lnTo>
                  <a:pt x="643" y="155"/>
                </a:lnTo>
                <a:lnTo>
                  <a:pt x="1026" y="0"/>
                </a:lnTo>
                <a:lnTo>
                  <a:pt x="1383" y="9"/>
                </a:lnTo>
                <a:lnTo>
                  <a:pt x="1528" y="44"/>
                </a:lnTo>
                <a:lnTo>
                  <a:pt x="1594" y="133"/>
                </a:lnTo>
                <a:lnTo>
                  <a:pt x="1612" y="286"/>
                </a:lnTo>
                <a:lnTo>
                  <a:pt x="1563" y="472"/>
                </a:lnTo>
                <a:lnTo>
                  <a:pt x="1369" y="410"/>
                </a:lnTo>
                <a:lnTo>
                  <a:pt x="1273" y="340"/>
                </a:lnTo>
                <a:lnTo>
                  <a:pt x="1092" y="326"/>
                </a:lnTo>
                <a:lnTo>
                  <a:pt x="836" y="468"/>
                </a:lnTo>
                <a:lnTo>
                  <a:pt x="656" y="833"/>
                </a:lnTo>
                <a:lnTo>
                  <a:pt x="567" y="1231"/>
                </a:lnTo>
                <a:lnTo>
                  <a:pt x="761" y="1853"/>
                </a:lnTo>
                <a:lnTo>
                  <a:pt x="616" y="2011"/>
                </a:lnTo>
                <a:lnTo>
                  <a:pt x="347" y="2059"/>
                </a:lnTo>
                <a:lnTo>
                  <a:pt x="35" y="2059"/>
                </a:lnTo>
                <a:lnTo>
                  <a:pt x="22" y="1927"/>
                </a:lnTo>
                <a:lnTo>
                  <a:pt x="0" y="1769"/>
                </a:lnTo>
                <a:lnTo>
                  <a:pt x="22" y="1681"/>
                </a:lnTo>
                <a:lnTo>
                  <a:pt x="48" y="1561"/>
                </a:lnTo>
                <a:lnTo>
                  <a:pt x="9" y="1443"/>
                </a:lnTo>
                <a:lnTo>
                  <a:pt x="22" y="1270"/>
                </a:lnTo>
                <a:lnTo>
                  <a:pt x="62" y="1181"/>
                </a:lnTo>
                <a:lnTo>
                  <a:pt x="35" y="1151"/>
                </a:lnTo>
                <a:lnTo>
                  <a:pt x="44" y="1089"/>
                </a:lnTo>
                <a:lnTo>
                  <a:pt x="140" y="1068"/>
                </a:lnTo>
                <a:lnTo>
                  <a:pt x="228" y="749"/>
                </a:lnTo>
                <a:lnTo>
                  <a:pt x="228" y="749"/>
                </a:lnTo>
                <a:lnTo>
                  <a:pt x="228" y="749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26"/>
          <p:cNvSpPr/>
          <p:nvPr/>
        </p:nvSpPr>
        <p:spPr>
          <a:xfrm>
            <a:off x="3835440" y="592200"/>
            <a:ext cx="971640" cy="317520"/>
          </a:xfrm>
          <a:custGeom>
            <a:avLst/>
            <a:gdLst>
              <a:gd name="textAreaLeft" fmla="*/ 0 w 971640"/>
              <a:gd name="textAreaRight" fmla="*/ 972000 w 9716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12" h="200">
                <a:moveTo>
                  <a:pt x="0" y="164"/>
                </a:moveTo>
                <a:lnTo>
                  <a:pt x="147" y="200"/>
                </a:lnTo>
                <a:lnTo>
                  <a:pt x="332" y="200"/>
                </a:lnTo>
                <a:lnTo>
                  <a:pt x="428" y="196"/>
                </a:lnTo>
                <a:lnTo>
                  <a:pt x="550" y="143"/>
                </a:lnTo>
                <a:lnTo>
                  <a:pt x="338" y="149"/>
                </a:lnTo>
                <a:lnTo>
                  <a:pt x="271" y="123"/>
                </a:lnTo>
                <a:lnTo>
                  <a:pt x="391" y="103"/>
                </a:lnTo>
                <a:lnTo>
                  <a:pt x="494" y="62"/>
                </a:lnTo>
                <a:lnTo>
                  <a:pt x="612" y="0"/>
                </a:lnTo>
                <a:lnTo>
                  <a:pt x="276" y="10"/>
                </a:lnTo>
                <a:lnTo>
                  <a:pt x="134" y="39"/>
                </a:lnTo>
                <a:lnTo>
                  <a:pt x="315" y="62"/>
                </a:lnTo>
                <a:lnTo>
                  <a:pt x="128" y="80"/>
                </a:lnTo>
                <a:lnTo>
                  <a:pt x="271" y="155"/>
                </a:lnTo>
                <a:lnTo>
                  <a:pt x="99" y="155"/>
                </a:lnTo>
                <a:lnTo>
                  <a:pt x="0" y="164"/>
                </a:lnTo>
                <a:lnTo>
                  <a:pt x="0" y="164"/>
                </a:lnTo>
                <a:lnTo>
                  <a:pt x="0" y="16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27"/>
          <p:cNvSpPr/>
          <p:nvPr/>
        </p:nvSpPr>
        <p:spPr>
          <a:xfrm>
            <a:off x="4346640" y="438120"/>
            <a:ext cx="725400" cy="128520"/>
          </a:xfrm>
          <a:custGeom>
            <a:avLst/>
            <a:gdLst>
              <a:gd name="textAreaLeft" fmla="*/ 0 w 725400"/>
              <a:gd name="textAreaRight" fmla="*/ 725760 w 725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457" h="81">
                <a:moveTo>
                  <a:pt x="71" y="55"/>
                </a:moveTo>
                <a:lnTo>
                  <a:pt x="266" y="48"/>
                </a:lnTo>
                <a:lnTo>
                  <a:pt x="341" y="42"/>
                </a:lnTo>
                <a:lnTo>
                  <a:pt x="413" y="62"/>
                </a:lnTo>
                <a:lnTo>
                  <a:pt x="454" y="81"/>
                </a:lnTo>
                <a:lnTo>
                  <a:pt x="457" y="31"/>
                </a:lnTo>
                <a:lnTo>
                  <a:pt x="224" y="0"/>
                </a:lnTo>
                <a:lnTo>
                  <a:pt x="77" y="14"/>
                </a:lnTo>
                <a:lnTo>
                  <a:pt x="0" y="46"/>
                </a:lnTo>
                <a:lnTo>
                  <a:pt x="71" y="55"/>
                </a:lnTo>
                <a:lnTo>
                  <a:pt x="71" y="55"/>
                </a:lnTo>
                <a:lnTo>
                  <a:pt x="71" y="5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28"/>
          <p:cNvSpPr/>
          <p:nvPr/>
        </p:nvSpPr>
        <p:spPr>
          <a:xfrm>
            <a:off x="3594240" y="825480"/>
            <a:ext cx="541080" cy="309600"/>
          </a:xfrm>
          <a:custGeom>
            <a:avLst/>
            <a:gdLst>
              <a:gd name="textAreaLeft" fmla="*/ 0 w 541080"/>
              <a:gd name="textAreaRight" fmla="*/ 541080 w 5410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1" h="195">
                <a:moveTo>
                  <a:pt x="0" y="12"/>
                </a:moveTo>
                <a:lnTo>
                  <a:pt x="66" y="92"/>
                </a:lnTo>
                <a:lnTo>
                  <a:pt x="117" y="134"/>
                </a:lnTo>
                <a:lnTo>
                  <a:pt x="173" y="164"/>
                </a:lnTo>
                <a:lnTo>
                  <a:pt x="255" y="195"/>
                </a:lnTo>
                <a:lnTo>
                  <a:pt x="341" y="195"/>
                </a:lnTo>
                <a:lnTo>
                  <a:pt x="255" y="164"/>
                </a:lnTo>
                <a:lnTo>
                  <a:pt x="146" y="113"/>
                </a:lnTo>
                <a:lnTo>
                  <a:pt x="70" y="53"/>
                </a:lnTo>
                <a:lnTo>
                  <a:pt x="16" y="0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29"/>
          <p:cNvSpPr/>
          <p:nvPr/>
        </p:nvSpPr>
        <p:spPr>
          <a:xfrm>
            <a:off x="3344760" y="1020600"/>
            <a:ext cx="376200" cy="551160"/>
          </a:xfrm>
          <a:custGeom>
            <a:avLst/>
            <a:gdLst>
              <a:gd name="textAreaLeft" fmla="*/ 0 w 376200"/>
              <a:gd name="textAreaRight" fmla="*/ 376560 w 376200"/>
              <a:gd name="textAreaTop" fmla="*/ 0 h 551160"/>
              <a:gd name="textAreaBottom" fmla="*/ 551520 h 551160"/>
            </a:gdLst>
            <a:ahLst/>
            <a:rect l="textAreaLeft" t="textAreaTop" r="textAreaRight" b="textAreaBottom"/>
            <a:pathLst>
              <a:path w="237" h="347">
                <a:moveTo>
                  <a:pt x="152" y="0"/>
                </a:moveTo>
                <a:lnTo>
                  <a:pt x="207" y="95"/>
                </a:lnTo>
                <a:lnTo>
                  <a:pt x="237" y="156"/>
                </a:lnTo>
                <a:lnTo>
                  <a:pt x="237" y="197"/>
                </a:lnTo>
                <a:lnTo>
                  <a:pt x="191" y="264"/>
                </a:lnTo>
                <a:lnTo>
                  <a:pt x="0" y="347"/>
                </a:lnTo>
                <a:lnTo>
                  <a:pt x="81" y="202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30"/>
          <p:cNvSpPr/>
          <p:nvPr/>
        </p:nvSpPr>
        <p:spPr>
          <a:xfrm>
            <a:off x="3780000" y="1189080"/>
            <a:ext cx="144360" cy="355680"/>
          </a:xfrm>
          <a:custGeom>
            <a:avLst/>
            <a:gdLst>
              <a:gd name="textAreaLeft" fmla="*/ 0 w 144360"/>
              <a:gd name="textAreaRight" fmla="*/ 144720 w 1443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91" h="224">
                <a:moveTo>
                  <a:pt x="91" y="30"/>
                </a:moveTo>
                <a:lnTo>
                  <a:pt x="60" y="82"/>
                </a:lnTo>
                <a:lnTo>
                  <a:pt x="50" y="133"/>
                </a:lnTo>
                <a:lnTo>
                  <a:pt x="70" y="193"/>
                </a:lnTo>
                <a:lnTo>
                  <a:pt x="70" y="224"/>
                </a:lnTo>
                <a:lnTo>
                  <a:pt x="35" y="204"/>
                </a:lnTo>
                <a:lnTo>
                  <a:pt x="4" y="137"/>
                </a:lnTo>
                <a:lnTo>
                  <a:pt x="0" y="31"/>
                </a:lnTo>
                <a:lnTo>
                  <a:pt x="44" y="0"/>
                </a:lnTo>
                <a:lnTo>
                  <a:pt x="91" y="30"/>
                </a:lnTo>
                <a:lnTo>
                  <a:pt x="91" y="30"/>
                </a:lnTo>
                <a:lnTo>
                  <a:pt x="91" y="3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31"/>
          <p:cNvSpPr/>
          <p:nvPr/>
        </p:nvSpPr>
        <p:spPr>
          <a:xfrm>
            <a:off x="5783400" y="1344600"/>
            <a:ext cx="236520" cy="709560"/>
          </a:xfrm>
          <a:custGeom>
            <a:avLst/>
            <a:gdLst>
              <a:gd name="textAreaLeft" fmla="*/ 0 w 236520"/>
              <a:gd name="textAreaRight" fmla="*/ 236880 w 236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49" h="447">
                <a:moveTo>
                  <a:pt x="15" y="0"/>
                </a:moveTo>
                <a:lnTo>
                  <a:pt x="80" y="89"/>
                </a:lnTo>
                <a:lnTo>
                  <a:pt x="93" y="143"/>
                </a:lnTo>
                <a:lnTo>
                  <a:pt x="76" y="192"/>
                </a:lnTo>
                <a:lnTo>
                  <a:pt x="59" y="117"/>
                </a:lnTo>
                <a:lnTo>
                  <a:pt x="0" y="66"/>
                </a:lnTo>
                <a:lnTo>
                  <a:pt x="24" y="147"/>
                </a:lnTo>
                <a:lnTo>
                  <a:pt x="48" y="192"/>
                </a:lnTo>
                <a:lnTo>
                  <a:pt x="45" y="242"/>
                </a:lnTo>
                <a:lnTo>
                  <a:pt x="25" y="321"/>
                </a:lnTo>
                <a:lnTo>
                  <a:pt x="25" y="365"/>
                </a:lnTo>
                <a:lnTo>
                  <a:pt x="44" y="410"/>
                </a:lnTo>
                <a:lnTo>
                  <a:pt x="89" y="447"/>
                </a:lnTo>
                <a:lnTo>
                  <a:pt x="92" y="314"/>
                </a:lnTo>
                <a:lnTo>
                  <a:pt x="149" y="161"/>
                </a:lnTo>
                <a:lnTo>
                  <a:pt x="113" y="68"/>
                </a:lnTo>
                <a:lnTo>
                  <a:pt x="66" y="2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32"/>
          <p:cNvSpPr/>
          <p:nvPr/>
        </p:nvSpPr>
        <p:spPr>
          <a:xfrm>
            <a:off x="6294600" y="1873080"/>
            <a:ext cx="550800" cy="878040"/>
          </a:xfrm>
          <a:custGeom>
            <a:avLst/>
            <a:gdLst>
              <a:gd name="textAreaLeft" fmla="*/ 0 w 550800"/>
              <a:gd name="textAreaRight" fmla="*/ 551160 w 55080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347" h="553">
                <a:moveTo>
                  <a:pt x="6" y="0"/>
                </a:moveTo>
                <a:lnTo>
                  <a:pt x="0" y="72"/>
                </a:lnTo>
                <a:lnTo>
                  <a:pt x="12" y="137"/>
                </a:lnTo>
                <a:lnTo>
                  <a:pt x="83" y="198"/>
                </a:lnTo>
                <a:lnTo>
                  <a:pt x="139" y="242"/>
                </a:lnTo>
                <a:lnTo>
                  <a:pt x="139" y="212"/>
                </a:lnTo>
                <a:lnTo>
                  <a:pt x="237" y="295"/>
                </a:lnTo>
                <a:lnTo>
                  <a:pt x="285" y="379"/>
                </a:lnTo>
                <a:lnTo>
                  <a:pt x="320" y="461"/>
                </a:lnTo>
                <a:lnTo>
                  <a:pt x="330" y="553"/>
                </a:lnTo>
                <a:lnTo>
                  <a:pt x="347" y="450"/>
                </a:lnTo>
                <a:lnTo>
                  <a:pt x="327" y="358"/>
                </a:lnTo>
                <a:lnTo>
                  <a:pt x="272" y="276"/>
                </a:lnTo>
                <a:lnTo>
                  <a:pt x="172" y="175"/>
                </a:lnTo>
                <a:lnTo>
                  <a:pt x="58" y="5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33"/>
          <p:cNvSpPr/>
          <p:nvPr/>
        </p:nvSpPr>
        <p:spPr>
          <a:xfrm>
            <a:off x="6451560" y="2303640"/>
            <a:ext cx="216000" cy="626760"/>
          </a:xfrm>
          <a:custGeom>
            <a:avLst/>
            <a:gdLst>
              <a:gd name="textAreaLeft" fmla="*/ 0 w 216000"/>
              <a:gd name="textAreaRight" fmla="*/ 216360 w 21600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136" h="395">
                <a:moveTo>
                  <a:pt x="74" y="0"/>
                </a:moveTo>
                <a:lnTo>
                  <a:pt x="118" y="70"/>
                </a:lnTo>
                <a:lnTo>
                  <a:pt x="136" y="210"/>
                </a:lnTo>
                <a:lnTo>
                  <a:pt x="84" y="327"/>
                </a:lnTo>
                <a:lnTo>
                  <a:pt x="0" y="395"/>
                </a:lnTo>
                <a:lnTo>
                  <a:pt x="60" y="265"/>
                </a:lnTo>
                <a:lnTo>
                  <a:pt x="90" y="169"/>
                </a:lnTo>
                <a:lnTo>
                  <a:pt x="88" y="112"/>
                </a:lnTo>
                <a:lnTo>
                  <a:pt x="74" y="0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34"/>
          <p:cNvSpPr/>
          <p:nvPr/>
        </p:nvSpPr>
        <p:spPr>
          <a:xfrm>
            <a:off x="2986200" y="2068560"/>
            <a:ext cx="439560" cy="233280"/>
          </a:xfrm>
          <a:custGeom>
            <a:avLst/>
            <a:gdLst>
              <a:gd name="textAreaLeft" fmla="*/ 0 w 439560"/>
              <a:gd name="textAreaRight" fmla="*/ 439920 w 4395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7" h="147">
                <a:moveTo>
                  <a:pt x="0" y="84"/>
                </a:moveTo>
                <a:lnTo>
                  <a:pt x="37" y="126"/>
                </a:lnTo>
                <a:lnTo>
                  <a:pt x="86" y="147"/>
                </a:lnTo>
                <a:lnTo>
                  <a:pt x="146" y="147"/>
                </a:lnTo>
                <a:lnTo>
                  <a:pt x="196" y="122"/>
                </a:lnTo>
                <a:lnTo>
                  <a:pt x="249" y="81"/>
                </a:lnTo>
                <a:lnTo>
                  <a:pt x="277" y="0"/>
                </a:lnTo>
                <a:lnTo>
                  <a:pt x="0" y="84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35"/>
          <p:cNvSpPr/>
          <p:nvPr/>
        </p:nvSpPr>
        <p:spPr>
          <a:xfrm>
            <a:off x="2844720" y="2336760"/>
            <a:ext cx="192240" cy="609480"/>
          </a:xfrm>
          <a:custGeom>
            <a:avLst/>
            <a:gdLst>
              <a:gd name="textAreaLeft" fmla="*/ 0 w 192240"/>
              <a:gd name="textAreaRight" fmla="*/ 192600 w 1922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1" h="384">
                <a:moveTo>
                  <a:pt x="101" y="384"/>
                </a:moveTo>
                <a:lnTo>
                  <a:pt x="121" y="355"/>
                </a:lnTo>
                <a:lnTo>
                  <a:pt x="65" y="276"/>
                </a:lnTo>
                <a:lnTo>
                  <a:pt x="58" y="200"/>
                </a:lnTo>
                <a:lnTo>
                  <a:pt x="65" y="147"/>
                </a:lnTo>
                <a:lnTo>
                  <a:pt x="96" y="0"/>
                </a:lnTo>
                <a:lnTo>
                  <a:pt x="60" y="16"/>
                </a:lnTo>
                <a:lnTo>
                  <a:pt x="0" y="147"/>
                </a:lnTo>
                <a:lnTo>
                  <a:pt x="13" y="336"/>
                </a:lnTo>
                <a:lnTo>
                  <a:pt x="101" y="384"/>
                </a:lnTo>
                <a:lnTo>
                  <a:pt x="101" y="384"/>
                </a:lnTo>
                <a:lnTo>
                  <a:pt x="101" y="3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36"/>
          <p:cNvSpPr/>
          <p:nvPr/>
        </p:nvSpPr>
        <p:spPr>
          <a:xfrm>
            <a:off x="3089160" y="2502000"/>
            <a:ext cx="273240" cy="379440"/>
          </a:xfrm>
          <a:custGeom>
            <a:avLst/>
            <a:gdLst>
              <a:gd name="textAreaLeft" fmla="*/ 0 w 273240"/>
              <a:gd name="textAreaRight" fmla="*/ 273600 w 2732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72" h="239">
                <a:moveTo>
                  <a:pt x="43" y="151"/>
                </a:moveTo>
                <a:lnTo>
                  <a:pt x="0" y="239"/>
                </a:lnTo>
                <a:lnTo>
                  <a:pt x="40" y="234"/>
                </a:lnTo>
                <a:lnTo>
                  <a:pt x="114" y="188"/>
                </a:lnTo>
                <a:lnTo>
                  <a:pt x="151" y="129"/>
                </a:lnTo>
                <a:lnTo>
                  <a:pt x="172" y="50"/>
                </a:lnTo>
                <a:lnTo>
                  <a:pt x="157" y="0"/>
                </a:lnTo>
                <a:lnTo>
                  <a:pt x="43" y="151"/>
                </a:lnTo>
                <a:lnTo>
                  <a:pt x="43" y="151"/>
                </a:lnTo>
                <a:lnTo>
                  <a:pt x="43" y="151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7"/>
          <p:cNvSpPr/>
          <p:nvPr/>
        </p:nvSpPr>
        <p:spPr>
          <a:xfrm>
            <a:off x="3403440" y="2678040"/>
            <a:ext cx="120960" cy="498600"/>
          </a:xfrm>
          <a:custGeom>
            <a:avLst/>
            <a:gdLst>
              <a:gd name="textAreaLeft" fmla="*/ 0 w 120960"/>
              <a:gd name="textAreaRight" fmla="*/ 121320 w 12096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6" h="314">
                <a:moveTo>
                  <a:pt x="50" y="0"/>
                </a:moveTo>
                <a:lnTo>
                  <a:pt x="58" y="133"/>
                </a:lnTo>
                <a:lnTo>
                  <a:pt x="30" y="187"/>
                </a:lnTo>
                <a:lnTo>
                  <a:pt x="9" y="143"/>
                </a:lnTo>
                <a:lnTo>
                  <a:pt x="0" y="221"/>
                </a:lnTo>
                <a:lnTo>
                  <a:pt x="50" y="314"/>
                </a:lnTo>
                <a:lnTo>
                  <a:pt x="76" y="184"/>
                </a:lnTo>
                <a:lnTo>
                  <a:pt x="76" y="55"/>
                </a:lnTo>
                <a:lnTo>
                  <a:pt x="5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38"/>
          <p:cNvSpPr/>
          <p:nvPr/>
        </p:nvSpPr>
        <p:spPr>
          <a:xfrm>
            <a:off x="3000240" y="3262320"/>
            <a:ext cx="182520" cy="297000"/>
          </a:xfrm>
          <a:custGeom>
            <a:avLst/>
            <a:gdLst>
              <a:gd name="textAreaLeft" fmla="*/ 0 w 182520"/>
              <a:gd name="textAreaRight" fmla="*/ 182880 w 1825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5" h="187">
                <a:moveTo>
                  <a:pt x="69" y="5"/>
                </a:moveTo>
                <a:lnTo>
                  <a:pt x="8" y="41"/>
                </a:lnTo>
                <a:lnTo>
                  <a:pt x="15" y="101"/>
                </a:lnTo>
                <a:lnTo>
                  <a:pt x="31" y="141"/>
                </a:lnTo>
                <a:lnTo>
                  <a:pt x="0" y="187"/>
                </a:lnTo>
                <a:lnTo>
                  <a:pt x="56" y="146"/>
                </a:lnTo>
                <a:lnTo>
                  <a:pt x="61" y="96"/>
                </a:lnTo>
                <a:lnTo>
                  <a:pt x="87" y="55"/>
                </a:lnTo>
                <a:lnTo>
                  <a:pt x="115" y="0"/>
                </a:lnTo>
                <a:lnTo>
                  <a:pt x="69" y="5"/>
                </a:lnTo>
                <a:lnTo>
                  <a:pt x="69" y="5"/>
                </a:lnTo>
                <a:lnTo>
                  <a:pt x="69" y="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39"/>
          <p:cNvSpPr/>
          <p:nvPr/>
        </p:nvSpPr>
        <p:spPr>
          <a:xfrm>
            <a:off x="5802480" y="2166840"/>
            <a:ext cx="428400" cy="712800"/>
          </a:xfrm>
          <a:custGeom>
            <a:avLst/>
            <a:gdLst>
              <a:gd name="textAreaLeft" fmla="*/ 0 w 428400"/>
              <a:gd name="textAreaRight" fmla="*/ 428760 w 4284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70" h="449">
                <a:moveTo>
                  <a:pt x="0" y="0"/>
                </a:moveTo>
                <a:lnTo>
                  <a:pt x="93" y="96"/>
                </a:lnTo>
                <a:lnTo>
                  <a:pt x="162" y="154"/>
                </a:lnTo>
                <a:lnTo>
                  <a:pt x="235" y="217"/>
                </a:lnTo>
                <a:lnTo>
                  <a:pt x="270" y="286"/>
                </a:lnTo>
                <a:lnTo>
                  <a:pt x="241" y="348"/>
                </a:lnTo>
                <a:lnTo>
                  <a:pt x="186" y="419"/>
                </a:lnTo>
                <a:lnTo>
                  <a:pt x="66" y="449"/>
                </a:lnTo>
                <a:lnTo>
                  <a:pt x="147" y="322"/>
                </a:lnTo>
                <a:lnTo>
                  <a:pt x="89" y="187"/>
                </a:lnTo>
                <a:lnTo>
                  <a:pt x="8" y="10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40"/>
          <p:cNvSpPr/>
          <p:nvPr/>
        </p:nvSpPr>
        <p:spPr>
          <a:xfrm>
            <a:off x="5616720" y="2494080"/>
            <a:ext cx="252360" cy="261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59" h="165">
                <a:moveTo>
                  <a:pt x="0" y="2"/>
                </a:moveTo>
                <a:lnTo>
                  <a:pt x="8" y="58"/>
                </a:lnTo>
                <a:lnTo>
                  <a:pt x="51" y="54"/>
                </a:lnTo>
                <a:lnTo>
                  <a:pt x="101" y="81"/>
                </a:lnTo>
                <a:lnTo>
                  <a:pt x="113" y="165"/>
                </a:lnTo>
                <a:lnTo>
                  <a:pt x="159" y="127"/>
                </a:lnTo>
                <a:lnTo>
                  <a:pt x="148" y="49"/>
                </a:lnTo>
                <a:lnTo>
                  <a:pt x="9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41"/>
          <p:cNvSpPr/>
          <p:nvPr/>
        </p:nvSpPr>
        <p:spPr>
          <a:xfrm>
            <a:off x="5059440" y="438120"/>
            <a:ext cx="293760" cy="507960"/>
          </a:xfrm>
          <a:custGeom>
            <a:avLst/>
            <a:gdLst>
              <a:gd name="textAreaLeft" fmla="*/ 0 w 293760"/>
              <a:gd name="textAreaRight" fmla="*/ 294120 w 2937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85" h="320">
                <a:moveTo>
                  <a:pt x="0" y="13"/>
                </a:moveTo>
                <a:lnTo>
                  <a:pt x="55" y="58"/>
                </a:lnTo>
                <a:lnTo>
                  <a:pt x="95" y="101"/>
                </a:lnTo>
                <a:lnTo>
                  <a:pt x="103" y="144"/>
                </a:lnTo>
                <a:lnTo>
                  <a:pt x="103" y="216"/>
                </a:lnTo>
                <a:lnTo>
                  <a:pt x="137" y="172"/>
                </a:lnTo>
                <a:lnTo>
                  <a:pt x="125" y="233"/>
                </a:lnTo>
                <a:lnTo>
                  <a:pt x="108" y="320"/>
                </a:lnTo>
                <a:lnTo>
                  <a:pt x="161" y="238"/>
                </a:lnTo>
                <a:lnTo>
                  <a:pt x="185" y="172"/>
                </a:lnTo>
                <a:lnTo>
                  <a:pt x="144" y="69"/>
                </a:lnTo>
                <a:lnTo>
                  <a:pt x="31" y="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42"/>
          <p:cNvSpPr/>
          <p:nvPr/>
        </p:nvSpPr>
        <p:spPr>
          <a:xfrm>
            <a:off x="4781520" y="1681200"/>
            <a:ext cx="584280" cy="181080"/>
          </a:xfrm>
          <a:custGeom>
            <a:avLst/>
            <a:gdLst>
              <a:gd name="textAreaLeft" fmla="*/ 0 w 584280"/>
              <a:gd name="textAreaRight" fmla="*/ 584280 w 5842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368" h="114">
                <a:moveTo>
                  <a:pt x="0" y="114"/>
                </a:moveTo>
                <a:lnTo>
                  <a:pt x="41" y="106"/>
                </a:lnTo>
                <a:lnTo>
                  <a:pt x="82" y="92"/>
                </a:lnTo>
                <a:lnTo>
                  <a:pt x="171" y="53"/>
                </a:lnTo>
                <a:lnTo>
                  <a:pt x="217" y="42"/>
                </a:lnTo>
                <a:lnTo>
                  <a:pt x="280" y="44"/>
                </a:lnTo>
                <a:lnTo>
                  <a:pt x="330" y="61"/>
                </a:lnTo>
                <a:lnTo>
                  <a:pt x="368" y="86"/>
                </a:lnTo>
                <a:lnTo>
                  <a:pt x="359" y="67"/>
                </a:lnTo>
                <a:lnTo>
                  <a:pt x="366" y="45"/>
                </a:lnTo>
                <a:lnTo>
                  <a:pt x="337" y="47"/>
                </a:lnTo>
                <a:lnTo>
                  <a:pt x="316" y="44"/>
                </a:lnTo>
                <a:lnTo>
                  <a:pt x="316" y="25"/>
                </a:lnTo>
                <a:lnTo>
                  <a:pt x="266" y="6"/>
                </a:lnTo>
                <a:lnTo>
                  <a:pt x="217" y="0"/>
                </a:lnTo>
                <a:lnTo>
                  <a:pt x="167" y="4"/>
                </a:lnTo>
                <a:lnTo>
                  <a:pt x="126" y="22"/>
                </a:lnTo>
                <a:lnTo>
                  <a:pt x="57" y="35"/>
                </a:lnTo>
                <a:lnTo>
                  <a:pt x="17" y="70"/>
                </a:lnTo>
                <a:lnTo>
                  <a:pt x="7" y="95"/>
                </a:lnTo>
                <a:lnTo>
                  <a:pt x="0" y="114"/>
                </a:lnTo>
                <a:lnTo>
                  <a:pt x="0" y="114"/>
                </a:lnTo>
                <a:lnTo>
                  <a:pt x="0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43"/>
          <p:cNvSpPr/>
          <p:nvPr/>
        </p:nvSpPr>
        <p:spPr>
          <a:xfrm>
            <a:off x="3902040" y="1886040"/>
            <a:ext cx="452520" cy="169920"/>
          </a:xfrm>
          <a:custGeom>
            <a:avLst/>
            <a:gdLst>
              <a:gd name="textAreaLeft" fmla="*/ 0 w 452520"/>
              <a:gd name="textAreaRight" fmla="*/ 452880 w 4525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85" h="107">
                <a:moveTo>
                  <a:pt x="261" y="40"/>
                </a:moveTo>
                <a:lnTo>
                  <a:pt x="223" y="50"/>
                </a:lnTo>
                <a:lnTo>
                  <a:pt x="159" y="48"/>
                </a:lnTo>
                <a:lnTo>
                  <a:pt x="118" y="48"/>
                </a:lnTo>
                <a:lnTo>
                  <a:pt x="75" y="56"/>
                </a:lnTo>
                <a:lnTo>
                  <a:pt x="24" y="83"/>
                </a:lnTo>
                <a:lnTo>
                  <a:pt x="0" y="107"/>
                </a:lnTo>
                <a:lnTo>
                  <a:pt x="24" y="56"/>
                </a:lnTo>
                <a:lnTo>
                  <a:pt x="73" y="24"/>
                </a:lnTo>
                <a:lnTo>
                  <a:pt x="129" y="18"/>
                </a:lnTo>
                <a:lnTo>
                  <a:pt x="152" y="6"/>
                </a:lnTo>
                <a:lnTo>
                  <a:pt x="220" y="0"/>
                </a:lnTo>
                <a:lnTo>
                  <a:pt x="259" y="8"/>
                </a:lnTo>
                <a:lnTo>
                  <a:pt x="285" y="25"/>
                </a:lnTo>
                <a:lnTo>
                  <a:pt x="261" y="40"/>
                </a:lnTo>
                <a:lnTo>
                  <a:pt x="261" y="40"/>
                </a:lnTo>
                <a:lnTo>
                  <a:pt x="261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44"/>
          <p:cNvSpPr/>
          <p:nvPr/>
        </p:nvSpPr>
        <p:spPr>
          <a:xfrm>
            <a:off x="4673520" y="1871640"/>
            <a:ext cx="362160" cy="763560"/>
          </a:xfrm>
          <a:custGeom>
            <a:avLst/>
            <a:gdLst>
              <a:gd name="textAreaLeft" fmla="*/ 0 w 362160"/>
              <a:gd name="textAreaRight" fmla="*/ 362520 w 3621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28" h="481">
                <a:moveTo>
                  <a:pt x="212" y="0"/>
                </a:moveTo>
                <a:lnTo>
                  <a:pt x="166" y="27"/>
                </a:lnTo>
                <a:lnTo>
                  <a:pt x="125" y="65"/>
                </a:lnTo>
                <a:lnTo>
                  <a:pt x="109" y="88"/>
                </a:lnTo>
                <a:lnTo>
                  <a:pt x="113" y="117"/>
                </a:lnTo>
                <a:lnTo>
                  <a:pt x="87" y="116"/>
                </a:lnTo>
                <a:lnTo>
                  <a:pt x="89" y="144"/>
                </a:lnTo>
                <a:lnTo>
                  <a:pt x="121" y="239"/>
                </a:lnTo>
                <a:lnTo>
                  <a:pt x="148" y="298"/>
                </a:lnTo>
                <a:lnTo>
                  <a:pt x="196" y="339"/>
                </a:lnTo>
                <a:lnTo>
                  <a:pt x="228" y="388"/>
                </a:lnTo>
                <a:lnTo>
                  <a:pt x="216" y="436"/>
                </a:lnTo>
                <a:lnTo>
                  <a:pt x="178" y="452"/>
                </a:lnTo>
                <a:lnTo>
                  <a:pt x="144" y="448"/>
                </a:lnTo>
                <a:lnTo>
                  <a:pt x="59" y="481"/>
                </a:lnTo>
                <a:lnTo>
                  <a:pt x="0" y="481"/>
                </a:lnTo>
                <a:lnTo>
                  <a:pt x="41" y="466"/>
                </a:lnTo>
                <a:lnTo>
                  <a:pt x="63" y="450"/>
                </a:lnTo>
                <a:lnTo>
                  <a:pt x="79" y="434"/>
                </a:lnTo>
                <a:lnTo>
                  <a:pt x="97" y="429"/>
                </a:lnTo>
                <a:lnTo>
                  <a:pt x="132" y="422"/>
                </a:lnTo>
                <a:lnTo>
                  <a:pt x="182" y="422"/>
                </a:lnTo>
                <a:lnTo>
                  <a:pt x="198" y="402"/>
                </a:lnTo>
                <a:lnTo>
                  <a:pt x="198" y="371"/>
                </a:lnTo>
                <a:lnTo>
                  <a:pt x="182" y="345"/>
                </a:lnTo>
                <a:lnTo>
                  <a:pt x="164" y="333"/>
                </a:lnTo>
                <a:lnTo>
                  <a:pt x="140" y="329"/>
                </a:lnTo>
                <a:lnTo>
                  <a:pt x="93" y="373"/>
                </a:lnTo>
                <a:lnTo>
                  <a:pt x="75" y="331"/>
                </a:lnTo>
                <a:lnTo>
                  <a:pt x="54" y="250"/>
                </a:lnTo>
                <a:lnTo>
                  <a:pt x="48" y="156"/>
                </a:lnTo>
                <a:lnTo>
                  <a:pt x="46" y="117"/>
                </a:lnTo>
                <a:lnTo>
                  <a:pt x="55" y="86"/>
                </a:lnTo>
                <a:lnTo>
                  <a:pt x="75" y="54"/>
                </a:lnTo>
                <a:lnTo>
                  <a:pt x="82" y="69"/>
                </a:lnTo>
                <a:lnTo>
                  <a:pt x="97" y="77"/>
                </a:lnTo>
                <a:lnTo>
                  <a:pt x="116" y="65"/>
                </a:lnTo>
                <a:lnTo>
                  <a:pt x="146" y="31"/>
                </a:lnTo>
                <a:lnTo>
                  <a:pt x="178" y="9"/>
                </a:lnTo>
                <a:lnTo>
                  <a:pt x="212" y="0"/>
                </a:lnTo>
                <a:lnTo>
                  <a:pt x="212" y="0"/>
                </a:lnTo>
                <a:lnTo>
                  <a:pt x="2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45"/>
          <p:cNvSpPr/>
          <p:nvPr/>
        </p:nvSpPr>
        <p:spPr>
          <a:xfrm>
            <a:off x="4849920" y="1862280"/>
            <a:ext cx="504720" cy="193680"/>
          </a:xfrm>
          <a:custGeom>
            <a:avLst/>
            <a:gdLst>
              <a:gd name="textAreaLeft" fmla="*/ 0 w 504720"/>
              <a:gd name="textAreaRight" fmla="*/ 504720 w 504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18" h="122">
                <a:moveTo>
                  <a:pt x="0" y="111"/>
                </a:moveTo>
                <a:lnTo>
                  <a:pt x="43" y="69"/>
                </a:lnTo>
                <a:lnTo>
                  <a:pt x="77" y="45"/>
                </a:lnTo>
                <a:lnTo>
                  <a:pt x="119" y="28"/>
                </a:lnTo>
                <a:lnTo>
                  <a:pt x="142" y="24"/>
                </a:lnTo>
                <a:lnTo>
                  <a:pt x="171" y="23"/>
                </a:lnTo>
                <a:lnTo>
                  <a:pt x="148" y="0"/>
                </a:lnTo>
                <a:lnTo>
                  <a:pt x="182" y="0"/>
                </a:lnTo>
                <a:lnTo>
                  <a:pt x="209" y="6"/>
                </a:lnTo>
                <a:lnTo>
                  <a:pt x="239" y="6"/>
                </a:lnTo>
                <a:lnTo>
                  <a:pt x="235" y="21"/>
                </a:lnTo>
                <a:lnTo>
                  <a:pt x="278" y="24"/>
                </a:lnTo>
                <a:lnTo>
                  <a:pt x="298" y="17"/>
                </a:lnTo>
                <a:lnTo>
                  <a:pt x="280" y="40"/>
                </a:lnTo>
                <a:lnTo>
                  <a:pt x="318" y="31"/>
                </a:lnTo>
                <a:lnTo>
                  <a:pt x="302" y="55"/>
                </a:lnTo>
                <a:lnTo>
                  <a:pt x="316" y="75"/>
                </a:lnTo>
                <a:lnTo>
                  <a:pt x="280" y="73"/>
                </a:lnTo>
                <a:lnTo>
                  <a:pt x="262" y="81"/>
                </a:lnTo>
                <a:lnTo>
                  <a:pt x="251" y="101"/>
                </a:lnTo>
                <a:lnTo>
                  <a:pt x="227" y="101"/>
                </a:lnTo>
                <a:lnTo>
                  <a:pt x="196" y="113"/>
                </a:lnTo>
                <a:lnTo>
                  <a:pt x="164" y="122"/>
                </a:lnTo>
                <a:lnTo>
                  <a:pt x="108" y="122"/>
                </a:lnTo>
                <a:lnTo>
                  <a:pt x="189" y="106"/>
                </a:lnTo>
                <a:lnTo>
                  <a:pt x="241" y="77"/>
                </a:lnTo>
                <a:lnTo>
                  <a:pt x="207" y="62"/>
                </a:lnTo>
                <a:lnTo>
                  <a:pt x="174" y="53"/>
                </a:lnTo>
                <a:lnTo>
                  <a:pt x="142" y="51"/>
                </a:lnTo>
                <a:lnTo>
                  <a:pt x="113" y="51"/>
                </a:lnTo>
                <a:lnTo>
                  <a:pt x="85" y="57"/>
                </a:lnTo>
                <a:lnTo>
                  <a:pt x="60" y="69"/>
                </a:lnTo>
                <a:lnTo>
                  <a:pt x="43" y="87"/>
                </a:lnTo>
                <a:lnTo>
                  <a:pt x="30" y="108"/>
                </a:lnTo>
                <a:lnTo>
                  <a:pt x="73" y="122"/>
                </a:lnTo>
                <a:lnTo>
                  <a:pt x="21" y="122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46"/>
          <p:cNvSpPr/>
          <p:nvPr/>
        </p:nvSpPr>
        <p:spPr>
          <a:xfrm>
            <a:off x="5035680" y="1943280"/>
            <a:ext cx="64800" cy="64800"/>
          </a:xfrm>
          <a:custGeom>
            <a:avLst/>
            <a:gdLst>
              <a:gd name="textAreaLeft" fmla="*/ 0 w 64800"/>
              <a:gd name="textAreaRight" fmla="*/ 65160 w 648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41" h="41">
                <a:moveTo>
                  <a:pt x="0" y="12"/>
                </a:moveTo>
                <a:lnTo>
                  <a:pt x="13" y="19"/>
                </a:lnTo>
                <a:lnTo>
                  <a:pt x="15" y="28"/>
                </a:lnTo>
                <a:lnTo>
                  <a:pt x="5" y="37"/>
                </a:lnTo>
                <a:lnTo>
                  <a:pt x="21" y="41"/>
                </a:lnTo>
                <a:lnTo>
                  <a:pt x="35" y="37"/>
                </a:lnTo>
                <a:lnTo>
                  <a:pt x="41" y="24"/>
                </a:lnTo>
                <a:lnTo>
                  <a:pt x="37" y="9"/>
                </a:lnTo>
                <a:lnTo>
                  <a:pt x="23" y="0"/>
                </a:lnTo>
                <a:lnTo>
                  <a:pt x="9" y="3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47"/>
          <p:cNvSpPr/>
          <p:nvPr/>
        </p:nvSpPr>
        <p:spPr>
          <a:xfrm>
            <a:off x="4975200" y="1936800"/>
            <a:ext cx="171360" cy="115920"/>
          </a:xfrm>
          <a:custGeom>
            <a:avLst/>
            <a:gdLst>
              <a:gd name="textAreaLeft" fmla="*/ 0 w 171360"/>
              <a:gd name="textAreaRight" fmla="*/ 171720 w 1713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08" h="73">
                <a:moveTo>
                  <a:pt x="24" y="0"/>
                </a:moveTo>
                <a:lnTo>
                  <a:pt x="18" y="38"/>
                </a:lnTo>
                <a:lnTo>
                  <a:pt x="34" y="59"/>
                </a:lnTo>
                <a:lnTo>
                  <a:pt x="47" y="63"/>
                </a:lnTo>
                <a:lnTo>
                  <a:pt x="65" y="63"/>
                </a:lnTo>
                <a:lnTo>
                  <a:pt x="81" y="54"/>
                </a:lnTo>
                <a:lnTo>
                  <a:pt x="94" y="38"/>
                </a:lnTo>
                <a:lnTo>
                  <a:pt x="95" y="20"/>
                </a:lnTo>
                <a:lnTo>
                  <a:pt x="87" y="2"/>
                </a:lnTo>
                <a:lnTo>
                  <a:pt x="103" y="2"/>
                </a:lnTo>
                <a:lnTo>
                  <a:pt x="108" y="22"/>
                </a:lnTo>
                <a:lnTo>
                  <a:pt x="106" y="43"/>
                </a:lnTo>
                <a:lnTo>
                  <a:pt x="94" y="61"/>
                </a:lnTo>
                <a:lnTo>
                  <a:pt x="74" y="70"/>
                </a:lnTo>
                <a:lnTo>
                  <a:pt x="45" y="73"/>
                </a:lnTo>
                <a:lnTo>
                  <a:pt x="24" y="64"/>
                </a:lnTo>
                <a:lnTo>
                  <a:pt x="6" y="38"/>
                </a:lnTo>
                <a:lnTo>
                  <a:pt x="0" y="18"/>
                </a:lnTo>
                <a:lnTo>
                  <a:pt x="0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48"/>
          <p:cNvSpPr/>
          <p:nvPr/>
        </p:nvSpPr>
        <p:spPr>
          <a:xfrm>
            <a:off x="4511520" y="2593800"/>
            <a:ext cx="136800" cy="32040"/>
          </a:xfrm>
          <a:custGeom>
            <a:avLst/>
            <a:gdLst>
              <a:gd name="textAreaLeft" fmla="*/ 0 w 136800"/>
              <a:gd name="textAreaRight" fmla="*/ 137160 w 136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86" h="20">
                <a:moveTo>
                  <a:pt x="86" y="20"/>
                </a:moveTo>
                <a:lnTo>
                  <a:pt x="37" y="0"/>
                </a:lnTo>
                <a:lnTo>
                  <a:pt x="0" y="10"/>
                </a:lnTo>
                <a:lnTo>
                  <a:pt x="11" y="20"/>
                </a:lnTo>
                <a:lnTo>
                  <a:pt x="55" y="20"/>
                </a:lnTo>
                <a:lnTo>
                  <a:pt x="86" y="20"/>
                </a:lnTo>
                <a:lnTo>
                  <a:pt x="86" y="20"/>
                </a:lnTo>
                <a:lnTo>
                  <a:pt x="8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49"/>
          <p:cNvSpPr/>
          <p:nvPr/>
        </p:nvSpPr>
        <p:spPr>
          <a:xfrm>
            <a:off x="5062680" y="2503440"/>
            <a:ext cx="245880" cy="2239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55" h="141">
                <a:moveTo>
                  <a:pt x="0" y="0"/>
                </a:moveTo>
                <a:lnTo>
                  <a:pt x="42" y="32"/>
                </a:lnTo>
                <a:lnTo>
                  <a:pt x="137" y="81"/>
                </a:lnTo>
                <a:lnTo>
                  <a:pt x="155" y="101"/>
                </a:lnTo>
                <a:lnTo>
                  <a:pt x="155" y="141"/>
                </a:lnTo>
                <a:lnTo>
                  <a:pt x="146" y="107"/>
                </a:lnTo>
                <a:lnTo>
                  <a:pt x="111" y="81"/>
                </a:lnTo>
                <a:lnTo>
                  <a:pt x="39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50"/>
          <p:cNvSpPr/>
          <p:nvPr/>
        </p:nvSpPr>
        <p:spPr>
          <a:xfrm>
            <a:off x="4440240" y="2724120"/>
            <a:ext cx="760320" cy="139680"/>
          </a:xfrm>
          <a:custGeom>
            <a:avLst/>
            <a:gdLst>
              <a:gd name="textAreaLeft" fmla="*/ 0 w 760320"/>
              <a:gd name="textAreaRight" fmla="*/ 760680 w 760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79" h="88">
                <a:moveTo>
                  <a:pt x="0" y="88"/>
                </a:moveTo>
                <a:lnTo>
                  <a:pt x="70" y="77"/>
                </a:lnTo>
                <a:lnTo>
                  <a:pt x="117" y="73"/>
                </a:lnTo>
                <a:lnTo>
                  <a:pt x="206" y="70"/>
                </a:lnTo>
                <a:lnTo>
                  <a:pt x="238" y="63"/>
                </a:lnTo>
                <a:lnTo>
                  <a:pt x="313" y="47"/>
                </a:lnTo>
                <a:lnTo>
                  <a:pt x="377" y="31"/>
                </a:lnTo>
                <a:lnTo>
                  <a:pt x="411" y="27"/>
                </a:lnTo>
                <a:lnTo>
                  <a:pt x="429" y="27"/>
                </a:lnTo>
                <a:lnTo>
                  <a:pt x="429" y="55"/>
                </a:lnTo>
                <a:lnTo>
                  <a:pt x="431" y="72"/>
                </a:lnTo>
                <a:lnTo>
                  <a:pt x="456" y="45"/>
                </a:lnTo>
                <a:lnTo>
                  <a:pt x="456" y="72"/>
                </a:lnTo>
                <a:lnTo>
                  <a:pt x="475" y="36"/>
                </a:lnTo>
                <a:lnTo>
                  <a:pt x="479" y="9"/>
                </a:lnTo>
                <a:lnTo>
                  <a:pt x="465" y="4"/>
                </a:lnTo>
                <a:lnTo>
                  <a:pt x="429" y="0"/>
                </a:lnTo>
                <a:lnTo>
                  <a:pt x="379" y="0"/>
                </a:lnTo>
                <a:lnTo>
                  <a:pt x="311" y="2"/>
                </a:lnTo>
                <a:lnTo>
                  <a:pt x="285" y="9"/>
                </a:lnTo>
                <a:lnTo>
                  <a:pt x="229" y="18"/>
                </a:lnTo>
                <a:lnTo>
                  <a:pt x="202" y="20"/>
                </a:lnTo>
                <a:lnTo>
                  <a:pt x="119" y="31"/>
                </a:lnTo>
                <a:lnTo>
                  <a:pt x="84" y="43"/>
                </a:lnTo>
                <a:lnTo>
                  <a:pt x="134" y="36"/>
                </a:lnTo>
                <a:lnTo>
                  <a:pt x="190" y="31"/>
                </a:lnTo>
                <a:lnTo>
                  <a:pt x="224" y="31"/>
                </a:lnTo>
                <a:lnTo>
                  <a:pt x="263" y="23"/>
                </a:lnTo>
                <a:lnTo>
                  <a:pt x="291" y="18"/>
                </a:lnTo>
                <a:lnTo>
                  <a:pt x="266" y="48"/>
                </a:lnTo>
                <a:lnTo>
                  <a:pt x="227" y="57"/>
                </a:lnTo>
                <a:lnTo>
                  <a:pt x="175" y="63"/>
                </a:lnTo>
                <a:lnTo>
                  <a:pt x="122" y="65"/>
                </a:lnTo>
                <a:lnTo>
                  <a:pt x="90" y="72"/>
                </a:lnTo>
                <a:lnTo>
                  <a:pt x="41" y="75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51"/>
          <p:cNvSpPr/>
          <p:nvPr/>
        </p:nvSpPr>
        <p:spPr>
          <a:xfrm>
            <a:off x="4386240" y="2860560"/>
            <a:ext cx="109440" cy="76320"/>
          </a:xfrm>
          <a:custGeom>
            <a:avLst/>
            <a:gdLst>
              <a:gd name="textAreaLeft" fmla="*/ 0 w 109440"/>
              <a:gd name="textAreaRight" fmla="*/ 109800 w 109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9" h="48">
                <a:moveTo>
                  <a:pt x="0" y="10"/>
                </a:moveTo>
                <a:lnTo>
                  <a:pt x="41" y="48"/>
                </a:lnTo>
                <a:lnTo>
                  <a:pt x="41" y="30"/>
                </a:lnTo>
                <a:lnTo>
                  <a:pt x="69" y="32"/>
                </a:lnTo>
                <a:lnTo>
                  <a:pt x="43" y="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52"/>
          <p:cNvSpPr/>
          <p:nvPr/>
        </p:nvSpPr>
        <p:spPr>
          <a:xfrm>
            <a:off x="4492800" y="2835360"/>
            <a:ext cx="628560" cy="176040"/>
          </a:xfrm>
          <a:custGeom>
            <a:avLst/>
            <a:gdLst>
              <a:gd name="textAreaLeft" fmla="*/ 0 w 628560"/>
              <a:gd name="textAreaRight" fmla="*/ 628920 w 6285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396" h="111">
                <a:moveTo>
                  <a:pt x="0" y="61"/>
                </a:moveTo>
                <a:lnTo>
                  <a:pt x="49" y="84"/>
                </a:lnTo>
                <a:lnTo>
                  <a:pt x="118" y="97"/>
                </a:lnTo>
                <a:lnTo>
                  <a:pt x="175" y="97"/>
                </a:lnTo>
                <a:lnTo>
                  <a:pt x="241" y="84"/>
                </a:lnTo>
                <a:lnTo>
                  <a:pt x="302" y="64"/>
                </a:lnTo>
                <a:lnTo>
                  <a:pt x="353" y="34"/>
                </a:lnTo>
                <a:lnTo>
                  <a:pt x="396" y="0"/>
                </a:lnTo>
                <a:lnTo>
                  <a:pt x="351" y="44"/>
                </a:lnTo>
                <a:lnTo>
                  <a:pt x="314" y="71"/>
                </a:lnTo>
                <a:lnTo>
                  <a:pt x="254" y="95"/>
                </a:lnTo>
                <a:lnTo>
                  <a:pt x="201" y="107"/>
                </a:lnTo>
                <a:lnTo>
                  <a:pt x="146" y="111"/>
                </a:lnTo>
                <a:lnTo>
                  <a:pt x="91" y="105"/>
                </a:lnTo>
                <a:lnTo>
                  <a:pt x="42" y="91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53"/>
          <p:cNvSpPr/>
          <p:nvPr/>
        </p:nvSpPr>
        <p:spPr>
          <a:xfrm>
            <a:off x="4511520" y="2824200"/>
            <a:ext cx="649440" cy="258840"/>
          </a:xfrm>
          <a:custGeom>
            <a:avLst/>
            <a:gdLst>
              <a:gd name="textAreaLeft" fmla="*/ 0 w 649440"/>
              <a:gd name="textAreaRight" fmla="*/ 649800 w 649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09" h="163">
                <a:moveTo>
                  <a:pt x="409" y="10"/>
                </a:moveTo>
                <a:lnTo>
                  <a:pt x="384" y="59"/>
                </a:lnTo>
                <a:lnTo>
                  <a:pt x="343" y="98"/>
                </a:lnTo>
                <a:lnTo>
                  <a:pt x="282" y="134"/>
                </a:lnTo>
                <a:lnTo>
                  <a:pt x="227" y="155"/>
                </a:lnTo>
                <a:lnTo>
                  <a:pt x="170" y="163"/>
                </a:lnTo>
                <a:lnTo>
                  <a:pt x="104" y="157"/>
                </a:lnTo>
                <a:lnTo>
                  <a:pt x="43" y="136"/>
                </a:lnTo>
                <a:lnTo>
                  <a:pt x="0" y="104"/>
                </a:lnTo>
                <a:lnTo>
                  <a:pt x="51" y="132"/>
                </a:lnTo>
                <a:lnTo>
                  <a:pt x="87" y="142"/>
                </a:lnTo>
                <a:lnTo>
                  <a:pt x="143" y="150"/>
                </a:lnTo>
                <a:lnTo>
                  <a:pt x="193" y="148"/>
                </a:lnTo>
                <a:lnTo>
                  <a:pt x="240" y="139"/>
                </a:lnTo>
                <a:lnTo>
                  <a:pt x="271" y="124"/>
                </a:lnTo>
                <a:lnTo>
                  <a:pt x="286" y="114"/>
                </a:lnTo>
                <a:lnTo>
                  <a:pt x="292" y="102"/>
                </a:lnTo>
                <a:lnTo>
                  <a:pt x="280" y="91"/>
                </a:lnTo>
                <a:lnTo>
                  <a:pt x="260" y="89"/>
                </a:lnTo>
                <a:lnTo>
                  <a:pt x="304" y="69"/>
                </a:lnTo>
                <a:lnTo>
                  <a:pt x="343" y="41"/>
                </a:lnTo>
                <a:lnTo>
                  <a:pt x="391" y="0"/>
                </a:lnTo>
                <a:lnTo>
                  <a:pt x="384" y="30"/>
                </a:lnTo>
                <a:lnTo>
                  <a:pt x="409" y="10"/>
                </a:lnTo>
                <a:lnTo>
                  <a:pt x="409" y="10"/>
                </a:lnTo>
                <a:lnTo>
                  <a:pt x="4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54"/>
          <p:cNvSpPr/>
          <p:nvPr/>
        </p:nvSpPr>
        <p:spPr>
          <a:xfrm>
            <a:off x="4248000" y="2538360"/>
            <a:ext cx="184320" cy="393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16" h="248">
                <a:moveTo>
                  <a:pt x="116" y="0"/>
                </a:moveTo>
                <a:lnTo>
                  <a:pt x="98" y="59"/>
                </a:lnTo>
                <a:lnTo>
                  <a:pt x="67" y="112"/>
                </a:lnTo>
                <a:lnTo>
                  <a:pt x="45" y="142"/>
                </a:lnTo>
                <a:lnTo>
                  <a:pt x="31" y="172"/>
                </a:lnTo>
                <a:lnTo>
                  <a:pt x="16" y="217"/>
                </a:lnTo>
                <a:lnTo>
                  <a:pt x="12" y="248"/>
                </a:lnTo>
                <a:lnTo>
                  <a:pt x="0" y="209"/>
                </a:lnTo>
                <a:lnTo>
                  <a:pt x="0" y="178"/>
                </a:lnTo>
                <a:lnTo>
                  <a:pt x="9" y="146"/>
                </a:lnTo>
                <a:lnTo>
                  <a:pt x="33" y="114"/>
                </a:lnTo>
                <a:lnTo>
                  <a:pt x="57" y="89"/>
                </a:lnTo>
                <a:lnTo>
                  <a:pt x="78" y="66"/>
                </a:lnTo>
                <a:lnTo>
                  <a:pt x="93" y="41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5"/>
          <p:cNvSpPr/>
          <p:nvPr/>
        </p:nvSpPr>
        <p:spPr>
          <a:xfrm>
            <a:off x="3962520" y="2070000"/>
            <a:ext cx="477720" cy="184320"/>
          </a:xfrm>
          <a:custGeom>
            <a:avLst/>
            <a:gdLst>
              <a:gd name="textAreaLeft" fmla="*/ 0 w 477720"/>
              <a:gd name="textAreaRight" fmla="*/ 477720 w 4777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01" h="116">
                <a:moveTo>
                  <a:pt x="253" y="64"/>
                </a:moveTo>
                <a:lnTo>
                  <a:pt x="301" y="48"/>
                </a:lnTo>
                <a:lnTo>
                  <a:pt x="273" y="25"/>
                </a:lnTo>
                <a:lnTo>
                  <a:pt x="217" y="7"/>
                </a:lnTo>
                <a:lnTo>
                  <a:pt x="156" y="0"/>
                </a:lnTo>
                <a:lnTo>
                  <a:pt x="118" y="7"/>
                </a:lnTo>
                <a:lnTo>
                  <a:pt x="120" y="23"/>
                </a:lnTo>
                <a:lnTo>
                  <a:pt x="91" y="27"/>
                </a:lnTo>
                <a:lnTo>
                  <a:pt x="84" y="13"/>
                </a:lnTo>
                <a:lnTo>
                  <a:pt x="44" y="41"/>
                </a:lnTo>
                <a:lnTo>
                  <a:pt x="23" y="64"/>
                </a:lnTo>
                <a:lnTo>
                  <a:pt x="39" y="76"/>
                </a:lnTo>
                <a:lnTo>
                  <a:pt x="26" y="88"/>
                </a:lnTo>
                <a:lnTo>
                  <a:pt x="0" y="102"/>
                </a:lnTo>
                <a:lnTo>
                  <a:pt x="30" y="111"/>
                </a:lnTo>
                <a:lnTo>
                  <a:pt x="51" y="111"/>
                </a:lnTo>
                <a:lnTo>
                  <a:pt x="80" y="104"/>
                </a:lnTo>
                <a:lnTo>
                  <a:pt x="94" y="116"/>
                </a:lnTo>
                <a:lnTo>
                  <a:pt x="112" y="104"/>
                </a:lnTo>
                <a:lnTo>
                  <a:pt x="130" y="109"/>
                </a:lnTo>
                <a:lnTo>
                  <a:pt x="146" y="89"/>
                </a:lnTo>
                <a:lnTo>
                  <a:pt x="105" y="84"/>
                </a:lnTo>
                <a:lnTo>
                  <a:pt x="91" y="72"/>
                </a:lnTo>
                <a:lnTo>
                  <a:pt x="110" y="52"/>
                </a:lnTo>
                <a:lnTo>
                  <a:pt x="134" y="35"/>
                </a:lnTo>
                <a:lnTo>
                  <a:pt x="162" y="27"/>
                </a:lnTo>
                <a:lnTo>
                  <a:pt x="196" y="27"/>
                </a:lnTo>
                <a:lnTo>
                  <a:pt x="233" y="34"/>
                </a:lnTo>
                <a:lnTo>
                  <a:pt x="262" y="39"/>
                </a:lnTo>
                <a:lnTo>
                  <a:pt x="253" y="64"/>
                </a:lnTo>
                <a:lnTo>
                  <a:pt x="253" y="64"/>
                </a:lnTo>
                <a:lnTo>
                  <a:pt x="253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56"/>
          <p:cNvSpPr/>
          <p:nvPr/>
        </p:nvSpPr>
        <p:spPr>
          <a:xfrm>
            <a:off x="4213080" y="2174760"/>
            <a:ext cx="115920" cy="50760"/>
          </a:xfrm>
          <a:custGeom>
            <a:avLst/>
            <a:gdLst>
              <a:gd name="textAreaLeft" fmla="*/ 0 w 115920"/>
              <a:gd name="textAreaRight" fmla="*/ 116280 w 115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3" h="32">
                <a:moveTo>
                  <a:pt x="0" y="20"/>
                </a:moveTo>
                <a:lnTo>
                  <a:pt x="36" y="12"/>
                </a:lnTo>
                <a:lnTo>
                  <a:pt x="73" y="0"/>
                </a:lnTo>
                <a:lnTo>
                  <a:pt x="41" y="23"/>
                </a:lnTo>
                <a:lnTo>
                  <a:pt x="19" y="23"/>
                </a:lnTo>
                <a:lnTo>
                  <a:pt x="0" y="32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57"/>
          <p:cNvSpPr/>
          <p:nvPr/>
        </p:nvSpPr>
        <p:spPr>
          <a:xfrm>
            <a:off x="4057560" y="2038320"/>
            <a:ext cx="289080" cy="85680"/>
          </a:xfrm>
          <a:custGeom>
            <a:avLst/>
            <a:gdLst>
              <a:gd name="textAreaLeft" fmla="*/ 0 w 289080"/>
              <a:gd name="textAreaRight" fmla="*/ 289440 w 2890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82" h="54">
                <a:moveTo>
                  <a:pt x="0" y="51"/>
                </a:moveTo>
                <a:lnTo>
                  <a:pt x="45" y="16"/>
                </a:lnTo>
                <a:lnTo>
                  <a:pt x="98" y="0"/>
                </a:lnTo>
                <a:lnTo>
                  <a:pt x="141" y="0"/>
                </a:lnTo>
                <a:lnTo>
                  <a:pt x="182" y="9"/>
                </a:lnTo>
                <a:lnTo>
                  <a:pt x="109" y="9"/>
                </a:lnTo>
                <a:lnTo>
                  <a:pt x="52" y="25"/>
                </a:lnTo>
                <a:lnTo>
                  <a:pt x="20" y="54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58"/>
          <p:cNvSpPr/>
          <p:nvPr/>
        </p:nvSpPr>
        <p:spPr>
          <a:xfrm>
            <a:off x="4222800" y="2116080"/>
            <a:ext cx="55440" cy="47520"/>
          </a:xfrm>
          <a:custGeom>
            <a:avLst/>
            <a:gdLst>
              <a:gd name="textAreaLeft" fmla="*/ 0 w 55440"/>
              <a:gd name="textAreaRight" fmla="*/ 55800 w 554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5" h="30">
                <a:moveTo>
                  <a:pt x="5" y="5"/>
                </a:moveTo>
                <a:lnTo>
                  <a:pt x="15" y="12"/>
                </a:lnTo>
                <a:lnTo>
                  <a:pt x="15" y="23"/>
                </a:lnTo>
                <a:lnTo>
                  <a:pt x="0" y="30"/>
                </a:lnTo>
                <a:lnTo>
                  <a:pt x="18" y="30"/>
                </a:lnTo>
                <a:lnTo>
                  <a:pt x="35" y="21"/>
                </a:lnTo>
                <a:lnTo>
                  <a:pt x="35" y="8"/>
                </a:lnTo>
                <a:lnTo>
                  <a:pt x="23" y="0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9"/>
          <p:cNvSpPr/>
          <p:nvPr/>
        </p:nvSpPr>
        <p:spPr>
          <a:xfrm>
            <a:off x="4152960" y="2100240"/>
            <a:ext cx="169920" cy="103320"/>
          </a:xfrm>
          <a:custGeom>
            <a:avLst/>
            <a:gdLst>
              <a:gd name="textAreaLeft" fmla="*/ 0 w 169920"/>
              <a:gd name="textAreaRight" fmla="*/ 170280 w 1699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7" h="65">
                <a:moveTo>
                  <a:pt x="22" y="6"/>
                </a:moveTo>
                <a:lnTo>
                  <a:pt x="16" y="34"/>
                </a:lnTo>
                <a:lnTo>
                  <a:pt x="30" y="53"/>
                </a:lnTo>
                <a:lnTo>
                  <a:pt x="53" y="59"/>
                </a:lnTo>
                <a:lnTo>
                  <a:pt x="79" y="53"/>
                </a:lnTo>
                <a:lnTo>
                  <a:pt x="95" y="36"/>
                </a:lnTo>
                <a:lnTo>
                  <a:pt x="97" y="20"/>
                </a:lnTo>
                <a:lnTo>
                  <a:pt x="87" y="0"/>
                </a:lnTo>
                <a:lnTo>
                  <a:pt x="107" y="6"/>
                </a:lnTo>
                <a:lnTo>
                  <a:pt x="107" y="29"/>
                </a:lnTo>
                <a:lnTo>
                  <a:pt x="99" y="53"/>
                </a:lnTo>
                <a:lnTo>
                  <a:pt x="74" y="65"/>
                </a:lnTo>
                <a:lnTo>
                  <a:pt x="38" y="65"/>
                </a:lnTo>
                <a:lnTo>
                  <a:pt x="22" y="61"/>
                </a:lnTo>
                <a:lnTo>
                  <a:pt x="10" y="45"/>
                </a:lnTo>
                <a:lnTo>
                  <a:pt x="4" y="29"/>
                </a:lnTo>
                <a:lnTo>
                  <a:pt x="0" y="15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0"/>
          <p:cNvSpPr/>
          <p:nvPr/>
        </p:nvSpPr>
        <p:spPr>
          <a:xfrm>
            <a:off x="3735360" y="592200"/>
            <a:ext cx="1488960" cy="1679400"/>
          </a:xfrm>
          <a:custGeom>
            <a:avLst/>
            <a:gdLst>
              <a:gd name="textAreaLeft" fmla="*/ 0 w 1488960"/>
              <a:gd name="textAreaRight" fmla="*/ 1489320 w 1488960"/>
              <a:gd name="textAreaTop" fmla="*/ 0 h 1679400"/>
              <a:gd name="textAreaBottom" fmla="*/ 1679760 h 1679400"/>
            </a:gdLst>
            <a:ahLst/>
            <a:rect l="textAreaLeft" t="textAreaTop" r="textAreaRight" b="textAreaBottom"/>
            <a:pathLst>
              <a:path w="938" h="1058">
                <a:moveTo>
                  <a:pt x="599" y="311"/>
                </a:moveTo>
                <a:lnTo>
                  <a:pt x="622" y="268"/>
                </a:lnTo>
                <a:lnTo>
                  <a:pt x="636" y="311"/>
                </a:lnTo>
                <a:lnTo>
                  <a:pt x="675" y="249"/>
                </a:lnTo>
                <a:lnTo>
                  <a:pt x="680" y="316"/>
                </a:lnTo>
                <a:lnTo>
                  <a:pt x="728" y="268"/>
                </a:lnTo>
                <a:lnTo>
                  <a:pt x="732" y="321"/>
                </a:lnTo>
                <a:lnTo>
                  <a:pt x="780" y="298"/>
                </a:lnTo>
                <a:lnTo>
                  <a:pt x="804" y="331"/>
                </a:lnTo>
                <a:lnTo>
                  <a:pt x="861" y="311"/>
                </a:lnTo>
                <a:lnTo>
                  <a:pt x="899" y="273"/>
                </a:lnTo>
                <a:lnTo>
                  <a:pt x="924" y="216"/>
                </a:lnTo>
                <a:lnTo>
                  <a:pt x="938" y="134"/>
                </a:lnTo>
                <a:lnTo>
                  <a:pt x="899" y="58"/>
                </a:lnTo>
                <a:lnTo>
                  <a:pt x="833" y="0"/>
                </a:lnTo>
                <a:lnTo>
                  <a:pt x="866" y="48"/>
                </a:lnTo>
                <a:lnTo>
                  <a:pt x="885" y="106"/>
                </a:lnTo>
                <a:lnTo>
                  <a:pt x="885" y="148"/>
                </a:lnTo>
                <a:lnTo>
                  <a:pt x="842" y="76"/>
                </a:lnTo>
                <a:lnTo>
                  <a:pt x="780" y="48"/>
                </a:lnTo>
                <a:lnTo>
                  <a:pt x="695" y="38"/>
                </a:lnTo>
                <a:lnTo>
                  <a:pt x="636" y="58"/>
                </a:lnTo>
                <a:lnTo>
                  <a:pt x="565" y="96"/>
                </a:lnTo>
                <a:lnTo>
                  <a:pt x="516" y="116"/>
                </a:lnTo>
                <a:lnTo>
                  <a:pt x="460" y="134"/>
                </a:lnTo>
                <a:lnTo>
                  <a:pt x="364" y="153"/>
                </a:lnTo>
                <a:lnTo>
                  <a:pt x="465" y="163"/>
                </a:lnTo>
                <a:lnTo>
                  <a:pt x="556" y="163"/>
                </a:lnTo>
                <a:lnTo>
                  <a:pt x="627" y="148"/>
                </a:lnTo>
                <a:lnTo>
                  <a:pt x="685" y="120"/>
                </a:lnTo>
                <a:lnTo>
                  <a:pt x="728" y="116"/>
                </a:lnTo>
                <a:lnTo>
                  <a:pt x="765" y="125"/>
                </a:lnTo>
                <a:lnTo>
                  <a:pt x="785" y="148"/>
                </a:lnTo>
                <a:lnTo>
                  <a:pt x="785" y="186"/>
                </a:lnTo>
                <a:lnTo>
                  <a:pt x="742" y="153"/>
                </a:lnTo>
                <a:lnTo>
                  <a:pt x="685" y="148"/>
                </a:lnTo>
                <a:lnTo>
                  <a:pt x="636" y="167"/>
                </a:lnTo>
                <a:lnTo>
                  <a:pt x="570" y="197"/>
                </a:lnTo>
                <a:lnTo>
                  <a:pt x="488" y="220"/>
                </a:lnTo>
                <a:lnTo>
                  <a:pt x="411" y="235"/>
                </a:lnTo>
                <a:lnTo>
                  <a:pt x="331" y="235"/>
                </a:lnTo>
                <a:lnTo>
                  <a:pt x="187" y="216"/>
                </a:lnTo>
                <a:lnTo>
                  <a:pt x="216" y="259"/>
                </a:lnTo>
                <a:lnTo>
                  <a:pt x="163" y="249"/>
                </a:lnTo>
                <a:lnTo>
                  <a:pt x="77" y="211"/>
                </a:lnTo>
                <a:lnTo>
                  <a:pt x="120" y="273"/>
                </a:lnTo>
                <a:lnTo>
                  <a:pt x="167" y="316"/>
                </a:lnTo>
                <a:lnTo>
                  <a:pt x="216" y="335"/>
                </a:lnTo>
                <a:lnTo>
                  <a:pt x="163" y="345"/>
                </a:lnTo>
                <a:lnTo>
                  <a:pt x="92" y="335"/>
                </a:lnTo>
                <a:lnTo>
                  <a:pt x="0" y="307"/>
                </a:lnTo>
                <a:lnTo>
                  <a:pt x="57" y="388"/>
                </a:lnTo>
                <a:lnTo>
                  <a:pt x="115" y="422"/>
                </a:lnTo>
                <a:lnTo>
                  <a:pt x="101" y="484"/>
                </a:lnTo>
                <a:lnTo>
                  <a:pt x="110" y="537"/>
                </a:lnTo>
                <a:lnTo>
                  <a:pt x="120" y="609"/>
                </a:lnTo>
                <a:lnTo>
                  <a:pt x="68" y="675"/>
                </a:lnTo>
                <a:lnTo>
                  <a:pt x="43" y="757"/>
                </a:lnTo>
                <a:lnTo>
                  <a:pt x="34" y="824"/>
                </a:lnTo>
                <a:lnTo>
                  <a:pt x="43" y="881"/>
                </a:lnTo>
                <a:lnTo>
                  <a:pt x="34" y="967"/>
                </a:lnTo>
                <a:lnTo>
                  <a:pt x="5" y="1058"/>
                </a:lnTo>
                <a:lnTo>
                  <a:pt x="72" y="991"/>
                </a:lnTo>
                <a:lnTo>
                  <a:pt x="125" y="900"/>
                </a:lnTo>
                <a:lnTo>
                  <a:pt x="158" y="809"/>
                </a:lnTo>
                <a:lnTo>
                  <a:pt x="192" y="752"/>
                </a:lnTo>
                <a:lnTo>
                  <a:pt x="202" y="671"/>
                </a:lnTo>
                <a:lnTo>
                  <a:pt x="221" y="593"/>
                </a:lnTo>
                <a:lnTo>
                  <a:pt x="239" y="522"/>
                </a:lnTo>
                <a:lnTo>
                  <a:pt x="282" y="446"/>
                </a:lnTo>
                <a:lnTo>
                  <a:pt x="317" y="417"/>
                </a:lnTo>
                <a:lnTo>
                  <a:pt x="350" y="403"/>
                </a:lnTo>
                <a:lnTo>
                  <a:pt x="397" y="407"/>
                </a:lnTo>
                <a:lnTo>
                  <a:pt x="465" y="388"/>
                </a:lnTo>
                <a:lnTo>
                  <a:pt x="507" y="350"/>
                </a:lnTo>
                <a:lnTo>
                  <a:pt x="570" y="287"/>
                </a:lnTo>
                <a:lnTo>
                  <a:pt x="599" y="311"/>
                </a:lnTo>
                <a:lnTo>
                  <a:pt x="599" y="311"/>
                </a:lnTo>
                <a:lnTo>
                  <a:pt x="599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1"/>
          <p:cNvSpPr/>
          <p:nvPr/>
        </p:nvSpPr>
        <p:spPr>
          <a:xfrm>
            <a:off x="5079960" y="738360"/>
            <a:ext cx="2021040" cy="297972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2979720"/>
              <a:gd name="textAreaBottom" fmla="*/ 2980080 h 2979720"/>
            </a:gdLst>
            <a:ahLst/>
            <a:rect l="textAreaLeft" t="textAreaTop" r="textAreaRight" b="textAreaBottom"/>
            <a:pathLst>
              <a:path w="1273" h="1877">
                <a:moveTo>
                  <a:pt x="0" y="234"/>
                </a:moveTo>
                <a:lnTo>
                  <a:pt x="58" y="215"/>
                </a:lnTo>
                <a:lnTo>
                  <a:pt x="110" y="176"/>
                </a:lnTo>
                <a:lnTo>
                  <a:pt x="167" y="119"/>
                </a:lnTo>
                <a:lnTo>
                  <a:pt x="201" y="61"/>
                </a:lnTo>
                <a:lnTo>
                  <a:pt x="211" y="0"/>
                </a:lnTo>
                <a:lnTo>
                  <a:pt x="225" y="51"/>
                </a:lnTo>
                <a:lnTo>
                  <a:pt x="282" y="42"/>
                </a:lnTo>
                <a:lnTo>
                  <a:pt x="335" y="61"/>
                </a:lnTo>
                <a:lnTo>
                  <a:pt x="382" y="100"/>
                </a:lnTo>
                <a:lnTo>
                  <a:pt x="401" y="157"/>
                </a:lnTo>
                <a:lnTo>
                  <a:pt x="412" y="224"/>
                </a:lnTo>
                <a:lnTo>
                  <a:pt x="426" y="267"/>
                </a:lnTo>
                <a:lnTo>
                  <a:pt x="460" y="296"/>
                </a:lnTo>
                <a:lnTo>
                  <a:pt x="497" y="325"/>
                </a:lnTo>
                <a:lnTo>
                  <a:pt x="598" y="359"/>
                </a:lnTo>
                <a:lnTo>
                  <a:pt x="689" y="363"/>
                </a:lnTo>
                <a:lnTo>
                  <a:pt x="598" y="387"/>
                </a:lnTo>
                <a:lnTo>
                  <a:pt x="670" y="440"/>
                </a:lnTo>
                <a:lnTo>
                  <a:pt x="722" y="497"/>
                </a:lnTo>
                <a:lnTo>
                  <a:pt x="750" y="574"/>
                </a:lnTo>
                <a:lnTo>
                  <a:pt x="708" y="517"/>
                </a:lnTo>
                <a:lnTo>
                  <a:pt x="652" y="468"/>
                </a:lnTo>
                <a:lnTo>
                  <a:pt x="603" y="454"/>
                </a:lnTo>
                <a:lnTo>
                  <a:pt x="641" y="512"/>
                </a:lnTo>
                <a:lnTo>
                  <a:pt x="665" y="569"/>
                </a:lnTo>
                <a:lnTo>
                  <a:pt x="699" y="626"/>
                </a:lnTo>
                <a:lnTo>
                  <a:pt x="746" y="646"/>
                </a:lnTo>
                <a:lnTo>
                  <a:pt x="795" y="660"/>
                </a:lnTo>
                <a:lnTo>
                  <a:pt x="741" y="684"/>
                </a:lnTo>
                <a:lnTo>
                  <a:pt x="741" y="751"/>
                </a:lnTo>
                <a:lnTo>
                  <a:pt x="708" y="703"/>
                </a:lnTo>
                <a:lnTo>
                  <a:pt x="717" y="808"/>
                </a:lnTo>
                <a:lnTo>
                  <a:pt x="761" y="861"/>
                </a:lnTo>
                <a:lnTo>
                  <a:pt x="832" y="914"/>
                </a:lnTo>
                <a:lnTo>
                  <a:pt x="870" y="948"/>
                </a:lnTo>
                <a:lnTo>
                  <a:pt x="904" y="1005"/>
                </a:lnTo>
                <a:lnTo>
                  <a:pt x="924" y="1053"/>
                </a:lnTo>
                <a:lnTo>
                  <a:pt x="928" y="1101"/>
                </a:lnTo>
                <a:lnTo>
                  <a:pt x="924" y="1163"/>
                </a:lnTo>
                <a:lnTo>
                  <a:pt x="890" y="1220"/>
                </a:lnTo>
                <a:lnTo>
                  <a:pt x="828" y="1287"/>
                </a:lnTo>
                <a:lnTo>
                  <a:pt x="909" y="1254"/>
                </a:lnTo>
                <a:lnTo>
                  <a:pt x="904" y="1330"/>
                </a:lnTo>
                <a:lnTo>
                  <a:pt x="962" y="1263"/>
                </a:lnTo>
                <a:lnTo>
                  <a:pt x="981" y="1206"/>
                </a:lnTo>
                <a:lnTo>
                  <a:pt x="990" y="1149"/>
                </a:lnTo>
                <a:lnTo>
                  <a:pt x="981" y="1086"/>
                </a:lnTo>
                <a:lnTo>
                  <a:pt x="966" y="1034"/>
                </a:lnTo>
                <a:lnTo>
                  <a:pt x="1010" y="1091"/>
                </a:lnTo>
                <a:lnTo>
                  <a:pt x="1029" y="1129"/>
                </a:lnTo>
                <a:lnTo>
                  <a:pt x="1043" y="1178"/>
                </a:lnTo>
                <a:lnTo>
                  <a:pt x="1048" y="1229"/>
                </a:lnTo>
                <a:lnTo>
                  <a:pt x="1043" y="1297"/>
                </a:lnTo>
                <a:lnTo>
                  <a:pt x="1091" y="1229"/>
                </a:lnTo>
                <a:lnTo>
                  <a:pt x="1110" y="1154"/>
                </a:lnTo>
                <a:lnTo>
                  <a:pt x="1129" y="1240"/>
                </a:lnTo>
                <a:lnTo>
                  <a:pt x="1115" y="1311"/>
                </a:lnTo>
                <a:lnTo>
                  <a:pt x="1096" y="1369"/>
                </a:lnTo>
                <a:lnTo>
                  <a:pt x="1115" y="1451"/>
                </a:lnTo>
                <a:lnTo>
                  <a:pt x="1105" y="1513"/>
                </a:lnTo>
                <a:lnTo>
                  <a:pt x="1148" y="1551"/>
                </a:lnTo>
                <a:lnTo>
                  <a:pt x="1191" y="1556"/>
                </a:lnTo>
                <a:lnTo>
                  <a:pt x="1249" y="1537"/>
                </a:lnTo>
                <a:lnTo>
                  <a:pt x="1244" y="1594"/>
                </a:lnTo>
                <a:lnTo>
                  <a:pt x="1215" y="1641"/>
                </a:lnTo>
                <a:lnTo>
                  <a:pt x="1181" y="1671"/>
                </a:lnTo>
                <a:lnTo>
                  <a:pt x="1196" y="1718"/>
                </a:lnTo>
                <a:lnTo>
                  <a:pt x="1201" y="1791"/>
                </a:lnTo>
                <a:lnTo>
                  <a:pt x="1259" y="1828"/>
                </a:lnTo>
                <a:lnTo>
                  <a:pt x="1273" y="1877"/>
                </a:lnTo>
                <a:lnTo>
                  <a:pt x="1240" y="1838"/>
                </a:lnTo>
                <a:lnTo>
                  <a:pt x="1167" y="1857"/>
                </a:lnTo>
                <a:lnTo>
                  <a:pt x="1058" y="1857"/>
                </a:lnTo>
                <a:lnTo>
                  <a:pt x="996" y="1848"/>
                </a:lnTo>
                <a:lnTo>
                  <a:pt x="895" y="1810"/>
                </a:lnTo>
                <a:lnTo>
                  <a:pt x="828" y="1748"/>
                </a:lnTo>
                <a:lnTo>
                  <a:pt x="799" y="1685"/>
                </a:lnTo>
                <a:lnTo>
                  <a:pt x="795" y="1608"/>
                </a:lnTo>
                <a:lnTo>
                  <a:pt x="813" y="1513"/>
                </a:lnTo>
                <a:lnTo>
                  <a:pt x="861" y="1412"/>
                </a:lnTo>
                <a:lnTo>
                  <a:pt x="795" y="1493"/>
                </a:lnTo>
                <a:lnTo>
                  <a:pt x="766" y="1561"/>
                </a:lnTo>
                <a:lnTo>
                  <a:pt x="746" y="1627"/>
                </a:lnTo>
                <a:lnTo>
                  <a:pt x="755" y="1704"/>
                </a:lnTo>
                <a:lnTo>
                  <a:pt x="808" y="1771"/>
                </a:lnTo>
                <a:lnTo>
                  <a:pt x="689" y="1737"/>
                </a:lnTo>
                <a:lnTo>
                  <a:pt x="445" y="1718"/>
                </a:lnTo>
                <a:lnTo>
                  <a:pt x="263" y="1657"/>
                </a:lnTo>
                <a:lnTo>
                  <a:pt x="297" y="1571"/>
                </a:lnTo>
                <a:lnTo>
                  <a:pt x="330" y="1503"/>
                </a:lnTo>
                <a:lnTo>
                  <a:pt x="392" y="1435"/>
                </a:lnTo>
                <a:lnTo>
                  <a:pt x="344" y="1522"/>
                </a:lnTo>
                <a:lnTo>
                  <a:pt x="335" y="1604"/>
                </a:lnTo>
                <a:lnTo>
                  <a:pt x="382" y="1517"/>
                </a:lnTo>
                <a:lnTo>
                  <a:pt x="445" y="1455"/>
                </a:lnTo>
                <a:lnTo>
                  <a:pt x="527" y="1397"/>
                </a:lnTo>
                <a:lnTo>
                  <a:pt x="612" y="1321"/>
                </a:lnTo>
                <a:lnTo>
                  <a:pt x="665" y="1268"/>
                </a:lnTo>
                <a:lnTo>
                  <a:pt x="694" y="1206"/>
                </a:lnTo>
                <a:lnTo>
                  <a:pt x="694" y="1158"/>
                </a:lnTo>
                <a:lnTo>
                  <a:pt x="670" y="1101"/>
                </a:lnTo>
                <a:lnTo>
                  <a:pt x="617" y="1039"/>
                </a:lnTo>
                <a:lnTo>
                  <a:pt x="560" y="976"/>
                </a:lnTo>
                <a:lnTo>
                  <a:pt x="521" y="918"/>
                </a:lnTo>
                <a:lnTo>
                  <a:pt x="516" y="852"/>
                </a:lnTo>
                <a:lnTo>
                  <a:pt x="556" y="909"/>
                </a:lnTo>
                <a:lnTo>
                  <a:pt x="652" y="948"/>
                </a:lnTo>
                <a:lnTo>
                  <a:pt x="584" y="890"/>
                </a:lnTo>
                <a:lnTo>
                  <a:pt x="521" y="823"/>
                </a:lnTo>
                <a:lnTo>
                  <a:pt x="493" y="747"/>
                </a:lnTo>
                <a:lnTo>
                  <a:pt x="488" y="693"/>
                </a:lnTo>
                <a:lnTo>
                  <a:pt x="512" y="637"/>
                </a:lnTo>
                <a:lnTo>
                  <a:pt x="556" y="574"/>
                </a:lnTo>
                <a:lnTo>
                  <a:pt x="560" y="506"/>
                </a:lnTo>
                <a:lnTo>
                  <a:pt x="532" y="449"/>
                </a:lnTo>
                <a:lnTo>
                  <a:pt x="473" y="401"/>
                </a:lnTo>
                <a:lnTo>
                  <a:pt x="507" y="487"/>
                </a:lnTo>
                <a:lnTo>
                  <a:pt x="512" y="536"/>
                </a:lnTo>
                <a:lnTo>
                  <a:pt x="464" y="468"/>
                </a:lnTo>
                <a:lnTo>
                  <a:pt x="478" y="536"/>
                </a:lnTo>
                <a:lnTo>
                  <a:pt x="455" y="621"/>
                </a:lnTo>
                <a:lnTo>
                  <a:pt x="377" y="732"/>
                </a:lnTo>
                <a:lnTo>
                  <a:pt x="335" y="842"/>
                </a:lnTo>
                <a:lnTo>
                  <a:pt x="316" y="943"/>
                </a:lnTo>
                <a:lnTo>
                  <a:pt x="302" y="794"/>
                </a:lnTo>
                <a:lnTo>
                  <a:pt x="268" y="688"/>
                </a:lnTo>
                <a:lnTo>
                  <a:pt x="134" y="387"/>
                </a:lnTo>
                <a:lnTo>
                  <a:pt x="96" y="315"/>
                </a:lnTo>
                <a:lnTo>
                  <a:pt x="67" y="281"/>
                </a:lnTo>
                <a:lnTo>
                  <a:pt x="33" y="253"/>
                </a:lnTo>
                <a:lnTo>
                  <a:pt x="0" y="234"/>
                </a:lnTo>
                <a:lnTo>
                  <a:pt x="0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2"/>
          <p:cNvSpPr/>
          <p:nvPr/>
        </p:nvSpPr>
        <p:spPr>
          <a:xfrm>
            <a:off x="6296040" y="1693800"/>
            <a:ext cx="523800" cy="762120"/>
          </a:xfrm>
          <a:custGeom>
            <a:avLst/>
            <a:gdLst>
              <a:gd name="textAreaLeft" fmla="*/ 0 w 523800"/>
              <a:gd name="textAreaRight" fmla="*/ 524160 w 523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30" h="480">
                <a:moveTo>
                  <a:pt x="5" y="0"/>
                </a:moveTo>
                <a:lnTo>
                  <a:pt x="24" y="30"/>
                </a:lnTo>
                <a:lnTo>
                  <a:pt x="71" y="73"/>
                </a:lnTo>
                <a:lnTo>
                  <a:pt x="33" y="91"/>
                </a:lnTo>
                <a:lnTo>
                  <a:pt x="85" y="187"/>
                </a:lnTo>
                <a:lnTo>
                  <a:pt x="158" y="264"/>
                </a:lnTo>
                <a:lnTo>
                  <a:pt x="244" y="341"/>
                </a:lnTo>
                <a:lnTo>
                  <a:pt x="301" y="412"/>
                </a:lnTo>
                <a:lnTo>
                  <a:pt x="330" y="480"/>
                </a:lnTo>
                <a:lnTo>
                  <a:pt x="272" y="398"/>
                </a:lnTo>
                <a:lnTo>
                  <a:pt x="181" y="302"/>
                </a:lnTo>
                <a:lnTo>
                  <a:pt x="76" y="235"/>
                </a:lnTo>
                <a:lnTo>
                  <a:pt x="124" y="312"/>
                </a:lnTo>
                <a:lnTo>
                  <a:pt x="57" y="264"/>
                </a:lnTo>
                <a:lnTo>
                  <a:pt x="14" y="212"/>
                </a:lnTo>
                <a:lnTo>
                  <a:pt x="0" y="140"/>
                </a:lnTo>
                <a:lnTo>
                  <a:pt x="0" y="58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63"/>
          <p:cNvSpPr/>
          <p:nvPr/>
        </p:nvSpPr>
        <p:spPr>
          <a:xfrm>
            <a:off x="4792680" y="1763640"/>
            <a:ext cx="1336680" cy="197028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842" h="1241">
                <a:moveTo>
                  <a:pt x="521" y="168"/>
                </a:moveTo>
                <a:lnTo>
                  <a:pt x="582" y="91"/>
                </a:lnTo>
                <a:lnTo>
                  <a:pt x="654" y="0"/>
                </a:lnTo>
                <a:lnTo>
                  <a:pt x="636" y="91"/>
                </a:lnTo>
                <a:lnTo>
                  <a:pt x="631" y="153"/>
                </a:lnTo>
                <a:lnTo>
                  <a:pt x="636" y="215"/>
                </a:lnTo>
                <a:lnTo>
                  <a:pt x="659" y="302"/>
                </a:lnTo>
                <a:lnTo>
                  <a:pt x="702" y="354"/>
                </a:lnTo>
                <a:lnTo>
                  <a:pt x="817" y="445"/>
                </a:lnTo>
                <a:lnTo>
                  <a:pt x="842" y="483"/>
                </a:lnTo>
                <a:lnTo>
                  <a:pt x="842" y="541"/>
                </a:lnTo>
                <a:lnTo>
                  <a:pt x="812" y="603"/>
                </a:lnTo>
                <a:lnTo>
                  <a:pt x="765" y="670"/>
                </a:lnTo>
                <a:lnTo>
                  <a:pt x="645" y="756"/>
                </a:lnTo>
                <a:lnTo>
                  <a:pt x="587" y="794"/>
                </a:lnTo>
                <a:lnTo>
                  <a:pt x="535" y="862"/>
                </a:lnTo>
                <a:lnTo>
                  <a:pt x="497" y="929"/>
                </a:lnTo>
                <a:lnTo>
                  <a:pt x="473" y="1020"/>
                </a:lnTo>
                <a:lnTo>
                  <a:pt x="397" y="1005"/>
                </a:lnTo>
                <a:lnTo>
                  <a:pt x="364" y="1072"/>
                </a:lnTo>
                <a:lnTo>
                  <a:pt x="296" y="1140"/>
                </a:lnTo>
                <a:lnTo>
                  <a:pt x="195" y="1202"/>
                </a:lnTo>
                <a:lnTo>
                  <a:pt x="66" y="1241"/>
                </a:lnTo>
                <a:lnTo>
                  <a:pt x="209" y="1173"/>
                </a:lnTo>
                <a:lnTo>
                  <a:pt x="291" y="1111"/>
                </a:lnTo>
                <a:lnTo>
                  <a:pt x="343" y="1049"/>
                </a:lnTo>
                <a:lnTo>
                  <a:pt x="353" y="995"/>
                </a:lnTo>
                <a:lnTo>
                  <a:pt x="310" y="981"/>
                </a:lnTo>
                <a:lnTo>
                  <a:pt x="224" y="1034"/>
                </a:lnTo>
                <a:lnTo>
                  <a:pt x="157" y="1063"/>
                </a:lnTo>
                <a:lnTo>
                  <a:pt x="81" y="1077"/>
                </a:lnTo>
                <a:lnTo>
                  <a:pt x="0" y="1068"/>
                </a:lnTo>
                <a:lnTo>
                  <a:pt x="85" y="1068"/>
                </a:lnTo>
                <a:lnTo>
                  <a:pt x="133" y="1053"/>
                </a:lnTo>
                <a:lnTo>
                  <a:pt x="195" y="1025"/>
                </a:lnTo>
                <a:lnTo>
                  <a:pt x="286" y="958"/>
                </a:lnTo>
                <a:lnTo>
                  <a:pt x="377" y="862"/>
                </a:lnTo>
                <a:lnTo>
                  <a:pt x="478" y="723"/>
                </a:lnTo>
                <a:lnTo>
                  <a:pt x="516" y="670"/>
                </a:lnTo>
                <a:lnTo>
                  <a:pt x="525" y="613"/>
                </a:lnTo>
                <a:lnTo>
                  <a:pt x="530" y="541"/>
                </a:lnTo>
                <a:lnTo>
                  <a:pt x="549" y="627"/>
                </a:lnTo>
                <a:lnTo>
                  <a:pt x="598" y="627"/>
                </a:lnTo>
                <a:lnTo>
                  <a:pt x="587" y="560"/>
                </a:lnTo>
                <a:lnTo>
                  <a:pt x="641" y="603"/>
                </a:lnTo>
                <a:lnTo>
                  <a:pt x="654" y="551"/>
                </a:lnTo>
                <a:lnTo>
                  <a:pt x="626" y="508"/>
                </a:lnTo>
                <a:lnTo>
                  <a:pt x="602" y="488"/>
                </a:lnTo>
                <a:lnTo>
                  <a:pt x="525" y="494"/>
                </a:lnTo>
                <a:lnTo>
                  <a:pt x="506" y="421"/>
                </a:lnTo>
                <a:lnTo>
                  <a:pt x="497" y="316"/>
                </a:lnTo>
                <a:lnTo>
                  <a:pt x="497" y="206"/>
                </a:lnTo>
                <a:lnTo>
                  <a:pt x="521" y="168"/>
                </a:lnTo>
                <a:lnTo>
                  <a:pt x="521" y="168"/>
                </a:lnTo>
                <a:lnTo>
                  <a:pt x="521" y="1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64"/>
          <p:cNvSpPr/>
          <p:nvPr/>
        </p:nvSpPr>
        <p:spPr>
          <a:xfrm>
            <a:off x="3197160" y="318960"/>
            <a:ext cx="2179800" cy="10875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1373" h="685">
                <a:moveTo>
                  <a:pt x="1373" y="192"/>
                </a:moveTo>
                <a:lnTo>
                  <a:pt x="1348" y="110"/>
                </a:lnTo>
                <a:lnTo>
                  <a:pt x="1258" y="57"/>
                </a:lnTo>
                <a:lnTo>
                  <a:pt x="1148" y="47"/>
                </a:lnTo>
                <a:lnTo>
                  <a:pt x="1024" y="4"/>
                </a:lnTo>
                <a:lnTo>
                  <a:pt x="942" y="0"/>
                </a:lnTo>
                <a:lnTo>
                  <a:pt x="870" y="4"/>
                </a:lnTo>
                <a:lnTo>
                  <a:pt x="789" y="38"/>
                </a:lnTo>
                <a:lnTo>
                  <a:pt x="722" y="86"/>
                </a:lnTo>
                <a:lnTo>
                  <a:pt x="621" y="114"/>
                </a:lnTo>
                <a:lnTo>
                  <a:pt x="531" y="138"/>
                </a:lnTo>
                <a:lnTo>
                  <a:pt x="435" y="210"/>
                </a:lnTo>
                <a:lnTo>
                  <a:pt x="396" y="239"/>
                </a:lnTo>
                <a:lnTo>
                  <a:pt x="339" y="248"/>
                </a:lnTo>
                <a:lnTo>
                  <a:pt x="287" y="230"/>
                </a:lnTo>
                <a:lnTo>
                  <a:pt x="315" y="258"/>
                </a:lnTo>
                <a:lnTo>
                  <a:pt x="349" y="278"/>
                </a:lnTo>
                <a:lnTo>
                  <a:pt x="301" y="297"/>
                </a:lnTo>
                <a:lnTo>
                  <a:pt x="234" y="292"/>
                </a:lnTo>
                <a:lnTo>
                  <a:pt x="206" y="258"/>
                </a:lnTo>
                <a:lnTo>
                  <a:pt x="196" y="288"/>
                </a:lnTo>
                <a:lnTo>
                  <a:pt x="210" y="335"/>
                </a:lnTo>
                <a:lnTo>
                  <a:pt x="234" y="364"/>
                </a:lnTo>
                <a:lnTo>
                  <a:pt x="201" y="388"/>
                </a:lnTo>
                <a:lnTo>
                  <a:pt x="152" y="435"/>
                </a:lnTo>
                <a:lnTo>
                  <a:pt x="148" y="517"/>
                </a:lnTo>
                <a:lnTo>
                  <a:pt x="105" y="570"/>
                </a:lnTo>
                <a:lnTo>
                  <a:pt x="52" y="579"/>
                </a:lnTo>
                <a:lnTo>
                  <a:pt x="23" y="512"/>
                </a:lnTo>
                <a:lnTo>
                  <a:pt x="0" y="570"/>
                </a:lnTo>
                <a:lnTo>
                  <a:pt x="18" y="623"/>
                </a:lnTo>
                <a:lnTo>
                  <a:pt x="76" y="656"/>
                </a:lnTo>
                <a:lnTo>
                  <a:pt x="177" y="661"/>
                </a:lnTo>
                <a:lnTo>
                  <a:pt x="239" y="627"/>
                </a:lnTo>
                <a:lnTo>
                  <a:pt x="277" y="685"/>
                </a:lnTo>
                <a:lnTo>
                  <a:pt x="311" y="627"/>
                </a:lnTo>
                <a:lnTo>
                  <a:pt x="272" y="531"/>
                </a:lnTo>
                <a:lnTo>
                  <a:pt x="267" y="435"/>
                </a:lnTo>
                <a:lnTo>
                  <a:pt x="311" y="454"/>
                </a:lnTo>
                <a:lnTo>
                  <a:pt x="277" y="378"/>
                </a:lnTo>
                <a:lnTo>
                  <a:pt x="272" y="335"/>
                </a:lnTo>
                <a:lnTo>
                  <a:pt x="325" y="378"/>
                </a:lnTo>
                <a:lnTo>
                  <a:pt x="368" y="407"/>
                </a:lnTo>
                <a:lnTo>
                  <a:pt x="363" y="330"/>
                </a:lnTo>
                <a:lnTo>
                  <a:pt x="411" y="339"/>
                </a:lnTo>
                <a:lnTo>
                  <a:pt x="521" y="349"/>
                </a:lnTo>
                <a:lnTo>
                  <a:pt x="631" y="330"/>
                </a:lnTo>
                <a:lnTo>
                  <a:pt x="531" y="283"/>
                </a:lnTo>
                <a:lnTo>
                  <a:pt x="631" y="206"/>
                </a:lnTo>
                <a:lnTo>
                  <a:pt x="746" y="187"/>
                </a:lnTo>
                <a:lnTo>
                  <a:pt x="880" y="206"/>
                </a:lnTo>
                <a:lnTo>
                  <a:pt x="985" y="196"/>
                </a:lnTo>
                <a:lnTo>
                  <a:pt x="1052" y="168"/>
                </a:lnTo>
                <a:lnTo>
                  <a:pt x="1119" y="157"/>
                </a:lnTo>
                <a:lnTo>
                  <a:pt x="1043" y="138"/>
                </a:lnTo>
                <a:lnTo>
                  <a:pt x="966" y="148"/>
                </a:lnTo>
                <a:lnTo>
                  <a:pt x="890" y="143"/>
                </a:lnTo>
                <a:lnTo>
                  <a:pt x="799" y="110"/>
                </a:lnTo>
                <a:lnTo>
                  <a:pt x="942" y="110"/>
                </a:lnTo>
                <a:lnTo>
                  <a:pt x="1038" y="100"/>
                </a:lnTo>
                <a:lnTo>
                  <a:pt x="1115" y="110"/>
                </a:lnTo>
                <a:lnTo>
                  <a:pt x="1181" y="138"/>
                </a:lnTo>
                <a:lnTo>
                  <a:pt x="1195" y="100"/>
                </a:lnTo>
                <a:lnTo>
                  <a:pt x="1249" y="124"/>
                </a:lnTo>
                <a:lnTo>
                  <a:pt x="1282" y="176"/>
                </a:lnTo>
                <a:lnTo>
                  <a:pt x="1291" y="230"/>
                </a:lnTo>
                <a:lnTo>
                  <a:pt x="1325" y="206"/>
                </a:lnTo>
                <a:lnTo>
                  <a:pt x="1325" y="258"/>
                </a:lnTo>
                <a:lnTo>
                  <a:pt x="1301" y="349"/>
                </a:lnTo>
                <a:lnTo>
                  <a:pt x="1373" y="258"/>
                </a:lnTo>
                <a:lnTo>
                  <a:pt x="1373" y="192"/>
                </a:lnTo>
                <a:lnTo>
                  <a:pt x="1373" y="192"/>
                </a:lnTo>
                <a:lnTo>
                  <a:pt x="1373" y="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65"/>
          <p:cNvSpPr/>
          <p:nvPr/>
        </p:nvSpPr>
        <p:spPr>
          <a:xfrm>
            <a:off x="2846520" y="1093680"/>
            <a:ext cx="1831680" cy="2624400"/>
          </a:xfrm>
          <a:custGeom>
            <a:avLst/>
            <a:gdLst>
              <a:gd name="textAreaLeft" fmla="*/ 0 w 1831680"/>
              <a:gd name="textAreaRight" fmla="*/ 1832040 w 1831680"/>
              <a:gd name="textAreaTop" fmla="*/ 0 h 2624400"/>
              <a:gd name="textAreaBottom" fmla="*/ 2624760 h 2624400"/>
            </a:gdLst>
            <a:ahLst/>
            <a:rect l="textAreaLeft" t="textAreaTop" r="textAreaRight" b="textAreaBottom"/>
            <a:pathLst>
              <a:path w="1154" h="1653">
                <a:moveTo>
                  <a:pt x="536" y="15"/>
                </a:moveTo>
                <a:lnTo>
                  <a:pt x="574" y="106"/>
                </a:lnTo>
                <a:lnTo>
                  <a:pt x="560" y="197"/>
                </a:lnTo>
                <a:lnTo>
                  <a:pt x="513" y="244"/>
                </a:lnTo>
                <a:lnTo>
                  <a:pt x="446" y="282"/>
                </a:lnTo>
                <a:lnTo>
                  <a:pt x="302" y="321"/>
                </a:lnTo>
                <a:lnTo>
                  <a:pt x="408" y="263"/>
                </a:lnTo>
                <a:lnTo>
                  <a:pt x="498" y="206"/>
                </a:lnTo>
                <a:lnTo>
                  <a:pt x="441" y="187"/>
                </a:lnTo>
                <a:lnTo>
                  <a:pt x="388" y="130"/>
                </a:lnTo>
                <a:lnTo>
                  <a:pt x="283" y="139"/>
                </a:lnTo>
                <a:lnTo>
                  <a:pt x="239" y="206"/>
                </a:lnTo>
                <a:lnTo>
                  <a:pt x="221" y="293"/>
                </a:lnTo>
                <a:lnTo>
                  <a:pt x="168" y="312"/>
                </a:lnTo>
                <a:lnTo>
                  <a:pt x="134" y="244"/>
                </a:lnTo>
                <a:lnTo>
                  <a:pt x="96" y="331"/>
                </a:lnTo>
                <a:lnTo>
                  <a:pt x="96" y="378"/>
                </a:lnTo>
                <a:lnTo>
                  <a:pt x="110" y="427"/>
                </a:lnTo>
                <a:lnTo>
                  <a:pt x="91" y="464"/>
                </a:lnTo>
                <a:lnTo>
                  <a:pt x="82" y="518"/>
                </a:lnTo>
                <a:lnTo>
                  <a:pt x="106" y="570"/>
                </a:lnTo>
                <a:lnTo>
                  <a:pt x="91" y="613"/>
                </a:lnTo>
                <a:lnTo>
                  <a:pt x="49" y="632"/>
                </a:lnTo>
                <a:lnTo>
                  <a:pt x="0" y="628"/>
                </a:lnTo>
                <a:lnTo>
                  <a:pt x="15" y="651"/>
                </a:lnTo>
                <a:lnTo>
                  <a:pt x="44" y="670"/>
                </a:lnTo>
                <a:lnTo>
                  <a:pt x="96" y="680"/>
                </a:lnTo>
                <a:lnTo>
                  <a:pt x="82" y="709"/>
                </a:lnTo>
                <a:lnTo>
                  <a:pt x="125" y="738"/>
                </a:lnTo>
                <a:lnTo>
                  <a:pt x="168" y="747"/>
                </a:lnTo>
                <a:lnTo>
                  <a:pt x="225" y="738"/>
                </a:lnTo>
                <a:lnTo>
                  <a:pt x="279" y="714"/>
                </a:lnTo>
                <a:lnTo>
                  <a:pt x="359" y="632"/>
                </a:lnTo>
                <a:lnTo>
                  <a:pt x="403" y="560"/>
                </a:lnTo>
                <a:lnTo>
                  <a:pt x="373" y="666"/>
                </a:lnTo>
                <a:lnTo>
                  <a:pt x="326" y="728"/>
                </a:lnTo>
                <a:lnTo>
                  <a:pt x="254" y="776"/>
                </a:lnTo>
                <a:lnTo>
                  <a:pt x="211" y="781"/>
                </a:lnTo>
                <a:lnTo>
                  <a:pt x="158" y="776"/>
                </a:lnTo>
                <a:lnTo>
                  <a:pt x="106" y="810"/>
                </a:lnTo>
                <a:lnTo>
                  <a:pt x="78" y="886"/>
                </a:lnTo>
                <a:lnTo>
                  <a:pt x="87" y="925"/>
                </a:lnTo>
                <a:lnTo>
                  <a:pt x="63" y="987"/>
                </a:lnTo>
                <a:lnTo>
                  <a:pt x="73" y="1049"/>
                </a:lnTo>
                <a:lnTo>
                  <a:pt x="134" y="1131"/>
                </a:lnTo>
                <a:lnTo>
                  <a:pt x="139" y="1063"/>
                </a:lnTo>
                <a:lnTo>
                  <a:pt x="187" y="1021"/>
                </a:lnTo>
                <a:lnTo>
                  <a:pt x="187" y="1082"/>
                </a:lnTo>
                <a:lnTo>
                  <a:pt x="273" y="1016"/>
                </a:lnTo>
                <a:lnTo>
                  <a:pt x="317" y="939"/>
                </a:lnTo>
                <a:lnTo>
                  <a:pt x="335" y="834"/>
                </a:lnTo>
                <a:lnTo>
                  <a:pt x="364" y="939"/>
                </a:lnTo>
                <a:lnTo>
                  <a:pt x="417" y="1030"/>
                </a:lnTo>
                <a:lnTo>
                  <a:pt x="532" y="1092"/>
                </a:lnTo>
                <a:lnTo>
                  <a:pt x="598" y="1131"/>
                </a:lnTo>
                <a:lnTo>
                  <a:pt x="637" y="1173"/>
                </a:lnTo>
                <a:lnTo>
                  <a:pt x="637" y="1251"/>
                </a:lnTo>
                <a:lnTo>
                  <a:pt x="589" y="1347"/>
                </a:lnTo>
                <a:lnTo>
                  <a:pt x="570" y="1394"/>
                </a:lnTo>
                <a:lnTo>
                  <a:pt x="560" y="1451"/>
                </a:lnTo>
                <a:lnTo>
                  <a:pt x="565" y="1504"/>
                </a:lnTo>
                <a:lnTo>
                  <a:pt x="612" y="1567"/>
                </a:lnTo>
                <a:lnTo>
                  <a:pt x="451" y="1638"/>
                </a:lnTo>
                <a:lnTo>
                  <a:pt x="661" y="1576"/>
                </a:lnTo>
                <a:lnTo>
                  <a:pt x="804" y="1499"/>
                </a:lnTo>
                <a:lnTo>
                  <a:pt x="838" y="1547"/>
                </a:lnTo>
                <a:lnTo>
                  <a:pt x="919" y="1604"/>
                </a:lnTo>
                <a:lnTo>
                  <a:pt x="991" y="1628"/>
                </a:lnTo>
                <a:lnTo>
                  <a:pt x="1025" y="1653"/>
                </a:lnTo>
                <a:lnTo>
                  <a:pt x="1144" y="1653"/>
                </a:lnTo>
                <a:lnTo>
                  <a:pt x="1111" y="1557"/>
                </a:lnTo>
                <a:lnTo>
                  <a:pt x="1081" y="1494"/>
                </a:lnTo>
                <a:lnTo>
                  <a:pt x="1154" y="1485"/>
                </a:lnTo>
                <a:lnTo>
                  <a:pt x="1058" y="1466"/>
                </a:lnTo>
                <a:lnTo>
                  <a:pt x="891" y="1347"/>
                </a:lnTo>
                <a:lnTo>
                  <a:pt x="814" y="1269"/>
                </a:lnTo>
                <a:lnTo>
                  <a:pt x="766" y="1202"/>
                </a:lnTo>
                <a:lnTo>
                  <a:pt x="742" y="1155"/>
                </a:lnTo>
                <a:lnTo>
                  <a:pt x="685" y="1001"/>
                </a:lnTo>
                <a:lnTo>
                  <a:pt x="652" y="862"/>
                </a:lnTo>
                <a:lnTo>
                  <a:pt x="656" y="747"/>
                </a:lnTo>
                <a:lnTo>
                  <a:pt x="656" y="599"/>
                </a:lnTo>
                <a:lnTo>
                  <a:pt x="579" y="699"/>
                </a:lnTo>
                <a:lnTo>
                  <a:pt x="584" y="613"/>
                </a:lnTo>
                <a:lnTo>
                  <a:pt x="570" y="532"/>
                </a:lnTo>
                <a:lnTo>
                  <a:pt x="560" y="464"/>
                </a:lnTo>
                <a:lnTo>
                  <a:pt x="570" y="383"/>
                </a:lnTo>
                <a:lnTo>
                  <a:pt x="589" y="317"/>
                </a:lnTo>
                <a:lnTo>
                  <a:pt x="642" y="268"/>
                </a:lnTo>
                <a:lnTo>
                  <a:pt x="612" y="211"/>
                </a:lnTo>
                <a:lnTo>
                  <a:pt x="607" y="163"/>
                </a:lnTo>
                <a:lnTo>
                  <a:pt x="617" y="115"/>
                </a:lnTo>
                <a:lnTo>
                  <a:pt x="656" y="67"/>
                </a:lnTo>
                <a:lnTo>
                  <a:pt x="570" y="0"/>
                </a:lnTo>
                <a:lnTo>
                  <a:pt x="536" y="15"/>
                </a:lnTo>
                <a:lnTo>
                  <a:pt x="536" y="15"/>
                </a:lnTo>
                <a:lnTo>
                  <a:pt x="536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66"/>
          <p:cNvSpPr/>
          <p:nvPr/>
        </p:nvSpPr>
        <p:spPr>
          <a:xfrm>
            <a:off x="2886120" y="2417760"/>
            <a:ext cx="909720" cy="1292400"/>
          </a:xfrm>
          <a:custGeom>
            <a:avLst/>
            <a:gdLst>
              <a:gd name="textAreaLeft" fmla="*/ 0 w 909720"/>
              <a:gd name="textAreaRight" fmla="*/ 910080 w 90972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573" h="814">
                <a:moveTo>
                  <a:pt x="320" y="0"/>
                </a:moveTo>
                <a:lnTo>
                  <a:pt x="320" y="134"/>
                </a:lnTo>
                <a:lnTo>
                  <a:pt x="268" y="234"/>
                </a:lnTo>
                <a:lnTo>
                  <a:pt x="172" y="311"/>
                </a:lnTo>
                <a:lnTo>
                  <a:pt x="138" y="272"/>
                </a:lnTo>
                <a:lnTo>
                  <a:pt x="104" y="349"/>
                </a:lnTo>
                <a:lnTo>
                  <a:pt x="81" y="412"/>
                </a:lnTo>
                <a:lnTo>
                  <a:pt x="38" y="455"/>
                </a:lnTo>
                <a:lnTo>
                  <a:pt x="5" y="508"/>
                </a:lnTo>
                <a:lnTo>
                  <a:pt x="0" y="546"/>
                </a:lnTo>
                <a:lnTo>
                  <a:pt x="10" y="583"/>
                </a:lnTo>
                <a:lnTo>
                  <a:pt x="43" y="632"/>
                </a:lnTo>
                <a:lnTo>
                  <a:pt x="81" y="665"/>
                </a:lnTo>
                <a:lnTo>
                  <a:pt x="71" y="622"/>
                </a:lnTo>
                <a:lnTo>
                  <a:pt x="81" y="583"/>
                </a:lnTo>
                <a:lnTo>
                  <a:pt x="114" y="569"/>
                </a:lnTo>
                <a:lnTo>
                  <a:pt x="162" y="560"/>
                </a:lnTo>
                <a:lnTo>
                  <a:pt x="196" y="541"/>
                </a:lnTo>
                <a:lnTo>
                  <a:pt x="234" y="513"/>
                </a:lnTo>
                <a:lnTo>
                  <a:pt x="210" y="569"/>
                </a:lnTo>
                <a:lnTo>
                  <a:pt x="167" y="608"/>
                </a:lnTo>
                <a:lnTo>
                  <a:pt x="133" y="646"/>
                </a:lnTo>
                <a:lnTo>
                  <a:pt x="128" y="695"/>
                </a:lnTo>
                <a:lnTo>
                  <a:pt x="66" y="747"/>
                </a:lnTo>
                <a:lnTo>
                  <a:pt x="38" y="785"/>
                </a:lnTo>
                <a:lnTo>
                  <a:pt x="24" y="814"/>
                </a:lnTo>
                <a:lnTo>
                  <a:pt x="392" y="814"/>
                </a:lnTo>
                <a:lnTo>
                  <a:pt x="473" y="794"/>
                </a:lnTo>
                <a:lnTo>
                  <a:pt x="507" y="766"/>
                </a:lnTo>
                <a:lnTo>
                  <a:pt x="478" y="742"/>
                </a:lnTo>
                <a:lnTo>
                  <a:pt x="459" y="695"/>
                </a:lnTo>
                <a:lnTo>
                  <a:pt x="468" y="617"/>
                </a:lnTo>
                <a:lnTo>
                  <a:pt x="497" y="670"/>
                </a:lnTo>
                <a:lnTo>
                  <a:pt x="497" y="599"/>
                </a:lnTo>
                <a:lnTo>
                  <a:pt x="526" y="541"/>
                </a:lnTo>
                <a:lnTo>
                  <a:pt x="573" y="445"/>
                </a:lnTo>
                <a:lnTo>
                  <a:pt x="573" y="377"/>
                </a:lnTo>
                <a:lnTo>
                  <a:pt x="549" y="306"/>
                </a:lnTo>
                <a:lnTo>
                  <a:pt x="507" y="239"/>
                </a:lnTo>
                <a:lnTo>
                  <a:pt x="388" y="177"/>
                </a:lnTo>
                <a:lnTo>
                  <a:pt x="411" y="267"/>
                </a:lnTo>
                <a:lnTo>
                  <a:pt x="421" y="316"/>
                </a:lnTo>
                <a:lnTo>
                  <a:pt x="402" y="377"/>
                </a:lnTo>
                <a:lnTo>
                  <a:pt x="363" y="455"/>
                </a:lnTo>
                <a:lnTo>
                  <a:pt x="348" y="550"/>
                </a:lnTo>
                <a:lnTo>
                  <a:pt x="325" y="469"/>
                </a:lnTo>
                <a:lnTo>
                  <a:pt x="325" y="402"/>
                </a:lnTo>
                <a:lnTo>
                  <a:pt x="363" y="297"/>
                </a:lnTo>
                <a:lnTo>
                  <a:pt x="363" y="182"/>
                </a:lnTo>
                <a:lnTo>
                  <a:pt x="353" y="86"/>
                </a:lnTo>
                <a:lnTo>
                  <a:pt x="320" y="0"/>
                </a:lnTo>
                <a:lnTo>
                  <a:pt x="32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67"/>
          <p:cNvSpPr/>
          <p:nvPr/>
        </p:nvSpPr>
        <p:spPr>
          <a:xfrm>
            <a:off x="2841480" y="2195640"/>
            <a:ext cx="195480" cy="1065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065240"/>
              <a:gd name="textAreaBottom" fmla="*/ 1065240 h 1065240"/>
            </a:gdLst>
            <a:ahLst/>
            <a:rect l="textAreaLeft" t="textAreaTop" r="textAreaRight" b="textAreaBottom"/>
            <a:pathLst>
              <a:path w="123" h="671">
                <a:moveTo>
                  <a:pt x="52" y="0"/>
                </a:moveTo>
                <a:lnTo>
                  <a:pt x="61" y="39"/>
                </a:lnTo>
                <a:lnTo>
                  <a:pt x="123" y="82"/>
                </a:lnTo>
                <a:lnTo>
                  <a:pt x="76" y="101"/>
                </a:lnTo>
                <a:lnTo>
                  <a:pt x="52" y="168"/>
                </a:lnTo>
                <a:lnTo>
                  <a:pt x="43" y="236"/>
                </a:lnTo>
                <a:lnTo>
                  <a:pt x="33" y="297"/>
                </a:lnTo>
                <a:lnTo>
                  <a:pt x="43" y="345"/>
                </a:lnTo>
                <a:lnTo>
                  <a:pt x="71" y="422"/>
                </a:lnTo>
                <a:lnTo>
                  <a:pt x="113" y="461"/>
                </a:lnTo>
                <a:lnTo>
                  <a:pt x="76" y="537"/>
                </a:lnTo>
                <a:lnTo>
                  <a:pt x="33" y="614"/>
                </a:lnTo>
                <a:lnTo>
                  <a:pt x="13" y="671"/>
                </a:lnTo>
                <a:lnTo>
                  <a:pt x="13" y="595"/>
                </a:lnTo>
                <a:lnTo>
                  <a:pt x="38" y="537"/>
                </a:lnTo>
                <a:lnTo>
                  <a:pt x="3" y="432"/>
                </a:lnTo>
                <a:lnTo>
                  <a:pt x="0" y="317"/>
                </a:lnTo>
                <a:lnTo>
                  <a:pt x="0" y="222"/>
                </a:lnTo>
                <a:lnTo>
                  <a:pt x="38" y="116"/>
                </a:lnTo>
                <a:lnTo>
                  <a:pt x="57" y="77"/>
                </a:lnTo>
                <a:lnTo>
                  <a:pt x="43" y="39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68"/>
          <p:cNvSpPr/>
          <p:nvPr/>
        </p:nvSpPr>
        <p:spPr>
          <a:xfrm>
            <a:off x="2862360" y="3397320"/>
            <a:ext cx="152280" cy="280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96" h="177">
                <a:moveTo>
                  <a:pt x="10" y="0"/>
                </a:moveTo>
                <a:lnTo>
                  <a:pt x="34" y="48"/>
                </a:lnTo>
                <a:lnTo>
                  <a:pt x="96" y="87"/>
                </a:lnTo>
                <a:lnTo>
                  <a:pt x="39" y="177"/>
                </a:lnTo>
                <a:lnTo>
                  <a:pt x="20" y="130"/>
                </a:lnTo>
                <a:lnTo>
                  <a:pt x="0" y="53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69"/>
          <p:cNvSpPr/>
          <p:nvPr/>
        </p:nvSpPr>
        <p:spPr>
          <a:xfrm>
            <a:off x="4192560" y="212256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4" y="3"/>
                </a:moveTo>
                <a:lnTo>
                  <a:pt x="18" y="0"/>
                </a:lnTo>
                <a:lnTo>
                  <a:pt x="26" y="8"/>
                </a:lnTo>
                <a:lnTo>
                  <a:pt x="22" y="20"/>
                </a:lnTo>
                <a:lnTo>
                  <a:pt x="6" y="20"/>
                </a:lnTo>
                <a:lnTo>
                  <a:pt x="0" y="14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70"/>
          <p:cNvSpPr/>
          <p:nvPr/>
        </p:nvSpPr>
        <p:spPr>
          <a:xfrm>
            <a:off x="5011560" y="1963800"/>
            <a:ext cx="38160" cy="34920"/>
          </a:xfrm>
          <a:custGeom>
            <a:avLst/>
            <a:gdLst>
              <a:gd name="textAreaLeft" fmla="*/ 0 w 38160"/>
              <a:gd name="textAreaRight" fmla="*/ 38520 w 381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4" h="22">
                <a:moveTo>
                  <a:pt x="0" y="18"/>
                </a:moveTo>
                <a:lnTo>
                  <a:pt x="2" y="3"/>
                </a:lnTo>
                <a:lnTo>
                  <a:pt x="11" y="0"/>
                </a:lnTo>
                <a:lnTo>
                  <a:pt x="20" y="5"/>
                </a:lnTo>
                <a:lnTo>
                  <a:pt x="24" y="12"/>
                </a:lnTo>
                <a:lnTo>
                  <a:pt x="24" y="18"/>
                </a:lnTo>
                <a:lnTo>
                  <a:pt x="15" y="22"/>
                </a:lnTo>
                <a:lnTo>
                  <a:pt x="7" y="21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71"/>
          <p:cNvSpPr/>
          <p:nvPr/>
        </p:nvSpPr>
        <p:spPr>
          <a:xfrm>
            <a:off x="4221000" y="1185840"/>
            <a:ext cx="833760" cy="666720"/>
          </a:xfrm>
          <a:custGeom>
            <a:avLst/>
            <a:gdLst>
              <a:gd name="textAreaLeft" fmla="*/ 0 w 833760"/>
              <a:gd name="textAreaRight" fmla="*/ 834120 w 8337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525" h="420">
                <a:moveTo>
                  <a:pt x="99" y="409"/>
                </a:moveTo>
                <a:lnTo>
                  <a:pt x="25" y="384"/>
                </a:lnTo>
                <a:lnTo>
                  <a:pt x="0" y="342"/>
                </a:lnTo>
                <a:lnTo>
                  <a:pt x="0" y="285"/>
                </a:lnTo>
                <a:lnTo>
                  <a:pt x="36" y="201"/>
                </a:lnTo>
                <a:lnTo>
                  <a:pt x="95" y="102"/>
                </a:lnTo>
                <a:lnTo>
                  <a:pt x="177" y="43"/>
                </a:lnTo>
                <a:lnTo>
                  <a:pt x="252" y="3"/>
                </a:lnTo>
                <a:lnTo>
                  <a:pt x="339" y="0"/>
                </a:lnTo>
                <a:lnTo>
                  <a:pt x="384" y="15"/>
                </a:lnTo>
                <a:lnTo>
                  <a:pt x="457" y="57"/>
                </a:lnTo>
                <a:lnTo>
                  <a:pt x="493" y="114"/>
                </a:lnTo>
                <a:lnTo>
                  <a:pt x="525" y="187"/>
                </a:lnTo>
                <a:lnTo>
                  <a:pt x="525" y="240"/>
                </a:lnTo>
                <a:lnTo>
                  <a:pt x="507" y="290"/>
                </a:lnTo>
                <a:lnTo>
                  <a:pt x="455" y="324"/>
                </a:lnTo>
                <a:lnTo>
                  <a:pt x="395" y="328"/>
                </a:lnTo>
                <a:lnTo>
                  <a:pt x="334" y="364"/>
                </a:lnTo>
                <a:lnTo>
                  <a:pt x="278" y="402"/>
                </a:lnTo>
                <a:lnTo>
                  <a:pt x="197" y="420"/>
                </a:lnTo>
                <a:lnTo>
                  <a:pt x="99" y="409"/>
                </a:lnTo>
                <a:lnTo>
                  <a:pt x="99" y="409"/>
                </a:lnTo>
                <a:lnTo>
                  <a:pt x="99" y="40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72"/>
          <p:cNvSpPr/>
          <p:nvPr/>
        </p:nvSpPr>
        <p:spPr>
          <a:xfrm>
            <a:off x="4552920" y="2062080"/>
            <a:ext cx="155520" cy="455760"/>
          </a:xfrm>
          <a:custGeom>
            <a:avLst/>
            <a:gdLst>
              <a:gd name="textAreaLeft" fmla="*/ 0 w 155520"/>
              <a:gd name="textAreaRight" fmla="*/ 155880 w 15552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8" h="287">
                <a:moveTo>
                  <a:pt x="13" y="0"/>
                </a:moveTo>
                <a:lnTo>
                  <a:pt x="0" y="58"/>
                </a:lnTo>
                <a:lnTo>
                  <a:pt x="18" y="108"/>
                </a:lnTo>
                <a:lnTo>
                  <a:pt x="31" y="164"/>
                </a:lnTo>
                <a:lnTo>
                  <a:pt x="26" y="226"/>
                </a:lnTo>
                <a:lnTo>
                  <a:pt x="38" y="273"/>
                </a:lnTo>
                <a:lnTo>
                  <a:pt x="60" y="287"/>
                </a:lnTo>
                <a:lnTo>
                  <a:pt x="85" y="287"/>
                </a:lnTo>
                <a:lnTo>
                  <a:pt x="98" y="251"/>
                </a:lnTo>
                <a:lnTo>
                  <a:pt x="81" y="200"/>
                </a:lnTo>
                <a:lnTo>
                  <a:pt x="56" y="134"/>
                </a:lnTo>
                <a:lnTo>
                  <a:pt x="56" y="75"/>
                </a:lnTo>
                <a:lnTo>
                  <a:pt x="45" y="12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73"/>
          <p:cNvSpPr/>
          <p:nvPr/>
        </p:nvSpPr>
        <p:spPr>
          <a:xfrm>
            <a:off x="4516560" y="2490840"/>
            <a:ext cx="85680" cy="57240"/>
          </a:xfrm>
          <a:custGeom>
            <a:avLst/>
            <a:gdLst>
              <a:gd name="textAreaLeft" fmla="*/ 0 w 85680"/>
              <a:gd name="textAreaRight" fmla="*/ 85680 w 85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4" h="36">
                <a:moveTo>
                  <a:pt x="0" y="29"/>
                </a:moveTo>
                <a:lnTo>
                  <a:pt x="5" y="6"/>
                </a:lnTo>
                <a:lnTo>
                  <a:pt x="29" y="0"/>
                </a:lnTo>
                <a:lnTo>
                  <a:pt x="54" y="29"/>
                </a:lnTo>
                <a:lnTo>
                  <a:pt x="29" y="36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74"/>
          <p:cNvSpPr/>
          <p:nvPr/>
        </p:nvSpPr>
        <p:spPr>
          <a:xfrm>
            <a:off x="3959280" y="2254320"/>
            <a:ext cx="485640" cy="399960"/>
          </a:xfrm>
          <a:custGeom>
            <a:avLst/>
            <a:gdLst>
              <a:gd name="textAreaLeft" fmla="*/ 0 w 485640"/>
              <a:gd name="textAreaRight" fmla="*/ 486000 w 485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306" h="252">
                <a:moveTo>
                  <a:pt x="0" y="97"/>
                </a:moveTo>
                <a:lnTo>
                  <a:pt x="15" y="68"/>
                </a:lnTo>
                <a:lnTo>
                  <a:pt x="36" y="50"/>
                </a:lnTo>
                <a:lnTo>
                  <a:pt x="85" y="36"/>
                </a:lnTo>
                <a:lnTo>
                  <a:pt x="134" y="36"/>
                </a:lnTo>
                <a:lnTo>
                  <a:pt x="208" y="32"/>
                </a:lnTo>
                <a:lnTo>
                  <a:pt x="262" y="11"/>
                </a:lnTo>
                <a:lnTo>
                  <a:pt x="306" y="0"/>
                </a:lnTo>
                <a:lnTo>
                  <a:pt x="295" y="66"/>
                </a:lnTo>
                <a:lnTo>
                  <a:pt x="270" y="122"/>
                </a:lnTo>
                <a:lnTo>
                  <a:pt x="226" y="178"/>
                </a:lnTo>
                <a:lnTo>
                  <a:pt x="165" y="214"/>
                </a:lnTo>
                <a:lnTo>
                  <a:pt x="130" y="246"/>
                </a:lnTo>
                <a:lnTo>
                  <a:pt x="89" y="252"/>
                </a:lnTo>
                <a:lnTo>
                  <a:pt x="49" y="227"/>
                </a:lnTo>
                <a:lnTo>
                  <a:pt x="18" y="191"/>
                </a:lnTo>
                <a:lnTo>
                  <a:pt x="4" y="142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75"/>
          <p:cNvSpPr/>
          <p:nvPr/>
        </p:nvSpPr>
        <p:spPr>
          <a:xfrm>
            <a:off x="4937040" y="2068560"/>
            <a:ext cx="493920" cy="388800"/>
          </a:xfrm>
          <a:custGeom>
            <a:avLst/>
            <a:gdLst>
              <a:gd name="textAreaLeft" fmla="*/ 0 w 493920"/>
              <a:gd name="textAreaRight" fmla="*/ 494280 w 4939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311" h="245">
                <a:moveTo>
                  <a:pt x="4" y="50"/>
                </a:moveTo>
                <a:lnTo>
                  <a:pt x="71" y="54"/>
                </a:lnTo>
                <a:lnTo>
                  <a:pt x="127" y="50"/>
                </a:lnTo>
                <a:lnTo>
                  <a:pt x="188" y="30"/>
                </a:lnTo>
                <a:lnTo>
                  <a:pt x="232" y="0"/>
                </a:lnTo>
                <a:lnTo>
                  <a:pt x="262" y="0"/>
                </a:lnTo>
                <a:lnTo>
                  <a:pt x="300" y="41"/>
                </a:lnTo>
                <a:lnTo>
                  <a:pt x="311" y="92"/>
                </a:lnTo>
                <a:lnTo>
                  <a:pt x="311" y="165"/>
                </a:lnTo>
                <a:lnTo>
                  <a:pt x="302" y="203"/>
                </a:lnTo>
                <a:lnTo>
                  <a:pt x="269" y="241"/>
                </a:lnTo>
                <a:lnTo>
                  <a:pt x="208" y="245"/>
                </a:lnTo>
                <a:lnTo>
                  <a:pt x="148" y="222"/>
                </a:lnTo>
                <a:lnTo>
                  <a:pt x="85" y="191"/>
                </a:lnTo>
                <a:lnTo>
                  <a:pt x="36" y="153"/>
                </a:lnTo>
                <a:lnTo>
                  <a:pt x="6" y="117"/>
                </a:lnTo>
                <a:lnTo>
                  <a:pt x="0" y="92"/>
                </a:lnTo>
                <a:lnTo>
                  <a:pt x="4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76"/>
          <p:cNvSpPr/>
          <p:nvPr/>
        </p:nvSpPr>
        <p:spPr>
          <a:xfrm>
            <a:off x="4624560" y="3164040"/>
            <a:ext cx="485640" cy="223560"/>
          </a:xfrm>
          <a:custGeom>
            <a:avLst/>
            <a:gdLst>
              <a:gd name="textAreaLeft" fmla="*/ 0 w 485640"/>
              <a:gd name="textAreaRight" fmla="*/ 486000 w 48564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306" h="141">
                <a:moveTo>
                  <a:pt x="17" y="87"/>
                </a:moveTo>
                <a:lnTo>
                  <a:pt x="47" y="120"/>
                </a:lnTo>
                <a:lnTo>
                  <a:pt x="97" y="141"/>
                </a:lnTo>
                <a:lnTo>
                  <a:pt x="146" y="141"/>
                </a:lnTo>
                <a:lnTo>
                  <a:pt x="201" y="130"/>
                </a:lnTo>
                <a:lnTo>
                  <a:pt x="243" y="98"/>
                </a:lnTo>
                <a:lnTo>
                  <a:pt x="292" y="49"/>
                </a:lnTo>
                <a:lnTo>
                  <a:pt x="306" y="13"/>
                </a:lnTo>
                <a:lnTo>
                  <a:pt x="268" y="0"/>
                </a:lnTo>
                <a:lnTo>
                  <a:pt x="221" y="18"/>
                </a:lnTo>
                <a:lnTo>
                  <a:pt x="166" y="54"/>
                </a:lnTo>
                <a:lnTo>
                  <a:pt x="105" y="71"/>
                </a:lnTo>
                <a:lnTo>
                  <a:pt x="49" y="67"/>
                </a:lnTo>
                <a:lnTo>
                  <a:pt x="0" y="62"/>
                </a:lnTo>
                <a:lnTo>
                  <a:pt x="17" y="87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7"/>
          <p:cNvSpPr/>
          <p:nvPr/>
        </p:nvSpPr>
        <p:spPr>
          <a:xfrm>
            <a:off x="4484520" y="2714760"/>
            <a:ext cx="196920" cy="85680"/>
          </a:xfrm>
          <a:custGeom>
            <a:avLst/>
            <a:gdLst>
              <a:gd name="textAreaLeft" fmla="*/ 0 w 196920"/>
              <a:gd name="textAreaRight" fmla="*/ 197280 w 1969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24" h="54">
                <a:moveTo>
                  <a:pt x="7" y="54"/>
                </a:moveTo>
                <a:lnTo>
                  <a:pt x="74" y="29"/>
                </a:lnTo>
                <a:lnTo>
                  <a:pt x="124" y="18"/>
                </a:lnTo>
                <a:lnTo>
                  <a:pt x="81" y="0"/>
                </a:lnTo>
                <a:lnTo>
                  <a:pt x="38" y="0"/>
                </a:lnTo>
                <a:lnTo>
                  <a:pt x="0" y="29"/>
                </a:lnTo>
                <a:lnTo>
                  <a:pt x="7" y="54"/>
                </a:lnTo>
                <a:lnTo>
                  <a:pt x="7" y="54"/>
                </a:lnTo>
                <a:lnTo>
                  <a:pt x="7" y="54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8"/>
          <p:cNvSpPr/>
          <p:nvPr/>
        </p:nvSpPr>
        <p:spPr>
          <a:xfrm>
            <a:off x="3976560" y="2009880"/>
            <a:ext cx="177840" cy="123840"/>
          </a:xfrm>
          <a:custGeom>
            <a:avLst/>
            <a:gdLst>
              <a:gd name="textAreaLeft" fmla="*/ 0 w 177840"/>
              <a:gd name="textAreaRight" fmla="*/ 177840 w 177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12" h="78">
                <a:moveTo>
                  <a:pt x="0" y="65"/>
                </a:moveTo>
                <a:lnTo>
                  <a:pt x="0" y="42"/>
                </a:lnTo>
                <a:lnTo>
                  <a:pt x="17" y="18"/>
                </a:lnTo>
                <a:lnTo>
                  <a:pt x="53" y="0"/>
                </a:lnTo>
                <a:lnTo>
                  <a:pt x="91" y="5"/>
                </a:lnTo>
                <a:lnTo>
                  <a:pt x="112" y="18"/>
                </a:lnTo>
                <a:lnTo>
                  <a:pt x="42" y="49"/>
                </a:lnTo>
                <a:lnTo>
                  <a:pt x="4" y="78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79"/>
          <p:cNvSpPr/>
          <p:nvPr/>
        </p:nvSpPr>
        <p:spPr>
          <a:xfrm rot="2926200">
            <a:off x="3306240" y="3668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80"/>
          <p:cNvSpPr/>
          <p:nvPr/>
        </p:nvSpPr>
        <p:spPr>
          <a:xfrm rot="1699800">
            <a:off x="3551040" y="3862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81"/>
          <p:cNvSpPr/>
          <p:nvPr/>
        </p:nvSpPr>
        <p:spPr>
          <a:xfrm rot="781800">
            <a:off x="3882600" y="3983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82"/>
          <p:cNvSpPr/>
          <p:nvPr/>
        </p:nvSpPr>
        <p:spPr>
          <a:xfrm rot="563400">
            <a:off x="4192200" y="4041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3"/>
          <p:cNvSpPr/>
          <p:nvPr/>
        </p:nvSpPr>
        <p:spPr>
          <a:xfrm rot="273600">
            <a:off x="4543200" y="4084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84"/>
          <p:cNvSpPr/>
          <p:nvPr/>
        </p:nvSpPr>
        <p:spPr>
          <a:xfrm rot="21552600">
            <a:off x="5014800" y="4093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85"/>
          <p:cNvSpPr/>
          <p:nvPr/>
        </p:nvSpPr>
        <p:spPr>
          <a:xfrm rot="21330000">
            <a:off x="5367240" y="4071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6"/>
          <p:cNvSpPr/>
          <p:nvPr/>
        </p:nvSpPr>
        <p:spPr>
          <a:xfrm rot="21244800">
            <a:off x="5524560" y="4053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87"/>
          <p:cNvSpPr/>
          <p:nvPr/>
        </p:nvSpPr>
        <p:spPr>
          <a:xfrm rot="20866800">
            <a:off x="5873760" y="3995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88"/>
          <p:cNvSpPr/>
          <p:nvPr/>
        </p:nvSpPr>
        <p:spPr>
          <a:xfrm rot="20562000">
            <a:off x="6024600" y="3954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89"/>
          <p:cNvSpPr/>
          <p:nvPr/>
        </p:nvSpPr>
        <p:spPr>
          <a:xfrm rot="19930200">
            <a:off x="6350040" y="3816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90"/>
          <p:cNvSpPr/>
          <p:nvPr/>
        </p:nvSpPr>
        <p:spPr>
          <a:xfrm rot="18729000">
            <a:off x="6475320" y="3722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91"/>
          <p:cNvSpPr/>
          <p:nvPr/>
        </p:nvSpPr>
        <p:spPr>
          <a:xfrm rot="15335400">
            <a:off x="6432120" y="3385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92"/>
          <p:cNvSpPr/>
          <p:nvPr/>
        </p:nvSpPr>
        <p:spPr>
          <a:xfrm rot="15335400">
            <a:off x="6347880" y="308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93"/>
          <p:cNvSpPr/>
          <p:nvPr/>
        </p:nvSpPr>
        <p:spPr>
          <a:xfrm rot="1418400">
            <a:off x="2927160" y="4398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94"/>
          <p:cNvSpPr/>
          <p:nvPr/>
        </p:nvSpPr>
        <p:spPr>
          <a:xfrm rot="1275600">
            <a:off x="3266640" y="4535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95"/>
          <p:cNvSpPr/>
          <p:nvPr/>
        </p:nvSpPr>
        <p:spPr>
          <a:xfrm rot="764400">
            <a:off x="3601800" y="4649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6"/>
          <p:cNvSpPr/>
          <p:nvPr/>
        </p:nvSpPr>
        <p:spPr>
          <a:xfrm rot="514200">
            <a:off x="4065120" y="4734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7"/>
          <p:cNvSpPr/>
          <p:nvPr/>
        </p:nvSpPr>
        <p:spPr>
          <a:xfrm rot="296400">
            <a:off x="4417560" y="4776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8"/>
          <p:cNvSpPr/>
          <p:nvPr/>
        </p:nvSpPr>
        <p:spPr>
          <a:xfrm rot="135600">
            <a:off x="4573080" y="4786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9"/>
          <p:cNvSpPr/>
          <p:nvPr/>
        </p:nvSpPr>
        <p:spPr>
          <a:xfrm rot="21552000">
            <a:off x="4927680" y="4785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00"/>
          <p:cNvSpPr/>
          <p:nvPr/>
        </p:nvSpPr>
        <p:spPr>
          <a:xfrm rot="21399600">
            <a:off x="5241960" y="4770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01"/>
          <p:cNvSpPr/>
          <p:nvPr/>
        </p:nvSpPr>
        <p:spPr>
          <a:xfrm rot="21220800">
            <a:off x="5594400" y="4733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02"/>
          <p:cNvSpPr/>
          <p:nvPr/>
        </p:nvSpPr>
        <p:spPr>
          <a:xfrm rot="21023400">
            <a:off x="5905440" y="4684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3"/>
          <p:cNvSpPr/>
          <p:nvPr/>
        </p:nvSpPr>
        <p:spPr>
          <a:xfrm rot="20796000">
            <a:off x="6249960" y="460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04"/>
          <p:cNvSpPr/>
          <p:nvPr/>
        </p:nvSpPr>
        <p:spPr>
          <a:xfrm rot="20302200">
            <a:off x="6524640" y="452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05"/>
          <p:cNvSpPr/>
          <p:nvPr/>
        </p:nvSpPr>
        <p:spPr>
          <a:xfrm rot="3195600">
            <a:off x="1530000" y="4568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06"/>
          <p:cNvSpPr/>
          <p:nvPr/>
        </p:nvSpPr>
        <p:spPr>
          <a:xfrm rot="2401200">
            <a:off x="1780920" y="4834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7"/>
          <p:cNvSpPr/>
          <p:nvPr/>
        </p:nvSpPr>
        <p:spPr>
          <a:xfrm rot="1770600">
            <a:off x="2072880" y="50356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8"/>
          <p:cNvSpPr/>
          <p:nvPr/>
        </p:nvSpPr>
        <p:spPr>
          <a:xfrm rot="1462200">
            <a:off x="2354040" y="5175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09"/>
          <p:cNvSpPr/>
          <p:nvPr/>
        </p:nvSpPr>
        <p:spPr>
          <a:xfrm rot="1193400">
            <a:off x="2680920" y="5310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10"/>
          <p:cNvSpPr/>
          <p:nvPr/>
        </p:nvSpPr>
        <p:spPr>
          <a:xfrm rot="1069200">
            <a:off x="2830320" y="53611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1"/>
          <p:cNvSpPr/>
          <p:nvPr/>
        </p:nvSpPr>
        <p:spPr>
          <a:xfrm rot="915000">
            <a:off x="3169800" y="5460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12"/>
          <p:cNvSpPr/>
          <p:nvPr/>
        </p:nvSpPr>
        <p:spPr>
          <a:xfrm rot="790200">
            <a:off x="3472920" y="5540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3"/>
          <p:cNvSpPr/>
          <p:nvPr/>
        </p:nvSpPr>
        <p:spPr>
          <a:xfrm rot="468600">
            <a:off x="3820680" y="5603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14"/>
          <p:cNvSpPr/>
          <p:nvPr/>
        </p:nvSpPr>
        <p:spPr>
          <a:xfrm rot="341400">
            <a:off x="4133520" y="5640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15"/>
          <p:cNvSpPr/>
          <p:nvPr/>
        </p:nvSpPr>
        <p:spPr>
          <a:xfrm rot="232800">
            <a:off x="4485960" y="5668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16"/>
          <p:cNvSpPr/>
          <p:nvPr/>
        </p:nvSpPr>
        <p:spPr>
          <a:xfrm rot="93600">
            <a:off x="4800240" y="5684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17"/>
          <p:cNvSpPr/>
          <p:nvPr/>
        </p:nvSpPr>
        <p:spPr>
          <a:xfrm rot="21511800">
            <a:off x="5154480" y="5681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18"/>
          <p:cNvSpPr/>
          <p:nvPr/>
        </p:nvSpPr>
        <p:spPr>
          <a:xfrm rot="21372600">
            <a:off x="5442120" y="5662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19"/>
          <p:cNvSpPr/>
          <p:nvPr/>
        </p:nvSpPr>
        <p:spPr>
          <a:xfrm rot="21292800">
            <a:off x="5794200" y="5628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20"/>
          <p:cNvSpPr/>
          <p:nvPr/>
        </p:nvSpPr>
        <p:spPr>
          <a:xfrm rot="21191400">
            <a:off x="5950080" y="5609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21"/>
          <p:cNvSpPr/>
          <p:nvPr/>
        </p:nvSpPr>
        <p:spPr>
          <a:xfrm rot="20923200">
            <a:off x="6299280" y="5546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22"/>
          <p:cNvSpPr/>
          <p:nvPr/>
        </p:nvSpPr>
        <p:spPr>
          <a:xfrm rot="20709600">
            <a:off x="6603840" y="5471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23"/>
          <p:cNvSpPr/>
          <p:nvPr/>
        </p:nvSpPr>
        <p:spPr>
          <a:xfrm rot="20488800">
            <a:off x="6940440" y="5363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24"/>
          <p:cNvSpPr/>
          <p:nvPr/>
        </p:nvSpPr>
        <p:spPr>
          <a:xfrm rot="20382000">
            <a:off x="7236000" y="5254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25"/>
          <p:cNvSpPr/>
          <p:nvPr/>
        </p:nvSpPr>
        <p:spPr>
          <a:xfrm rot="20020200">
            <a:off x="7559640" y="5111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6"/>
          <p:cNvSpPr/>
          <p:nvPr/>
        </p:nvSpPr>
        <p:spPr>
          <a:xfrm rot="19815600">
            <a:off x="7696080" y="5035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27"/>
          <p:cNvSpPr/>
          <p:nvPr/>
        </p:nvSpPr>
        <p:spPr>
          <a:xfrm rot="19560000">
            <a:off x="7993080" y="4841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28"/>
          <p:cNvSpPr/>
          <p:nvPr/>
        </p:nvSpPr>
        <p:spPr>
          <a:xfrm rot="19373400">
            <a:off x="8161200" y="4717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29"/>
          <p:cNvSpPr/>
          <p:nvPr/>
        </p:nvSpPr>
        <p:spPr>
          <a:xfrm rot="16889400">
            <a:off x="8375760" y="444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30"/>
          <p:cNvSpPr/>
          <p:nvPr/>
        </p:nvSpPr>
        <p:spPr>
          <a:xfrm rot="16889400">
            <a:off x="8413920" y="4242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1"/>
          <p:cNvSpPr/>
          <p:nvPr/>
        </p:nvSpPr>
        <p:spPr>
          <a:xfrm rot="16889400">
            <a:off x="8478720" y="3895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32"/>
          <p:cNvSpPr/>
          <p:nvPr/>
        </p:nvSpPr>
        <p:spPr>
          <a:xfrm rot="16889400">
            <a:off x="8535960" y="358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33"/>
          <p:cNvSpPr/>
          <p:nvPr/>
        </p:nvSpPr>
        <p:spPr>
          <a:xfrm rot="16889400">
            <a:off x="8601120" y="3238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34"/>
          <p:cNvSpPr/>
          <p:nvPr/>
        </p:nvSpPr>
        <p:spPr>
          <a:xfrm rot="16889400">
            <a:off x="8658360" y="2928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35"/>
          <p:cNvSpPr/>
          <p:nvPr/>
        </p:nvSpPr>
        <p:spPr>
          <a:xfrm rot="16889400">
            <a:off x="8721720" y="2580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36"/>
          <p:cNvSpPr/>
          <p:nvPr/>
        </p:nvSpPr>
        <p:spPr>
          <a:xfrm rot="16889400">
            <a:off x="8778960" y="2271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37"/>
          <p:cNvSpPr/>
          <p:nvPr/>
        </p:nvSpPr>
        <p:spPr>
          <a:xfrm rot="16889400">
            <a:off x="8844120" y="1923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8"/>
          <p:cNvSpPr/>
          <p:nvPr/>
        </p:nvSpPr>
        <p:spPr>
          <a:xfrm rot="16889400">
            <a:off x="8872560" y="1767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39"/>
          <p:cNvSpPr/>
          <p:nvPr/>
        </p:nvSpPr>
        <p:spPr>
          <a:xfrm rot="16889400">
            <a:off x="8937720" y="142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40"/>
          <p:cNvSpPr/>
          <p:nvPr/>
        </p:nvSpPr>
        <p:spPr>
          <a:xfrm rot="16889400">
            <a:off x="8994600" y="1110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3"/>
          <p:cNvSpPr/>
          <p:nvPr/>
        </p:nvSpPr>
        <p:spPr>
          <a:xfrm>
            <a:off x="-87480" y="-27000"/>
            <a:ext cx="9874440" cy="6902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1465200" y="3726000"/>
            <a:ext cx="839880" cy="89856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2624040" y="3240000"/>
            <a:ext cx="1382760" cy="190836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6"/>
          <p:cNvSpPr/>
          <p:nvPr/>
        </p:nvSpPr>
        <p:spPr>
          <a:xfrm rot="5340000">
            <a:off x="2949120" y="3331800"/>
            <a:ext cx="727200" cy="730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312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7"/>
          <p:cNvSpPr/>
          <p:nvPr/>
        </p:nvSpPr>
        <p:spPr>
          <a:xfrm rot="5340000">
            <a:off x="2949480" y="4286160"/>
            <a:ext cx="726840" cy="730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312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8"/>
          <p:cNvSpPr/>
          <p:nvPr/>
        </p:nvSpPr>
        <p:spPr>
          <a:xfrm>
            <a:off x="3029040" y="3589200"/>
            <a:ext cx="56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qui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9"/>
          <p:cNvSpPr/>
          <p:nvPr/>
        </p:nvSpPr>
        <p:spPr>
          <a:xfrm>
            <a:off x="3025800" y="4592520"/>
            <a:ext cx="68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sci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0"/>
          <p:cNvSpPr/>
          <p:nvPr/>
        </p:nvSpPr>
        <p:spPr>
          <a:xfrm>
            <a:off x="2305080" y="4213080"/>
            <a:ext cx="312840" cy="360"/>
          </a:xfrm>
          <a:custGeom>
            <a:avLst/>
            <a:gdLst/>
            <a:ahLst/>
            <a:rect l="l" t="t" r="r" b="b"/>
            <a:pathLst>
              <a:path w="197" h="0">
                <a:moveTo>
                  <a:pt x="0" y="0"/>
                </a:moveTo>
                <a:lnTo>
                  <a:pt x="197" y="0"/>
                </a:lnTo>
              </a:path>
            </a:pathLst>
          </a:custGeom>
          <a:noFill/>
          <a:ln w="50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1"/>
          <p:cNvSpPr/>
          <p:nvPr/>
        </p:nvSpPr>
        <p:spPr>
          <a:xfrm>
            <a:off x="4678200" y="1720800"/>
            <a:ext cx="1455840" cy="97308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"/>
          <p:cNvSpPr/>
          <p:nvPr/>
        </p:nvSpPr>
        <p:spPr>
          <a:xfrm>
            <a:off x="4809960" y="1776240"/>
            <a:ext cx="14893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bajo misionero con Pablo (en la sinagog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3"/>
          <p:cNvSpPr/>
          <p:nvPr/>
        </p:nvSpPr>
        <p:spPr>
          <a:xfrm>
            <a:off x="4361040" y="2052720"/>
            <a:ext cx="311040" cy="2803320"/>
          </a:xfrm>
          <a:custGeom>
            <a:avLst/>
            <a:gdLst>
              <a:gd name="textAreaLeft" fmla="*/ 0 w 311040"/>
              <a:gd name="textAreaRight" fmla="*/ 311400 w 311040"/>
              <a:gd name="textAreaTop" fmla="*/ 0 h 2803320"/>
              <a:gd name="textAreaBottom" fmla="*/ 2803320 h 2803320"/>
            </a:gdLst>
            <a:ahLst/>
            <a:rect l="textAreaLeft" t="textAreaTop" r="textAreaRight" b="textAreaBottom"/>
            <a:pathLst>
              <a:path w="196" h="1766">
                <a:moveTo>
                  <a:pt x="0" y="0"/>
                </a:moveTo>
                <a:lnTo>
                  <a:pt x="0" y="1766"/>
                </a:lnTo>
                <a:lnTo>
                  <a:pt x="196" y="1766"/>
                </a:lnTo>
              </a:path>
            </a:pathLst>
          </a:custGeom>
          <a:noFill/>
          <a:ln w="50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4"/>
          <p:cNvSpPr/>
          <p:nvPr/>
        </p:nvSpPr>
        <p:spPr>
          <a:xfrm>
            <a:off x="4319640" y="2052720"/>
            <a:ext cx="352440" cy="19080"/>
          </a:xfrm>
          <a:custGeom>
            <a:avLst/>
            <a:gdLst>
              <a:gd name="textAreaLeft" fmla="*/ 0 w 352440"/>
              <a:gd name="textAreaRight" fmla="*/ 352800 w 352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2" h="12">
                <a:moveTo>
                  <a:pt x="0" y="12"/>
                </a:moveTo>
                <a:lnTo>
                  <a:pt x="222" y="12"/>
                </a:lnTo>
                <a:lnTo>
                  <a:pt x="222" y="0"/>
                </a:lnTo>
              </a:path>
            </a:pathLst>
          </a:custGeom>
          <a:noFill/>
          <a:ln w="50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5"/>
          <p:cNvSpPr/>
          <p:nvPr/>
        </p:nvSpPr>
        <p:spPr>
          <a:xfrm>
            <a:off x="4025880" y="4156200"/>
            <a:ext cx="312840" cy="19080"/>
          </a:xfrm>
          <a:custGeom>
            <a:avLst/>
            <a:gdLst>
              <a:gd name="textAreaLeft" fmla="*/ 0 w 312840"/>
              <a:gd name="textAreaRight" fmla="*/ 312840 w 312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97" h="12">
                <a:moveTo>
                  <a:pt x="0" y="12"/>
                </a:moveTo>
                <a:lnTo>
                  <a:pt x="197" y="0"/>
                </a:lnTo>
              </a:path>
            </a:pathLst>
          </a:custGeom>
          <a:noFill/>
          <a:ln w="50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6"/>
          <p:cNvSpPr/>
          <p:nvPr/>
        </p:nvSpPr>
        <p:spPr>
          <a:xfrm>
            <a:off x="4687920" y="2887560"/>
            <a:ext cx="1446120" cy="117324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17"/>
          <p:cNvSpPr/>
          <p:nvPr/>
        </p:nvSpPr>
        <p:spPr>
          <a:xfrm>
            <a:off x="4894200" y="3124080"/>
            <a:ext cx="723960" cy="524160"/>
          </a:xfrm>
          <a:custGeom>
            <a:avLst/>
            <a:gdLst>
              <a:gd name="textAreaLeft" fmla="*/ 0 w 723960"/>
              <a:gd name="textAreaRight" fmla="*/ 724320 w 72396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456" h="330">
                <a:moveTo>
                  <a:pt x="0" y="106"/>
                </a:moveTo>
                <a:lnTo>
                  <a:pt x="0" y="288"/>
                </a:lnTo>
                <a:lnTo>
                  <a:pt x="259" y="330"/>
                </a:lnTo>
                <a:lnTo>
                  <a:pt x="379" y="321"/>
                </a:lnTo>
                <a:lnTo>
                  <a:pt x="456" y="0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18"/>
          <p:cNvSpPr/>
          <p:nvPr/>
        </p:nvSpPr>
        <p:spPr>
          <a:xfrm>
            <a:off x="4894200" y="3225960"/>
            <a:ext cx="412920" cy="390240"/>
          </a:xfrm>
          <a:custGeom>
            <a:avLst/>
            <a:gdLst>
              <a:gd name="textAreaLeft" fmla="*/ 0 w 412920"/>
              <a:gd name="textAreaRight" fmla="*/ 413280 w 41292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260" h="246">
                <a:moveTo>
                  <a:pt x="0" y="42"/>
                </a:moveTo>
                <a:lnTo>
                  <a:pt x="0" y="224"/>
                </a:lnTo>
                <a:lnTo>
                  <a:pt x="129" y="246"/>
                </a:lnTo>
                <a:lnTo>
                  <a:pt x="158" y="229"/>
                </a:lnTo>
                <a:lnTo>
                  <a:pt x="171" y="219"/>
                </a:lnTo>
                <a:lnTo>
                  <a:pt x="183" y="207"/>
                </a:lnTo>
                <a:lnTo>
                  <a:pt x="194" y="193"/>
                </a:lnTo>
                <a:lnTo>
                  <a:pt x="207" y="175"/>
                </a:lnTo>
                <a:lnTo>
                  <a:pt x="243" y="108"/>
                </a:lnTo>
                <a:lnTo>
                  <a:pt x="248" y="100"/>
                </a:lnTo>
                <a:lnTo>
                  <a:pt x="253" y="92"/>
                </a:lnTo>
                <a:lnTo>
                  <a:pt x="260" y="85"/>
                </a:lnTo>
                <a:lnTo>
                  <a:pt x="259" y="0"/>
                </a:lnTo>
                <a:lnTo>
                  <a:pt x="0" y="4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9"/>
          <p:cNvSpPr/>
          <p:nvPr/>
        </p:nvSpPr>
        <p:spPr>
          <a:xfrm>
            <a:off x="5219640" y="3344760"/>
            <a:ext cx="46080" cy="187560"/>
          </a:xfrm>
          <a:custGeom>
            <a:avLst/>
            <a:gdLst>
              <a:gd name="textAreaLeft" fmla="*/ 0 w 46080"/>
              <a:gd name="textAreaRight" fmla="*/ 46440 w 4608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9" h="118">
                <a:moveTo>
                  <a:pt x="0" y="117"/>
                </a:moveTo>
                <a:lnTo>
                  <a:pt x="29" y="118"/>
                </a:lnTo>
                <a:lnTo>
                  <a:pt x="29" y="17"/>
                </a:lnTo>
                <a:lnTo>
                  <a:pt x="28" y="14"/>
                </a:lnTo>
                <a:lnTo>
                  <a:pt x="28" y="12"/>
                </a:lnTo>
                <a:lnTo>
                  <a:pt x="27" y="9"/>
                </a:lnTo>
                <a:lnTo>
                  <a:pt x="27" y="6"/>
                </a:lnTo>
                <a:lnTo>
                  <a:pt x="24" y="4"/>
                </a:lnTo>
                <a:lnTo>
                  <a:pt x="23" y="2"/>
                </a:lnTo>
                <a:lnTo>
                  <a:pt x="21" y="1"/>
                </a:lnTo>
                <a:lnTo>
                  <a:pt x="18" y="0"/>
                </a:lnTo>
                <a:lnTo>
                  <a:pt x="15" y="0"/>
                </a:lnTo>
                <a:lnTo>
                  <a:pt x="12" y="0"/>
                </a:lnTo>
                <a:lnTo>
                  <a:pt x="10" y="1"/>
                </a:lnTo>
                <a:lnTo>
                  <a:pt x="7" y="1"/>
                </a:lnTo>
                <a:lnTo>
                  <a:pt x="5" y="3"/>
                </a:lnTo>
                <a:lnTo>
                  <a:pt x="3" y="5"/>
                </a:lnTo>
                <a:lnTo>
                  <a:pt x="1" y="8"/>
                </a:lnTo>
                <a:lnTo>
                  <a:pt x="1" y="11"/>
                </a:lnTo>
                <a:lnTo>
                  <a:pt x="0" y="15"/>
                </a:lnTo>
                <a:lnTo>
                  <a:pt x="0" y="18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20"/>
          <p:cNvSpPr/>
          <p:nvPr/>
        </p:nvSpPr>
        <p:spPr>
          <a:xfrm>
            <a:off x="5130720" y="3346560"/>
            <a:ext cx="41400" cy="180720"/>
          </a:xfrm>
          <a:custGeom>
            <a:avLst/>
            <a:gdLst>
              <a:gd name="textAreaLeft" fmla="*/ 0 w 41400"/>
              <a:gd name="textAreaRight" fmla="*/ 41760 w 4140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26" h="114">
                <a:moveTo>
                  <a:pt x="0" y="112"/>
                </a:moveTo>
                <a:lnTo>
                  <a:pt x="26" y="114"/>
                </a:lnTo>
                <a:lnTo>
                  <a:pt x="26" y="18"/>
                </a:lnTo>
                <a:lnTo>
                  <a:pt x="25" y="12"/>
                </a:lnTo>
                <a:lnTo>
                  <a:pt x="24" y="7"/>
                </a:lnTo>
                <a:lnTo>
                  <a:pt x="21" y="3"/>
                </a:lnTo>
                <a:lnTo>
                  <a:pt x="19" y="1"/>
                </a:lnTo>
                <a:lnTo>
                  <a:pt x="15" y="0"/>
                </a:lnTo>
                <a:lnTo>
                  <a:pt x="11" y="0"/>
                </a:lnTo>
                <a:lnTo>
                  <a:pt x="8" y="1"/>
                </a:lnTo>
                <a:lnTo>
                  <a:pt x="5" y="3"/>
                </a:lnTo>
                <a:lnTo>
                  <a:pt x="2" y="5"/>
                </a:lnTo>
                <a:lnTo>
                  <a:pt x="1" y="9"/>
                </a:lnTo>
                <a:lnTo>
                  <a:pt x="0" y="14"/>
                </a:lnTo>
                <a:lnTo>
                  <a:pt x="0" y="18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21"/>
          <p:cNvSpPr/>
          <p:nvPr/>
        </p:nvSpPr>
        <p:spPr>
          <a:xfrm>
            <a:off x="5032440" y="3349800"/>
            <a:ext cx="39600" cy="171360"/>
          </a:xfrm>
          <a:custGeom>
            <a:avLst/>
            <a:gdLst>
              <a:gd name="textAreaLeft" fmla="*/ 0 w 39600"/>
              <a:gd name="textAreaRight" fmla="*/ 39960 w 396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5" h="108">
                <a:moveTo>
                  <a:pt x="0" y="107"/>
                </a:moveTo>
                <a:lnTo>
                  <a:pt x="25" y="108"/>
                </a:lnTo>
                <a:lnTo>
                  <a:pt x="25" y="15"/>
                </a:lnTo>
                <a:lnTo>
                  <a:pt x="25" y="12"/>
                </a:lnTo>
                <a:lnTo>
                  <a:pt x="23" y="7"/>
                </a:lnTo>
                <a:lnTo>
                  <a:pt x="21" y="3"/>
                </a:lnTo>
                <a:lnTo>
                  <a:pt x="19" y="1"/>
                </a:lnTo>
                <a:lnTo>
                  <a:pt x="15" y="0"/>
                </a:lnTo>
                <a:lnTo>
                  <a:pt x="11" y="0"/>
                </a:lnTo>
                <a:lnTo>
                  <a:pt x="8" y="1"/>
                </a:lnTo>
                <a:lnTo>
                  <a:pt x="4" y="3"/>
                </a:lnTo>
                <a:lnTo>
                  <a:pt x="2" y="6"/>
                </a:lnTo>
                <a:lnTo>
                  <a:pt x="1" y="11"/>
                </a:lnTo>
                <a:lnTo>
                  <a:pt x="0" y="14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22"/>
          <p:cNvSpPr/>
          <p:nvPr/>
        </p:nvSpPr>
        <p:spPr>
          <a:xfrm>
            <a:off x="4944960" y="3352680"/>
            <a:ext cx="38160" cy="163800"/>
          </a:xfrm>
          <a:custGeom>
            <a:avLst/>
            <a:gdLst>
              <a:gd name="textAreaLeft" fmla="*/ 0 w 38160"/>
              <a:gd name="textAreaRight" fmla="*/ 38520 w 3816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24" h="103">
                <a:moveTo>
                  <a:pt x="0" y="101"/>
                </a:moveTo>
                <a:lnTo>
                  <a:pt x="24" y="103"/>
                </a:lnTo>
                <a:lnTo>
                  <a:pt x="24" y="14"/>
                </a:lnTo>
                <a:lnTo>
                  <a:pt x="23" y="10"/>
                </a:lnTo>
                <a:lnTo>
                  <a:pt x="22" y="6"/>
                </a:lnTo>
                <a:lnTo>
                  <a:pt x="21" y="4"/>
                </a:lnTo>
                <a:lnTo>
                  <a:pt x="19" y="1"/>
                </a:lnTo>
                <a:lnTo>
                  <a:pt x="16" y="0"/>
                </a:lnTo>
                <a:lnTo>
                  <a:pt x="13" y="0"/>
                </a:lnTo>
                <a:lnTo>
                  <a:pt x="9" y="0"/>
                </a:lnTo>
                <a:lnTo>
                  <a:pt x="6" y="1"/>
                </a:lnTo>
                <a:lnTo>
                  <a:pt x="4" y="3"/>
                </a:lnTo>
                <a:lnTo>
                  <a:pt x="1" y="7"/>
                </a:lnTo>
                <a:lnTo>
                  <a:pt x="1" y="10"/>
                </a:lnTo>
                <a:lnTo>
                  <a:pt x="0" y="14"/>
                </a:lnTo>
                <a:lnTo>
                  <a:pt x="0" y="101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23"/>
          <p:cNvSpPr/>
          <p:nvPr/>
        </p:nvSpPr>
        <p:spPr>
          <a:xfrm>
            <a:off x="5307120" y="3287880"/>
            <a:ext cx="204840" cy="361800"/>
          </a:xfrm>
          <a:custGeom>
            <a:avLst/>
            <a:gdLst>
              <a:gd name="textAreaLeft" fmla="*/ 0 w 204840"/>
              <a:gd name="textAreaRight" fmla="*/ 205200 w 20484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129" h="228">
                <a:moveTo>
                  <a:pt x="75" y="0"/>
                </a:moveTo>
                <a:lnTo>
                  <a:pt x="0" y="177"/>
                </a:lnTo>
                <a:lnTo>
                  <a:pt x="0" y="228"/>
                </a:lnTo>
                <a:lnTo>
                  <a:pt x="129" y="217"/>
                </a:lnTo>
                <a:lnTo>
                  <a:pt x="75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24"/>
          <p:cNvSpPr/>
          <p:nvPr/>
        </p:nvSpPr>
        <p:spPr>
          <a:xfrm>
            <a:off x="5307120" y="3265560"/>
            <a:ext cx="360" cy="382680"/>
          </a:xfrm>
          <a:custGeom>
            <a:avLst/>
            <a:gdLst/>
            <a:ahLst/>
            <a:rect l="l" t="t" r="r" b="b"/>
            <a:pathLst>
              <a:path w="0" h="241">
                <a:moveTo>
                  <a:pt x="0" y="241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25"/>
          <p:cNvSpPr/>
          <p:nvPr/>
        </p:nvSpPr>
        <p:spPr>
          <a:xfrm>
            <a:off x="4894200" y="3537000"/>
            <a:ext cx="647640" cy="41400"/>
          </a:xfrm>
          <a:custGeom>
            <a:avLst/>
            <a:gdLst>
              <a:gd name="textAreaLeft" fmla="*/ 0 w 647640"/>
              <a:gd name="textAreaRight" fmla="*/ 648000 w 6476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408" h="26">
                <a:moveTo>
                  <a:pt x="0" y="0"/>
                </a:moveTo>
                <a:lnTo>
                  <a:pt x="259" y="26"/>
                </a:lnTo>
                <a:lnTo>
                  <a:pt x="408" y="14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26"/>
          <p:cNvSpPr/>
          <p:nvPr/>
        </p:nvSpPr>
        <p:spPr>
          <a:xfrm>
            <a:off x="4894200" y="3292560"/>
            <a:ext cx="800280" cy="355680"/>
          </a:xfrm>
          <a:custGeom>
            <a:avLst/>
            <a:gdLst>
              <a:gd name="textAreaLeft" fmla="*/ 0 w 800280"/>
              <a:gd name="textAreaRight" fmla="*/ 800640 w 8002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504" h="224">
                <a:moveTo>
                  <a:pt x="0" y="0"/>
                </a:moveTo>
                <a:lnTo>
                  <a:pt x="0" y="182"/>
                </a:lnTo>
                <a:lnTo>
                  <a:pt x="259" y="224"/>
                </a:lnTo>
                <a:lnTo>
                  <a:pt x="504" y="205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27"/>
          <p:cNvSpPr/>
          <p:nvPr/>
        </p:nvSpPr>
        <p:spPr>
          <a:xfrm>
            <a:off x="5443560" y="3051000"/>
            <a:ext cx="130320" cy="209880"/>
          </a:xfrm>
          <a:custGeom>
            <a:avLst/>
            <a:gdLst>
              <a:gd name="textAreaLeft" fmla="*/ 0 w 130320"/>
              <a:gd name="textAreaRight" fmla="*/ 130680 w 13032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82" h="132">
                <a:moveTo>
                  <a:pt x="0" y="15"/>
                </a:moveTo>
                <a:lnTo>
                  <a:pt x="0" y="57"/>
                </a:lnTo>
                <a:lnTo>
                  <a:pt x="42" y="57"/>
                </a:lnTo>
                <a:lnTo>
                  <a:pt x="42" y="132"/>
                </a:lnTo>
                <a:lnTo>
                  <a:pt x="72" y="75"/>
                </a:lnTo>
                <a:lnTo>
                  <a:pt x="78" y="63"/>
                </a:lnTo>
                <a:lnTo>
                  <a:pt x="81" y="56"/>
                </a:lnTo>
                <a:lnTo>
                  <a:pt x="82" y="48"/>
                </a:lnTo>
                <a:lnTo>
                  <a:pt x="82" y="0"/>
                </a:lnTo>
                <a:lnTo>
                  <a:pt x="0" y="1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28"/>
          <p:cNvSpPr/>
          <p:nvPr/>
        </p:nvSpPr>
        <p:spPr>
          <a:xfrm>
            <a:off x="5573880" y="3051000"/>
            <a:ext cx="360" cy="195480"/>
          </a:xfrm>
          <a:custGeom>
            <a:avLst/>
            <a:gdLst/>
            <a:ahLst/>
            <a:rect l="l" t="t" r="r" b="b"/>
            <a:pathLst>
              <a:path w="0" h="123">
                <a:moveTo>
                  <a:pt x="0" y="0"/>
                </a:moveTo>
                <a:lnTo>
                  <a:pt x="0" y="123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29"/>
          <p:cNvSpPr/>
          <p:nvPr/>
        </p:nvSpPr>
        <p:spPr>
          <a:xfrm>
            <a:off x="5443560" y="3075120"/>
            <a:ext cx="66600" cy="185760"/>
          </a:xfrm>
          <a:custGeom>
            <a:avLst/>
            <a:gdLst>
              <a:gd name="textAreaLeft" fmla="*/ 0 w 66600"/>
              <a:gd name="textAreaRight" fmla="*/ 66960 w 6660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42" h="117">
                <a:moveTo>
                  <a:pt x="0" y="0"/>
                </a:moveTo>
                <a:lnTo>
                  <a:pt x="0" y="42"/>
                </a:lnTo>
                <a:lnTo>
                  <a:pt x="42" y="42"/>
                </a:lnTo>
                <a:lnTo>
                  <a:pt x="42" y="117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30"/>
          <p:cNvSpPr/>
          <p:nvPr/>
        </p:nvSpPr>
        <p:spPr>
          <a:xfrm>
            <a:off x="4876920" y="3139920"/>
            <a:ext cx="642960" cy="174960"/>
          </a:xfrm>
          <a:custGeom>
            <a:avLst/>
            <a:gdLst>
              <a:gd name="textAreaLeft" fmla="*/ 0 w 642960"/>
              <a:gd name="textAreaRight" fmla="*/ 643320 w 642960"/>
              <a:gd name="textAreaTop" fmla="*/ 0 h 174960"/>
              <a:gd name="textAreaBottom" fmla="*/ 175320 h 174960"/>
            </a:gdLst>
            <a:ahLst/>
            <a:rect l="textAreaLeft" t="textAreaTop" r="textAreaRight" b="textAreaBottom"/>
            <a:pathLst>
              <a:path w="405" h="110">
                <a:moveTo>
                  <a:pt x="405" y="0"/>
                </a:moveTo>
                <a:lnTo>
                  <a:pt x="399" y="12"/>
                </a:lnTo>
                <a:lnTo>
                  <a:pt x="270" y="99"/>
                </a:lnTo>
                <a:lnTo>
                  <a:pt x="10" y="110"/>
                </a:lnTo>
                <a:lnTo>
                  <a:pt x="0" y="105"/>
                </a:lnTo>
                <a:lnTo>
                  <a:pt x="405" y="0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31"/>
          <p:cNvSpPr/>
          <p:nvPr/>
        </p:nvSpPr>
        <p:spPr>
          <a:xfrm>
            <a:off x="4876920" y="3124080"/>
            <a:ext cx="642960" cy="182520"/>
          </a:xfrm>
          <a:custGeom>
            <a:avLst/>
            <a:gdLst>
              <a:gd name="textAreaLeft" fmla="*/ 0 w 642960"/>
              <a:gd name="textAreaRight" fmla="*/ 643320 w 6429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05" h="115">
                <a:moveTo>
                  <a:pt x="0" y="115"/>
                </a:moveTo>
                <a:lnTo>
                  <a:pt x="267" y="101"/>
                </a:lnTo>
                <a:lnTo>
                  <a:pt x="405" y="11"/>
                </a:lnTo>
                <a:lnTo>
                  <a:pt x="405" y="0"/>
                </a:lnTo>
                <a:lnTo>
                  <a:pt x="0" y="104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32"/>
          <p:cNvSpPr/>
          <p:nvPr/>
        </p:nvSpPr>
        <p:spPr>
          <a:xfrm>
            <a:off x="5300640" y="3252960"/>
            <a:ext cx="360" cy="31680"/>
          </a:xfrm>
          <a:custGeom>
            <a:avLst/>
            <a:gdLst/>
            <a:ahLst/>
            <a:rect l="l" t="t" r="r" b="b"/>
            <a:pathLst>
              <a:path w="0" h="20">
                <a:moveTo>
                  <a:pt x="0" y="20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33"/>
          <p:cNvSpPr/>
          <p:nvPr/>
        </p:nvSpPr>
        <p:spPr>
          <a:xfrm>
            <a:off x="4876920" y="3270240"/>
            <a:ext cx="342720" cy="36360"/>
          </a:xfrm>
          <a:custGeom>
            <a:avLst/>
            <a:gdLst>
              <a:gd name="textAreaLeft" fmla="*/ 0 w 342720"/>
              <a:gd name="textAreaRight" fmla="*/ 343080 w 3427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16" h="23">
                <a:moveTo>
                  <a:pt x="0" y="12"/>
                </a:moveTo>
                <a:lnTo>
                  <a:pt x="0" y="23"/>
                </a:lnTo>
                <a:lnTo>
                  <a:pt x="207" y="12"/>
                </a:lnTo>
                <a:lnTo>
                  <a:pt x="210" y="6"/>
                </a:lnTo>
                <a:lnTo>
                  <a:pt x="216" y="0"/>
                </a:lnTo>
                <a:lnTo>
                  <a:pt x="0" y="1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34"/>
          <p:cNvSpPr/>
          <p:nvPr/>
        </p:nvSpPr>
        <p:spPr>
          <a:xfrm>
            <a:off x="4876920" y="3122640"/>
            <a:ext cx="642960" cy="183960"/>
          </a:xfrm>
          <a:custGeom>
            <a:avLst/>
            <a:gdLst>
              <a:gd name="textAreaLeft" fmla="*/ 0 w 642960"/>
              <a:gd name="textAreaRight" fmla="*/ 643320 w 642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05" h="116">
                <a:moveTo>
                  <a:pt x="0" y="116"/>
                </a:moveTo>
                <a:lnTo>
                  <a:pt x="267" y="102"/>
                </a:lnTo>
                <a:lnTo>
                  <a:pt x="405" y="12"/>
                </a:lnTo>
                <a:lnTo>
                  <a:pt x="405" y="0"/>
                </a:lnTo>
                <a:lnTo>
                  <a:pt x="0" y="105"/>
                </a:lnTo>
                <a:lnTo>
                  <a:pt x="0" y="116"/>
                </a:lnTo>
                <a:close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35"/>
          <p:cNvSpPr/>
          <p:nvPr/>
        </p:nvSpPr>
        <p:spPr>
          <a:xfrm>
            <a:off x="4876920" y="3114720"/>
            <a:ext cx="642960" cy="176040"/>
          </a:xfrm>
          <a:custGeom>
            <a:avLst/>
            <a:gdLst>
              <a:gd name="textAreaLeft" fmla="*/ 0 w 642960"/>
              <a:gd name="textAreaRight" fmla="*/ 643320 w 6429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05" h="111">
                <a:moveTo>
                  <a:pt x="357" y="0"/>
                </a:moveTo>
                <a:lnTo>
                  <a:pt x="123" y="33"/>
                </a:lnTo>
                <a:lnTo>
                  <a:pt x="0" y="111"/>
                </a:lnTo>
                <a:lnTo>
                  <a:pt x="267" y="94"/>
                </a:lnTo>
                <a:lnTo>
                  <a:pt x="405" y="5"/>
                </a:lnTo>
                <a:lnTo>
                  <a:pt x="357" y="7"/>
                </a:lnTo>
                <a:lnTo>
                  <a:pt x="357" y="0"/>
                </a:lnTo>
                <a:close/>
              </a:path>
            </a:pathLst>
          </a:custGeom>
          <a:solidFill>
            <a:srgbClr val="000000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36"/>
          <p:cNvSpPr/>
          <p:nvPr/>
        </p:nvSpPr>
        <p:spPr>
          <a:xfrm>
            <a:off x="5421240" y="3181320"/>
            <a:ext cx="403200" cy="476280"/>
          </a:xfrm>
          <a:custGeom>
            <a:avLst/>
            <a:gdLst>
              <a:gd name="textAreaLeft" fmla="*/ 0 w 403200"/>
              <a:gd name="textAreaRight" fmla="*/ 403560 w 4032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4" h="300">
                <a:moveTo>
                  <a:pt x="0" y="65"/>
                </a:moveTo>
                <a:lnTo>
                  <a:pt x="0" y="289"/>
                </a:lnTo>
                <a:lnTo>
                  <a:pt x="68" y="300"/>
                </a:lnTo>
                <a:lnTo>
                  <a:pt x="254" y="285"/>
                </a:lnTo>
                <a:lnTo>
                  <a:pt x="254" y="67"/>
                </a:lnTo>
                <a:lnTo>
                  <a:pt x="169" y="0"/>
                </a:lnTo>
                <a:lnTo>
                  <a:pt x="54" y="59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37"/>
          <p:cNvSpPr/>
          <p:nvPr/>
        </p:nvSpPr>
        <p:spPr>
          <a:xfrm>
            <a:off x="5421240" y="3284640"/>
            <a:ext cx="108000" cy="358560"/>
          </a:xfrm>
          <a:custGeom>
            <a:avLst/>
            <a:gdLst>
              <a:gd name="textAreaLeft" fmla="*/ 0 w 108000"/>
              <a:gd name="textAreaRight" fmla="*/ 108360 w 10800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68" h="226">
                <a:moveTo>
                  <a:pt x="0" y="0"/>
                </a:moveTo>
                <a:lnTo>
                  <a:pt x="0" y="224"/>
                </a:lnTo>
                <a:lnTo>
                  <a:pt x="17" y="226"/>
                </a:lnTo>
                <a:lnTo>
                  <a:pt x="23" y="210"/>
                </a:lnTo>
                <a:lnTo>
                  <a:pt x="26" y="196"/>
                </a:lnTo>
                <a:lnTo>
                  <a:pt x="26" y="180"/>
                </a:lnTo>
                <a:lnTo>
                  <a:pt x="59" y="101"/>
                </a:lnTo>
                <a:lnTo>
                  <a:pt x="65" y="91"/>
                </a:lnTo>
                <a:lnTo>
                  <a:pt x="68" y="81"/>
                </a:lnTo>
                <a:lnTo>
                  <a:pt x="68" y="72"/>
                </a:lnTo>
                <a:lnTo>
                  <a:pt x="68" y="5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38"/>
          <p:cNvSpPr/>
          <p:nvPr/>
        </p:nvSpPr>
        <p:spPr>
          <a:xfrm>
            <a:off x="5421240" y="3284640"/>
            <a:ext cx="108000" cy="372960"/>
          </a:xfrm>
          <a:custGeom>
            <a:avLst/>
            <a:gdLst>
              <a:gd name="textAreaLeft" fmla="*/ 0 w 108000"/>
              <a:gd name="textAreaRight" fmla="*/ 108360 w 108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68" h="235">
                <a:moveTo>
                  <a:pt x="0" y="0"/>
                </a:moveTo>
                <a:lnTo>
                  <a:pt x="0" y="224"/>
                </a:lnTo>
                <a:lnTo>
                  <a:pt x="68" y="235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39"/>
          <p:cNvSpPr/>
          <p:nvPr/>
        </p:nvSpPr>
        <p:spPr>
          <a:xfrm>
            <a:off x="5529240" y="3270240"/>
            <a:ext cx="360" cy="387360"/>
          </a:xfrm>
          <a:custGeom>
            <a:avLst/>
            <a:gdLst/>
            <a:ahLst/>
            <a:rect l="l" t="t" r="r" b="b"/>
            <a:pathLst>
              <a:path w="0" h="244">
                <a:moveTo>
                  <a:pt x="0" y="0"/>
                </a:moveTo>
                <a:lnTo>
                  <a:pt x="0" y="244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40"/>
          <p:cNvSpPr/>
          <p:nvPr/>
        </p:nvSpPr>
        <p:spPr>
          <a:xfrm>
            <a:off x="5421240" y="3559320"/>
            <a:ext cx="403200" cy="19080"/>
          </a:xfrm>
          <a:custGeom>
            <a:avLst/>
            <a:gdLst>
              <a:gd name="textAreaLeft" fmla="*/ 0 w 403200"/>
              <a:gd name="textAreaRight" fmla="*/ 403560 w 403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54" h="12">
                <a:moveTo>
                  <a:pt x="0" y="6"/>
                </a:moveTo>
                <a:lnTo>
                  <a:pt x="69" y="12"/>
                </a:lnTo>
                <a:lnTo>
                  <a:pt x="254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41"/>
          <p:cNvSpPr/>
          <p:nvPr/>
        </p:nvSpPr>
        <p:spPr>
          <a:xfrm>
            <a:off x="5408640" y="3164040"/>
            <a:ext cx="431640" cy="131760"/>
          </a:xfrm>
          <a:custGeom>
            <a:avLst/>
            <a:gdLst>
              <a:gd name="textAreaLeft" fmla="*/ 0 w 431640"/>
              <a:gd name="textAreaRight" fmla="*/ 432000 w 4316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2" h="83">
                <a:moveTo>
                  <a:pt x="0" y="78"/>
                </a:moveTo>
                <a:lnTo>
                  <a:pt x="8" y="83"/>
                </a:lnTo>
                <a:lnTo>
                  <a:pt x="76" y="81"/>
                </a:lnTo>
                <a:lnTo>
                  <a:pt x="181" y="18"/>
                </a:lnTo>
                <a:lnTo>
                  <a:pt x="262" y="79"/>
                </a:lnTo>
                <a:lnTo>
                  <a:pt x="272" y="74"/>
                </a:lnTo>
                <a:lnTo>
                  <a:pt x="267" y="67"/>
                </a:lnTo>
                <a:lnTo>
                  <a:pt x="182" y="0"/>
                </a:lnTo>
                <a:lnTo>
                  <a:pt x="79" y="45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42"/>
          <p:cNvSpPr/>
          <p:nvPr/>
        </p:nvSpPr>
        <p:spPr>
          <a:xfrm>
            <a:off x="5410080" y="3154320"/>
            <a:ext cx="428760" cy="133560"/>
          </a:xfrm>
          <a:custGeom>
            <a:avLst/>
            <a:gdLst>
              <a:gd name="textAreaLeft" fmla="*/ 0 w 428760"/>
              <a:gd name="textAreaRight" fmla="*/ 429120 w 42876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70" h="84">
                <a:moveTo>
                  <a:pt x="0" y="76"/>
                </a:moveTo>
                <a:lnTo>
                  <a:pt x="0" y="84"/>
                </a:lnTo>
                <a:lnTo>
                  <a:pt x="72" y="80"/>
                </a:lnTo>
                <a:lnTo>
                  <a:pt x="181" y="14"/>
                </a:lnTo>
                <a:lnTo>
                  <a:pt x="270" y="80"/>
                </a:lnTo>
                <a:lnTo>
                  <a:pt x="270" y="70"/>
                </a:lnTo>
                <a:lnTo>
                  <a:pt x="181" y="0"/>
                </a:lnTo>
                <a:lnTo>
                  <a:pt x="0" y="76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43"/>
          <p:cNvSpPr/>
          <p:nvPr/>
        </p:nvSpPr>
        <p:spPr>
          <a:xfrm>
            <a:off x="5410080" y="3238560"/>
            <a:ext cx="100080" cy="49320"/>
          </a:xfrm>
          <a:custGeom>
            <a:avLst/>
            <a:gdLst>
              <a:gd name="textAreaLeft" fmla="*/ 0 w 100080"/>
              <a:gd name="textAreaRight" fmla="*/ 100440 w 10008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63" h="31">
                <a:moveTo>
                  <a:pt x="0" y="23"/>
                </a:moveTo>
                <a:lnTo>
                  <a:pt x="0" y="31"/>
                </a:lnTo>
                <a:lnTo>
                  <a:pt x="36" y="30"/>
                </a:lnTo>
                <a:lnTo>
                  <a:pt x="60" y="16"/>
                </a:lnTo>
                <a:lnTo>
                  <a:pt x="63" y="0"/>
                </a:lnTo>
                <a:lnTo>
                  <a:pt x="0" y="2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44"/>
          <p:cNvSpPr/>
          <p:nvPr/>
        </p:nvSpPr>
        <p:spPr>
          <a:xfrm>
            <a:off x="5410080" y="3274920"/>
            <a:ext cx="36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0"/>
                </a:moveTo>
                <a:lnTo>
                  <a:pt x="0" y="8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45"/>
          <p:cNvSpPr/>
          <p:nvPr/>
        </p:nvSpPr>
        <p:spPr>
          <a:xfrm>
            <a:off x="5524560" y="32576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15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46"/>
          <p:cNvSpPr/>
          <p:nvPr/>
        </p:nvSpPr>
        <p:spPr>
          <a:xfrm>
            <a:off x="5556240" y="3406680"/>
            <a:ext cx="44640" cy="169920"/>
          </a:xfrm>
          <a:custGeom>
            <a:avLst/>
            <a:gdLst>
              <a:gd name="textAreaLeft" fmla="*/ 0 w 44640"/>
              <a:gd name="textAreaRight" fmla="*/ 45000 w 446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8" h="107">
                <a:moveTo>
                  <a:pt x="0" y="107"/>
                </a:moveTo>
                <a:lnTo>
                  <a:pt x="0" y="18"/>
                </a:lnTo>
                <a:lnTo>
                  <a:pt x="0" y="13"/>
                </a:lnTo>
                <a:lnTo>
                  <a:pt x="2" y="7"/>
                </a:lnTo>
                <a:lnTo>
                  <a:pt x="3" y="4"/>
                </a:lnTo>
                <a:lnTo>
                  <a:pt x="6" y="2"/>
                </a:lnTo>
                <a:lnTo>
                  <a:pt x="9" y="0"/>
                </a:lnTo>
                <a:lnTo>
                  <a:pt x="14" y="0"/>
                </a:lnTo>
                <a:lnTo>
                  <a:pt x="18" y="0"/>
                </a:lnTo>
                <a:lnTo>
                  <a:pt x="22" y="2"/>
                </a:lnTo>
                <a:lnTo>
                  <a:pt x="25" y="4"/>
                </a:lnTo>
                <a:lnTo>
                  <a:pt x="27" y="9"/>
                </a:lnTo>
                <a:lnTo>
                  <a:pt x="28" y="14"/>
                </a:lnTo>
                <a:lnTo>
                  <a:pt x="28" y="18"/>
                </a:lnTo>
                <a:lnTo>
                  <a:pt x="28" y="105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47"/>
          <p:cNvSpPr/>
          <p:nvPr/>
        </p:nvSpPr>
        <p:spPr>
          <a:xfrm>
            <a:off x="5759280" y="3400560"/>
            <a:ext cx="41400" cy="161640"/>
          </a:xfrm>
          <a:custGeom>
            <a:avLst/>
            <a:gdLst>
              <a:gd name="textAreaLeft" fmla="*/ 0 w 41400"/>
              <a:gd name="textAreaRight" fmla="*/ 41760 w 414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6" h="102">
                <a:moveTo>
                  <a:pt x="0" y="102"/>
                </a:moveTo>
                <a:lnTo>
                  <a:pt x="0" y="18"/>
                </a:lnTo>
                <a:lnTo>
                  <a:pt x="0" y="13"/>
                </a:lnTo>
                <a:lnTo>
                  <a:pt x="1" y="9"/>
                </a:lnTo>
                <a:lnTo>
                  <a:pt x="3" y="5"/>
                </a:lnTo>
                <a:lnTo>
                  <a:pt x="5" y="2"/>
                </a:lnTo>
                <a:lnTo>
                  <a:pt x="8" y="1"/>
                </a:lnTo>
                <a:lnTo>
                  <a:pt x="12" y="0"/>
                </a:lnTo>
                <a:lnTo>
                  <a:pt x="17" y="1"/>
                </a:lnTo>
                <a:lnTo>
                  <a:pt x="20" y="2"/>
                </a:lnTo>
                <a:lnTo>
                  <a:pt x="22" y="5"/>
                </a:lnTo>
                <a:lnTo>
                  <a:pt x="24" y="8"/>
                </a:lnTo>
                <a:lnTo>
                  <a:pt x="26" y="14"/>
                </a:lnTo>
                <a:lnTo>
                  <a:pt x="26" y="18"/>
                </a:lnTo>
                <a:lnTo>
                  <a:pt x="26" y="101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48"/>
          <p:cNvSpPr/>
          <p:nvPr/>
        </p:nvSpPr>
        <p:spPr>
          <a:xfrm>
            <a:off x="5630760" y="3449520"/>
            <a:ext cx="108000" cy="200160"/>
          </a:xfrm>
          <a:custGeom>
            <a:avLst/>
            <a:gdLst>
              <a:gd name="textAreaLeft" fmla="*/ 0 w 108000"/>
              <a:gd name="textAreaRight" fmla="*/ 108360 w 108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68" h="126">
                <a:moveTo>
                  <a:pt x="0" y="126"/>
                </a:moveTo>
                <a:lnTo>
                  <a:pt x="0" y="40"/>
                </a:lnTo>
                <a:lnTo>
                  <a:pt x="0" y="33"/>
                </a:lnTo>
                <a:lnTo>
                  <a:pt x="1" y="26"/>
                </a:lnTo>
                <a:lnTo>
                  <a:pt x="4" y="18"/>
                </a:lnTo>
                <a:lnTo>
                  <a:pt x="7" y="13"/>
                </a:lnTo>
                <a:lnTo>
                  <a:pt x="12" y="8"/>
                </a:lnTo>
                <a:lnTo>
                  <a:pt x="17" y="4"/>
                </a:lnTo>
                <a:lnTo>
                  <a:pt x="23" y="2"/>
                </a:lnTo>
                <a:lnTo>
                  <a:pt x="30" y="0"/>
                </a:lnTo>
                <a:lnTo>
                  <a:pt x="38" y="0"/>
                </a:lnTo>
                <a:lnTo>
                  <a:pt x="43" y="1"/>
                </a:lnTo>
                <a:lnTo>
                  <a:pt x="48" y="2"/>
                </a:lnTo>
                <a:lnTo>
                  <a:pt x="53" y="5"/>
                </a:lnTo>
                <a:lnTo>
                  <a:pt x="59" y="9"/>
                </a:lnTo>
                <a:lnTo>
                  <a:pt x="62" y="13"/>
                </a:lnTo>
                <a:lnTo>
                  <a:pt x="65" y="18"/>
                </a:lnTo>
                <a:lnTo>
                  <a:pt x="66" y="23"/>
                </a:lnTo>
                <a:lnTo>
                  <a:pt x="67" y="29"/>
                </a:lnTo>
                <a:lnTo>
                  <a:pt x="68" y="37"/>
                </a:lnTo>
                <a:lnTo>
                  <a:pt x="68" y="44"/>
                </a:lnTo>
                <a:lnTo>
                  <a:pt x="68" y="120"/>
                </a:lnTo>
                <a:lnTo>
                  <a:pt x="0" y="126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49"/>
          <p:cNvSpPr/>
          <p:nvPr/>
        </p:nvSpPr>
        <p:spPr>
          <a:xfrm>
            <a:off x="5684760" y="3449520"/>
            <a:ext cx="360" cy="193680"/>
          </a:xfrm>
          <a:custGeom>
            <a:avLst/>
            <a:gdLst/>
            <a:ahLst/>
            <a:rect l="l" t="t" r="r" b="b"/>
            <a:pathLst>
              <a:path w="0" h="122">
                <a:moveTo>
                  <a:pt x="0" y="0"/>
                </a:moveTo>
                <a:lnTo>
                  <a:pt x="0" y="122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50"/>
          <p:cNvSpPr/>
          <p:nvPr/>
        </p:nvSpPr>
        <p:spPr>
          <a:xfrm>
            <a:off x="5676840" y="3551400"/>
            <a:ext cx="36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0"/>
                </a:moveTo>
                <a:lnTo>
                  <a:pt x="0" y="11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51"/>
          <p:cNvSpPr/>
          <p:nvPr/>
        </p:nvSpPr>
        <p:spPr>
          <a:xfrm>
            <a:off x="5694480" y="3549600"/>
            <a:ext cx="360" cy="1908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52"/>
          <p:cNvSpPr/>
          <p:nvPr/>
        </p:nvSpPr>
        <p:spPr>
          <a:xfrm>
            <a:off x="5629320" y="3290760"/>
            <a:ext cx="30240" cy="111240"/>
          </a:xfrm>
          <a:custGeom>
            <a:avLst/>
            <a:gdLst>
              <a:gd name="textAreaLeft" fmla="*/ 0 w 30240"/>
              <a:gd name="textAreaRight" fmla="*/ 30600 w 302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9" h="70">
                <a:moveTo>
                  <a:pt x="0" y="70"/>
                </a:moveTo>
                <a:lnTo>
                  <a:pt x="0" y="10"/>
                </a:lnTo>
                <a:lnTo>
                  <a:pt x="0" y="6"/>
                </a:lnTo>
                <a:lnTo>
                  <a:pt x="2" y="3"/>
                </a:lnTo>
                <a:lnTo>
                  <a:pt x="5" y="1"/>
                </a:lnTo>
                <a:lnTo>
                  <a:pt x="7" y="0"/>
                </a:lnTo>
                <a:lnTo>
                  <a:pt x="11" y="0"/>
                </a:lnTo>
                <a:lnTo>
                  <a:pt x="14" y="1"/>
                </a:lnTo>
                <a:lnTo>
                  <a:pt x="17" y="2"/>
                </a:lnTo>
                <a:lnTo>
                  <a:pt x="18" y="4"/>
                </a:lnTo>
                <a:lnTo>
                  <a:pt x="19" y="7"/>
                </a:lnTo>
                <a:lnTo>
                  <a:pt x="19" y="9"/>
                </a:lnTo>
                <a:lnTo>
                  <a:pt x="19" y="70"/>
                </a:lnTo>
                <a:lnTo>
                  <a:pt x="0" y="70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53"/>
          <p:cNvSpPr/>
          <p:nvPr/>
        </p:nvSpPr>
        <p:spPr>
          <a:xfrm>
            <a:off x="5711760" y="3287880"/>
            <a:ext cx="31680" cy="112680"/>
          </a:xfrm>
          <a:custGeom>
            <a:avLst/>
            <a:gdLst>
              <a:gd name="textAreaLeft" fmla="*/ 0 w 31680"/>
              <a:gd name="textAreaRight" fmla="*/ 32040 w 31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0" h="71">
                <a:moveTo>
                  <a:pt x="0" y="71"/>
                </a:moveTo>
                <a:lnTo>
                  <a:pt x="0" y="10"/>
                </a:lnTo>
                <a:lnTo>
                  <a:pt x="1" y="6"/>
                </a:lnTo>
                <a:lnTo>
                  <a:pt x="3" y="3"/>
                </a:lnTo>
                <a:lnTo>
                  <a:pt x="5" y="1"/>
                </a:lnTo>
                <a:lnTo>
                  <a:pt x="9" y="0"/>
                </a:lnTo>
                <a:lnTo>
                  <a:pt x="13" y="1"/>
                </a:lnTo>
                <a:lnTo>
                  <a:pt x="16" y="2"/>
                </a:lnTo>
                <a:lnTo>
                  <a:pt x="17" y="4"/>
                </a:lnTo>
                <a:lnTo>
                  <a:pt x="19" y="6"/>
                </a:lnTo>
                <a:lnTo>
                  <a:pt x="20" y="10"/>
                </a:lnTo>
                <a:lnTo>
                  <a:pt x="20" y="70"/>
                </a:lnTo>
                <a:lnTo>
                  <a:pt x="0" y="71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54"/>
          <p:cNvSpPr/>
          <p:nvPr/>
        </p:nvSpPr>
        <p:spPr>
          <a:xfrm>
            <a:off x="5667480" y="3263760"/>
            <a:ext cx="38160" cy="138240"/>
          </a:xfrm>
          <a:custGeom>
            <a:avLst/>
            <a:gdLst>
              <a:gd name="textAreaLeft" fmla="*/ 0 w 38160"/>
              <a:gd name="textAreaRight" fmla="*/ 38520 w 38160"/>
              <a:gd name="textAreaTop" fmla="*/ 0 h 138240"/>
              <a:gd name="textAreaBottom" fmla="*/ 138240 h 138240"/>
            </a:gdLst>
            <a:ahLst/>
            <a:rect l="textAreaLeft" t="textAreaTop" r="textAreaRight" b="textAreaBottom"/>
            <a:pathLst>
              <a:path w="24" h="87">
                <a:moveTo>
                  <a:pt x="0" y="87"/>
                </a:moveTo>
                <a:lnTo>
                  <a:pt x="0" y="12"/>
                </a:lnTo>
                <a:lnTo>
                  <a:pt x="1" y="8"/>
                </a:lnTo>
                <a:lnTo>
                  <a:pt x="2" y="5"/>
                </a:lnTo>
                <a:lnTo>
                  <a:pt x="4" y="3"/>
                </a:lnTo>
                <a:lnTo>
                  <a:pt x="7" y="1"/>
                </a:lnTo>
                <a:lnTo>
                  <a:pt x="10" y="0"/>
                </a:lnTo>
                <a:lnTo>
                  <a:pt x="13" y="0"/>
                </a:lnTo>
                <a:lnTo>
                  <a:pt x="18" y="1"/>
                </a:lnTo>
                <a:lnTo>
                  <a:pt x="20" y="3"/>
                </a:lnTo>
                <a:lnTo>
                  <a:pt x="22" y="5"/>
                </a:lnTo>
                <a:lnTo>
                  <a:pt x="23" y="8"/>
                </a:lnTo>
                <a:lnTo>
                  <a:pt x="24" y="12"/>
                </a:lnTo>
                <a:lnTo>
                  <a:pt x="24" y="86"/>
                </a:lnTo>
                <a:lnTo>
                  <a:pt x="0" y="8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55"/>
          <p:cNvSpPr/>
          <p:nvPr/>
        </p:nvSpPr>
        <p:spPr>
          <a:xfrm>
            <a:off x="5630760" y="3621240"/>
            <a:ext cx="36720" cy="33120"/>
          </a:xfrm>
          <a:custGeom>
            <a:avLst/>
            <a:gdLst>
              <a:gd name="textAreaLeft" fmla="*/ 0 w 36720"/>
              <a:gd name="textAreaRight" fmla="*/ 37080 w 36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3" h="21">
                <a:moveTo>
                  <a:pt x="0" y="0"/>
                </a:moveTo>
                <a:lnTo>
                  <a:pt x="0" y="17"/>
                </a:lnTo>
                <a:lnTo>
                  <a:pt x="21" y="21"/>
                </a:lnTo>
                <a:lnTo>
                  <a:pt x="23" y="2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56"/>
          <p:cNvSpPr/>
          <p:nvPr/>
        </p:nvSpPr>
        <p:spPr>
          <a:xfrm>
            <a:off x="5630760" y="3614760"/>
            <a:ext cx="141480" cy="39600"/>
          </a:xfrm>
          <a:custGeom>
            <a:avLst/>
            <a:gdLst>
              <a:gd name="textAreaLeft" fmla="*/ 0 w 141480"/>
              <a:gd name="textAreaRight" fmla="*/ 141840 w 1414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9" h="25">
                <a:moveTo>
                  <a:pt x="0" y="4"/>
                </a:moveTo>
                <a:lnTo>
                  <a:pt x="68" y="0"/>
                </a:lnTo>
                <a:lnTo>
                  <a:pt x="79" y="2"/>
                </a:lnTo>
                <a:lnTo>
                  <a:pt x="79" y="8"/>
                </a:lnTo>
                <a:lnTo>
                  <a:pt x="89" y="11"/>
                </a:lnTo>
                <a:lnTo>
                  <a:pt x="89" y="20"/>
                </a:lnTo>
                <a:lnTo>
                  <a:pt x="21" y="25"/>
                </a:lnTo>
                <a:lnTo>
                  <a:pt x="21" y="15"/>
                </a:lnTo>
                <a:lnTo>
                  <a:pt x="12" y="13"/>
                </a:lnTo>
                <a:lnTo>
                  <a:pt x="12" y="6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57"/>
          <p:cNvSpPr/>
          <p:nvPr/>
        </p:nvSpPr>
        <p:spPr>
          <a:xfrm>
            <a:off x="5664240" y="3632040"/>
            <a:ext cx="108000" cy="648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8" h="4">
                <a:moveTo>
                  <a:pt x="0" y="4"/>
                </a:moveTo>
                <a:lnTo>
                  <a:pt x="68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58"/>
          <p:cNvSpPr/>
          <p:nvPr/>
        </p:nvSpPr>
        <p:spPr>
          <a:xfrm>
            <a:off x="5649840" y="3629160"/>
            <a:ext cx="106560" cy="6120"/>
          </a:xfrm>
          <a:custGeom>
            <a:avLst/>
            <a:gdLst>
              <a:gd name="textAreaLeft" fmla="*/ 0 w 106560"/>
              <a:gd name="textAreaRight" fmla="*/ 106920 w 106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67" h="4">
                <a:moveTo>
                  <a:pt x="0" y="4"/>
                </a:moveTo>
                <a:lnTo>
                  <a:pt x="67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59"/>
          <p:cNvSpPr/>
          <p:nvPr/>
        </p:nvSpPr>
        <p:spPr>
          <a:xfrm>
            <a:off x="5649840" y="3618000"/>
            <a:ext cx="103320" cy="6120"/>
          </a:xfrm>
          <a:custGeom>
            <a:avLst/>
            <a:gdLst>
              <a:gd name="textAreaLeft" fmla="*/ 0 w 103320"/>
              <a:gd name="textAreaRight" fmla="*/ 103680 w 1033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65" h="4">
                <a:moveTo>
                  <a:pt x="0" y="4"/>
                </a:moveTo>
                <a:lnTo>
                  <a:pt x="65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60"/>
          <p:cNvSpPr/>
          <p:nvPr/>
        </p:nvSpPr>
        <p:spPr>
          <a:xfrm>
            <a:off x="4676760" y="3798720"/>
            <a:ext cx="136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ito el Jus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61"/>
          <p:cNvSpPr/>
          <p:nvPr/>
        </p:nvSpPr>
        <p:spPr>
          <a:xfrm>
            <a:off x="5435640" y="2695680"/>
            <a:ext cx="360" cy="214200"/>
          </a:xfrm>
          <a:custGeom>
            <a:avLst/>
            <a:gdLst/>
            <a:ahLst/>
            <a:rect l="l" t="t" r="r" b="b"/>
            <a:pathLst>
              <a:path w="0" h="135">
                <a:moveTo>
                  <a:pt x="0" y="0"/>
                </a:moveTo>
                <a:lnTo>
                  <a:pt x="0" y="12"/>
                </a:lnTo>
                <a:lnTo>
                  <a:pt x="0" y="135"/>
                </a:lnTo>
              </a:path>
            </a:pathLst>
          </a:custGeom>
          <a:noFill/>
          <a:ln w="50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62"/>
          <p:cNvSpPr/>
          <p:nvPr/>
        </p:nvSpPr>
        <p:spPr>
          <a:xfrm rot="5340000">
            <a:off x="1522080" y="3819240"/>
            <a:ext cx="727200" cy="730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31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63"/>
          <p:cNvSpPr/>
          <p:nvPr/>
        </p:nvSpPr>
        <p:spPr>
          <a:xfrm>
            <a:off x="1603440" y="4105440"/>
            <a:ext cx="682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b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64"/>
          <p:cNvSpPr/>
          <p:nvPr/>
        </p:nvSpPr>
        <p:spPr>
          <a:xfrm>
            <a:off x="4695840" y="4297320"/>
            <a:ext cx="1440000" cy="116064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65"/>
          <p:cNvSpPr/>
          <p:nvPr/>
        </p:nvSpPr>
        <p:spPr>
          <a:xfrm rot="5340000">
            <a:off x="5015880" y="4520880"/>
            <a:ext cx="727200" cy="730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312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66"/>
          <p:cNvSpPr/>
          <p:nvPr/>
        </p:nvSpPr>
        <p:spPr>
          <a:xfrm>
            <a:off x="5076720" y="4778280"/>
            <a:ext cx="64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ol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67"/>
          <p:cNvSpPr/>
          <p:nvPr/>
        </p:nvSpPr>
        <p:spPr>
          <a:xfrm>
            <a:off x="4338720" y="4156200"/>
            <a:ext cx="2425680" cy="1908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528" h="12">
                <a:moveTo>
                  <a:pt x="0" y="0"/>
                </a:moveTo>
                <a:lnTo>
                  <a:pt x="1528" y="12"/>
                </a:lnTo>
              </a:path>
            </a:pathLst>
          </a:custGeom>
          <a:noFill/>
          <a:ln w="50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68"/>
          <p:cNvSpPr/>
          <p:nvPr/>
        </p:nvSpPr>
        <p:spPr>
          <a:xfrm>
            <a:off x="6491160" y="2773440"/>
            <a:ext cx="273240" cy="1401840"/>
          </a:xfrm>
          <a:custGeom>
            <a:avLst/>
            <a:gdLst>
              <a:gd name="textAreaLeft" fmla="*/ 0 w 273240"/>
              <a:gd name="textAreaRight" fmla="*/ 273600 w 27324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172" h="883">
                <a:moveTo>
                  <a:pt x="0" y="883"/>
                </a:moveTo>
                <a:lnTo>
                  <a:pt x="0" y="0"/>
                </a:lnTo>
                <a:lnTo>
                  <a:pt x="172" y="0"/>
                </a:lnTo>
              </a:path>
            </a:pathLst>
          </a:custGeom>
          <a:noFill/>
          <a:ln w="50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69"/>
          <p:cNvSpPr/>
          <p:nvPr/>
        </p:nvSpPr>
        <p:spPr>
          <a:xfrm>
            <a:off x="6727680" y="2128680"/>
            <a:ext cx="1446480" cy="117180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70"/>
          <p:cNvSpPr/>
          <p:nvPr/>
        </p:nvSpPr>
        <p:spPr>
          <a:xfrm>
            <a:off x="6934320" y="2362320"/>
            <a:ext cx="723960" cy="525240"/>
          </a:xfrm>
          <a:custGeom>
            <a:avLst/>
            <a:gdLst>
              <a:gd name="textAreaLeft" fmla="*/ 0 w 723960"/>
              <a:gd name="textAreaRight" fmla="*/ 724320 w 72396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456" h="331">
                <a:moveTo>
                  <a:pt x="0" y="107"/>
                </a:moveTo>
                <a:lnTo>
                  <a:pt x="0" y="289"/>
                </a:lnTo>
                <a:lnTo>
                  <a:pt x="259" y="331"/>
                </a:lnTo>
                <a:lnTo>
                  <a:pt x="379" y="322"/>
                </a:lnTo>
                <a:lnTo>
                  <a:pt x="456" y="0"/>
                </a:lnTo>
                <a:lnTo>
                  <a:pt x="0" y="107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71"/>
          <p:cNvSpPr/>
          <p:nvPr/>
        </p:nvSpPr>
        <p:spPr>
          <a:xfrm>
            <a:off x="6934320" y="2465280"/>
            <a:ext cx="412560" cy="390600"/>
          </a:xfrm>
          <a:custGeom>
            <a:avLst/>
            <a:gdLst>
              <a:gd name="textAreaLeft" fmla="*/ 0 w 412560"/>
              <a:gd name="textAreaRight" fmla="*/ 412920 w 4125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60" h="246">
                <a:moveTo>
                  <a:pt x="0" y="42"/>
                </a:moveTo>
                <a:lnTo>
                  <a:pt x="0" y="224"/>
                </a:lnTo>
                <a:lnTo>
                  <a:pt x="130" y="246"/>
                </a:lnTo>
                <a:lnTo>
                  <a:pt x="158" y="229"/>
                </a:lnTo>
                <a:lnTo>
                  <a:pt x="171" y="219"/>
                </a:lnTo>
                <a:lnTo>
                  <a:pt x="184" y="207"/>
                </a:lnTo>
                <a:lnTo>
                  <a:pt x="195" y="193"/>
                </a:lnTo>
                <a:lnTo>
                  <a:pt x="207" y="175"/>
                </a:lnTo>
                <a:lnTo>
                  <a:pt x="243" y="108"/>
                </a:lnTo>
                <a:lnTo>
                  <a:pt x="248" y="100"/>
                </a:lnTo>
                <a:lnTo>
                  <a:pt x="253" y="92"/>
                </a:lnTo>
                <a:lnTo>
                  <a:pt x="260" y="85"/>
                </a:lnTo>
                <a:lnTo>
                  <a:pt x="259" y="0"/>
                </a:lnTo>
                <a:lnTo>
                  <a:pt x="0" y="4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72"/>
          <p:cNvSpPr/>
          <p:nvPr/>
        </p:nvSpPr>
        <p:spPr>
          <a:xfrm>
            <a:off x="7259760" y="2584440"/>
            <a:ext cx="46080" cy="187200"/>
          </a:xfrm>
          <a:custGeom>
            <a:avLst/>
            <a:gdLst>
              <a:gd name="textAreaLeft" fmla="*/ 0 w 46080"/>
              <a:gd name="textAreaRight" fmla="*/ 46440 w 460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9" h="118">
                <a:moveTo>
                  <a:pt x="0" y="117"/>
                </a:moveTo>
                <a:lnTo>
                  <a:pt x="29" y="118"/>
                </a:lnTo>
                <a:lnTo>
                  <a:pt x="29" y="17"/>
                </a:lnTo>
                <a:lnTo>
                  <a:pt x="29" y="14"/>
                </a:lnTo>
                <a:lnTo>
                  <a:pt x="28" y="12"/>
                </a:lnTo>
                <a:lnTo>
                  <a:pt x="28" y="9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1"/>
                </a:lnTo>
                <a:lnTo>
                  <a:pt x="18" y="0"/>
                </a:lnTo>
                <a:lnTo>
                  <a:pt x="16" y="0"/>
                </a:lnTo>
                <a:lnTo>
                  <a:pt x="12" y="0"/>
                </a:lnTo>
                <a:lnTo>
                  <a:pt x="10" y="1"/>
                </a:lnTo>
                <a:lnTo>
                  <a:pt x="8" y="1"/>
                </a:lnTo>
                <a:lnTo>
                  <a:pt x="5" y="3"/>
                </a:lnTo>
                <a:lnTo>
                  <a:pt x="3" y="5"/>
                </a:lnTo>
                <a:lnTo>
                  <a:pt x="2" y="8"/>
                </a:lnTo>
                <a:lnTo>
                  <a:pt x="1" y="11"/>
                </a:lnTo>
                <a:lnTo>
                  <a:pt x="0" y="15"/>
                </a:lnTo>
                <a:lnTo>
                  <a:pt x="0" y="18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73"/>
          <p:cNvSpPr/>
          <p:nvPr/>
        </p:nvSpPr>
        <p:spPr>
          <a:xfrm>
            <a:off x="7170840" y="2585880"/>
            <a:ext cx="41040" cy="181080"/>
          </a:xfrm>
          <a:custGeom>
            <a:avLst/>
            <a:gdLst>
              <a:gd name="textAreaLeft" fmla="*/ 0 w 41040"/>
              <a:gd name="textAreaRight" fmla="*/ 41400 w 410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6" h="114">
                <a:moveTo>
                  <a:pt x="0" y="112"/>
                </a:moveTo>
                <a:lnTo>
                  <a:pt x="26" y="114"/>
                </a:lnTo>
                <a:lnTo>
                  <a:pt x="26" y="18"/>
                </a:lnTo>
                <a:lnTo>
                  <a:pt x="26" y="12"/>
                </a:lnTo>
                <a:lnTo>
                  <a:pt x="24" y="7"/>
                </a:lnTo>
                <a:lnTo>
                  <a:pt x="21" y="3"/>
                </a:lnTo>
                <a:lnTo>
                  <a:pt x="19" y="1"/>
                </a:lnTo>
                <a:lnTo>
                  <a:pt x="15" y="0"/>
                </a:lnTo>
                <a:lnTo>
                  <a:pt x="11" y="0"/>
                </a:lnTo>
                <a:lnTo>
                  <a:pt x="8" y="1"/>
                </a:lnTo>
                <a:lnTo>
                  <a:pt x="5" y="3"/>
                </a:lnTo>
                <a:lnTo>
                  <a:pt x="2" y="5"/>
                </a:lnTo>
                <a:lnTo>
                  <a:pt x="1" y="9"/>
                </a:lnTo>
                <a:lnTo>
                  <a:pt x="0" y="14"/>
                </a:lnTo>
                <a:lnTo>
                  <a:pt x="0" y="18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74"/>
          <p:cNvSpPr/>
          <p:nvPr/>
        </p:nvSpPr>
        <p:spPr>
          <a:xfrm>
            <a:off x="7072200" y="2589120"/>
            <a:ext cx="39960" cy="171720"/>
          </a:xfrm>
          <a:custGeom>
            <a:avLst/>
            <a:gdLst>
              <a:gd name="textAreaLeft" fmla="*/ 0 w 39960"/>
              <a:gd name="textAreaRight" fmla="*/ 40320 w 39960"/>
              <a:gd name="textAreaTop" fmla="*/ 0 h 171720"/>
              <a:gd name="textAreaBottom" fmla="*/ 171720 h 171720"/>
            </a:gdLst>
            <a:ahLst/>
            <a:rect l="textAreaLeft" t="textAreaTop" r="textAreaRight" b="textAreaBottom"/>
            <a:pathLst>
              <a:path w="25" h="108">
                <a:moveTo>
                  <a:pt x="0" y="107"/>
                </a:moveTo>
                <a:lnTo>
                  <a:pt x="25" y="108"/>
                </a:lnTo>
                <a:lnTo>
                  <a:pt x="25" y="15"/>
                </a:lnTo>
                <a:lnTo>
                  <a:pt x="25" y="12"/>
                </a:lnTo>
                <a:lnTo>
                  <a:pt x="24" y="7"/>
                </a:lnTo>
                <a:lnTo>
                  <a:pt x="21" y="3"/>
                </a:lnTo>
                <a:lnTo>
                  <a:pt x="19" y="1"/>
                </a:lnTo>
                <a:lnTo>
                  <a:pt x="16" y="0"/>
                </a:lnTo>
                <a:lnTo>
                  <a:pt x="11" y="0"/>
                </a:lnTo>
                <a:lnTo>
                  <a:pt x="8" y="1"/>
                </a:lnTo>
                <a:lnTo>
                  <a:pt x="5" y="3"/>
                </a:lnTo>
                <a:lnTo>
                  <a:pt x="2" y="6"/>
                </a:lnTo>
                <a:lnTo>
                  <a:pt x="1" y="11"/>
                </a:lnTo>
                <a:lnTo>
                  <a:pt x="0" y="13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75"/>
          <p:cNvSpPr/>
          <p:nvPr/>
        </p:nvSpPr>
        <p:spPr>
          <a:xfrm>
            <a:off x="6985080" y="2590920"/>
            <a:ext cx="38160" cy="164880"/>
          </a:xfrm>
          <a:custGeom>
            <a:avLst/>
            <a:gdLst>
              <a:gd name="textAreaLeft" fmla="*/ 0 w 38160"/>
              <a:gd name="textAreaRight" fmla="*/ 38520 w 3816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4" h="104">
                <a:moveTo>
                  <a:pt x="0" y="102"/>
                </a:moveTo>
                <a:lnTo>
                  <a:pt x="24" y="104"/>
                </a:lnTo>
                <a:lnTo>
                  <a:pt x="24" y="15"/>
                </a:lnTo>
                <a:lnTo>
                  <a:pt x="24" y="11"/>
                </a:lnTo>
                <a:lnTo>
                  <a:pt x="22" y="7"/>
                </a:lnTo>
                <a:lnTo>
                  <a:pt x="21" y="5"/>
                </a:lnTo>
                <a:lnTo>
                  <a:pt x="19" y="2"/>
                </a:lnTo>
                <a:lnTo>
                  <a:pt x="16" y="1"/>
                </a:lnTo>
                <a:lnTo>
                  <a:pt x="14" y="0"/>
                </a:lnTo>
                <a:lnTo>
                  <a:pt x="9" y="0"/>
                </a:lnTo>
                <a:lnTo>
                  <a:pt x="6" y="2"/>
                </a:lnTo>
                <a:lnTo>
                  <a:pt x="4" y="4"/>
                </a:lnTo>
                <a:lnTo>
                  <a:pt x="2" y="8"/>
                </a:lnTo>
                <a:lnTo>
                  <a:pt x="1" y="11"/>
                </a:lnTo>
                <a:lnTo>
                  <a:pt x="0" y="15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76"/>
          <p:cNvSpPr/>
          <p:nvPr/>
        </p:nvSpPr>
        <p:spPr>
          <a:xfrm>
            <a:off x="7346880" y="2527200"/>
            <a:ext cx="204840" cy="362160"/>
          </a:xfrm>
          <a:custGeom>
            <a:avLst/>
            <a:gdLst>
              <a:gd name="textAreaLeft" fmla="*/ 0 w 204840"/>
              <a:gd name="textAreaRight" fmla="*/ 205200 w 20484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129" h="228">
                <a:moveTo>
                  <a:pt x="75" y="0"/>
                </a:moveTo>
                <a:lnTo>
                  <a:pt x="0" y="177"/>
                </a:lnTo>
                <a:lnTo>
                  <a:pt x="0" y="228"/>
                </a:lnTo>
                <a:lnTo>
                  <a:pt x="129" y="217"/>
                </a:lnTo>
                <a:lnTo>
                  <a:pt x="75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77"/>
          <p:cNvSpPr/>
          <p:nvPr/>
        </p:nvSpPr>
        <p:spPr>
          <a:xfrm>
            <a:off x="7346880" y="2505240"/>
            <a:ext cx="360" cy="382320"/>
          </a:xfrm>
          <a:custGeom>
            <a:avLst/>
            <a:gdLst/>
            <a:ahLst/>
            <a:rect l="l" t="t" r="r" b="b"/>
            <a:pathLst>
              <a:path w="0" h="241">
                <a:moveTo>
                  <a:pt x="0" y="241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78"/>
          <p:cNvSpPr/>
          <p:nvPr/>
        </p:nvSpPr>
        <p:spPr>
          <a:xfrm>
            <a:off x="6934320" y="2776680"/>
            <a:ext cx="647640" cy="41040"/>
          </a:xfrm>
          <a:custGeom>
            <a:avLst/>
            <a:gdLst>
              <a:gd name="textAreaLeft" fmla="*/ 0 w 647640"/>
              <a:gd name="textAreaRight" fmla="*/ 648000 w 64764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408" h="26">
                <a:moveTo>
                  <a:pt x="0" y="0"/>
                </a:moveTo>
                <a:lnTo>
                  <a:pt x="259" y="26"/>
                </a:lnTo>
                <a:lnTo>
                  <a:pt x="408" y="14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79"/>
          <p:cNvSpPr/>
          <p:nvPr/>
        </p:nvSpPr>
        <p:spPr>
          <a:xfrm>
            <a:off x="6934320" y="2532240"/>
            <a:ext cx="799920" cy="355320"/>
          </a:xfrm>
          <a:custGeom>
            <a:avLst/>
            <a:gdLst>
              <a:gd name="textAreaLeft" fmla="*/ 0 w 799920"/>
              <a:gd name="textAreaRight" fmla="*/ 800280 w 7999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504" h="224">
                <a:moveTo>
                  <a:pt x="0" y="0"/>
                </a:moveTo>
                <a:lnTo>
                  <a:pt x="0" y="182"/>
                </a:lnTo>
                <a:lnTo>
                  <a:pt x="259" y="224"/>
                </a:lnTo>
                <a:lnTo>
                  <a:pt x="504" y="205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80"/>
          <p:cNvSpPr/>
          <p:nvPr/>
        </p:nvSpPr>
        <p:spPr>
          <a:xfrm>
            <a:off x="7485120" y="2290680"/>
            <a:ext cx="128520" cy="209520"/>
          </a:xfrm>
          <a:custGeom>
            <a:avLst/>
            <a:gdLst>
              <a:gd name="textAreaLeft" fmla="*/ 0 w 128520"/>
              <a:gd name="textAreaRight" fmla="*/ 128880 w 128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81" h="132">
                <a:moveTo>
                  <a:pt x="0" y="15"/>
                </a:moveTo>
                <a:lnTo>
                  <a:pt x="0" y="57"/>
                </a:lnTo>
                <a:lnTo>
                  <a:pt x="42" y="57"/>
                </a:lnTo>
                <a:lnTo>
                  <a:pt x="42" y="132"/>
                </a:lnTo>
                <a:lnTo>
                  <a:pt x="72" y="75"/>
                </a:lnTo>
                <a:lnTo>
                  <a:pt x="77" y="63"/>
                </a:lnTo>
                <a:lnTo>
                  <a:pt x="80" y="56"/>
                </a:lnTo>
                <a:lnTo>
                  <a:pt x="81" y="48"/>
                </a:lnTo>
                <a:lnTo>
                  <a:pt x="81" y="0"/>
                </a:lnTo>
                <a:lnTo>
                  <a:pt x="0" y="1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81"/>
          <p:cNvSpPr/>
          <p:nvPr/>
        </p:nvSpPr>
        <p:spPr>
          <a:xfrm>
            <a:off x="7613640" y="2290680"/>
            <a:ext cx="360" cy="195480"/>
          </a:xfrm>
          <a:custGeom>
            <a:avLst/>
            <a:gdLst/>
            <a:ahLst/>
            <a:rect l="l" t="t" r="r" b="b"/>
            <a:pathLst>
              <a:path w="0" h="123">
                <a:moveTo>
                  <a:pt x="0" y="0"/>
                </a:moveTo>
                <a:lnTo>
                  <a:pt x="0" y="123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82"/>
          <p:cNvSpPr/>
          <p:nvPr/>
        </p:nvSpPr>
        <p:spPr>
          <a:xfrm>
            <a:off x="7485120" y="2314440"/>
            <a:ext cx="66600" cy="185760"/>
          </a:xfrm>
          <a:custGeom>
            <a:avLst/>
            <a:gdLst>
              <a:gd name="textAreaLeft" fmla="*/ 0 w 66600"/>
              <a:gd name="textAreaRight" fmla="*/ 66960 w 6660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42" h="117">
                <a:moveTo>
                  <a:pt x="0" y="0"/>
                </a:moveTo>
                <a:lnTo>
                  <a:pt x="0" y="42"/>
                </a:lnTo>
                <a:lnTo>
                  <a:pt x="42" y="42"/>
                </a:lnTo>
                <a:lnTo>
                  <a:pt x="42" y="117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83"/>
          <p:cNvSpPr/>
          <p:nvPr/>
        </p:nvSpPr>
        <p:spPr>
          <a:xfrm>
            <a:off x="6916680" y="2379600"/>
            <a:ext cx="644760" cy="174600"/>
          </a:xfrm>
          <a:custGeom>
            <a:avLst/>
            <a:gdLst>
              <a:gd name="textAreaLeft" fmla="*/ 0 w 644760"/>
              <a:gd name="textAreaRight" fmla="*/ 645120 w 644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406" h="110">
                <a:moveTo>
                  <a:pt x="406" y="0"/>
                </a:moveTo>
                <a:lnTo>
                  <a:pt x="400" y="12"/>
                </a:lnTo>
                <a:lnTo>
                  <a:pt x="271" y="99"/>
                </a:lnTo>
                <a:lnTo>
                  <a:pt x="11" y="110"/>
                </a:lnTo>
                <a:lnTo>
                  <a:pt x="0" y="105"/>
                </a:lnTo>
                <a:lnTo>
                  <a:pt x="406" y="0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84"/>
          <p:cNvSpPr/>
          <p:nvPr/>
        </p:nvSpPr>
        <p:spPr>
          <a:xfrm>
            <a:off x="6916680" y="2362320"/>
            <a:ext cx="642960" cy="183960"/>
          </a:xfrm>
          <a:custGeom>
            <a:avLst/>
            <a:gdLst>
              <a:gd name="textAreaLeft" fmla="*/ 0 w 642960"/>
              <a:gd name="textAreaRight" fmla="*/ 643320 w 642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05" h="116">
                <a:moveTo>
                  <a:pt x="0" y="116"/>
                </a:moveTo>
                <a:lnTo>
                  <a:pt x="267" y="102"/>
                </a:lnTo>
                <a:lnTo>
                  <a:pt x="405" y="12"/>
                </a:lnTo>
                <a:lnTo>
                  <a:pt x="405" y="0"/>
                </a:lnTo>
                <a:lnTo>
                  <a:pt x="0" y="105"/>
                </a:lnTo>
                <a:lnTo>
                  <a:pt x="0" y="116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85"/>
          <p:cNvSpPr/>
          <p:nvPr/>
        </p:nvSpPr>
        <p:spPr>
          <a:xfrm>
            <a:off x="7340760" y="2492280"/>
            <a:ext cx="360" cy="31680"/>
          </a:xfrm>
          <a:custGeom>
            <a:avLst/>
            <a:gdLst/>
            <a:ahLst/>
            <a:rect l="l" t="t" r="r" b="b"/>
            <a:pathLst>
              <a:path w="0" h="20">
                <a:moveTo>
                  <a:pt x="0" y="20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86"/>
          <p:cNvSpPr/>
          <p:nvPr/>
        </p:nvSpPr>
        <p:spPr>
          <a:xfrm>
            <a:off x="6916680" y="2509920"/>
            <a:ext cx="343080" cy="36360"/>
          </a:xfrm>
          <a:custGeom>
            <a:avLst/>
            <a:gdLst>
              <a:gd name="textAreaLeft" fmla="*/ 0 w 343080"/>
              <a:gd name="textAreaRight" fmla="*/ 343440 w 3430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16" h="23">
                <a:moveTo>
                  <a:pt x="0" y="12"/>
                </a:moveTo>
                <a:lnTo>
                  <a:pt x="0" y="23"/>
                </a:lnTo>
                <a:lnTo>
                  <a:pt x="207" y="12"/>
                </a:lnTo>
                <a:lnTo>
                  <a:pt x="210" y="6"/>
                </a:lnTo>
                <a:lnTo>
                  <a:pt x="216" y="0"/>
                </a:lnTo>
                <a:lnTo>
                  <a:pt x="0" y="1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87"/>
          <p:cNvSpPr/>
          <p:nvPr/>
        </p:nvSpPr>
        <p:spPr>
          <a:xfrm>
            <a:off x="6916680" y="2362320"/>
            <a:ext cx="642960" cy="183960"/>
          </a:xfrm>
          <a:custGeom>
            <a:avLst/>
            <a:gdLst>
              <a:gd name="textAreaLeft" fmla="*/ 0 w 642960"/>
              <a:gd name="textAreaRight" fmla="*/ 643320 w 642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05" h="116">
                <a:moveTo>
                  <a:pt x="0" y="116"/>
                </a:moveTo>
                <a:lnTo>
                  <a:pt x="267" y="102"/>
                </a:lnTo>
                <a:lnTo>
                  <a:pt x="405" y="12"/>
                </a:lnTo>
                <a:lnTo>
                  <a:pt x="405" y="0"/>
                </a:lnTo>
                <a:lnTo>
                  <a:pt x="0" y="105"/>
                </a:lnTo>
                <a:lnTo>
                  <a:pt x="0" y="116"/>
                </a:lnTo>
                <a:close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88"/>
          <p:cNvSpPr/>
          <p:nvPr/>
        </p:nvSpPr>
        <p:spPr>
          <a:xfrm>
            <a:off x="6916680" y="2354400"/>
            <a:ext cx="644760" cy="176040"/>
          </a:xfrm>
          <a:custGeom>
            <a:avLst/>
            <a:gdLst>
              <a:gd name="textAreaLeft" fmla="*/ 0 w 644760"/>
              <a:gd name="textAreaRight" fmla="*/ 645120 w 6447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06" h="111">
                <a:moveTo>
                  <a:pt x="358" y="0"/>
                </a:moveTo>
                <a:lnTo>
                  <a:pt x="124" y="33"/>
                </a:lnTo>
                <a:lnTo>
                  <a:pt x="0" y="111"/>
                </a:lnTo>
                <a:lnTo>
                  <a:pt x="267" y="94"/>
                </a:lnTo>
                <a:lnTo>
                  <a:pt x="406" y="5"/>
                </a:lnTo>
                <a:lnTo>
                  <a:pt x="358" y="7"/>
                </a:lnTo>
                <a:lnTo>
                  <a:pt x="358" y="0"/>
                </a:lnTo>
                <a:close/>
              </a:path>
            </a:pathLst>
          </a:custGeom>
          <a:solidFill>
            <a:srgbClr val="000000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89"/>
          <p:cNvSpPr/>
          <p:nvPr/>
        </p:nvSpPr>
        <p:spPr>
          <a:xfrm>
            <a:off x="7461360" y="2421000"/>
            <a:ext cx="403200" cy="476280"/>
          </a:xfrm>
          <a:custGeom>
            <a:avLst/>
            <a:gdLst>
              <a:gd name="textAreaLeft" fmla="*/ 0 w 403200"/>
              <a:gd name="textAreaRight" fmla="*/ 403560 w 4032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4" h="300">
                <a:moveTo>
                  <a:pt x="0" y="65"/>
                </a:moveTo>
                <a:lnTo>
                  <a:pt x="0" y="289"/>
                </a:lnTo>
                <a:lnTo>
                  <a:pt x="68" y="300"/>
                </a:lnTo>
                <a:lnTo>
                  <a:pt x="254" y="285"/>
                </a:lnTo>
                <a:lnTo>
                  <a:pt x="254" y="67"/>
                </a:lnTo>
                <a:lnTo>
                  <a:pt x="170" y="0"/>
                </a:lnTo>
                <a:lnTo>
                  <a:pt x="54" y="59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90"/>
          <p:cNvSpPr/>
          <p:nvPr/>
        </p:nvSpPr>
        <p:spPr>
          <a:xfrm>
            <a:off x="7461360" y="2523960"/>
            <a:ext cx="109440" cy="358920"/>
          </a:xfrm>
          <a:custGeom>
            <a:avLst/>
            <a:gdLst>
              <a:gd name="textAreaLeft" fmla="*/ 0 w 109440"/>
              <a:gd name="textAreaRight" fmla="*/ 109800 w 1094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69" h="226">
                <a:moveTo>
                  <a:pt x="0" y="0"/>
                </a:moveTo>
                <a:lnTo>
                  <a:pt x="0" y="224"/>
                </a:lnTo>
                <a:lnTo>
                  <a:pt x="17" y="226"/>
                </a:lnTo>
                <a:lnTo>
                  <a:pt x="23" y="210"/>
                </a:lnTo>
                <a:lnTo>
                  <a:pt x="26" y="196"/>
                </a:lnTo>
                <a:lnTo>
                  <a:pt x="26" y="180"/>
                </a:lnTo>
                <a:lnTo>
                  <a:pt x="60" y="101"/>
                </a:lnTo>
                <a:lnTo>
                  <a:pt x="64" y="91"/>
                </a:lnTo>
                <a:lnTo>
                  <a:pt x="68" y="81"/>
                </a:lnTo>
                <a:lnTo>
                  <a:pt x="69" y="72"/>
                </a:lnTo>
                <a:lnTo>
                  <a:pt x="69" y="5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91"/>
          <p:cNvSpPr/>
          <p:nvPr/>
        </p:nvSpPr>
        <p:spPr>
          <a:xfrm>
            <a:off x="7461360" y="2523960"/>
            <a:ext cx="108000" cy="373320"/>
          </a:xfrm>
          <a:custGeom>
            <a:avLst/>
            <a:gdLst>
              <a:gd name="textAreaLeft" fmla="*/ 0 w 108000"/>
              <a:gd name="textAreaRight" fmla="*/ 108360 w 1080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68" h="235">
                <a:moveTo>
                  <a:pt x="0" y="0"/>
                </a:moveTo>
                <a:lnTo>
                  <a:pt x="0" y="224"/>
                </a:lnTo>
                <a:lnTo>
                  <a:pt x="68" y="235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92"/>
          <p:cNvSpPr/>
          <p:nvPr/>
        </p:nvSpPr>
        <p:spPr>
          <a:xfrm>
            <a:off x="7570800" y="2509920"/>
            <a:ext cx="360" cy="387360"/>
          </a:xfrm>
          <a:custGeom>
            <a:avLst/>
            <a:gdLst/>
            <a:ahLst/>
            <a:rect l="l" t="t" r="r" b="b"/>
            <a:pathLst>
              <a:path w="0" h="244">
                <a:moveTo>
                  <a:pt x="0" y="0"/>
                </a:moveTo>
                <a:lnTo>
                  <a:pt x="0" y="244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93"/>
          <p:cNvSpPr/>
          <p:nvPr/>
        </p:nvSpPr>
        <p:spPr>
          <a:xfrm>
            <a:off x="7461360" y="2798640"/>
            <a:ext cx="403200" cy="19080"/>
          </a:xfrm>
          <a:custGeom>
            <a:avLst/>
            <a:gdLst>
              <a:gd name="textAreaLeft" fmla="*/ 0 w 403200"/>
              <a:gd name="textAreaRight" fmla="*/ 403560 w 403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54" h="12">
                <a:moveTo>
                  <a:pt x="0" y="6"/>
                </a:moveTo>
                <a:lnTo>
                  <a:pt x="69" y="12"/>
                </a:lnTo>
                <a:lnTo>
                  <a:pt x="254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94"/>
          <p:cNvSpPr/>
          <p:nvPr/>
        </p:nvSpPr>
        <p:spPr>
          <a:xfrm>
            <a:off x="7448400" y="2403360"/>
            <a:ext cx="432000" cy="131760"/>
          </a:xfrm>
          <a:custGeom>
            <a:avLst/>
            <a:gdLst>
              <a:gd name="textAreaLeft" fmla="*/ 0 w 432000"/>
              <a:gd name="textAreaRight" fmla="*/ 432360 w 432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2" h="83">
                <a:moveTo>
                  <a:pt x="0" y="78"/>
                </a:moveTo>
                <a:lnTo>
                  <a:pt x="8" y="83"/>
                </a:lnTo>
                <a:lnTo>
                  <a:pt x="77" y="81"/>
                </a:lnTo>
                <a:lnTo>
                  <a:pt x="182" y="18"/>
                </a:lnTo>
                <a:lnTo>
                  <a:pt x="262" y="79"/>
                </a:lnTo>
                <a:lnTo>
                  <a:pt x="272" y="74"/>
                </a:lnTo>
                <a:lnTo>
                  <a:pt x="268" y="67"/>
                </a:lnTo>
                <a:lnTo>
                  <a:pt x="183" y="0"/>
                </a:lnTo>
                <a:lnTo>
                  <a:pt x="79" y="45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95"/>
          <p:cNvSpPr/>
          <p:nvPr/>
        </p:nvSpPr>
        <p:spPr>
          <a:xfrm>
            <a:off x="7450200" y="2394000"/>
            <a:ext cx="430200" cy="133200"/>
          </a:xfrm>
          <a:custGeom>
            <a:avLst/>
            <a:gdLst>
              <a:gd name="textAreaLeft" fmla="*/ 0 w 430200"/>
              <a:gd name="textAreaRight" fmla="*/ 430560 w 43020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71" h="84">
                <a:moveTo>
                  <a:pt x="0" y="76"/>
                </a:moveTo>
                <a:lnTo>
                  <a:pt x="0" y="84"/>
                </a:lnTo>
                <a:lnTo>
                  <a:pt x="71" y="80"/>
                </a:lnTo>
                <a:lnTo>
                  <a:pt x="182" y="14"/>
                </a:lnTo>
                <a:lnTo>
                  <a:pt x="271" y="80"/>
                </a:lnTo>
                <a:lnTo>
                  <a:pt x="271" y="70"/>
                </a:lnTo>
                <a:lnTo>
                  <a:pt x="181" y="0"/>
                </a:lnTo>
                <a:lnTo>
                  <a:pt x="0" y="76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96"/>
          <p:cNvSpPr/>
          <p:nvPr/>
        </p:nvSpPr>
        <p:spPr>
          <a:xfrm>
            <a:off x="7450200" y="2478240"/>
            <a:ext cx="101520" cy="48960"/>
          </a:xfrm>
          <a:custGeom>
            <a:avLst/>
            <a:gdLst>
              <a:gd name="textAreaLeft" fmla="*/ 0 w 101520"/>
              <a:gd name="textAreaRight" fmla="*/ 101880 w 1015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64" h="31">
                <a:moveTo>
                  <a:pt x="0" y="23"/>
                </a:moveTo>
                <a:lnTo>
                  <a:pt x="0" y="31"/>
                </a:lnTo>
                <a:lnTo>
                  <a:pt x="36" y="30"/>
                </a:lnTo>
                <a:lnTo>
                  <a:pt x="60" y="16"/>
                </a:lnTo>
                <a:lnTo>
                  <a:pt x="64" y="0"/>
                </a:lnTo>
                <a:lnTo>
                  <a:pt x="0" y="2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97"/>
          <p:cNvSpPr/>
          <p:nvPr/>
        </p:nvSpPr>
        <p:spPr>
          <a:xfrm>
            <a:off x="7450200" y="2514600"/>
            <a:ext cx="36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0"/>
                </a:moveTo>
                <a:lnTo>
                  <a:pt x="0" y="8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98"/>
          <p:cNvSpPr/>
          <p:nvPr/>
        </p:nvSpPr>
        <p:spPr>
          <a:xfrm>
            <a:off x="7564320" y="2496960"/>
            <a:ext cx="360" cy="2412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15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9"/>
          <p:cNvSpPr/>
          <p:nvPr/>
        </p:nvSpPr>
        <p:spPr>
          <a:xfrm>
            <a:off x="7596360" y="2646360"/>
            <a:ext cx="44280" cy="169920"/>
          </a:xfrm>
          <a:custGeom>
            <a:avLst/>
            <a:gdLst>
              <a:gd name="textAreaLeft" fmla="*/ 0 w 44280"/>
              <a:gd name="textAreaRight" fmla="*/ 44640 w 442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8" h="107">
                <a:moveTo>
                  <a:pt x="0" y="107"/>
                </a:moveTo>
                <a:lnTo>
                  <a:pt x="0" y="18"/>
                </a:lnTo>
                <a:lnTo>
                  <a:pt x="0" y="13"/>
                </a:lnTo>
                <a:lnTo>
                  <a:pt x="2" y="7"/>
                </a:lnTo>
                <a:lnTo>
                  <a:pt x="3" y="4"/>
                </a:lnTo>
                <a:lnTo>
                  <a:pt x="6" y="1"/>
                </a:lnTo>
                <a:lnTo>
                  <a:pt x="9" y="0"/>
                </a:lnTo>
                <a:lnTo>
                  <a:pt x="14" y="0"/>
                </a:lnTo>
                <a:lnTo>
                  <a:pt x="18" y="0"/>
                </a:lnTo>
                <a:lnTo>
                  <a:pt x="23" y="2"/>
                </a:lnTo>
                <a:lnTo>
                  <a:pt x="25" y="4"/>
                </a:lnTo>
                <a:lnTo>
                  <a:pt x="27" y="9"/>
                </a:lnTo>
                <a:lnTo>
                  <a:pt x="28" y="14"/>
                </a:lnTo>
                <a:lnTo>
                  <a:pt x="28" y="18"/>
                </a:lnTo>
                <a:lnTo>
                  <a:pt x="28" y="105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00"/>
          <p:cNvSpPr/>
          <p:nvPr/>
        </p:nvSpPr>
        <p:spPr>
          <a:xfrm>
            <a:off x="7799400" y="2639880"/>
            <a:ext cx="41400" cy="162000"/>
          </a:xfrm>
          <a:custGeom>
            <a:avLst/>
            <a:gdLst>
              <a:gd name="textAreaLeft" fmla="*/ 0 w 41400"/>
              <a:gd name="textAreaRight" fmla="*/ 41760 w 414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26" h="102">
                <a:moveTo>
                  <a:pt x="0" y="102"/>
                </a:moveTo>
                <a:lnTo>
                  <a:pt x="0" y="18"/>
                </a:lnTo>
                <a:lnTo>
                  <a:pt x="0" y="13"/>
                </a:lnTo>
                <a:lnTo>
                  <a:pt x="1" y="9"/>
                </a:lnTo>
                <a:lnTo>
                  <a:pt x="3" y="5"/>
                </a:lnTo>
                <a:lnTo>
                  <a:pt x="5" y="2"/>
                </a:lnTo>
                <a:lnTo>
                  <a:pt x="9" y="1"/>
                </a:lnTo>
                <a:lnTo>
                  <a:pt x="13" y="0"/>
                </a:lnTo>
                <a:lnTo>
                  <a:pt x="17" y="1"/>
                </a:lnTo>
                <a:lnTo>
                  <a:pt x="20" y="2"/>
                </a:lnTo>
                <a:lnTo>
                  <a:pt x="23" y="5"/>
                </a:lnTo>
                <a:lnTo>
                  <a:pt x="25" y="8"/>
                </a:lnTo>
                <a:lnTo>
                  <a:pt x="26" y="14"/>
                </a:lnTo>
                <a:lnTo>
                  <a:pt x="26" y="18"/>
                </a:lnTo>
                <a:lnTo>
                  <a:pt x="26" y="101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01"/>
          <p:cNvSpPr/>
          <p:nvPr/>
        </p:nvSpPr>
        <p:spPr>
          <a:xfrm>
            <a:off x="7670880" y="2689200"/>
            <a:ext cx="109440" cy="200160"/>
          </a:xfrm>
          <a:custGeom>
            <a:avLst/>
            <a:gdLst>
              <a:gd name="textAreaLeft" fmla="*/ 0 w 109440"/>
              <a:gd name="textAreaRight" fmla="*/ 109800 w 1094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69" h="126">
                <a:moveTo>
                  <a:pt x="0" y="126"/>
                </a:moveTo>
                <a:lnTo>
                  <a:pt x="0" y="40"/>
                </a:lnTo>
                <a:lnTo>
                  <a:pt x="0" y="33"/>
                </a:lnTo>
                <a:lnTo>
                  <a:pt x="2" y="26"/>
                </a:lnTo>
                <a:lnTo>
                  <a:pt x="4" y="18"/>
                </a:lnTo>
                <a:lnTo>
                  <a:pt x="7" y="13"/>
                </a:lnTo>
                <a:lnTo>
                  <a:pt x="12" y="8"/>
                </a:lnTo>
                <a:lnTo>
                  <a:pt x="17" y="4"/>
                </a:lnTo>
                <a:lnTo>
                  <a:pt x="24" y="2"/>
                </a:lnTo>
                <a:lnTo>
                  <a:pt x="30" y="0"/>
                </a:lnTo>
                <a:lnTo>
                  <a:pt x="38" y="0"/>
                </a:lnTo>
                <a:lnTo>
                  <a:pt x="43" y="1"/>
                </a:lnTo>
                <a:lnTo>
                  <a:pt x="48" y="2"/>
                </a:lnTo>
                <a:lnTo>
                  <a:pt x="54" y="5"/>
                </a:lnTo>
                <a:lnTo>
                  <a:pt x="59" y="9"/>
                </a:lnTo>
                <a:lnTo>
                  <a:pt x="62" y="13"/>
                </a:lnTo>
                <a:lnTo>
                  <a:pt x="64" y="18"/>
                </a:lnTo>
                <a:lnTo>
                  <a:pt x="66" y="23"/>
                </a:lnTo>
                <a:lnTo>
                  <a:pt x="68" y="29"/>
                </a:lnTo>
                <a:lnTo>
                  <a:pt x="68" y="37"/>
                </a:lnTo>
                <a:lnTo>
                  <a:pt x="69" y="44"/>
                </a:lnTo>
                <a:lnTo>
                  <a:pt x="69" y="120"/>
                </a:lnTo>
                <a:lnTo>
                  <a:pt x="0" y="126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02"/>
          <p:cNvSpPr/>
          <p:nvPr/>
        </p:nvSpPr>
        <p:spPr>
          <a:xfrm>
            <a:off x="7724880" y="2689200"/>
            <a:ext cx="360" cy="193680"/>
          </a:xfrm>
          <a:custGeom>
            <a:avLst/>
            <a:gdLst/>
            <a:ahLst/>
            <a:rect l="l" t="t" r="r" b="b"/>
            <a:pathLst>
              <a:path w="0" h="122">
                <a:moveTo>
                  <a:pt x="0" y="0"/>
                </a:moveTo>
                <a:lnTo>
                  <a:pt x="0" y="122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03"/>
          <p:cNvSpPr/>
          <p:nvPr/>
        </p:nvSpPr>
        <p:spPr>
          <a:xfrm>
            <a:off x="7715160" y="2790720"/>
            <a:ext cx="36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0"/>
                </a:moveTo>
                <a:lnTo>
                  <a:pt x="0" y="11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04"/>
          <p:cNvSpPr/>
          <p:nvPr/>
        </p:nvSpPr>
        <p:spPr>
          <a:xfrm>
            <a:off x="7734240" y="2789280"/>
            <a:ext cx="360" cy="1908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05"/>
          <p:cNvSpPr/>
          <p:nvPr/>
        </p:nvSpPr>
        <p:spPr>
          <a:xfrm>
            <a:off x="7669080" y="2530440"/>
            <a:ext cx="30240" cy="111240"/>
          </a:xfrm>
          <a:custGeom>
            <a:avLst/>
            <a:gdLst>
              <a:gd name="textAreaLeft" fmla="*/ 0 w 30240"/>
              <a:gd name="textAreaRight" fmla="*/ 30600 w 302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9" h="70">
                <a:moveTo>
                  <a:pt x="0" y="70"/>
                </a:moveTo>
                <a:lnTo>
                  <a:pt x="0" y="10"/>
                </a:lnTo>
                <a:lnTo>
                  <a:pt x="0" y="6"/>
                </a:lnTo>
                <a:lnTo>
                  <a:pt x="2" y="3"/>
                </a:lnTo>
                <a:lnTo>
                  <a:pt x="5" y="1"/>
                </a:lnTo>
                <a:lnTo>
                  <a:pt x="7" y="0"/>
                </a:lnTo>
                <a:lnTo>
                  <a:pt x="11" y="0"/>
                </a:lnTo>
                <a:lnTo>
                  <a:pt x="14" y="1"/>
                </a:lnTo>
                <a:lnTo>
                  <a:pt x="17" y="2"/>
                </a:lnTo>
                <a:lnTo>
                  <a:pt x="18" y="4"/>
                </a:lnTo>
                <a:lnTo>
                  <a:pt x="19" y="7"/>
                </a:lnTo>
                <a:lnTo>
                  <a:pt x="19" y="9"/>
                </a:lnTo>
                <a:lnTo>
                  <a:pt x="19" y="70"/>
                </a:lnTo>
                <a:lnTo>
                  <a:pt x="0" y="70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06"/>
          <p:cNvSpPr/>
          <p:nvPr/>
        </p:nvSpPr>
        <p:spPr>
          <a:xfrm>
            <a:off x="7753320" y="2527200"/>
            <a:ext cx="30240" cy="112680"/>
          </a:xfrm>
          <a:custGeom>
            <a:avLst/>
            <a:gdLst>
              <a:gd name="textAreaLeft" fmla="*/ 0 w 30240"/>
              <a:gd name="textAreaRight" fmla="*/ 30600 w 302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9" h="71">
                <a:moveTo>
                  <a:pt x="0" y="71"/>
                </a:moveTo>
                <a:lnTo>
                  <a:pt x="0" y="10"/>
                </a:lnTo>
                <a:lnTo>
                  <a:pt x="0" y="6"/>
                </a:lnTo>
                <a:lnTo>
                  <a:pt x="2" y="3"/>
                </a:lnTo>
                <a:lnTo>
                  <a:pt x="5" y="1"/>
                </a:lnTo>
                <a:lnTo>
                  <a:pt x="8" y="0"/>
                </a:lnTo>
                <a:lnTo>
                  <a:pt x="12" y="1"/>
                </a:lnTo>
                <a:lnTo>
                  <a:pt x="15" y="2"/>
                </a:lnTo>
                <a:lnTo>
                  <a:pt x="17" y="4"/>
                </a:lnTo>
                <a:lnTo>
                  <a:pt x="18" y="6"/>
                </a:lnTo>
                <a:lnTo>
                  <a:pt x="19" y="10"/>
                </a:lnTo>
                <a:lnTo>
                  <a:pt x="19" y="70"/>
                </a:lnTo>
                <a:lnTo>
                  <a:pt x="0" y="71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07"/>
          <p:cNvSpPr/>
          <p:nvPr/>
        </p:nvSpPr>
        <p:spPr>
          <a:xfrm>
            <a:off x="7709040" y="2503440"/>
            <a:ext cx="36360" cy="138240"/>
          </a:xfrm>
          <a:custGeom>
            <a:avLst/>
            <a:gdLst>
              <a:gd name="textAreaLeft" fmla="*/ 0 w 36360"/>
              <a:gd name="textAreaRight" fmla="*/ 36720 w 36360"/>
              <a:gd name="textAreaTop" fmla="*/ 0 h 138240"/>
              <a:gd name="textAreaBottom" fmla="*/ 138240 h 138240"/>
            </a:gdLst>
            <a:ahLst/>
            <a:rect l="textAreaLeft" t="textAreaTop" r="textAreaRight" b="textAreaBottom"/>
            <a:pathLst>
              <a:path w="23" h="87">
                <a:moveTo>
                  <a:pt x="0" y="87"/>
                </a:moveTo>
                <a:lnTo>
                  <a:pt x="0" y="12"/>
                </a:lnTo>
                <a:lnTo>
                  <a:pt x="0" y="8"/>
                </a:lnTo>
                <a:lnTo>
                  <a:pt x="1" y="5"/>
                </a:lnTo>
                <a:lnTo>
                  <a:pt x="3" y="3"/>
                </a:lnTo>
                <a:lnTo>
                  <a:pt x="6" y="1"/>
                </a:lnTo>
                <a:lnTo>
                  <a:pt x="10" y="0"/>
                </a:lnTo>
                <a:lnTo>
                  <a:pt x="13" y="0"/>
                </a:lnTo>
                <a:lnTo>
                  <a:pt x="16" y="1"/>
                </a:lnTo>
                <a:lnTo>
                  <a:pt x="20" y="3"/>
                </a:lnTo>
                <a:lnTo>
                  <a:pt x="22" y="5"/>
                </a:lnTo>
                <a:lnTo>
                  <a:pt x="23" y="7"/>
                </a:lnTo>
                <a:lnTo>
                  <a:pt x="23" y="12"/>
                </a:lnTo>
                <a:lnTo>
                  <a:pt x="23" y="86"/>
                </a:lnTo>
                <a:lnTo>
                  <a:pt x="0" y="8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08"/>
          <p:cNvSpPr/>
          <p:nvPr/>
        </p:nvSpPr>
        <p:spPr>
          <a:xfrm>
            <a:off x="7670880" y="2860560"/>
            <a:ext cx="36360" cy="33480"/>
          </a:xfrm>
          <a:custGeom>
            <a:avLst/>
            <a:gdLst>
              <a:gd name="textAreaLeft" fmla="*/ 0 w 36360"/>
              <a:gd name="textAreaRight" fmla="*/ 36720 w 363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3" h="21">
                <a:moveTo>
                  <a:pt x="0" y="0"/>
                </a:moveTo>
                <a:lnTo>
                  <a:pt x="0" y="17"/>
                </a:lnTo>
                <a:lnTo>
                  <a:pt x="21" y="21"/>
                </a:lnTo>
                <a:lnTo>
                  <a:pt x="23" y="2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09"/>
          <p:cNvSpPr/>
          <p:nvPr/>
        </p:nvSpPr>
        <p:spPr>
          <a:xfrm>
            <a:off x="7670880" y="2854440"/>
            <a:ext cx="141120" cy="39600"/>
          </a:xfrm>
          <a:custGeom>
            <a:avLst/>
            <a:gdLst>
              <a:gd name="textAreaLeft" fmla="*/ 0 w 141120"/>
              <a:gd name="textAreaRight" fmla="*/ 141480 w 1411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9" h="25">
                <a:moveTo>
                  <a:pt x="0" y="4"/>
                </a:moveTo>
                <a:lnTo>
                  <a:pt x="68" y="0"/>
                </a:lnTo>
                <a:lnTo>
                  <a:pt x="79" y="2"/>
                </a:lnTo>
                <a:lnTo>
                  <a:pt x="79" y="8"/>
                </a:lnTo>
                <a:lnTo>
                  <a:pt x="89" y="11"/>
                </a:lnTo>
                <a:lnTo>
                  <a:pt x="89" y="20"/>
                </a:lnTo>
                <a:lnTo>
                  <a:pt x="21" y="25"/>
                </a:lnTo>
                <a:lnTo>
                  <a:pt x="21" y="15"/>
                </a:lnTo>
                <a:lnTo>
                  <a:pt x="13" y="13"/>
                </a:lnTo>
                <a:lnTo>
                  <a:pt x="13" y="6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10"/>
          <p:cNvSpPr/>
          <p:nvPr/>
        </p:nvSpPr>
        <p:spPr>
          <a:xfrm>
            <a:off x="7704000" y="2871720"/>
            <a:ext cx="106560" cy="6480"/>
          </a:xfrm>
          <a:custGeom>
            <a:avLst/>
            <a:gdLst>
              <a:gd name="textAreaLeft" fmla="*/ 0 w 106560"/>
              <a:gd name="textAreaRight" fmla="*/ 106920 w 1065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7" h="4">
                <a:moveTo>
                  <a:pt x="0" y="4"/>
                </a:moveTo>
                <a:lnTo>
                  <a:pt x="67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11"/>
          <p:cNvSpPr/>
          <p:nvPr/>
        </p:nvSpPr>
        <p:spPr>
          <a:xfrm>
            <a:off x="7691400" y="2868480"/>
            <a:ext cx="104760" cy="6480"/>
          </a:xfrm>
          <a:custGeom>
            <a:avLst/>
            <a:gdLst>
              <a:gd name="textAreaLeft" fmla="*/ 0 w 104760"/>
              <a:gd name="textAreaRight" fmla="*/ 105120 w 1047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6" h="4">
                <a:moveTo>
                  <a:pt x="0" y="4"/>
                </a:moveTo>
                <a:lnTo>
                  <a:pt x="66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12"/>
          <p:cNvSpPr/>
          <p:nvPr/>
        </p:nvSpPr>
        <p:spPr>
          <a:xfrm>
            <a:off x="7691400" y="2857680"/>
            <a:ext cx="103320" cy="6120"/>
          </a:xfrm>
          <a:custGeom>
            <a:avLst/>
            <a:gdLst>
              <a:gd name="textAreaLeft" fmla="*/ 0 w 103320"/>
              <a:gd name="textAreaRight" fmla="*/ 103680 w 1033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65" h="4">
                <a:moveTo>
                  <a:pt x="0" y="4"/>
                </a:moveTo>
                <a:lnTo>
                  <a:pt x="65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13"/>
          <p:cNvSpPr/>
          <p:nvPr/>
        </p:nvSpPr>
        <p:spPr>
          <a:xfrm>
            <a:off x="6707160" y="2967120"/>
            <a:ext cx="134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fe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14"/>
          <p:cNvSpPr/>
          <p:nvPr/>
        </p:nvSpPr>
        <p:spPr>
          <a:xfrm>
            <a:off x="6727680" y="3511440"/>
            <a:ext cx="1446480" cy="117324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15"/>
          <p:cNvSpPr/>
          <p:nvPr/>
        </p:nvSpPr>
        <p:spPr>
          <a:xfrm>
            <a:off x="6986520" y="3824280"/>
            <a:ext cx="723960" cy="525600"/>
          </a:xfrm>
          <a:custGeom>
            <a:avLst/>
            <a:gdLst>
              <a:gd name="textAreaLeft" fmla="*/ 0 w 723960"/>
              <a:gd name="textAreaRight" fmla="*/ 724320 w 723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456" h="331">
                <a:moveTo>
                  <a:pt x="0" y="107"/>
                </a:moveTo>
                <a:lnTo>
                  <a:pt x="0" y="289"/>
                </a:lnTo>
                <a:lnTo>
                  <a:pt x="258" y="331"/>
                </a:lnTo>
                <a:lnTo>
                  <a:pt x="379" y="322"/>
                </a:lnTo>
                <a:lnTo>
                  <a:pt x="456" y="0"/>
                </a:lnTo>
                <a:lnTo>
                  <a:pt x="0" y="107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16"/>
          <p:cNvSpPr/>
          <p:nvPr/>
        </p:nvSpPr>
        <p:spPr>
          <a:xfrm>
            <a:off x="6986520" y="3927600"/>
            <a:ext cx="411120" cy="388800"/>
          </a:xfrm>
          <a:custGeom>
            <a:avLst/>
            <a:gdLst>
              <a:gd name="textAreaLeft" fmla="*/ 0 w 411120"/>
              <a:gd name="textAreaRight" fmla="*/ 411480 w 4111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59" h="245">
                <a:moveTo>
                  <a:pt x="0" y="42"/>
                </a:moveTo>
                <a:lnTo>
                  <a:pt x="0" y="224"/>
                </a:lnTo>
                <a:lnTo>
                  <a:pt x="129" y="245"/>
                </a:lnTo>
                <a:lnTo>
                  <a:pt x="158" y="229"/>
                </a:lnTo>
                <a:lnTo>
                  <a:pt x="171" y="218"/>
                </a:lnTo>
                <a:lnTo>
                  <a:pt x="183" y="206"/>
                </a:lnTo>
                <a:lnTo>
                  <a:pt x="194" y="193"/>
                </a:lnTo>
                <a:lnTo>
                  <a:pt x="207" y="175"/>
                </a:lnTo>
                <a:lnTo>
                  <a:pt x="243" y="108"/>
                </a:lnTo>
                <a:lnTo>
                  <a:pt x="247" y="100"/>
                </a:lnTo>
                <a:lnTo>
                  <a:pt x="252" y="92"/>
                </a:lnTo>
                <a:lnTo>
                  <a:pt x="259" y="85"/>
                </a:lnTo>
                <a:lnTo>
                  <a:pt x="259" y="0"/>
                </a:lnTo>
                <a:lnTo>
                  <a:pt x="0" y="4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17"/>
          <p:cNvSpPr/>
          <p:nvPr/>
        </p:nvSpPr>
        <p:spPr>
          <a:xfrm>
            <a:off x="7311960" y="4046400"/>
            <a:ext cx="44640" cy="187560"/>
          </a:xfrm>
          <a:custGeom>
            <a:avLst/>
            <a:gdLst>
              <a:gd name="textAreaLeft" fmla="*/ 0 w 44640"/>
              <a:gd name="textAreaRight" fmla="*/ 45000 w 446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8" h="118">
                <a:moveTo>
                  <a:pt x="0" y="116"/>
                </a:moveTo>
                <a:lnTo>
                  <a:pt x="28" y="118"/>
                </a:lnTo>
                <a:lnTo>
                  <a:pt x="28" y="17"/>
                </a:lnTo>
                <a:lnTo>
                  <a:pt x="28" y="14"/>
                </a:lnTo>
                <a:lnTo>
                  <a:pt x="28" y="11"/>
                </a:lnTo>
                <a:lnTo>
                  <a:pt x="27" y="8"/>
                </a:lnTo>
                <a:lnTo>
                  <a:pt x="26" y="6"/>
                </a:lnTo>
                <a:lnTo>
                  <a:pt x="25" y="3"/>
                </a:lnTo>
                <a:lnTo>
                  <a:pt x="23" y="2"/>
                </a:lnTo>
                <a:lnTo>
                  <a:pt x="20" y="0"/>
                </a:lnTo>
                <a:lnTo>
                  <a:pt x="17" y="0"/>
                </a:lnTo>
                <a:lnTo>
                  <a:pt x="15" y="0"/>
                </a:lnTo>
                <a:lnTo>
                  <a:pt x="12" y="0"/>
                </a:lnTo>
                <a:lnTo>
                  <a:pt x="9" y="0"/>
                </a:lnTo>
                <a:lnTo>
                  <a:pt x="7" y="1"/>
                </a:lnTo>
                <a:lnTo>
                  <a:pt x="4" y="2"/>
                </a:lnTo>
                <a:lnTo>
                  <a:pt x="3" y="5"/>
                </a:lnTo>
                <a:lnTo>
                  <a:pt x="1" y="8"/>
                </a:lnTo>
                <a:lnTo>
                  <a:pt x="1" y="11"/>
                </a:lnTo>
                <a:lnTo>
                  <a:pt x="0" y="14"/>
                </a:lnTo>
                <a:lnTo>
                  <a:pt x="0" y="18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18"/>
          <p:cNvSpPr/>
          <p:nvPr/>
        </p:nvSpPr>
        <p:spPr>
          <a:xfrm>
            <a:off x="7221600" y="4048200"/>
            <a:ext cx="41040" cy="181080"/>
          </a:xfrm>
          <a:custGeom>
            <a:avLst/>
            <a:gdLst>
              <a:gd name="textAreaLeft" fmla="*/ 0 w 41040"/>
              <a:gd name="textAreaRight" fmla="*/ 41400 w 410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6" h="114">
                <a:moveTo>
                  <a:pt x="0" y="112"/>
                </a:moveTo>
                <a:lnTo>
                  <a:pt x="26" y="114"/>
                </a:lnTo>
                <a:lnTo>
                  <a:pt x="26" y="18"/>
                </a:lnTo>
                <a:lnTo>
                  <a:pt x="26" y="12"/>
                </a:lnTo>
                <a:lnTo>
                  <a:pt x="24" y="7"/>
                </a:lnTo>
                <a:lnTo>
                  <a:pt x="22" y="3"/>
                </a:lnTo>
                <a:lnTo>
                  <a:pt x="19" y="1"/>
                </a:lnTo>
                <a:lnTo>
                  <a:pt x="15" y="0"/>
                </a:lnTo>
                <a:lnTo>
                  <a:pt x="11" y="0"/>
                </a:lnTo>
                <a:lnTo>
                  <a:pt x="9" y="1"/>
                </a:lnTo>
                <a:lnTo>
                  <a:pt x="5" y="2"/>
                </a:lnTo>
                <a:lnTo>
                  <a:pt x="3" y="5"/>
                </a:lnTo>
                <a:lnTo>
                  <a:pt x="1" y="9"/>
                </a:lnTo>
                <a:lnTo>
                  <a:pt x="0" y="14"/>
                </a:lnTo>
                <a:lnTo>
                  <a:pt x="0" y="18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19"/>
          <p:cNvSpPr/>
          <p:nvPr/>
        </p:nvSpPr>
        <p:spPr>
          <a:xfrm>
            <a:off x="7124760" y="4051440"/>
            <a:ext cx="39600" cy="171360"/>
          </a:xfrm>
          <a:custGeom>
            <a:avLst/>
            <a:gdLst>
              <a:gd name="textAreaLeft" fmla="*/ 0 w 39600"/>
              <a:gd name="textAreaRight" fmla="*/ 39960 w 396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5" h="108">
                <a:moveTo>
                  <a:pt x="0" y="107"/>
                </a:moveTo>
                <a:lnTo>
                  <a:pt x="24" y="108"/>
                </a:lnTo>
                <a:lnTo>
                  <a:pt x="25" y="15"/>
                </a:lnTo>
                <a:lnTo>
                  <a:pt x="24" y="11"/>
                </a:lnTo>
                <a:lnTo>
                  <a:pt x="23" y="7"/>
                </a:lnTo>
                <a:lnTo>
                  <a:pt x="21" y="3"/>
                </a:lnTo>
                <a:lnTo>
                  <a:pt x="19" y="1"/>
                </a:lnTo>
                <a:lnTo>
                  <a:pt x="15" y="0"/>
                </a:lnTo>
                <a:lnTo>
                  <a:pt x="11" y="0"/>
                </a:lnTo>
                <a:lnTo>
                  <a:pt x="7" y="0"/>
                </a:lnTo>
                <a:lnTo>
                  <a:pt x="4" y="3"/>
                </a:lnTo>
                <a:lnTo>
                  <a:pt x="2" y="6"/>
                </a:lnTo>
                <a:lnTo>
                  <a:pt x="0" y="10"/>
                </a:lnTo>
                <a:lnTo>
                  <a:pt x="0" y="13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20"/>
          <p:cNvSpPr/>
          <p:nvPr/>
        </p:nvSpPr>
        <p:spPr>
          <a:xfrm>
            <a:off x="7037280" y="4052880"/>
            <a:ext cx="36720" cy="163440"/>
          </a:xfrm>
          <a:custGeom>
            <a:avLst/>
            <a:gdLst>
              <a:gd name="textAreaLeft" fmla="*/ 0 w 36720"/>
              <a:gd name="textAreaRight" fmla="*/ 37080 w 36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3" h="103">
                <a:moveTo>
                  <a:pt x="0" y="102"/>
                </a:moveTo>
                <a:lnTo>
                  <a:pt x="23" y="103"/>
                </a:lnTo>
                <a:lnTo>
                  <a:pt x="23" y="15"/>
                </a:lnTo>
                <a:lnTo>
                  <a:pt x="23" y="11"/>
                </a:lnTo>
                <a:lnTo>
                  <a:pt x="22" y="7"/>
                </a:lnTo>
                <a:lnTo>
                  <a:pt x="20" y="4"/>
                </a:lnTo>
                <a:lnTo>
                  <a:pt x="19" y="2"/>
                </a:lnTo>
                <a:lnTo>
                  <a:pt x="16" y="1"/>
                </a:lnTo>
                <a:lnTo>
                  <a:pt x="13" y="0"/>
                </a:lnTo>
                <a:lnTo>
                  <a:pt x="9" y="0"/>
                </a:lnTo>
                <a:lnTo>
                  <a:pt x="6" y="2"/>
                </a:lnTo>
                <a:lnTo>
                  <a:pt x="3" y="4"/>
                </a:lnTo>
                <a:lnTo>
                  <a:pt x="1" y="8"/>
                </a:lnTo>
                <a:lnTo>
                  <a:pt x="0" y="11"/>
                </a:lnTo>
                <a:lnTo>
                  <a:pt x="0" y="15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21"/>
          <p:cNvSpPr/>
          <p:nvPr/>
        </p:nvSpPr>
        <p:spPr>
          <a:xfrm>
            <a:off x="7397640" y="3989520"/>
            <a:ext cx="204840" cy="360360"/>
          </a:xfrm>
          <a:custGeom>
            <a:avLst/>
            <a:gdLst>
              <a:gd name="textAreaLeft" fmla="*/ 0 w 204840"/>
              <a:gd name="textAreaRight" fmla="*/ 205200 w 2048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29" h="227">
                <a:moveTo>
                  <a:pt x="76" y="0"/>
                </a:moveTo>
                <a:lnTo>
                  <a:pt x="0" y="177"/>
                </a:lnTo>
                <a:lnTo>
                  <a:pt x="0" y="227"/>
                </a:lnTo>
                <a:lnTo>
                  <a:pt x="129" y="217"/>
                </a:lnTo>
                <a:lnTo>
                  <a:pt x="76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22"/>
          <p:cNvSpPr/>
          <p:nvPr/>
        </p:nvSpPr>
        <p:spPr>
          <a:xfrm>
            <a:off x="7397640" y="3967200"/>
            <a:ext cx="360" cy="382680"/>
          </a:xfrm>
          <a:custGeom>
            <a:avLst/>
            <a:gdLst/>
            <a:ahLst/>
            <a:rect l="l" t="t" r="r" b="b"/>
            <a:pathLst>
              <a:path w="0" h="241">
                <a:moveTo>
                  <a:pt x="0" y="241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123"/>
          <p:cNvSpPr/>
          <p:nvPr/>
        </p:nvSpPr>
        <p:spPr>
          <a:xfrm>
            <a:off x="6986520" y="4238640"/>
            <a:ext cx="647640" cy="39600"/>
          </a:xfrm>
          <a:custGeom>
            <a:avLst/>
            <a:gdLst>
              <a:gd name="textAreaLeft" fmla="*/ 0 w 647640"/>
              <a:gd name="textAreaRight" fmla="*/ 648000 w 647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408" h="25">
                <a:moveTo>
                  <a:pt x="0" y="0"/>
                </a:moveTo>
                <a:lnTo>
                  <a:pt x="258" y="25"/>
                </a:lnTo>
                <a:lnTo>
                  <a:pt x="408" y="14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124"/>
          <p:cNvSpPr/>
          <p:nvPr/>
        </p:nvSpPr>
        <p:spPr>
          <a:xfrm>
            <a:off x="6986520" y="3994200"/>
            <a:ext cx="800280" cy="355680"/>
          </a:xfrm>
          <a:custGeom>
            <a:avLst/>
            <a:gdLst>
              <a:gd name="textAreaLeft" fmla="*/ 0 w 800280"/>
              <a:gd name="textAreaRight" fmla="*/ 800640 w 8002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504" h="224">
                <a:moveTo>
                  <a:pt x="0" y="0"/>
                </a:moveTo>
                <a:lnTo>
                  <a:pt x="0" y="182"/>
                </a:lnTo>
                <a:lnTo>
                  <a:pt x="258" y="224"/>
                </a:lnTo>
                <a:lnTo>
                  <a:pt x="504" y="204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125"/>
          <p:cNvSpPr/>
          <p:nvPr/>
        </p:nvSpPr>
        <p:spPr>
          <a:xfrm>
            <a:off x="7535880" y="3753000"/>
            <a:ext cx="128520" cy="209520"/>
          </a:xfrm>
          <a:custGeom>
            <a:avLst/>
            <a:gdLst>
              <a:gd name="textAreaLeft" fmla="*/ 0 w 128520"/>
              <a:gd name="textAreaRight" fmla="*/ 128880 w 128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81" h="132">
                <a:moveTo>
                  <a:pt x="0" y="14"/>
                </a:moveTo>
                <a:lnTo>
                  <a:pt x="0" y="57"/>
                </a:lnTo>
                <a:lnTo>
                  <a:pt x="42" y="57"/>
                </a:lnTo>
                <a:lnTo>
                  <a:pt x="42" y="132"/>
                </a:lnTo>
                <a:lnTo>
                  <a:pt x="72" y="75"/>
                </a:lnTo>
                <a:lnTo>
                  <a:pt x="78" y="62"/>
                </a:lnTo>
                <a:lnTo>
                  <a:pt x="80" y="55"/>
                </a:lnTo>
                <a:lnTo>
                  <a:pt x="81" y="48"/>
                </a:lnTo>
                <a:lnTo>
                  <a:pt x="81" y="0"/>
                </a:lnTo>
                <a:lnTo>
                  <a:pt x="0" y="1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126"/>
          <p:cNvSpPr/>
          <p:nvPr/>
        </p:nvSpPr>
        <p:spPr>
          <a:xfrm>
            <a:off x="7666200" y="3753000"/>
            <a:ext cx="360" cy="195120"/>
          </a:xfrm>
          <a:custGeom>
            <a:avLst/>
            <a:gdLst/>
            <a:ahLst/>
            <a:rect l="l" t="t" r="r" b="b"/>
            <a:pathLst>
              <a:path w="0" h="123">
                <a:moveTo>
                  <a:pt x="0" y="0"/>
                </a:moveTo>
                <a:lnTo>
                  <a:pt x="0" y="123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127"/>
          <p:cNvSpPr/>
          <p:nvPr/>
        </p:nvSpPr>
        <p:spPr>
          <a:xfrm>
            <a:off x="7535880" y="3774960"/>
            <a:ext cx="66600" cy="187560"/>
          </a:xfrm>
          <a:custGeom>
            <a:avLst/>
            <a:gdLst>
              <a:gd name="textAreaLeft" fmla="*/ 0 w 66600"/>
              <a:gd name="textAreaRight" fmla="*/ 66960 w 6660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42" h="118">
                <a:moveTo>
                  <a:pt x="0" y="0"/>
                </a:moveTo>
                <a:lnTo>
                  <a:pt x="0" y="43"/>
                </a:lnTo>
                <a:lnTo>
                  <a:pt x="42" y="43"/>
                </a:lnTo>
                <a:lnTo>
                  <a:pt x="42" y="118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128"/>
          <p:cNvSpPr/>
          <p:nvPr/>
        </p:nvSpPr>
        <p:spPr>
          <a:xfrm>
            <a:off x="6967440" y="3841920"/>
            <a:ext cx="644760" cy="174600"/>
          </a:xfrm>
          <a:custGeom>
            <a:avLst/>
            <a:gdLst>
              <a:gd name="textAreaLeft" fmla="*/ 0 w 644760"/>
              <a:gd name="textAreaRight" fmla="*/ 645120 w 644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406" h="110">
                <a:moveTo>
                  <a:pt x="406" y="0"/>
                </a:moveTo>
                <a:lnTo>
                  <a:pt x="400" y="12"/>
                </a:lnTo>
                <a:lnTo>
                  <a:pt x="271" y="99"/>
                </a:lnTo>
                <a:lnTo>
                  <a:pt x="11" y="110"/>
                </a:lnTo>
                <a:lnTo>
                  <a:pt x="0" y="105"/>
                </a:lnTo>
                <a:lnTo>
                  <a:pt x="406" y="0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129"/>
          <p:cNvSpPr/>
          <p:nvPr/>
        </p:nvSpPr>
        <p:spPr>
          <a:xfrm>
            <a:off x="6969240" y="3824280"/>
            <a:ext cx="642960" cy="184320"/>
          </a:xfrm>
          <a:custGeom>
            <a:avLst/>
            <a:gdLst>
              <a:gd name="textAreaLeft" fmla="*/ 0 w 642960"/>
              <a:gd name="textAreaRight" fmla="*/ 643320 w 642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405" h="116">
                <a:moveTo>
                  <a:pt x="0" y="116"/>
                </a:moveTo>
                <a:lnTo>
                  <a:pt x="266" y="101"/>
                </a:lnTo>
                <a:lnTo>
                  <a:pt x="405" y="12"/>
                </a:lnTo>
                <a:lnTo>
                  <a:pt x="405" y="0"/>
                </a:lnTo>
                <a:lnTo>
                  <a:pt x="0" y="105"/>
                </a:lnTo>
                <a:lnTo>
                  <a:pt x="0" y="116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130"/>
          <p:cNvSpPr/>
          <p:nvPr/>
        </p:nvSpPr>
        <p:spPr>
          <a:xfrm>
            <a:off x="7391520" y="3952800"/>
            <a:ext cx="360" cy="31680"/>
          </a:xfrm>
          <a:custGeom>
            <a:avLst/>
            <a:gdLst/>
            <a:ahLst/>
            <a:rect l="l" t="t" r="r" b="b"/>
            <a:pathLst>
              <a:path w="0" h="20">
                <a:moveTo>
                  <a:pt x="0" y="20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131"/>
          <p:cNvSpPr/>
          <p:nvPr/>
        </p:nvSpPr>
        <p:spPr>
          <a:xfrm>
            <a:off x="6969240" y="3970440"/>
            <a:ext cx="342720" cy="38160"/>
          </a:xfrm>
          <a:custGeom>
            <a:avLst/>
            <a:gdLst>
              <a:gd name="textAreaLeft" fmla="*/ 0 w 342720"/>
              <a:gd name="textAreaRight" fmla="*/ 343080 w 3427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16" h="24">
                <a:moveTo>
                  <a:pt x="0" y="13"/>
                </a:moveTo>
                <a:lnTo>
                  <a:pt x="0" y="24"/>
                </a:lnTo>
                <a:lnTo>
                  <a:pt x="206" y="12"/>
                </a:lnTo>
                <a:lnTo>
                  <a:pt x="210" y="7"/>
                </a:lnTo>
                <a:lnTo>
                  <a:pt x="216" y="0"/>
                </a:lnTo>
                <a:lnTo>
                  <a:pt x="0" y="1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132"/>
          <p:cNvSpPr/>
          <p:nvPr/>
        </p:nvSpPr>
        <p:spPr>
          <a:xfrm>
            <a:off x="6969240" y="3824280"/>
            <a:ext cx="642960" cy="182520"/>
          </a:xfrm>
          <a:custGeom>
            <a:avLst/>
            <a:gdLst>
              <a:gd name="textAreaLeft" fmla="*/ 0 w 642960"/>
              <a:gd name="textAreaRight" fmla="*/ 643320 w 6429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05" h="115">
                <a:moveTo>
                  <a:pt x="0" y="115"/>
                </a:moveTo>
                <a:lnTo>
                  <a:pt x="266" y="101"/>
                </a:lnTo>
                <a:lnTo>
                  <a:pt x="405" y="11"/>
                </a:lnTo>
                <a:lnTo>
                  <a:pt x="405" y="0"/>
                </a:lnTo>
                <a:lnTo>
                  <a:pt x="0" y="105"/>
                </a:lnTo>
                <a:lnTo>
                  <a:pt x="0" y="115"/>
                </a:lnTo>
                <a:close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133"/>
          <p:cNvSpPr/>
          <p:nvPr/>
        </p:nvSpPr>
        <p:spPr>
          <a:xfrm>
            <a:off x="6967440" y="3816360"/>
            <a:ext cx="644760" cy="174600"/>
          </a:xfrm>
          <a:custGeom>
            <a:avLst/>
            <a:gdLst>
              <a:gd name="textAreaLeft" fmla="*/ 0 w 644760"/>
              <a:gd name="textAreaRight" fmla="*/ 645120 w 644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406" h="110">
                <a:moveTo>
                  <a:pt x="358" y="0"/>
                </a:moveTo>
                <a:lnTo>
                  <a:pt x="124" y="33"/>
                </a:lnTo>
                <a:lnTo>
                  <a:pt x="0" y="110"/>
                </a:lnTo>
                <a:lnTo>
                  <a:pt x="268" y="93"/>
                </a:lnTo>
                <a:lnTo>
                  <a:pt x="406" y="5"/>
                </a:lnTo>
                <a:lnTo>
                  <a:pt x="358" y="7"/>
                </a:lnTo>
                <a:lnTo>
                  <a:pt x="358" y="0"/>
                </a:lnTo>
                <a:close/>
              </a:path>
            </a:pathLst>
          </a:custGeom>
          <a:solidFill>
            <a:srgbClr val="000000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134"/>
          <p:cNvSpPr/>
          <p:nvPr/>
        </p:nvSpPr>
        <p:spPr>
          <a:xfrm>
            <a:off x="7513560" y="3882960"/>
            <a:ext cx="403200" cy="476280"/>
          </a:xfrm>
          <a:custGeom>
            <a:avLst/>
            <a:gdLst>
              <a:gd name="textAreaLeft" fmla="*/ 0 w 403200"/>
              <a:gd name="textAreaRight" fmla="*/ 403560 w 4032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4" h="300">
                <a:moveTo>
                  <a:pt x="0" y="64"/>
                </a:moveTo>
                <a:lnTo>
                  <a:pt x="0" y="289"/>
                </a:lnTo>
                <a:lnTo>
                  <a:pt x="67" y="300"/>
                </a:lnTo>
                <a:lnTo>
                  <a:pt x="254" y="284"/>
                </a:lnTo>
                <a:lnTo>
                  <a:pt x="253" y="67"/>
                </a:lnTo>
                <a:lnTo>
                  <a:pt x="169" y="0"/>
                </a:lnTo>
                <a:lnTo>
                  <a:pt x="54" y="59"/>
                </a:lnTo>
                <a:lnTo>
                  <a:pt x="0" y="64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135"/>
          <p:cNvSpPr/>
          <p:nvPr/>
        </p:nvSpPr>
        <p:spPr>
          <a:xfrm>
            <a:off x="7513560" y="3984480"/>
            <a:ext cx="108000" cy="360360"/>
          </a:xfrm>
          <a:custGeom>
            <a:avLst/>
            <a:gdLst>
              <a:gd name="textAreaLeft" fmla="*/ 0 w 108000"/>
              <a:gd name="textAreaRight" fmla="*/ 108360 w 10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8" h="227">
                <a:moveTo>
                  <a:pt x="0" y="0"/>
                </a:moveTo>
                <a:lnTo>
                  <a:pt x="0" y="225"/>
                </a:lnTo>
                <a:lnTo>
                  <a:pt x="17" y="227"/>
                </a:lnTo>
                <a:lnTo>
                  <a:pt x="23" y="211"/>
                </a:lnTo>
                <a:lnTo>
                  <a:pt x="26" y="196"/>
                </a:lnTo>
                <a:lnTo>
                  <a:pt x="26" y="180"/>
                </a:lnTo>
                <a:lnTo>
                  <a:pt x="59" y="102"/>
                </a:lnTo>
                <a:lnTo>
                  <a:pt x="64" y="92"/>
                </a:lnTo>
                <a:lnTo>
                  <a:pt x="67" y="82"/>
                </a:lnTo>
                <a:lnTo>
                  <a:pt x="68" y="72"/>
                </a:lnTo>
                <a:lnTo>
                  <a:pt x="68" y="6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136"/>
          <p:cNvSpPr/>
          <p:nvPr/>
        </p:nvSpPr>
        <p:spPr>
          <a:xfrm>
            <a:off x="7513560" y="3984480"/>
            <a:ext cx="106560" cy="374760"/>
          </a:xfrm>
          <a:custGeom>
            <a:avLst/>
            <a:gdLst>
              <a:gd name="textAreaLeft" fmla="*/ 0 w 106560"/>
              <a:gd name="textAreaRight" fmla="*/ 106920 w 1065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67" h="236">
                <a:moveTo>
                  <a:pt x="0" y="0"/>
                </a:moveTo>
                <a:lnTo>
                  <a:pt x="0" y="225"/>
                </a:lnTo>
                <a:lnTo>
                  <a:pt x="67" y="236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137"/>
          <p:cNvSpPr/>
          <p:nvPr/>
        </p:nvSpPr>
        <p:spPr>
          <a:xfrm>
            <a:off x="7621560" y="3971880"/>
            <a:ext cx="360" cy="387360"/>
          </a:xfrm>
          <a:custGeom>
            <a:avLst/>
            <a:gdLst/>
            <a:ahLst/>
            <a:rect l="l" t="t" r="r" b="b"/>
            <a:pathLst>
              <a:path w="0" h="244">
                <a:moveTo>
                  <a:pt x="0" y="0"/>
                </a:moveTo>
                <a:lnTo>
                  <a:pt x="0" y="244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138"/>
          <p:cNvSpPr/>
          <p:nvPr/>
        </p:nvSpPr>
        <p:spPr>
          <a:xfrm>
            <a:off x="7512120" y="4260960"/>
            <a:ext cx="403200" cy="19080"/>
          </a:xfrm>
          <a:custGeom>
            <a:avLst/>
            <a:gdLst>
              <a:gd name="textAreaLeft" fmla="*/ 0 w 403200"/>
              <a:gd name="textAreaRight" fmla="*/ 403560 w 403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54" h="12">
                <a:moveTo>
                  <a:pt x="0" y="6"/>
                </a:moveTo>
                <a:lnTo>
                  <a:pt x="70" y="12"/>
                </a:lnTo>
                <a:lnTo>
                  <a:pt x="254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39"/>
          <p:cNvSpPr/>
          <p:nvPr/>
        </p:nvSpPr>
        <p:spPr>
          <a:xfrm>
            <a:off x="7500960" y="3865680"/>
            <a:ext cx="430200" cy="131760"/>
          </a:xfrm>
          <a:custGeom>
            <a:avLst/>
            <a:gdLst>
              <a:gd name="textAreaLeft" fmla="*/ 0 w 430200"/>
              <a:gd name="textAreaRight" fmla="*/ 430560 w 430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1" h="83">
                <a:moveTo>
                  <a:pt x="0" y="78"/>
                </a:moveTo>
                <a:lnTo>
                  <a:pt x="7" y="83"/>
                </a:lnTo>
                <a:lnTo>
                  <a:pt x="76" y="81"/>
                </a:lnTo>
                <a:lnTo>
                  <a:pt x="181" y="17"/>
                </a:lnTo>
                <a:lnTo>
                  <a:pt x="261" y="78"/>
                </a:lnTo>
                <a:lnTo>
                  <a:pt x="271" y="74"/>
                </a:lnTo>
                <a:lnTo>
                  <a:pt x="267" y="66"/>
                </a:lnTo>
                <a:lnTo>
                  <a:pt x="183" y="0"/>
                </a:lnTo>
                <a:lnTo>
                  <a:pt x="78" y="44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140"/>
          <p:cNvSpPr/>
          <p:nvPr/>
        </p:nvSpPr>
        <p:spPr>
          <a:xfrm>
            <a:off x="7500960" y="3855960"/>
            <a:ext cx="430200" cy="133560"/>
          </a:xfrm>
          <a:custGeom>
            <a:avLst/>
            <a:gdLst>
              <a:gd name="textAreaLeft" fmla="*/ 0 w 430200"/>
              <a:gd name="textAreaRight" fmla="*/ 430560 w 4302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71" h="84">
                <a:moveTo>
                  <a:pt x="0" y="75"/>
                </a:moveTo>
                <a:lnTo>
                  <a:pt x="0" y="84"/>
                </a:lnTo>
                <a:lnTo>
                  <a:pt x="72" y="80"/>
                </a:lnTo>
                <a:lnTo>
                  <a:pt x="183" y="14"/>
                </a:lnTo>
                <a:lnTo>
                  <a:pt x="271" y="80"/>
                </a:lnTo>
                <a:lnTo>
                  <a:pt x="271" y="70"/>
                </a:lnTo>
                <a:lnTo>
                  <a:pt x="182" y="0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141"/>
          <p:cNvSpPr/>
          <p:nvPr/>
        </p:nvSpPr>
        <p:spPr>
          <a:xfrm>
            <a:off x="7500960" y="3940200"/>
            <a:ext cx="101520" cy="49320"/>
          </a:xfrm>
          <a:custGeom>
            <a:avLst/>
            <a:gdLst>
              <a:gd name="textAreaLeft" fmla="*/ 0 w 101520"/>
              <a:gd name="textAreaRight" fmla="*/ 101880 w 1015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64" h="31">
                <a:moveTo>
                  <a:pt x="0" y="22"/>
                </a:moveTo>
                <a:lnTo>
                  <a:pt x="0" y="31"/>
                </a:lnTo>
                <a:lnTo>
                  <a:pt x="36" y="29"/>
                </a:lnTo>
                <a:lnTo>
                  <a:pt x="61" y="15"/>
                </a:lnTo>
                <a:lnTo>
                  <a:pt x="64" y="0"/>
                </a:lnTo>
                <a:lnTo>
                  <a:pt x="0" y="2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42"/>
          <p:cNvSpPr/>
          <p:nvPr/>
        </p:nvSpPr>
        <p:spPr>
          <a:xfrm>
            <a:off x="7500960" y="397512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9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143"/>
          <p:cNvSpPr/>
          <p:nvPr/>
        </p:nvSpPr>
        <p:spPr>
          <a:xfrm>
            <a:off x="7616880" y="3959280"/>
            <a:ext cx="360" cy="22320"/>
          </a:xfrm>
          <a:custGeom>
            <a:avLst/>
            <a:gdLst/>
            <a:ahLst/>
            <a:rect l="l" t="t" r="r" b="b"/>
            <a:pathLst>
              <a:path w="0" h="14">
                <a:moveTo>
                  <a:pt x="0" y="14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144"/>
          <p:cNvSpPr/>
          <p:nvPr/>
        </p:nvSpPr>
        <p:spPr>
          <a:xfrm>
            <a:off x="7647120" y="4106880"/>
            <a:ext cx="46080" cy="171360"/>
          </a:xfrm>
          <a:custGeom>
            <a:avLst/>
            <a:gdLst>
              <a:gd name="textAreaLeft" fmla="*/ 0 w 46080"/>
              <a:gd name="textAreaRight" fmla="*/ 46440 w 460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9" h="108">
                <a:moveTo>
                  <a:pt x="0" y="108"/>
                </a:moveTo>
                <a:lnTo>
                  <a:pt x="0" y="19"/>
                </a:lnTo>
                <a:lnTo>
                  <a:pt x="1" y="14"/>
                </a:lnTo>
                <a:lnTo>
                  <a:pt x="2" y="8"/>
                </a:lnTo>
                <a:lnTo>
                  <a:pt x="4" y="5"/>
                </a:lnTo>
                <a:lnTo>
                  <a:pt x="7" y="2"/>
                </a:lnTo>
                <a:lnTo>
                  <a:pt x="9" y="1"/>
                </a:lnTo>
                <a:lnTo>
                  <a:pt x="14" y="0"/>
                </a:lnTo>
                <a:lnTo>
                  <a:pt x="19" y="1"/>
                </a:lnTo>
                <a:lnTo>
                  <a:pt x="23" y="3"/>
                </a:lnTo>
                <a:lnTo>
                  <a:pt x="25" y="5"/>
                </a:lnTo>
                <a:lnTo>
                  <a:pt x="27" y="10"/>
                </a:lnTo>
                <a:lnTo>
                  <a:pt x="28" y="15"/>
                </a:lnTo>
                <a:lnTo>
                  <a:pt x="28" y="19"/>
                </a:lnTo>
                <a:lnTo>
                  <a:pt x="29" y="105"/>
                </a:lnTo>
                <a:lnTo>
                  <a:pt x="0" y="108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145"/>
          <p:cNvSpPr/>
          <p:nvPr/>
        </p:nvSpPr>
        <p:spPr>
          <a:xfrm>
            <a:off x="7850160" y="4102200"/>
            <a:ext cx="41400" cy="162000"/>
          </a:xfrm>
          <a:custGeom>
            <a:avLst/>
            <a:gdLst>
              <a:gd name="textAreaLeft" fmla="*/ 0 w 41400"/>
              <a:gd name="textAreaRight" fmla="*/ 41760 w 414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26" h="102">
                <a:moveTo>
                  <a:pt x="0" y="102"/>
                </a:moveTo>
                <a:lnTo>
                  <a:pt x="0" y="18"/>
                </a:lnTo>
                <a:lnTo>
                  <a:pt x="0" y="13"/>
                </a:lnTo>
                <a:lnTo>
                  <a:pt x="1" y="8"/>
                </a:lnTo>
                <a:lnTo>
                  <a:pt x="4" y="4"/>
                </a:lnTo>
                <a:lnTo>
                  <a:pt x="6" y="2"/>
                </a:lnTo>
                <a:lnTo>
                  <a:pt x="9" y="0"/>
                </a:lnTo>
                <a:lnTo>
                  <a:pt x="13" y="0"/>
                </a:lnTo>
                <a:lnTo>
                  <a:pt x="17" y="1"/>
                </a:lnTo>
                <a:lnTo>
                  <a:pt x="21" y="2"/>
                </a:lnTo>
                <a:lnTo>
                  <a:pt x="23" y="4"/>
                </a:lnTo>
                <a:lnTo>
                  <a:pt x="25" y="8"/>
                </a:lnTo>
                <a:lnTo>
                  <a:pt x="26" y="14"/>
                </a:lnTo>
                <a:lnTo>
                  <a:pt x="26" y="18"/>
                </a:lnTo>
                <a:lnTo>
                  <a:pt x="26" y="101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146"/>
          <p:cNvSpPr/>
          <p:nvPr/>
        </p:nvSpPr>
        <p:spPr>
          <a:xfrm>
            <a:off x="7721640" y="4151160"/>
            <a:ext cx="109440" cy="198720"/>
          </a:xfrm>
          <a:custGeom>
            <a:avLst/>
            <a:gdLst>
              <a:gd name="textAreaLeft" fmla="*/ 0 w 109440"/>
              <a:gd name="textAreaRight" fmla="*/ 109800 w 10944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69" h="125">
                <a:moveTo>
                  <a:pt x="0" y="125"/>
                </a:moveTo>
                <a:lnTo>
                  <a:pt x="0" y="40"/>
                </a:lnTo>
                <a:lnTo>
                  <a:pt x="1" y="33"/>
                </a:lnTo>
                <a:lnTo>
                  <a:pt x="2" y="25"/>
                </a:lnTo>
                <a:lnTo>
                  <a:pt x="5" y="18"/>
                </a:lnTo>
                <a:lnTo>
                  <a:pt x="8" y="13"/>
                </a:lnTo>
                <a:lnTo>
                  <a:pt x="13" y="7"/>
                </a:lnTo>
                <a:lnTo>
                  <a:pt x="18" y="4"/>
                </a:lnTo>
                <a:lnTo>
                  <a:pt x="24" y="1"/>
                </a:lnTo>
                <a:lnTo>
                  <a:pt x="31" y="0"/>
                </a:lnTo>
                <a:lnTo>
                  <a:pt x="38" y="0"/>
                </a:lnTo>
                <a:lnTo>
                  <a:pt x="44" y="1"/>
                </a:lnTo>
                <a:lnTo>
                  <a:pt x="49" y="2"/>
                </a:lnTo>
                <a:lnTo>
                  <a:pt x="54" y="5"/>
                </a:lnTo>
                <a:lnTo>
                  <a:pt x="59" y="9"/>
                </a:lnTo>
                <a:lnTo>
                  <a:pt x="63" y="13"/>
                </a:lnTo>
                <a:lnTo>
                  <a:pt x="65" y="18"/>
                </a:lnTo>
                <a:lnTo>
                  <a:pt x="67" y="23"/>
                </a:lnTo>
                <a:lnTo>
                  <a:pt x="68" y="28"/>
                </a:lnTo>
                <a:lnTo>
                  <a:pt x="68" y="37"/>
                </a:lnTo>
                <a:lnTo>
                  <a:pt x="69" y="44"/>
                </a:lnTo>
                <a:lnTo>
                  <a:pt x="69" y="120"/>
                </a:ln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147"/>
          <p:cNvSpPr/>
          <p:nvPr/>
        </p:nvSpPr>
        <p:spPr>
          <a:xfrm>
            <a:off x="7775640" y="4151160"/>
            <a:ext cx="360" cy="193680"/>
          </a:xfrm>
          <a:custGeom>
            <a:avLst/>
            <a:gdLst/>
            <a:ahLst/>
            <a:rect l="l" t="t" r="r" b="b"/>
            <a:pathLst>
              <a:path w="0" h="122">
                <a:moveTo>
                  <a:pt x="0" y="0"/>
                </a:moveTo>
                <a:lnTo>
                  <a:pt x="0" y="122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48"/>
          <p:cNvSpPr/>
          <p:nvPr/>
        </p:nvSpPr>
        <p:spPr>
          <a:xfrm>
            <a:off x="7767720" y="4251240"/>
            <a:ext cx="360" cy="1908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149"/>
          <p:cNvSpPr/>
          <p:nvPr/>
        </p:nvSpPr>
        <p:spPr>
          <a:xfrm>
            <a:off x="7785000" y="4251240"/>
            <a:ext cx="360" cy="1908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150"/>
          <p:cNvSpPr/>
          <p:nvPr/>
        </p:nvSpPr>
        <p:spPr>
          <a:xfrm>
            <a:off x="7719840" y="3990960"/>
            <a:ext cx="32040" cy="112680"/>
          </a:xfrm>
          <a:custGeom>
            <a:avLst/>
            <a:gdLst>
              <a:gd name="textAreaLeft" fmla="*/ 0 w 32040"/>
              <a:gd name="textAreaRight" fmla="*/ 32400 w 320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0" h="71">
                <a:moveTo>
                  <a:pt x="0" y="71"/>
                </a:moveTo>
                <a:lnTo>
                  <a:pt x="0" y="10"/>
                </a:lnTo>
                <a:lnTo>
                  <a:pt x="1" y="7"/>
                </a:lnTo>
                <a:lnTo>
                  <a:pt x="2" y="4"/>
                </a:lnTo>
                <a:lnTo>
                  <a:pt x="5" y="2"/>
                </a:lnTo>
                <a:lnTo>
                  <a:pt x="8" y="1"/>
                </a:lnTo>
                <a:lnTo>
                  <a:pt x="12" y="0"/>
                </a:lnTo>
                <a:lnTo>
                  <a:pt x="15" y="1"/>
                </a:lnTo>
                <a:lnTo>
                  <a:pt x="17" y="3"/>
                </a:lnTo>
                <a:lnTo>
                  <a:pt x="19" y="5"/>
                </a:lnTo>
                <a:lnTo>
                  <a:pt x="20" y="7"/>
                </a:lnTo>
                <a:lnTo>
                  <a:pt x="20" y="10"/>
                </a:lnTo>
                <a:lnTo>
                  <a:pt x="20" y="70"/>
                </a:lnTo>
                <a:lnTo>
                  <a:pt x="0" y="71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51"/>
          <p:cNvSpPr/>
          <p:nvPr/>
        </p:nvSpPr>
        <p:spPr>
          <a:xfrm>
            <a:off x="7804080" y="3989520"/>
            <a:ext cx="31680" cy="110880"/>
          </a:xfrm>
          <a:custGeom>
            <a:avLst/>
            <a:gdLst>
              <a:gd name="textAreaLeft" fmla="*/ 0 w 31680"/>
              <a:gd name="textAreaRight" fmla="*/ 32040 w 316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20" h="70">
                <a:moveTo>
                  <a:pt x="0" y="70"/>
                </a:moveTo>
                <a:lnTo>
                  <a:pt x="0" y="10"/>
                </a:lnTo>
                <a:lnTo>
                  <a:pt x="1" y="6"/>
                </a:lnTo>
                <a:lnTo>
                  <a:pt x="3" y="3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1"/>
                </a:lnTo>
                <a:lnTo>
                  <a:pt x="17" y="3"/>
                </a:lnTo>
                <a:lnTo>
                  <a:pt x="19" y="6"/>
                </a:lnTo>
                <a:lnTo>
                  <a:pt x="20" y="10"/>
                </a:lnTo>
                <a:lnTo>
                  <a:pt x="20" y="70"/>
                </a:lnTo>
                <a:lnTo>
                  <a:pt x="0" y="70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52"/>
          <p:cNvSpPr/>
          <p:nvPr/>
        </p:nvSpPr>
        <p:spPr>
          <a:xfrm>
            <a:off x="7759800" y="3965400"/>
            <a:ext cx="36360" cy="136800"/>
          </a:xfrm>
          <a:custGeom>
            <a:avLst/>
            <a:gdLst>
              <a:gd name="textAreaLeft" fmla="*/ 0 w 36360"/>
              <a:gd name="textAreaRight" fmla="*/ 36720 w 3636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23" h="86">
                <a:moveTo>
                  <a:pt x="0" y="86"/>
                </a:moveTo>
                <a:lnTo>
                  <a:pt x="0" y="12"/>
                </a:lnTo>
                <a:lnTo>
                  <a:pt x="1" y="8"/>
                </a:lnTo>
                <a:lnTo>
                  <a:pt x="2" y="5"/>
                </a:lnTo>
                <a:lnTo>
                  <a:pt x="3" y="3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7" y="0"/>
                </a:lnTo>
                <a:lnTo>
                  <a:pt x="20" y="2"/>
                </a:lnTo>
                <a:lnTo>
                  <a:pt x="22" y="5"/>
                </a:lnTo>
                <a:lnTo>
                  <a:pt x="23" y="7"/>
                </a:lnTo>
                <a:lnTo>
                  <a:pt x="23" y="11"/>
                </a:lnTo>
                <a:lnTo>
                  <a:pt x="23" y="86"/>
                </a:lnTo>
                <a:lnTo>
                  <a:pt x="0" y="86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153"/>
          <p:cNvSpPr/>
          <p:nvPr/>
        </p:nvSpPr>
        <p:spPr>
          <a:xfrm>
            <a:off x="7721640" y="4322880"/>
            <a:ext cx="36360" cy="31680"/>
          </a:xfrm>
          <a:custGeom>
            <a:avLst/>
            <a:gdLst>
              <a:gd name="textAreaLeft" fmla="*/ 0 w 36360"/>
              <a:gd name="textAreaRight" fmla="*/ 36720 w 363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3" h="20">
                <a:moveTo>
                  <a:pt x="0" y="0"/>
                </a:moveTo>
                <a:lnTo>
                  <a:pt x="0" y="17"/>
                </a:lnTo>
                <a:lnTo>
                  <a:pt x="21" y="20"/>
                </a:lnTo>
                <a:lnTo>
                  <a:pt x="23" y="2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154"/>
          <p:cNvSpPr/>
          <p:nvPr/>
        </p:nvSpPr>
        <p:spPr>
          <a:xfrm>
            <a:off x="7721640" y="4316400"/>
            <a:ext cx="142920" cy="39600"/>
          </a:xfrm>
          <a:custGeom>
            <a:avLst/>
            <a:gdLst>
              <a:gd name="textAreaLeft" fmla="*/ 0 w 142920"/>
              <a:gd name="textAreaRight" fmla="*/ 143280 w 1429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0" h="25">
                <a:moveTo>
                  <a:pt x="0" y="4"/>
                </a:moveTo>
                <a:lnTo>
                  <a:pt x="69" y="0"/>
                </a:lnTo>
                <a:lnTo>
                  <a:pt x="80" y="2"/>
                </a:lnTo>
                <a:lnTo>
                  <a:pt x="80" y="8"/>
                </a:lnTo>
                <a:lnTo>
                  <a:pt x="90" y="11"/>
                </a:lnTo>
                <a:lnTo>
                  <a:pt x="90" y="20"/>
                </a:lnTo>
                <a:lnTo>
                  <a:pt x="21" y="25"/>
                </a:lnTo>
                <a:lnTo>
                  <a:pt x="21" y="15"/>
                </a:lnTo>
                <a:lnTo>
                  <a:pt x="13" y="13"/>
                </a:lnTo>
                <a:lnTo>
                  <a:pt x="13" y="6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155"/>
          <p:cNvSpPr/>
          <p:nvPr/>
        </p:nvSpPr>
        <p:spPr>
          <a:xfrm>
            <a:off x="7754760" y="4334040"/>
            <a:ext cx="108000" cy="6120"/>
          </a:xfrm>
          <a:custGeom>
            <a:avLst/>
            <a:gdLst>
              <a:gd name="textAreaLeft" fmla="*/ 0 w 108000"/>
              <a:gd name="textAreaRight" fmla="*/ 108360 w 108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68" h="4">
                <a:moveTo>
                  <a:pt x="0" y="4"/>
                </a:moveTo>
                <a:lnTo>
                  <a:pt x="68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156"/>
          <p:cNvSpPr/>
          <p:nvPr/>
        </p:nvSpPr>
        <p:spPr>
          <a:xfrm>
            <a:off x="7742160" y="4329000"/>
            <a:ext cx="106560" cy="6480"/>
          </a:xfrm>
          <a:custGeom>
            <a:avLst/>
            <a:gdLst>
              <a:gd name="textAreaLeft" fmla="*/ 0 w 106560"/>
              <a:gd name="textAreaRight" fmla="*/ 106920 w 1065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7" h="4">
                <a:moveTo>
                  <a:pt x="0" y="4"/>
                </a:moveTo>
                <a:lnTo>
                  <a:pt x="67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57"/>
          <p:cNvSpPr/>
          <p:nvPr/>
        </p:nvSpPr>
        <p:spPr>
          <a:xfrm>
            <a:off x="7742160" y="4319640"/>
            <a:ext cx="104760" cy="6120"/>
          </a:xfrm>
          <a:custGeom>
            <a:avLst/>
            <a:gdLst>
              <a:gd name="textAreaLeft" fmla="*/ 0 w 104760"/>
              <a:gd name="textAreaRight" fmla="*/ 105120 w 1047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66" h="4">
                <a:moveTo>
                  <a:pt x="0" y="4"/>
                </a:moveTo>
                <a:lnTo>
                  <a:pt x="66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58"/>
          <p:cNvSpPr/>
          <p:nvPr/>
        </p:nvSpPr>
        <p:spPr>
          <a:xfrm>
            <a:off x="6629400" y="4421160"/>
            <a:ext cx="157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manos  16:3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59"/>
          <p:cNvSpPr/>
          <p:nvPr/>
        </p:nvSpPr>
        <p:spPr>
          <a:xfrm>
            <a:off x="6727680" y="4894200"/>
            <a:ext cx="1446480" cy="117324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reeform 160"/>
          <p:cNvSpPr/>
          <p:nvPr/>
        </p:nvSpPr>
        <p:spPr>
          <a:xfrm>
            <a:off x="6986520" y="5187960"/>
            <a:ext cx="723960" cy="525600"/>
          </a:xfrm>
          <a:custGeom>
            <a:avLst/>
            <a:gdLst>
              <a:gd name="textAreaLeft" fmla="*/ 0 w 723960"/>
              <a:gd name="textAreaRight" fmla="*/ 724320 w 723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456" h="331">
                <a:moveTo>
                  <a:pt x="0" y="106"/>
                </a:moveTo>
                <a:lnTo>
                  <a:pt x="0" y="289"/>
                </a:lnTo>
                <a:lnTo>
                  <a:pt x="258" y="331"/>
                </a:lnTo>
                <a:lnTo>
                  <a:pt x="379" y="321"/>
                </a:lnTo>
                <a:lnTo>
                  <a:pt x="456" y="0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161"/>
          <p:cNvSpPr/>
          <p:nvPr/>
        </p:nvSpPr>
        <p:spPr>
          <a:xfrm>
            <a:off x="6986520" y="5291280"/>
            <a:ext cx="411120" cy="388800"/>
          </a:xfrm>
          <a:custGeom>
            <a:avLst/>
            <a:gdLst>
              <a:gd name="textAreaLeft" fmla="*/ 0 w 411120"/>
              <a:gd name="textAreaRight" fmla="*/ 411480 w 4111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59" h="245">
                <a:moveTo>
                  <a:pt x="0" y="41"/>
                </a:moveTo>
                <a:lnTo>
                  <a:pt x="0" y="224"/>
                </a:lnTo>
                <a:lnTo>
                  <a:pt x="129" y="245"/>
                </a:lnTo>
                <a:lnTo>
                  <a:pt x="158" y="229"/>
                </a:lnTo>
                <a:lnTo>
                  <a:pt x="171" y="218"/>
                </a:lnTo>
                <a:lnTo>
                  <a:pt x="183" y="206"/>
                </a:lnTo>
                <a:lnTo>
                  <a:pt x="194" y="193"/>
                </a:lnTo>
                <a:lnTo>
                  <a:pt x="207" y="174"/>
                </a:lnTo>
                <a:lnTo>
                  <a:pt x="243" y="108"/>
                </a:lnTo>
                <a:lnTo>
                  <a:pt x="247" y="100"/>
                </a:lnTo>
                <a:lnTo>
                  <a:pt x="252" y="92"/>
                </a:lnTo>
                <a:lnTo>
                  <a:pt x="259" y="85"/>
                </a:lnTo>
                <a:lnTo>
                  <a:pt x="259" y="0"/>
                </a:lnTo>
                <a:lnTo>
                  <a:pt x="0" y="4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162"/>
          <p:cNvSpPr/>
          <p:nvPr/>
        </p:nvSpPr>
        <p:spPr>
          <a:xfrm>
            <a:off x="7311960" y="5410080"/>
            <a:ext cx="44640" cy="187560"/>
          </a:xfrm>
          <a:custGeom>
            <a:avLst/>
            <a:gdLst>
              <a:gd name="textAreaLeft" fmla="*/ 0 w 44640"/>
              <a:gd name="textAreaRight" fmla="*/ 45000 w 446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8" h="118">
                <a:moveTo>
                  <a:pt x="0" y="116"/>
                </a:moveTo>
                <a:lnTo>
                  <a:pt x="28" y="118"/>
                </a:lnTo>
                <a:lnTo>
                  <a:pt x="28" y="17"/>
                </a:lnTo>
                <a:lnTo>
                  <a:pt x="28" y="13"/>
                </a:lnTo>
                <a:lnTo>
                  <a:pt x="28" y="11"/>
                </a:lnTo>
                <a:lnTo>
                  <a:pt x="27" y="8"/>
                </a:lnTo>
                <a:lnTo>
                  <a:pt x="26" y="6"/>
                </a:lnTo>
                <a:lnTo>
                  <a:pt x="25" y="3"/>
                </a:lnTo>
                <a:lnTo>
                  <a:pt x="23" y="1"/>
                </a:lnTo>
                <a:lnTo>
                  <a:pt x="20" y="0"/>
                </a:lnTo>
                <a:lnTo>
                  <a:pt x="17" y="0"/>
                </a:lnTo>
                <a:lnTo>
                  <a:pt x="15" y="0"/>
                </a:lnTo>
                <a:lnTo>
                  <a:pt x="12" y="0"/>
                </a:lnTo>
                <a:lnTo>
                  <a:pt x="9" y="0"/>
                </a:lnTo>
                <a:lnTo>
                  <a:pt x="7" y="0"/>
                </a:lnTo>
                <a:lnTo>
                  <a:pt x="4" y="2"/>
                </a:lnTo>
                <a:lnTo>
                  <a:pt x="3" y="4"/>
                </a:lnTo>
                <a:lnTo>
                  <a:pt x="1" y="8"/>
                </a:lnTo>
                <a:lnTo>
                  <a:pt x="1" y="11"/>
                </a:lnTo>
                <a:lnTo>
                  <a:pt x="0" y="14"/>
                </a:lnTo>
                <a:lnTo>
                  <a:pt x="0" y="17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163"/>
          <p:cNvSpPr/>
          <p:nvPr/>
        </p:nvSpPr>
        <p:spPr>
          <a:xfrm>
            <a:off x="7221600" y="5410080"/>
            <a:ext cx="41040" cy="181080"/>
          </a:xfrm>
          <a:custGeom>
            <a:avLst/>
            <a:gdLst>
              <a:gd name="textAreaLeft" fmla="*/ 0 w 41040"/>
              <a:gd name="textAreaRight" fmla="*/ 41400 w 410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6" h="114">
                <a:moveTo>
                  <a:pt x="0" y="113"/>
                </a:moveTo>
                <a:lnTo>
                  <a:pt x="26" y="114"/>
                </a:lnTo>
                <a:lnTo>
                  <a:pt x="26" y="18"/>
                </a:lnTo>
                <a:lnTo>
                  <a:pt x="26" y="12"/>
                </a:lnTo>
                <a:lnTo>
                  <a:pt x="24" y="8"/>
                </a:lnTo>
                <a:lnTo>
                  <a:pt x="22" y="4"/>
                </a:lnTo>
                <a:lnTo>
                  <a:pt x="19" y="1"/>
                </a:lnTo>
                <a:lnTo>
                  <a:pt x="15" y="0"/>
                </a:lnTo>
                <a:lnTo>
                  <a:pt x="11" y="0"/>
                </a:lnTo>
                <a:lnTo>
                  <a:pt x="9" y="1"/>
                </a:lnTo>
                <a:lnTo>
                  <a:pt x="5" y="3"/>
                </a:lnTo>
                <a:lnTo>
                  <a:pt x="3" y="6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0" y="113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64"/>
          <p:cNvSpPr/>
          <p:nvPr/>
        </p:nvSpPr>
        <p:spPr>
          <a:xfrm>
            <a:off x="7124760" y="5413320"/>
            <a:ext cx="39600" cy="173160"/>
          </a:xfrm>
          <a:custGeom>
            <a:avLst/>
            <a:gdLst>
              <a:gd name="textAreaLeft" fmla="*/ 0 w 39600"/>
              <a:gd name="textAreaRight" fmla="*/ 39960 w 3960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25" h="109">
                <a:moveTo>
                  <a:pt x="0" y="107"/>
                </a:moveTo>
                <a:lnTo>
                  <a:pt x="24" y="109"/>
                </a:lnTo>
                <a:lnTo>
                  <a:pt x="25" y="16"/>
                </a:lnTo>
                <a:lnTo>
                  <a:pt x="24" y="12"/>
                </a:lnTo>
                <a:lnTo>
                  <a:pt x="23" y="8"/>
                </a:lnTo>
                <a:lnTo>
                  <a:pt x="21" y="4"/>
                </a:lnTo>
                <a:lnTo>
                  <a:pt x="19" y="2"/>
                </a:lnTo>
                <a:lnTo>
                  <a:pt x="15" y="1"/>
                </a:lnTo>
                <a:lnTo>
                  <a:pt x="11" y="0"/>
                </a:lnTo>
                <a:lnTo>
                  <a:pt x="7" y="1"/>
                </a:lnTo>
                <a:lnTo>
                  <a:pt x="4" y="3"/>
                </a:lnTo>
                <a:lnTo>
                  <a:pt x="2" y="7"/>
                </a:lnTo>
                <a:lnTo>
                  <a:pt x="0" y="11"/>
                </a:lnTo>
                <a:lnTo>
                  <a:pt x="0" y="14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65"/>
          <p:cNvSpPr/>
          <p:nvPr/>
        </p:nvSpPr>
        <p:spPr>
          <a:xfrm>
            <a:off x="7037280" y="5416560"/>
            <a:ext cx="36720" cy="163440"/>
          </a:xfrm>
          <a:custGeom>
            <a:avLst/>
            <a:gdLst>
              <a:gd name="textAreaLeft" fmla="*/ 0 w 36720"/>
              <a:gd name="textAreaRight" fmla="*/ 37080 w 36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3" h="103">
                <a:moveTo>
                  <a:pt x="0" y="102"/>
                </a:moveTo>
                <a:lnTo>
                  <a:pt x="23" y="103"/>
                </a:lnTo>
                <a:lnTo>
                  <a:pt x="23" y="15"/>
                </a:lnTo>
                <a:lnTo>
                  <a:pt x="23" y="10"/>
                </a:lnTo>
                <a:lnTo>
                  <a:pt x="22" y="7"/>
                </a:lnTo>
                <a:lnTo>
                  <a:pt x="20" y="5"/>
                </a:lnTo>
                <a:lnTo>
                  <a:pt x="19" y="2"/>
                </a:lnTo>
                <a:lnTo>
                  <a:pt x="16" y="1"/>
                </a:lnTo>
                <a:lnTo>
                  <a:pt x="13" y="0"/>
                </a:lnTo>
                <a:lnTo>
                  <a:pt x="9" y="0"/>
                </a:lnTo>
                <a:lnTo>
                  <a:pt x="6" y="1"/>
                </a:lnTo>
                <a:lnTo>
                  <a:pt x="3" y="4"/>
                </a:lnTo>
                <a:lnTo>
                  <a:pt x="1" y="8"/>
                </a:lnTo>
                <a:lnTo>
                  <a:pt x="0" y="10"/>
                </a:lnTo>
                <a:lnTo>
                  <a:pt x="0" y="14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reeform 166"/>
          <p:cNvSpPr/>
          <p:nvPr/>
        </p:nvSpPr>
        <p:spPr>
          <a:xfrm>
            <a:off x="7397640" y="5353200"/>
            <a:ext cx="204840" cy="360360"/>
          </a:xfrm>
          <a:custGeom>
            <a:avLst/>
            <a:gdLst>
              <a:gd name="textAreaLeft" fmla="*/ 0 w 204840"/>
              <a:gd name="textAreaRight" fmla="*/ 205200 w 2048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29" h="227">
                <a:moveTo>
                  <a:pt x="76" y="0"/>
                </a:moveTo>
                <a:lnTo>
                  <a:pt x="0" y="177"/>
                </a:lnTo>
                <a:lnTo>
                  <a:pt x="0" y="227"/>
                </a:lnTo>
                <a:lnTo>
                  <a:pt x="129" y="216"/>
                </a:lnTo>
                <a:lnTo>
                  <a:pt x="76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167"/>
          <p:cNvSpPr/>
          <p:nvPr/>
        </p:nvSpPr>
        <p:spPr>
          <a:xfrm>
            <a:off x="7397640" y="5330880"/>
            <a:ext cx="360" cy="382680"/>
          </a:xfrm>
          <a:custGeom>
            <a:avLst/>
            <a:gdLst/>
            <a:ahLst/>
            <a:rect l="l" t="t" r="r" b="b"/>
            <a:pathLst>
              <a:path w="0" h="241">
                <a:moveTo>
                  <a:pt x="0" y="241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168"/>
          <p:cNvSpPr/>
          <p:nvPr/>
        </p:nvSpPr>
        <p:spPr>
          <a:xfrm>
            <a:off x="6986520" y="5600880"/>
            <a:ext cx="647640" cy="41040"/>
          </a:xfrm>
          <a:custGeom>
            <a:avLst/>
            <a:gdLst>
              <a:gd name="textAreaLeft" fmla="*/ 0 w 647640"/>
              <a:gd name="textAreaRight" fmla="*/ 648000 w 64764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408" h="26">
                <a:moveTo>
                  <a:pt x="0" y="0"/>
                </a:moveTo>
                <a:lnTo>
                  <a:pt x="258" y="26"/>
                </a:lnTo>
                <a:lnTo>
                  <a:pt x="408" y="15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169"/>
          <p:cNvSpPr/>
          <p:nvPr/>
        </p:nvSpPr>
        <p:spPr>
          <a:xfrm>
            <a:off x="6986520" y="5356080"/>
            <a:ext cx="800280" cy="357480"/>
          </a:xfrm>
          <a:custGeom>
            <a:avLst/>
            <a:gdLst>
              <a:gd name="textAreaLeft" fmla="*/ 0 w 800280"/>
              <a:gd name="textAreaRight" fmla="*/ 800640 w 800280"/>
              <a:gd name="textAreaTop" fmla="*/ 0 h 357480"/>
              <a:gd name="textAreaBottom" fmla="*/ 357480 h 357480"/>
            </a:gdLst>
            <a:ahLst/>
            <a:rect l="textAreaLeft" t="textAreaTop" r="textAreaRight" b="textAreaBottom"/>
            <a:pathLst>
              <a:path w="504" h="225">
                <a:moveTo>
                  <a:pt x="0" y="0"/>
                </a:moveTo>
                <a:lnTo>
                  <a:pt x="0" y="183"/>
                </a:lnTo>
                <a:lnTo>
                  <a:pt x="258" y="225"/>
                </a:lnTo>
                <a:lnTo>
                  <a:pt x="504" y="205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reeform 170"/>
          <p:cNvSpPr/>
          <p:nvPr/>
        </p:nvSpPr>
        <p:spPr>
          <a:xfrm>
            <a:off x="7535880" y="5116680"/>
            <a:ext cx="128520" cy="209520"/>
          </a:xfrm>
          <a:custGeom>
            <a:avLst/>
            <a:gdLst>
              <a:gd name="textAreaLeft" fmla="*/ 0 w 128520"/>
              <a:gd name="textAreaRight" fmla="*/ 128880 w 128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81" h="132">
                <a:moveTo>
                  <a:pt x="0" y="14"/>
                </a:moveTo>
                <a:lnTo>
                  <a:pt x="0" y="56"/>
                </a:lnTo>
                <a:lnTo>
                  <a:pt x="42" y="56"/>
                </a:lnTo>
                <a:lnTo>
                  <a:pt x="42" y="132"/>
                </a:lnTo>
                <a:lnTo>
                  <a:pt x="72" y="75"/>
                </a:lnTo>
                <a:lnTo>
                  <a:pt x="78" y="62"/>
                </a:lnTo>
                <a:lnTo>
                  <a:pt x="80" y="55"/>
                </a:lnTo>
                <a:lnTo>
                  <a:pt x="81" y="48"/>
                </a:lnTo>
                <a:lnTo>
                  <a:pt x="81" y="0"/>
                </a:lnTo>
                <a:lnTo>
                  <a:pt x="0" y="1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171"/>
          <p:cNvSpPr/>
          <p:nvPr/>
        </p:nvSpPr>
        <p:spPr>
          <a:xfrm>
            <a:off x="7666200" y="5116680"/>
            <a:ext cx="360" cy="195120"/>
          </a:xfrm>
          <a:custGeom>
            <a:avLst/>
            <a:gdLst/>
            <a:ahLst/>
            <a:rect l="l" t="t" r="r" b="b"/>
            <a:pathLst>
              <a:path w="0" h="123">
                <a:moveTo>
                  <a:pt x="0" y="0"/>
                </a:moveTo>
                <a:lnTo>
                  <a:pt x="0" y="123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172"/>
          <p:cNvSpPr/>
          <p:nvPr/>
        </p:nvSpPr>
        <p:spPr>
          <a:xfrm>
            <a:off x="7535880" y="5138640"/>
            <a:ext cx="66600" cy="187560"/>
          </a:xfrm>
          <a:custGeom>
            <a:avLst/>
            <a:gdLst>
              <a:gd name="textAreaLeft" fmla="*/ 0 w 66600"/>
              <a:gd name="textAreaRight" fmla="*/ 66960 w 6660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42" h="118">
                <a:moveTo>
                  <a:pt x="0" y="0"/>
                </a:moveTo>
                <a:lnTo>
                  <a:pt x="0" y="42"/>
                </a:lnTo>
                <a:lnTo>
                  <a:pt x="42" y="42"/>
                </a:lnTo>
                <a:lnTo>
                  <a:pt x="42" y="118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73"/>
          <p:cNvSpPr/>
          <p:nvPr/>
        </p:nvSpPr>
        <p:spPr>
          <a:xfrm>
            <a:off x="6967440" y="5203800"/>
            <a:ext cx="644760" cy="174600"/>
          </a:xfrm>
          <a:custGeom>
            <a:avLst/>
            <a:gdLst>
              <a:gd name="textAreaLeft" fmla="*/ 0 w 644760"/>
              <a:gd name="textAreaRight" fmla="*/ 645120 w 644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406" h="110">
                <a:moveTo>
                  <a:pt x="406" y="0"/>
                </a:moveTo>
                <a:lnTo>
                  <a:pt x="400" y="12"/>
                </a:lnTo>
                <a:lnTo>
                  <a:pt x="271" y="99"/>
                </a:lnTo>
                <a:lnTo>
                  <a:pt x="11" y="110"/>
                </a:lnTo>
                <a:lnTo>
                  <a:pt x="0" y="106"/>
                </a:lnTo>
                <a:lnTo>
                  <a:pt x="406" y="0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174"/>
          <p:cNvSpPr/>
          <p:nvPr/>
        </p:nvSpPr>
        <p:spPr>
          <a:xfrm>
            <a:off x="6969240" y="5187960"/>
            <a:ext cx="642960" cy="184320"/>
          </a:xfrm>
          <a:custGeom>
            <a:avLst/>
            <a:gdLst>
              <a:gd name="textAreaLeft" fmla="*/ 0 w 642960"/>
              <a:gd name="textAreaRight" fmla="*/ 643320 w 642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405" h="116">
                <a:moveTo>
                  <a:pt x="0" y="116"/>
                </a:moveTo>
                <a:lnTo>
                  <a:pt x="266" y="101"/>
                </a:lnTo>
                <a:lnTo>
                  <a:pt x="405" y="11"/>
                </a:lnTo>
                <a:lnTo>
                  <a:pt x="405" y="0"/>
                </a:lnTo>
                <a:lnTo>
                  <a:pt x="0" y="105"/>
                </a:lnTo>
                <a:lnTo>
                  <a:pt x="0" y="116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175"/>
          <p:cNvSpPr/>
          <p:nvPr/>
        </p:nvSpPr>
        <p:spPr>
          <a:xfrm>
            <a:off x="7391520" y="5316480"/>
            <a:ext cx="360" cy="31680"/>
          </a:xfrm>
          <a:custGeom>
            <a:avLst/>
            <a:gdLst/>
            <a:ahLst/>
            <a:rect l="l" t="t" r="r" b="b"/>
            <a:pathLst>
              <a:path w="0" h="20">
                <a:moveTo>
                  <a:pt x="0" y="20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76"/>
          <p:cNvSpPr/>
          <p:nvPr/>
        </p:nvSpPr>
        <p:spPr>
          <a:xfrm>
            <a:off x="6969240" y="5334120"/>
            <a:ext cx="342720" cy="38160"/>
          </a:xfrm>
          <a:custGeom>
            <a:avLst/>
            <a:gdLst>
              <a:gd name="textAreaLeft" fmla="*/ 0 w 342720"/>
              <a:gd name="textAreaRight" fmla="*/ 343080 w 3427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16" h="24">
                <a:moveTo>
                  <a:pt x="0" y="13"/>
                </a:moveTo>
                <a:lnTo>
                  <a:pt x="0" y="24"/>
                </a:lnTo>
                <a:lnTo>
                  <a:pt x="206" y="12"/>
                </a:lnTo>
                <a:lnTo>
                  <a:pt x="210" y="6"/>
                </a:lnTo>
                <a:lnTo>
                  <a:pt x="216" y="0"/>
                </a:lnTo>
                <a:lnTo>
                  <a:pt x="0" y="1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177"/>
          <p:cNvSpPr/>
          <p:nvPr/>
        </p:nvSpPr>
        <p:spPr>
          <a:xfrm>
            <a:off x="6969240" y="5187960"/>
            <a:ext cx="642960" cy="182520"/>
          </a:xfrm>
          <a:custGeom>
            <a:avLst/>
            <a:gdLst>
              <a:gd name="textAreaLeft" fmla="*/ 0 w 642960"/>
              <a:gd name="textAreaRight" fmla="*/ 643320 w 6429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05" h="115">
                <a:moveTo>
                  <a:pt x="0" y="115"/>
                </a:moveTo>
                <a:lnTo>
                  <a:pt x="266" y="101"/>
                </a:lnTo>
                <a:lnTo>
                  <a:pt x="405" y="11"/>
                </a:lnTo>
                <a:lnTo>
                  <a:pt x="405" y="0"/>
                </a:lnTo>
                <a:lnTo>
                  <a:pt x="0" y="105"/>
                </a:lnTo>
                <a:lnTo>
                  <a:pt x="0" y="115"/>
                </a:lnTo>
                <a:close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178"/>
          <p:cNvSpPr/>
          <p:nvPr/>
        </p:nvSpPr>
        <p:spPr>
          <a:xfrm>
            <a:off x="6967440" y="5180040"/>
            <a:ext cx="644760" cy="174600"/>
          </a:xfrm>
          <a:custGeom>
            <a:avLst/>
            <a:gdLst>
              <a:gd name="textAreaLeft" fmla="*/ 0 w 644760"/>
              <a:gd name="textAreaRight" fmla="*/ 645120 w 644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406" h="110">
                <a:moveTo>
                  <a:pt x="358" y="0"/>
                </a:moveTo>
                <a:lnTo>
                  <a:pt x="124" y="33"/>
                </a:lnTo>
                <a:lnTo>
                  <a:pt x="0" y="110"/>
                </a:lnTo>
                <a:lnTo>
                  <a:pt x="268" y="93"/>
                </a:lnTo>
                <a:lnTo>
                  <a:pt x="406" y="5"/>
                </a:lnTo>
                <a:lnTo>
                  <a:pt x="358" y="6"/>
                </a:lnTo>
                <a:lnTo>
                  <a:pt x="358" y="0"/>
                </a:lnTo>
                <a:close/>
              </a:path>
            </a:pathLst>
          </a:custGeom>
          <a:solidFill>
            <a:srgbClr val="000000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179"/>
          <p:cNvSpPr/>
          <p:nvPr/>
        </p:nvSpPr>
        <p:spPr>
          <a:xfrm>
            <a:off x="7513560" y="5245200"/>
            <a:ext cx="403200" cy="476280"/>
          </a:xfrm>
          <a:custGeom>
            <a:avLst/>
            <a:gdLst>
              <a:gd name="textAreaLeft" fmla="*/ 0 w 403200"/>
              <a:gd name="textAreaRight" fmla="*/ 403560 w 4032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4" h="300">
                <a:moveTo>
                  <a:pt x="0" y="65"/>
                </a:moveTo>
                <a:lnTo>
                  <a:pt x="0" y="289"/>
                </a:lnTo>
                <a:lnTo>
                  <a:pt x="67" y="300"/>
                </a:lnTo>
                <a:lnTo>
                  <a:pt x="254" y="285"/>
                </a:lnTo>
                <a:lnTo>
                  <a:pt x="253" y="68"/>
                </a:lnTo>
                <a:lnTo>
                  <a:pt x="169" y="0"/>
                </a:lnTo>
                <a:lnTo>
                  <a:pt x="54" y="59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180"/>
          <p:cNvSpPr/>
          <p:nvPr/>
        </p:nvSpPr>
        <p:spPr>
          <a:xfrm>
            <a:off x="7513560" y="5348160"/>
            <a:ext cx="108000" cy="360360"/>
          </a:xfrm>
          <a:custGeom>
            <a:avLst/>
            <a:gdLst>
              <a:gd name="textAreaLeft" fmla="*/ 0 w 108000"/>
              <a:gd name="textAreaRight" fmla="*/ 108360 w 10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8" h="227">
                <a:moveTo>
                  <a:pt x="0" y="0"/>
                </a:moveTo>
                <a:lnTo>
                  <a:pt x="0" y="224"/>
                </a:lnTo>
                <a:lnTo>
                  <a:pt x="17" y="227"/>
                </a:lnTo>
                <a:lnTo>
                  <a:pt x="23" y="210"/>
                </a:lnTo>
                <a:lnTo>
                  <a:pt x="26" y="196"/>
                </a:lnTo>
                <a:lnTo>
                  <a:pt x="26" y="180"/>
                </a:lnTo>
                <a:lnTo>
                  <a:pt x="59" y="101"/>
                </a:lnTo>
                <a:lnTo>
                  <a:pt x="64" y="92"/>
                </a:lnTo>
                <a:lnTo>
                  <a:pt x="67" y="81"/>
                </a:lnTo>
                <a:lnTo>
                  <a:pt x="68" y="72"/>
                </a:lnTo>
                <a:lnTo>
                  <a:pt x="68" y="5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181"/>
          <p:cNvSpPr/>
          <p:nvPr/>
        </p:nvSpPr>
        <p:spPr>
          <a:xfrm>
            <a:off x="7513560" y="5348160"/>
            <a:ext cx="106560" cy="373320"/>
          </a:xfrm>
          <a:custGeom>
            <a:avLst/>
            <a:gdLst>
              <a:gd name="textAreaLeft" fmla="*/ 0 w 106560"/>
              <a:gd name="textAreaRight" fmla="*/ 106920 w 10656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67" h="235">
                <a:moveTo>
                  <a:pt x="0" y="0"/>
                </a:moveTo>
                <a:lnTo>
                  <a:pt x="0" y="224"/>
                </a:lnTo>
                <a:lnTo>
                  <a:pt x="67" y="235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182"/>
          <p:cNvSpPr/>
          <p:nvPr/>
        </p:nvSpPr>
        <p:spPr>
          <a:xfrm>
            <a:off x="7621560" y="5334120"/>
            <a:ext cx="360" cy="387360"/>
          </a:xfrm>
          <a:custGeom>
            <a:avLst/>
            <a:gdLst/>
            <a:ahLst/>
            <a:rect l="l" t="t" r="r" b="b"/>
            <a:pathLst>
              <a:path w="0" h="244">
                <a:moveTo>
                  <a:pt x="0" y="0"/>
                </a:moveTo>
                <a:lnTo>
                  <a:pt x="0" y="244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183"/>
          <p:cNvSpPr/>
          <p:nvPr/>
        </p:nvSpPr>
        <p:spPr>
          <a:xfrm>
            <a:off x="7512120" y="5624640"/>
            <a:ext cx="403200" cy="17280"/>
          </a:xfrm>
          <a:custGeom>
            <a:avLst/>
            <a:gdLst>
              <a:gd name="textAreaLeft" fmla="*/ 0 w 403200"/>
              <a:gd name="textAreaRight" fmla="*/ 403560 w 40320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254" h="11">
                <a:moveTo>
                  <a:pt x="0" y="6"/>
                </a:moveTo>
                <a:lnTo>
                  <a:pt x="70" y="11"/>
                </a:lnTo>
                <a:lnTo>
                  <a:pt x="254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184"/>
          <p:cNvSpPr/>
          <p:nvPr/>
        </p:nvSpPr>
        <p:spPr>
          <a:xfrm>
            <a:off x="7500960" y="5227560"/>
            <a:ext cx="430200" cy="133560"/>
          </a:xfrm>
          <a:custGeom>
            <a:avLst/>
            <a:gdLst>
              <a:gd name="textAreaLeft" fmla="*/ 0 w 430200"/>
              <a:gd name="textAreaRight" fmla="*/ 430560 w 4302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71" h="84">
                <a:moveTo>
                  <a:pt x="0" y="79"/>
                </a:moveTo>
                <a:lnTo>
                  <a:pt x="7" y="84"/>
                </a:lnTo>
                <a:lnTo>
                  <a:pt x="76" y="81"/>
                </a:lnTo>
                <a:lnTo>
                  <a:pt x="181" y="18"/>
                </a:lnTo>
                <a:lnTo>
                  <a:pt x="261" y="79"/>
                </a:lnTo>
                <a:lnTo>
                  <a:pt x="271" y="75"/>
                </a:lnTo>
                <a:lnTo>
                  <a:pt x="267" y="67"/>
                </a:lnTo>
                <a:lnTo>
                  <a:pt x="183" y="0"/>
                </a:lnTo>
                <a:lnTo>
                  <a:pt x="78" y="45"/>
                </a:lnTo>
                <a:lnTo>
                  <a:pt x="0" y="79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185"/>
          <p:cNvSpPr/>
          <p:nvPr/>
        </p:nvSpPr>
        <p:spPr>
          <a:xfrm>
            <a:off x="7500960" y="5219640"/>
            <a:ext cx="430200" cy="133560"/>
          </a:xfrm>
          <a:custGeom>
            <a:avLst/>
            <a:gdLst>
              <a:gd name="textAreaLeft" fmla="*/ 0 w 430200"/>
              <a:gd name="textAreaRight" fmla="*/ 430560 w 4302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71" h="84">
                <a:moveTo>
                  <a:pt x="0" y="75"/>
                </a:moveTo>
                <a:lnTo>
                  <a:pt x="0" y="84"/>
                </a:lnTo>
                <a:lnTo>
                  <a:pt x="72" y="80"/>
                </a:lnTo>
                <a:lnTo>
                  <a:pt x="183" y="13"/>
                </a:lnTo>
                <a:lnTo>
                  <a:pt x="271" y="80"/>
                </a:lnTo>
                <a:lnTo>
                  <a:pt x="271" y="70"/>
                </a:lnTo>
                <a:lnTo>
                  <a:pt x="182" y="0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186"/>
          <p:cNvSpPr/>
          <p:nvPr/>
        </p:nvSpPr>
        <p:spPr>
          <a:xfrm>
            <a:off x="7500960" y="5303880"/>
            <a:ext cx="101520" cy="49320"/>
          </a:xfrm>
          <a:custGeom>
            <a:avLst/>
            <a:gdLst>
              <a:gd name="textAreaLeft" fmla="*/ 0 w 101520"/>
              <a:gd name="textAreaRight" fmla="*/ 101880 w 1015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64" h="31">
                <a:moveTo>
                  <a:pt x="0" y="22"/>
                </a:moveTo>
                <a:lnTo>
                  <a:pt x="0" y="31"/>
                </a:lnTo>
                <a:lnTo>
                  <a:pt x="36" y="29"/>
                </a:lnTo>
                <a:lnTo>
                  <a:pt x="61" y="16"/>
                </a:lnTo>
                <a:lnTo>
                  <a:pt x="64" y="0"/>
                </a:lnTo>
                <a:lnTo>
                  <a:pt x="0" y="2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187"/>
          <p:cNvSpPr/>
          <p:nvPr/>
        </p:nvSpPr>
        <p:spPr>
          <a:xfrm>
            <a:off x="7500960" y="533880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9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188"/>
          <p:cNvSpPr/>
          <p:nvPr/>
        </p:nvSpPr>
        <p:spPr>
          <a:xfrm>
            <a:off x="7616880" y="5322960"/>
            <a:ext cx="360" cy="22320"/>
          </a:xfrm>
          <a:custGeom>
            <a:avLst/>
            <a:gdLst/>
            <a:ahLst/>
            <a:rect l="l" t="t" r="r" b="b"/>
            <a:pathLst>
              <a:path w="0" h="14">
                <a:moveTo>
                  <a:pt x="0" y="14"/>
                </a:moveTo>
                <a:lnTo>
                  <a:pt x="0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89"/>
          <p:cNvSpPr/>
          <p:nvPr/>
        </p:nvSpPr>
        <p:spPr>
          <a:xfrm>
            <a:off x="7647120" y="5470560"/>
            <a:ext cx="46080" cy="169920"/>
          </a:xfrm>
          <a:custGeom>
            <a:avLst/>
            <a:gdLst>
              <a:gd name="textAreaLeft" fmla="*/ 0 w 46080"/>
              <a:gd name="textAreaRight" fmla="*/ 46440 w 460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9" h="107">
                <a:moveTo>
                  <a:pt x="0" y="107"/>
                </a:moveTo>
                <a:lnTo>
                  <a:pt x="0" y="19"/>
                </a:lnTo>
                <a:lnTo>
                  <a:pt x="1" y="13"/>
                </a:lnTo>
                <a:lnTo>
                  <a:pt x="2" y="8"/>
                </a:lnTo>
                <a:lnTo>
                  <a:pt x="4" y="4"/>
                </a:lnTo>
                <a:lnTo>
                  <a:pt x="7" y="2"/>
                </a:lnTo>
                <a:lnTo>
                  <a:pt x="9" y="0"/>
                </a:lnTo>
                <a:lnTo>
                  <a:pt x="14" y="0"/>
                </a:lnTo>
                <a:lnTo>
                  <a:pt x="19" y="0"/>
                </a:lnTo>
                <a:lnTo>
                  <a:pt x="23" y="2"/>
                </a:lnTo>
                <a:lnTo>
                  <a:pt x="25" y="5"/>
                </a:lnTo>
                <a:lnTo>
                  <a:pt x="27" y="10"/>
                </a:lnTo>
                <a:lnTo>
                  <a:pt x="28" y="14"/>
                </a:lnTo>
                <a:lnTo>
                  <a:pt x="28" y="19"/>
                </a:lnTo>
                <a:lnTo>
                  <a:pt x="29" y="105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90"/>
          <p:cNvSpPr/>
          <p:nvPr/>
        </p:nvSpPr>
        <p:spPr>
          <a:xfrm>
            <a:off x="7850160" y="5465880"/>
            <a:ext cx="41400" cy="161640"/>
          </a:xfrm>
          <a:custGeom>
            <a:avLst/>
            <a:gdLst>
              <a:gd name="textAreaLeft" fmla="*/ 0 w 41400"/>
              <a:gd name="textAreaRight" fmla="*/ 41760 w 414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6" h="102">
                <a:moveTo>
                  <a:pt x="0" y="102"/>
                </a:moveTo>
                <a:lnTo>
                  <a:pt x="0" y="17"/>
                </a:lnTo>
                <a:lnTo>
                  <a:pt x="0" y="13"/>
                </a:lnTo>
                <a:lnTo>
                  <a:pt x="1" y="8"/>
                </a:lnTo>
                <a:lnTo>
                  <a:pt x="4" y="4"/>
                </a:lnTo>
                <a:lnTo>
                  <a:pt x="6" y="2"/>
                </a:lnTo>
                <a:lnTo>
                  <a:pt x="9" y="1"/>
                </a:lnTo>
                <a:lnTo>
                  <a:pt x="13" y="0"/>
                </a:lnTo>
                <a:lnTo>
                  <a:pt x="17" y="1"/>
                </a:lnTo>
                <a:lnTo>
                  <a:pt x="21" y="2"/>
                </a:lnTo>
                <a:lnTo>
                  <a:pt x="23" y="4"/>
                </a:lnTo>
                <a:lnTo>
                  <a:pt x="25" y="7"/>
                </a:lnTo>
                <a:lnTo>
                  <a:pt x="26" y="13"/>
                </a:lnTo>
                <a:lnTo>
                  <a:pt x="26" y="17"/>
                </a:lnTo>
                <a:lnTo>
                  <a:pt x="26" y="10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91"/>
          <p:cNvSpPr/>
          <p:nvPr/>
        </p:nvSpPr>
        <p:spPr>
          <a:xfrm>
            <a:off x="7721640" y="5513400"/>
            <a:ext cx="109440" cy="200160"/>
          </a:xfrm>
          <a:custGeom>
            <a:avLst/>
            <a:gdLst>
              <a:gd name="textAreaLeft" fmla="*/ 0 w 109440"/>
              <a:gd name="textAreaRight" fmla="*/ 109800 w 1094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69" h="126">
                <a:moveTo>
                  <a:pt x="0" y="126"/>
                </a:moveTo>
                <a:lnTo>
                  <a:pt x="0" y="41"/>
                </a:lnTo>
                <a:lnTo>
                  <a:pt x="1" y="33"/>
                </a:lnTo>
                <a:lnTo>
                  <a:pt x="2" y="26"/>
                </a:lnTo>
                <a:lnTo>
                  <a:pt x="5" y="19"/>
                </a:lnTo>
                <a:lnTo>
                  <a:pt x="8" y="13"/>
                </a:lnTo>
                <a:lnTo>
                  <a:pt x="13" y="8"/>
                </a:lnTo>
                <a:lnTo>
                  <a:pt x="18" y="5"/>
                </a:lnTo>
                <a:lnTo>
                  <a:pt x="24" y="2"/>
                </a:lnTo>
                <a:lnTo>
                  <a:pt x="31" y="0"/>
                </a:lnTo>
                <a:lnTo>
                  <a:pt x="38" y="0"/>
                </a:lnTo>
                <a:lnTo>
                  <a:pt x="44" y="1"/>
                </a:lnTo>
                <a:lnTo>
                  <a:pt x="49" y="3"/>
                </a:lnTo>
                <a:lnTo>
                  <a:pt x="54" y="6"/>
                </a:lnTo>
                <a:lnTo>
                  <a:pt x="59" y="9"/>
                </a:lnTo>
                <a:lnTo>
                  <a:pt x="63" y="14"/>
                </a:lnTo>
                <a:lnTo>
                  <a:pt x="65" y="19"/>
                </a:lnTo>
                <a:lnTo>
                  <a:pt x="67" y="23"/>
                </a:lnTo>
                <a:lnTo>
                  <a:pt x="68" y="29"/>
                </a:lnTo>
                <a:lnTo>
                  <a:pt x="68" y="37"/>
                </a:lnTo>
                <a:lnTo>
                  <a:pt x="69" y="44"/>
                </a:lnTo>
                <a:lnTo>
                  <a:pt x="69" y="120"/>
                </a:lnTo>
                <a:lnTo>
                  <a:pt x="0" y="126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Freeform 192"/>
          <p:cNvSpPr/>
          <p:nvPr/>
        </p:nvSpPr>
        <p:spPr>
          <a:xfrm>
            <a:off x="7775640" y="5513400"/>
            <a:ext cx="360" cy="195120"/>
          </a:xfrm>
          <a:custGeom>
            <a:avLst/>
            <a:gdLst/>
            <a:ahLst/>
            <a:rect l="l" t="t" r="r" b="b"/>
            <a:pathLst>
              <a:path w="0" h="123">
                <a:moveTo>
                  <a:pt x="0" y="0"/>
                </a:moveTo>
                <a:lnTo>
                  <a:pt x="0" y="123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193"/>
          <p:cNvSpPr/>
          <p:nvPr/>
        </p:nvSpPr>
        <p:spPr>
          <a:xfrm>
            <a:off x="7767720" y="5614920"/>
            <a:ext cx="360" cy="1908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194"/>
          <p:cNvSpPr/>
          <p:nvPr/>
        </p:nvSpPr>
        <p:spPr>
          <a:xfrm>
            <a:off x="7785000" y="5614920"/>
            <a:ext cx="360" cy="1908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195"/>
          <p:cNvSpPr/>
          <p:nvPr/>
        </p:nvSpPr>
        <p:spPr>
          <a:xfrm>
            <a:off x="7719840" y="5354640"/>
            <a:ext cx="32040" cy="112680"/>
          </a:xfrm>
          <a:custGeom>
            <a:avLst/>
            <a:gdLst>
              <a:gd name="textAreaLeft" fmla="*/ 0 w 32040"/>
              <a:gd name="textAreaRight" fmla="*/ 32400 w 320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0" h="71">
                <a:moveTo>
                  <a:pt x="0" y="71"/>
                </a:moveTo>
                <a:lnTo>
                  <a:pt x="0" y="11"/>
                </a:lnTo>
                <a:lnTo>
                  <a:pt x="1" y="7"/>
                </a:lnTo>
                <a:lnTo>
                  <a:pt x="2" y="4"/>
                </a:lnTo>
                <a:lnTo>
                  <a:pt x="5" y="1"/>
                </a:lnTo>
                <a:lnTo>
                  <a:pt x="8" y="0"/>
                </a:lnTo>
                <a:lnTo>
                  <a:pt x="12" y="0"/>
                </a:lnTo>
                <a:lnTo>
                  <a:pt x="15" y="1"/>
                </a:lnTo>
                <a:lnTo>
                  <a:pt x="17" y="2"/>
                </a:lnTo>
                <a:lnTo>
                  <a:pt x="19" y="5"/>
                </a:lnTo>
                <a:lnTo>
                  <a:pt x="20" y="7"/>
                </a:lnTo>
                <a:lnTo>
                  <a:pt x="20" y="10"/>
                </a:lnTo>
                <a:lnTo>
                  <a:pt x="20" y="70"/>
                </a:lnTo>
                <a:lnTo>
                  <a:pt x="0" y="71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196"/>
          <p:cNvSpPr/>
          <p:nvPr/>
        </p:nvSpPr>
        <p:spPr>
          <a:xfrm>
            <a:off x="7804080" y="5353200"/>
            <a:ext cx="31680" cy="110880"/>
          </a:xfrm>
          <a:custGeom>
            <a:avLst/>
            <a:gdLst>
              <a:gd name="textAreaLeft" fmla="*/ 0 w 31680"/>
              <a:gd name="textAreaRight" fmla="*/ 32040 w 316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20" h="70">
                <a:moveTo>
                  <a:pt x="0" y="70"/>
                </a:moveTo>
                <a:lnTo>
                  <a:pt x="0" y="10"/>
                </a:lnTo>
                <a:lnTo>
                  <a:pt x="1" y="6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1"/>
                </a:lnTo>
                <a:lnTo>
                  <a:pt x="17" y="3"/>
                </a:lnTo>
                <a:lnTo>
                  <a:pt x="19" y="6"/>
                </a:lnTo>
                <a:lnTo>
                  <a:pt x="20" y="10"/>
                </a:lnTo>
                <a:lnTo>
                  <a:pt x="20" y="70"/>
                </a:lnTo>
                <a:lnTo>
                  <a:pt x="0" y="70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197"/>
          <p:cNvSpPr/>
          <p:nvPr/>
        </p:nvSpPr>
        <p:spPr>
          <a:xfrm>
            <a:off x="7759800" y="5329080"/>
            <a:ext cx="36360" cy="138240"/>
          </a:xfrm>
          <a:custGeom>
            <a:avLst/>
            <a:gdLst>
              <a:gd name="textAreaLeft" fmla="*/ 0 w 36360"/>
              <a:gd name="textAreaRight" fmla="*/ 36720 w 36360"/>
              <a:gd name="textAreaTop" fmla="*/ 0 h 138240"/>
              <a:gd name="textAreaBottom" fmla="*/ 138240 h 138240"/>
            </a:gdLst>
            <a:ahLst/>
            <a:rect l="textAreaLeft" t="textAreaTop" r="textAreaRight" b="textAreaBottom"/>
            <a:pathLst>
              <a:path w="23" h="87">
                <a:moveTo>
                  <a:pt x="0" y="87"/>
                </a:moveTo>
                <a:lnTo>
                  <a:pt x="0" y="12"/>
                </a:lnTo>
                <a:lnTo>
                  <a:pt x="1" y="8"/>
                </a:lnTo>
                <a:lnTo>
                  <a:pt x="2" y="4"/>
                </a:lnTo>
                <a:lnTo>
                  <a:pt x="3" y="3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7" y="0"/>
                </a:lnTo>
                <a:lnTo>
                  <a:pt x="20" y="2"/>
                </a:lnTo>
                <a:lnTo>
                  <a:pt x="22" y="4"/>
                </a:lnTo>
                <a:lnTo>
                  <a:pt x="23" y="7"/>
                </a:lnTo>
                <a:lnTo>
                  <a:pt x="23" y="11"/>
                </a:lnTo>
                <a:lnTo>
                  <a:pt x="23" y="86"/>
                </a:lnTo>
                <a:lnTo>
                  <a:pt x="0" y="87"/>
                </a:lnTo>
                <a:close/>
              </a:path>
            </a:pathLst>
          </a:custGeom>
          <a:solidFill>
            <a:srgbClr val="000000"/>
          </a:soli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198"/>
          <p:cNvSpPr/>
          <p:nvPr/>
        </p:nvSpPr>
        <p:spPr>
          <a:xfrm>
            <a:off x="7721640" y="5686560"/>
            <a:ext cx="36360" cy="31680"/>
          </a:xfrm>
          <a:custGeom>
            <a:avLst/>
            <a:gdLst>
              <a:gd name="textAreaLeft" fmla="*/ 0 w 36360"/>
              <a:gd name="textAreaRight" fmla="*/ 36720 w 363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3" h="20">
                <a:moveTo>
                  <a:pt x="0" y="0"/>
                </a:moveTo>
                <a:lnTo>
                  <a:pt x="0" y="17"/>
                </a:lnTo>
                <a:lnTo>
                  <a:pt x="21" y="20"/>
                </a:lnTo>
                <a:lnTo>
                  <a:pt x="23" y="2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199"/>
          <p:cNvSpPr/>
          <p:nvPr/>
        </p:nvSpPr>
        <p:spPr>
          <a:xfrm>
            <a:off x="7721640" y="5678640"/>
            <a:ext cx="142920" cy="39600"/>
          </a:xfrm>
          <a:custGeom>
            <a:avLst/>
            <a:gdLst>
              <a:gd name="textAreaLeft" fmla="*/ 0 w 142920"/>
              <a:gd name="textAreaRight" fmla="*/ 143280 w 1429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0" h="25">
                <a:moveTo>
                  <a:pt x="0" y="5"/>
                </a:moveTo>
                <a:lnTo>
                  <a:pt x="69" y="0"/>
                </a:lnTo>
                <a:lnTo>
                  <a:pt x="80" y="2"/>
                </a:lnTo>
                <a:lnTo>
                  <a:pt x="80" y="9"/>
                </a:lnTo>
                <a:lnTo>
                  <a:pt x="90" y="11"/>
                </a:lnTo>
                <a:lnTo>
                  <a:pt x="90" y="21"/>
                </a:lnTo>
                <a:lnTo>
                  <a:pt x="21" y="25"/>
                </a:lnTo>
                <a:lnTo>
                  <a:pt x="21" y="15"/>
                </a:lnTo>
                <a:lnTo>
                  <a:pt x="13" y="13"/>
                </a:lnTo>
                <a:lnTo>
                  <a:pt x="13" y="7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200"/>
          <p:cNvSpPr/>
          <p:nvPr/>
        </p:nvSpPr>
        <p:spPr>
          <a:xfrm>
            <a:off x="7754760" y="5695920"/>
            <a:ext cx="108000" cy="7920"/>
          </a:xfrm>
          <a:custGeom>
            <a:avLst/>
            <a:gdLst>
              <a:gd name="textAreaLeft" fmla="*/ 0 w 108000"/>
              <a:gd name="textAreaRight" fmla="*/ 108360 w 1080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8" h="5">
                <a:moveTo>
                  <a:pt x="0" y="5"/>
                </a:moveTo>
                <a:lnTo>
                  <a:pt x="68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201"/>
          <p:cNvSpPr/>
          <p:nvPr/>
        </p:nvSpPr>
        <p:spPr>
          <a:xfrm>
            <a:off x="7742160" y="5692680"/>
            <a:ext cx="106560" cy="6480"/>
          </a:xfrm>
          <a:custGeom>
            <a:avLst/>
            <a:gdLst>
              <a:gd name="textAreaLeft" fmla="*/ 0 w 106560"/>
              <a:gd name="textAreaRight" fmla="*/ 106920 w 1065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7" h="4">
                <a:moveTo>
                  <a:pt x="0" y="4"/>
                </a:moveTo>
                <a:lnTo>
                  <a:pt x="67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202"/>
          <p:cNvSpPr/>
          <p:nvPr/>
        </p:nvSpPr>
        <p:spPr>
          <a:xfrm>
            <a:off x="7742160" y="5681520"/>
            <a:ext cx="104760" cy="7920"/>
          </a:xfrm>
          <a:custGeom>
            <a:avLst/>
            <a:gdLst>
              <a:gd name="textAreaLeft" fmla="*/ 0 w 104760"/>
              <a:gd name="textAreaRight" fmla="*/ 105120 w 104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6" h="5">
                <a:moveTo>
                  <a:pt x="0" y="5"/>
                </a:moveTo>
                <a:lnTo>
                  <a:pt x="66" y="0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203"/>
          <p:cNvSpPr/>
          <p:nvPr/>
        </p:nvSpPr>
        <p:spPr>
          <a:xfrm>
            <a:off x="6157800" y="4838760"/>
            <a:ext cx="606600" cy="623880"/>
          </a:xfrm>
          <a:custGeom>
            <a:avLst/>
            <a:gdLst>
              <a:gd name="textAreaLeft" fmla="*/ 0 w 606600"/>
              <a:gd name="textAreaRight" fmla="*/ 606960 w 6066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82" h="393">
                <a:moveTo>
                  <a:pt x="0" y="0"/>
                </a:moveTo>
                <a:lnTo>
                  <a:pt x="210" y="0"/>
                </a:lnTo>
                <a:lnTo>
                  <a:pt x="210" y="393"/>
                </a:lnTo>
                <a:lnTo>
                  <a:pt x="210" y="393"/>
                </a:lnTo>
                <a:lnTo>
                  <a:pt x="382" y="393"/>
                </a:lnTo>
              </a:path>
            </a:pathLst>
          </a:custGeom>
          <a:noFill/>
          <a:ln w="50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04"/>
          <p:cNvSpPr/>
          <p:nvPr/>
        </p:nvSpPr>
        <p:spPr>
          <a:xfrm>
            <a:off x="6953400" y="5838840"/>
            <a:ext cx="108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ay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3"/>
          <p:cNvSpPr/>
          <p:nvPr/>
        </p:nvSpPr>
        <p:spPr>
          <a:xfrm>
            <a:off x="3240" y="-152280"/>
            <a:ext cx="9804240" cy="7197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4"/>
          <p:cNvSpPr/>
          <p:nvPr/>
        </p:nvSpPr>
        <p:spPr>
          <a:xfrm rot="5340000">
            <a:off x="3017520" y="304560"/>
            <a:ext cx="3771720" cy="7537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5"/>
          <p:cNvSpPr/>
          <p:nvPr/>
        </p:nvSpPr>
        <p:spPr>
          <a:xfrm rot="5340000">
            <a:off x="3017160" y="120600"/>
            <a:ext cx="3772080" cy="75373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6"/>
          <p:cNvSpPr/>
          <p:nvPr/>
        </p:nvSpPr>
        <p:spPr>
          <a:xfrm rot="5340000">
            <a:off x="3712680" y="1292040"/>
            <a:ext cx="2286000" cy="5276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7"/>
          <p:cNvSpPr/>
          <p:nvPr/>
        </p:nvSpPr>
        <p:spPr>
          <a:xfrm rot="5340000">
            <a:off x="3712680" y="1109520"/>
            <a:ext cx="2286000" cy="52768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8"/>
          <p:cNvSpPr/>
          <p:nvPr/>
        </p:nvSpPr>
        <p:spPr>
          <a:xfrm rot="5340000">
            <a:off x="4425480" y="2295360"/>
            <a:ext cx="936720" cy="3203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Oval 9"/>
          <p:cNvSpPr/>
          <p:nvPr/>
        </p:nvSpPr>
        <p:spPr>
          <a:xfrm rot="5340000">
            <a:off x="4425480" y="2112840"/>
            <a:ext cx="936720" cy="3203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Freeform 10"/>
          <p:cNvSpPr/>
          <p:nvPr/>
        </p:nvSpPr>
        <p:spPr>
          <a:xfrm>
            <a:off x="3740040" y="968400"/>
            <a:ext cx="1944720" cy="27604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760480"/>
              <a:gd name="textAreaBottom" fmla="*/ 2760840 h 2760480"/>
            </a:gdLst>
            <a:ahLst/>
            <a:rect l="textAreaLeft" t="textAreaTop" r="textAreaRight" b="textAreaBottom"/>
            <a:pathLst>
              <a:path w="1225" h="1739">
                <a:moveTo>
                  <a:pt x="741" y="0"/>
                </a:moveTo>
                <a:lnTo>
                  <a:pt x="545" y="18"/>
                </a:lnTo>
                <a:lnTo>
                  <a:pt x="211" y="158"/>
                </a:lnTo>
                <a:lnTo>
                  <a:pt x="95" y="519"/>
                </a:lnTo>
                <a:lnTo>
                  <a:pt x="0" y="876"/>
                </a:lnTo>
                <a:lnTo>
                  <a:pt x="110" y="1327"/>
                </a:lnTo>
                <a:lnTo>
                  <a:pt x="516" y="1688"/>
                </a:lnTo>
                <a:lnTo>
                  <a:pt x="591" y="1739"/>
                </a:lnTo>
                <a:lnTo>
                  <a:pt x="748" y="1730"/>
                </a:lnTo>
                <a:lnTo>
                  <a:pt x="865" y="1681"/>
                </a:lnTo>
                <a:lnTo>
                  <a:pt x="944" y="1635"/>
                </a:lnTo>
                <a:lnTo>
                  <a:pt x="1023" y="1556"/>
                </a:lnTo>
                <a:lnTo>
                  <a:pt x="1097" y="1398"/>
                </a:lnTo>
                <a:lnTo>
                  <a:pt x="1225" y="1150"/>
                </a:lnTo>
                <a:lnTo>
                  <a:pt x="1170" y="599"/>
                </a:lnTo>
                <a:lnTo>
                  <a:pt x="1017" y="211"/>
                </a:lnTo>
                <a:lnTo>
                  <a:pt x="872" y="49"/>
                </a:lnTo>
                <a:lnTo>
                  <a:pt x="741" y="0"/>
                </a:lnTo>
                <a:lnTo>
                  <a:pt x="741" y="0"/>
                </a:lnTo>
                <a:lnTo>
                  <a:pt x="741" y="0"/>
                </a:lnTo>
                <a:close/>
              </a:path>
            </a:pathLst>
          </a:custGeom>
          <a:solidFill>
            <a:srgbClr val="ffd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Freeform 11"/>
          <p:cNvSpPr/>
          <p:nvPr/>
        </p:nvSpPr>
        <p:spPr>
          <a:xfrm>
            <a:off x="4870440" y="1911240"/>
            <a:ext cx="387360" cy="144720"/>
          </a:xfrm>
          <a:custGeom>
            <a:avLst/>
            <a:gdLst>
              <a:gd name="textAreaLeft" fmla="*/ 0 w 387360"/>
              <a:gd name="textAreaRight" fmla="*/ 387720 w 387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44" h="91">
                <a:moveTo>
                  <a:pt x="0" y="78"/>
                </a:moveTo>
                <a:lnTo>
                  <a:pt x="52" y="30"/>
                </a:lnTo>
                <a:lnTo>
                  <a:pt x="98" y="7"/>
                </a:lnTo>
                <a:lnTo>
                  <a:pt x="171" y="0"/>
                </a:lnTo>
                <a:lnTo>
                  <a:pt x="244" y="44"/>
                </a:lnTo>
                <a:lnTo>
                  <a:pt x="171" y="84"/>
                </a:lnTo>
                <a:lnTo>
                  <a:pt x="88" y="91"/>
                </a:lnTo>
                <a:lnTo>
                  <a:pt x="37" y="89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12"/>
          <p:cNvSpPr/>
          <p:nvPr/>
        </p:nvSpPr>
        <p:spPr>
          <a:xfrm>
            <a:off x="4994280" y="1928880"/>
            <a:ext cx="138240" cy="119160"/>
          </a:xfrm>
          <a:custGeom>
            <a:avLst/>
            <a:gdLst>
              <a:gd name="textAreaLeft" fmla="*/ 0 w 138240"/>
              <a:gd name="textAreaRight" fmla="*/ 138240 w 1382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7" h="75">
                <a:moveTo>
                  <a:pt x="5" y="0"/>
                </a:moveTo>
                <a:lnTo>
                  <a:pt x="0" y="41"/>
                </a:lnTo>
                <a:lnTo>
                  <a:pt x="17" y="64"/>
                </a:lnTo>
                <a:lnTo>
                  <a:pt x="41" y="75"/>
                </a:lnTo>
                <a:lnTo>
                  <a:pt x="68" y="67"/>
                </a:lnTo>
                <a:lnTo>
                  <a:pt x="87" y="47"/>
                </a:lnTo>
                <a:lnTo>
                  <a:pt x="85" y="4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13"/>
          <p:cNvSpPr/>
          <p:nvPr/>
        </p:nvSpPr>
        <p:spPr>
          <a:xfrm>
            <a:off x="4089240" y="2093760"/>
            <a:ext cx="306720" cy="119160"/>
          </a:xfrm>
          <a:custGeom>
            <a:avLst/>
            <a:gdLst>
              <a:gd name="textAreaLeft" fmla="*/ 0 w 306720"/>
              <a:gd name="textAreaRight" fmla="*/ 307080 w 3067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93" h="75">
                <a:moveTo>
                  <a:pt x="0" y="57"/>
                </a:moveTo>
                <a:lnTo>
                  <a:pt x="49" y="5"/>
                </a:lnTo>
                <a:lnTo>
                  <a:pt x="134" y="0"/>
                </a:lnTo>
                <a:lnTo>
                  <a:pt x="193" y="21"/>
                </a:lnTo>
                <a:lnTo>
                  <a:pt x="188" y="38"/>
                </a:lnTo>
                <a:lnTo>
                  <a:pt x="129" y="61"/>
                </a:lnTo>
                <a:lnTo>
                  <a:pt x="56" y="75"/>
                </a:lnTo>
                <a:lnTo>
                  <a:pt x="12" y="73"/>
                </a:lnTo>
                <a:lnTo>
                  <a:pt x="0" y="57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reeform 14"/>
          <p:cNvSpPr/>
          <p:nvPr/>
        </p:nvSpPr>
        <p:spPr>
          <a:xfrm>
            <a:off x="4162320" y="2100240"/>
            <a:ext cx="155520" cy="106560"/>
          </a:xfrm>
          <a:custGeom>
            <a:avLst/>
            <a:gdLst>
              <a:gd name="textAreaLeft" fmla="*/ 0 w 155520"/>
              <a:gd name="textAreaRight" fmla="*/ 155880 w 155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98" h="67">
                <a:moveTo>
                  <a:pt x="0" y="5"/>
                </a:moveTo>
                <a:lnTo>
                  <a:pt x="8" y="46"/>
                </a:lnTo>
                <a:lnTo>
                  <a:pt x="21" y="57"/>
                </a:lnTo>
                <a:lnTo>
                  <a:pt x="62" y="67"/>
                </a:lnTo>
                <a:lnTo>
                  <a:pt x="90" y="41"/>
                </a:lnTo>
                <a:lnTo>
                  <a:pt x="98" y="10"/>
                </a:lnTo>
                <a:lnTo>
                  <a:pt x="83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15"/>
          <p:cNvSpPr/>
          <p:nvPr/>
        </p:nvSpPr>
        <p:spPr>
          <a:xfrm>
            <a:off x="4438800" y="2757600"/>
            <a:ext cx="696600" cy="247680"/>
          </a:xfrm>
          <a:custGeom>
            <a:avLst/>
            <a:gdLst>
              <a:gd name="textAreaLeft" fmla="*/ 0 w 696600"/>
              <a:gd name="textAreaRight" fmla="*/ 696960 w 6966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9" h="156">
                <a:moveTo>
                  <a:pt x="0" y="69"/>
                </a:moveTo>
                <a:lnTo>
                  <a:pt x="29" y="58"/>
                </a:lnTo>
                <a:lnTo>
                  <a:pt x="151" y="46"/>
                </a:lnTo>
                <a:lnTo>
                  <a:pt x="216" y="44"/>
                </a:lnTo>
                <a:lnTo>
                  <a:pt x="364" y="1"/>
                </a:lnTo>
                <a:lnTo>
                  <a:pt x="439" y="0"/>
                </a:lnTo>
                <a:lnTo>
                  <a:pt x="426" y="60"/>
                </a:lnTo>
                <a:lnTo>
                  <a:pt x="345" y="123"/>
                </a:lnTo>
                <a:lnTo>
                  <a:pt x="185" y="156"/>
                </a:lnTo>
                <a:lnTo>
                  <a:pt x="104" y="144"/>
                </a:lnTo>
                <a:lnTo>
                  <a:pt x="78" y="135"/>
                </a:lnTo>
                <a:lnTo>
                  <a:pt x="40" y="111"/>
                </a:lnTo>
                <a:lnTo>
                  <a:pt x="24" y="87"/>
                </a:lnTo>
                <a:lnTo>
                  <a:pt x="0" y="69"/>
                </a:lnTo>
                <a:lnTo>
                  <a:pt x="0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16"/>
          <p:cNvSpPr/>
          <p:nvPr/>
        </p:nvSpPr>
        <p:spPr>
          <a:xfrm>
            <a:off x="4402080" y="2738520"/>
            <a:ext cx="528840" cy="137880"/>
          </a:xfrm>
          <a:custGeom>
            <a:avLst/>
            <a:gdLst>
              <a:gd name="textAreaLeft" fmla="*/ 0 w 528840"/>
              <a:gd name="textAreaRight" fmla="*/ 529200 w 5288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333" h="87">
                <a:moveTo>
                  <a:pt x="0" y="87"/>
                </a:moveTo>
                <a:lnTo>
                  <a:pt x="60" y="60"/>
                </a:lnTo>
                <a:lnTo>
                  <a:pt x="103" y="51"/>
                </a:lnTo>
                <a:lnTo>
                  <a:pt x="126" y="42"/>
                </a:lnTo>
                <a:lnTo>
                  <a:pt x="152" y="26"/>
                </a:lnTo>
                <a:lnTo>
                  <a:pt x="243" y="15"/>
                </a:lnTo>
                <a:lnTo>
                  <a:pt x="333" y="0"/>
                </a:lnTo>
                <a:lnTo>
                  <a:pt x="311" y="40"/>
                </a:lnTo>
                <a:lnTo>
                  <a:pt x="222" y="58"/>
                </a:lnTo>
                <a:lnTo>
                  <a:pt x="103" y="63"/>
                </a:lnTo>
                <a:lnTo>
                  <a:pt x="0" y="87"/>
                </a:lnTo>
                <a:lnTo>
                  <a:pt x="0" y="87"/>
                </a:lnTo>
                <a:lnTo>
                  <a:pt x="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reeform 17"/>
          <p:cNvSpPr/>
          <p:nvPr/>
        </p:nvSpPr>
        <p:spPr>
          <a:xfrm>
            <a:off x="4495680" y="2927520"/>
            <a:ext cx="506520" cy="129960"/>
          </a:xfrm>
          <a:custGeom>
            <a:avLst/>
            <a:gdLst>
              <a:gd name="textAreaLeft" fmla="*/ 0 w 506520"/>
              <a:gd name="textAreaRight" fmla="*/ 506880 w 5065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19" h="82">
                <a:moveTo>
                  <a:pt x="0" y="0"/>
                </a:moveTo>
                <a:lnTo>
                  <a:pt x="58" y="34"/>
                </a:lnTo>
                <a:lnTo>
                  <a:pt x="148" y="44"/>
                </a:lnTo>
                <a:lnTo>
                  <a:pt x="248" y="30"/>
                </a:lnTo>
                <a:lnTo>
                  <a:pt x="308" y="8"/>
                </a:lnTo>
                <a:lnTo>
                  <a:pt x="319" y="41"/>
                </a:lnTo>
                <a:lnTo>
                  <a:pt x="283" y="66"/>
                </a:lnTo>
                <a:lnTo>
                  <a:pt x="235" y="82"/>
                </a:lnTo>
                <a:lnTo>
                  <a:pt x="257" y="59"/>
                </a:lnTo>
                <a:lnTo>
                  <a:pt x="250" y="51"/>
                </a:lnTo>
                <a:lnTo>
                  <a:pt x="210" y="55"/>
                </a:lnTo>
                <a:lnTo>
                  <a:pt x="150" y="63"/>
                </a:lnTo>
                <a:lnTo>
                  <a:pt x="108" y="61"/>
                </a:lnTo>
                <a:lnTo>
                  <a:pt x="68" y="53"/>
                </a:lnTo>
                <a:lnTo>
                  <a:pt x="36" y="3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18"/>
          <p:cNvSpPr/>
          <p:nvPr/>
        </p:nvSpPr>
        <p:spPr>
          <a:xfrm>
            <a:off x="5091120" y="2782800"/>
            <a:ext cx="85680" cy="100080"/>
          </a:xfrm>
          <a:custGeom>
            <a:avLst/>
            <a:gdLst>
              <a:gd name="textAreaLeft" fmla="*/ 0 w 85680"/>
              <a:gd name="textAreaRight" fmla="*/ 85680 w 856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3">
                <a:moveTo>
                  <a:pt x="36" y="6"/>
                </a:moveTo>
                <a:lnTo>
                  <a:pt x="0" y="61"/>
                </a:lnTo>
                <a:lnTo>
                  <a:pt x="26" y="63"/>
                </a:lnTo>
                <a:lnTo>
                  <a:pt x="50" y="30"/>
                </a:lnTo>
                <a:lnTo>
                  <a:pt x="54" y="0"/>
                </a:lnTo>
                <a:lnTo>
                  <a:pt x="36" y="6"/>
                </a:lnTo>
                <a:lnTo>
                  <a:pt x="36" y="6"/>
                </a:lnTo>
                <a:lnTo>
                  <a:pt x="36" y="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19"/>
          <p:cNvSpPr/>
          <p:nvPr/>
        </p:nvSpPr>
        <p:spPr>
          <a:xfrm>
            <a:off x="4219560" y="2498760"/>
            <a:ext cx="239760" cy="441360"/>
          </a:xfrm>
          <a:custGeom>
            <a:avLst/>
            <a:gdLst>
              <a:gd name="textAreaLeft" fmla="*/ 0 w 239760"/>
              <a:gd name="textAreaRight" fmla="*/ 240120 w 2397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151" h="278">
                <a:moveTo>
                  <a:pt x="29" y="278"/>
                </a:moveTo>
                <a:lnTo>
                  <a:pt x="10" y="242"/>
                </a:lnTo>
                <a:lnTo>
                  <a:pt x="0" y="197"/>
                </a:lnTo>
                <a:lnTo>
                  <a:pt x="14" y="154"/>
                </a:lnTo>
                <a:lnTo>
                  <a:pt x="31" y="129"/>
                </a:lnTo>
                <a:lnTo>
                  <a:pt x="57" y="108"/>
                </a:lnTo>
                <a:lnTo>
                  <a:pt x="81" y="84"/>
                </a:lnTo>
                <a:lnTo>
                  <a:pt x="109" y="51"/>
                </a:lnTo>
                <a:lnTo>
                  <a:pt x="151" y="0"/>
                </a:lnTo>
                <a:lnTo>
                  <a:pt x="98" y="105"/>
                </a:lnTo>
                <a:lnTo>
                  <a:pt x="36" y="188"/>
                </a:lnTo>
                <a:lnTo>
                  <a:pt x="29" y="278"/>
                </a:lnTo>
                <a:lnTo>
                  <a:pt x="29" y="278"/>
                </a:lnTo>
                <a:lnTo>
                  <a:pt x="29" y="278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20"/>
          <p:cNvSpPr/>
          <p:nvPr/>
        </p:nvSpPr>
        <p:spPr>
          <a:xfrm>
            <a:off x="5059440" y="2495520"/>
            <a:ext cx="282600" cy="243000"/>
          </a:xfrm>
          <a:custGeom>
            <a:avLst/>
            <a:gdLst>
              <a:gd name="textAreaLeft" fmla="*/ 0 w 282600"/>
              <a:gd name="textAreaRight" fmla="*/ 282960 w 282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78" h="153">
                <a:moveTo>
                  <a:pt x="0" y="0"/>
                </a:moveTo>
                <a:lnTo>
                  <a:pt x="51" y="22"/>
                </a:lnTo>
                <a:lnTo>
                  <a:pt x="91" y="42"/>
                </a:lnTo>
                <a:lnTo>
                  <a:pt x="139" y="61"/>
                </a:lnTo>
                <a:lnTo>
                  <a:pt x="173" y="88"/>
                </a:lnTo>
                <a:lnTo>
                  <a:pt x="178" y="119"/>
                </a:lnTo>
                <a:lnTo>
                  <a:pt x="157" y="153"/>
                </a:lnTo>
                <a:lnTo>
                  <a:pt x="143" y="102"/>
                </a:lnTo>
                <a:lnTo>
                  <a:pt x="83" y="65"/>
                </a:lnTo>
                <a:lnTo>
                  <a:pt x="42" y="44"/>
                </a:lnTo>
                <a:lnTo>
                  <a:pt x="8" y="1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21"/>
          <p:cNvSpPr/>
          <p:nvPr/>
        </p:nvSpPr>
        <p:spPr>
          <a:xfrm>
            <a:off x="4638600" y="1878120"/>
            <a:ext cx="411120" cy="757080"/>
          </a:xfrm>
          <a:custGeom>
            <a:avLst/>
            <a:gdLst>
              <a:gd name="textAreaLeft" fmla="*/ 0 w 411120"/>
              <a:gd name="textAreaRight" fmla="*/ 411480 w 41112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59" h="477">
                <a:moveTo>
                  <a:pt x="222" y="0"/>
                </a:moveTo>
                <a:lnTo>
                  <a:pt x="189" y="0"/>
                </a:lnTo>
                <a:lnTo>
                  <a:pt x="162" y="19"/>
                </a:lnTo>
                <a:lnTo>
                  <a:pt x="140" y="48"/>
                </a:lnTo>
                <a:lnTo>
                  <a:pt x="126" y="56"/>
                </a:lnTo>
                <a:lnTo>
                  <a:pt x="111" y="49"/>
                </a:lnTo>
                <a:lnTo>
                  <a:pt x="97" y="26"/>
                </a:lnTo>
                <a:lnTo>
                  <a:pt x="77" y="56"/>
                </a:lnTo>
                <a:lnTo>
                  <a:pt x="54" y="110"/>
                </a:lnTo>
                <a:lnTo>
                  <a:pt x="45" y="162"/>
                </a:lnTo>
                <a:lnTo>
                  <a:pt x="51" y="245"/>
                </a:lnTo>
                <a:lnTo>
                  <a:pt x="86" y="353"/>
                </a:lnTo>
                <a:lnTo>
                  <a:pt x="105" y="394"/>
                </a:lnTo>
                <a:lnTo>
                  <a:pt x="142" y="355"/>
                </a:lnTo>
                <a:lnTo>
                  <a:pt x="162" y="351"/>
                </a:lnTo>
                <a:lnTo>
                  <a:pt x="182" y="357"/>
                </a:lnTo>
                <a:lnTo>
                  <a:pt x="196" y="380"/>
                </a:lnTo>
                <a:lnTo>
                  <a:pt x="194" y="402"/>
                </a:lnTo>
                <a:lnTo>
                  <a:pt x="174" y="411"/>
                </a:lnTo>
                <a:lnTo>
                  <a:pt x="108" y="417"/>
                </a:lnTo>
                <a:lnTo>
                  <a:pt x="79" y="439"/>
                </a:lnTo>
                <a:lnTo>
                  <a:pt x="44" y="461"/>
                </a:lnTo>
                <a:lnTo>
                  <a:pt x="0" y="468"/>
                </a:lnTo>
                <a:lnTo>
                  <a:pt x="31" y="477"/>
                </a:lnTo>
                <a:lnTo>
                  <a:pt x="84" y="477"/>
                </a:lnTo>
                <a:lnTo>
                  <a:pt x="161" y="452"/>
                </a:lnTo>
                <a:lnTo>
                  <a:pt x="209" y="452"/>
                </a:lnTo>
                <a:lnTo>
                  <a:pt x="246" y="437"/>
                </a:lnTo>
                <a:lnTo>
                  <a:pt x="259" y="412"/>
                </a:lnTo>
                <a:lnTo>
                  <a:pt x="259" y="371"/>
                </a:lnTo>
                <a:lnTo>
                  <a:pt x="214" y="317"/>
                </a:lnTo>
                <a:lnTo>
                  <a:pt x="165" y="251"/>
                </a:lnTo>
                <a:lnTo>
                  <a:pt x="140" y="165"/>
                </a:lnTo>
                <a:lnTo>
                  <a:pt x="161" y="110"/>
                </a:lnTo>
                <a:lnTo>
                  <a:pt x="149" y="97"/>
                </a:lnTo>
                <a:lnTo>
                  <a:pt x="177" y="59"/>
                </a:lnTo>
                <a:lnTo>
                  <a:pt x="165" y="57"/>
                </a:lnTo>
                <a:lnTo>
                  <a:pt x="189" y="23"/>
                </a:lnTo>
                <a:lnTo>
                  <a:pt x="222" y="0"/>
                </a:lnTo>
                <a:lnTo>
                  <a:pt x="222" y="0"/>
                </a:lnTo>
                <a:lnTo>
                  <a:pt x="222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22"/>
          <p:cNvSpPr/>
          <p:nvPr/>
        </p:nvSpPr>
        <p:spPr>
          <a:xfrm>
            <a:off x="3778200" y="1125360"/>
            <a:ext cx="1389240" cy="2589480"/>
          </a:xfrm>
          <a:custGeom>
            <a:avLst/>
            <a:gdLst>
              <a:gd name="textAreaLeft" fmla="*/ 0 w 1389240"/>
              <a:gd name="textAreaRight" fmla="*/ 1389240 w 1389240"/>
              <a:gd name="textAreaTop" fmla="*/ 0 h 2589480"/>
              <a:gd name="textAreaBottom" fmla="*/ 2589840 h 2589480"/>
            </a:gdLst>
            <a:ahLst/>
            <a:rect l="textAreaLeft" t="textAreaTop" r="textAreaRight" b="textAreaBottom"/>
            <a:pathLst>
              <a:path w="875" h="1631">
                <a:moveTo>
                  <a:pt x="455" y="0"/>
                </a:moveTo>
                <a:lnTo>
                  <a:pt x="310" y="122"/>
                </a:lnTo>
                <a:lnTo>
                  <a:pt x="269" y="233"/>
                </a:lnTo>
                <a:lnTo>
                  <a:pt x="224" y="362"/>
                </a:lnTo>
                <a:lnTo>
                  <a:pt x="218" y="431"/>
                </a:lnTo>
                <a:lnTo>
                  <a:pt x="287" y="494"/>
                </a:lnTo>
                <a:lnTo>
                  <a:pt x="166" y="537"/>
                </a:lnTo>
                <a:lnTo>
                  <a:pt x="107" y="587"/>
                </a:lnTo>
                <a:lnTo>
                  <a:pt x="95" y="639"/>
                </a:lnTo>
                <a:lnTo>
                  <a:pt x="142" y="663"/>
                </a:lnTo>
                <a:lnTo>
                  <a:pt x="195" y="689"/>
                </a:lnTo>
                <a:lnTo>
                  <a:pt x="103" y="710"/>
                </a:lnTo>
                <a:lnTo>
                  <a:pt x="79" y="761"/>
                </a:lnTo>
                <a:lnTo>
                  <a:pt x="92" y="896"/>
                </a:lnTo>
                <a:lnTo>
                  <a:pt x="144" y="1058"/>
                </a:lnTo>
                <a:lnTo>
                  <a:pt x="200" y="1156"/>
                </a:lnTo>
                <a:lnTo>
                  <a:pt x="269" y="1248"/>
                </a:lnTo>
                <a:lnTo>
                  <a:pt x="356" y="1329"/>
                </a:lnTo>
                <a:lnTo>
                  <a:pt x="442" y="1393"/>
                </a:lnTo>
                <a:lnTo>
                  <a:pt x="601" y="1454"/>
                </a:lnTo>
                <a:lnTo>
                  <a:pt x="709" y="1457"/>
                </a:lnTo>
                <a:lnTo>
                  <a:pt x="795" y="1441"/>
                </a:lnTo>
                <a:lnTo>
                  <a:pt x="875" y="1413"/>
                </a:lnTo>
                <a:lnTo>
                  <a:pt x="782" y="1463"/>
                </a:lnTo>
                <a:lnTo>
                  <a:pt x="645" y="1484"/>
                </a:lnTo>
                <a:lnTo>
                  <a:pt x="543" y="1499"/>
                </a:lnTo>
                <a:lnTo>
                  <a:pt x="577" y="1631"/>
                </a:lnTo>
                <a:lnTo>
                  <a:pt x="519" y="1620"/>
                </a:lnTo>
                <a:lnTo>
                  <a:pt x="211" y="1326"/>
                </a:lnTo>
                <a:lnTo>
                  <a:pt x="0" y="977"/>
                </a:lnTo>
                <a:lnTo>
                  <a:pt x="34" y="457"/>
                </a:lnTo>
                <a:lnTo>
                  <a:pt x="237" y="33"/>
                </a:lnTo>
                <a:lnTo>
                  <a:pt x="455" y="0"/>
                </a:lnTo>
                <a:lnTo>
                  <a:pt x="455" y="0"/>
                </a:lnTo>
                <a:lnTo>
                  <a:pt x="455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23"/>
          <p:cNvSpPr/>
          <p:nvPr/>
        </p:nvSpPr>
        <p:spPr>
          <a:xfrm>
            <a:off x="4468680" y="954000"/>
            <a:ext cx="1228680" cy="24750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774" h="1559">
                <a:moveTo>
                  <a:pt x="50" y="87"/>
                </a:moveTo>
                <a:lnTo>
                  <a:pt x="171" y="83"/>
                </a:lnTo>
                <a:lnTo>
                  <a:pt x="258" y="95"/>
                </a:lnTo>
                <a:lnTo>
                  <a:pt x="332" y="130"/>
                </a:lnTo>
                <a:lnTo>
                  <a:pt x="389" y="167"/>
                </a:lnTo>
                <a:lnTo>
                  <a:pt x="440" y="246"/>
                </a:lnTo>
                <a:lnTo>
                  <a:pt x="469" y="333"/>
                </a:lnTo>
                <a:lnTo>
                  <a:pt x="492" y="436"/>
                </a:lnTo>
                <a:lnTo>
                  <a:pt x="498" y="486"/>
                </a:lnTo>
                <a:lnTo>
                  <a:pt x="421" y="489"/>
                </a:lnTo>
                <a:lnTo>
                  <a:pt x="464" y="531"/>
                </a:lnTo>
                <a:lnTo>
                  <a:pt x="427" y="551"/>
                </a:lnTo>
                <a:lnTo>
                  <a:pt x="363" y="568"/>
                </a:lnTo>
                <a:lnTo>
                  <a:pt x="392" y="602"/>
                </a:lnTo>
                <a:lnTo>
                  <a:pt x="513" y="652"/>
                </a:lnTo>
                <a:lnTo>
                  <a:pt x="571" y="647"/>
                </a:lnTo>
                <a:lnTo>
                  <a:pt x="606" y="696"/>
                </a:lnTo>
                <a:lnTo>
                  <a:pt x="629" y="777"/>
                </a:lnTo>
                <a:lnTo>
                  <a:pt x="638" y="909"/>
                </a:lnTo>
                <a:lnTo>
                  <a:pt x="629" y="1038"/>
                </a:lnTo>
                <a:lnTo>
                  <a:pt x="629" y="1159"/>
                </a:lnTo>
                <a:lnTo>
                  <a:pt x="601" y="1251"/>
                </a:lnTo>
                <a:lnTo>
                  <a:pt x="500" y="1415"/>
                </a:lnTo>
                <a:lnTo>
                  <a:pt x="427" y="1484"/>
                </a:lnTo>
                <a:lnTo>
                  <a:pt x="334" y="1559"/>
                </a:lnTo>
                <a:lnTo>
                  <a:pt x="411" y="1559"/>
                </a:lnTo>
                <a:lnTo>
                  <a:pt x="606" y="1428"/>
                </a:lnTo>
                <a:lnTo>
                  <a:pt x="774" y="1217"/>
                </a:lnTo>
                <a:lnTo>
                  <a:pt x="753" y="869"/>
                </a:lnTo>
                <a:lnTo>
                  <a:pt x="659" y="457"/>
                </a:lnTo>
                <a:lnTo>
                  <a:pt x="513" y="108"/>
                </a:lnTo>
                <a:lnTo>
                  <a:pt x="345" y="3"/>
                </a:lnTo>
                <a:lnTo>
                  <a:pt x="173" y="0"/>
                </a:lnTo>
                <a:lnTo>
                  <a:pt x="0" y="46"/>
                </a:lnTo>
                <a:lnTo>
                  <a:pt x="50" y="87"/>
                </a:lnTo>
                <a:lnTo>
                  <a:pt x="50" y="87"/>
                </a:lnTo>
                <a:lnTo>
                  <a:pt x="5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24"/>
          <p:cNvSpPr/>
          <p:nvPr/>
        </p:nvSpPr>
        <p:spPr>
          <a:xfrm>
            <a:off x="5551560" y="1257480"/>
            <a:ext cx="1287360" cy="2420640"/>
          </a:xfrm>
          <a:custGeom>
            <a:avLst/>
            <a:gdLst>
              <a:gd name="textAreaLeft" fmla="*/ 0 w 1287360"/>
              <a:gd name="textAreaRight" fmla="*/ 1287720 w 1287360"/>
              <a:gd name="textAreaTop" fmla="*/ 0 h 2420640"/>
              <a:gd name="textAreaBottom" fmla="*/ 2421000 h 2420640"/>
            </a:gdLst>
            <a:ahLst/>
            <a:rect l="textAreaLeft" t="textAreaTop" r="textAreaRight" b="textAreaBottom"/>
            <a:pathLst>
              <a:path w="811" h="1525">
                <a:moveTo>
                  <a:pt x="71" y="0"/>
                </a:moveTo>
                <a:lnTo>
                  <a:pt x="375" y="127"/>
                </a:lnTo>
                <a:lnTo>
                  <a:pt x="450" y="251"/>
                </a:lnTo>
                <a:lnTo>
                  <a:pt x="529" y="348"/>
                </a:lnTo>
                <a:lnTo>
                  <a:pt x="480" y="370"/>
                </a:lnTo>
                <a:lnTo>
                  <a:pt x="534" y="485"/>
                </a:lnTo>
                <a:lnTo>
                  <a:pt x="701" y="603"/>
                </a:lnTo>
                <a:lnTo>
                  <a:pt x="802" y="762"/>
                </a:lnTo>
                <a:lnTo>
                  <a:pt x="811" y="965"/>
                </a:lnTo>
                <a:lnTo>
                  <a:pt x="679" y="1283"/>
                </a:lnTo>
                <a:lnTo>
                  <a:pt x="736" y="1517"/>
                </a:lnTo>
                <a:lnTo>
                  <a:pt x="643" y="1525"/>
                </a:lnTo>
                <a:lnTo>
                  <a:pt x="520" y="1477"/>
                </a:lnTo>
                <a:lnTo>
                  <a:pt x="415" y="1380"/>
                </a:lnTo>
                <a:lnTo>
                  <a:pt x="27" y="1318"/>
                </a:lnTo>
                <a:lnTo>
                  <a:pt x="0" y="1235"/>
                </a:lnTo>
                <a:lnTo>
                  <a:pt x="62" y="952"/>
                </a:lnTo>
                <a:lnTo>
                  <a:pt x="35" y="700"/>
                </a:lnTo>
                <a:lnTo>
                  <a:pt x="35" y="264"/>
                </a:lnTo>
                <a:lnTo>
                  <a:pt x="71" y="0"/>
                </a:lnTo>
                <a:lnTo>
                  <a:pt x="71" y="0"/>
                </a:lnTo>
                <a:lnTo>
                  <a:pt x="71" y="0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25"/>
          <p:cNvSpPr/>
          <p:nvPr/>
        </p:nvSpPr>
        <p:spPr>
          <a:xfrm>
            <a:off x="2860560" y="430200"/>
            <a:ext cx="2559240" cy="3268800"/>
          </a:xfrm>
          <a:custGeom>
            <a:avLst/>
            <a:gdLst>
              <a:gd name="textAreaLeft" fmla="*/ 0 w 2559240"/>
              <a:gd name="textAreaRight" fmla="*/ 2559240 w 2559240"/>
              <a:gd name="textAreaTop" fmla="*/ 0 h 3268800"/>
              <a:gd name="textAreaBottom" fmla="*/ 3269160 h 3268800"/>
            </a:gdLst>
            <a:ahLst/>
            <a:rect l="textAreaLeft" t="textAreaTop" r="textAreaRight" b="textAreaBottom"/>
            <a:pathLst>
              <a:path w="1612" h="2059">
                <a:moveTo>
                  <a:pt x="228" y="749"/>
                </a:moveTo>
                <a:lnTo>
                  <a:pt x="479" y="243"/>
                </a:lnTo>
                <a:lnTo>
                  <a:pt x="643" y="155"/>
                </a:lnTo>
                <a:lnTo>
                  <a:pt x="1026" y="0"/>
                </a:lnTo>
                <a:lnTo>
                  <a:pt x="1383" y="9"/>
                </a:lnTo>
                <a:lnTo>
                  <a:pt x="1528" y="44"/>
                </a:lnTo>
                <a:lnTo>
                  <a:pt x="1594" y="133"/>
                </a:lnTo>
                <a:lnTo>
                  <a:pt x="1612" y="286"/>
                </a:lnTo>
                <a:lnTo>
                  <a:pt x="1563" y="472"/>
                </a:lnTo>
                <a:lnTo>
                  <a:pt x="1369" y="410"/>
                </a:lnTo>
                <a:lnTo>
                  <a:pt x="1273" y="340"/>
                </a:lnTo>
                <a:lnTo>
                  <a:pt x="1092" y="326"/>
                </a:lnTo>
                <a:lnTo>
                  <a:pt x="836" y="468"/>
                </a:lnTo>
                <a:lnTo>
                  <a:pt x="656" y="833"/>
                </a:lnTo>
                <a:lnTo>
                  <a:pt x="567" y="1231"/>
                </a:lnTo>
                <a:lnTo>
                  <a:pt x="761" y="1853"/>
                </a:lnTo>
                <a:lnTo>
                  <a:pt x="616" y="2011"/>
                </a:lnTo>
                <a:lnTo>
                  <a:pt x="347" y="2059"/>
                </a:lnTo>
                <a:lnTo>
                  <a:pt x="35" y="2059"/>
                </a:lnTo>
                <a:lnTo>
                  <a:pt x="22" y="1927"/>
                </a:lnTo>
                <a:lnTo>
                  <a:pt x="0" y="1769"/>
                </a:lnTo>
                <a:lnTo>
                  <a:pt x="22" y="1681"/>
                </a:lnTo>
                <a:lnTo>
                  <a:pt x="48" y="1561"/>
                </a:lnTo>
                <a:lnTo>
                  <a:pt x="9" y="1443"/>
                </a:lnTo>
                <a:lnTo>
                  <a:pt x="22" y="1270"/>
                </a:lnTo>
                <a:lnTo>
                  <a:pt x="62" y="1181"/>
                </a:lnTo>
                <a:lnTo>
                  <a:pt x="35" y="1151"/>
                </a:lnTo>
                <a:lnTo>
                  <a:pt x="44" y="1089"/>
                </a:lnTo>
                <a:lnTo>
                  <a:pt x="140" y="1068"/>
                </a:lnTo>
                <a:lnTo>
                  <a:pt x="228" y="749"/>
                </a:lnTo>
                <a:lnTo>
                  <a:pt x="228" y="749"/>
                </a:lnTo>
                <a:lnTo>
                  <a:pt x="228" y="749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26"/>
          <p:cNvSpPr/>
          <p:nvPr/>
        </p:nvSpPr>
        <p:spPr>
          <a:xfrm>
            <a:off x="3835440" y="592200"/>
            <a:ext cx="971640" cy="317520"/>
          </a:xfrm>
          <a:custGeom>
            <a:avLst/>
            <a:gdLst>
              <a:gd name="textAreaLeft" fmla="*/ 0 w 971640"/>
              <a:gd name="textAreaRight" fmla="*/ 972000 w 9716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12" h="200">
                <a:moveTo>
                  <a:pt x="0" y="164"/>
                </a:moveTo>
                <a:lnTo>
                  <a:pt x="147" y="200"/>
                </a:lnTo>
                <a:lnTo>
                  <a:pt x="332" y="200"/>
                </a:lnTo>
                <a:lnTo>
                  <a:pt x="428" y="196"/>
                </a:lnTo>
                <a:lnTo>
                  <a:pt x="550" y="143"/>
                </a:lnTo>
                <a:lnTo>
                  <a:pt x="338" y="149"/>
                </a:lnTo>
                <a:lnTo>
                  <a:pt x="271" y="123"/>
                </a:lnTo>
                <a:lnTo>
                  <a:pt x="391" y="103"/>
                </a:lnTo>
                <a:lnTo>
                  <a:pt x="494" y="62"/>
                </a:lnTo>
                <a:lnTo>
                  <a:pt x="612" y="0"/>
                </a:lnTo>
                <a:lnTo>
                  <a:pt x="276" y="10"/>
                </a:lnTo>
                <a:lnTo>
                  <a:pt x="134" y="39"/>
                </a:lnTo>
                <a:lnTo>
                  <a:pt x="315" y="62"/>
                </a:lnTo>
                <a:lnTo>
                  <a:pt x="128" y="80"/>
                </a:lnTo>
                <a:lnTo>
                  <a:pt x="271" y="155"/>
                </a:lnTo>
                <a:lnTo>
                  <a:pt x="99" y="155"/>
                </a:lnTo>
                <a:lnTo>
                  <a:pt x="0" y="164"/>
                </a:lnTo>
                <a:lnTo>
                  <a:pt x="0" y="164"/>
                </a:lnTo>
                <a:lnTo>
                  <a:pt x="0" y="16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27"/>
          <p:cNvSpPr/>
          <p:nvPr/>
        </p:nvSpPr>
        <p:spPr>
          <a:xfrm>
            <a:off x="4346640" y="438120"/>
            <a:ext cx="725400" cy="128520"/>
          </a:xfrm>
          <a:custGeom>
            <a:avLst/>
            <a:gdLst>
              <a:gd name="textAreaLeft" fmla="*/ 0 w 725400"/>
              <a:gd name="textAreaRight" fmla="*/ 725760 w 725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457" h="81">
                <a:moveTo>
                  <a:pt x="71" y="55"/>
                </a:moveTo>
                <a:lnTo>
                  <a:pt x="266" y="48"/>
                </a:lnTo>
                <a:lnTo>
                  <a:pt x="341" y="42"/>
                </a:lnTo>
                <a:lnTo>
                  <a:pt x="413" y="62"/>
                </a:lnTo>
                <a:lnTo>
                  <a:pt x="454" y="81"/>
                </a:lnTo>
                <a:lnTo>
                  <a:pt x="457" y="31"/>
                </a:lnTo>
                <a:lnTo>
                  <a:pt x="224" y="0"/>
                </a:lnTo>
                <a:lnTo>
                  <a:pt x="77" y="14"/>
                </a:lnTo>
                <a:lnTo>
                  <a:pt x="0" y="46"/>
                </a:lnTo>
                <a:lnTo>
                  <a:pt x="71" y="55"/>
                </a:lnTo>
                <a:lnTo>
                  <a:pt x="71" y="55"/>
                </a:lnTo>
                <a:lnTo>
                  <a:pt x="71" y="5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28"/>
          <p:cNvSpPr/>
          <p:nvPr/>
        </p:nvSpPr>
        <p:spPr>
          <a:xfrm>
            <a:off x="3594240" y="825480"/>
            <a:ext cx="541080" cy="309600"/>
          </a:xfrm>
          <a:custGeom>
            <a:avLst/>
            <a:gdLst>
              <a:gd name="textAreaLeft" fmla="*/ 0 w 541080"/>
              <a:gd name="textAreaRight" fmla="*/ 541080 w 5410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1" h="195">
                <a:moveTo>
                  <a:pt x="0" y="12"/>
                </a:moveTo>
                <a:lnTo>
                  <a:pt x="66" y="92"/>
                </a:lnTo>
                <a:lnTo>
                  <a:pt x="117" y="134"/>
                </a:lnTo>
                <a:lnTo>
                  <a:pt x="173" y="164"/>
                </a:lnTo>
                <a:lnTo>
                  <a:pt x="255" y="195"/>
                </a:lnTo>
                <a:lnTo>
                  <a:pt x="341" y="195"/>
                </a:lnTo>
                <a:lnTo>
                  <a:pt x="255" y="164"/>
                </a:lnTo>
                <a:lnTo>
                  <a:pt x="146" y="113"/>
                </a:lnTo>
                <a:lnTo>
                  <a:pt x="70" y="53"/>
                </a:lnTo>
                <a:lnTo>
                  <a:pt x="16" y="0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29"/>
          <p:cNvSpPr/>
          <p:nvPr/>
        </p:nvSpPr>
        <p:spPr>
          <a:xfrm>
            <a:off x="3344760" y="1020600"/>
            <a:ext cx="376200" cy="551160"/>
          </a:xfrm>
          <a:custGeom>
            <a:avLst/>
            <a:gdLst>
              <a:gd name="textAreaLeft" fmla="*/ 0 w 376200"/>
              <a:gd name="textAreaRight" fmla="*/ 376560 w 376200"/>
              <a:gd name="textAreaTop" fmla="*/ 0 h 551160"/>
              <a:gd name="textAreaBottom" fmla="*/ 551520 h 551160"/>
            </a:gdLst>
            <a:ahLst/>
            <a:rect l="textAreaLeft" t="textAreaTop" r="textAreaRight" b="textAreaBottom"/>
            <a:pathLst>
              <a:path w="237" h="347">
                <a:moveTo>
                  <a:pt x="152" y="0"/>
                </a:moveTo>
                <a:lnTo>
                  <a:pt x="207" y="95"/>
                </a:lnTo>
                <a:lnTo>
                  <a:pt x="237" y="156"/>
                </a:lnTo>
                <a:lnTo>
                  <a:pt x="237" y="197"/>
                </a:lnTo>
                <a:lnTo>
                  <a:pt x="191" y="264"/>
                </a:lnTo>
                <a:lnTo>
                  <a:pt x="0" y="347"/>
                </a:lnTo>
                <a:lnTo>
                  <a:pt x="81" y="202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30"/>
          <p:cNvSpPr/>
          <p:nvPr/>
        </p:nvSpPr>
        <p:spPr>
          <a:xfrm>
            <a:off x="3780000" y="1189080"/>
            <a:ext cx="144360" cy="355680"/>
          </a:xfrm>
          <a:custGeom>
            <a:avLst/>
            <a:gdLst>
              <a:gd name="textAreaLeft" fmla="*/ 0 w 144360"/>
              <a:gd name="textAreaRight" fmla="*/ 144720 w 1443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91" h="224">
                <a:moveTo>
                  <a:pt x="91" y="30"/>
                </a:moveTo>
                <a:lnTo>
                  <a:pt x="60" y="82"/>
                </a:lnTo>
                <a:lnTo>
                  <a:pt x="50" y="133"/>
                </a:lnTo>
                <a:lnTo>
                  <a:pt x="70" y="193"/>
                </a:lnTo>
                <a:lnTo>
                  <a:pt x="70" y="224"/>
                </a:lnTo>
                <a:lnTo>
                  <a:pt x="35" y="204"/>
                </a:lnTo>
                <a:lnTo>
                  <a:pt x="4" y="137"/>
                </a:lnTo>
                <a:lnTo>
                  <a:pt x="0" y="31"/>
                </a:lnTo>
                <a:lnTo>
                  <a:pt x="44" y="0"/>
                </a:lnTo>
                <a:lnTo>
                  <a:pt x="91" y="30"/>
                </a:lnTo>
                <a:lnTo>
                  <a:pt x="91" y="30"/>
                </a:lnTo>
                <a:lnTo>
                  <a:pt x="91" y="3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31"/>
          <p:cNvSpPr/>
          <p:nvPr/>
        </p:nvSpPr>
        <p:spPr>
          <a:xfrm>
            <a:off x="5783400" y="1344600"/>
            <a:ext cx="236520" cy="709560"/>
          </a:xfrm>
          <a:custGeom>
            <a:avLst/>
            <a:gdLst>
              <a:gd name="textAreaLeft" fmla="*/ 0 w 236520"/>
              <a:gd name="textAreaRight" fmla="*/ 236880 w 236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49" h="447">
                <a:moveTo>
                  <a:pt x="15" y="0"/>
                </a:moveTo>
                <a:lnTo>
                  <a:pt x="80" y="89"/>
                </a:lnTo>
                <a:lnTo>
                  <a:pt x="93" y="143"/>
                </a:lnTo>
                <a:lnTo>
                  <a:pt x="76" y="192"/>
                </a:lnTo>
                <a:lnTo>
                  <a:pt x="59" y="117"/>
                </a:lnTo>
                <a:lnTo>
                  <a:pt x="0" y="66"/>
                </a:lnTo>
                <a:lnTo>
                  <a:pt x="24" y="147"/>
                </a:lnTo>
                <a:lnTo>
                  <a:pt x="48" y="192"/>
                </a:lnTo>
                <a:lnTo>
                  <a:pt x="45" y="242"/>
                </a:lnTo>
                <a:lnTo>
                  <a:pt x="25" y="321"/>
                </a:lnTo>
                <a:lnTo>
                  <a:pt x="25" y="365"/>
                </a:lnTo>
                <a:lnTo>
                  <a:pt x="44" y="410"/>
                </a:lnTo>
                <a:lnTo>
                  <a:pt x="89" y="447"/>
                </a:lnTo>
                <a:lnTo>
                  <a:pt x="92" y="314"/>
                </a:lnTo>
                <a:lnTo>
                  <a:pt x="149" y="161"/>
                </a:lnTo>
                <a:lnTo>
                  <a:pt x="113" y="68"/>
                </a:lnTo>
                <a:lnTo>
                  <a:pt x="66" y="2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2"/>
          <p:cNvSpPr/>
          <p:nvPr/>
        </p:nvSpPr>
        <p:spPr>
          <a:xfrm>
            <a:off x="6294600" y="1873080"/>
            <a:ext cx="550800" cy="878040"/>
          </a:xfrm>
          <a:custGeom>
            <a:avLst/>
            <a:gdLst>
              <a:gd name="textAreaLeft" fmla="*/ 0 w 550800"/>
              <a:gd name="textAreaRight" fmla="*/ 551160 w 55080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347" h="553">
                <a:moveTo>
                  <a:pt x="6" y="0"/>
                </a:moveTo>
                <a:lnTo>
                  <a:pt x="0" y="72"/>
                </a:lnTo>
                <a:lnTo>
                  <a:pt x="12" y="137"/>
                </a:lnTo>
                <a:lnTo>
                  <a:pt x="83" y="198"/>
                </a:lnTo>
                <a:lnTo>
                  <a:pt x="139" y="242"/>
                </a:lnTo>
                <a:lnTo>
                  <a:pt x="139" y="212"/>
                </a:lnTo>
                <a:lnTo>
                  <a:pt x="237" y="295"/>
                </a:lnTo>
                <a:lnTo>
                  <a:pt x="285" y="379"/>
                </a:lnTo>
                <a:lnTo>
                  <a:pt x="320" y="461"/>
                </a:lnTo>
                <a:lnTo>
                  <a:pt x="330" y="553"/>
                </a:lnTo>
                <a:lnTo>
                  <a:pt x="347" y="450"/>
                </a:lnTo>
                <a:lnTo>
                  <a:pt x="327" y="358"/>
                </a:lnTo>
                <a:lnTo>
                  <a:pt x="272" y="276"/>
                </a:lnTo>
                <a:lnTo>
                  <a:pt x="172" y="175"/>
                </a:lnTo>
                <a:lnTo>
                  <a:pt x="58" y="5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33"/>
          <p:cNvSpPr/>
          <p:nvPr/>
        </p:nvSpPr>
        <p:spPr>
          <a:xfrm>
            <a:off x="6451560" y="2303640"/>
            <a:ext cx="216000" cy="626760"/>
          </a:xfrm>
          <a:custGeom>
            <a:avLst/>
            <a:gdLst>
              <a:gd name="textAreaLeft" fmla="*/ 0 w 216000"/>
              <a:gd name="textAreaRight" fmla="*/ 216360 w 21600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136" h="395">
                <a:moveTo>
                  <a:pt x="74" y="0"/>
                </a:moveTo>
                <a:lnTo>
                  <a:pt x="118" y="70"/>
                </a:lnTo>
                <a:lnTo>
                  <a:pt x="136" y="210"/>
                </a:lnTo>
                <a:lnTo>
                  <a:pt x="84" y="327"/>
                </a:lnTo>
                <a:lnTo>
                  <a:pt x="0" y="395"/>
                </a:lnTo>
                <a:lnTo>
                  <a:pt x="60" y="265"/>
                </a:lnTo>
                <a:lnTo>
                  <a:pt x="90" y="169"/>
                </a:lnTo>
                <a:lnTo>
                  <a:pt x="88" y="112"/>
                </a:lnTo>
                <a:lnTo>
                  <a:pt x="74" y="0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34"/>
          <p:cNvSpPr/>
          <p:nvPr/>
        </p:nvSpPr>
        <p:spPr>
          <a:xfrm>
            <a:off x="2986200" y="2068560"/>
            <a:ext cx="439560" cy="233280"/>
          </a:xfrm>
          <a:custGeom>
            <a:avLst/>
            <a:gdLst>
              <a:gd name="textAreaLeft" fmla="*/ 0 w 439560"/>
              <a:gd name="textAreaRight" fmla="*/ 439920 w 4395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7" h="147">
                <a:moveTo>
                  <a:pt x="0" y="84"/>
                </a:moveTo>
                <a:lnTo>
                  <a:pt x="37" y="126"/>
                </a:lnTo>
                <a:lnTo>
                  <a:pt x="86" y="147"/>
                </a:lnTo>
                <a:lnTo>
                  <a:pt x="146" y="147"/>
                </a:lnTo>
                <a:lnTo>
                  <a:pt x="196" y="122"/>
                </a:lnTo>
                <a:lnTo>
                  <a:pt x="249" y="81"/>
                </a:lnTo>
                <a:lnTo>
                  <a:pt x="277" y="0"/>
                </a:lnTo>
                <a:lnTo>
                  <a:pt x="0" y="84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35"/>
          <p:cNvSpPr/>
          <p:nvPr/>
        </p:nvSpPr>
        <p:spPr>
          <a:xfrm>
            <a:off x="2844720" y="2336760"/>
            <a:ext cx="192240" cy="609480"/>
          </a:xfrm>
          <a:custGeom>
            <a:avLst/>
            <a:gdLst>
              <a:gd name="textAreaLeft" fmla="*/ 0 w 192240"/>
              <a:gd name="textAreaRight" fmla="*/ 192600 w 1922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1" h="384">
                <a:moveTo>
                  <a:pt x="101" y="384"/>
                </a:moveTo>
                <a:lnTo>
                  <a:pt x="121" y="355"/>
                </a:lnTo>
                <a:lnTo>
                  <a:pt x="65" y="276"/>
                </a:lnTo>
                <a:lnTo>
                  <a:pt x="58" y="200"/>
                </a:lnTo>
                <a:lnTo>
                  <a:pt x="65" y="147"/>
                </a:lnTo>
                <a:lnTo>
                  <a:pt x="96" y="0"/>
                </a:lnTo>
                <a:lnTo>
                  <a:pt x="60" y="16"/>
                </a:lnTo>
                <a:lnTo>
                  <a:pt x="0" y="147"/>
                </a:lnTo>
                <a:lnTo>
                  <a:pt x="13" y="336"/>
                </a:lnTo>
                <a:lnTo>
                  <a:pt x="101" y="384"/>
                </a:lnTo>
                <a:lnTo>
                  <a:pt x="101" y="384"/>
                </a:lnTo>
                <a:lnTo>
                  <a:pt x="101" y="3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36"/>
          <p:cNvSpPr/>
          <p:nvPr/>
        </p:nvSpPr>
        <p:spPr>
          <a:xfrm>
            <a:off x="3089160" y="2502000"/>
            <a:ext cx="273240" cy="379440"/>
          </a:xfrm>
          <a:custGeom>
            <a:avLst/>
            <a:gdLst>
              <a:gd name="textAreaLeft" fmla="*/ 0 w 273240"/>
              <a:gd name="textAreaRight" fmla="*/ 273600 w 2732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72" h="239">
                <a:moveTo>
                  <a:pt x="43" y="151"/>
                </a:moveTo>
                <a:lnTo>
                  <a:pt x="0" y="239"/>
                </a:lnTo>
                <a:lnTo>
                  <a:pt x="40" y="234"/>
                </a:lnTo>
                <a:lnTo>
                  <a:pt x="114" y="188"/>
                </a:lnTo>
                <a:lnTo>
                  <a:pt x="151" y="129"/>
                </a:lnTo>
                <a:lnTo>
                  <a:pt x="172" y="50"/>
                </a:lnTo>
                <a:lnTo>
                  <a:pt x="157" y="0"/>
                </a:lnTo>
                <a:lnTo>
                  <a:pt x="43" y="151"/>
                </a:lnTo>
                <a:lnTo>
                  <a:pt x="43" y="151"/>
                </a:lnTo>
                <a:lnTo>
                  <a:pt x="43" y="151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37"/>
          <p:cNvSpPr/>
          <p:nvPr/>
        </p:nvSpPr>
        <p:spPr>
          <a:xfrm>
            <a:off x="3403440" y="2678040"/>
            <a:ext cx="120960" cy="498600"/>
          </a:xfrm>
          <a:custGeom>
            <a:avLst/>
            <a:gdLst>
              <a:gd name="textAreaLeft" fmla="*/ 0 w 120960"/>
              <a:gd name="textAreaRight" fmla="*/ 121320 w 12096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6" h="314">
                <a:moveTo>
                  <a:pt x="50" y="0"/>
                </a:moveTo>
                <a:lnTo>
                  <a:pt x="58" y="133"/>
                </a:lnTo>
                <a:lnTo>
                  <a:pt x="30" y="187"/>
                </a:lnTo>
                <a:lnTo>
                  <a:pt x="9" y="143"/>
                </a:lnTo>
                <a:lnTo>
                  <a:pt x="0" y="221"/>
                </a:lnTo>
                <a:lnTo>
                  <a:pt x="50" y="314"/>
                </a:lnTo>
                <a:lnTo>
                  <a:pt x="76" y="184"/>
                </a:lnTo>
                <a:lnTo>
                  <a:pt x="76" y="55"/>
                </a:lnTo>
                <a:lnTo>
                  <a:pt x="5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38"/>
          <p:cNvSpPr/>
          <p:nvPr/>
        </p:nvSpPr>
        <p:spPr>
          <a:xfrm>
            <a:off x="3000240" y="3262320"/>
            <a:ext cx="182520" cy="297000"/>
          </a:xfrm>
          <a:custGeom>
            <a:avLst/>
            <a:gdLst>
              <a:gd name="textAreaLeft" fmla="*/ 0 w 182520"/>
              <a:gd name="textAreaRight" fmla="*/ 182880 w 1825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5" h="187">
                <a:moveTo>
                  <a:pt x="69" y="5"/>
                </a:moveTo>
                <a:lnTo>
                  <a:pt x="8" y="41"/>
                </a:lnTo>
                <a:lnTo>
                  <a:pt x="15" y="101"/>
                </a:lnTo>
                <a:lnTo>
                  <a:pt x="31" y="141"/>
                </a:lnTo>
                <a:lnTo>
                  <a:pt x="0" y="187"/>
                </a:lnTo>
                <a:lnTo>
                  <a:pt x="56" y="146"/>
                </a:lnTo>
                <a:lnTo>
                  <a:pt x="61" y="96"/>
                </a:lnTo>
                <a:lnTo>
                  <a:pt x="87" y="55"/>
                </a:lnTo>
                <a:lnTo>
                  <a:pt x="115" y="0"/>
                </a:lnTo>
                <a:lnTo>
                  <a:pt x="69" y="5"/>
                </a:lnTo>
                <a:lnTo>
                  <a:pt x="69" y="5"/>
                </a:lnTo>
                <a:lnTo>
                  <a:pt x="69" y="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39"/>
          <p:cNvSpPr/>
          <p:nvPr/>
        </p:nvSpPr>
        <p:spPr>
          <a:xfrm>
            <a:off x="5802480" y="2166840"/>
            <a:ext cx="428400" cy="712800"/>
          </a:xfrm>
          <a:custGeom>
            <a:avLst/>
            <a:gdLst>
              <a:gd name="textAreaLeft" fmla="*/ 0 w 428400"/>
              <a:gd name="textAreaRight" fmla="*/ 428760 w 4284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70" h="449">
                <a:moveTo>
                  <a:pt x="0" y="0"/>
                </a:moveTo>
                <a:lnTo>
                  <a:pt x="93" y="96"/>
                </a:lnTo>
                <a:lnTo>
                  <a:pt x="162" y="154"/>
                </a:lnTo>
                <a:lnTo>
                  <a:pt x="235" y="217"/>
                </a:lnTo>
                <a:lnTo>
                  <a:pt x="270" y="286"/>
                </a:lnTo>
                <a:lnTo>
                  <a:pt x="241" y="348"/>
                </a:lnTo>
                <a:lnTo>
                  <a:pt x="186" y="419"/>
                </a:lnTo>
                <a:lnTo>
                  <a:pt x="66" y="449"/>
                </a:lnTo>
                <a:lnTo>
                  <a:pt x="147" y="322"/>
                </a:lnTo>
                <a:lnTo>
                  <a:pt x="89" y="187"/>
                </a:lnTo>
                <a:lnTo>
                  <a:pt x="8" y="10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40"/>
          <p:cNvSpPr/>
          <p:nvPr/>
        </p:nvSpPr>
        <p:spPr>
          <a:xfrm>
            <a:off x="5616720" y="2494080"/>
            <a:ext cx="252360" cy="261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59" h="165">
                <a:moveTo>
                  <a:pt x="0" y="2"/>
                </a:moveTo>
                <a:lnTo>
                  <a:pt x="8" y="58"/>
                </a:lnTo>
                <a:lnTo>
                  <a:pt x="51" y="54"/>
                </a:lnTo>
                <a:lnTo>
                  <a:pt x="101" y="81"/>
                </a:lnTo>
                <a:lnTo>
                  <a:pt x="113" y="165"/>
                </a:lnTo>
                <a:lnTo>
                  <a:pt x="159" y="127"/>
                </a:lnTo>
                <a:lnTo>
                  <a:pt x="148" y="49"/>
                </a:lnTo>
                <a:lnTo>
                  <a:pt x="9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41"/>
          <p:cNvSpPr/>
          <p:nvPr/>
        </p:nvSpPr>
        <p:spPr>
          <a:xfrm>
            <a:off x="5059440" y="438120"/>
            <a:ext cx="293760" cy="507960"/>
          </a:xfrm>
          <a:custGeom>
            <a:avLst/>
            <a:gdLst>
              <a:gd name="textAreaLeft" fmla="*/ 0 w 293760"/>
              <a:gd name="textAreaRight" fmla="*/ 294120 w 2937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85" h="320">
                <a:moveTo>
                  <a:pt x="0" y="13"/>
                </a:moveTo>
                <a:lnTo>
                  <a:pt x="55" y="58"/>
                </a:lnTo>
                <a:lnTo>
                  <a:pt x="95" y="101"/>
                </a:lnTo>
                <a:lnTo>
                  <a:pt x="103" y="144"/>
                </a:lnTo>
                <a:lnTo>
                  <a:pt x="103" y="216"/>
                </a:lnTo>
                <a:lnTo>
                  <a:pt x="137" y="172"/>
                </a:lnTo>
                <a:lnTo>
                  <a:pt x="125" y="233"/>
                </a:lnTo>
                <a:lnTo>
                  <a:pt x="108" y="320"/>
                </a:lnTo>
                <a:lnTo>
                  <a:pt x="161" y="238"/>
                </a:lnTo>
                <a:lnTo>
                  <a:pt x="185" y="172"/>
                </a:lnTo>
                <a:lnTo>
                  <a:pt x="144" y="69"/>
                </a:lnTo>
                <a:lnTo>
                  <a:pt x="31" y="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42"/>
          <p:cNvSpPr/>
          <p:nvPr/>
        </p:nvSpPr>
        <p:spPr>
          <a:xfrm>
            <a:off x="4781520" y="1681200"/>
            <a:ext cx="584280" cy="181080"/>
          </a:xfrm>
          <a:custGeom>
            <a:avLst/>
            <a:gdLst>
              <a:gd name="textAreaLeft" fmla="*/ 0 w 584280"/>
              <a:gd name="textAreaRight" fmla="*/ 584280 w 5842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368" h="114">
                <a:moveTo>
                  <a:pt x="0" y="114"/>
                </a:moveTo>
                <a:lnTo>
                  <a:pt x="41" y="106"/>
                </a:lnTo>
                <a:lnTo>
                  <a:pt x="82" y="92"/>
                </a:lnTo>
                <a:lnTo>
                  <a:pt x="171" y="53"/>
                </a:lnTo>
                <a:lnTo>
                  <a:pt x="217" y="42"/>
                </a:lnTo>
                <a:lnTo>
                  <a:pt x="280" y="44"/>
                </a:lnTo>
                <a:lnTo>
                  <a:pt x="330" y="61"/>
                </a:lnTo>
                <a:lnTo>
                  <a:pt x="368" y="86"/>
                </a:lnTo>
                <a:lnTo>
                  <a:pt x="359" y="67"/>
                </a:lnTo>
                <a:lnTo>
                  <a:pt x="366" y="45"/>
                </a:lnTo>
                <a:lnTo>
                  <a:pt x="337" y="47"/>
                </a:lnTo>
                <a:lnTo>
                  <a:pt x="316" y="44"/>
                </a:lnTo>
                <a:lnTo>
                  <a:pt x="316" y="25"/>
                </a:lnTo>
                <a:lnTo>
                  <a:pt x="266" y="6"/>
                </a:lnTo>
                <a:lnTo>
                  <a:pt x="217" y="0"/>
                </a:lnTo>
                <a:lnTo>
                  <a:pt x="167" y="4"/>
                </a:lnTo>
                <a:lnTo>
                  <a:pt x="126" y="22"/>
                </a:lnTo>
                <a:lnTo>
                  <a:pt x="57" y="35"/>
                </a:lnTo>
                <a:lnTo>
                  <a:pt x="17" y="70"/>
                </a:lnTo>
                <a:lnTo>
                  <a:pt x="7" y="95"/>
                </a:lnTo>
                <a:lnTo>
                  <a:pt x="0" y="114"/>
                </a:lnTo>
                <a:lnTo>
                  <a:pt x="0" y="114"/>
                </a:lnTo>
                <a:lnTo>
                  <a:pt x="0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43"/>
          <p:cNvSpPr/>
          <p:nvPr/>
        </p:nvSpPr>
        <p:spPr>
          <a:xfrm>
            <a:off x="3902040" y="1886040"/>
            <a:ext cx="452520" cy="169920"/>
          </a:xfrm>
          <a:custGeom>
            <a:avLst/>
            <a:gdLst>
              <a:gd name="textAreaLeft" fmla="*/ 0 w 452520"/>
              <a:gd name="textAreaRight" fmla="*/ 452880 w 4525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85" h="107">
                <a:moveTo>
                  <a:pt x="261" y="40"/>
                </a:moveTo>
                <a:lnTo>
                  <a:pt x="223" y="50"/>
                </a:lnTo>
                <a:lnTo>
                  <a:pt x="159" y="48"/>
                </a:lnTo>
                <a:lnTo>
                  <a:pt x="118" y="48"/>
                </a:lnTo>
                <a:lnTo>
                  <a:pt x="75" y="56"/>
                </a:lnTo>
                <a:lnTo>
                  <a:pt x="24" y="83"/>
                </a:lnTo>
                <a:lnTo>
                  <a:pt x="0" y="107"/>
                </a:lnTo>
                <a:lnTo>
                  <a:pt x="24" y="56"/>
                </a:lnTo>
                <a:lnTo>
                  <a:pt x="73" y="24"/>
                </a:lnTo>
                <a:lnTo>
                  <a:pt x="129" y="18"/>
                </a:lnTo>
                <a:lnTo>
                  <a:pt x="152" y="6"/>
                </a:lnTo>
                <a:lnTo>
                  <a:pt x="220" y="0"/>
                </a:lnTo>
                <a:lnTo>
                  <a:pt x="259" y="8"/>
                </a:lnTo>
                <a:lnTo>
                  <a:pt x="285" y="25"/>
                </a:lnTo>
                <a:lnTo>
                  <a:pt x="261" y="40"/>
                </a:lnTo>
                <a:lnTo>
                  <a:pt x="261" y="40"/>
                </a:lnTo>
                <a:lnTo>
                  <a:pt x="261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44"/>
          <p:cNvSpPr/>
          <p:nvPr/>
        </p:nvSpPr>
        <p:spPr>
          <a:xfrm>
            <a:off x="4673520" y="1871640"/>
            <a:ext cx="362160" cy="763560"/>
          </a:xfrm>
          <a:custGeom>
            <a:avLst/>
            <a:gdLst>
              <a:gd name="textAreaLeft" fmla="*/ 0 w 362160"/>
              <a:gd name="textAreaRight" fmla="*/ 362520 w 3621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28" h="481">
                <a:moveTo>
                  <a:pt x="212" y="0"/>
                </a:moveTo>
                <a:lnTo>
                  <a:pt x="166" y="27"/>
                </a:lnTo>
                <a:lnTo>
                  <a:pt x="125" y="65"/>
                </a:lnTo>
                <a:lnTo>
                  <a:pt x="109" y="88"/>
                </a:lnTo>
                <a:lnTo>
                  <a:pt x="113" y="117"/>
                </a:lnTo>
                <a:lnTo>
                  <a:pt x="87" y="116"/>
                </a:lnTo>
                <a:lnTo>
                  <a:pt x="89" y="144"/>
                </a:lnTo>
                <a:lnTo>
                  <a:pt x="121" y="239"/>
                </a:lnTo>
                <a:lnTo>
                  <a:pt x="148" y="298"/>
                </a:lnTo>
                <a:lnTo>
                  <a:pt x="196" y="339"/>
                </a:lnTo>
                <a:lnTo>
                  <a:pt x="228" y="388"/>
                </a:lnTo>
                <a:lnTo>
                  <a:pt x="216" y="436"/>
                </a:lnTo>
                <a:lnTo>
                  <a:pt x="178" y="452"/>
                </a:lnTo>
                <a:lnTo>
                  <a:pt x="144" y="448"/>
                </a:lnTo>
                <a:lnTo>
                  <a:pt x="59" y="481"/>
                </a:lnTo>
                <a:lnTo>
                  <a:pt x="0" y="481"/>
                </a:lnTo>
                <a:lnTo>
                  <a:pt x="41" y="466"/>
                </a:lnTo>
                <a:lnTo>
                  <a:pt x="63" y="450"/>
                </a:lnTo>
                <a:lnTo>
                  <a:pt x="79" y="434"/>
                </a:lnTo>
                <a:lnTo>
                  <a:pt x="97" y="429"/>
                </a:lnTo>
                <a:lnTo>
                  <a:pt x="132" y="422"/>
                </a:lnTo>
                <a:lnTo>
                  <a:pt x="182" y="422"/>
                </a:lnTo>
                <a:lnTo>
                  <a:pt x="198" y="402"/>
                </a:lnTo>
                <a:lnTo>
                  <a:pt x="198" y="371"/>
                </a:lnTo>
                <a:lnTo>
                  <a:pt x="182" y="345"/>
                </a:lnTo>
                <a:lnTo>
                  <a:pt x="164" y="333"/>
                </a:lnTo>
                <a:lnTo>
                  <a:pt x="140" y="329"/>
                </a:lnTo>
                <a:lnTo>
                  <a:pt x="93" y="373"/>
                </a:lnTo>
                <a:lnTo>
                  <a:pt x="75" y="331"/>
                </a:lnTo>
                <a:lnTo>
                  <a:pt x="54" y="250"/>
                </a:lnTo>
                <a:lnTo>
                  <a:pt x="48" y="156"/>
                </a:lnTo>
                <a:lnTo>
                  <a:pt x="46" y="117"/>
                </a:lnTo>
                <a:lnTo>
                  <a:pt x="55" y="86"/>
                </a:lnTo>
                <a:lnTo>
                  <a:pt x="75" y="54"/>
                </a:lnTo>
                <a:lnTo>
                  <a:pt x="82" y="69"/>
                </a:lnTo>
                <a:lnTo>
                  <a:pt x="97" y="77"/>
                </a:lnTo>
                <a:lnTo>
                  <a:pt x="116" y="65"/>
                </a:lnTo>
                <a:lnTo>
                  <a:pt x="146" y="31"/>
                </a:lnTo>
                <a:lnTo>
                  <a:pt x="178" y="9"/>
                </a:lnTo>
                <a:lnTo>
                  <a:pt x="212" y="0"/>
                </a:lnTo>
                <a:lnTo>
                  <a:pt x="212" y="0"/>
                </a:lnTo>
                <a:lnTo>
                  <a:pt x="2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45"/>
          <p:cNvSpPr/>
          <p:nvPr/>
        </p:nvSpPr>
        <p:spPr>
          <a:xfrm>
            <a:off x="4849920" y="1862280"/>
            <a:ext cx="504720" cy="193680"/>
          </a:xfrm>
          <a:custGeom>
            <a:avLst/>
            <a:gdLst>
              <a:gd name="textAreaLeft" fmla="*/ 0 w 504720"/>
              <a:gd name="textAreaRight" fmla="*/ 504720 w 504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18" h="122">
                <a:moveTo>
                  <a:pt x="0" y="111"/>
                </a:moveTo>
                <a:lnTo>
                  <a:pt x="43" y="69"/>
                </a:lnTo>
                <a:lnTo>
                  <a:pt x="77" y="45"/>
                </a:lnTo>
                <a:lnTo>
                  <a:pt x="119" y="28"/>
                </a:lnTo>
                <a:lnTo>
                  <a:pt x="142" y="24"/>
                </a:lnTo>
                <a:lnTo>
                  <a:pt x="171" y="23"/>
                </a:lnTo>
                <a:lnTo>
                  <a:pt x="148" y="0"/>
                </a:lnTo>
                <a:lnTo>
                  <a:pt x="182" y="0"/>
                </a:lnTo>
                <a:lnTo>
                  <a:pt x="209" y="6"/>
                </a:lnTo>
                <a:lnTo>
                  <a:pt x="239" y="6"/>
                </a:lnTo>
                <a:lnTo>
                  <a:pt x="235" y="21"/>
                </a:lnTo>
                <a:lnTo>
                  <a:pt x="278" y="24"/>
                </a:lnTo>
                <a:lnTo>
                  <a:pt x="298" y="17"/>
                </a:lnTo>
                <a:lnTo>
                  <a:pt x="280" y="40"/>
                </a:lnTo>
                <a:lnTo>
                  <a:pt x="318" y="31"/>
                </a:lnTo>
                <a:lnTo>
                  <a:pt x="302" y="55"/>
                </a:lnTo>
                <a:lnTo>
                  <a:pt x="316" y="75"/>
                </a:lnTo>
                <a:lnTo>
                  <a:pt x="280" y="73"/>
                </a:lnTo>
                <a:lnTo>
                  <a:pt x="262" y="81"/>
                </a:lnTo>
                <a:lnTo>
                  <a:pt x="251" y="101"/>
                </a:lnTo>
                <a:lnTo>
                  <a:pt x="227" y="101"/>
                </a:lnTo>
                <a:lnTo>
                  <a:pt x="196" y="113"/>
                </a:lnTo>
                <a:lnTo>
                  <a:pt x="164" y="122"/>
                </a:lnTo>
                <a:lnTo>
                  <a:pt x="108" y="122"/>
                </a:lnTo>
                <a:lnTo>
                  <a:pt x="189" y="106"/>
                </a:lnTo>
                <a:lnTo>
                  <a:pt x="241" y="77"/>
                </a:lnTo>
                <a:lnTo>
                  <a:pt x="207" y="62"/>
                </a:lnTo>
                <a:lnTo>
                  <a:pt x="174" y="53"/>
                </a:lnTo>
                <a:lnTo>
                  <a:pt x="142" y="51"/>
                </a:lnTo>
                <a:lnTo>
                  <a:pt x="113" y="51"/>
                </a:lnTo>
                <a:lnTo>
                  <a:pt x="85" y="57"/>
                </a:lnTo>
                <a:lnTo>
                  <a:pt x="60" y="69"/>
                </a:lnTo>
                <a:lnTo>
                  <a:pt x="43" y="87"/>
                </a:lnTo>
                <a:lnTo>
                  <a:pt x="30" y="108"/>
                </a:lnTo>
                <a:lnTo>
                  <a:pt x="73" y="122"/>
                </a:lnTo>
                <a:lnTo>
                  <a:pt x="21" y="122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46"/>
          <p:cNvSpPr/>
          <p:nvPr/>
        </p:nvSpPr>
        <p:spPr>
          <a:xfrm>
            <a:off x="5035680" y="1943280"/>
            <a:ext cx="64800" cy="64800"/>
          </a:xfrm>
          <a:custGeom>
            <a:avLst/>
            <a:gdLst>
              <a:gd name="textAreaLeft" fmla="*/ 0 w 64800"/>
              <a:gd name="textAreaRight" fmla="*/ 65160 w 648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41" h="41">
                <a:moveTo>
                  <a:pt x="0" y="12"/>
                </a:moveTo>
                <a:lnTo>
                  <a:pt x="13" y="19"/>
                </a:lnTo>
                <a:lnTo>
                  <a:pt x="15" y="28"/>
                </a:lnTo>
                <a:lnTo>
                  <a:pt x="5" y="37"/>
                </a:lnTo>
                <a:lnTo>
                  <a:pt x="21" y="41"/>
                </a:lnTo>
                <a:lnTo>
                  <a:pt x="35" y="37"/>
                </a:lnTo>
                <a:lnTo>
                  <a:pt x="41" y="24"/>
                </a:lnTo>
                <a:lnTo>
                  <a:pt x="37" y="9"/>
                </a:lnTo>
                <a:lnTo>
                  <a:pt x="23" y="0"/>
                </a:lnTo>
                <a:lnTo>
                  <a:pt x="9" y="3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47"/>
          <p:cNvSpPr/>
          <p:nvPr/>
        </p:nvSpPr>
        <p:spPr>
          <a:xfrm>
            <a:off x="4975200" y="1936800"/>
            <a:ext cx="171360" cy="115920"/>
          </a:xfrm>
          <a:custGeom>
            <a:avLst/>
            <a:gdLst>
              <a:gd name="textAreaLeft" fmla="*/ 0 w 171360"/>
              <a:gd name="textAreaRight" fmla="*/ 171720 w 1713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08" h="73">
                <a:moveTo>
                  <a:pt x="24" y="0"/>
                </a:moveTo>
                <a:lnTo>
                  <a:pt x="18" y="38"/>
                </a:lnTo>
                <a:lnTo>
                  <a:pt x="34" y="59"/>
                </a:lnTo>
                <a:lnTo>
                  <a:pt x="47" y="63"/>
                </a:lnTo>
                <a:lnTo>
                  <a:pt x="65" y="63"/>
                </a:lnTo>
                <a:lnTo>
                  <a:pt x="81" y="54"/>
                </a:lnTo>
                <a:lnTo>
                  <a:pt x="94" y="38"/>
                </a:lnTo>
                <a:lnTo>
                  <a:pt x="95" y="20"/>
                </a:lnTo>
                <a:lnTo>
                  <a:pt x="87" y="2"/>
                </a:lnTo>
                <a:lnTo>
                  <a:pt x="103" y="2"/>
                </a:lnTo>
                <a:lnTo>
                  <a:pt x="108" y="22"/>
                </a:lnTo>
                <a:lnTo>
                  <a:pt x="106" y="43"/>
                </a:lnTo>
                <a:lnTo>
                  <a:pt x="94" y="61"/>
                </a:lnTo>
                <a:lnTo>
                  <a:pt x="74" y="70"/>
                </a:lnTo>
                <a:lnTo>
                  <a:pt x="45" y="73"/>
                </a:lnTo>
                <a:lnTo>
                  <a:pt x="24" y="64"/>
                </a:lnTo>
                <a:lnTo>
                  <a:pt x="6" y="38"/>
                </a:lnTo>
                <a:lnTo>
                  <a:pt x="0" y="18"/>
                </a:lnTo>
                <a:lnTo>
                  <a:pt x="0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48"/>
          <p:cNvSpPr/>
          <p:nvPr/>
        </p:nvSpPr>
        <p:spPr>
          <a:xfrm>
            <a:off x="4511520" y="2593800"/>
            <a:ext cx="136800" cy="32040"/>
          </a:xfrm>
          <a:custGeom>
            <a:avLst/>
            <a:gdLst>
              <a:gd name="textAreaLeft" fmla="*/ 0 w 136800"/>
              <a:gd name="textAreaRight" fmla="*/ 137160 w 136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86" h="20">
                <a:moveTo>
                  <a:pt x="86" y="20"/>
                </a:moveTo>
                <a:lnTo>
                  <a:pt x="37" y="0"/>
                </a:lnTo>
                <a:lnTo>
                  <a:pt x="0" y="10"/>
                </a:lnTo>
                <a:lnTo>
                  <a:pt x="11" y="20"/>
                </a:lnTo>
                <a:lnTo>
                  <a:pt x="55" y="20"/>
                </a:lnTo>
                <a:lnTo>
                  <a:pt x="86" y="20"/>
                </a:lnTo>
                <a:lnTo>
                  <a:pt x="86" y="20"/>
                </a:lnTo>
                <a:lnTo>
                  <a:pt x="8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49"/>
          <p:cNvSpPr/>
          <p:nvPr/>
        </p:nvSpPr>
        <p:spPr>
          <a:xfrm>
            <a:off x="5062680" y="2503440"/>
            <a:ext cx="245880" cy="2239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55" h="141">
                <a:moveTo>
                  <a:pt x="0" y="0"/>
                </a:moveTo>
                <a:lnTo>
                  <a:pt x="42" y="32"/>
                </a:lnTo>
                <a:lnTo>
                  <a:pt x="137" y="81"/>
                </a:lnTo>
                <a:lnTo>
                  <a:pt x="155" y="101"/>
                </a:lnTo>
                <a:lnTo>
                  <a:pt x="155" y="141"/>
                </a:lnTo>
                <a:lnTo>
                  <a:pt x="146" y="107"/>
                </a:lnTo>
                <a:lnTo>
                  <a:pt x="111" y="81"/>
                </a:lnTo>
                <a:lnTo>
                  <a:pt x="39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50"/>
          <p:cNvSpPr/>
          <p:nvPr/>
        </p:nvSpPr>
        <p:spPr>
          <a:xfrm>
            <a:off x="4440240" y="2724120"/>
            <a:ext cx="760320" cy="139680"/>
          </a:xfrm>
          <a:custGeom>
            <a:avLst/>
            <a:gdLst>
              <a:gd name="textAreaLeft" fmla="*/ 0 w 760320"/>
              <a:gd name="textAreaRight" fmla="*/ 760680 w 760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79" h="88">
                <a:moveTo>
                  <a:pt x="0" y="88"/>
                </a:moveTo>
                <a:lnTo>
                  <a:pt x="70" y="77"/>
                </a:lnTo>
                <a:lnTo>
                  <a:pt x="117" y="73"/>
                </a:lnTo>
                <a:lnTo>
                  <a:pt x="206" y="70"/>
                </a:lnTo>
                <a:lnTo>
                  <a:pt x="238" y="63"/>
                </a:lnTo>
                <a:lnTo>
                  <a:pt x="313" y="47"/>
                </a:lnTo>
                <a:lnTo>
                  <a:pt x="377" y="31"/>
                </a:lnTo>
                <a:lnTo>
                  <a:pt x="411" y="27"/>
                </a:lnTo>
                <a:lnTo>
                  <a:pt x="429" y="27"/>
                </a:lnTo>
                <a:lnTo>
                  <a:pt x="429" y="55"/>
                </a:lnTo>
                <a:lnTo>
                  <a:pt x="431" y="72"/>
                </a:lnTo>
                <a:lnTo>
                  <a:pt x="456" y="45"/>
                </a:lnTo>
                <a:lnTo>
                  <a:pt x="456" y="72"/>
                </a:lnTo>
                <a:lnTo>
                  <a:pt x="475" y="36"/>
                </a:lnTo>
                <a:lnTo>
                  <a:pt x="479" y="9"/>
                </a:lnTo>
                <a:lnTo>
                  <a:pt x="465" y="4"/>
                </a:lnTo>
                <a:lnTo>
                  <a:pt x="429" y="0"/>
                </a:lnTo>
                <a:lnTo>
                  <a:pt x="379" y="0"/>
                </a:lnTo>
                <a:lnTo>
                  <a:pt x="311" y="2"/>
                </a:lnTo>
                <a:lnTo>
                  <a:pt x="285" y="9"/>
                </a:lnTo>
                <a:lnTo>
                  <a:pt x="229" y="18"/>
                </a:lnTo>
                <a:lnTo>
                  <a:pt x="202" y="20"/>
                </a:lnTo>
                <a:lnTo>
                  <a:pt x="119" y="31"/>
                </a:lnTo>
                <a:lnTo>
                  <a:pt x="84" y="43"/>
                </a:lnTo>
                <a:lnTo>
                  <a:pt x="134" y="36"/>
                </a:lnTo>
                <a:lnTo>
                  <a:pt x="190" y="31"/>
                </a:lnTo>
                <a:lnTo>
                  <a:pt x="224" y="31"/>
                </a:lnTo>
                <a:lnTo>
                  <a:pt x="263" y="23"/>
                </a:lnTo>
                <a:lnTo>
                  <a:pt x="291" y="18"/>
                </a:lnTo>
                <a:lnTo>
                  <a:pt x="266" y="48"/>
                </a:lnTo>
                <a:lnTo>
                  <a:pt x="227" y="57"/>
                </a:lnTo>
                <a:lnTo>
                  <a:pt x="175" y="63"/>
                </a:lnTo>
                <a:lnTo>
                  <a:pt x="122" y="65"/>
                </a:lnTo>
                <a:lnTo>
                  <a:pt x="90" y="72"/>
                </a:lnTo>
                <a:lnTo>
                  <a:pt x="41" y="75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51"/>
          <p:cNvSpPr/>
          <p:nvPr/>
        </p:nvSpPr>
        <p:spPr>
          <a:xfrm>
            <a:off x="4386240" y="2860560"/>
            <a:ext cx="109440" cy="76320"/>
          </a:xfrm>
          <a:custGeom>
            <a:avLst/>
            <a:gdLst>
              <a:gd name="textAreaLeft" fmla="*/ 0 w 109440"/>
              <a:gd name="textAreaRight" fmla="*/ 109800 w 109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9" h="48">
                <a:moveTo>
                  <a:pt x="0" y="10"/>
                </a:moveTo>
                <a:lnTo>
                  <a:pt x="41" y="48"/>
                </a:lnTo>
                <a:lnTo>
                  <a:pt x="41" y="30"/>
                </a:lnTo>
                <a:lnTo>
                  <a:pt x="69" y="32"/>
                </a:lnTo>
                <a:lnTo>
                  <a:pt x="43" y="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52"/>
          <p:cNvSpPr/>
          <p:nvPr/>
        </p:nvSpPr>
        <p:spPr>
          <a:xfrm>
            <a:off x="4492800" y="2835360"/>
            <a:ext cx="628560" cy="176040"/>
          </a:xfrm>
          <a:custGeom>
            <a:avLst/>
            <a:gdLst>
              <a:gd name="textAreaLeft" fmla="*/ 0 w 628560"/>
              <a:gd name="textAreaRight" fmla="*/ 628920 w 6285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396" h="111">
                <a:moveTo>
                  <a:pt x="0" y="61"/>
                </a:moveTo>
                <a:lnTo>
                  <a:pt x="49" y="84"/>
                </a:lnTo>
                <a:lnTo>
                  <a:pt x="118" y="97"/>
                </a:lnTo>
                <a:lnTo>
                  <a:pt x="175" y="97"/>
                </a:lnTo>
                <a:lnTo>
                  <a:pt x="241" y="84"/>
                </a:lnTo>
                <a:lnTo>
                  <a:pt x="302" y="64"/>
                </a:lnTo>
                <a:lnTo>
                  <a:pt x="353" y="34"/>
                </a:lnTo>
                <a:lnTo>
                  <a:pt x="396" y="0"/>
                </a:lnTo>
                <a:lnTo>
                  <a:pt x="351" y="44"/>
                </a:lnTo>
                <a:lnTo>
                  <a:pt x="314" y="71"/>
                </a:lnTo>
                <a:lnTo>
                  <a:pt x="254" y="95"/>
                </a:lnTo>
                <a:lnTo>
                  <a:pt x="201" y="107"/>
                </a:lnTo>
                <a:lnTo>
                  <a:pt x="146" y="111"/>
                </a:lnTo>
                <a:lnTo>
                  <a:pt x="91" y="105"/>
                </a:lnTo>
                <a:lnTo>
                  <a:pt x="42" y="91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53"/>
          <p:cNvSpPr/>
          <p:nvPr/>
        </p:nvSpPr>
        <p:spPr>
          <a:xfrm>
            <a:off x="4511520" y="2824200"/>
            <a:ext cx="649440" cy="258840"/>
          </a:xfrm>
          <a:custGeom>
            <a:avLst/>
            <a:gdLst>
              <a:gd name="textAreaLeft" fmla="*/ 0 w 649440"/>
              <a:gd name="textAreaRight" fmla="*/ 649800 w 649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09" h="163">
                <a:moveTo>
                  <a:pt x="409" y="10"/>
                </a:moveTo>
                <a:lnTo>
                  <a:pt x="384" y="59"/>
                </a:lnTo>
                <a:lnTo>
                  <a:pt x="343" y="98"/>
                </a:lnTo>
                <a:lnTo>
                  <a:pt x="282" y="134"/>
                </a:lnTo>
                <a:lnTo>
                  <a:pt x="227" y="155"/>
                </a:lnTo>
                <a:lnTo>
                  <a:pt x="170" y="163"/>
                </a:lnTo>
                <a:lnTo>
                  <a:pt x="104" y="157"/>
                </a:lnTo>
                <a:lnTo>
                  <a:pt x="43" y="136"/>
                </a:lnTo>
                <a:lnTo>
                  <a:pt x="0" y="104"/>
                </a:lnTo>
                <a:lnTo>
                  <a:pt x="51" y="132"/>
                </a:lnTo>
                <a:lnTo>
                  <a:pt x="87" y="142"/>
                </a:lnTo>
                <a:lnTo>
                  <a:pt x="143" y="150"/>
                </a:lnTo>
                <a:lnTo>
                  <a:pt x="193" y="148"/>
                </a:lnTo>
                <a:lnTo>
                  <a:pt x="240" y="139"/>
                </a:lnTo>
                <a:lnTo>
                  <a:pt x="271" y="124"/>
                </a:lnTo>
                <a:lnTo>
                  <a:pt x="286" y="114"/>
                </a:lnTo>
                <a:lnTo>
                  <a:pt x="292" y="102"/>
                </a:lnTo>
                <a:lnTo>
                  <a:pt x="280" y="91"/>
                </a:lnTo>
                <a:lnTo>
                  <a:pt x="260" y="89"/>
                </a:lnTo>
                <a:lnTo>
                  <a:pt x="304" y="69"/>
                </a:lnTo>
                <a:lnTo>
                  <a:pt x="343" y="41"/>
                </a:lnTo>
                <a:lnTo>
                  <a:pt x="391" y="0"/>
                </a:lnTo>
                <a:lnTo>
                  <a:pt x="384" y="30"/>
                </a:lnTo>
                <a:lnTo>
                  <a:pt x="409" y="10"/>
                </a:lnTo>
                <a:lnTo>
                  <a:pt x="409" y="10"/>
                </a:lnTo>
                <a:lnTo>
                  <a:pt x="4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54"/>
          <p:cNvSpPr/>
          <p:nvPr/>
        </p:nvSpPr>
        <p:spPr>
          <a:xfrm>
            <a:off x="4248000" y="2538360"/>
            <a:ext cx="184320" cy="393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16" h="248">
                <a:moveTo>
                  <a:pt x="116" y="0"/>
                </a:moveTo>
                <a:lnTo>
                  <a:pt x="98" y="59"/>
                </a:lnTo>
                <a:lnTo>
                  <a:pt x="67" y="112"/>
                </a:lnTo>
                <a:lnTo>
                  <a:pt x="45" y="142"/>
                </a:lnTo>
                <a:lnTo>
                  <a:pt x="31" y="172"/>
                </a:lnTo>
                <a:lnTo>
                  <a:pt x="16" y="217"/>
                </a:lnTo>
                <a:lnTo>
                  <a:pt x="12" y="248"/>
                </a:lnTo>
                <a:lnTo>
                  <a:pt x="0" y="209"/>
                </a:lnTo>
                <a:lnTo>
                  <a:pt x="0" y="178"/>
                </a:lnTo>
                <a:lnTo>
                  <a:pt x="9" y="146"/>
                </a:lnTo>
                <a:lnTo>
                  <a:pt x="33" y="114"/>
                </a:lnTo>
                <a:lnTo>
                  <a:pt x="57" y="89"/>
                </a:lnTo>
                <a:lnTo>
                  <a:pt x="78" y="66"/>
                </a:lnTo>
                <a:lnTo>
                  <a:pt x="93" y="41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55"/>
          <p:cNvSpPr/>
          <p:nvPr/>
        </p:nvSpPr>
        <p:spPr>
          <a:xfrm>
            <a:off x="3962520" y="2070000"/>
            <a:ext cx="477720" cy="184320"/>
          </a:xfrm>
          <a:custGeom>
            <a:avLst/>
            <a:gdLst>
              <a:gd name="textAreaLeft" fmla="*/ 0 w 477720"/>
              <a:gd name="textAreaRight" fmla="*/ 477720 w 4777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01" h="116">
                <a:moveTo>
                  <a:pt x="253" y="64"/>
                </a:moveTo>
                <a:lnTo>
                  <a:pt x="301" y="48"/>
                </a:lnTo>
                <a:lnTo>
                  <a:pt x="273" y="25"/>
                </a:lnTo>
                <a:lnTo>
                  <a:pt x="217" y="7"/>
                </a:lnTo>
                <a:lnTo>
                  <a:pt x="156" y="0"/>
                </a:lnTo>
                <a:lnTo>
                  <a:pt x="118" y="7"/>
                </a:lnTo>
                <a:lnTo>
                  <a:pt x="120" y="23"/>
                </a:lnTo>
                <a:lnTo>
                  <a:pt x="91" y="27"/>
                </a:lnTo>
                <a:lnTo>
                  <a:pt x="84" y="13"/>
                </a:lnTo>
                <a:lnTo>
                  <a:pt x="44" y="41"/>
                </a:lnTo>
                <a:lnTo>
                  <a:pt x="23" y="64"/>
                </a:lnTo>
                <a:lnTo>
                  <a:pt x="39" y="76"/>
                </a:lnTo>
                <a:lnTo>
                  <a:pt x="26" y="88"/>
                </a:lnTo>
                <a:lnTo>
                  <a:pt x="0" y="102"/>
                </a:lnTo>
                <a:lnTo>
                  <a:pt x="30" y="111"/>
                </a:lnTo>
                <a:lnTo>
                  <a:pt x="51" y="111"/>
                </a:lnTo>
                <a:lnTo>
                  <a:pt x="80" y="104"/>
                </a:lnTo>
                <a:lnTo>
                  <a:pt x="94" y="116"/>
                </a:lnTo>
                <a:lnTo>
                  <a:pt x="112" y="104"/>
                </a:lnTo>
                <a:lnTo>
                  <a:pt x="130" y="109"/>
                </a:lnTo>
                <a:lnTo>
                  <a:pt x="146" y="89"/>
                </a:lnTo>
                <a:lnTo>
                  <a:pt x="105" y="84"/>
                </a:lnTo>
                <a:lnTo>
                  <a:pt x="91" y="72"/>
                </a:lnTo>
                <a:lnTo>
                  <a:pt x="110" y="52"/>
                </a:lnTo>
                <a:lnTo>
                  <a:pt x="134" y="35"/>
                </a:lnTo>
                <a:lnTo>
                  <a:pt x="162" y="27"/>
                </a:lnTo>
                <a:lnTo>
                  <a:pt x="196" y="27"/>
                </a:lnTo>
                <a:lnTo>
                  <a:pt x="233" y="34"/>
                </a:lnTo>
                <a:lnTo>
                  <a:pt x="262" y="39"/>
                </a:lnTo>
                <a:lnTo>
                  <a:pt x="253" y="64"/>
                </a:lnTo>
                <a:lnTo>
                  <a:pt x="253" y="64"/>
                </a:lnTo>
                <a:lnTo>
                  <a:pt x="253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56"/>
          <p:cNvSpPr/>
          <p:nvPr/>
        </p:nvSpPr>
        <p:spPr>
          <a:xfrm>
            <a:off x="4213080" y="2174760"/>
            <a:ext cx="115920" cy="50760"/>
          </a:xfrm>
          <a:custGeom>
            <a:avLst/>
            <a:gdLst>
              <a:gd name="textAreaLeft" fmla="*/ 0 w 115920"/>
              <a:gd name="textAreaRight" fmla="*/ 116280 w 115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3" h="32">
                <a:moveTo>
                  <a:pt x="0" y="20"/>
                </a:moveTo>
                <a:lnTo>
                  <a:pt x="36" y="12"/>
                </a:lnTo>
                <a:lnTo>
                  <a:pt x="73" y="0"/>
                </a:lnTo>
                <a:lnTo>
                  <a:pt x="41" y="23"/>
                </a:lnTo>
                <a:lnTo>
                  <a:pt x="19" y="23"/>
                </a:lnTo>
                <a:lnTo>
                  <a:pt x="0" y="32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57"/>
          <p:cNvSpPr/>
          <p:nvPr/>
        </p:nvSpPr>
        <p:spPr>
          <a:xfrm>
            <a:off x="4057560" y="2038320"/>
            <a:ext cx="289080" cy="85680"/>
          </a:xfrm>
          <a:custGeom>
            <a:avLst/>
            <a:gdLst>
              <a:gd name="textAreaLeft" fmla="*/ 0 w 289080"/>
              <a:gd name="textAreaRight" fmla="*/ 289440 w 2890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82" h="54">
                <a:moveTo>
                  <a:pt x="0" y="51"/>
                </a:moveTo>
                <a:lnTo>
                  <a:pt x="45" y="16"/>
                </a:lnTo>
                <a:lnTo>
                  <a:pt x="98" y="0"/>
                </a:lnTo>
                <a:lnTo>
                  <a:pt x="141" y="0"/>
                </a:lnTo>
                <a:lnTo>
                  <a:pt x="182" y="9"/>
                </a:lnTo>
                <a:lnTo>
                  <a:pt x="109" y="9"/>
                </a:lnTo>
                <a:lnTo>
                  <a:pt x="52" y="25"/>
                </a:lnTo>
                <a:lnTo>
                  <a:pt x="20" y="54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58"/>
          <p:cNvSpPr/>
          <p:nvPr/>
        </p:nvSpPr>
        <p:spPr>
          <a:xfrm>
            <a:off x="4222800" y="2116080"/>
            <a:ext cx="55440" cy="47520"/>
          </a:xfrm>
          <a:custGeom>
            <a:avLst/>
            <a:gdLst>
              <a:gd name="textAreaLeft" fmla="*/ 0 w 55440"/>
              <a:gd name="textAreaRight" fmla="*/ 55800 w 554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5" h="30">
                <a:moveTo>
                  <a:pt x="5" y="5"/>
                </a:moveTo>
                <a:lnTo>
                  <a:pt x="15" y="12"/>
                </a:lnTo>
                <a:lnTo>
                  <a:pt x="15" y="23"/>
                </a:lnTo>
                <a:lnTo>
                  <a:pt x="0" y="30"/>
                </a:lnTo>
                <a:lnTo>
                  <a:pt x="18" y="30"/>
                </a:lnTo>
                <a:lnTo>
                  <a:pt x="35" y="21"/>
                </a:lnTo>
                <a:lnTo>
                  <a:pt x="35" y="8"/>
                </a:lnTo>
                <a:lnTo>
                  <a:pt x="23" y="0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59"/>
          <p:cNvSpPr/>
          <p:nvPr/>
        </p:nvSpPr>
        <p:spPr>
          <a:xfrm>
            <a:off x="4152960" y="2100240"/>
            <a:ext cx="169920" cy="103320"/>
          </a:xfrm>
          <a:custGeom>
            <a:avLst/>
            <a:gdLst>
              <a:gd name="textAreaLeft" fmla="*/ 0 w 169920"/>
              <a:gd name="textAreaRight" fmla="*/ 170280 w 1699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7" h="65">
                <a:moveTo>
                  <a:pt x="22" y="6"/>
                </a:moveTo>
                <a:lnTo>
                  <a:pt x="16" y="34"/>
                </a:lnTo>
                <a:lnTo>
                  <a:pt x="30" y="53"/>
                </a:lnTo>
                <a:lnTo>
                  <a:pt x="53" y="59"/>
                </a:lnTo>
                <a:lnTo>
                  <a:pt x="79" y="53"/>
                </a:lnTo>
                <a:lnTo>
                  <a:pt x="95" y="36"/>
                </a:lnTo>
                <a:lnTo>
                  <a:pt x="97" y="20"/>
                </a:lnTo>
                <a:lnTo>
                  <a:pt x="87" y="0"/>
                </a:lnTo>
                <a:lnTo>
                  <a:pt x="107" y="6"/>
                </a:lnTo>
                <a:lnTo>
                  <a:pt x="107" y="29"/>
                </a:lnTo>
                <a:lnTo>
                  <a:pt x="99" y="53"/>
                </a:lnTo>
                <a:lnTo>
                  <a:pt x="74" y="65"/>
                </a:lnTo>
                <a:lnTo>
                  <a:pt x="38" y="65"/>
                </a:lnTo>
                <a:lnTo>
                  <a:pt x="22" y="61"/>
                </a:lnTo>
                <a:lnTo>
                  <a:pt x="10" y="45"/>
                </a:lnTo>
                <a:lnTo>
                  <a:pt x="4" y="29"/>
                </a:lnTo>
                <a:lnTo>
                  <a:pt x="0" y="15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60"/>
          <p:cNvSpPr/>
          <p:nvPr/>
        </p:nvSpPr>
        <p:spPr>
          <a:xfrm>
            <a:off x="3735360" y="592200"/>
            <a:ext cx="1488960" cy="1679400"/>
          </a:xfrm>
          <a:custGeom>
            <a:avLst/>
            <a:gdLst>
              <a:gd name="textAreaLeft" fmla="*/ 0 w 1488960"/>
              <a:gd name="textAreaRight" fmla="*/ 1489320 w 1488960"/>
              <a:gd name="textAreaTop" fmla="*/ 0 h 1679400"/>
              <a:gd name="textAreaBottom" fmla="*/ 1679760 h 1679400"/>
            </a:gdLst>
            <a:ahLst/>
            <a:rect l="textAreaLeft" t="textAreaTop" r="textAreaRight" b="textAreaBottom"/>
            <a:pathLst>
              <a:path w="938" h="1058">
                <a:moveTo>
                  <a:pt x="599" y="311"/>
                </a:moveTo>
                <a:lnTo>
                  <a:pt x="622" y="268"/>
                </a:lnTo>
                <a:lnTo>
                  <a:pt x="636" y="311"/>
                </a:lnTo>
                <a:lnTo>
                  <a:pt x="675" y="249"/>
                </a:lnTo>
                <a:lnTo>
                  <a:pt x="680" y="316"/>
                </a:lnTo>
                <a:lnTo>
                  <a:pt x="728" y="268"/>
                </a:lnTo>
                <a:lnTo>
                  <a:pt x="732" y="321"/>
                </a:lnTo>
                <a:lnTo>
                  <a:pt x="780" y="298"/>
                </a:lnTo>
                <a:lnTo>
                  <a:pt x="804" y="331"/>
                </a:lnTo>
                <a:lnTo>
                  <a:pt x="861" y="311"/>
                </a:lnTo>
                <a:lnTo>
                  <a:pt x="899" y="273"/>
                </a:lnTo>
                <a:lnTo>
                  <a:pt x="924" y="216"/>
                </a:lnTo>
                <a:lnTo>
                  <a:pt x="938" y="134"/>
                </a:lnTo>
                <a:lnTo>
                  <a:pt x="899" y="58"/>
                </a:lnTo>
                <a:lnTo>
                  <a:pt x="833" y="0"/>
                </a:lnTo>
                <a:lnTo>
                  <a:pt x="866" y="48"/>
                </a:lnTo>
                <a:lnTo>
                  <a:pt x="885" y="106"/>
                </a:lnTo>
                <a:lnTo>
                  <a:pt x="885" y="148"/>
                </a:lnTo>
                <a:lnTo>
                  <a:pt x="842" y="76"/>
                </a:lnTo>
                <a:lnTo>
                  <a:pt x="780" y="48"/>
                </a:lnTo>
                <a:lnTo>
                  <a:pt x="695" y="38"/>
                </a:lnTo>
                <a:lnTo>
                  <a:pt x="636" y="58"/>
                </a:lnTo>
                <a:lnTo>
                  <a:pt x="565" y="96"/>
                </a:lnTo>
                <a:lnTo>
                  <a:pt x="516" y="116"/>
                </a:lnTo>
                <a:lnTo>
                  <a:pt x="460" y="134"/>
                </a:lnTo>
                <a:lnTo>
                  <a:pt x="364" y="153"/>
                </a:lnTo>
                <a:lnTo>
                  <a:pt x="465" y="163"/>
                </a:lnTo>
                <a:lnTo>
                  <a:pt x="556" y="163"/>
                </a:lnTo>
                <a:lnTo>
                  <a:pt x="627" y="148"/>
                </a:lnTo>
                <a:lnTo>
                  <a:pt x="685" y="120"/>
                </a:lnTo>
                <a:lnTo>
                  <a:pt x="728" y="116"/>
                </a:lnTo>
                <a:lnTo>
                  <a:pt x="765" y="125"/>
                </a:lnTo>
                <a:lnTo>
                  <a:pt x="785" y="148"/>
                </a:lnTo>
                <a:lnTo>
                  <a:pt x="785" y="186"/>
                </a:lnTo>
                <a:lnTo>
                  <a:pt x="742" y="153"/>
                </a:lnTo>
                <a:lnTo>
                  <a:pt x="685" y="148"/>
                </a:lnTo>
                <a:lnTo>
                  <a:pt x="636" y="167"/>
                </a:lnTo>
                <a:lnTo>
                  <a:pt x="570" y="197"/>
                </a:lnTo>
                <a:lnTo>
                  <a:pt x="488" y="220"/>
                </a:lnTo>
                <a:lnTo>
                  <a:pt x="411" y="235"/>
                </a:lnTo>
                <a:lnTo>
                  <a:pt x="331" y="235"/>
                </a:lnTo>
                <a:lnTo>
                  <a:pt x="187" y="216"/>
                </a:lnTo>
                <a:lnTo>
                  <a:pt x="216" y="259"/>
                </a:lnTo>
                <a:lnTo>
                  <a:pt x="163" y="249"/>
                </a:lnTo>
                <a:lnTo>
                  <a:pt x="77" y="211"/>
                </a:lnTo>
                <a:lnTo>
                  <a:pt x="120" y="273"/>
                </a:lnTo>
                <a:lnTo>
                  <a:pt x="167" y="316"/>
                </a:lnTo>
                <a:lnTo>
                  <a:pt x="216" y="335"/>
                </a:lnTo>
                <a:lnTo>
                  <a:pt x="163" y="345"/>
                </a:lnTo>
                <a:lnTo>
                  <a:pt x="92" y="335"/>
                </a:lnTo>
                <a:lnTo>
                  <a:pt x="0" y="307"/>
                </a:lnTo>
                <a:lnTo>
                  <a:pt x="57" y="388"/>
                </a:lnTo>
                <a:lnTo>
                  <a:pt x="115" y="422"/>
                </a:lnTo>
                <a:lnTo>
                  <a:pt x="101" y="484"/>
                </a:lnTo>
                <a:lnTo>
                  <a:pt x="110" y="537"/>
                </a:lnTo>
                <a:lnTo>
                  <a:pt x="120" y="609"/>
                </a:lnTo>
                <a:lnTo>
                  <a:pt x="68" y="675"/>
                </a:lnTo>
                <a:lnTo>
                  <a:pt x="43" y="757"/>
                </a:lnTo>
                <a:lnTo>
                  <a:pt x="34" y="824"/>
                </a:lnTo>
                <a:lnTo>
                  <a:pt x="43" y="881"/>
                </a:lnTo>
                <a:lnTo>
                  <a:pt x="34" y="967"/>
                </a:lnTo>
                <a:lnTo>
                  <a:pt x="5" y="1058"/>
                </a:lnTo>
                <a:lnTo>
                  <a:pt x="72" y="991"/>
                </a:lnTo>
                <a:lnTo>
                  <a:pt x="125" y="900"/>
                </a:lnTo>
                <a:lnTo>
                  <a:pt x="158" y="809"/>
                </a:lnTo>
                <a:lnTo>
                  <a:pt x="192" y="752"/>
                </a:lnTo>
                <a:lnTo>
                  <a:pt x="202" y="671"/>
                </a:lnTo>
                <a:lnTo>
                  <a:pt x="221" y="593"/>
                </a:lnTo>
                <a:lnTo>
                  <a:pt x="239" y="522"/>
                </a:lnTo>
                <a:lnTo>
                  <a:pt x="282" y="446"/>
                </a:lnTo>
                <a:lnTo>
                  <a:pt x="317" y="417"/>
                </a:lnTo>
                <a:lnTo>
                  <a:pt x="350" y="403"/>
                </a:lnTo>
                <a:lnTo>
                  <a:pt x="397" y="407"/>
                </a:lnTo>
                <a:lnTo>
                  <a:pt x="465" y="388"/>
                </a:lnTo>
                <a:lnTo>
                  <a:pt x="507" y="350"/>
                </a:lnTo>
                <a:lnTo>
                  <a:pt x="570" y="287"/>
                </a:lnTo>
                <a:lnTo>
                  <a:pt x="599" y="311"/>
                </a:lnTo>
                <a:lnTo>
                  <a:pt x="599" y="311"/>
                </a:lnTo>
                <a:lnTo>
                  <a:pt x="599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61"/>
          <p:cNvSpPr/>
          <p:nvPr/>
        </p:nvSpPr>
        <p:spPr>
          <a:xfrm>
            <a:off x="5079960" y="738360"/>
            <a:ext cx="2021040" cy="297972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2979720"/>
              <a:gd name="textAreaBottom" fmla="*/ 2980080 h 2979720"/>
            </a:gdLst>
            <a:ahLst/>
            <a:rect l="textAreaLeft" t="textAreaTop" r="textAreaRight" b="textAreaBottom"/>
            <a:pathLst>
              <a:path w="1273" h="1877">
                <a:moveTo>
                  <a:pt x="0" y="234"/>
                </a:moveTo>
                <a:lnTo>
                  <a:pt x="58" y="215"/>
                </a:lnTo>
                <a:lnTo>
                  <a:pt x="110" y="176"/>
                </a:lnTo>
                <a:lnTo>
                  <a:pt x="167" y="119"/>
                </a:lnTo>
                <a:lnTo>
                  <a:pt x="201" y="61"/>
                </a:lnTo>
                <a:lnTo>
                  <a:pt x="211" y="0"/>
                </a:lnTo>
                <a:lnTo>
                  <a:pt x="225" y="51"/>
                </a:lnTo>
                <a:lnTo>
                  <a:pt x="282" y="42"/>
                </a:lnTo>
                <a:lnTo>
                  <a:pt x="335" y="61"/>
                </a:lnTo>
                <a:lnTo>
                  <a:pt x="382" y="100"/>
                </a:lnTo>
                <a:lnTo>
                  <a:pt x="401" y="157"/>
                </a:lnTo>
                <a:lnTo>
                  <a:pt x="412" y="224"/>
                </a:lnTo>
                <a:lnTo>
                  <a:pt x="426" y="267"/>
                </a:lnTo>
                <a:lnTo>
                  <a:pt x="460" y="296"/>
                </a:lnTo>
                <a:lnTo>
                  <a:pt x="497" y="325"/>
                </a:lnTo>
                <a:lnTo>
                  <a:pt x="598" y="359"/>
                </a:lnTo>
                <a:lnTo>
                  <a:pt x="689" y="363"/>
                </a:lnTo>
                <a:lnTo>
                  <a:pt x="598" y="387"/>
                </a:lnTo>
                <a:lnTo>
                  <a:pt x="670" y="440"/>
                </a:lnTo>
                <a:lnTo>
                  <a:pt x="722" y="497"/>
                </a:lnTo>
                <a:lnTo>
                  <a:pt x="750" y="574"/>
                </a:lnTo>
                <a:lnTo>
                  <a:pt x="708" y="517"/>
                </a:lnTo>
                <a:lnTo>
                  <a:pt x="652" y="468"/>
                </a:lnTo>
                <a:lnTo>
                  <a:pt x="603" y="454"/>
                </a:lnTo>
                <a:lnTo>
                  <a:pt x="641" y="512"/>
                </a:lnTo>
                <a:lnTo>
                  <a:pt x="665" y="569"/>
                </a:lnTo>
                <a:lnTo>
                  <a:pt x="699" y="626"/>
                </a:lnTo>
                <a:lnTo>
                  <a:pt x="746" y="646"/>
                </a:lnTo>
                <a:lnTo>
                  <a:pt x="795" y="660"/>
                </a:lnTo>
                <a:lnTo>
                  <a:pt x="741" y="684"/>
                </a:lnTo>
                <a:lnTo>
                  <a:pt x="741" y="751"/>
                </a:lnTo>
                <a:lnTo>
                  <a:pt x="708" y="703"/>
                </a:lnTo>
                <a:lnTo>
                  <a:pt x="717" y="808"/>
                </a:lnTo>
                <a:lnTo>
                  <a:pt x="761" y="861"/>
                </a:lnTo>
                <a:lnTo>
                  <a:pt x="832" y="914"/>
                </a:lnTo>
                <a:lnTo>
                  <a:pt x="870" y="948"/>
                </a:lnTo>
                <a:lnTo>
                  <a:pt x="904" y="1005"/>
                </a:lnTo>
                <a:lnTo>
                  <a:pt x="924" y="1053"/>
                </a:lnTo>
                <a:lnTo>
                  <a:pt x="928" y="1101"/>
                </a:lnTo>
                <a:lnTo>
                  <a:pt x="924" y="1163"/>
                </a:lnTo>
                <a:lnTo>
                  <a:pt x="890" y="1220"/>
                </a:lnTo>
                <a:lnTo>
                  <a:pt x="828" y="1287"/>
                </a:lnTo>
                <a:lnTo>
                  <a:pt x="909" y="1254"/>
                </a:lnTo>
                <a:lnTo>
                  <a:pt x="904" y="1330"/>
                </a:lnTo>
                <a:lnTo>
                  <a:pt x="962" y="1263"/>
                </a:lnTo>
                <a:lnTo>
                  <a:pt x="981" y="1206"/>
                </a:lnTo>
                <a:lnTo>
                  <a:pt x="990" y="1149"/>
                </a:lnTo>
                <a:lnTo>
                  <a:pt x="981" y="1086"/>
                </a:lnTo>
                <a:lnTo>
                  <a:pt x="966" y="1034"/>
                </a:lnTo>
                <a:lnTo>
                  <a:pt x="1010" y="1091"/>
                </a:lnTo>
                <a:lnTo>
                  <a:pt x="1029" y="1129"/>
                </a:lnTo>
                <a:lnTo>
                  <a:pt x="1043" y="1178"/>
                </a:lnTo>
                <a:lnTo>
                  <a:pt x="1048" y="1229"/>
                </a:lnTo>
                <a:lnTo>
                  <a:pt x="1043" y="1297"/>
                </a:lnTo>
                <a:lnTo>
                  <a:pt x="1091" y="1229"/>
                </a:lnTo>
                <a:lnTo>
                  <a:pt x="1110" y="1154"/>
                </a:lnTo>
                <a:lnTo>
                  <a:pt x="1129" y="1240"/>
                </a:lnTo>
                <a:lnTo>
                  <a:pt x="1115" y="1311"/>
                </a:lnTo>
                <a:lnTo>
                  <a:pt x="1096" y="1369"/>
                </a:lnTo>
                <a:lnTo>
                  <a:pt x="1115" y="1451"/>
                </a:lnTo>
                <a:lnTo>
                  <a:pt x="1105" y="1513"/>
                </a:lnTo>
                <a:lnTo>
                  <a:pt x="1148" y="1551"/>
                </a:lnTo>
                <a:lnTo>
                  <a:pt x="1191" y="1556"/>
                </a:lnTo>
                <a:lnTo>
                  <a:pt x="1249" y="1537"/>
                </a:lnTo>
                <a:lnTo>
                  <a:pt x="1244" y="1594"/>
                </a:lnTo>
                <a:lnTo>
                  <a:pt x="1215" y="1641"/>
                </a:lnTo>
                <a:lnTo>
                  <a:pt x="1181" y="1671"/>
                </a:lnTo>
                <a:lnTo>
                  <a:pt x="1196" y="1718"/>
                </a:lnTo>
                <a:lnTo>
                  <a:pt x="1201" y="1791"/>
                </a:lnTo>
                <a:lnTo>
                  <a:pt x="1259" y="1828"/>
                </a:lnTo>
                <a:lnTo>
                  <a:pt x="1273" y="1877"/>
                </a:lnTo>
                <a:lnTo>
                  <a:pt x="1240" y="1838"/>
                </a:lnTo>
                <a:lnTo>
                  <a:pt x="1167" y="1857"/>
                </a:lnTo>
                <a:lnTo>
                  <a:pt x="1058" y="1857"/>
                </a:lnTo>
                <a:lnTo>
                  <a:pt x="996" y="1848"/>
                </a:lnTo>
                <a:lnTo>
                  <a:pt x="895" y="1810"/>
                </a:lnTo>
                <a:lnTo>
                  <a:pt x="828" y="1748"/>
                </a:lnTo>
                <a:lnTo>
                  <a:pt x="799" y="1685"/>
                </a:lnTo>
                <a:lnTo>
                  <a:pt x="795" y="1608"/>
                </a:lnTo>
                <a:lnTo>
                  <a:pt x="813" y="1513"/>
                </a:lnTo>
                <a:lnTo>
                  <a:pt x="861" y="1412"/>
                </a:lnTo>
                <a:lnTo>
                  <a:pt x="795" y="1493"/>
                </a:lnTo>
                <a:lnTo>
                  <a:pt x="766" y="1561"/>
                </a:lnTo>
                <a:lnTo>
                  <a:pt x="746" y="1627"/>
                </a:lnTo>
                <a:lnTo>
                  <a:pt x="755" y="1704"/>
                </a:lnTo>
                <a:lnTo>
                  <a:pt x="808" y="1771"/>
                </a:lnTo>
                <a:lnTo>
                  <a:pt x="689" y="1737"/>
                </a:lnTo>
                <a:lnTo>
                  <a:pt x="445" y="1718"/>
                </a:lnTo>
                <a:lnTo>
                  <a:pt x="263" y="1657"/>
                </a:lnTo>
                <a:lnTo>
                  <a:pt x="297" y="1571"/>
                </a:lnTo>
                <a:lnTo>
                  <a:pt x="330" y="1503"/>
                </a:lnTo>
                <a:lnTo>
                  <a:pt x="392" y="1435"/>
                </a:lnTo>
                <a:lnTo>
                  <a:pt x="344" y="1522"/>
                </a:lnTo>
                <a:lnTo>
                  <a:pt x="335" y="1604"/>
                </a:lnTo>
                <a:lnTo>
                  <a:pt x="382" y="1517"/>
                </a:lnTo>
                <a:lnTo>
                  <a:pt x="445" y="1455"/>
                </a:lnTo>
                <a:lnTo>
                  <a:pt x="527" y="1397"/>
                </a:lnTo>
                <a:lnTo>
                  <a:pt x="612" y="1321"/>
                </a:lnTo>
                <a:lnTo>
                  <a:pt x="665" y="1268"/>
                </a:lnTo>
                <a:lnTo>
                  <a:pt x="694" y="1206"/>
                </a:lnTo>
                <a:lnTo>
                  <a:pt x="694" y="1158"/>
                </a:lnTo>
                <a:lnTo>
                  <a:pt x="670" y="1101"/>
                </a:lnTo>
                <a:lnTo>
                  <a:pt x="617" y="1039"/>
                </a:lnTo>
                <a:lnTo>
                  <a:pt x="560" y="976"/>
                </a:lnTo>
                <a:lnTo>
                  <a:pt x="521" y="918"/>
                </a:lnTo>
                <a:lnTo>
                  <a:pt x="516" y="852"/>
                </a:lnTo>
                <a:lnTo>
                  <a:pt x="556" y="909"/>
                </a:lnTo>
                <a:lnTo>
                  <a:pt x="652" y="948"/>
                </a:lnTo>
                <a:lnTo>
                  <a:pt x="584" y="890"/>
                </a:lnTo>
                <a:lnTo>
                  <a:pt x="521" y="823"/>
                </a:lnTo>
                <a:lnTo>
                  <a:pt x="493" y="747"/>
                </a:lnTo>
                <a:lnTo>
                  <a:pt x="488" y="693"/>
                </a:lnTo>
                <a:lnTo>
                  <a:pt x="512" y="637"/>
                </a:lnTo>
                <a:lnTo>
                  <a:pt x="556" y="574"/>
                </a:lnTo>
                <a:lnTo>
                  <a:pt x="560" y="506"/>
                </a:lnTo>
                <a:lnTo>
                  <a:pt x="532" y="449"/>
                </a:lnTo>
                <a:lnTo>
                  <a:pt x="473" y="401"/>
                </a:lnTo>
                <a:lnTo>
                  <a:pt x="507" y="487"/>
                </a:lnTo>
                <a:lnTo>
                  <a:pt x="512" y="536"/>
                </a:lnTo>
                <a:lnTo>
                  <a:pt x="464" y="468"/>
                </a:lnTo>
                <a:lnTo>
                  <a:pt x="478" y="536"/>
                </a:lnTo>
                <a:lnTo>
                  <a:pt x="455" y="621"/>
                </a:lnTo>
                <a:lnTo>
                  <a:pt x="377" y="732"/>
                </a:lnTo>
                <a:lnTo>
                  <a:pt x="335" y="842"/>
                </a:lnTo>
                <a:lnTo>
                  <a:pt x="316" y="943"/>
                </a:lnTo>
                <a:lnTo>
                  <a:pt x="302" y="794"/>
                </a:lnTo>
                <a:lnTo>
                  <a:pt x="268" y="688"/>
                </a:lnTo>
                <a:lnTo>
                  <a:pt x="134" y="387"/>
                </a:lnTo>
                <a:lnTo>
                  <a:pt x="96" y="315"/>
                </a:lnTo>
                <a:lnTo>
                  <a:pt x="67" y="281"/>
                </a:lnTo>
                <a:lnTo>
                  <a:pt x="33" y="253"/>
                </a:lnTo>
                <a:lnTo>
                  <a:pt x="0" y="234"/>
                </a:lnTo>
                <a:lnTo>
                  <a:pt x="0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62"/>
          <p:cNvSpPr/>
          <p:nvPr/>
        </p:nvSpPr>
        <p:spPr>
          <a:xfrm>
            <a:off x="6296040" y="1693800"/>
            <a:ext cx="523800" cy="762120"/>
          </a:xfrm>
          <a:custGeom>
            <a:avLst/>
            <a:gdLst>
              <a:gd name="textAreaLeft" fmla="*/ 0 w 523800"/>
              <a:gd name="textAreaRight" fmla="*/ 524160 w 523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30" h="480">
                <a:moveTo>
                  <a:pt x="5" y="0"/>
                </a:moveTo>
                <a:lnTo>
                  <a:pt x="24" y="30"/>
                </a:lnTo>
                <a:lnTo>
                  <a:pt x="71" y="73"/>
                </a:lnTo>
                <a:lnTo>
                  <a:pt x="33" y="91"/>
                </a:lnTo>
                <a:lnTo>
                  <a:pt x="85" y="187"/>
                </a:lnTo>
                <a:lnTo>
                  <a:pt x="158" y="264"/>
                </a:lnTo>
                <a:lnTo>
                  <a:pt x="244" y="341"/>
                </a:lnTo>
                <a:lnTo>
                  <a:pt x="301" y="412"/>
                </a:lnTo>
                <a:lnTo>
                  <a:pt x="330" y="480"/>
                </a:lnTo>
                <a:lnTo>
                  <a:pt x="272" y="398"/>
                </a:lnTo>
                <a:lnTo>
                  <a:pt x="181" y="302"/>
                </a:lnTo>
                <a:lnTo>
                  <a:pt x="76" y="235"/>
                </a:lnTo>
                <a:lnTo>
                  <a:pt x="124" y="312"/>
                </a:lnTo>
                <a:lnTo>
                  <a:pt x="57" y="264"/>
                </a:lnTo>
                <a:lnTo>
                  <a:pt x="14" y="212"/>
                </a:lnTo>
                <a:lnTo>
                  <a:pt x="0" y="140"/>
                </a:lnTo>
                <a:lnTo>
                  <a:pt x="0" y="58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reeform 63"/>
          <p:cNvSpPr/>
          <p:nvPr/>
        </p:nvSpPr>
        <p:spPr>
          <a:xfrm>
            <a:off x="4792680" y="1763640"/>
            <a:ext cx="1336680" cy="197028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842" h="1241">
                <a:moveTo>
                  <a:pt x="521" y="168"/>
                </a:moveTo>
                <a:lnTo>
                  <a:pt x="582" y="91"/>
                </a:lnTo>
                <a:lnTo>
                  <a:pt x="654" y="0"/>
                </a:lnTo>
                <a:lnTo>
                  <a:pt x="636" y="91"/>
                </a:lnTo>
                <a:lnTo>
                  <a:pt x="631" y="153"/>
                </a:lnTo>
                <a:lnTo>
                  <a:pt x="636" y="215"/>
                </a:lnTo>
                <a:lnTo>
                  <a:pt x="659" y="302"/>
                </a:lnTo>
                <a:lnTo>
                  <a:pt x="702" y="354"/>
                </a:lnTo>
                <a:lnTo>
                  <a:pt x="817" y="445"/>
                </a:lnTo>
                <a:lnTo>
                  <a:pt x="842" y="483"/>
                </a:lnTo>
                <a:lnTo>
                  <a:pt x="842" y="541"/>
                </a:lnTo>
                <a:lnTo>
                  <a:pt x="812" y="603"/>
                </a:lnTo>
                <a:lnTo>
                  <a:pt x="765" y="670"/>
                </a:lnTo>
                <a:lnTo>
                  <a:pt x="645" y="756"/>
                </a:lnTo>
                <a:lnTo>
                  <a:pt x="587" y="794"/>
                </a:lnTo>
                <a:lnTo>
                  <a:pt x="535" y="862"/>
                </a:lnTo>
                <a:lnTo>
                  <a:pt x="497" y="929"/>
                </a:lnTo>
                <a:lnTo>
                  <a:pt x="473" y="1020"/>
                </a:lnTo>
                <a:lnTo>
                  <a:pt x="397" y="1005"/>
                </a:lnTo>
                <a:lnTo>
                  <a:pt x="364" y="1072"/>
                </a:lnTo>
                <a:lnTo>
                  <a:pt x="296" y="1140"/>
                </a:lnTo>
                <a:lnTo>
                  <a:pt x="195" y="1202"/>
                </a:lnTo>
                <a:lnTo>
                  <a:pt x="66" y="1241"/>
                </a:lnTo>
                <a:lnTo>
                  <a:pt x="209" y="1173"/>
                </a:lnTo>
                <a:lnTo>
                  <a:pt x="291" y="1111"/>
                </a:lnTo>
                <a:lnTo>
                  <a:pt x="343" y="1049"/>
                </a:lnTo>
                <a:lnTo>
                  <a:pt x="353" y="995"/>
                </a:lnTo>
                <a:lnTo>
                  <a:pt x="310" y="981"/>
                </a:lnTo>
                <a:lnTo>
                  <a:pt x="224" y="1034"/>
                </a:lnTo>
                <a:lnTo>
                  <a:pt x="157" y="1063"/>
                </a:lnTo>
                <a:lnTo>
                  <a:pt x="81" y="1077"/>
                </a:lnTo>
                <a:lnTo>
                  <a:pt x="0" y="1068"/>
                </a:lnTo>
                <a:lnTo>
                  <a:pt x="85" y="1068"/>
                </a:lnTo>
                <a:lnTo>
                  <a:pt x="133" y="1053"/>
                </a:lnTo>
                <a:lnTo>
                  <a:pt x="195" y="1025"/>
                </a:lnTo>
                <a:lnTo>
                  <a:pt x="286" y="958"/>
                </a:lnTo>
                <a:lnTo>
                  <a:pt x="377" y="862"/>
                </a:lnTo>
                <a:lnTo>
                  <a:pt x="478" y="723"/>
                </a:lnTo>
                <a:lnTo>
                  <a:pt x="516" y="670"/>
                </a:lnTo>
                <a:lnTo>
                  <a:pt x="525" y="613"/>
                </a:lnTo>
                <a:lnTo>
                  <a:pt x="530" y="541"/>
                </a:lnTo>
                <a:lnTo>
                  <a:pt x="549" y="627"/>
                </a:lnTo>
                <a:lnTo>
                  <a:pt x="598" y="627"/>
                </a:lnTo>
                <a:lnTo>
                  <a:pt x="587" y="560"/>
                </a:lnTo>
                <a:lnTo>
                  <a:pt x="641" y="603"/>
                </a:lnTo>
                <a:lnTo>
                  <a:pt x="654" y="551"/>
                </a:lnTo>
                <a:lnTo>
                  <a:pt x="626" y="508"/>
                </a:lnTo>
                <a:lnTo>
                  <a:pt x="602" y="488"/>
                </a:lnTo>
                <a:lnTo>
                  <a:pt x="525" y="494"/>
                </a:lnTo>
                <a:lnTo>
                  <a:pt x="506" y="421"/>
                </a:lnTo>
                <a:lnTo>
                  <a:pt x="497" y="316"/>
                </a:lnTo>
                <a:lnTo>
                  <a:pt x="497" y="206"/>
                </a:lnTo>
                <a:lnTo>
                  <a:pt x="521" y="168"/>
                </a:lnTo>
                <a:lnTo>
                  <a:pt x="521" y="168"/>
                </a:lnTo>
                <a:lnTo>
                  <a:pt x="521" y="1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reeform 64"/>
          <p:cNvSpPr/>
          <p:nvPr/>
        </p:nvSpPr>
        <p:spPr>
          <a:xfrm>
            <a:off x="3197160" y="318960"/>
            <a:ext cx="2179800" cy="10875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1373" h="685">
                <a:moveTo>
                  <a:pt x="1373" y="192"/>
                </a:moveTo>
                <a:lnTo>
                  <a:pt x="1348" y="110"/>
                </a:lnTo>
                <a:lnTo>
                  <a:pt x="1258" y="57"/>
                </a:lnTo>
                <a:lnTo>
                  <a:pt x="1148" y="47"/>
                </a:lnTo>
                <a:lnTo>
                  <a:pt x="1024" y="4"/>
                </a:lnTo>
                <a:lnTo>
                  <a:pt x="942" y="0"/>
                </a:lnTo>
                <a:lnTo>
                  <a:pt x="870" y="4"/>
                </a:lnTo>
                <a:lnTo>
                  <a:pt x="789" y="38"/>
                </a:lnTo>
                <a:lnTo>
                  <a:pt x="722" y="86"/>
                </a:lnTo>
                <a:lnTo>
                  <a:pt x="621" y="114"/>
                </a:lnTo>
                <a:lnTo>
                  <a:pt x="531" y="138"/>
                </a:lnTo>
                <a:lnTo>
                  <a:pt x="435" y="210"/>
                </a:lnTo>
                <a:lnTo>
                  <a:pt x="396" y="239"/>
                </a:lnTo>
                <a:lnTo>
                  <a:pt x="339" y="248"/>
                </a:lnTo>
                <a:lnTo>
                  <a:pt x="287" y="230"/>
                </a:lnTo>
                <a:lnTo>
                  <a:pt x="315" y="258"/>
                </a:lnTo>
                <a:lnTo>
                  <a:pt x="349" y="278"/>
                </a:lnTo>
                <a:lnTo>
                  <a:pt x="301" y="297"/>
                </a:lnTo>
                <a:lnTo>
                  <a:pt x="234" y="292"/>
                </a:lnTo>
                <a:lnTo>
                  <a:pt x="206" y="258"/>
                </a:lnTo>
                <a:lnTo>
                  <a:pt x="196" y="288"/>
                </a:lnTo>
                <a:lnTo>
                  <a:pt x="210" y="335"/>
                </a:lnTo>
                <a:lnTo>
                  <a:pt x="234" y="364"/>
                </a:lnTo>
                <a:lnTo>
                  <a:pt x="201" y="388"/>
                </a:lnTo>
                <a:lnTo>
                  <a:pt x="152" y="435"/>
                </a:lnTo>
                <a:lnTo>
                  <a:pt x="148" y="517"/>
                </a:lnTo>
                <a:lnTo>
                  <a:pt x="105" y="570"/>
                </a:lnTo>
                <a:lnTo>
                  <a:pt x="52" y="579"/>
                </a:lnTo>
                <a:lnTo>
                  <a:pt x="23" y="512"/>
                </a:lnTo>
                <a:lnTo>
                  <a:pt x="0" y="570"/>
                </a:lnTo>
                <a:lnTo>
                  <a:pt x="18" y="623"/>
                </a:lnTo>
                <a:lnTo>
                  <a:pt x="76" y="656"/>
                </a:lnTo>
                <a:lnTo>
                  <a:pt x="177" y="661"/>
                </a:lnTo>
                <a:lnTo>
                  <a:pt x="239" y="627"/>
                </a:lnTo>
                <a:lnTo>
                  <a:pt x="277" y="685"/>
                </a:lnTo>
                <a:lnTo>
                  <a:pt x="311" y="627"/>
                </a:lnTo>
                <a:lnTo>
                  <a:pt x="272" y="531"/>
                </a:lnTo>
                <a:lnTo>
                  <a:pt x="267" y="435"/>
                </a:lnTo>
                <a:lnTo>
                  <a:pt x="311" y="454"/>
                </a:lnTo>
                <a:lnTo>
                  <a:pt x="277" y="378"/>
                </a:lnTo>
                <a:lnTo>
                  <a:pt x="272" y="335"/>
                </a:lnTo>
                <a:lnTo>
                  <a:pt x="325" y="378"/>
                </a:lnTo>
                <a:lnTo>
                  <a:pt x="368" y="407"/>
                </a:lnTo>
                <a:lnTo>
                  <a:pt x="363" y="330"/>
                </a:lnTo>
                <a:lnTo>
                  <a:pt x="411" y="339"/>
                </a:lnTo>
                <a:lnTo>
                  <a:pt x="521" y="349"/>
                </a:lnTo>
                <a:lnTo>
                  <a:pt x="631" y="330"/>
                </a:lnTo>
                <a:lnTo>
                  <a:pt x="531" y="283"/>
                </a:lnTo>
                <a:lnTo>
                  <a:pt x="631" y="206"/>
                </a:lnTo>
                <a:lnTo>
                  <a:pt x="746" y="187"/>
                </a:lnTo>
                <a:lnTo>
                  <a:pt x="880" y="206"/>
                </a:lnTo>
                <a:lnTo>
                  <a:pt x="985" y="196"/>
                </a:lnTo>
                <a:lnTo>
                  <a:pt x="1052" y="168"/>
                </a:lnTo>
                <a:lnTo>
                  <a:pt x="1119" y="157"/>
                </a:lnTo>
                <a:lnTo>
                  <a:pt x="1043" y="138"/>
                </a:lnTo>
                <a:lnTo>
                  <a:pt x="966" y="148"/>
                </a:lnTo>
                <a:lnTo>
                  <a:pt x="890" y="143"/>
                </a:lnTo>
                <a:lnTo>
                  <a:pt x="799" y="110"/>
                </a:lnTo>
                <a:lnTo>
                  <a:pt x="942" y="110"/>
                </a:lnTo>
                <a:lnTo>
                  <a:pt x="1038" y="100"/>
                </a:lnTo>
                <a:lnTo>
                  <a:pt x="1115" y="110"/>
                </a:lnTo>
                <a:lnTo>
                  <a:pt x="1181" y="138"/>
                </a:lnTo>
                <a:lnTo>
                  <a:pt x="1195" y="100"/>
                </a:lnTo>
                <a:lnTo>
                  <a:pt x="1249" y="124"/>
                </a:lnTo>
                <a:lnTo>
                  <a:pt x="1282" y="176"/>
                </a:lnTo>
                <a:lnTo>
                  <a:pt x="1291" y="230"/>
                </a:lnTo>
                <a:lnTo>
                  <a:pt x="1325" y="206"/>
                </a:lnTo>
                <a:lnTo>
                  <a:pt x="1325" y="258"/>
                </a:lnTo>
                <a:lnTo>
                  <a:pt x="1301" y="349"/>
                </a:lnTo>
                <a:lnTo>
                  <a:pt x="1373" y="258"/>
                </a:lnTo>
                <a:lnTo>
                  <a:pt x="1373" y="192"/>
                </a:lnTo>
                <a:lnTo>
                  <a:pt x="1373" y="192"/>
                </a:lnTo>
                <a:lnTo>
                  <a:pt x="1373" y="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reeform 65"/>
          <p:cNvSpPr/>
          <p:nvPr/>
        </p:nvSpPr>
        <p:spPr>
          <a:xfrm>
            <a:off x="2846520" y="1093680"/>
            <a:ext cx="1831680" cy="2624400"/>
          </a:xfrm>
          <a:custGeom>
            <a:avLst/>
            <a:gdLst>
              <a:gd name="textAreaLeft" fmla="*/ 0 w 1831680"/>
              <a:gd name="textAreaRight" fmla="*/ 1832040 w 1831680"/>
              <a:gd name="textAreaTop" fmla="*/ 0 h 2624400"/>
              <a:gd name="textAreaBottom" fmla="*/ 2624760 h 2624400"/>
            </a:gdLst>
            <a:ahLst/>
            <a:rect l="textAreaLeft" t="textAreaTop" r="textAreaRight" b="textAreaBottom"/>
            <a:pathLst>
              <a:path w="1154" h="1653">
                <a:moveTo>
                  <a:pt x="536" y="15"/>
                </a:moveTo>
                <a:lnTo>
                  <a:pt x="574" y="106"/>
                </a:lnTo>
                <a:lnTo>
                  <a:pt x="560" y="197"/>
                </a:lnTo>
                <a:lnTo>
                  <a:pt x="513" y="244"/>
                </a:lnTo>
                <a:lnTo>
                  <a:pt x="446" y="282"/>
                </a:lnTo>
                <a:lnTo>
                  <a:pt x="302" y="321"/>
                </a:lnTo>
                <a:lnTo>
                  <a:pt x="408" y="263"/>
                </a:lnTo>
                <a:lnTo>
                  <a:pt x="498" y="206"/>
                </a:lnTo>
                <a:lnTo>
                  <a:pt x="441" y="187"/>
                </a:lnTo>
                <a:lnTo>
                  <a:pt x="388" y="130"/>
                </a:lnTo>
                <a:lnTo>
                  <a:pt x="283" y="139"/>
                </a:lnTo>
                <a:lnTo>
                  <a:pt x="239" y="206"/>
                </a:lnTo>
                <a:lnTo>
                  <a:pt x="221" y="293"/>
                </a:lnTo>
                <a:lnTo>
                  <a:pt x="168" y="312"/>
                </a:lnTo>
                <a:lnTo>
                  <a:pt x="134" y="244"/>
                </a:lnTo>
                <a:lnTo>
                  <a:pt x="96" y="331"/>
                </a:lnTo>
                <a:lnTo>
                  <a:pt x="96" y="378"/>
                </a:lnTo>
                <a:lnTo>
                  <a:pt x="110" y="427"/>
                </a:lnTo>
                <a:lnTo>
                  <a:pt x="91" y="464"/>
                </a:lnTo>
                <a:lnTo>
                  <a:pt x="82" y="518"/>
                </a:lnTo>
                <a:lnTo>
                  <a:pt x="106" y="570"/>
                </a:lnTo>
                <a:lnTo>
                  <a:pt x="91" y="613"/>
                </a:lnTo>
                <a:lnTo>
                  <a:pt x="49" y="632"/>
                </a:lnTo>
                <a:lnTo>
                  <a:pt x="0" y="628"/>
                </a:lnTo>
                <a:lnTo>
                  <a:pt x="15" y="651"/>
                </a:lnTo>
                <a:lnTo>
                  <a:pt x="44" y="670"/>
                </a:lnTo>
                <a:lnTo>
                  <a:pt x="96" y="680"/>
                </a:lnTo>
                <a:lnTo>
                  <a:pt x="82" y="709"/>
                </a:lnTo>
                <a:lnTo>
                  <a:pt x="125" y="738"/>
                </a:lnTo>
                <a:lnTo>
                  <a:pt x="168" y="747"/>
                </a:lnTo>
                <a:lnTo>
                  <a:pt x="225" y="738"/>
                </a:lnTo>
                <a:lnTo>
                  <a:pt x="279" y="714"/>
                </a:lnTo>
                <a:lnTo>
                  <a:pt x="359" y="632"/>
                </a:lnTo>
                <a:lnTo>
                  <a:pt x="403" y="560"/>
                </a:lnTo>
                <a:lnTo>
                  <a:pt x="373" y="666"/>
                </a:lnTo>
                <a:lnTo>
                  <a:pt x="326" y="728"/>
                </a:lnTo>
                <a:lnTo>
                  <a:pt x="254" y="776"/>
                </a:lnTo>
                <a:lnTo>
                  <a:pt x="211" y="781"/>
                </a:lnTo>
                <a:lnTo>
                  <a:pt x="158" y="776"/>
                </a:lnTo>
                <a:lnTo>
                  <a:pt x="106" y="810"/>
                </a:lnTo>
                <a:lnTo>
                  <a:pt x="78" y="886"/>
                </a:lnTo>
                <a:lnTo>
                  <a:pt x="87" y="925"/>
                </a:lnTo>
                <a:lnTo>
                  <a:pt x="63" y="987"/>
                </a:lnTo>
                <a:lnTo>
                  <a:pt x="73" y="1049"/>
                </a:lnTo>
                <a:lnTo>
                  <a:pt x="134" y="1131"/>
                </a:lnTo>
                <a:lnTo>
                  <a:pt x="139" y="1063"/>
                </a:lnTo>
                <a:lnTo>
                  <a:pt x="187" y="1021"/>
                </a:lnTo>
                <a:lnTo>
                  <a:pt x="187" y="1082"/>
                </a:lnTo>
                <a:lnTo>
                  <a:pt x="273" y="1016"/>
                </a:lnTo>
                <a:lnTo>
                  <a:pt x="317" y="939"/>
                </a:lnTo>
                <a:lnTo>
                  <a:pt x="335" y="834"/>
                </a:lnTo>
                <a:lnTo>
                  <a:pt x="364" y="939"/>
                </a:lnTo>
                <a:lnTo>
                  <a:pt x="417" y="1030"/>
                </a:lnTo>
                <a:lnTo>
                  <a:pt x="532" y="1092"/>
                </a:lnTo>
                <a:lnTo>
                  <a:pt x="598" y="1131"/>
                </a:lnTo>
                <a:lnTo>
                  <a:pt x="637" y="1173"/>
                </a:lnTo>
                <a:lnTo>
                  <a:pt x="637" y="1251"/>
                </a:lnTo>
                <a:lnTo>
                  <a:pt x="589" y="1347"/>
                </a:lnTo>
                <a:lnTo>
                  <a:pt x="570" y="1394"/>
                </a:lnTo>
                <a:lnTo>
                  <a:pt x="560" y="1451"/>
                </a:lnTo>
                <a:lnTo>
                  <a:pt x="565" y="1504"/>
                </a:lnTo>
                <a:lnTo>
                  <a:pt x="612" y="1567"/>
                </a:lnTo>
                <a:lnTo>
                  <a:pt x="451" y="1638"/>
                </a:lnTo>
                <a:lnTo>
                  <a:pt x="661" y="1576"/>
                </a:lnTo>
                <a:lnTo>
                  <a:pt x="804" y="1499"/>
                </a:lnTo>
                <a:lnTo>
                  <a:pt x="838" y="1547"/>
                </a:lnTo>
                <a:lnTo>
                  <a:pt x="919" y="1604"/>
                </a:lnTo>
                <a:lnTo>
                  <a:pt x="991" y="1628"/>
                </a:lnTo>
                <a:lnTo>
                  <a:pt x="1025" y="1653"/>
                </a:lnTo>
                <a:lnTo>
                  <a:pt x="1144" y="1653"/>
                </a:lnTo>
                <a:lnTo>
                  <a:pt x="1111" y="1557"/>
                </a:lnTo>
                <a:lnTo>
                  <a:pt x="1081" y="1494"/>
                </a:lnTo>
                <a:lnTo>
                  <a:pt x="1154" y="1485"/>
                </a:lnTo>
                <a:lnTo>
                  <a:pt x="1058" y="1466"/>
                </a:lnTo>
                <a:lnTo>
                  <a:pt x="891" y="1347"/>
                </a:lnTo>
                <a:lnTo>
                  <a:pt x="814" y="1269"/>
                </a:lnTo>
                <a:lnTo>
                  <a:pt x="766" y="1202"/>
                </a:lnTo>
                <a:lnTo>
                  <a:pt x="742" y="1155"/>
                </a:lnTo>
                <a:lnTo>
                  <a:pt x="685" y="1001"/>
                </a:lnTo>
                <a:lnTo>
                  <a:pt x="652" y="862"/>
                </a:lnTo>
                <a:lnTo>
                  <a:pt x="656" y="747"/>
                </a:lnTo>
                <a:lnTo>
                  <a:pt x="656" y="599"/>
                </a:lnTo>
                <a:lnTo>
                  <a:pt x="579" y="699"/>
                </a:lnTo>
                <a:lnTo>
                  <a:pt x="584" y="613"/>
                </a:lnTo>
                <a:lnTo>
                  <a:pt x="570" y="532"/>
                </a:lnTo>
                <a:lnTo>
                  <a:pt x="560" y="464"/>
                </a:lnTo>
                <a:lnTo>
                  <a:pt x="570" y="383"/>
                </a:lnTo>
                <a:lnTo>
                  <a:pt x="589" y="317"/>
                </a:lnTo>
                <a:lnTo>
                  <a:pt x="642" y="268"/>
                </a:lnTo>
                <a:lnTo>
                  <a:pt x="612" y="211"/>
                </a:lnTo>
                <a:lnTo>
                  <a:pt x="607" y="163"/>
                </a:lnTo>
                <a:lnTo>
                  <a:pt x="617" y="115"/>
                </a:lnTo>
                <a:lnTo>
                  <a:pt x="656" y="67"/>
                </a:lnTo>
                <a:lnTo>
                  <a:pt x="570" y="0"/>
                </a:lnTo>
                <a:lnTo>
                  <a:pt x="536" y="15"/>
                </a:lnTo>
                <a:lnTo>
                  <a:pt x="536" y="15"/>
                </a:lnTo>
                <a:lnTo>
                  <a:pt x="536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reeform 66"/>
          <p:cNvSpPr/>
          <p:nvPr/>
        </p:nvSpPr>
        <p:spPr>
          <a:xfrm>
            <a:off x="2886120" y="2417760"/>
            <a:ext cx="909720" cy="1292400"/>
          </a:xfrm>
          <a:custGeom>
            <a:avLst/>
            <a:gdLst>
              <a:gd name="textAreaLeft" fmla="*/ 0 w 909720"/>
              <a:gd name="textAreaRight" fmla="*/ 910080 w 90972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573" h="814">
                <a:moveTo>
                  <a:pt x="320" y="0"/>
                </a:moveTo>
                <a:lnTo>
                  <a:pt x="320" y="134"/>
                </a:lnTo>
                <a:lnTo>
                  <a:pt x="268" y="234"/>
                </a:lnTo>
                <a:lnTo>
                  <a:pt x="172" y="311"/>
                </a:lnTo>
                <a:lnTo>
                  <a:pt x="138" y="272"/>
                </a:lnTo>
                <a:lnTo>
                  <a:pt x="104" y="349"/>
                </a:lnTo>
                <a:lnTo>
                  <a:pt x="81" y="412"/>
                </a:lnTo>
                <a:lnTo>
                  <a:pt x="38" y="455"/>
                </a:lnTo>
                <a:lnTo>
                  <a:pt x="5" y="508"/>
                </a:lnTo>
                <a:lnTo>
                  <a:pt x="0" y="546"/>
                </a:lnTo>
                <a:lnTo>
                  <a:pt x="10" y="583"/>
                </a:lnTo>
                <a:lnTo>
                  <a:pt x="43" y="632"/>
                </a:lnTo>
                <a:lnTo>
                  <a:pt x="81" y="665"/>
                </a:lnTo>
                <a:lnTo>
                  <a:pt x="71" y="622"/>
                </a:lnTo>
                <a:lnTo>
                  <a:pt x="81" y="583"/>
                </a:lnTo>
                <a:lnTo>
                  <a:pt x="114" y="569"/>
                </a:lnTo>
                <a:lnTo>
                  <a:pt x="162" y="560"/>
                </a:lnTo>
                <a:lnTo>
                  <a:pt x="196" y="541"/>
                </a:lnTo>
                <a:lnTo>
                  <a:pt x="234" y="513"/>
                </a:lnTo>
                <a:lnTo>
                  <a:pt x="210" y="569"/>
                </a:lnTo>
                <a:lnTo>
                  <a:pt x="167" y="608"/>
                </a:lnTo>
                <a:lnTo>
                  <a:pt x="133" y="646"/>
                </a:lnTo>
                <a:lnTo>
                  <a:pt x="128" y="695"/>
                </a:lnTo>
                <a:lnTo>
                  <a:pt x="66" y="747"/>
                </a:lnTo>
                <a:lnTo>
                  <a:pt x="38" y="785"/>
                </a:lnTo>
                <a:lnTo>
                  <a:pt x="24" y="814"/>
                </a:lnTo>
                <a:lnTo>
                  <a:pt x="392" y="814"/>
                </a:lnTo>
                <a:lnTo>
                  <a:pt x="473" y="794"/>
                </a:lnTo>
                <a:lnTo>
                  <a:pt x="507" y="766"/>
                </a:lnTo>
                <a:lnTo>
                  <a:pt x="478" y="742"/>
                </a:lnTo>
                <a:lnTo>
                  <a:pt x="459" y="695"/>
                </a:lnTo>
                <a:lnTo>
                  <a:pt x="468" y="617"/>
                </a:lnTo>
                <a:lnTo>
                  <a:pt x="497" y="670"/>
                </a:lnTo>
                <a:lnTo>
                  <a:pt x="497" y="599"/>
                </a:lnTo>
                <a:lnTo>
                  <a:pt x="526" y="541"/>
                </a:lnTo>
                <a:lnTo>
                  <a:pt x="573" y="445"/>
                </a:lnTo>
                <a:lnTo>
                  <a:pt x="573" y="377"/>
                </a:lnTo>
                <a:lnTo>
                  <a:pt x="549" y="306"/>
                </a:lnTo>
                <a:lnTo>
                  <a:pt x="507" y="239"/>
                </a:lnTo>
                <a:lnTo>
                  <a:pt x="388" y="177"/>
                </a:lnTo>
                <a:lnTo>
                  <a:pt x="411" y="267"/>
                </a:lnTo>
                <a:lnTo>
                  <a:pt x="421" y="316"/>
                </a:lnTo>
                <a:lnTo>
                  <a:pt x="402" y="377"/>
                </a:lnTo>
                <a:lnTo>
                  <a:pt x="363" y="455"/>
                </a:lnTo>
                <a:lnTo>
                  <a:pt x="348" y="550"/>
                </a:lnTo>
                <a:lnTo>
                  <a:pt x="325" y="469"/>
                </a:lnTo>
                <a:lnTo>
                  <a:pt x="325" y="402"/>
                </a:lnTo>
                <a:lnTo>
                  <a:pt x="363" y="297"/>
                </a:lnTo>
                <a:lnTo>
                  <a:pt x="363" y="182"/>
                </a:lnTo>
                <a:lnTo>
                  <a:pt x="353" y="86"/>
                </a:lnTo>
                <a:lnTo>
                  <a:pt x="320" y="0"/>
                </a:lnTo>
                <a:lnTo>
                  <a:pt x="32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reeform 67"/>
          <p:cNvSpPr/>
          <p:nvPr/>
        </p:nvSpPr>
        <p:spPr>
          <a:xfrm>
            <a:off x="2841480" y="2195640"/>
            <a:ext cx="195480" cy="1065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065240"/>
              <a:gd name="textAreaBottom" fmla="*/ 1065240 h 1065240"/>
            </a:gdLst>
            <a:ahLst/>
            <a:rect l="textAreaLeft" t="textAreaTop" r="textAreaRight" b="textAreaBottom"/>
            <a:pathLst>
              <a:path w="123" h="671">
                <a:moveTo>
                  <a:pt x="52" y="0"/>
                </a:moveTo>
                <a:lnTo>
                  <a:pt x="61" y="39"/>
                </a:lnTo>
                <a:lnTo>
                  <a:pt x="123" y="82"/>
                </a:lnTo>
                <a:lnTo>
                  <a:pt x="76" y="101"/>
                </a:lnTo>
                <a:lnTo>
                  <a:pt x="52" y="168"/>
                </a:lnTo>
                <a:lnTo>
                  <a:pt x="43" y="236"/>
                </a:lnTo>
                <a:lnTo>
                  <a:pt x="33" y="297"/>
                </a:lnTo>
                <a:lnTo>
                  <a:pt x="43" y="345"/>
                </a:lnTo>
                <a:lnTo>
                  <a:pt x="71" y="422"/>
                </a:lnTo>
                <a:lnTo>
                  <a:pt x="113" y="461"/>
                </a:lnTo>
                <a:lnTo>
                  <a:pt x="76" y="537"/>
                </a:lnTo>
                <a:lnTo>
                  <a:pt x="33" y="614"/>
                </a:lnTo>
                <a:lnTo>
                  <a:pt x="13" y="671"/>
                </a:lnTo>
                <a:lnTo>
                  <a:pt x="13" y="595"/>
                </a:lnTo>
                <a:lnTo>
                  <a:pt x="38" y="537"/>
                </a:lnTo>
                <a:lnTo>
                  <a:pt x="3" y="432"/>
                </a:lnTo>
                <a:lnTo>
                  <a:pt x="0" y="317"/>
                </a:lnTo>
                <a:lnTo>
                  <a:pt x="0" y="222"/>
                </a:lnTo>
                <a:lnTo>
                  <a:pt x="38" y="116"/>
                </a:lnTo>
                <a:lnTo>
                  <a:pt x="57" y="77"/>
                </a:lnTo>
                <a:lnTo>
                  <a:pt x="43" y="39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68"/>
          <p:cNvSpPr/>
          <p:nvPr/>
        </p:nvSpPr>
        <p:spPr>
          <a:xfrm>
            <a:off x="2862360" y="3397320"/>
            <a:ext cx="152280" cy="280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96" h="177">
                <a:moveTo>
                  <a:pt x="10" y="0"/>
                </a:moveTo>
                <a:lnTo>
                  <a:pt x="34" y="48"/>
                </a:lnTo>
                <a:lnTo>
                  <a:pt x="96" y="87"/>
                </a:lnTo>
                <a:lnTo>
                  <a:pt x="39" y="177"/>
                </a:lnTo>
                <a:lnTo>
                  <a:pt x="20" y="130"/>
                </a:lnTo>
                <a:lnTo>
                  <a:pt x="0" y="53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69"/>
          <p:cNvSpPr/>
          <p:nvPr/>
        </p:nvSpPr>
        <p:spPr>
          <a:xfrm>
            <a:off x="4192560" y="212256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4" y="3"/>
                </a:moveTo>
                <a:lnTo>
                  <a:pt x="18" y="0"/>
                </a:lnTo>
                <a:lnTo>
                  <a:pt x="26" y="8"/>
                </a:lnTo>
                <a:lnTo>
                  <a:pt x="22" y="20"/>
                </a:lnTo>
                <a:lnTo>
                  <a:pt x="6" y="20"/>
                </a:lnTo>
                <a:lnTo>
                  <a:pt x="0" y="14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70"/>
          <p:cNvSpPr/>
          <p:nvPr/>
        </p:nvSpPr>
        <p:spPr>
          <a:xfrm>
            <a:off x="5011560" y="1963800"/>
            <a:ext cx="38160" cy="34920"/>
          </a:xfrm>
          <a:custGeom>
            <a:avLst/>
            <a:gdLst>
              <a:gd name="textAreaLeft" fmla="*/ 0 w 38160"/>
              <a:gd name="textAreaRight" fmla="*/ 38520 w 381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4" h="22">
                <a:moveTo>
                  <a:pt x="0" y="18"/>
                </a:moveTo>
                <a:lnTo>
                  <a:pt x="2" y="3"/>
                </a:lnTo>
                <a:lnTo>
                  <a:pt x="11" y="0"/>
                </a:lnTo>
                <a:lnTo>
                  <a:pt x="20" y="5"/>
                </a:lnTo>
                <a:lnTo>
                  <a:pt x="24" y="12"/>
                </a:lnTo>
                <a:lnTo>
                  <a:pt x="24" y="18"/>
                </a:lnTo>
                <a:lnTo>
                  <a:pt x="15" y="22"/>
                </a:lnTo>
                <a:lnTo>
                  <a:pt x="7" y="21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71"/>
          <p:cNvSpPr/>
          <p:nvPr/>
        </p:nvSpPr>
        <p:spPr>
          <a:xfrm>
            <a:off x="4221000" y="1185840"/>
            <a:ext cx="833760" cy="666720"/>
          </a:xfrm>
          <a:custGeom>
            <a:avLst/>
            <a:gdLst>
              <a:gd name="textAreaLeft" fmla="*/ 0 w 833760"/>
              <a:gd name="textAreaRight" fmla="*/ 834120 w 8337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525" h="420">
                <a:moveTo>
                  <a:pt x="99" y="409"/>
                </a:moveTo>
                <a:lnTo>
                  <a:pt x="25" y="384"/>
                </a:lnTo>
                <a:lnTo>
                  <a:pt x="0" y="342"/>
                </a:lnTo>
                <a:lnTo>
                  <a:pt x="0" y="285"/>
                </a:lnTo>
                <a:lnTo>
                  <a:pt x="36" y="201"/>
                </a:lnTo>
                <a:lnTo>
                  <a:pt x="95" y="102"/>
                </a:lnTo>
                <a:lnTo>
                  <a:pt x="177" y="43"/>
                </a:lnTo>
                <a:lnTo>
                  <a:pt x="252" y="3"/>
                </a:lnTo>
                <a:lnTo>
                  <a:pt x="339" y="0"/>
                </a:lnTo>
                <a:lnTo>
                  <a:pt x="384" y="15"/>
                </a:lnTo>
                <a:lnTo>
                  <a:pt x="457" y="57"/>
                </a:lnTo>
                <a:lnTo>
                  <a:pt x="493" y="114"/>
                </a:lnTo>
                <a:lnTo>
                  <a:pt x="525" y="187"/>
                </a:lnTo>
                <a:lnTo>
                  <a:pt x="525" y="240"/>
                </a:lnTo>
                <a:lnTo>
                  <a:pt x="507" y="290"/>
                </a:lnTo>
                <a:lnTo>
                  <a:pt x="455" y="324"/>
                </a:lnTo>
                <a:lnTo>
                  <a:pt x="395" y="328"/>
                </a:lnTo>
                <a:lnTo>
                  <a:pt x="334" y="364"/>
                </a:lnTo>
                <a:lnTo>
                  <a:pt x="278" y="402"/>
                </a:lnTo>
                <a:lnTo>
                  <a:pt x="197" y="420"/>
                </a:lnTo>
                <a:lnTo>
                  <a:pt x="99" y="409"/>
                </a:lnTo>
                <a:lnTo>
                  <a:pt x="99" y="409"/>
                </a:lnTo>
                <a:lnTo>
                  <a:pt x="99" y="40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72"/>
          <p:cNvSpPr/>
          <p:nvPr/>
        </p:nvSpPr>
        <p:spPr>
          <a:xfrm>
            <a:off x="4552920" y="2062080"/>
            <a:ext cx="155520" cy="455760"/>
          </a:xfrm>
          <a:custGeom>
            <a:avLst/>
            <a:gdLst>
              <a:gd name="textAreaLeft" fmla="*/ 0 w 155520"/>
              <a:gd name="textAreaRight" fmla="*/ 155880 w 15552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8" h="287">
                <a:moveTo>
                  <a:pt x="13" y="0"/>
                </a:moveTo>
                <a:lnTo>
                  <a:pt x="0" y="58"/>
                </a:lnTo>
                <a:lnTo>
                  <a:pt x="18" y="108"/>
                </a:lnTo>
                <a:lnTo>
                  <a:pt x="31" y="164"/>
                </a:lnTo>
                <a:lnTo>
                  <a:pt x="26" y="226"/>
                </a:lnTo>
                <a:lnTo>
                  <a:pt x="38" y="273"/>
                </a:lnTo>
                <a:lnTo>
                  <a:pt x="60" y="287"/>
                </a:lnTo>
                <a:lnTo>
                  <a:pt x="85" y="287"/>
                </a:lnTo>
                <a:lnTo>
                  <a:pt x="98" y="251"/>
                </a:lnTo>
                <a:lnTo>
                  <a:pt x="81" y="200"/>
                </a:lnTo>
                <a:lnTo>
                  <a:pt x="56" y="134"/>
                </a:lnTo>
                <a:lnTo>
                  <a:pt x="56" y="75"/>
                </a:lnTo>
                <a:lnTo>
                  <a:pt x="45" y="12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73"/>
          <p:cNvSpPr/>
          <p:nvPr/>
        </p:nvSpPr>
        <p:spPr>
          <a:xfrm>
            <a:off x="4516560" y="2490840"/>
            <a:ext cx="85680" cy="57240"/>
          </a:xfrm>
          <a:custGeom>
            <a:avLst/>
            <a:gdLst>
              <a:gd name="textAreaLeft" fmla="*/ 0 w 85680"/>
              <a:gd name="textAreaRight" fmla="*/ 85680 w 85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4" h="36">
                <a:moveTo>
                  <a:pt x="0" y="29"/>
                </a:moveTo>
                <a:lnTo>
                  <a:pt x="5" y="6"/>
                </a:lnTo>
                <a:lnTo>
                  <a:pt x="29" y="0"/>
                </a:lnTo>
                <a:lnTo>
                  <a:pt x="54" y="29"/>
                </a:lnTo>
                <a:lnTo>
                  <a:pt x="29" y="36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74"/>
          <p:cNvSpPr/>
          <p:nvPr/>
        </p:nvSpPr>
        <p:spPr>
          <a:xfrm>
            <a:off x="3959280" y="2254320"/>
            <a:ext cx="485640" cy="399960"/>
          </a:xfrm>
          <a:custGeom>
            <a:avLst/>
            <a:gdLst>
              <a:gd name="textAreaLeft" fmla="*/ 0 w 485640"/>
              <a:gd name="textAreaRight" fmla="*/ 486000 w 485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306" h="252">
                <a:moveTo>
                  <a:pt x="0" y="97"/>
                </a:moveTo>
                <a:lnTo>
                  <a:pt x="15" y="68"/>
                </a:lnTo>
                <a:lnTo>
                  <a:pt x="36" y="50"/>
                </a:lnTo>
                <a:lnTo>
                  <a:pt x="85" y="36"/>
                </a:lnTo>
                <a:lnTo>
                  <a:pt x="134" y="36"/>
                </a:lnTo>
                <a:lnTo>
                  <a:pt x="208" y="32"/>
                </a:lnTo>
                <a:lnTo>
                  <a:pt x="262" y="11"/>
                </a:lnTo>
                <a:lnTo>
                  <a:pt x="306" y="0"/>
                </a:lnTo>
                <a:lnTo>
                  <a:pt x="295" y="66"/>
                </a:lnTo>
                <a:lnTo>
                  <a:pt x="270" y="122"/>
                </a:lnTo>
                <a:lnTo>
                  <a:pt x="226" y="178"/>
                </a:lnTo>
                <a:lnTo>
                  <a:pt x="165" y="214"/>
                </a:lnTo>
                <a:lnTo>
                  <a:pt x="130" y="246"/>
                </a:lnTo>
                <a:lnTo>
                  <a:pt x="89" y="252"/>
                </a:lnTo>
                <a:lnTo>
                  <a:pt x="49" y="227"/>
                </a:lnTo>
                <a:lnTo>
                  <a:pt x="18" y="191"/>
                </a:lnTo>
                <a:lnTo>
                  <a:pt x="4" y="142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75"/>
          <p:cNvSpPr/>
          <p:nvPr/>
        </p:nvSpPr>
        <p:spPr>
          <a:xfrm>
            <a:off x="4937040" y="2068560"/>
            <a:ext cx="493920" cy="388800"/>
          </a:xfrm>
          <a:custGeom>
            <a:avLst/>
            <a:gdLst>
              <a:gd name="textAreaLeft" fmla="*/ 0 w 493920"/>
              <a:gd name="textAreaRight" fmla="*/ 494280 w 4939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311" h="245">
                <a:moveTo>
                  <a:pt x="4" y="50"/>
                </a:moveTo>
                <a:lnTo>
                  <a:pt x="71" y="54"/>
                </a:lnTo>
                <a:lnTo>
                  <a:pt x="127" y="50"/>
                </a:lnTo>
                <a:lnTo>
                  <a:pt x="188" y="30"/>
                </a:lnTo>
                <a:lnTo>
                  <a:pt x="232" y="0"/>
                </a:lnTo>
                <a:lnTo>
                  <a:pt x="262" y="0"/>
                </a:lnTo>
                <a:lnTo>
                  <a:pt x="300" y="41"/>
                </a:lnTo>
                <a:lnTo>
                  <a:pt x="311" y="92"/>
                </a:lnTo>
                <a:lnTo>
                  <a:pt x="311" y="165"/>
                </a:lnTo>
                <a:lnTo>
                  <a:pt x="302" y="203"/>
                </a:lnTo>
                <a:lnTo>
                  <a:pt x="269" y="241"/>
                </a:lnTo>
                <a:lnTo>
                  <a:pt x="208" y="245"/>
                </a:lnTo>
                <a:lnTo>
                  <a:pt x="148" y="222"/>
                </a:lnTo>
                <a:lnTo>
                  <a:pt x="85" y="191"/>
                </a:lnTo>
                <a:lnTo>
                  <a:pt x="36" y="153"/>
                </a:lnTo>
                <a:lnTo>
                  <a:pt x="6" y="117"/>
                </a:lnTo>
                <a:lnTo>
                  <a:pt x="0" y="92"/>
                </a:lnTo>
                <a:lnTo>
                  <a:pt x="4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76"/>
          <p:cNvSpPr/>
          <p:nvPr/>
        </p:nvSpPr>
        <p:spPr>
          <a:xfrm>
            <a:off x="4624560" y="3164040"/>
            <a:ext cx="485640" cy="223560"/>
          </a:xfrm>
          <a:custGeom>
            <a:avLst/>
            <a:gdLst>
              <a:gd name="textAreaLeft" fmla="*/ 0 w 485640"/>
              <a:gd name="textAreaRight" fmla="*/ 486000 w 48564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306" h="141">
                <a:moveTo>
                  <a:pt x="17" y="87"/>
                </a:moveTo>
                <a:lnTo>
                  <a:pt x="47" y="120"/>
                </a:lnTo>
                <a:lnTo>
                  <a:pt x="97" y="141"/>
                </a:lnTo>
                <a:lnTo>
                  <a:pt x="146" y="141"/>
                </a:lnTo>
                <a:lnTo>
                  <a:pt x="201" y="130"/>
                </a:lnTo>
                <a:lnTo>
                  <a:pt x="243" y="98"/>
                </a:lnTo>
                <a:lnTo>
                  <a:pt x="292" y="49"/>
                </a:lnTo>
                <a:lnTo>
                  <a:pt x="306" y="13"/>
                </a:lnTo>
                <a:lnTo>
                  <a:pt x="268" y="0"/>
                </a:lnTo>
                <a:lnTo>
                  <a:pt x="221" y="18"/>
                </a:lnTo>
                <a:lnTo>
                  <a:pt x="166" y="54"/>
                </a:lnTo>
                <a:lnTo>
                  <a:pt x="105" y="71"/>
                </a:lnTo>
                <a:lnTo>
                  <a:pt x="49" y="67"/>
                </a:lnTo>
                <a:lnTo>
                  <a:pt x="0" y="62"/>
                </a:lnTo>
                <a:lnTo>
                  <a:pt x="17" y="87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77"/>
          <p:cNvSpPr/>
          <p:nvPr/>
        </p:nvSpPr>
        <p:spPr>
          <a:xfrm>
            <a:off x="4484520" y="2714760"/>
            <a:ext cx="196920" cy="85680"/>
          </a:xfrm>
          <a:custGeom>
            <a:avLst/>
            <a:gdLst>
              <a:gd name="textAreaLeft" fmla="*/ 0 w 196920"/>
              <a:gd name="textAreaRight" fmla="*/ 197280 w 1969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24" h="54">
                <a:moveTo>
                  <a:pt x="7" y="54"/>
                </a:moveTo>
                <a:lnTo>
                  <a:pt x="74" y="29"/>
                </a:lnTo>
                <a:lnTo>
                  <a:pt x="124" y="18"/>
                </a:lnTo>
                <a:lnTo>
                  <a:pt x="81" y="0"/>
                </a:lnTo>
                <a:lnTo>
                  <a:pt x="38" y="0"/>
                </a:lnTo>
                <a:lnTo>
                  <a:pt x="0" y="29"/>
                </a:lnTo>
                <a:lnTo>
                  <a:pt x="7" y="54"/>
                </a:lnTo>
                <a:lnTo>
                  <a:pt x="7" y="54"/>
                </a:lnTo>
                <a:lnTo>
                  <a:pt x="7" y="54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78"/>
          <p:cNvSpPr/>
          <p:nvPr/>
        </p:nvSpPr>
        <p:spPr>
          <a:xfrm>
            <a:off x="3976560" y="2009880"/>
            <a:ext cx="177840" cy="123840"/>
          </a:xfrm>
          <a:custGeom>
            <a:avLst/>
            <a:gdLst>
              <a:gd name="textAreaLeft" fmla="*/ 0 w 177840"/>
              <a:gd name="textAreaRight" fmla="*/ 177840 w 177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12" h="78">
                <a:moveTo>
                  <a:pt x="0" y="65"/>
                </a:moveTo>
                <a:lnTo>
                  <a:pt x="0" y="42"/>
                </a:lnTo>
                <a:lnTo>
                  <a:pt x="17" y="18"/>
                </a:lnTo>
                <a:lnTo>
                  <a:pt x="53" y="0"/>
                </a:lnTo>
                <a:lnTo>
                  <a:pt x="91" y="5"/>
                </a:lnTo>
                <a:lnTo>
                  <a:pt x="112" y="18"/>
                </a:lnTo>
                <a:lnTo>
                  <a:pt x="42" y="49"/>
                </a:lnTo>
                <a:lnTo>
                  <a:pt x="4" y="78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79"/>
          <p:cNvSpPr/>
          <p:nvPr/>
        </p:nvSpPr>
        <p:spPr>
          <a:xfrm rot="2926200">
            <a:off x="3306240" y="3668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80"/>
          <p:cNvSpPr/>
          <p:nvPr/>
        </p:nvSpPr>
        <p:spPr>
          <a:xfrm rot="1699800">
            <a:off x="3551040" y="3862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81"/>
          <p:cNvSpPr/>
          <p:nvPr/>
        </p:nvSpPr>
        <p:spPr>
          <a:xfrm rot="781800">
            <a:off x="3882600" y="3983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82"/>
          <p:cNvSpPr/>
          <p:nvPr/>
        </p:nvSpPr>
        <p:spPr>
          <a:xfrm rot="563400">
            <a:off x="4192200" y="4041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83"/>
          <p:cNvSpPr/>
          <p:nvPr/>
        </p:nvSpPr>
        <p:spPr>
          <a:xfrm rot="273600">
            <a:off x="4543200" y="4084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84"/>
          <p:cNvSpPr/>
          <p:nvPr/>
        </p:nvSpPr>
        <p:spPr>
          <a:xfrm rot="21552600">
            <a:off x="5014800" y="4093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85"/>
          <p:cNvSpPr/>
          <p:nvPr/>
        </p:nvSpPr>
        <p:spPr>
          <a:xfrm rot="21330000">
            <a:off x="5367240" y="4071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86"/>
          <p:cNvSpPr/>
          <p:nvPr/>
        </p:nvSpPr>
        <p:spPr>
          <a:xfrm rot="21244800">
            <a:off x="5524560" y="4053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87"/>
          <p:cNvSpPr/>
          <p:nvPr/>
        </p:nvSpPr>
        <p:spPr>
          <a:xfrm rot="20866800">
            <a:off x="5873760" y="3995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88"/>
          <p:cNvSpPr/>
          <p:nvPr/>
        </p:nvSpPr>
        <p:spPr>
          <a:xfrm rot="20562000">
            <a:off x="6024600" y="3954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89"/>
          <p:cNvSpPr/>
          <p:nvPr/>
        </p:nvSpPr>
        <p:spPr>
          <a:xfrm rot="19930200">
            <a:off x="6350040" y="3816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90"/>
          <p:cNvSpPr/>
          <p:nvPr/>
        </p:nvSpPr>
        <p:spPr>
          <a:xfrm rot="18729000">
            <a:off x="6475320" y="3722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91"/>
          <p:cNvSpPr/>
          <p:nvPr/>
        </p:nvSpPr>
        <p:spPr>
          <a:xfrm rot="15335400">
            <a:off x="6432120" y="3385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92"/>
          <p:cNvSpPr/>
          <p:nvPr/>
        </p:nvSpPr>
        <p:spPr>
          <a:xfrm rot="15335400">
            <a:off x="6347880" y="308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93"/>
          <p:cNvSpPr/>
          <p:nvPr/>
        </p:nvSpPr>
        <p:spPr>
          <a:xfrm rot="1418400">
            <a:off x="2927160" y="4398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94"/>
          <p:cNvSpPr/>
          <p:nvPr/>
        </p:nvSpPr>
        <p:spPr>
          <a:xfrm rot="1275600">
            <a:off x="3266640" y="4535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95"/>
          <p:cNvSpPr/>
          <p:nvPr/>
        </p:nvSpPr>
        <p:spPr>
          <a:xfrm rot="764400">
            <a:off x="3601800" y="4649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96"/>
          <p:cNvSpPr/>
          <p:nvPr/>
        </p:nvSpPr>
        <p:spPr>
          <a:xfrm rot="514200">
            <a:off x="4065120" y="4734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97"/>
          <p:cNvSpPr/>
          <p:nvPr/>
        </p:nvSpPr>
        <p:spPr>
          <a:xfrm rot="296400">
            <a:off x="4417560" y="4776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98"/>
          <p:cNvSpPr/>
          <p:nvPr/>
        </p:nvSpPr>
        <p:spPr>
          <a:xfrm rot="135600">
            <a:off x="4573080" y="4786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99"/>
          <p:cNvSpPr/>
          <p:nvPr/>
        </p:nvSpPr>
        <p:spPr>
          <a:xfrm rot="21552000">
            <a:off x="4927680" y="4785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00"/>
          <p:cNvSpPr/>
          <p:nvPr/>
        </p:nvSpPr>
        <p:spPr>
          <a:xfrm rot="21399600">
            <a:off x="5241960" y="4770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01"/>
          <p:cNvSpPr/>
          <p:nvPr/>
        </p:nvSpPr>
        <p:spPr>
          <a:xfrm rot="21220800">
            <a:off x="5594400" y="4733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2"/>
          <p:cNvSpPr/>
          <p:nvPr/>
        </p:nvSpPr>
        <p:spPr>
          <a:xfrm rot="21023400">
            <a:off x="5905440" y="4684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03"/>
          <p:cNvSpPr/>
          <p:nvPr/>
        </p:nvSpPr>
        <p:spPr>
          <a:xfrm rot="20796000">
            <a:off x="6249960" y="460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04"/>
          <p:cNvSpPr/>
          <p:nvPr/>
        </p:nvSpPr>
        <p:spPr>
          <a:xfrm rot="20302200">
            <a:off x="6524640" y="452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05"/>
          <p:cNvSpPr/>
          <p:nvPr/>
        </p:nvSpPr>
        <p:spPr>
          <a:xfrm rot="3195600">
            <a:off x="1530000" y="4568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06"/>
          <p:cNvSpPr/>
          <p:nvPr/>
        </p:nvSpPr>
        <p:spPr>
          <a:xfrm rot="2401200">
            <a:off x="1780920" y="4834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07"/>
          <p:cNvSpPr/>
          <p:nvPr/>
        </p:nvSpPr>
        <p:spPr>
          <a:xfrm rot="1770600">
            <a:off x="2072880" y="50356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108"/>
          <p:cNvSpPr/>
          <p:nvPr/>
        </p:nvSpPr>
        <p:spPr>
          <a:xfrm rot="1462200">
            <a:off x="2354040" y="5175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109"/>
          <p:cNvSpPr/>
          <p:nvPr/>
        </p:nvSpPr>
        <p:spPr>
          <a:xfrm rot="1193400">
            <a:off x="2680920" y="5310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110"/>
          <p:cNvSpPr/>
          <p:nvPr/>
        </p:nvSpPr>
        <p:spPr>
          <a:xfrm rot="1069200">
            <a:off x="2830320" y="53611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111"/>
          <p:cNvSpPr/>
          <p:nvPr/>
        </p:nvSpPr>
        <p:spPr>
          <a:xfrm rot="915000">
            <a:off x="3169800" y="5460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112"/>
          <p:cNvSpPr/>
          <p:nvPr/>
        </p:nvSpPr>
        <p:spPr>
          <a:xfrm rot="790200">
            <a:off x="3472920" y="5540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113"/>
          <p:cNvSpPr/>
          <p:nvPr/>
        </p:nvSpPr>
        <p:spPr>
          <a:xfrm rot="468600">
            <a:off x="3820680" y="5603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14"/>
          <p:cNvSpPr/>
          <p:nvPr/>
        </p:nvSpPr>
        <p:spPr>
          <a:xfrm rot="341400">
            <a:off x="4133520" y="5640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115"/>
          <p:cNvSpPr/>
          <p:nvPr/>
        </p:nvSpPr>
        <p:spPr>
          <a:xfrm rot="232800">
            <a:off x="4485960" y="5668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116"/>
          <p:cNvSpPr/>
          <p:nvPr/>
        </p:nvSpPr>
        <p:spPr>
          <a:xfrm rot="93600">
            <a:off x="4800240" y="5684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17"/>
          <p:cNvSpPr/>
          <p:nvPr/>
        </p:nvSpPr>
        <p:spPr>
          <a:xfrm rot="21511800">
            <a:off x="5154480" y="5681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18"/>
          <p:cNvSpPr/>
          <p:nvPr/>
        </p:nvSpPr>
        <p:spPr>
          <a:xfrm rot="21372600">
            <a:off x="5442120" y="5662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19"/>
          <p:cNvSpPr/>
          <p:nvPr/>
        </p:nvSpPr>
        <p:spPr>
          <a:xfrm rot="21292800">
            <a:off x="5794200" y="5628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20"/>
          <p:cNvSpPr/>
          <p:nvPr/>
        </p:nvSpPr>
        <p:spPr>
          <a:xfrm rot="21191400">
            <a:off x="5950080" y="5609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21"/>
          <p:cNvSpPr/>
          <p:nvPr/>
        </p:nvSpPr>
        <p:spPr>
          <a:xfrm rot="20923200">
            <a:off x="6299280" y="5546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122"/>
          <p:cNvSpPr/>
          <p:nvPr/>
        </p:nvSpPr>
        <p:spPr>
          <a:xfrm rot="20709600">
            <a:off x="6603840" y="5471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123"/>
          <p:cNvSpPr/>
          <p:nvPr/>
        </p:nvSpPr>
        <p:spPr>
          <a:xfrm rot="20488800">
            <a:off x="6940440" y="5363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124"/>
          <p:cNvSpPr/>
          <p:nvPr/>
        </p:nvSpPr>
        <p:spPr>
          <a:xfrm rot="20382000">
            <a:off x="7236000" y="5254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25"/>
          <p:cNvSpPr/>
          <p:nvPr/>
        </p:nvSpPr>
        <p:spPr>
          <a:xfrm rot="20020200">
            <a:off x="7559640" y="5111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26"/>
          <p:cNvSpPr/>
          <p:nvPr/>
        </p:nvSpPr>
        <p:spPr>
          <a:xfrm rot="19815600">
            <a:off x="7696080" y="5035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27"/>
          <p:cNvSpPr/>
          <p:nvPr/>
        </p:nvSpPr>
        <p:spPr>
          <a:xfrm rot="19560000">
            <a:off x="7993080" y="4841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128"/>
          <p:cNvSpPr/>
          <p:nvPr/>
        </p:nvSpPr>
        <p:spPr>
          <a:xfrm rot="19373400">
            <a:off x="8161200" y="4717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129"/>
          <p:cNvSpPr/>
          <p:nvPr/>
        </p:nvSpPr>
        <p:spPr>
          <a:xfrm rot="16889400">
            <a:off x="8375760" y="444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130"/>
          <p:cNvSpPr/>
          <p:nvPr/>
        </p:nvSpPr>
        <p:spPr>
          <a:xfrm rot="16889400">
            <a:off x="8413920" y="4242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131"/>
          <p:cNvSpPr/>
          <p:nvPr/>
        </p:nvSpPr>
        <p:spPr>
          <a:xfrm rot="16889400">
            <a:off x="8478720" y="3895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32"/>
          <p:cNvSpPr/>
          <p:nvPr/>
        </p:nvSpPr>
        <p:spPr>
          <a:xfrm rot="16889400">
            <a:off x="8535960" y="358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33"/>
          <p:cNvSpPr/>
          <p:nvPr/>
        </p:nvSpPr>
        <p:spPr>
          <a:xfrm rot="16889400">
            <a:off x="8601120" y="3238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34"/>
          <p:cNvSpPr/>
          <p:nvPr/>
        </p:nvSpPr>
        <p:spPr>
          <a:xfrm rot="16889400">
            <a:off x="8658360" y="2928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35"/>
          <p:cNvSpPr/>
          <p:nvPr/>
        </p:nvSpPr>
        <p:spPr>
          <a:xfrm rot="16889400">
            <a:off x="8721720" y="2580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136"/>
          <p:cNvSpPr/>
          <p:nvPr/>
        </p:nvSpPr>
        <p:spPr>
          <a:xfrm rot="16889400">
            <a:off x="8778960" y="2271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37"/>
          <p:cNvSpPr/>
          <p:nvPr/>
        </p:nvSpPr>
        <p:spPr>
          <a:xfrm rot="16889400">
            <a:off x="8844120" y="1923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38"/>
          <p:cNvSpPr/>
          <p:nvPr/>
        </p:nvSpPr>
        <p:spPr>
          <a:xfrm rot="16889400">
            <a:off x="8872560" y="1767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39"/>
          <p:cNvSpPr/>
          <p:nvPr/>
        </p:nvSpPr>
        <p:spPr>
          <a:xfrm rot="16889400">
            <a:off x="8937720" y="142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40"/>
          <p:cNvSpPr/>
          <p:nvPr/>
        </p:nvSpPr>
        <p:spPr>
          <a:xfrm rot="16889400">
            <a:off x="8994600" y="1110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Picture 4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042120" cy="6783480"/>
          </a:xfrm>
          <a:prstGeom prst="rect">
            <a:avLst/>
          </a:prstGeom>
          <a:ln w="0">
            <a:noFill/>
          </a:ln>
        </p:spPr>
      </p:pic>
      <p:sp>
        <p:nvSpPr>
          <p:cNvPr id="1164" name="Text Box 6"/>
          <p:cNvSpPr/>
          <p:nvPr/>
        </p:nvSpPr>
        <p:spPr>
          <a:xfrm>
            <a:off x="3780000" y="260280"/>
            <a:ext cx="51130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jemplo Bíblic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an 4:3-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3"/>
          <p:cNvSpPr/>
          <p:nvPr/>
        </p:nvSpPr>
        <p:spPr>
          <a:xfrm>
            <a:off x="-9360" y="-27000"/>
            <a:ext cx="9837720" cy="6804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1181160" y="2171880"/>
            <a:ext cx="761184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2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Cómo desarrollar un evangelismo relacional eficaz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5"/>
          <p:cNvSpPr/>
          <p:nvPr/>
        </p:nvSpPr>
        <p:spPr>
          <a:xfrm>
            <a:off x="1208160" y="2171880"/>
            <a:ext cx="761184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2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Cómo desarrollar un evangelismo relacional eficaz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3"/>
          <p:cNvSpPr/>
          <p:nvPr/>
        </p:nvSpPr>
        <p:spPr>
          <a:xfrm>
            <a:off x="-31680" y="-27000"/>
            <a:ext cx="9837720" cy="6838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4" descr=""/>
          <p:cNvPicPr/>
          <p:nvPr/>
        </p:nvPicPr>
        <p:blipFill>
          <a:blip r:embed="rId1"/>
          <a:stretch/>
        </p:blipFill>
        <p:spPr>
          <a:xfrm>
            <a:off x="3408480" y="241200"/>
            <a:ext cx="4686120" cy="2462400"/>
          </a:xfrm>
          <a:prstGeom prst="rect">
            <a:avLst/>
          </a:prstGeom>
          <a:ln w="0">
            <a:noFill/>
          </a:ln>
        </p:spPr>
      </p:pic>
      <p:sp>
        <p:nvSpPr>
          <p:cNvPr id="1170" name="Text Box 5"/>
          <p:cNvSpPr/>
          <p:nvPr/>
        </p:nvSpPr>
        <p:spPr>
          <a:xfrm>
            <a:off x="179280" y="260280"/>
            <a:ext cx="432288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ff90"/>
                </a:solidFill>
                <a:latin typeface="Arial"/>
              </a:rPr>
              <a:t>¿Cómo iniciar un diálogo de testificación?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6"/>
          <p:cNvSpPr/>
          <p:nvPr/>
        </p:nvSpPr>
        <p:spPr>
          <a:xfrm>
            <a:off x="1332000" y="4365720"/>
            <a:ext cx="7219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 Espíritu Santo os enseñará en la misma hora lo que debáis decir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c 12: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3"/>
          <p:cNvSpPr/>
          <p:nvPr/>
        </p:nvSpPr>
        <p:spPr>
          <a:xfrm>
            <a:off x="-12600" y="-27000"/>
            <a:ext cx="9156600" cy="6597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4"/>
          <p:cNvSpPr/>
          <p:nvPr/>
        </p:nvSpPr>
        <p:spPr>
          <a:xfrm>
            <a:off x="4932360" y="3059280"/>
            <a:ext cx="2573280" cy="3651120"/>
          </a:xfrm>
          <a:custGeom>
            <a:avLst/>
            <a:gdLst>
              <a:gd name="textAreaLeft" fmla="*/ 0 w 2573280"/>
              <a:gd name="textAreaRight" fmla="*/ 2573640 w 2573280"/>
              <a:gd name="textAreaTop" fmla="*/ 0 h 3651120"/>
              <a:gd name="textAreaBottom" fmla="*/ 3651480 h 3651120"/>
            </a:gdLst>
            <a:ahLst/>
            <a:rect l="textAreaLeft" t="textAreaTop" r="textAreaRight" b="textAreaBottom"/>
            <a:pathLst>
              <a:path w="1621" h="2300">
                <a:moveTo>
                  <a:pt x="980" y="0"/>
                </a:moveTo>
                <a:lnTo>
                  <a:pt x="721" y="24"/>
                </a:lnTo>
                <a:lnTo>
                  <a:pt x="279" y="210"/>
                </a:lnTo>
                <a:lnTo>
                  <a:pt x="125" y="687"/>
                </a:lnTo>
                <a:lnTo>
                  <a:pt x="0" y="1158"/>
                </a:lnTo>
                <a:lnTo>
                  <a:pt x="146" y="1755"/>
                </a:lnTo>
                <a:lnTo>
                  <a:pt x="683" y="2233"/>
                </a:lnTo>
                <a:lnTo>
                  <a:pt x="781" y="2300"/>
                </a:lnTo>
                <a:lnTo>
                  <a:pt x="989" y="2288"/>
                </a:lnTo>
                <a:lnTo>
                  <a:pt x="1144" y="2223"/>
                </a:lnTo>
                <a:lnTo>
                  <a:pt x="1248" y="2163"/>
                </a:lnTo>
                <a:lnTo>
                  <a:pt x="1352" y="2059"/>
                </a:lnTo>
                <a:lnTo>
                  <a:pt x="1450" y="1849"/>
                </a:lnTo>
                <a:lnTo>
                  <a:pt x="1621" y="1521"/>
                </a:lnTo>
                <a:lnTo>
                  <a:pt x="1548" y="792"/>
                </a:lnTo>
                <a:lnTo>
                  <a:pt x="1345" y="279"/>
                </a:lnTo>
                <a:lnTo>
                  <a:pt x="1154" y="65"/>
                </a:lnTo>
                <a:lnTo>
                  <a:pt x="980" y="0"/>
                </a:lnTo>
                <a:lnTo>
                  <a:pt x="980" y="0"/>
                </a:lnTo>
                <a:lnTo>
                  <a:pt x="980" y="0"/>
                </a:lnTo>
                <a:close/>
              </a:path>
            </a:pathLst>
          </a:custGeom>
          <a:solidFill>
            <a:srgbClr val="ffd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5"/>
          <p:cNvSpPr/>
          <p:nvPr/>
        </p:nvSpPr>
        <p:spPr>
          <a:xfrm>
            <a:off x="6426360" y="4305240"/>
            <a:ext cx="512640" cy="192240"/>
          </a:xfrm>
          <a:custGeom>
            <a:avLst/>
            <a:gdLst>
              <a:gd name="textAreaLeft" fmla="*/ 0 w 512640"/>
              <a:gd name="textAreaRight" fmla="*/ 513000 w 5126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23" h="121">
                <a:moveTo>
                  <a:pt x="0" y="104"/>
                </a:moveTo>
                <a:lnTo>
                  <a:pt x="69" y="40"/>
                </a:lnTo>
                <a:lnTo>
                  <a:pt x="130" y="10"/>
                </a:lnTo>
                <a:lnTo>
                  <a:pt x="227" y="0"/>
                </a:lnTo>
                <a:lnTo>
                  <a:pt x="323" y="60"/>
                </a:lnTo>
                <a:lnTo>
                  <a:pt x="227" y="113"/>
                </a:lnTo>
                <a:lnTo>
                  <a:pt x="117" y="121"/>
                </a:lnTo>
                <a:lnTo>
                  <a:pt x="49" y="119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6"/>
          <p:cNvSpPr/>
          <p:nvPr/>
        </p:nvSpPr>
        <p:spPr>
          <a:xfrm>
            <a:off x="6591240" y="4330800"/>
            <a:ext cx="182520" cy="156960"/>
          </a:xfrm>
          <a:custGeom>
            <a:avLst/>
            <a:gdLst>
              <a:gd name="textAreaLeft" fmla="*/ 0 w 182520"/>
              <a:gd name="textAreaRight" fmla="*/ 182880 w 1825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15" h="99">
                <a:moveTo>
                  <a:pt x="6" y="0"/>
                </a:moveTo>
                <a:lnTo>
                  <a:pt x="0" y="54"/>
                </a:lnTo>
                <a:lnTo>
                  <a:pt x="22" y="84"/>
                </a:lnTo>
                <a:lnTo>
                  <a:pt x="54" y="99"/>
                </a:lnTo>
                <a:lnTo>
                  <a:pt x="90" y="88"/>
                </a:lnTo>
                <a:lnTo>
                  <a:pt x="115" y="61"/>
                </a:lnTo>
                <a:lnTo>
                  <a:pt x="113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7"/>
          <p:cNvSpPr/>
          <p:nvPr/>
        </p:nvSpPr>
        <p:spPr>
          <a:xfrm>
            <a:off x="5392800" y="4548240"/>
            <a:ext cx="406440" cy="158760"/>
          </a:xfrm>
          <a:custGeom>
            <a:avLst/>
            <a:gdLst>
              <a:gd name="textAreaLeft" fmla="*/ 0 w 406440"/>
              <a:gd name="textAreaRight" fmla="*/ 406800 w 4064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56" h="100">
                <a:moveTo>
                  <a:pt x="0" y="75"/>
                </a:moveTo>
                <a:lnTo>
                  <a:pt x="66" y="7"/>
                </a:lnTo>
                <a:lnTo>
                  <a:pt x="179" y="0"/>
                </a:lnTo>
                <a:lnTo>
                  <a:pt x="256" y="28"/>
                </a:lnTo>
                <a:lnTo>
                  <a:pt x="250" y="51"/>
                </a:lnTo>
                <a:lnTo>
                  <a:pt x="171" y="82"/>
                </a:lnTo>
                <a:lnTo>
                  <a:pt x="74" y="100"/>
                </a:lnTo>
                <a:lnTo>
                  <a:pt x="16" y="98"/>
                </a:lnTo>
                <a:lnTo>
                  <a:pt x="0" y="75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8"/>
          <p:cNvSpPr/>
          <p:nvPr/>
        </p:nvSpPr>
        <p:spPr>
          <a:xfrm>
            <a:off x="5491080" y="4557600"/>
            <a:ext cx="204840" cy="139680"/>
          </a:xfrm>
          <a:custGeom>
            <a:avLst/>
            <a:gdLst>
              <a:gd name="textAreaLeft" fmla="*/ 0 w 204840"/>
              <a:gd name="textAreaRight" fmla="*/ 205200 w 204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9" h="88">
                <a:moveTo>
                  <a:pt x="0" y="7"/>
                </a:moveTo>
                <a:lnTo>
                  <a:pt x="10" y="60"/>
                </a:lnTo>
                <a:lnTo>
                  <a:pt x="27" y="76"/>
                </a:lnTo>
                <a:lnTo>
                  <a:pt x="81" y="88"/>
                </a:lnTo>
                <a:lnTo>
                  <a:pt x="119" y="54"/>
                </a:lnTo>
                <a:lnTo>
                  <a:pt x="129" y="13"/>
                </a:lnTo>
                <a:lnTo>
                  <a:pt x="109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9"/>
          <p:cNvSpPr/>
          <p:nvPr/>
        </p:nvSpPr>
        <p:spPr>
          <a:xfrm>
            <a:off x="5857920" y="5425920"/>
            <a:ext cx="920880" cy="327240"/>
          </a:xfrm>
          <a:custGeom>
            <a:avLst/>
            <a:gdLst>
              <a:gd name="textAreaLeft" fmla="*/ 0 w 920880"/>
              <a:gd name="textAreaRight" fmla="*/ 921240 w 9208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580" h="206">
                <a:moveTo>
                  <a:pt x="0" y="91"/>
                </a:moveTo>
                <a:lnTo>
                  <a:pt x="37" y="77"/>
                </a:lnTo>
                <a:lnTo>
                  <a:pt x="198" y="61"/>
                </a:lnTo>
                <a:lnTo>
                  <a:pt x="284" y="58"/>
                </a:lnTo>
                <a:lnTo>
                  <a:pt x="480" y="2"/>
                </a:lnTo>
                <a:lnTo>
                  <a:pt x="580" y="0"/>
                </a:lnTo>
                <a:lnTo>
                  <a:pt x="562" y="79"/>
                </a:lnTo>
                <a:lnTo>
                  <a:pt x="455" y="163"/>
                </a:lnTo>
                <a:lnTo>
                  <a:pt x="243" y="206"/>
                </a:lnTo>
                <a:lnTo>
                  <a:pt x="137" y="190"/>
                </a:lnTo>
                <a:lnTo>
                  <a:pt x="102" y="179"/>
                </a:lnTo>
                <a:lnTo>
                  <a:pt x="52" y="147"/>
                </a:lnTo>
                <a:lnTo>
                  <a:pt x="31" y="116"/>
                </a:lnTo>
                <a:lnTo>
                  <a:pt x="0" y="91"/>
                </a:lnTo>
                <a:lnTo>
                  <a:pt x="0" y="91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0"/>
          <p:cNvSpPr/>
          <p:nvPr/>
        </p:nvSpPr>
        <p:spPr>
          <a:xfrm>
            <a:off x="5808600" y="5400720"/>
            <a:ext cx="698400" cy="182520"/>
          </a:xfrm>
          <a:custGeom>
            <a:avLst/>
            <a:gdLst>
              <a:gd name="textAreaLeft" fmla="*/ 0 w 698400"/>
              <a:gd name="textAreaRight" fmla="*/ 698760 w 6984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40" h="115">
                <a:moveTo>
                  <a:pt x="0" y="115"/>
                </a:moveTo>
                <a:lnTo>
                  <a:pt x="79" y="79"/>
                </a:lnTo>
                <a:lnTo>
                  <a:pt x="136" y="67"/>
                </a:lnTo>
                <a:lnTo>
                  <a:pt x="166" y="56"/>
                </a:lnTo>
                <a:lnTo>
                  <a:pt x="200" y="34"/>
                </a:lnTo>
                <a:lnTo>
                  <a:pt x="320" y="20"/>
                </a:lnTo>
                <a:lnTo>
                  <a:pt x="440" y="0"/>
                </a:lnTo>
                <a:lnTo>
                  <a:pt x="411" y="54"/>
                </a:lnTo>
                <a:lnTo>
                  <a:pt x="293" y="77"/>
                </a:lnTo>
                <a:lnTo>
                  <a:pt x="136" y="84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11"/>
          <p:cNvSpPr/>
          <p:nvPr/>
        </p:nvSpPr>
        <p:spPr>
          <a:xfrm>
            <a:off x="5931000" y="5649840"/>
            <a:ext cx="669960" cy="173160"/>
          </a:xfrm>
          <a:custGeom>
            <a:avLst/>
            <a:gdLst/>
            <a:ahLst/>
            <a:rect l="l" t="t" r="r" b="b"/>
            <a:pathLst>
              <a:path w="422" h="109">
                <a:moveTo>
                  <a:pt x="0" y="0"/>
                </a:moveTo>
                <a:lnTo>
                  <a:pt x="77" y="45"/>
                </a:lnTo>
                <a:lnTo>
                  <a:pt x="196" y="59"/>
                </a:lnTo>
                <a:lnTo>
                  <a:pt x="328" y="40"/>
                </a:lnTo>
                <a:lnTo>
                  <a:pt x="408" y="11"/>
                </a:lnTo>
                <a:lnTo>
                  <a:pt x="422" y="55"/>
                </a:lnTo>
                <a:lnTo>
                  <a:pt x="375" y="88"/>
                </a:lnTo>
                <a:lnTo>
                  <a:pt x="311" y="109"/>
                </a:lnTo>
                <a:lnTo>
                  <a:pt x="341" y="78"/>
                </a:lnTo>
                <a:lnTo>
                  <a:pt x="330" y="68"/>
                </a:lnTo>
                <a:lnTo>
                  <a:pt x="278" y="73"/>
                </a:lnTo>
                <a:lnTo>
                  <a:pt x="199" y="84"/>
                </a:lnTo>
                <a:lnTo>
                  <a:pt x="143" y="81"/>
                </a:lnTo>
                <a:lnTo>
                  <a:pt x="91" y="70"/>
                </a:lnTo>
                <a:lnTo>
                  <a:pt x="48" y="4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12"/>
          <p:cNvSpPr/>
          <p:nvPr/>
        </p:nvSpPr>
        <p:spPr>
          <a:xfrm>
            <a:off x="6719760" y="5460840"/>
            <a:ext cx="111240" cy="130320"/>
          </a:xfrm>
          <a:custGeom>
            <a:avLst/>
            <a:gdLst>
              <a:gd name="textAreaLeft" fmla="*/ 0 w 111240"/>
              <a:gd name="textAreaRight" fmla="*/ 111600 w 1112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70" h="82">
                <a:moveTo>
                  <a:pt x="47" y="7"/>
                </a:moveTo>
                <a:lnTo>
                  <a:pt x="0" y="80"/>
                </a:lnTo>
                <a:lnTo>
                  <a:pt x="34" y="82"/>
                </a:lnTo>
                <a:lnTo>
                  <a:pt x="65" y="39"/>
                </a:lnTo>
                <a:lnTo>
                  <a:pt x="70" y="0"/>
                </a:lnTo>
                <a:lnTo>
                  <a:pt x="47" y="7"/>
                </a:lnTo>
                <a:lnTo>
                  <a:pt x="47" y="7"/>
                </a:lnTo>
                <a:lnTo>
                  <a:pt x="47" y="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13"/>
          <p:cNvSpPr/>
          <p:nvPr/>
        </p:nvSpPr>
        <p:spPr>
          <a:xfrm>
            <a:off x="5565600" y="5083200"/>
            <a:ext cx="317520" cy="584280"/>
          </a:xfrm>
          <a:custGeom>
            <a:avLst/>
            <a:gdLst>
              <a:gd name="textAreaLeft" fmla="*/ 0 w 317520"/>
              <a:gd name="textAreaRight" fmla="*/ 317880 w 31752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200" h="368">
                <a:moveTo>
                  <a:pt x="38" y="368"/>
                </a:moveTo>
                <a:lnTo>
                  <a:pt x="13" y="320"/>
                </a:lnTo>
                <a:lnTo>
                  <a:pt x="0" y="261"/>
                </a:lnTo>
                <a:lnTo>
                  <a:pt x="18" y="204"/>
                </a:lnTo>
                <a:lnTo>
                  <a:pt x="42" y="171"/>
                </a:lnTo>
                <a:lnTo>
                  <a:pt x="76" y="143"/>
                </a:lnTo>
                <a:lnTo>
                  <a:pt x="108" y="111"/>
                </a:lnTo>
                <a:lnTo>
                  <a:pt x="145" y="68"/>
                </a:lnTo>
                <a:lnTo>
                  <a:pt x="200" y="0"/>
                </a:lnTo>
                <a:lnTo>
                  <a:pt x="130" y="140"/>
                </a:lnTo>
                <a:lnTo>
                  <a:pt x="48" y="249"/>
                </a:lnTo>
                <a:lnTo>
                  <a:pt x="38" y="368"/>
                </a:lnTo>
                <a:lnTo>
                  <a:pt x="38" y="368"/>
                </a:lnTo>
                <a:lnTo>
                  <a:pt x="38" y="368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14"/>
          <p:cNvSpPr/>
          <p:nvPr/>
        </p:nvSpPr>
        <p:spPr>
          <a:xfrm>
            <a:off x="6676920" y="5078520"/>
            <a:ext cx="373320" cy="322200"/>
          </a:xfrm>
          <a:custGeom>
            <a:avLst/>
            <a:gdLst>
              <a:gd name="textAreaLeft" fmla="*/ 0 w 373320"/>
              <a:gd name="textAreaRight" fmla="*/ 373680 w 3733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35" h="203">
                <a:moveTo>
                  <a:pt x="0" y="0"/>
                </a:moveTo>
                <a:lnTo>
                  <a:pt x="67" y="29"/>
                </a:lnTo>
                <a:lnTo>
                  <a:pt x="120" y="56"/>
                </a:lnTo>
                <a:lnTo>
                  <a:pt x="184" y="81"/>
                </a:lnTo>
                <a:lnTo>
                  <a:pt x="229" y="116"/>
                </a:lnTo>
                <a:lnTo>
                  <a:pt x="235" y="158"/>
                </a:lnTo>
                <a:lnTo>
                  <a:pt x="208" y="203"/>
                </a:lnTo>
                <a:lnTo>
                  <a:pt x="189" y="135"/>
                </a:lnTo>
                <a:lnTo>
                  <a:pt x="110" y="86"/>
                </a:lnTo>
                <a:lnTo>
                  <a:pt x="56" y="59"/>
                </a:lnTo>
                <a:lnTo>
                  <a:pt x="11" y="1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15"/>
          <p:cNvSpPr/>
          <p:nvPr/>
        </p:nvSpPr>
        <p:spPr>
          <a:xfrm>
            <a:off x="6119640" y="4262400"/>
            <a:ext cx="544680" cy="1000080"/>
          </a:xfrm>
          <a:custGeom>
            <a:avLst/>
            <a:gdLst>
              <a:gd name="textAreaLeft" fmla="*/ 0 w 544680"/>
              <a:gd name="textAreaRight" fmla="*/ 545040 w 5446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43" h="630">
                <a:moveTo>
                  <a:pt x="294" y="0"/>
                </a:moveTo>
                <a:lnTo>
                  <a:pt x="251" y="0"/>
                </a:lnTo>
                <a:lnTo>
                  <a:pt x="215" y="25"/>
                </a:lnTo>
                <a:lnTo>
                  <a:pt x="186" y="63"/>
                </a:lnTo>
                <a:lnTo>
                  <a:pt x="167" y="75"/>
                </a:lnTo>
                <a:lnTo>
                  <a:pt x="147" y="64"/>
                </a:lnTo>
                <a:lnTo>
                  <a:pt x="128" y="34"/>
                </a:lnTo>
                <a:lnTo>
                  <a:pt x="102" y="75"/>
                </a:lnTo>
                <a:lnTo>
                  <a:pt x="72" y="146"/>
                </a:lnTo>
                <a:lnTo>
                  <a:pt x="60" y="215"/>
                </a:lnTo>
                <a:lnTo>
                  <a:pt x="68" y="324"/>
                </a:lnTo>
                <a:lnTo>
                  <a:pt x="114" y="467"/>
                </a:lnTo>
                <a:lnTo>
                  <a:pt x="140" y="521"/>
                </a:lnTo>
                <a:lnTo>
                  <a:pt x="189" y="470"/>
                </a:lnTo>
                <a:lnTo>
                  <a:pt x="215" y="464"/>
                </a:lnTo>
                <a:lnTo>
                  <a:pt x="241" y="472"/>
                </a:lnTo>
                <a:lnTo>
                  <a:pt x="260" y="503"/>
                </a:lnTo>
                <a:lnTo>
                  <a:pt x="258" y="532"/>
                </a:lnTo>
                <a:lnTo>
                  <a:pt x="230" y="543"/>
                </a:lnTo>
                <a:lnTo>
                  <a:pt x="143" y="551"/>
                </a:lnTo>
                <a:lnTo>
                  <a:pt x="105" y="581"/>
                </a:lnTo>
                <a:lnTo>
                  <a:pt x="59" y="609"/>
                </a:lnTo>
                <a:lnTo>
                  <a:pt x="0" y="619"/>
                </a:lnTo>
                <a:lnTo>
                  <a:pt x="42" y="630"/>
                </a:lnTo>
                <a:lnTo>
                  <a:pt x="111" y="630"/>
                </a:lnTo>
                <a:lnTo>
                  <a:pt x="213" y="598"/>
                </a:lnTo>
                <a:lnTo>
                  <a:pt x="276" y="598"/>
                </a:lnTo>
                <a:lnTo>
                  <a:pt x="325" y="579"/>
                </a:lnTo>
                <a:lnTo>
                  <a:pt x="343" y="545"/>
                </a:lnTo>
                <a:lnTo>
                  <a:pt x="343" y="491"/>
                </a:lnTo>
                <a:lnTo>
                  <a:pt x="284" y="420"/>
                </a:lnTo>
                <a:lnTo>
                  <a:pt x="219" y="333"/>
                </a:lnTo>
                <a:lnTo>
                  <a:pt x="186" y="219"/>
                </a:lnTo>
                <a:lnTo>
                  <a:pt x="213" y="146"/>
                </a:lnTo>
                <a:lnTo>
                  <a:pt x="197" y="128"/>
                </a:lnTo>
                <a:lnTo>
                  <a:pt x="234" y="78"/>
                </a:lnTo>
                <a:lnTo>
                  <a:pt x="219" y="76"/>
                </a:lnTo>
                <a:lnTo>
                  <a:pt x="251" y="30"/>
                </a:lnTo>
                <a:lnTo>
                  <a:pt x="294" y="0"/>
                </a:lnTo>
                <a:lnTo>
                  <a:pt x="294" y="0"/>
                </a:lnTo>
                <a:lnTo>
                  <a:pt x="294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16"/>
          <p:cNvSpPr/>
          <p:nvPr/>
        </p:nvSpPr>
        <p:spPr>
          <a:xfrm>
            <a:off x="4983120" y="3268800"/>
            <a:ext cx="1836720" cy="342252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157" h="2156">
                <a:moveTo>
                  <a:pt x="602" y="0"/>
                </a:moveTo>
                <a:lnTo>
                  <a:pt x="410" y="161"/>
                </a:lnTo>
                <a:lnTo>
                  <a:pt x="355" y="307"/>
                </a:lnTo>
                <a:lnTo>
                  <a:pt x="296" y="478"/>
                </a:lnTo>
                <a:lnTo>
                  <a:pt x="288" y="569"/>
                </a:lnTo>
                <a:lnTo>
                  <a:pt x="379" y="653"/>
                </a:lnTo>
                <a:lnTo>
                  <a:pt x="219" y="709"/>
                </a:lnTo>
                <a:lnTo>
                  <a:pt x="142" y="775"/>
                </a:lnTo>
                <a:lnTo>
                  <a:pt x="125" y="845"/>
                </a:lnTo>
                <a:lnTo>
                  <a:pt x="188" y="876"/>
                </a:lnTo>
                <a:lnTo>
                  <a:pt x="257" y="911"/>
                </a:lnTo>
                <a:lnTo>
                  <a:pt x="136" y="939"/>
                </a:lnTo>
                <a:lnTo>
                  <a:pt x="103" y="1005"/>
                </a:lnTo>
                <a:lnTo>
                  <a:pt x="121" y="1183"/>
                </a:lnTo>
                <a:lnTo>
                  <a:pt x="190" y="1399"/>
                </a:lnTo>
                <a:lnTo>
                  <a:pt x="265" y="1529"/>
                </a:lnTo>
                <a:lnTo>
                  <a:pt x="355" y="1650"/>
                </a:lnTo>
                <a:lnTo>
                  <a:pt x="470" y="1756"/>
                </a:lnTo>
                <a:lnTo>
                  <a:pt x="584" y="1842"/>
                </a:lnTo>
                <a:lnTo>
                  <a:pt x="794" y="1923"/>
                </a:lnTo>
                <a:lnTo>
                  <a:pt x="938" y="1927"/>
                </a:lnTo>
                <a:lnTo>
                  <a:pt x="1051" y="1905"/>
                </a:lnTo>
                <a:lnTo>
                  <a:pt x="1157" y="1868"/>
                </a:lnTo>
                <a:lnTo>
                  <a:pt x="1034" y="1934"/>
                </a:lnTo>
                <a:lnTo>
                  <a:pt x="853" y="1961"/>
                </a:lnTo>
                <a:lnTo>
                  <a:pt x="717" y="1982"/>
                </a:lnTo>
                <a:lnTo>
                  <a:pt x="763" y="2156"/>
                </a:lnTo>
                <a:lnTo>
                  <a:pt x="686" y="2142"/>
                </a:lnTo>
                <a:lnTo>
                  <a:pt x="278" y="1752"/>
                </a:lnTo>
                <a:lnTo>
                  <a:pt x="0" y="1291"/>
                </a:lnTo>
                <a:lnTo>
                  <a:pt x="45" y="604"/>
                </a:lnTo>
                <a:lnTo>
                  <a:pt x="314" y="42"/>
                </a:lnTo>
                <a:lnTo>
                  <a:pt x="602" y="0"/>
                </a:lnTo>
                <a:lnTo>
                  <a:pt x="602" y="0"/>
                </a:lnTo>
                <a:lnTo>
                  <a:pt x="602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17"/>
          <p:cNvSpPr/>
          <p:nvPr/>
        </p:nvSpPr>
        <p:spPr>
          <a:xfrm>
            <a:off x="5896080" y="3041640"/>
            <a:ext cx="1625400" cy="327348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3273480"/>
              <a:gd name="textAreaBottom" fmla="*/ 3273840 h 3273480"/>
            </a:gdLst>
            <a:ahLst/>
            <a:rect l="textAreaLeft" t="textAreaTop" r="textAreaRight" b="textAreaBottom"/>
            <a:pathLst>
              <a:path w="1024" h="2062">
                <a:moveTo>
                  <a:pt x="66" y="115"/>
                </a:moveTo>
                <a:lnTo>
                  <a:pt x="225" y="109"/>
                </a:lnTo>
                <a:lnTo>
                  <a:pt x="341" y="125"/>
                </a:lnTo>
                <a:lnTo>
                  <a:pt x="439" y="172"/>
                </a:lnTo>
                <a:lnTo>
                  <a:pt x="515" y="221"/>
                </a:lnTo>
                <a:lnTo>
                  <a:pt x="582" y="325"/>
                </a:lnTo>
                <a:lnTo>
                  <a:pt x="620" y="440"/>
                </a:lnTo>
                <a:lnTo>
                  <a:pt x="651" y="576"/>
                </a:lnTo>
                <a:lnTo>
                  <a:pt x="658" y="642"/>
                </a:lnTo>
                <a:lnTo>
                  <a:pt x="557" y="646"/>
                </a:lnTo>
                <a:lnTo>
                  <a:pt x="614" y="701"/>
                </a:lnTo>
                <a:lnTo>
                  <a:pt x="565" y="729"/>
                </a:lnTo>
                <a:lnTo>
                  <a:pt x="480" y="750"/>
                </a:lnTo>
                <a:lnTo>
                  <a:pt x="519" y="796"/>
                </a:lnTo>
                <a:lnTo>
                  <a:pt x="679" y="862"/>
                </a:lnTo>
                <a:lnTo>
                  <a:pt x="755" y="856"/>
                </a:lnTo>
                <a:lnTo>
                  <a:pt x="802" y="921"/>
                </a:lnTo>
                <a:lnTo>
                  <a:pt x="832" y="1027"/>
                </a:lnTo>
                <a:lnTo>
                  <a:pt x="843" y="1201"/>
                </a:lnTo>
                <a:lnTo>
                  <a:pt x="832" y="1372"/>
                </a:lnTo>
                <a:lnTo>
                  <a:pt x="832" y="1532"/>
                </a:lnTo>
                <a:lnTo>
                  <a:pt x="794" y="1654"/>
                </a:lnTo>
                <a:lnTo>
                  <a:pt x="661" y="1871"/>
                </a:lnTo>
                <a:lnTo>
                  <a:pt x="565" y="1962"/>
                </a:lnTo>
                <a:lnTo>
                  <a:pt x="442" y="2062"/>
                </a:lnTo>
                <a:lnTo>
                  <a:pt x="543" y="2062"/>
                </a:lnTo>
                <a:lnTo>
                  <a:pt x="802" y="1888"/>
                </a:lnTo>
                <a:lnTo>
                  <a:pt x="1024" y="1609"/>
                </a:lnTo>
                <a:lnTo>
                  <a:pt x="996" y="1148"/>
                </a:lnTo>
                <a:lnTo>
                  <a:pt x="871" y="604"/>
                </a:lnTo>
                <a:lnTo>
                  <a:pt x="679" y="143"/>
                </a:lnTo>
                <a:lnTo>
                  <a:pt x="456" y="4"/>
                </a:lnTo>
                <a:lnTo>
                  <a:pt x="229" y="0"/>
                </a:lnTo>
                <a:lnTo>
                  <a:pt x="0" y="60"/>
                </a:lnTo>
                <a:lnTo>
                  <a:pt x="66" y="115"/>
                </a:lnTo>
                <a:lnTo>
                  <a:pt x="66" y="115"/>
                </a:lnTo>
                <a:lnTo>
                  <a:pt x="66" y="115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18"/>
          <p:cNvSpPr/>
          <p:nvPr/>
        </p:nvSpPr>
        <p:spPr>
          <a:xfrm>
            <a:off x="7327800" y="3441600"/>
            <a:ext cx="1702080" cy="3203640"/>
          </a:xfrm>
          <a:custGeom>
            <a:avLst/>
            <a:gdLst>
              <a:gd name="textAreaLeft" fmla="*/ 0 w 1702080"/>
              <a:gd name="textAreaRight" fmla="*/ 1702440 w 170208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1072" h="2018">
                <a:moveTo>
                  <a:pt x="94" y="0"/>
                </a:moveTo>
                <a:lnTo>
                  <a:pt x="496" y="168"/>
                </a:lnTo>
                <a:lnTo>
                  <a:pt x="595" y="331"/>
                </a:lnTo>
                <a:lnTo>
                  <a:pt x="700" y="461"/>
                </a:lnTo>
                <a:lnTo>
                  <a:pt x="635" y="489"/>
                </a:lnTo>
                <a:lnTo>
                  <a:pt x="706" y="641"/>
                </a:lnTo>
                <a:lnTo>
                  <a:pt x="926" y="798"/>
                </a:lnTo>
                <a:lnTo>
                  <a:pt x="1061" y="1008"/>
                </a:lnTo>
                <a:lnTo>
                  <a:pt x="1072" y="1277"/>
                </a:lnTo>
                <a:lnTo>
                  <a:pt x="898" y="1697"/>
                </a:lnTo>
                <a:lnTo>
                  <a:pt x="973" y="2006"/>
                </a:lnTo>
                <a:lnTo>
                  <a:pt x="851" y="2018"/>
                </a:lnTo>
                <a:lnTo>
                  <a:pt x="688" y="1953"/>
                </a:lnTo>
                <a:lnTo>
                  <a:pt x="548" y="1825"/>
                </a:lnTo>
                <a:lnTo>
                  <a:pt x="36" y="1744"/>
                </a:lnTo>
                <a:lnTo>
                  <a:pt x="0" y="1633"/>
                </a:lnTo>
                <a:lnTo>
                  <a:pt x="82" y="1259"/>
                </a:lnTo>
                <a:lnTo>
                  <a:pt x="46" y="926"/>
                </a:lnTo>
                <a:lnTo>
                  <a:pt x="46" y="349"/>
                </a:lnTo>
                <a:lnTo>
                  <a:pt x="94" y="0"/>
                </a:lnTo>
                <a:lnTo>
                  <a:pt x="94" y="0"/>
                </a:lnTo>
                <a:lnTo>
                  <a:pt x="94" y="0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19"/>
          <p:cNvSpPr/>
          <p:nvPr/>
        </p:nvSpPr>
        <p:spPr>
          <a:xfrm>
            <a:off x="3768840" y="2347920"/>
            <a:ext cx="3384360" cy="432288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4322880"/>
              <a:gd name="textAreaBottom" fmla="*/ 4323240 h 4322880"/>
            </a:gdLst>
            <a:ahLst/>
            <a:rect l="textAreaLeft" t="textAreaTop" r="textAreaRight" b="textAreaBottom"/>
            <a:pathLst>
              <a:path w="2132" h="2723">
                <a:moveTo>
                  <a:pt x="302" y="992"/>
                </a:moveTo>
                <a:lnTo>
                  <a:pt x="634" y="321"/>
                </a:lnTo>
                <a:lnTo>
                  <a:pt x="850" y="204"/>
                </a:lnTo>
                <a:lnTo>
                  <a:pt x="1357" y="0"/>
                </a:lnTo>
                <a:lnTo>
                  <a:pt x="1829" y="12"/>
                </a:lnTo>
                <a:lnTo>
                  <a:pt x="2021" y="59"/>
                </a:lnTo>
                <a:lnTo>
                  <a:pt x="2109" y="176"/>
                </a:lnTo>
                <a:lnTo>
                  <a:pt x="2132" y="379"/>
                </a:lnTo>
                <a:lnTo>
                  <a:pt x="2067" y="624"/>
                </a:lnTo>
                <a:lnTo>
                  <a:pt x="1812" y="542"/>
                </a:lnTo>
                <a:lnTo>
                  <a:pt x="1683" y="449"/>
                </a:lnTo>
                <a:lnTo>
                  <a:pt x="1445" y="431"/>
                </a:lnTo>
                <a:lnTo>
                  <a:pt x="1106" y="619"/>
                </a:lnTo>
                <a:lnTo>
                  <a:pt x="867" y="1102"/>
                </a:lnTo>
                <a:lnTo>
                  <a:pt x="751" y="1628"/>
                </a:lnTo>
                <a:lnTo>
                  <a:pt x="1007" y="2450"/>
                </a:lnTo>
                <a:lnTo>
                  <a:pt x="815" y="2660"/>
                </a:lnTo>
                <a:lnTo>
                  <a:pt x="459" y="2723"/>
                </a:lnTo>
                <a:lnTo>
                  <a:pt x="46" y="2723"/>
                </a:lnTo>
                <a:lnTo>
                  <a:pt x="29" y="2549"/>
                </a:lnTo>
                <a:lnTo>
                  <a:pt x="0" y="2340"/>
                </a:lnTo>
                <a:lnTo>
                  <a:pt x="29" y="2223"/>
                </a:lnTo>
                <a:lnTo>
                  <a:pt x="64" y="2065"/>
                </a:lnTo>
                <a:lnTo>
                  <a:pt x="12" y="1908"/>
                </a:lnTo>
                <a:lnTo>
                  <a:pt x="29" y="1679"/>
                </a:lnTo>
                <a:lnTo>
                  <a:pt x="82" y="1563"/>
                </a:lnTo>
                <a:lnTo>
                  <a:pt x="46" y="1523"/>
                </a:lnTo>
                <a:lnTo>
                  <a:pt x="58" y="1441"/>
                </a:lnTo>
                <a:lnTo>
                  <a:pt x="186" y="1413"/>
                </a:lnTo>
                <a:lnTo>
                  <a:pt x="302" y="992"/>
                </a:lnTo>
                <a:lnTo>
                  <a:pt x="302" y="992"/>
                </a:lnTo>
                <a:lnTo>
                  <a:pt x="302" y="992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20"/>
          <p:cNvSpPr/>
          <p:nvPr/>
        </p:nvSpPr>
        <p:spPr>
          <a:xfrm>
            <a:off x="5057640" y="2562120"/>
            <a:ext cx="1285920" cy="419040"/>
          </a:xfrm>
          <a:custGeom>
            <a:avLst/>
            <a:gdLst>
              <a:gd name="textAreaLeft" fmla="*/ 0 w 1285920"/>
              <a:gd name="textAreaRight" fmla="*/ 1286280 w 1285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10" h="264">
                <a:moveTo>
                  <a:pt x="0" y="217"/>
                </a:moveTo>
                <a:lnTo>
                  <a:pt x="195" y="264"/>
                </a:lnTo>
                <a:lnTo>
                  <a:pt x="439" y="264"/>
                </a:lnTo>
                <a:lnTo>
                  <a:pt x="567" y="259"/>
                </a:lnTo>
                <a:lnTo>
                  <a:pt x="728" y="190"/>
                </a:lnTo>
                <a:lnTo>
                  <a:pt x="447" y="198"/>
                </a:lnTo>
                <a:lnTo>
                  <a:pt x="358" y="162"/>
                </a:lnTo>
                <a:lnTo>
                  <a:pt x="518" y="136"/>
                </a:lnTo>
                <a:lnTo>
                  <a:pt x="653" y="82"/>
                </a:lnTo>
                <a:lnTo>
                  <a:pt x="810" y="0"/>
                </a:lnTo>
                <a:lnTo>
                  <a:pt x="366" y="13"/>
                </a:lnTo>
                <a:lnTo>
                  <a:pt x="177" y="52"/>
                </a:lnTo>
                <a:lnTo>
                  <a:pt x="417" y="82"/>
                </a:lnTo>
                <a:lnTo>
                  <a:pt x="170" y="106"/>
                </a:lnTo>
                <a:lnTo>
                  <a:pt x="358" y="205"/>
                </a:lnTo>
                <a:lnTo>
                  <a:pt x="131" y="205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21"/>
          <p:cNvSpPr/>
          <p:nvPr/>
        </p:nvSpPr>
        <p:spPr>
          <a:xfrm>
            <a:off x="5735520" y="2357280"/>
            <a:ext cx="959040" cy="171720"/>
          </a:xfrm>
          <a:custGeom>
            <a:avLst/>
            <a:gdLst>
              <a:gd name="textAreaLeft" fmla="*/ 0 w 959040"/>
              <a:gd name="textAreaRight" fmla="*/ 959400 w 959040"/>
              <a:gd name="textAreaTop" fmla="*/ 0 h 171720"/>
              <a:gd name="textAreaBottom" fmla="*/ 171720 h 171720"/>
            </a:gdLst>
            <a:ahLst/>
            <a:rect l="textAreaLeft" t="textAreaTop" r="textAreaRight" b="textAreaBottom"/>
            <a:pathLst>
              <a:path w="604" h="108">
                <a:moveTo>
                  <a:pt x="93" y="73"/>
                </a:moveTo>
                <a:lnTo>
                  <a:pt x="350" y="64"/>
                </a:lnTo>
                <a:lnTo>
                  <a:pt x="449" y="57"/>
                </a:lnTo>
                <a:lnTo>
                  <a:pt x="545" y="83"/>
                </a:lnTo>
                <a:lnTo>
                  <a:pt x="599" y="108"/>
                </a:lnTo>
                <a:lnTo>
                  <a:pt x="604" y="41"/>
                </a:lnTo>
                <a:lnTo>
                  <a:pt x="295" y="0"/>
                </a:lnTo>
                <a:lnTo>
                  <a:pt x="101" y="19"/>
                </a:lnTo>
                <a:lnTo>
                  <a:pt x="0" y="62"/>
                </a:lnTo>
                <a:lnTo>
                  <a:pt x="93" y="73"/>
                </a:lnTo>
                <a:lnTo>
                  <a:pt x="93" y="73"/>
                </a:lnTo>
                <a:lnTo>
                  <a:pt x="93" y="7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22"/>
          <p:cNvSpPr/>
          <p:nvPr/>
        </p:nvSpPr>
        <p:spPr>
          <a:xfrm>
            <a:off x="4738680" y="2871720"/>
            <a:ext cx="716040" cy="407880"/>
          </a:xfrm>
          <a:custGeom>
            <a:avLst/>
            <a:gdLst>
              <a:gd name="textAreaLeft" fmla="*/ 0 w 716040"/>
              <a:gd name="textAreaRight" fmla="*/ 716040 w 71604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451" h="257">
                <a:moveTo>
                  <a:pt x="0" y="15"/>
                </a:moveTo>
                <a:lnTo>
                  <a:pt x="88" y="121"/>
                </a:lnTo>
                <a:lnTo>
                  <a:pt x="155" y="177"/>
                </a:lnTo>
                <a:lnTo>
                  <a:pt x="229" y="216"/>
                </a:lnTo>
                <a:lnTo>
                  <a:pt x="337" y="257"/>
                </a:lnTo>
                <a:lnTo>
                  <a:pt x="451" y="257"/>
                </a:lnTo>
                <a:lnTo>
                  <a:pt x="337" y="216"/>
                </a:lnTo>
                <a:lnTo>
                  <a:pt x="194" y="149"/>
                </a:lnTo>
                <a:lnTo>
                  <a:pt x="93" y="69"/>
                </a:lnTo>
                <a:lnTo>
                  <a:pt x="20" y="0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23"/>
          <p:cNvSpPr/>
          <p:nvPr/>
        </p:nvSpPr>
        <p:spPr>
          <a:xfrm>
            <a:off x="4408560" y="3129120"/>
            <a:ext cx="498240" cy="728640"/>
          </a:xfrm>
          <a:custGeom>
            <a:avLst/>
            <a:gdLst>
              <a:gd name="textAreaLeft" fmla="*/ 0 w 498240"/>
              <a:gd name="textAreaRight" fmla="*/ 498240 w 498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314" h="459">
                <a:moveTo>
                  <a:pt x="201" y="0"/>
                </a:moveTo>
                <a:lnTo>
                  <a:pt x="275" y="125"/>
                </a:lnTo>
                <a:lnTo>
                  <a:pt x="314" y="206"/>
                </a:lnTo>
                <a:lnTo>
                  <a:pt x="314" y="260"/>
                </a:lnTo>
                <a:lnTo>
                  <a:pt x="253" y="349"/>
                </a:lnTo>
                <a:lnTo>
                  <a:pt x="0" y="459"/>
                </a:lnTo>
                <a:lnTo>
                  <a:pt x="108" y="267"/>
                </a:lnTo>
                <a:lnTo>
                  <a:pt x="201" y="0"/>
                </a:lnTo>
                <a:lnTo>
                  <a:pt x="201" y="0"/>
                </a:lnTo>
                <a:lnTo>
                  <a:pt x="201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24"/>
          <p:cNvSpPr/>
          <p:nvPr/>
        </p:nvSpPr>
        <p:spPr>
          <a:xfrm>
            <a:off x="4984920" y="3352680"/>
            <a:ext cx="190440" cy="470160"/>
          </a:xfrm>
          <a:custGeom>
            <a:avLst/>
            <a:gdLst>
              <a:gd name="textAreaLeft" fmla="*/ 0 w 190440"/>
              <a:gd name="textAreaRight" fmla="*/ 190800 w 1904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20" h="296">
                <a:moveTo>
                  <a:pt x="120" y="38"/>
                </a:moveTo>
                <a:lnTo>
                  <a:pt x="79" y="108"/>
                </a:lnTo>
                <a:lnTo>
                  <a:pt x="66" y="175"/>
                </a:lnTo>
                <a:lnTo>
                  <a:pt x="92" y="254"/>
                </a:lnTo>
                <a:lnTo>
                  <a:pt x="92" y="296"/>
                </a:lnTo>
                <a:lnTo>
                  <a:pt x="46" y="270"/>
                </a:lnTo>
                <a:lnTo>
                  <a:pt x="5" y="180"/>
                </a:lnTo>
                <a:lnTo>
                  <a:pt x="0" y="41"/>
                </a:lnTo>
                <a:lnTo>
                  <a:pt x="59" y="0"/>
                </a:lnTo>
                <a:lnTo>
                  <a:pt x="120" y="38"/>
                </a:lnTo>
                <a:lnTo>
                  <a:pt x="120" y="38"/>
                </a:lnTo>
                <a:lnTo>
                  <a:pt x="120" y="3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25"/>
          <p:cNvSpPr/>
          <p:nvPr/>
        </p:nvSpPr>
        <p:spPr>
          <a:xfrm>
            <a:off x="7634160" y="3557520"/>
            <a:ext cx="311400" cy="938160"/>
          </a:xfrm>
          <a:custGeom>
            <a:avLst/>
            <a:gdLst>
              <a:gd name="textAreaLeft" fmla="*/ 0 w 311400"/>
              <a:gd name="textAreaRight" fmla="*/ 311760 w 311400"/>
              <a:gd name="textAreaTop" fmla="*/ 0 h 938160"/>
              <a:gd name="textAreaBottom" fmla="*/ 938160 h 938160"/>
            </a:gdLst>
            <a:ahLst/>
            <a:rect l="textAreaLeft" t="textAreaTop" r="textAreaRight" b="textAreaBottom"/>
            <a:pathLst>
              <a:path w="196" h="591">
                <a:moveTo>
                  <a:pt x="19" y="0"/>
                </a:moveTo>
                <a:lnTo>
                  <a:pt x="106" y="118"/>
                </a:lnTo>
                <a:lnTo>
                  <a:pt x="123" y="189"/>
                </a:lnTo>
                <a:lnTo>
                  <a:pt x="100" y="254"/>
                </a:lnTo>
                <a:lnTo>
                  <a:pt x="78" y="155"/>
                </a:lnTo>
                <a:lnTo>
                  <a:pt x="0" y="88"/>
                </a:lnTo>
                <a:lnTo>
                  <a:pt x="31" y="195"/>
                </a:lnTo>
                <a:lnTo>
                  <a:pt x="63" y="254"/>
                </a:lnTo>
                <a:lnTo>
                  <a:pt x="59" y="320"/>
                </a:lnTo>
                <a:lnTo>
                  <a:pt x="33" y="424"/>
                </a:lnTo>
                <a:lnTo>
                  <a:pt x="33" y="483"/>
                </a:lnTo>
                <a:lnTo>
                  <a:pt x="58" y="542"/>
                </a:lnTo>
                <a:lnTo>
                  <a:pt x="117" y="591"/>
                </a:lnTo>
                <a:lnTo>
                  <a:pt x="122" y="415"/>
                </a:lnTo>
                <a:lnTo>
                  <a:pt x="196" y="214"/>
                </a:lnTo>
                <a:lnTo>
                  <a:pt x="150" y="90"/>
                </a:lnTo>
                <a:lnTo>
                  <a:pt x="87" y="36"/>
                </a:ln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26"/>
          <p:cNvSpPr/>
          <p:nvPr/>
        </p:nvSpPr>
        <p:spPr>
          <a:xfrm>
            <a:off x="8310600" y="4255920"/>
            <a:ext cx="727200" cy="1162080"/>
          </a:xfrm>
          <a:custGeom>
            <a:avLst/>
            <a:gdLst>
              <a:gd name="textAreaLeft" fmla="*/ 0 w 727200"/>
              <a:gd name="textAreaRight" fmla="*/ 727560 w 72720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458" h="732">
                <a:moveTo>
                  <a:pt x="8" y="0"/>
                </a:moveTo>
                <a:lnTo>
                  <a:pt x="0" y="96"/>
                </a:lnTo>
                <a:lnTo>
                  <a:pt x="16" y="181"/>
                </a:lnTo>
                <a:lnTo>
                  <a:pt x="110" y="262"/>
                </a:lnTo>
                <a:lnTo>
                  <a:pt x="183" y="321"/>
                </a:lnTo>
                <a:lnTo>
                  <a:pt x="183" y="280"/>
                </a:lnTo>
                <a:lnTo>
                  <a:pt x="314" y="390"/>
                </a:lnTo>
                <a:lnTo>
                  <a:pt x="376" y="501"/>
                </a:lnTo>
                <a:lnTo>
                  <a:pt x="423" y="609"/>
                </a:lnTo>
                <a:lnTo>
                  <a:pt x="435" y="732"/>
                </a:lnTo>
                <a:lnTo>
                  <a:pt x="458" y="595"/>
                </a:lnTo>
                <a:lnTo>
                  <a:pt x="431" y="474"/>
                </a:lnTo>
                <a:lnTo>
                  <a:pt x="360" y="366"/>
                </a:lnTo>
                <a:lnTo>
                  <a:pt x="227" y="231"/>
                </a:lnTo>
                <a:lnTo>
                  <a:pt x="77" y="72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27"/>
          <p:cNvSpPr/>
          <p:nvPr/>
        </p:nvSpPr>
        <p:spPr>
          <a:xfrm>
            <a:off x="8516880" y="4824360"/>
            <a:ext cx="285840" cy="830160"/>
          </a:xfrm>
          <a:custGeom>
            <a:avLst/>
            <a:gdLst>
              <a:gd name="textAreaLeft" fmla="*/ 0 w 285840"/>
              <a:gd name="textAreaRight" fmla="*/ 286200 w 285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80" h="523">
                <a:moveTo>
                  <a:pt x="98" y="0"/>
                </a:moveTo>
                <a:lnTo>
                  <a:pt x="156" y="93"/>
                </a:lnTo>
                <a:lnTo>
                  <a:pt x="180" y="278"/>
                </a:lnTo>
                <a:lnTo>
                  <a:pt x="112" y="433"/>
                </a:lnTo>
                <a:lnTo>
                  <a:pt x="0" y="523"/>
                </a:lnTo>
                <a:lnTo>
                  <a:pt x="80" y="351"/>
                </a:lnTo>
                <a:lnTo>
                  <a:pt x="119" y="225"/>
                </a:lnTo>
                <a:lnTo>
                  <a:pt x="117" y="149"/>
                </a:lnTo>
                <a:lnTo>
                  <a:pt x="98" y="0"/>
                </a:lnTo>
                <a:lnTo>
                  <a:pt x="98" y="0"/>
                </a:lnTo>
                <a:lnTo>
                  <a:pt x="98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28"/>
          <p:cNvSpPr/>
          <p:nvPr/>
        </p:nvSpPr>
        <p:spPr>
          <a:xfrm>
            <a:off x="3935520" y="4514760"/>
            <a:ext cx="581040" cy="308160"/>
          </a:xfrm>
          <a:custGeom>
            <a:avLst/>
            <a:gdLst>
              <a:gd name="textAreaLeft" fmla="*/ 0 w 581040"/>
              <a:gd name="textAreaRight" fmla="*/ 581400 w 58104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366" h="194">
                <a:moveTo>
                  <a:pt x="0" y="111"/>
                </a:moveTo>
                <a:lnTo>
                  <a:pt x="48" y="167"/>
                </a:lnTo>
                <a:lnTo>
                  <a:pt x="114" y="194"/>
                </a:lnTo>
                <a:lnTo>
                  <a:pt x="192" y="194"/>
                </a:lnTo>
                <a:lnTo>
                  <a:pt x="259" y="161"/>
                </a:lnTo>
                <a:lnTo>
                  <a:pt x="329" y="108"/>
                </a:lnTo>
                <a:lnTo>
                  <a:pt x="366" y="0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29"/>
          <p:cNvSpPr/>
          <p:nvPr/>
        </p:nvSpPr>
        <p:spPr>
          <a:xfrm>
            <a:off x="3747960" y="4869000"/>
            <a:ext cx="254160" cy="806400"/>
          </a:xfrm>
          <a:custGeom>
            <a:avLst/>
            <a:gdLst>
              <a:gd name="textAreaLeft" fmla="*/ 0 w 254160"/>
              <a:gd name="textAreaRight" fmla="*/ 254520 w 2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60" h="508">
                <a:moveTo>
                  <a:pt x="134" y="508"/>
                </a:moveTo>
                <a:lnTo>
                  <a:pt x="160" y="471"/>
                </a:lnTo>
                <a:lnTo>
                  <a:pt x="86" y="365"/>
                </a:lnTo>
                <a:lnTo>
                  <a:pt x="77" y="264"/>
                </a:lnTo>
                <a:lnTo>
                  <a:pt x="86" y="195"/>
                </a:lnTo>
                <a:lnTo>
                  <a:pt x="127" y="0"/>
                </a:lnTo>
                <a:lnTo>
                  <a:pt x="80" y="21"/>
                </a:lnTo>
                <a:lnTo>
                  <a:pt x="0" y="195"/>
                </a:lnTo>
                <a:lnTo>
                  <a:pt x="17" y="445"/>
                </a:lnTo>
                <a:lnTo>
                  <a:pt x="134" y="508"/>
                </a:lnTo>
                <a:lnTo>
                  <a:pt x="134" y="508"/>
                </a:lnTo>
                <a:lnTo>
                  <a:pt x="134" y="50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30"/>
          <p:cNvSpPr/>
          <p:nvPr/>
        </p:nvSpPr>
        <p:spPr>
          <a:xfrm>
            <a:off x="4071960" y="5086440"/>
            <a:ext cx="361800" cy="503280"/>
          </a:xfrm>
          <a:custGeom>
            <a:avLst/>
            <a:gdLst>
              <a:gd name="textAreaLeft" fmla="*/ 0 w 361800"/>
              <a:gd name="textAreaRight" fmla="*/ 362160 w 3618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28" h="317">
                <a:moveTo>
                  <a:pt x="56" y="200"/>
                </a:moveTo>
                <a:lnTo>
                  <a:pt x="0" y="317"/>
                </a:lnTo>
                <a:lnTo>
                  <a:pt x="52" y="311"/>
                </a:lnTo>
                <a:lnTo>
                  <a:pt x="151" y="251"/>
                </a:lnTo>
                <a:lnTo>
                  <a:pt x="200" y="172"/>
                </a:lnTo>
                <a:lnTo>
                  <a:pt x="228" y="67"/>
                </a:lnTo>
                <a:lnTo>
                  <a:pt x="207" y="0"/>
                </a:lnTo>
                <a:lnTo>
                  <a:pt x="56" y="200"/>
                </a:lnTo>
                <a:lnTo>
                  <a:pt x="56" y="200"/>
                </a:lnTo>
                <a:lnTo>
                  <a:pt x="56" y="20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31"/>
          <p:cNvSpPr/>
          <p:nvPr/>
        </p:nvSpPr>
        <p:spPr>
          <a:xfrm>
            <a:off x="4486320" y="5321160"/>
            <a:ext cx="158760" cy="658800"/>
          </a:xfrm>
          <a:custGeom>
            <a:avLst/>
            <a:gdLst>
              <a:gd name="textAreaLeft" fmla="*/ 0 w 158760"/>
              <a:gd name="textAreaRight" fmla="*/ 159120 w 15876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00" h="415">
                <a:moveTo>
                  <a:pt x="66" y="0"/>
                </a:moveTo>
                <a:lnTo>
                  <a:pt x="77" y="176"/>
                </a:lnTo>
                <a:lnTo>
                  <a:pt x="40" y="247"/>
                </a:lnTo>
                <a:lnTo>
                  <a:pt x="13" y="189"/>
                </a:lnTo>
                <a:lnTo>
                  <a:pt x="0" y="292"/>
                </a:lnTo>
                <a:lnTo>
                  <a:pt x="66" y="415"/>
                </a:lnTo>
                <a:lnTo>
                  <a:pt x="100" y="243"/>
                </a:lnTo>
                <a:lnTo>
                  <a:pt x="100" y="73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32"/>
          <p:cNvSpPr/>
          <p:nvPr/>
        </p:nvSpPr>
        <p:spPr>
          <a:xfrm>
            <a:off x="3954600" y="6094440"/>
            <a:ext cx="241200" cy="392040"/>
          </a:xfrm>
          <a:custGeom>
            <a:avLst/>
            <a:gdLst>
              <a:gd name="textAreaLeft" fmla="*/ 0 w 241200"/>
              <a:gd name="textAreaRight" fmla="*/ 241560 w 24120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152" h="247">
                <a:moveTo>
                  <a:pt x="91" y="6"/>
                </a:moveTo>
                <a:lnTo>
                  <a:pt x="10" y="53"/>
                </a:lnTo>
                <a:lnTo>
                  <a:pt x="20" y="133"/>
                </a:lnTo>
                <a:lnTo>
                  <a:pt x="41" y="187"/>
                </a:lnTo>
                <a:lnTo>
                  <a:pt x="0" y="247"/>
                </a:lnTo>
                <a:lnTo>
                  <a:pt x="74" y="193"/>
                </a:lnTo>
                <a:lnTo>
                  <a:pt x="80" y="126"/>
                </a:lnTo>
                <a:lnTo>
                  <a:pt x="114" y="73"/>
                </a:lnTo>
                <a:lnTo>
                  <a:pt x="152" y="0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33"/>
          <p:cNvSpPr/>
          <p:nvPr/>
        </p:nvSpPr>
        <p:spPr>
          <a:xfrm>
            <a:off x="7658280" y="4645080"/>
            <a:ext cx="568080" cy="942840"/>
          </a:xfrm>
          <a:custGeom>
            <a:avLst/>
            <a:gdLst>
              <a:gd name="textAreaLeft" fmla="*/ 0 w 568080"/>
              <a:gd name="textAreaRight" fmla="*/ 568440 w 56808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358" h="594">
                <a:moveTo>
                  <a:pt x="0" y="0"/>
                </a:moveTo>
                <a:lnTo>
                  <a:pt x="123" y="127"/>
                </a:lnTo>
                <a:lnTo>
                  <a:pt x="215" y="204"/>
                </a:lnTo>
                <a:lnTo>
                  <a:pt x="312" y="286"/>
                </a:lnTo>
                <a:lnTo>
                  <a:pt x="358" y="378"/>
                </a:lnTo>
                <a:lnTo>
                  <a:pt x="320" y="460"/>
                </a:lnTo>
                <a:lnTo>
                  <a:pt x="247" y="554"/>
                </a:lnTo>
                <a:lnTo>
                  <a:pt x="88" y="594"/>
                </a:lnTo>
                <a:lnTo>
                  <a:pt x="195" y="426"/>
                </a:lnTo>
                <a:lnTo>
                  <a:pt x="119" y="248"/>
                </a:lnTo>
                <a:lnTo>
                  <a:pt x="12" y="13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34"/>
          <p:cNvSpPr/>
          <p:nvPr/>
        </p:nvSpPr>
        <p:spPr>
          <a:xfrm>
            <a:off x="7413480" y="5076720"/>
            <a:ext cx="335160" cy="347760"/>
          </a:xfrm>
          <a:custGeom>
            <a:avLst/>
            <a:gdLst>
              <a:gd name="textAreaLeft" fmla="*/ 0 w 335160"/>
              <a:gd name="textAreaRight" fmla="*/ 335520 w 3351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211" h="219">
                <a:moveTo>
                  <a:pt x="0" y="4"/>
                </a:moveTo>
                <a:lnTo>
                  <a:pt x="11" y="77"/>
                </a:lnTo>
                <a:lnTo>
                  <a:pt x="68" y="72"/>
                </a:lnTo>
                <a:lnTo>
                  <a:pt x="134" y="107"/>
                </a:lnTo>
                <a:lnTo>
                  <a:pt x="150" y="219"/>
                </a:lnTo>
                <a:lnTo>
                  <a:pt x="211" y="169"/>
                </a:lnTo>
                <a:lnTo>
                  <a:pt x="196" y="66"/>
                </a:lnTo>
                <a:lnTo>
                  <a:pt x="119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35"/>
          <p:cNvSpPr/>
          <p:nvPr/>
        </p:nvSpPr>
        <p:spPr>
          <a:xfrm>
            <a:off x="6676920" y="2357280"/>
            <a:ext cx="389160" cy="673200"/>
          </a:xfrm>
          <a:custGeom>
            <a:avLst/>
            <a:gdLst>
              <a:gd name="textAreaLeft" fmla="*/ 0 w 389160"/>
              <a:gd name="textAreaRight" fmla="*/ 389520 w 38916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245" h="424">
                <a:moveTo>
                  <a:pt x="0" y="18"/>
                </a:moveTo>
                <a:lnTo>
                  <a:pt x="73" y="77"/>
                </a:lnTo>
                <a:lnTo>
                  <a:pt x="126" y="135"/>
                </a:lnTo>
                <a:lnTo>
                  <a:pt x="137" y="191"/>
                </a:lnTo>
                <a:lnTo>
                  <a:pt x="137" y="287"/>
                </a:lnTo>
                <a:lnTo>
                  <a:pt x="180" y="228"/>
                </a:lnTo>
                <a:lnTo>
                  <a:pt x="165" y="309"/>
                </a:lnTo>
                <a:lnTo>
                  <a:pt x="142" y="424"/>
                </a:lnTo>
                <a:lnTo>
                  <a:pt x="213" y="315"/>
                </a:lnTo>
                <a:lnTo>
                  <a:pt x="245" y="228"/>
                </a:lnTo>
                <a:lnTo>
                  <a:pt x="191" y="92"/>
                </a:lnTo>
                <a:lnTo>
                  <a:pt x="41" y="0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36"/>
          <p:cNvSpPr/>
          <p:nvPr/>
        </p:nvSpPr>
        <p:spPr>
          <a:xfrm>
            <a:off x="6308640" y="4003560"/>
            <a:ext cx="773280" cy="236520"/>
          </a:xfrm>
          <a:custGeom>
            <a:avLst/>
            <a:gdLst>
              <a:gd name="textAreaLeft" fmla="*/ 0 w 773280"/>
              <a:gd name="textAreaRight" fmla="*/ 773640 w 773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87" h="149">
                <a:moveTo>
                  <a:pt x="0" y="149"/>
                </a:moveTo>
                <a:lnTo>
                  <a:pt x="55" y="139"/>
                </a:lnTo>
                <a:lnTo>
                  <a:pt x="109" y="120"/>
                </a:lnTo>
                <a:lnTo>
                  <a:pt x="226" y="69"/>
                </a:lnTo>
                <a:lnTo>
                  <a:pt x="288" y="54"/>
                </a:lnTo>
                <a:lnTo>
                  <a:pt x="371" y="57"/>
                </a:lnTo>
                <a:lnTo>
                  <a:pt x="437" y="80"/>
                </a:lnTo>
                <a:lnTo>
                  <a:pt x="487" y="113"/>
                </a:lnTo>
                <a:lnTo>
                  <a:pt x="475" y="88"/>
                </a:lnTo>
                <a:lnTo>
                  <a:pt x="484" y="59"/>
                </a:lnTo>
                <a:lnTo>
                  <a:pt x="446" y="61"/>
                </a:lnTo>
                <a:lnTo>
                  <a:pt x="419" y="57"/>
                </a:lnTo>
                <a:lnTo>
                  <a:pt x="419" y="33"/>
                </a:lnTo>
                <a:lnTo>
                  <a:pt x="352" y="7"/>
                </a:lnTo>
                <a:lnTo>
                  <a:pt x="288" y="0"/>
                </a:lnTo>
                <a:lnTo>
                  <a:pt x="222" y="5"/>
                </a:lnTo>
                <a:lnTo>
                  <a:pt x="168" y="29"/>
                </a:lnTo>
                <a:lnTo>
                  <a:pt x="76" y="46"/>
                </a:lnTo>
                <a:lnTo>
                  <a:pt x="23" y="92"/>
                </a:lnTo>
                <a:lnTo>
                  <a:pt x="9" y="125"/>
                </a:lnTo>
                <a:lnTo>
                  <a:pt x="0" y="149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37"/>
          <p:cNvSpPr/>
          <p:nvPr/>
        </p:nvSpPr>
        <p:spPr>
          <a:xfrm>
            <a:off x="5145120" y="4273560"/>
            <a:ext cx="600120" cy="223920"/>
          </a:xfrm>
          <a:custGeom>
            <a:avLst/>
            <a:gdLst>
              <a:gd name="textAreaLeft" fmla="*/ 0 w 600120"/>
              <a:gd name="textAreaRight" fmla="*/ 600480 w 6001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378" h="141">
                <a:moveTo>
                  <a:pt x="346" y="52"/>
                </a:moveTo>
                <a:lnTo>
                  <a:pt x="295" y="66"/>
                </a:lnTo>
                <a:lnTo>
                  <a:pt x="212" y="64"/>
                </a:lnTo>
                <a:lnTo>
                  <a:pt x="156" y="64"/>
                </a:lnTo>
                <a:lnTo>
                  <a:pt x="100" y="74"/>
                </a:lnTo>
                <a:lnTo>
                  <a:pt x="32" y="109"/>
                </a:lnTo>
                <a:lnTo>
                  <a:pt x="0" y="141"/>
                </a:lnTo>
                <a:lnTo>
                  <a:pt x="32" y="74"/>
                </a:lnTo>
                <a:lnTo>
                  <a:pt x="97" y="31"/>
                </a:lnTo>
                <a:lnTo>
                  <a:pt x="171" y="23"/>
                </a:lnTo>
                <a:lnTo>
                  <a:pt x="202" y="7"/>
                </a:lnTo>
                <a:lnTo>
                  <a:pt x="292" y="0"/>
                </a:lnTo>
                <a:lnTo>
                  <a:pt x="343" y="10"/>
                </a:lnTo>
                <a:lnTo>
                  <a:pt x="378" y="33"/>
                </a:lnTo>
                <a:lnTo>
                  <a:pt x="346" y="52"/>
                </a:lnTo>
                <a:lnTo>
                  <a:pt x="346" y="52"/>
                </a:lnTo>
                <a:lnTo>
                  <a:pt x="346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38"/>
          <p:cNvSpPr/>
          <p:nvPr/>
        </p:nvSpPr>
        <p:spPr>
          <a:xfrm>
            <a:off x="6165720" y="4254480"/>
            <a:ext cx="481320" cy="1008000"/>
          </a:xfrm>
          <a:custGeom>
            <a:avLst/>
            <a:gdLst>
              <a:gd name="textAreaLeft" fmla="*/ 0 w 481320"/>
              <a:gd name="textAreaRight" fmla="*/ 481680 w 4813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303" h="635">
                <a:moveTo>
                  <a:pt x="281" y="0"/>
                </a:moveTo>
                <a:lnTo>
                  <a:pt x="220" y="35"/>
                </a:lnTo>
                <a:lnTo>
                  <a:pt x="166" y="86"/>
                </a:lnTo>
                <a:lnTo>
                  <a:pt x="145" y="116"/>
                </a:lnTo>
                <a:lnTo>
                  <a:pt x="150" y="155"/>
                </a:lnTo>
                <a:lnTo>
                  <a:pt x="116" y="153"/>
                </a:lnTo>
                <a:lnTo>
                  <a:pt x="118" y="191"/>
                </a:lnTo>
                <a:lnTo>
                  <a:pt x="160" y="317"/>
                </a:lnTo>
                <a:lnTo>
                  <a:pt x="196" y="394"/>
                </a:lnTo>
                <a:lnTo>
                  <a:pt x="260" y="449"/>
                </a:lnTo>
                <a:lnTo>
                  <a:pt x="303" y="512"/>
                </a:lnTo>
                <a:lnTo>
                  <a:pt x="286" y="577"/>
                </a:lnTo>
                <a:lnTo>
                  <a:pt x="236" y="597"/>
                </a:lnTo>
                <a:lnTo>
                  <a:pt x="191" y="593"/>
                </a:lnTo>
                <a:lnTo>
                  <a:pt x="78" y="635"/>
                </a:lnTo>
                <a:lnTo>
                  <a:pt x="0" y="635"/>
                </a:lnTo>
                <a:lnTo>
                  <a:pt x="54" y="617"/>
                </a:lnTo>
                <a:lnTo>
                  <a:pt x="83" y="595"/>
                </a:lnTo>
                <a:lnTo>
                  <a:pt x="104" y="574"/>
                </a:lnTo>
                <a:lnTo>
                  <a:pt x="128" y="566"/>
                </a:lnTo>
                <a:lnTo>
                  <a:pt x="175" y="558"/>
                </a:lnTo>
                <a:lnTo>
                  <a:pt x="241" y="558"/>
                </a:lnTo>
                <a:lnTo>
                  <a:pt x="263" y="531"/>
                </a:lnTo>
                <a:lnTo>
                  <a:pt x="263" y="491"/>
                </a:lnTo>
                <a:lnTo>
                  <a:pt x="241" y="456"/>
                </a:lnTo>
                <a:lnTo>
                  <a:pt x="217" y="440"/>
                </a:lnTo>
                <a:lnTo>
                  <a:pt x="185" y="435"/>
                </a:lnTo>
                <a:lnTo>
                  <a:pt x="124" y="494"/>
                </a:lnTo>
                <a:lnTo>
                  <a:pt x="99" y="437"/>
                </a:lnTo>
                <a:lnTo>
                  <a:pt x="72" y="331"/>
                </a:lnTo>
                <a:lnTo>
                  <a:pt x="64" y="206"/>
                </a:lnTo>
                <a:lnTo>
                  <a:pt x="62" y="155"/>
                </a:lnTo>
                <a:lnTo>
                  <a:pt x="73" y="113"/>
                </a:lnTo>
                <a:lnTo>
                  <a:pt x="99" y="70"/>
                </a:lnTo>
                <a:lnTo>
                  <a:pt x="109" y="92"/>
                </a:lnTo>
                <a:lnTo>
                  <a:pt x="128" y="102"/>
                </a:lnTo>
                <a:lnTo>
                  <a:pt x="153" y="86"/>
                </a:lnTo>
                <a:lnTo>
                  <a:pt x="194" y="40"/>
                </a:lnTo>
                <a:lnTo>
                  <a:pt x="236" y="12"/>
                </a:lnTo>
                <a:lnTo>
                  <a:pt x="281" y="0"/>
                </a:lnTo>
                <a:lnTo>
                  <a:pt x="28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39"/>
          <p:cNvSpPr/>
          <p:nvPr/>
        </p:nvSpPr>
        <p:spPr>
          <a:xfrm>
            <a:off x="6400800" y="4240080"/>
            <a:ext cx="666720" cy="257400"/>
          </a:xfrm>
          <a:custGeom>
            <a:avLst/>
            <a:gdLst>
              <a:gd name="textAreaLeft" fmla="*/ 0 w 666720"/>
              <a:gd name="textAreaRight" fmla="*/ 667080 w 6667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420" h="162">
                <a:moveTo>
                  <a:pt x="0" y="149"/>
                </a:moveTo>
                <a:lnTo>
                  <a:pt x="56" y="92"/>
                </a:lnTo>
                <a:lnTo>
                  <a:pt x="102" y="61"/>
                </a:lnTo>
                <a:lnTo>
                  <a:pt x="157" y="38"/>
                </a:lnTo>
                <a:lnTo>
                  <a:pt x="188" y="33"/>
                </a:lnTo>
                <a:lnTo>
                  <a:pt x="225" y="31"/>
                </a:lnTo>
                <a:lnTo>
                  <a:pt x="195" y="0"/>
                </a:lnTo>
                <a:lnTo>
                  <a:pt x="240" y="0"/>
                </a:lnTo>
                <a:lnTo>
                  <a:pt x="275" y="9"/>
                </a:lnTo>
                <a:lnTo>
                  <a:pt x="315" y="9"/>
                </a:lnTo>
                <a:lnTo>
                  <a:pt x="311" y="28"/>
                </a:lnTo>
                <a:lnTo>
                  <a:pt x="367" y="33"/>
                </a:lnTo>
                <a:lnTo>
                  <a:pt x="393" y="23"/>
                </a:lnTo>
                <a:lnTo>
                  <a:pt x="370" y="54"/>
                </a:lnTo>
                <a:lnTo>
                  <a:pt x="420" y="41"/>
                </a:lnTo>
                <a:lnTo>
                  <a:pt x="398" y="73"/>
                </a:lnTo>
                <a:lnTo>
                  <a:pt x="417" y="101"/>
                </a:lnTo>
                <a:lnTo>
                  <a:pt x="370" y="97"/>
                </a:lnTo>
                <a:lnTo>
                  <a:pt x="346" y="108"/>
                </a:lnTo>
                <a:lnTo>
                  <a:pt x="332" y="135"/>
                </a:lnTo>
                <a:lnTo>
                  <a:pt x="300" y="135"/>
                </a:lnTo>
                <a:lnTo>
                  <a:pt x="259" y="151"/>
                </a:lnTo>
                <a:lnTo>
                  <a:pt x="216" y="162"/>
                </a:lnTo>
                <a:lnTo>
                  <a:pt x="142" y="162"/>
                </a:lnTo>
                <a:lnTo>
                  <a:pt x="249" y="141"/>
                </a:lnTo>
                <a:lnTo>
                  <a:pt x="318" y="103"/>
                </a:lnTo>
                <a:lnTo>
                  <a:pt x="273" y="82"/>
                </a:lnTo>
                <a:lnTo>
                  <a:pt x="230" y="71"/>
                </a:lnTo>
                <a:lnTo>
                  <a:pt x="188" y="68"/>
                </a:lnTo>
                <a:lnTo>
                  <a:pt x="150" y="68"/>
                </a:lnTo>
                <a:lnTo>
                  <a:pt x="112" y="76"/>
                </a:lnTo>
                <a:lnTo>
                  <a:pt x="79" y="92"/>
                </a:lnTo>
                <a:lnTo>
                  <a:pt x="56" y="116"/>
                </a:lnTo>
                <a:lnTo>
                  <a:pt x="39" y="144"/>
                </a:lnTo>
                <a:lnTo>
                  <a:pt x="96" y="162"/>
                </a:lnTo>
                <a:lnTo>
                  <a:pt x="27" y="162"/>
                </a:lnTo>
                <a:lnTo>
                  <a:pt x="0" y="149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40"/>
          <p:cNvSpPr/>
          <p:nvPr/>
        </p:nvSpPr>
        <p:spPr>
          <a:xfrm>
            <a:off x="6647040" y="43480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17"/>
                </a:moveTo>
                <a:lnTo>
                  <a:pt x="16" y="26"/>
                </a:lnTo>
                <a:lnTo>
                  <a:pt x="19" y="38"/>
                </a:lnTo>
                <a:lnTo>
                  <a:pt x="6" y="49"/>
                </a:lnTo>
                <a:lnTo>
                  <a:pt x="27" y="54"/>
                </a:lnTo>
                <a:lnTo>
                  <a:pt x="46" y="49"/>
                </a:lnTo>
                <a:lnTo>
                  <a:pt x="54" y="33"/>
                </a:lnTo>
                <a:lnTo>
                  <a:pt x="49" y="11"/>
                </a:lnTo>
                <a:lnTo>
                  <a:pt x="30" y="0"/>
                </a:lnTo>
                <a:lnTo>
                  <a:pt x="11" y="4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41"/>
          <p:cNvSpPr/>
          <p:nvPr/>
        </p:nvSpPr>
        <p:spPr>
          <a:xfrm>
            <a:off x="6567480" y="4340160"/>
            <a:ext cx="225360" cy="154080"/>
          </a:xfrm>
          <a:custGeom>
            <a:avLst/>
            <a:gdLst>
              <a:gd name="textAreaLeft" fmla="*/ 0 w 225360"/>
              <a:gd name="textAreaRight" fmla="*/ 225720 w 225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42" h="97">
                <a:moveTo>
                  <a:pt x="31" y="0"/>
                </a:moveTo>
                <a:lnTo>
                  <a:pt x="23" y="50"/>
                </a:lnTo>
                <a:lnTo>
                  <a:pt x="45" y="78"/>
                </a:lnTo>
                <a:lnTo>
                  <a:pt x="61" y="83"/>
                </a:lnTo>
                <a:lnTo>
                  <a:pt x="85" y="83"/>
                </a:lnTo>
                <a:lnTo>
                  <a:pt x="106" y="72"/>
                </a:lnTo>
                <a:lnTo>
                  <a:pt x="123" y="50"/>
                </a:lnTo>
                <a:lnTo>
                  <a:pt x="125" y="27"/>
                </a:lnTo>
                <a:lnTo>
                  <a:pt x="114" y="2"/>
                </a:lnTo>
                <a:lnTo>
                  <a:pt x="135" y="2"/>
                </a:lnTo>
                <a:lnTo>
                  <a:pt x="142" y="29"/>
                </a:lnTo>
                <a:lnTo>
                  <a:pt x="139" y="57"/>
                </a:lnTo>
                <a:lnTo>
                  <a:pt x="123" y="81"/>
                </a:lnTo>
                <a:lnTo>
                  <a:pt x="97" y="93"/>
                </a:lnTo>
                <a:lnTo>
                  <a:pt x="59" y="97"/>
                </a:lnTo>
                <a:lnTo>
                  <a:pt x="31" y="86"/>
                </a:lnTo>
                <a:lnTo>
                  <a:pt x="7" y="50"/>
                </a:lnTo>
                <a:lnTo>
                  <a:pt x="0" y="24"/>
                </a:lnTo>
                <a:lnTo>
                  <a:pt x="0" y="10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42"/>
          <p:cNvSpPr/>
          <p:nvPr/>
        </p:nvSpPr>
        <p:spPr>
          <a:xfrm>
            <a:off x="5952960" y="5208480"/>
            <a:ext cx="179640" cy="42840"/>
          </a:xfrm>
          <a:custGeom>
            <a:avLst/>
            <a:gdLst>
              <a:gd name="textAreaLeft" fmla="*/ 0 w 179640"/>
              <a:gd name="textAreaRight" fmla="*/ 180000 w 179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3" h="27">
                <a:moveTo>
                  <a:pt x="113" y="27"/>
                </a:moveTo>
                <a:lnTo>
                  <a:pt x="49" y="0"/>
                </a:lnTo>
                <a:lnTo>
                  <a:pt x="0" y="13"/>
                </a:lnTo>
                <a:lnTo>
                  <a:pt x="14" y="27"/>
                </a:lnTo>
                <a:lnTo>
                  <a:pt x="73" y="27"/>
                </a:lnTo>
                <a:lnTo>
                  <a:pt x="113" y="27"/>
                </a:lnTo>
                <a:lnTo>
                  <a:pt x="113" y="27"/>
                </a:lnTo>
                <a:lnTo>
                  <a:pt x="113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3"/>
          <p:cNvSpPr/>
          <p:nvPr/>
        </p:nvSpPr>
        <p:spPr>
          <a:xfrm>
            <a:off x="6680160" y="5089680"/>
            <a:ext cx="327240" cy="296640"/>
          </a:xfrm>
          <a:custGeom>
            <a:avLst/>
            <a:gdLst>
              <a:gd name="textAreaLeft" fmla="*/ 0 w 327240"/>
              <a:gd name="textAreaRight" fmla="*/ 327600 w 32724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06" h="187">
                <a:moveTo>
                  <a:pt x="0" y="0"/>
                </a:moveTo>
                <a:lnTo>
                  <a:pt x="57" y="43"/>
                </a:lnTo>
                <a:lnTo>
                  <a:pt x="182" y="107"/>
                </a:lnTo>
                <a:lnTo>
                  <a:pt x="206" y="134"/>
                </a:lnTo>
                <a:lnTo>
                  <a:pt x="206" y="187"/>
                </a:lnTo>
                <a:lnTo>
                  <a:pt x="194" y="142"/>
                </a:lnTo>
                <a:lnTo>
                  <a:pt x="148" y="107"/>
                </a:lnTo>
                <a:lnTo>
                  <a:pt x="52" y="5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4"/>
          <p:cNvSpPr/>
          <p:nvPr/>
        </p:nvSpPr>
        <p:spPr>
          <a:xfrm>
            <a:off x="5859360" y="5381640"/>
            <a:ext cx="1005120" cy="18396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33" h="116">
                <a:moveTo>
                  <a:pt x="0" y="116"/>
                </a:moveTo>
                <a:lnTo>
                  <a:pt x="92" y="102"/>
                </a:lnTo>
                <a:lnTo>
                  <a:pt x="153" y="97"/>
                </a:lnTo>
                <a:lnTo>
                  <a:pt x="271" y="92"/>
                </a:lnTo>
                <a:lnTo>
                  <a:pt x="314" y="83"/>
                </a:lnTo>
                <a:lnTo>
                  <a:pt x="413" y="62"/>
                </a:lnTo>
                <a:lnTo>
                  <a:pt x="498" y="41"/>
                </a:lnTo>
                <a:lnTo>
                  <a:pt x="543" y="36"/>
                </a:lnTo>
                <a:lnTo>
                  <a:pt x="566" y="36"/>
                </a:lnTo>
                <a:lnTo>
                  <a:pt x="566" y="73"/>
                </a:lnTo>
                <a:lnTo>
                  <a:pt x="569" y="95"/>
                </a:lnTo>
                <a:lnTo>
                  <a:pt x="602" y="59"/>
                </a:lnTo>
                <a:lnTo>
                  <a:pt x="602" y="95"/>
                </a:lnTo>
                <a:lnTo>
                  <a:pt x="628" y="47"/>
                </a:lnTo>
                <a:lnTo>
                  <a:pt x="633" y="12"/>
                </a:lnTo>
                <a:lnTo>
                  <a:pt x="614" y="6"/>
                </a:lnTo>
                <a:lnTo>
                  <a:pt x="566" y="0"/>
                </a:lnTo>
                <a:lnTo>
                  <a:pt x="501" y="0"/>
                </a:lnTo>
                <a:lnTo>
                  <a:pt x="410" y="3"/>
                </a:lnTo>
                <a:lnTo>
                  <a:pt x="375" y="12"/>
                </a:lnTo>
                <a:lnTo>
                  <a:pt x="302" y="24"/>
                </a:lnTo>
                <a:lnTo>
                  <a:pt x="266" y="27"/>
                </a:lnTo>
                <a:lnTo>
                  <a:pt x="156" y="41"/>
                </a:lnTo>
                <a:lnTo>
                  <a:pt x="110" y="57"/>
                </a:lnTo>
                <a:lnTo>
                  <a:pt x="177" y="47"/>
                </a:lnTo>
                <a:lnTo>
                  <a:pt x="250" y="41"/>
                </a:lnTo>
                <a:lnTo>
                  <a:pt x="295" y="41"/>
                </a:lnTo>
                <a:lnTo>
                  <a:pt x="346" y="31"/>
                </a:lnTo>
                <a:lnTo>
                  <a:pt x="384" y="24"/>
                </a:lnTo>
                <a:lnTo>
                  <a:pt x="351" y="65"/>
                </a:lnTo>
                <a:lnTo>
                  <a:pt x="300" y="76"/>
                </a:lnTo>
                <a:lnTo>
                  <a:pt x="231" y="83"/>
                </a:lnTo>
                <a:lnTo>
                  <a:pt x="161" y="86"/>
                </a:lnTo>
                <a:lnTo>
                  <a:pt x="118" y="95"/>
                </a:lnTo>
                <a:lnTo>
                  <a:pt x="54" y="100"/>
                </a:lnTo>
                <a:lnTo>
                  <a:pt x="0" y="116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45"/>
          <p:cNvSpPr/>
          <p:nvPr/>
        </p:nvSpPr>
        <p:spPr>
          <a:xfrm>
            <a:off x="5788080" y="5562720"/>
            <a:ext cx="144360" cy="101520"/>
          </a:xfrm>
          <a:custGeom>
            <a:avLst/>
            <a:gdLst>
              <a:gd name="textAreaLeft" fmla="*/ 0 w 144360"/>
              <a:gd name="textAreaRight" fmla="*/ 144720 w 144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91" h="64">
                <a:moveTo>
                  <a:pt x="0" y="13"/>
                </a:moveTo>
                <a:lnTo>
                  <a:pt x="54" y="64"/>
                </a:lnTo>
                <a:lnTo>
                  <a:pt x="54" y="40"/>
                </a:lnTo>
                <a:lnTo>
                  <a:pt x="91" y="42"/>
                </a:lnTo>
                <a:lnTo>
                  <a:pt x="56" y="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46"/>
          <p:cNvSpPr/>
          <p:nvPr/>
        </p:nvSpPr>
        <p:spPr>
          <a:xfrm>
            <a:off x="5925960" y="5527800"/>
            <a:ext cx="831960" cy="233280"/>
          </a:xfrm>
          <a:custGeom>
            <a:avLst/>
            <a:gdLst>
              <a:gd name="textAreaLeft" fmla="*/ 0 w 831960"/>
              <a:gd name="textAreaRight" fmla="*/ 832320 w 8319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24" h="147">
                <a:moveTo>
                  <a:pt x="0" y="81"/>
                </a:moveTo>
                <a:lnTo>
                  <a:pt x="66" y="112"/>
                </a:lnTo>
                <a:lnTo>
                  <a:pt x="156" y="129"/>
                </a:lnTo>
                <a:lnTo>
                  <a:pt x="232" y="129"/>
                </a:lnTo>
                <a:lnTo>
                  <a:pt x="319" y="112"/>
                </a:lnTo>
                <a:lnTo>
                  <a:pt x="401" y="86"/>
                </a:lnTo>
                <a:lnTo>
                  <a:pt x="467" y="46"/>
                </a:lnTo>
                <a:lnTo>
                  <a:pt x="524" y="0"/>
                </a:lnTo>
                <a:lnTo>
                  <a:pt x="465" y="59"/>
                </a:lnTo>
                <a:lnTo>
                  <a:pt x="416" y="94"/>
                </a:lnTo>
                <a:lnTo>
                  <a:pt x="336" y="126"/>
                </a:lnTo>
                <a:lnTo>
                  <a:pt x="267" y="142"/>
                </a:lnTo>
                <a:lnTo>
                  <a:pt x="194" y="147"/>
                </a:lnTo>
                <a:lnTo>
                  <a:pt x="121" y="140"/>
                </a:lnTo>
                <a:lnTo>
                  <a:pt x="57" y="121"/>
                </a:lnTo>
                <a:lnTo>
                  <a:pt x="0" y="81"/>
                </a:lnTo>
                <a:lnTo>
                  <a:pt x="0" y="81"/>
                </a:lnTo>
                <a:lnTo>
                  <a:pt x="0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47"/>
          <p:cNvSpPr/>
          <p:nvPr/>
        </p:nvSpPr>
        <p:spPr>
          <a:xfrm>
            <a:off x="5952960" y="5513400"/>
            <a:ext cx="858960" cy="341280"/>
          </a:xfrm>
          <a:custGeom>
            <a:avLst/>
            <a:gdLst>
              <a:gd name="textAreaLeft" fmla="*/ 0 w 858960"/>
              <a:gd name="textAreaRight" fmla="*/ 859320 w 858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41" h="215">
                <a:moveTo>
                  <a:pt x="541" y="14"/>
                </a:moveTo>
                <a:lnTo>
                  <a:pt x="507" y="79"/>
                </a:lnTo>
                <a:lnTo>
                  <a:pt x="453" y="130"/>
                </a:lnTo>
                <a:lnTo>
                  <a:pt x="373" y="177"/>
                </a:lnTo>
                <a:lnTo>
                  <a:pt x="300" y="205"/>
                </a:lnTo>
                <a:lnTo>
                  <a:pt x="224" y="215"/>
                </a:lnTo>
                <a:lnTo>
                  <a:pt x="137" y="208"/>
                </a:lnTo>
                <a:lnTo>
                  <a:pt x="56" y="180"/>
                </a:lnTo>
                <a:lnTo>
                  <a:pt x="0" y="138"/>
                </a:lnTo>
                <a:lnTo>
                  <a:pt x="68" y="175"/>
                </a:lnTo>
                <a:lnTo>
                  <a:pt x="115" y="189"/>
                </a:lnTo>
                <a:lnTo>
                  <a:pt x="188" y="199"/>
                </a:lnTo>
                <a:lnTo>
                  <a:pt x="255" y="196"/>
                </a:lnTo>
                <a:lnTo>
                  <a:pt x="316" y="184"/>
                </a:lnTo>
                <a:lnTo>
                  <a:pt x="359" y="164"/>
                </a:lnTo>
                <a:lnTo>
                  <a:pt x="378" y="151"/>
                </a:lnTo>
                <a:lnTo>
                  <a:pt x="387" y="135"/>
                </a:lnTo>
                <a:lnTo>
                  <a:pt x="370" y="121"/>
                </a:lnTo>
                <a:lnTo>
                  <a:pt x="343" y="118"/>
                </a:lnTo>
                <a:lnTo>
                  <a:pt x="402" y="92"/>
                </a:lnTo>
                <a:lnTo>
                  <a:pt x="453" y="55"/>
                </a:lnTo>
                <a:lnTo>
                  <a:pt x="517" y="0"/>
                </a:lnTo>
                <a:lnTo>
                  <a:pt x="507" y="41"/>
                </a:lnTo>
                <a:lnTo>
                  <a:pt x="541" y="14"/>
                </a:lnTo>
                <a:lnTo>
                  <a:pt x="541" y="14"/>
                </a:lnTo>
                <a:lnTo>
                  <a:pt x="54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48"/>
          <p:cNvSpPr/>
          <p:nvPr/>
        </p:nvSpPr>
        <p:spPr>
          <a:xfrm>
            <a:off x="5603760" y="5135400"/>
            <a:ext cx="244440" cy="520920"/>
          </a:xfrm>
          <a:custGeom>
            <a:avLst/>
            <a:gdLst>
              <a:gd name="textAreaLeft" fmla="*/ 0 w 244440"/>
              <a:gd name="textAreaRight" fmla="*/ 244800 w 244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54" h="328">
                <a:moveTo>
                  <a:pt x="154" y="0"/>
                </a:moveTo>
                <a:lnTo>
                  <a:pt x="130" y="78"/>
                </a:lnTo>
                <a:lnTo>
                  <a:pt x="89" y="149"/>
                </a:lnTo>
                <a:lnTo>
                  <a:pt x="59" y="188"/>
                </a:lnTo>
                <a:lnTo>
                  <a:pt x="40" y="228"/>
                </a:lnTo>
                <a:lnTo>
                  <a:pt x="22" y="287"/>
                </a:lnTo>
                <a:lnTo>
                  <a:pt x="16" y="328"/>
                </a:lnTo>
                <a:lnTo>
                  <a:pt x="0" y="277"/>
                </a:lnTo>
                <a:lnTo>
                  <a:pt x="0" y="236"/>
                </a:lnTo>
                <a:lnTo>
                  <a:pt x="11" y="194"/>
                </a:lnTo>
                <a:lnTo>
                  <a:pt x="44" y="151"/>
                </a:lnTo>
                <a:lnTo>
                  <a:pt x="75" y="118"/>
                </a:lnTo>
                <a:lnTo>
                  <a:pt x="103" y="87"/>
                </a:lnTo>
                <a:lnTo>
                  <a:pt x="123" y="54"/>
                </a:lnTo>
                <a:lnTo>
                  <a:pt x="154" y="0"/>
                </a:lnTo>
                <a:lnTo>
                  <a:pt x="154" y="0"/>
                </a:lnTo>
                <a:lnTo>
                  <a:pt x="1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9"/>
          <p:cNvSpPr/>
          <p:nvPr/>
        </p:nvSpPr>
        <p:spPr>
          <a:xfrm>
            <a:off x="5224320" y="4518000"/>
            <a:ext cx="635040" cy="243000"/>
          </a:xfrm>
          <a:custGeom>
            <a:avLst/>
            <a:gdLst>
              <a:gd name="textAreaLeft" fmla="*/ 0 w 635040"/>
              <a:gd name="textAreaRight" fmla="*/ 635040 w 635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00" h="153">
                <a:moveTo>
                  <a:pt x="336" y="84"/>
                </a:moveTo>
                <a:lnTo>
                  <a:pt x="400" y="62"/>
                </a:lnTo>
                <a:lnTo>
                  <a:pt x="362" y="33"/>
                </a:lnTo>
                <a:lnTo>
                  <a:pt x="288" y="9"/>
                </a:lnTo>
                <a:lnTo>
                  <a:pt x="208" y="0"/>
                </a:lnTo>
                <a:lnTo>
                  <a:pt x="156" y="9"/>
                </a:lnTo>
                <a:lnTo>
                  <a:pt x="159" y="30"/>
                </a:lnTo>
                <a:lnTo>
                  <a:pt x="121" y="35"/>
                </a:lnTo>
                <a:lnTo>
                  <a:pt x="111" y="16"/>
                </a:lnTo>
                <a:lnTo>
                  <a:pt x="59" y="54"/>
                </a:lnTo>
                <a:lnTo>
                  <a:pt x="31" y="84"/>
                </a:lnTo>
                <a:lnTo>
                  <a:pt x="53" y="99"/>
                </a:lnTo>
                <a:lnTo>
                  <a:pt x="36" y="115"/>
                </a:lnTo>
                <a:lnTo>
                  <a:pt x="0" y="134"/>
                </a:lnTo>
                <a:lnTo>
                  <a:pt x="41" y="145"/>
                </a:lnTo>
                <a:lnTo>
                  <a:pt x="69" y="145"/>
                </a:lnTo>
                <a:lnTo>
                  <a:pt x="106" y="137"/>
                </a:lnTo>
                <a:lnTo>
                  <a:pt x="125" y="153"/>
                </a:lnTo>
                <a:lnTo>
                  <a:pt x="149" y="137"/>
                </a:lnTo>
                <a:lnTo>
                  <a:pt x="173" y="143"/>
                </a:lnTo>
                <a:lnTo>
                  <a:pt x="194" y="118"/>
                </a:lnTo>
                <a:lnTo>
                  <a:pt x="140" y="110"/>
                </a:lnTo>
                <a:lnTo>
                  <a:pt x="121" y="94"/>
                </a:lnTo>
                <a:lnTo>
                  <a:pt x="146" y="68"/>
                </a:lnTo>
                <a:lnTo>
                  <a:pt x="178" y="46"/>
                </a:lnTo>
                <a:lnTo>
                  <a:pt x="215" y="35"/>
                </a:lnTo>
                <a:lnTo>
                  <a:pt x="261" y="35"/>
                </a:lnTo>
                <a:lnTo>
                  <a:pt x="309" y="44"/>
                </a:lnTo>
                <a:lnTo>
                  <a:pt x="347" y="51"/>
                </a:lnTo>
                <a:lnTo>
                  <a:pt x="336" y="84"/>
                </a:lnTo>
                <a:lnTo>
                  <a:pt x="336" y="84"/>
                </a:lnTo>
                <a:lnTo>
                  <a:pt x="33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50"/>
          <p:cNvSpPr/>
          <p:nvPr/>
        </p:nvSpPr>
        <p:spPr>
          <a:xfrm>
            <a:off x="5557680" y="4656240"/>
            <a:ext cx="154080" cy="66600"/>
          </a:xfrm>
          <a:custGeom>
            <a:avLst/>
            <a:gdLst>
              <a:gd name="textAreaLeft" fmla="*/ 0 w 154080"/>
              <a:gd name="textAreaRight" fmla="*/ 154440 w 154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7" h="42">
                <a:moveTo>
                  <a:pt x="0" y="26"/>
                </a:moveTo>
                <a:lnTo>
                  <a:pt x="48" y="16"/>
                </a:lnTo>
                <a:lnTo>
                  <a:pt x="97" y="0"/>
                </a:lnTo>
                <a:lnTo>
                  <a:pt x="54" y="31"/>
                </a:lnTo>
                <a:lnTo>
                  <a:pt x="25" y="31"/>
                </a:lnTo>
                <a:lnTo>
                  <a:pt x="0" y="42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51"/>
          <p:cNvSpPr/>
          <p:nvPr/>
        </p:nvSpPr>
        <p:spPr>
          <a:xfrm>
            <a:off x="5353200" y="4476600"/>
            <a:ext cx="382320" cy="111240"/>
          </a:xfrm>
          <a:custGeom>
            <a:avLst/>
            <a:gdLst>
              <a:gd name="textAreaLeft" fmla="*/ 0 w 382320"/>
              <a:gd name="textAreaRight" fmla="*/ 382680 w 382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41" h="70">
                <a:moveTo>
                  <a:pt x="0" y="66"/>
                </a:moveTo>
                <a:lnTo>
                  <a:pt x="59" y="21"/>
                </a:lnTo>
                <a:lnTo>
                  <a:pt x="129" y="0"/>
                </a:lnTo>
                <a:lnTo>
                  <a:pt x="186" y="0"/>
                </a:lnTo>
                <a:lnTo>
                  <a:pt x="241" y="11"/>
                </a:lnTo>
                <a:lnTo>
                  <a:pt x="143" y="11"/>
                </a:lnTo>
                <a:lnTo>
                  <a:pt x="68" y="32"/>
                </a:lnTo>
                <a:lnTo>
                  <a:pt x="25" y="70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52"/>
          <p:cNvSpPr/>
          <p:nvPr/>
        </p:nvSpPr>
        <p:spPr>
          <a:xfrm>
            <a:off x="5570640" y="4578480"/>
            <a:ext cx="73080" cy="63360"/>
          </a:xfrm>
          <a:custGeom>
            <a:avLst/>
            <a:gdLst>
              <a:gd name="textAreaLeft" fmla="*/ 0 w 73080"/>
              <a:gd name="textAreaRight" fmla="*/ 73440 w 730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6" h="40">
                <a:moveTo>
                  <a:pt x="6" y="6"/>
                </a:moveTo>
                <a:lnTo>
                  <a:pt x="19" y="16"/>
                </a:lnTo>
                <a:lnTo>
                  <a:pt x="19" y="30"/>
                </a:lnTo>
                <a:lnTo>
                  <a:pt x="0" y="40"/>
                </a:lnTo>
                <a:lnTo>
                  <a:pt x="24" y="40"/>
                </a:lnTo>
                <a:lnTo>
                  <a:pt x="46" y="27"/>
                </a:lnTo>
                <a:lnTo>
                  <a:pt x="46" y="10"/>
                </a:lnTo>
                <a:lnTo>
                  <a:pt x="30" y="0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53"/>
          <p:cNvSpPr/>
          <p:nvPr/>
        </p:nvSpPr>
        <p:spPr>
          <a:xfrm>
            <a:off x="5477040" y="4557600"/>
            <a:ext cx="225360" cy="135000"/>
          </a:xfrm>
          <a:custGeom>
            <a:avLst/>
            <a:gdLst>
              <a:gd name="textAreaLeft" fmla="*/ 0 w 225360"/>
              <a:gd name="textAreaRight" fmla="*/ 225720 w 2253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42" h="85">
                <a:moveTo>
                  <a:pt x="30" y="8"/>
                </a:moveTo>
                <a:lnTo>
                  <a:pt x="21" y="45"/>
                </a:lnTo>
                <a:lnTo>
                  <a:pt x="40" y="69"/>
                </a:lnTo>
                <a:lnTo>
                  <a:pt x="70" y="78"/>
                </a:lnTo>
                <a:lnTo>
                  <a:pt x="105" y="69"/>
                </a:lnTo>
                <a:lnTo>
                  <a:pt x="127" y="48"/>
                </a:lnTo>
                <a:lnTo>
                  <a:pt x="129" y="26"/>
                </a:lnTo>
                <a:lnTo>
                  <a:pt x="115" y="0"/>
                </a:lnTo>
                <a:lnTo>
                  <a:pt x="142" y="8"/>
                </a:lnTo>
                <a:lnTo>
                  <a:pt x="142" y="37"/>
                </a:lnTo>
                <a:lnTo>
                  <a:pt x="132" y="69"/>
                </a:lnTo>
                <a:lnTo>
                  <a:pt x="99" y="85"/>
                </a:lnTo>
                <a:lnTo>
                  <a:pt x="51" y="85"/>
                </a:lnTo>
                <a:lnTo>
                  <a:pt x="30" y="81"/>
                </a:lnTo>
                <a:lnTo>
                  <a:pt x="14" y="59"/>
                </a:lnTo>
                <a:lnTo>
                  <a:pt x="6" y="37"/>
                </a:lnTo>
                <a:lnTo>
                  <a:pt x="0" y="19"/>
                </a:lnTo>
                <a:lnTo>
                  <a:pt x="30" y="8"/>
                </a:lnTo>
                <a:lnTo>
                  <a:pt x="30" y="8"/>
                </a:lnTo>
                <a:lnTo>
                  <a:pt x="3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54"/>
          <p:cNvSpPr/>
          <p:nvPr/>
        </p:nvSpPr>
        <p:spPr>
          <a:xfrm>
            <a:off x="4925880" y="2562120"/>
            <a:ext cx="1970280" cy="2222640"/>
          </a:xfrm>
          <a:custGeom>
            <a:avLst/>
            <a:gdLst>
              <a:gd name="textAreaLeft" fmla="*/ 0 w 1970280"/>
              <a:gd name="textAreaRight" fmla="*/ 1970640 w 1970280"/>
              <a:gd name="textAreaTop" fmla="*/ 0 h 2222640"/>
              <a:gd name="textAreaBottom" fmla="*/ 2223000 h 2222640"/>
            </a:gdLst>
            <a:ahLst/>
            <a:rect l="textAreaLeft" t="textAreaTop" r="textAreaRight" b="textAreaBottom"/>
            <a:pathLst>
              <a:path w="1241" h="1400">
                <a:moveTo>
                  <a:pt x="791" y="412"/>
                </a:moveTo>
                <a:lnTo>
                  <a:pt x="822" y="354"/>
                </a:lnTo>
                <a:lnTo>
                  <a:pt x="842" y="412"/>
                </a:lnTo>
                <a:lnTo>
                  <a:pt x="893" y="330"/>
                </a:lnTo>
                <a:lnTo>
                  <a:pt x="899" y="418"/>
                </a:lnTo>
                <a:lnTo>
                  <a:pt x="962" y="354"/>
                </a:lnTo>
                <a:lnTo>
                  <a:pt x="968" y="425"/>
                </a:lnTo>
                <a:lnTo>
                  <a:pt x="1032" y="393"/>
                </a:lnTo>
                <a:lnTo>
                  <a:pt x="1063" y="438"/>
                </a:lnTo>
                <a:lnTo>
                  <a:pt x="1139" y="412"/>
                </a:lnTo>
                <a:lnTo>
                  <a:pt x="1189" y="361"/>
                </a:lnTo>
                <a:lnTo>
                  <a:pt x="1222" y="286"/>
                </a:lnTo>
                <a:lnTo>
                  <a:pt x="1241" y="177"/>
                </a:lnTo>
                <a:lnTo>
                  <a:pt x="1189" y="76"/>
                </a:lnTo>
                <a:lnTo>
                  <a:pt x="1101" y="0"/>
                </a:lnTo>
                <a:lnTo>
                  <a:pt x="1145" y="63"/>
                </a:lnTo>
                <a:lnTo>
                  <a:pt x="1170" y="140"/>
                </a:lnTo>
                <a:lnTo>
                  <a:pt x="1170" y="197"/>
                </a:lnTo>
                <a:lnTo>
                  <a:pt x="1114" y="101"/>
                </a:lnTo>
                <a:lnTo>
                  <a:pt x="1032" y="63"/>
                </a:lnTo>
                <a:lnTo>
                  <a:pt x="918" y="51"/>
                </a:lnTo>
                <a:lnTo>
                  <a:pt x="842" y="76"/>
                </a:lnTo>
                <a:lnTo>
                  <a:pt x="747" y="127"/>
                </a:lnTo>
                <a:lnTo>
                  <a:pt x="683" y="152"/>
                </a:lnTo>
                <a:lnTo>
                  <a:pt x="608" y="177"/>
                </a:lnTo>
                <a:lnTo>
                  <a:pt x="481" y="203"/>
                </a:lnTo>
                <a:lnTo>
                  <a:pt x="615" y="215"/>
                </a:lnTo>
                <a:lnTo>
                  <a:pt x="735" y="215"/>
                </a:lnTo>
                <a:lnTo>
                  <a:pt x="829" y="197"/>
                </a:lnTo>
                <a:lnTo>
                  <a:pt x="905" y="159"/>
                </a:lnTo>
                <a:lnTo>
                  <a:pt x="962" y="152"/>
                </a:lnTo>
                <a:lnTo>
                  <a:pt x="1012" y="165"/>
                </a:lnTo>
                <a:lnTo>
                  <a:pt x="1039" y="197"/>
                </a:lnTo>
                <a:lnTo>
                  <a:pt x="1039" y="246"/>
                </a:lnTo>
                <a:lnTo>
                  <a:pt x="981" y="203"/>
                </a:lnTo>
                <a:lnTo>
                  <a:pt x="905" y="197"/>
                </a:lnTo>
                <a:lnTo>
                  <a:pt x="842" y="222"/>
                </a:lnTo>
                <a:lnTo>
                  <a:pt x="753" y="260"/>
                </a:lnTo>
                <a:lnTo>
                  <a:pt x="646" y="292"/>
                </a:lnTo>
                <a:lnTo>
                  <a:pt x="544" y="310"/>
                </a:lnTo>
                <a:lnTo>
                  <a:pt x="437" y="310"/>
                </a:lnTo>
                <a:lnTo>
                  <a:pt x="247" y="286"/>
                </a:lnTo>
                <a:lnTo>
                  <a:pt x="285" y="342"/>
                </a:lnTo>
                <a:lnTo>
                  <a:pt x="215" y="330"/>
                </a:lnTo>
                <a:lnTo>
                  <a:pt x="102" y="280"/>
                </a:lnTo>
                <a:lnTo>
                  <a:pt x="159" y="361"/>
                </a:lnTo>
                <a:lnTo>
                  <a:pt x="221" y="418"/>
                </a:lnTo>
                <a:lnTo>
                  <a:pt x="285" y="444"/>
                </a:lnTo>
                <a:lnTo>
                  <a:pt x="215" y="456"/>
                </a:lnTo>
                <a:lnTo>
                  <a:pt x="121" y="444"/>
                </a:lnTo>
                <a:lnTo>
                  <a:pt x="0" y="406"/>
                </a:lnTo>
                <a:lnTo>
                  <a:pt x="76" y="513"/>
                </a:lnTo>
                <a:lnTo>
                  <a:pt x="152" y="558"/>
                </a:lnTo>
                <a:lnTo>
                  <a:pt x="133" y="640"/>
                </a:lnTo>
                <a:lnTo>
                  <a:pt x="146" y="710"/>
                </a:lnTo>
                <a:lnTo>
                  <a:pt x="159" y="805"/>
                </a:lnTo>
                <a:lnTo>
                  <a:pt x="89" y="893"/>
                </a:lnTo>
                <a:lnTo>
                  <a:pt x="57" y="1001"/>
                </a:lnTo>
                <a:lnTo>
                  <a:pt x="44" y="1090"/>
                </a:lnTo>
                <a:lnTo>
                  <a:pt x="57" y="1165"/>
                </a:lnTo>
                <a:lnTo>
                  <a:pt x="44" y="1279"/>
                </a:lnTo>
                <a:lnTo>
                  <a:pt x="6" y="1400"/>
                </a:lnTo>
                <a:lnTo>
                  <a:pt x="96" y="1311"/>
                </a:lnTo>
                <a:lnTo>
                  <a:pt x="165" y="1191"/>
                </a:lnTo>
                <a:lnTo>
                  <a:pt x="209" y="1070"/>
                </a:lnTo>
                <a:lnTo>
                  <a:pt x="254" y="995"/>
                </a:lnTo>
                <a:lnTo>
                  <a:pt x="267" y="887"/>
                </a:lnTo>
                <a:lnTo>
                  <a:pt x="292" y="785"/>
                </a:lnTo>
                <a:lnTo>
                  <a:pt x="317" y="691"/>
                </a:lnTo>
                <a:lnTo>
                  <a:pt x="373" y="590"/>
                </a:lnTo>
                <a:lnTo>
                  <a:pt x="419" y="551"/>
                </a:lnTo>
                <a:lnTo>
                  <a:pt x="462" y="533"/>
                </a:lnTo>
                <a:lnTo>
                  <a:pt x="525" y="539"/>
                </a:lnTo>
                <a:lnTo>
                  <a:pt x="615" y="513"/>
                </a:lnTo>
                <a:lnTo>
                  <a:pt x="671" y="462"/>
                </a:lnTo>
                <a:lnTo>
                  <a:pt x="753" y="379"/>
                </a:lnTo>
                <a:lnTo>
                  <a:pt x="791" y="412"/>
                </a:lnTo>
                <a:lnTo>
                  <a:pt x="791" y="412"/>
                </a:lnTo>
                <a:lnTo>
                  <a:pt x="791" y="4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55"/>
          <p:cNvSpPr/>
          <p:nvPr/>
        </p:nvSpPr>
        <p:spPr>
          <a:xfrm>
            <a:off x="6703920" y="2754360"/>
            <a:ext cx="2671920" cy="3941640"/>
          </a:xfrm>
          <a:custGeom>
            <a:avLst/>
            <a:gdLst>
              <a:gd name="textAreaLeft" fmla="*/ 0 w 2671920"/>
              <a:gd name="textAreaRight" fmla="*/ 2672280 w 2671920"/>
              <a:gd name="textAreaTop" fmla="*/ 0 h 3941640"/>
              <a:gd name="textAreaBottom" fmla="*/ 3942000 h 3941640"/>
            </a:gdLst>
            <a:ahLst/>
            <a:rect l="textAreaLeft" t="textAreaTop" r="textAreaRight" b="textAreaBottom"/>
            <a:pathLst>
              <a:path w="1683" h="2483">
                <a:moveTo>
                  <a:pt x="0" y="310"/>
                </a:moveTo>
                <a:lnTo>
                  <a:pt x="76" y="285"/>
                </a:lnTo>
                <a:lnTo>
                  <a:pt x="145" y="233"/>
                </a:lnTo>
                <a:lnTo>
                  <a:pt x="221" y="159"/>
                </a:lnTo>
                <a:lnTo>
                  <a:pt x="266" y="82"/>
                </a:lnTo>
                <a:lnTo>
                  <a:pt x="279" y="0"/>
                </a:lnTo>
                <a:lnTo>
                  <a:pt x="298" y="69"/>
                </a:lnTo>
                <a:lnTo>
                  <a:pt x="373" y="56"/>
                </a:lnTo>
                <a:lnTo>
                  <a:pt x="443" y="82"/>
                </a:lnTo>
                <a:lnTo>
                  <a:pt x="506" y="133"/>
                </a:lnTo>
                <a:lnTo>
                  <a:pt x="531" y="209"/>
                </a:lnTo>
                <a:lnTo>
                  <a:pt x="545" y="297"/>
                </a:lnTo>
                <a:lnTo>
                  <a:pt x="564" y="353"/>
                </a:lnTo>
                <a:lnTo>
                  <a:pt x="608" y="392"/>
                </a:lnTo>
                <a:lnTo>
                  <a:pt x="658" y="430"/>
                </a:lnTo>
                <a:lnTo>
                  <a:pt x="791" y="475"/>
                </a:lnTo>
                <a:lnTo>
                  <a:pt x="912" y="481"/>
                </a:lnTo>
                <a:lnTo>
                  <a:pt x="791" y="512"/>
                </a:lnTo>
                <a:lnTo>
                  <a:pt x="886" y="582"/>
                </a:lnTo>
                <a:lnTo>
                  <a:pt x="955" y="658"/>
                </a:lnTo>
                <a:lnTo>
                  <a:pt x="993" y="760"/>
                </a:lnTo>
                <a:lnTo>
                  <a:pt x="937" y="684"/>
                </a:lnTo>
                <a:lnTo>
                  <a:pt x="862" y="620"/>
                </a:lnTo>
                <a:lnTo>
                  <a:pt x="797" y="601"/>
                </a:lnTo>
                <a:lnTo>
                  <a:pt x="848" y="677"/>
                </a:lnTo>
                <a:lnTo>
                  <a:pt x="880" y="753"/>
                </a:lnTo>
                <a:lnTo>
                  <a:pt x="925" y="829"/>
                </a:lnTo>
                <a:lnTo>
                  <a:pt x="987" y="855"/>
                </a:lnTo>
                <a:lnTo>
                  <a:pt x="1051" y="874"/>
                </a:lnTo>
                <a:lnTo>
                  <a:pt x="981" y="905"/>
                </a:lnTo>
                <a:lnTo>
                  <a:pt x="981" y="994"/>
                </a:lnTo>
                <a:lnTo>
                  <a:pt x="937" y="930"/>
                </a:lnTo>
                <a:lnTo>
                  <a:pt x="949" y="1070"/>
                </a:lnTo>
                <a:lnTo>
                  <a:pt x="1007" y="1140"/>
                </a:lnTo>
                <a:lnTo>
                  <a:pt x="1101" y="1209"/>
                </a:lnTo>
                <a:lnTo>
                  <a:pt x="1151" y="1254"/>
                </a:lnTo>
                <a:lnTo>
                  <a:pt x="1196" y="1329"/>
                </a:lnTo>
                <a:lnTo>
                  <a:pt x="1222" y="1394"/>
                </a:lnTo>
                <a:lnTo>
                  <a:pt x="1228" y="1456"/>
                </a:lnTo>
                <a:lnTo>
                  <a:pt x="1222" y="1539"/>
                </a:lnTo>
                <a:lnTo>
                  <a:pt x="1177" y="1614"/>
                </a:lnTo>
                <a:lnTo>
                  <a:pt x="1095" y="1704"/>
                </a:lnTo>
                <a:lnTo>
                  <a:pt x="1202" y="1659"/>
                </a:lnTo>
                <a:lnTo>
                  <a:pt x="1196" y="1760"/>
                </a:lnTo>
                <a:lnTo>
                  <a:pt x="1272" y="1672"/>
                </a:lnTo>
                <a:lnTo>
                  <a:pt x="1297" y="1595"/>
                </a:lnTo>
                <a:lnTo>
                  <a:pt x="1309" y="1520"/>
                </a:lnTo>
                <a:lnTo>
                  <a:pt x="1297" y="1437"/>
                </a:lnTo>
                <a:lnTo>
                  <a:pt x="1278" y="1368"/>
                </a:lnTo>
                <a:lnTo>
                  <a:pt x="1336" y="1444"/>
                </a:lnTo>
                <a:lnTo>
                  <a:pt x="1361" y="1493"/>
                </a:lnTo>
                <a:lnTo>
                  <a:pt x="1380" y="1558"/>
                </a:lnTo>
                <a:lnTo>
                  <a:pt x="1386" y="1627"/>
                </a:lnTo>
                <a:lnTo>
                  <a:pt x="1380" y="1716"/>
                </a:lnTo>
                <a:lnTo>
                  <a:pt x="1442" y="1627"/>
                </a:lnTo>
                <a:lnTo>
                  <a:pt x="1468" y="1527"/>
                </a:lnTo>
                <a:lnTo>
                  <a:pt x="1494" y="1641"/>
                </a:lnTo>
                <a:lnTo>
                  <a:pt x="1474" y="1734"/>
                </a:lnTo>
                <a:lnTo>
                  <a:pt x="1449" y="1811"/>
                </a:lnTo>
                <a:lnTo>
                  <a:pt x="1474" y="1919"/>
                </a:lnTo>
                <a:lnTo>
                  <a:pt x="1461" y="2001"/>
                </a:lnTo>
                <a:lnTo>
                  <a:pt x="1519" y="2052"/>
                </a:lnTo>
                <a:lnTo>
                  <a:pt x="1575" y="2058"/>
                </a:lnTo>
                <a:lnTo>
                  <a:pt x="1652" y="2033"/>
                </a:lnTo>
                <a:lnTo>
                  <a:pt x="1646" y="2109"/>
                </a:lnTo>
                <a:lnTo>
                  <a:pt x="1607" y="2171"/>
                </a:lnTo>
                <a:lnTo>
                  <a:pt x="1563" y="2211"/>
                </a:lnTo>
                <a:lnTo>
                  <a:pt x="1582" y="2273"/>
                </a:lnTo>
                <a:lnTo>
                  <a:pt x="1588" y="2369"/>
                </a:lnTo>
                <a:lnTo>
                  <a:pt x="1665" y="2419"/>
                </a:lnTo>
                <a:lnTo>
                  <a:pt x="1683" y="2483"/>
                </a:lnTo>
                <a:lnTo>
                  <a:pt x="1640" y="2431"/>
                </a:lnTo>
                <a:lnTo>
                  <a:pt x="1544" y="2457"/>
                </a:lnTo>
                <a:lnTo>
                  <a:pt x="1399" y="2457"/>
                </a:lnTo>
                <a:lnTo>
                  <a:pt x="1317" y="2444"/>
                </a:lnTo>
                <a:lnTo>
                  <a:pt x="1184" y="2394"/>
                </a:lnTo>
                <a:lnTo>
                  <a:pt x="1095" y="2312"/>
                </a:lnTo>
                <a:lnTo>
                  <a:pt x="1057" y="2229"/>
                </a:lnTo>
                <a:lnTo>
                  <a:pt x="1051" y="2128"/>
                </a:lnTo>
                <a:lnTo>
                  <a:pt x="1076" y="2001"/>
                </a:lnTo>
                <a:lnTo>
                  <a:pt x="1139" y="1868"/>
                </a:lnTo>
                <a:lnTo>
                  <a:pt x="1051" y="1975"/>
                </a:lnTo>
                <a:lnTo>
                  <a:pt x="1013" y="2065"/>
                </a:lnTo>
                <a:lnTo>
                  <a:pt x="987" y="2153"/>
                </a:lnTo>
                <a:lnTo>
                  <a:pt x="999" y="2254"/>
                </a:lnTo>
                <a:lnTo>
                  <a:pt x="1069" y="2343"/>
                </a:lnTo>
                <a:lnTo>
                  <a:pt x="912" y="2298"/>
                </a:lnTo>
                <a:lnTo>
                  <a:pt x="589" y="2273"/>
                </a:lnTo>
                <a:lnTo>
                  <a:pt x="348" y="2192"/>
                </a:lnTo>
                <a:lnTo>
                  <a:pt x="393" y="2078"/>
                </a:lnTo>
                <a:lnTo>
                  <a:pt x="437" y="1988"/>
                </a:lnTo>
                <a:lnTo>
                  <a:pt x="518" y="1899"/>
                </a:lnTo>
                <a:lnTo>
                  <a:pt x="456" y="2014"/>
                </a:lnTo>
                <a:lnTo>
                  <a:pt x="443" y="2121"/>
                </a:lnTo>
                <a:lnTo>
                  <a:pt x="506" y="2007"/>
                </a:lnTo>
                <a:lnTo>
                  <a:pt x="589" y="1925"/>
                </a:lnTo>
                <a:lnTo>
                  <a:pt x="697" y="1849"/>
                </a:lnTo>
                <a:lnTo>
                  <a:pt x="809" y="1747"/>
                </a:lnTo>
                <a:lnTo>
                  <a:pt x="880" y="1678"/>
                </a:lnTo>
                <a:lnTo>
                  <a:pt x="918" y="1595"/>
                </a:lnTo>
                <a:lnTo>
                  <a:pt x="918" y="1532"/>
                </a:lnTo>
                <a:lnTo>
                  <a:pt x="886" y="1456"/>
                </a:lnTo>
                <a:lnTo>
                  <a:pt x="816" y="1374"/>
                </a:lnTo>
                <a:lnTo>
                  <a:pt x="740" y="1291"/>
                </a:lnTo>
                <a:lnTo>
                  <a:pt x="689" y="1216"/>
                </a:lnTo>
                <a:lnTo>
                  <a:pt x="683" y="1127"/>
                </a:lnTo>
                <a:lnTo>
                  <a:pt x="735" y="1203"/>
                </a:lnTo>
                <a:lnTo>
                  <a:pt x="862" y="1254"/>
                </a:lnTo>
                <a:lnTo>
                  <a:pt x="772" y="1177"/>
                </a:lnTo>
                <a:lnTo>
                  <a:pt x="689" y="1090"/>
                </a:lnTo>
                <a:lnTo>
                  <a:pt x="652" y="988"/>
                </a:lnTo>
                <a:lnTo>
                  <a:pt x="645" y="917"/>
                </a:lnTo>
                <a:lnTo>
                  <a:pt x="677" y="843"/>
                </a:lnTo>
                <a:lnTo>
                  <a:pt x="735" y="760"/>
                </a:lnTo>
                <a:lnTo>
                  <a:pt x="740" y="670"/>
                </a:lnTo>
                <a:lnTo>
                  <a:pt x="703" y="595"/>
                </a:lnTo>
                <a:lnTo>
                  <a:pt x="626" y="531"/>
                </a:lnTo>
                <a:lnTo>
                  <a:pt x="671" y="645"/>
                </a:lnTo>
                <a:lnTo>
                  <a:pt x="677" y="709"/>
                </a:lnTo>
                <a:lnTo>
                  <a:pt x="614" y="620"/>
                </a:lnTo>
                <a:lnTo>
                  <a:pt x="633" y="709"/>
                </a:lnTo>
                <a:lnTo>
                  <a:pt x="601" y="822"/>
                </a:lnTo>
                <a:lnTo>
                  <a:pt x="500" y="969"/>
                </a:lnTo>
                <a:lnTo>
                  <a:pt x="443" y="1115"/>
                </a:lnTo>
                <a:lnTo>
                  <a:pt x="418" y="1248"/>
                </a:lnTo>
                <a:lnTo>
                  <a:pt x="399" y="1050"/>
                </a:lnTo>
                <a:lnTo>
                  <a:pt x="354" y="911"/>
                </a:lnTo>
                <a:lnTo>
                  <a:pt x="177" y="512"/>
                </a:lnTo>
                <a:lnTo>
                  <a:pt x="127" y="418"/>
                </a:lnTo>
                <a:lnTo>
                  <a:pt x="89" y="373"/>
                </a:lnTo>
                <a:lnTo>
                  <a:pt x="44" y="335"/>
                </a:lnTo>
                <a:lnTo>
                  <a:pt x="0" y="310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56"/>
          <p:cNvSpPr/>
          <p:nvPr/>
        </p:nvSpPr>
        <p:spPr>
          <a:xfrm>
            <a:off x="8312040" y="4019400"/>
            <a:ext cx="692280" cy="1006560"/>
          </a:xfrm>
          <a:custGeom>
            <a:avLst/>
            <a:gdLst>
              <a:gd name="textAreaLeft" fmla="*/ 0 w 692280"/>
              <a:gd name="textAreaRight" fmla="*/ 692640 w 69228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36" h="634">
                <a:moveTo>
                  <a:pt x="7" y="0"/>
                </a:moveTo>
                <a:lnTo>
                  <a:pt x="32" y="39"/>
                </a:lnTo>
                <a:lnTo>
                  <a:pt x="94" y="96"/>
                </a:lnTo>
                <a:lnTo>
                  <a:pt x="44" y="120"/>
                </a:lnTo>
                <a:lnTo>
                  <a:pt x="113" y="247"/>
                </a:lnTo>
                <a:lnTo>
                  <a:pt x="209" y="349"/>
                </a:lnTo>
                <a:lnTo>
                  <a:pt x="323" y="451"/>
                </a:lnTo>
                <a:lnTo>
                  <a:pt x="398" y="545"/>
                </a:lnTo>
                <a:lnTo>
                  <a:pt x="436" y="634"/>
                </a:lnTo>
                <a:lnTo>
                  <a:pt x="360" y="526"/>
                </a:lnTo>
                <a:lnTo>
                  <a:pt x="240" y="399"/>
                </a:lnTo>
                <a:lnTo>
                  <a:pt x="100" y="311"/>
                </a:lnTo>
                <a:lnTo>
                  <a:pt x="164" y="412"/>
                </a:lnTo>
                <a:lnTo>
                  <a:pt x="76" y="349"/>
                </a:lnTo>
                <a:lnTo>
                  <a:pt x="19" y="280"/>
                </a:lnTo>
                <a:lnTo>
                  <a:pt x="0" y="184"/>
                </a:lnTo>
                <a:lnTo>
                  <a:pt x="0" y="7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57"/>
          <p:cNvSpPr/>
          <p:nvPr/>
        </p:nvSpPr>
        <p:spPr>
          <a:xfrm>
            <a:off x="6323040" y="4111560"/>
            <a:ext cx="1768320" cy="260352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2603520"/>
              <a:gd name="textAreaBottom" fmla="*/ 2603880 h 2603520"/>
            </a:gdLst>
            <a:ahLst/>
            <a:rect l="textAreaLeft" t="textAreaTop" r="textAreaRight" b="textAreaBottom"/>
            <a:pathLst>
              <a:path w="1114" h="1640">
                <a:moveTo>
                  <a:pt x="689" y="222"/>
                </a:moveTo>
                <a:lnTo>
                  <a:pt x="771" y="120"/>
                </a:lnTo>
                <a:lnTo>
                  <a:pt x="866" y="0"/>
                </a:lnTo>
                <a:lnTo>
                  <a:pt x="841" y="120"/>
                </a:lnTo>
                <a:lnTo>
                  <a:pt x="835" y="202"/>
                </a:lnTo>
                <a:lnTo>
                  <a:pt x="841" y="285"/>
                </a:lnTo>
                <a:lnTo>
                  <a:pt x="873" y="399"/>
                </a:lnTo>
                <a:lnTo>
                  <a:pt x="929" y="468"/>
                </a:lnTo>
                <a:lnTo>
                  <a:pt x="1081" y="589"/>
                </a:lnTo>
                <a:lnTo>
                  <a:pt x="1114" y="638"/>
                </a:lnTo>
                <a:lnTo>
                  <a:pt x="1114" y="715"/>
                </a:lnTo>
                <a:lnTo>
                  <a:pt x="1075" y="798"/>
                </a:lnTo>
                <a:lnTo>
                  <a:pt x="1012" y="886"/>
                </a:lnTo>
                <a:lnTo>
                  <a:pt x="854" y="1000"/>
                </a:lnTo>
                <a:lnTo>
                  <a:pt x="778" y="1050"/>
                </a:lnTo>
                <a:lnTo>
                  <a:pt x="709" y="1140"/>
                </a:lnTo>
                <a:lnTo>
                  <a:pt x="658" y="1229"/>
                </a:lnTo>
                <a:lnTo>
                  <a:pt x="625" y="1349"/>
                </a:lnTo>
                <a:lnTo>
                  <a:pt x="525" y="1329"/>
                </a:lnTo>
                <a:lnTo>
                  <a:pt x="481" y="1418"/>
                </a:lnTo>
                <a:lnTo>
                  <a:pt x="392" y="1507"/>
                </a:lnTo>
                <a:lnTo>
                  <a:pt x="259" y="1589"/>
                </a:lnTo>
                <a:lnTo>
                  <a:pt x="88" y="1640"/>
                </a:lnTo>
                <a:lnTo>
                  <a:pt x="278" y="1551"/>
                </a:lnTo>
                <a:lnTo>
                  <a:pt x="385" y="1470"/>
                </a:lnTo>
                <a:lnTo>
                  <a:pt x="455" y="1387"/>
                </a:lnTo>
                <a:lnTo>
                  <a:pt x="468" y="1316"/>
                </a:lnTo>
                <a:lnTo>
                  <a:pt x="411" y="1298"/>
                </a:lnTo>
                <a:lnTo>
                  <a:pt x="297" y="1368"/>
                </a:lnTo>
                <a:lnTo>
                  <a:pt x="209" y="1406"/>
                </a:lnTo>
                <a:lnTo>
                  <a:pt x="108" y="1424"/>
                </a:lnTo>
                <a:lnTo>
                  <a:pt x="0" y="1412"/>
                </a:lnTo>
                <a:lnTo>
                  <a:pt x="113" y="1412"/>
                </a:lnTo>
                <a:lnTo>
                  <a:pt x="177" y="1393"/>
                </a:lnTo>
                <a:lnTo>
                  <a:pt x="259" y="1356"/>
                </a:lnTo>
                <a:lnTo>
                  <a:pt x="379" y="1266"/>
                </a:lnTo>
                <a:lnTo>
                  <a:pt x="500" y="1140"/>
                </a:lnTo>
                <a:lnTo>
                  <a:pt x="633" y="956"/>
                </a:lnTo>
                <a:lnTo>
                  <a:pt x="683" y="886"/>
                </a:lnTo>
                <a:lnTo>
                  <a:pt x="696" y="810"/>
                </a:lnTo>
                <a:lnTo>
                  <a:pt x="702" y="715"/>
                </a:lnTo>
                <a:lnTo>
                  <a:pt x="727" y="830"/>
                </a:lnTo>
                <a:lnTo>
                  <a:pt x="792" y="830"/>
                </a:lnTo>
                <a:lnTo>
                  <a:pt x="778" y="740"/>
                </a:lnTo>
                <a:lnTo>
                  <a:pt x="848" y="798"/>
                </a:lnTo>
                <a:lnTo>
                  <a:pt x="866" y="728"/>
                </a:lnTo>
                <a:lnTo>
                  <a:pt x="829" y="672"/>
                </a:lnTo>
                <a:lnTo>
                  <a:pt x="797" y="645"/>
                </a:lnTo>
                <a:lnTo>
                  <a:pt x="696" y="652"/>
                </a:lnTo>
                <a:lnTo>
                  <a:pt x="671" y="557"/>
                </a:lnTo>
                <a:lnTo>
                  <a:pt x="658" y="418"/>
                </a:lnTo>
                <a:lnTo>
                  <a:pt x="658" y="272"/>
                </a:lnTo>
                <a:lnTo>
                  <a:pt x="689" y="222"/>
                </a:lnTo>
                <a:lnTo>
                  <a:pt x="689" y="222"/>
                </a:lnTo>
                <a:lnTo>
                  <a:pt x="689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58"/>
          <p:cNvSpPr/>
          <p:nvPr/>
        </p:nvSpPr>
        <p:spPr>
          <a:xfrm>
            <a:off x="4213080" y="2200320"/>
            <a:ext cx="2882880" cy="143820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816" h="906">
                <a:moveTo>
                  <a:pt x="1816" y="254"/>
                </a:moveTo>
                <a:lnTo>
                  <a:pt x="1784" y="145"/>
                </a:lnTo>
                <a:lnTo>
                  <a:pt x="1665" y="76"/>
                </a:lnTo>
                <a:lnTo>
                  <a:pt x="1519" y="63"/>
                </a:lnTo>
                <a:lnTo>
                  <a:pt x="1354" y="6"/>
                </a:lnTo>
                <a:lnTo>
                  <a:pt x="1247" y="0"/>
                </a:lnTo>
                <a:lnTo>
                  <a:pt x="1151" y="6"/>
                </a:lnTo>
                <a:lnTo>
                  <a:pt x="1044" y="50"/>
                </a:lnTo>
                <a:lnTo>
                  <a:pt x="955" y="114"/>
                </a:lnTo>
                <a:lnTo>
                  <a:pt x="822" y="152"/>
                </a:lnTo>
                <a:lnTo>
                  <a:pt x="703" y="184"/>
                </a:lnTo>
                <a:lnTo>
                  <a:pt x="576" y="279"/>
                </a:lnTo>
                <a:lnTo>
                  <a:pt x="525" y="317"/>
                </a:lnTo>
                <a:lnTo>
                  <a:pt x="449" y="329"/>
                </a:lnTo>
                <a:lnTo>
                  <a:pt x="380" y="304"/>
                </a:lnTo>
                <a:lnTo>
                  <a:pt x="418" y="342"/>
                </a:lnTo>
                <a:lnTo>
                  <a:pt x="462" y="368"/>
                </a:lnTo>
                <a:lnTo>
                  <a:pt x="399" y="393"/>
                </a:lnTo>
                <a:lnTo>
                  <a:pt x="310" y="387"/>
                </a:lnTo>
                <a:lnTo>
                  <a:pt x="272" y="342"/>
                </a:lnTo>
                <a:lnTo>
                  <a:pt x="260" y="380"/>
                </a:lnTo>
                <a:lnTo>
                  <a:pt x="279" y="443"/>
                </a:lnTo>
                <a:lnTo>
                  <a:pt x="310" y="482"/>
                </a:lnTo>
                <a:lnTo>
                  <a:pt x="266" y="514"/>
                </a:lnTo>
                <a:lnTo>
                  <a:pt x="202" y="576"/>
                </a:lnTo>
                <a:lnTo>
                  <a:pt x="196" y="684"/>
                </a:lnTo>
                <a:lnTo>
                  <a:pt x="140" y="755"/>
                </a:lnTo>
                <a:lnTo>
                  <a:pt x="70" y="767"/>
                </a:lnTo>
                <a:lnTo>
                  <a:pt x="31" y="678"/>
                </a:lnTo>
                <a:lnTo>
                  <a:pt x="0" y="755"/>
                </a:lnTo>
                <a:lnTo>
                  <a:pt x="25" y="824"/>
                </a:lnTo>
                <a:lnTo>
                  <a:pt x="102" y="868"/>
                </a:lnTo>
                <a:lnTo>
                  <a:pt x="235" y="874"/>
                </a:lnTo>
                <a:lnTo>
                  <a:pt x="317" y="830"/>
                </a:lnTo>
                <a:lnTo>
                  <a:pt x="367" y="906"/>
                </a:lnTo>
                <a:lnTo>
                  <a:pt x="412" y="830"/>
                </a:lnTo>
                <a:lnTo>
                  <a:pt x="360" y="702"/>
                </a:lnTo>
                <a:lnTo>
                  <a:pt x="354" y="576"/>
                </a:lnTo>
                <a:lnTo>
                  <a:pt x="412" y="601"/>
                </a:lnTo>
                <a:lnTo>
                  <a:pt x="367" y="501"/>
                </a:lnTo>
                <a:lnTo>
                  <a:pt x="360" y="443"/>
                </a:lnTo>
                <a:lnTo>
                  <a:pt x="431" y="501"/>
                </a:lnTo>
                <a:lnTo>
                  <a:pt x="487" y="538"/>
                </a:lnTo>
                <a:lnTo>
                  <a:pt x="481" y="437"/>
                </a:lnTo>
                <a:lnTo>
                  <a:pt x="545" y="450"/>
                </a:lnTo>
                <a:lnTo>
                  <a:pt x="690" y="462"/>
                </a:lnTo>
                <a:lnTo>
                  <a:pt x="835" y="437"/>
                </a:lnTo>
                <a:lnTo>
                  <a:pt x="703" y="374"/>
                </a:lnTo>
                <a:lnTo>
                  <a:pt x="835" y="272"/>
                </a:lnTo>
                <a:lnTo>
                  <a:pt x="987" y="247"/>
                </a:lnTo>
                <a:lnTo>
                  <a:pt x="1165" y="272"/>
                </a:lnTo>
                <a:lnTo>
                  <a:pt x="1303" y="260"/>
                </a:lnTo>
                <a:lnTo>
                  <a:pt x="1392" y="222"/>
                </a:lnTo>
                <a:lnTo>
                  <a:pt x="1481" y="208"/>
                </a:lnTo>
                <a:lnTo>
                  <a:pt x="1380" y="184"/>
                </a:lnTo>
                <a:lnTo>
                  <a:pt x="1278" y="196"/>
                </a:lnTo>
                <a:lnTo>
                  <a:pt x="1178" y="190"/>
                </a:lnTo>
                <a:lnTo>
                  <a:pt x="1057" y="145"/>
                </a:lnTo>
                <a:lnTo>
                  <a:pt x="1247" y="145"/>
                </a:lnTo>
                <a:lnTo>
                  <a:pt x="1374" y="133"/>
                </a:lnTo>
                <a:lnTo>
                  <a:pt x="1475" y="145"/>
                </a:lnTo>
                <a:lnTo>
                  <a:pt x="1563" y="184"/>
                </a:lnTo>
                <a:lnTo>
                  <a:pt x="1582" y="133"/>
                </a:lnTo>
                <a:lnTo>
                  <a:pt x="1652" y="164"/>
                </a:lnTo>
                <a:lnTo>
                  <a:pt x="1696" y="234"/>
                </a:lnTo>
                <a:lnTo>
                  <a:pt x="1708" y="304"/>
                </a:lnTo>
                <a:lnTo>
                  <a:pt x="1753" y="272"/>
                </a:lnTo>
                <a:lnTo>
                  <a:pt x="1753" y="342"/>
                </a:lnTo>
                <a:lnTo>
                  <a:pt x="1721" y="462"/>
                </a:lnTo>
                <a:lnTo>
                  <a:pt x="1816" y="342"/>
                </a:lnTo>
                <a:lnTo>
                  <a:pt x="1816" y="254"/>
                </a:lnTo>
                <a:lnTo>
                  <a:pt x="1816" y="254"/>
                </a:lnTo>
                <a:lnTo>
                  <a:pt x="1816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59"/>
          <p:cNvSpPr/>
          <p:nvPr/>
        </p:nvSpPr>
        <p:spPr>
          <a:xfrm>
            <a:off x="3751200" y="3225960"/>
            <a:ext cx="2421000" cy="347004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3470040"/>
              <a:gd name="textAreaBottom" fmla="*/ 3470400 h 3470040"/>
            </a:gdLst>
            <a:ahLst/>
            <a:rect l="textAreaLeft" t="textAreaTop" r="textAreaRight" b="textAreaBottom"/>
            <a:pathLst>
              <a:path w="1525" h="2186">
                <a:moveTo>
                  <a:pt x="709" y="20"/>
                </a:moveTo>
                <a:lnTo>
                  <a:pt x="759" y="140"/>
                </a:lnTo>
                <a:lnTo>
                  <a:pt x="740" y="260"/>
                </a:lnTo>
                <a:lnTo>
                  <a:pt x="678" y="323"/>
                </a:lnTo>
                <a:lnTo>
                  <a:pt x="589" y="373"/>
                </a:lnTo>
                <a:lnTo>
                  <a:pt x="399" y="425"/>
                </a:lnTo>
                <a:lnTo>
                  <a:pt x="539" y="348"/>
                </a:lnTo>
                <a:lnTo>
                  <a:pt x="658" y="273"/>
                </a:lnTo>
                <a:lnTo>
                  <a:pt x="582" y="246"/>
                </a:lnTo>
                <a:lnTo>
                  <a:pt x="512" y="172"/>
                </a:lnTo>
                <a:lnTo>
                  <a:pt x="373" y="184"/>
                </a:lnTo>
                <a:lnTo>
                  <a:pt x="316" y="273"/>
                </a:lnTo>
                <a:lnTo>
                  <a:pt x="291" y="387"/>
                </a:lnTo>
                <a:lnTo>
                  <a:pt x="222" y="412"/>
                </a:lnTo>
                <a:lnTo>
                  <a:pt x="177" y="323"/>
                </a:lnTo>
                <a:lnTo>
                  <a:pt x="126" y="437"/>
                </a:lnTo>
                <a:lnTo>
                  <a:pt x="126" y="500"/>
                </a:lnTo>
                <a:lnTo>
                  <a:pt x="145" y="564"/>
                </a:lnTo>
                <a:lnTo>
                  <a:pt x="120" y="614"/>
                </a:lnTo>
                <a:lnTo>
                  <a:pt x="108" y="684"/>
                </a:lnTo>
                <a:lnTo>
                  <a:pt x="139" y="753"/>
                </a:lnTo>
                <a:lnTo>
                  <a:pt x="120" y="811"/>
                </a:lnTo>
                <a:lnTo>
                  <a:pt x="63" y="836"/>
                </a:lnTo>
                <a:lnTo>
                  <a:pt x="0" y="830"/>
                </a:lnTo>
                <a:lnTo>
                  <a:pt x="19" y="861"/>
                </a:lnTo>
                <a:lnTo>
                  <a:pt x="57" y="887"/>
                </a:lnTo>
                <a:lnTo>
                  <a:pt x="126" y="899"/>
                </a:lnTo>
                <a:lnTo>
                  <a:pt x="108" y="938"/>
                </a:lnTo>
                <a:lnTo>
                  <a:pt x="164" y="976"/>
                </a:lnTo>
                <a:lnTo>
                  <a:pt x="222" y="988"/>
                </a:lnTo>
                <a:lnTo>
                  <a:pt x="298" y="976"/>
                </a:lnTo>
                <a:lnTo>
                  <a:pt x="368" y="944"/>
                </a:lnTo>
                <a:lnTo>
                  <a:pt x="474" y="836"/>
                </a:lnTo>
                <a:lnTo>
                  <a:pt x="532" y="741"/>
                </a:lnTo>
                <a:lnTo>
                  <a:pt x="493" y="880"/>
                </a:lnTo>
                <a:lnTo>
                  <a:pt x="431" y="963"/>
                </a:lnTo>
                <a:lnTo>
                  <a:pt x="335" y="1026"/>
                </a:lnTo>
                <a:lnTo>
                  <a:pt x="278" y="1032"/>
                </a:lnTo>
                <a:lnTo>
                  <a:pt x="208" y="1026"/>
                </a:lnTo>
                <a:lnTo>
                  <a:pt x="139" y="1071"/>
                </a:lnTo>
                <a:lnTo>
                  <a:pt x="102" y="1172"/>
                </a:lnTo>
                <a:lnTo>
                  <a:pt x="114" y="1223"/>
                </a:lnTo>
                <a:lnTo>
                  <a:pt x="83" y="1304"/>
                </a:lnTo>
                <a:lnTo>
                  <a:pt x="96" y="1388"/>
                </a:lnTo>
                <a:lnTo>
                  <a:pt x="177" y="1496"/>
                </a:lnTo>
                <a:lnTo>
                  <a:pt x="183" y="1407"/>
                </a:lnTo>
                <a:lnTo>
                  <a:pt x="247" y="1350"/>
                </a:lnTo>
                <a:lnTo>
                  <a:pt x="247" y="1431"/>
                </a:lnTo>
                <a:lnTo>
                  <a:pt x="361" y="1344"/>
                </a:lnTo>
                <a:lnTo>
                  <a:pt x="418" y="1242"/>
                </a:lnTo>
                <a:lnTo>
                  <a:pt x="443" y="1103"/>
                </a:lnTo>
                <a:lnTo>
                  <a:pt x="481" y="1242"/>
                </a:lnTo>
                <a:lnTo>
                  <a:pt x="551" y="1362"/>
                </a:lnTo>
                <a:lnTo>
                  <a:pt x="703" y="1444"/>
                </a:lnTo>
                <a:lnTo>
                  <a:pt x="791" y="1496"/>
                </a:lnTo>
                <a:lnTo>
                  <a:pt x="842" y="1552"/>
                </a:lnTo>
                <a:lnTo>
                  <a:pt x="842" y="1654"/>
                </a:lnTo>
                <a:lnTo>
                  <a:pt x="778" y="1781"/>
                </a:lnTo>
                <a:lnTo>
                  <a:pt x="753" y="1844"/>
                </a:lnTo>
                <a:lnTo>
                  <a:pt x="740" y="1919"/>
                </a:lnTo>
                <a:lnTo>
                  <a:pt x="746" y="1988"/>
                </a:lnTo>
                <a:lnTo>
                  <a:pt x="809" y="2072"/>
                </a:lnTo>
                <a:lnTo>
                  <a:pt x="595" y="2166"/>
                </a:lnTo>
                <a:lnTo>
                  <a:pt x="873" y="2084"/>
                </a:lnTo>
                <a:lnTo>
                  <a:pt x="1063" y="1982"/>
                </a:lnTo>
                <a:lnTo>
                  <a:pt x="1107" y="2046"/>
                </a:lnTo>
                <a:lnTo>
                  <a:pt x="1215" y="2122"/>
                </a:lnTo>
                <a:lnTo>
                  <a:pt x="1310" y="2154"/>
                </a:lnTo>
                <a:lnTo>
                  <a:pt x="1355" y="2186"/>
                </a:lnTo>
                <a:lnTo>
                  <a:pt x="1513" y="2186"/>
                </a:lnTo>
                <a:lnTo>
                  <a:pt x="1469" y="2059"/>
                </a:lnTo>
                <a:lnTo>
                  <a:pt x="1429" y="1976"/>
                </a:lnTo>
                <a:lnTo>
                  <a:pt x="1525" y="1964"/>
                </a:lnTo>
                <a:lnTo>
                  <a:pt x="1398" y="1939"/>
                </a:lnTo>
                <a:lnTo>
                  <a:pt x="1177" y="1781"/>
                </a:lnTo>
                <a:lnTo>
                  <a:pt x="1076" y="1678"/>
                </a:lnTo>
                <a:lnTo>
                  <a:pt x="1013" y="1590"/>
                </a:lnTo>
                <a:lnTo>
                  <a:pt x="981" y="1527"/>
                </a:lnTo>
                <a:lnTo>
                  <a:pt x="905" y="1324"/>
                </a:lnTo>
                <a:lnTo>
                  <a:pt x="861" y="1140"/>
                </a:lnTo>
                <a:lnTo>
                  <a:pt x="867" y="988"/>
                </a:lnTo>
                <a:lnTo>
                  <a:pt x="867" y="793"/>
                </a:lnTo>
                <a:lnTo>
                  <a:pt x="766" y="924"/>
                </a:lnTo>
                <a:lnTo>
                  <a:pt x="772" y="811"/>
                </a:lnTo>
                <a:lnTo>
                  <a:pt x="753" y="704"/>
                </a:lnTo>
                <a:lnTo>
                  <a:pt x="740" y="614"/>
                </a:lnTo>
                <a:lnTo>
                  <a:pt x="753" y="506"/>
                </a:lnTo>
                <a:lnTo>
                  <a:pt x="778" y="419"/>
                </a:lnTo>
                <a:lnTo>
                  <a:pt x="849" y="355"/>
                </a:lnTo>
                <a:lnTo>
                  <a:pt x="809" y="279"/>
                </a:lnTo>
                <a:lnTo>
                  <a:pt x="803" y="215"/>
                </a:lnTo>
                <a:lnTo>
                  <a:pt x="816" y="152"/>
                </a:lnTo>
                <a:lnTo>
                  <a:pt x="867" y="89"/>
                </a:lnTo>
                <a:lnTo>
                  <a:pt x="753" y="0"/>
                </a:lnTo>
                <a:lnTo>
                  <a:pt x="709" y="20"/>
                </a:lnTo>
                <a:lnTo>
                  <a:pt x="709" y="20"/>
                </a:lnTo>
                <a:lnTo>
                  <a:pt x="709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60"/>
          <p:cNvSpPr/>
          <p:nvPr/>
        </p:nvSpPr>
        <p:spPr>
          <a:xfrm>
            <a:off x="3803760" y="4976640"/>
            <a:ext cx="1203120" cy="171000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710000"/>
              <a:gd name="textAreaBottom" fmla="*/ 1710360 h 1710000"/>
            </a:gdLst>
            <a:ahLst/>
            <a:rect l="textAreaLeft" t="textAreaTop" r="textAreaRight" b="textAreaBottom"/>
            <a:pathLst>
              <a:path w="758" h="1077">
                <a:moveTo>
                  <a:pt x="423" y="0"/>
                </a:moveTo>
                <a:lnTo>
                  <a:pt x="423" y="177"/>
                </a:lnTo>
                <a:lnTo>
                  <a:pt x="353" y="310"/>
                </a:lnTo>
                <a:lnTo>
                  <a:pt x="227" y="411"/>
                </a:lnTo>
                <a:lnTo>
                  <a:pt x="183" y="360"/>
                </a:lnTo>
                <a:lnTo>
                  <a:pt x="138" y="462"/>
                </a:lnTo>
                <a:lnTo>
                  <a:pt x="106" y="545"/>
                </a:lnTo>
                <a:lnTo>
                  <a:pt x="50" y="601"/>
                </a:lnTo>
                <a:lnTo>
                  <a:pt x="6" y="671"/>
                </a:lnTo>
                <a:lnTo>
                  <a:pt x="0" y="721"/>
                </a:lnTo>
                <a:lnTo>
                  <a:pt x="12" y="771"/>
                </a:lnTo>
                <a:lnTo>
                  <a:pt x="56" y="836"/>
                </a:lnTo>
                <a:lnTo>
                  <a:pt x="106" y="879"/>
                </a:lnTo>
                <a:lnTo>
                  <a:pt x="93" y="823"/>
                </a:lnTo>
                <a:lnTo>
                  <a:pt x="106" y="771"/>
                </a:lnTo>
                <a:lnTo>
                  <a:pt x="150" y="753"/>
                </a:lnTo>
                <a:lnTo>
                  <a:pt x="214" y="741"/>
                </a:lnTo>
                <a:lnTo>
                  <a:pt x="258" y="715"/>
                </a:lnTo>
                <a:lnTo>
                  <a:pt x="308" y="678"/>
                </a:lnTo>
                <a:lnTo>
                  <a:pt x="277" y="753"/>
                </a:lnTo>
                <a:lnTo>
                  <a:pt x="220" y="804"/>
                </a:lnTo>
                <a:lnTo>
                  <a:pt x="175" y="854"/>
                </a:lnTo>
                <a:lnTo>
                  <a:pt x="169" y="919"/>
                </a:lnTo>
                <a:lnTo>
                  <a:pt x="87" y="988"/>
                </a:lnTo>
                <a:lnTo>
                  <a:pt x="50" y="1038"/>
                </a:lnTo>
                <a:lnTo>
                  <a:pt x="30" y="1077"/>
                </a:lnTo>
                <a:lnTo>
                  <a:pt x="518" y="1077"/>
                </a:lnTo>
                <a:lnTo>
                  <a:pt x="625" y="1051"/>
                </a:lnTo>
                <a:lnTo>
                  <a:pt x="670" y="1012"/>
                </a:lnTo>
                <a:lnTo>
                  <a:pt x="631" y="981"/>
                </a:lnTo>
                <a:lnTo>
                  <a:pt x="606" y="919"/>
                </a:lnTo>
                <a:lnTo>
                  <a:pt x="618" y="816"/>
                </a:lnTo>
                <a:lnTo>
                  <a:pt x="657" y="885"/>
                </a:lnTo>
                <a:lnTo>
                  <a:pt x="657" y="792"/>
                </a:lnTo>
                <a:lnTo>
                  <a:pt x="695" y="715"/>
                </a:lnTo>
                <a:lnTo>
                  <a:pt x="758" y="588"/>
                </a:lnTo>
                <a:lnTo>
                  <a:pt x="758" y="499"/>
                </a:lnTo>
                <a:lnTo>
                  <a:pt x="726" y="405"/>
                </a:lnTo>
                <a:lnTo>
                  <a:pt x="670" y="316"/>
                </a:lnTo>
                <a:lnTo>
                  <a:pt x="512" y="235"/>
                </a:lnTo>
                <a:lnTo>
                  <a:pt x="543" y="354"/>
                </a:lnTo>
                <a:lnTo>
                  <a:pt x="556" y="417"/>
                </a:lnTo>
                <a:lnTo>
                  <a:pt x="530" y="499"/>
                </a:lnTo>
                <a:lnTo>
                  <a:pt x="479" y="601"/>
                </a:lnTo>
                <a:lnTo>
                  <a:pt x="460" y="728"/>
                </a:lnTo>
                <a:lnTo>
                  <a:pt x="429" y="620"/>
                </a:lnTo>
                <a:lnTo>
                  <a:pt x="429" y="532"/>
                </a:lnTo>
                <a:lnTo>
                  <a:pt x="479" y="393"/>
                </a:lnTo>
                <a:lnTo>
                  <a:pt x="479" y="241"/>
                </a:lnTo>
                <a:lnTo>
                  <a:pt x="466" y="114"/>
                </a:lnTo>
                <a:lnTo>
                  <a:pt x="423" y="0"/>
                </a:lnTo>
                <a:lnTo>
                  <a:pt x="423" y="0"/>
                </a:lnTo>
                <a:lnTo>
                  <a:pt x="4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61"/>
          <p:cNvSpPr/>
          <p:nvPr/>
        </p:nvSpPr>
        <p:spPr>
          <a:xfrm>
            <a:off x="3743280" y="4684680"/>
            <a:ext cx="258840" cy="1406520"/>
          </a:xfrm>
          <a:custGeom>
            <a:avLst/>
            <a:gdLst>
              <a:gd name="textAreaLeft" fmla="*/ 0 w 258840"/>
              <a:gd name="textAreaRight" fmla="*/ 259200 w 258840"/>
              <a:gd name="textAreaTop" fmla="*/ 0 h 1406520"/>
              <a:gd name="textAreaBottom" fmla="*/ 1406520 h 1406520"/>
            </a:gdLst>
            <a:ahLst/>
            <a:rect l="textAreaLeft" t="textAreaTop" r="textAreaRight" b="textAreaBottom"/>
            <a:pathLst>
              <a:path w="163" h="886">
                <a:moveTo>
                  <a:pt x="68" y="0"/>
                </a:moveTo>
                <a:lnTo>
                  <a:pt x="81" y="51"/>
                </a:lnTo>
                <a:lnTo>
                  <a:pt x="163" y="107"/>
                </a:lnTo>
                <a:lnTo>
                  <a:pt x="101" y="132"/>
                </a:lnTo>
                <a:lnTo>
                  <a:pt x="68" y="221"/>
                </a:lnTo>
                <a:lnTo>
                  <a:pt x="56" y="311"/>
                </a:lnTo>
                <a:lnTo>
                  <a:pt x="44" y="392"/>
                </a:lnTo>
                <a:lnTo>
                  <a:pt x="56" y="456"/>
                </a:lnTo>
                <a:lnTo>
                  <a:pt x="94" y="557"/>
                </a:lnTo>
                <a:lnTo>
                  <a:pt x="150" y="608"/>
                </a:lnTo>
                <a:lnTo>
                  <a:pt x="101" y="709"/>
                </a:lnTo>
                <a:lnTo>
                  <a:pt x="44" y="810"/>
                </a:lnTo>
                <a:lnTo>
                  <a:pt x="17" y="886"/>
                </a:lnTo>
                <a:lnTo>
                  <a:pt x="17" y="785"/>
                </a:lnTo>
                <a:lnTo>
                  <a:pt x="50" y="709"/>
                </a:lnTo>
                <a:lnTo>
                  <a:pt x="5" y="570"/>
                </a:lnTo>
                <a:lnTo>
                  <a:pt x="0" y="419"/>
                </a:lnTo>
                <a:lnTo>
                  <a:pt x="0" y="291"/>
                </a:lnTo>
                <a:lnTo>
                  <a:pt x="50" y="152"/>
                </a:lnTo>
                <a:lnTo>
                  <a:pt x="75" y="101"/>
                </a:lnTo>
                <a:lnTo>
                  <a:pt x="56" y="51"/>
                </a:lnTo>
                <a:lnTo>
                  <a:pt x="68" y="0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62"/>
          <p:cNvSpPr/>
          <p:nvPr/>
        </p:nvSpPr>
        <p:spPr>
          <a:xfrm>
            <a:off x="3770280" y="6272280"/>
            <a:ext cx="201600" cy="372960"/>
          </a:xfrm>
          <a:custGeom>
            <a:avLst/>
            <a:gdLst>
              <a:gd name="textAreaLeft" fmla="*/ 0 w 201600"/>
              <a:gd name="textAreaRight" fmla="*/ 201960 w 2016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27" h="235">
                <a:moveTo>
                  <a:pt x="14" y="0"/>
                </a:moveTo>
                <a:lnTo>
                  <a:pt x="45" y="63"/>
                </a:lnTo>
                <a:lnTo>
                  <a:pt x="127" y="115"/>
                </a:lnTo>
                <a:lnTo>
                  <a:pt x="51" y="235"/>
                </a:lnTo>
                <a:lnTo>
                  <a:pt x="27" y="172"/>
                </a:lnTo>
                <a:lnTo>
                  <a:pt x="0" y="69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63"/>
          <p:cNvSpPr/>
          <p:nvPr/>
        </p:nvSpPr>
        <p:spPr>
          <a:xfrm>
            <a:off x="5529240" y="4586400"/>
            <a:ext cx="55440" cy="42840"/>
          </a:xfrm>
          <a:custGeom>
            <a:avLst/>
            <a:gdLst>
              <a:gd name="textAreaLeft" fmla="*/ 0 w 55440"/>
              <a:gd name="textAreaRight" fmla="*/ 55800 w 554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5" h="27">
                <a:moveTo>
                  <a:pt x="6" y="4"/>
                </a:moveTo>
                <a:lnTo>
                  <a:pt x="25" y="0"/>
                </a:lnTo>
                <a:lnTo>
                  <a:pt x="35" y="11"/>
                </a:lnTo>
                <a:lnTo>
                  <a:pt x="30" y="27"/>
                </a:lnTo>
                <a:lnTo>
                  <a:pt x="8" y="27"/>
                </a:lnTo>
                <a:lnTo>
                  <a:pt x="0" y="18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64"/>
          <p:cNvSpPr/>
          <p:nvPr/>
        </p:nvSpPr>
        <p:spPr>
          <a:xfrm>
            <a:off x="6613560" y="4376880"/>
            <a:ext cx="50760" cy="44280"/>
          </a:xfrm>
          <a:custGeom>
            <a:avLst/>
            <a:gdLst>
              <a:gd name="textAreaLeft" fmla="*/ 0 w 50760"/>
              <a:gd name="textAreaRight" fmla="*/ 51120 w 507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32" h="28">
                <a:moveTo>
                  <a:pt x="0" y="24"/>
                </a:moveTo>
                <a:lnTo>
                  <a:pt x="3" y="4"/>
                </a:lnTo>
                <a:lnTo>
                  <a:pt x="14" y="0"/>
                </a:lnTo>
                <a:lnTo>
                  <a:pt x="27" y="6"/>
                </a:lnTo>
                <a:lnTo>
                  <a:pt x="32" y="16"/>
                </a:lnTo>
                <a:lnTo>
                  <a:pt x="32" y="24"/>
                </a:lnTo>
                <a:lnTo>
                  <a:pt x="21" y="28"/>
                </a:lnTo>
                <a:lnTo>
                  <a:pt x="10" y="27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65"/>
          <p:cNvSpPr/>
          <p:nvPr/>
        </p:nvSpPr>
        <p:spPr>
          <a:xfrm>
            <a:off x="5568840" y="3348000"/>
            <a:ext cx="1101960" cy="881280"/>
          </a:xfrm>
          <a:custGeom>
            <a:avLst/>
            <a:gdLst>
              <a:gd name="textAreaLeft" fmla="*/ 0 w 1101960"/>
              <a:gd name="textAreaRight" fmla="*/ 1102320 w 110196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694" h="555">
                <a:moveTo>
                  <a:pt x="130" y="541"/>
                </a:moveTo>
                <a:lnTo>
                  <a:pt x="32" y="507"/>
                </a:lnTo>
                <a:lnTo>
                  <a:pt x="0" y="452"/>
                </a:lnTo>
                <a:lnTo>
                  <a:pt x="0" y="376"/>
                </a:lnTo>
                <a:lnTo>
                  <a:pt x="47" y="265"/>
                </a:lnTo>
                <a:lnTo>
                  <a:pt x="125" y="135"/>
                </a:lnTo>
                <a:lnTo>
                  <a:pt x="234" y="56"/>
                </a:lnTo>
                <a:lnTo>
                  <a:pt x="332" y="4"/>
                </a:lnTo>
                <a:lnTo>
                  <a:pt x="448" y="0"/>
                </a:lnTo>
                <a:lnTo>
                  <a:pt x="507" y="19"/>
                </a:lnTo>
                <a:lnTo>
                  <a:pt x="605" y="75"/>
                </a:lnTo>
                <a:lnTo>
                  <a:pt x="652" y="149"/>
                </a:lnTo>
                <a:lnTo>
                  <a:pt x="694" y="247"/>
                </a:lnTo>
                <a:lnTo>
                  <a:pt x="694" y="317"/>
                </a:lnTo>
                <a:lnTo>
                  <a:pt x="670" y="383"/>
                </a:lnTo>
                <a:lnTo>
                  <a:pt x="602" y="428"/>
                </a:lnTo>
                <a:lnTo>
                  <a:pt x="522" y="433"/>
                </a:lnTo>
                <a:lnTo>
                  <a:pt x="441" y="481"/>
                </a:lnTo>
                <a:lnTo>
                  <a:pt x="368" y="531"/>
                </a:lnTo>
                <a:lnTo>
                  <a:pt x="261" y="555"/>
                </a:lnTo>
                <a:lnTo>
                  <a:pt x="130" y="541"/>
                </a:lnTo>
                <a:lnTo>
                  <a:pt x="130" y="541"/>
                </a:lnTo>
                <a:lnTo>
                  <a:pt x="130" y="541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66"/>
          <p:cNvSpPr/>
          <p:nvPr/>
        </p:nvSpPr>
        <p:spPr>
          <a:xfrm>
            <a:off x="6006960" y="4506840"/>
            <a:ext cx="206640" cy="601560"/>
          </a:xfrm>
          <a:custGeom>
            <a:avLst/>
            <a:gdLst>
              <a:gd name="textAreaLeft" fmla="*/ 0 w 206640"/>
              <a:gd name="textAreaRight" fmla="*/ 207000 w 2066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30" h="379">
                <a:moveTo>
                  <a:pt x="17" y="0"/>
                </a:moveTo>
                <a:lnTo>
                  <a:pt x="0" y="77"/>
                </a:lnTo>
                <a:lnTo>
                  <a:pt x="23" y="142"/>
                </a:lnTo>
                <a:lnTo>
                  <a:pt x="41" y="217"/>
                </a:lnTo>
                <a:lnTo>
                  <a:pt x="35" y="299"/>
                </a:lnTo>
                <a:lnTo>
                  <a:pt x="50" y="360"/>
                </a:lnTo>
                <a:lnTo>
                  <a:pt x="80" y="379"/>
                </a:lnTo>
                <a:lnTo>
                  <a:pt x="113" y="379"/>
                </a:lnTo>
                <a:lnTo>
                  <a:pt x="130" y="332"/>
                </a:lnTo>
                <a:lnTo>
                  <a:pt x="106" y="264"/>
                </a:lnTo>
                <a:lnTo>
                  <a:pt x="74" y="177"/>
                </a:lnTo>
                <a:lnTo>
                  <a:pt x="74" y="99"/>
                </a:lnTo>
                <a:lnTo>
                  <a:pt x="59" y="16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67"/>
          <p:cNvSpPr/>
          <p:nvPr/>
        </p:nvSpPr>
        <p:spPr>
          <a:xfrm>
            <a:off x="5959440" y="5072040"/>
            <a:ext cx="112680" cy="74520"/>
          </a:xfrm>
          <a:custGeom>
            <a:avLst/>
            <a:gdLst>
              <a:gd name="textAreaLeft" fmla="*/ 0 w 112680"/>
              <a:gd name="textAreaRight" fmla="*/ 113040 w 1126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71" h="47">
                <a:moveTo>
                  <a:pt x="0" y="39"/>
                </a:moveTo>
                <a:lnTo>
                  <a:pt x="6" y="9"/>
                </a:lnTo>
                <a:lnTo>
                  <a:pt x="38" y="0"/>
                </a:lnTo>
                <a:lnTo>
                  <a:pt x="71" y="39"/>
                </a:lnTo>
                <a:lnTo>
                  <a:pt x="38" y="47"/>
                </a:lnTo>
                <a:lnTo>
                  <a:pt x="0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68"/>
          <p:cNvSpPr/>
          <p:nvPr/>
        </p:nvSpPr>
        <p:spPr>
          <a:xfrm>
            <a:off x="5221440" y="4761000"/>
            <a:ext cx="644400" cy="527040"/>
          </a:xfrm>
          <a:custGeom>
            <a:avLst/>
            <a:gdLst>
              <a:gd name="textAreaLeft" fmla="*/ 0 w 644400"/>
              <a:gd name="textAreaRight" fmla="*/ 644760 w 6444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06" h="332">
                <a:moveTo>
                  <a:pt x="0" y="128"/>
                </a:moveTo>
                <a:lnTo>
                  <a:pt x="20" y="89"/>
                </a:lnTo>
                <a:lnTo>
                  <a:pt x="48" y="65"/>
                </a:lnTo>
                <a:lnTo>
                  <a:pt x="112" y="48"/>
                </a:lnTo>
                <a:lnTo>
                  <a:pt x="178" y="48"/>
                </a:lnTo>
                <a:lnTo>
                  <a:pt x="275" y="41"/>
                </a:lnTo>
                <a:lnTo>
                  <a:pt x="347" y="15"/>
                </a:lnTo>
                <a:lnTo>
                  <a:pt x="406" y="0"/>
                </a:lnTo>
                <a:lnTo>
                  <a:pt x="391" y="86"/>
                </a:lnTo>
                <a:lnTo>
                  <a:pt x="358" y="160"/>
                </a:lnTo>
                <a:lnTo>
                  <a:pt x="299" y="235"/>
                </a:lnTo>
                <a:lnTo>
                  <a:pt x="219" y="282"/>
                </a:lnTo>
                <a:lnTo>
                  <a:pt x="172" y="324"/>
                </a:lnTo>
                <a:lnTo>
                  <a:pt x="119" y="332"/>
                </a:lnTo>
                <a:lnTo>
                  <a:pt x="65" y="300"/>
                </a:lnTo>
                <a:lnTo>
                  <a:pt x="24" y="253"/>
                </a:lnTo>
                <a:lnTo>
                  <a:pt x="6" y="187"/>
                </a:lnTo>
                <a:lnTo>
                  <a:pt x="0" y="128"/>
                </a:lnTo>
                <a:lnTo>
                  <a:pt x="0" y="128"/>
                </a:lnTo>
                <a:lnTo>
                  <a:pt x="0" y="128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69"/>
          <p:cNvSpPr/>
          <p:nvPr/>
        </p:nvSpPr>
        <p:spPr>
          <a:xfrm>
            <a:off x="6515280" y="4514760"/>
            <a:ext cx="653760" cy="514440"/>
          </a:xfrm>
          <a:custGeom>
            <a:avLst/>
            <a:gdLst/>
            <a:ahLst/>
            <a:rect l="l" t="t" r="r" b="b"/>
            <a:pathLst>
              <a:path w="412" h="324">
                <a:moveTo>
                  <a:pt x="6" y="66"/>
                </a:moveTo>
                <a:lnTo>
                  <a:pt x="94" y="72"/>
                </a:lnTo>
                <a:lnTo>
                  <a:pt x="168" y="66"/>
                </a:lnTo>
                <a:lnTo>
                  <a:pt x="248" y="40"/>
                </a:lnTo>
                <a:lnTo>
                  <a:pt x="307" y="0"/>
                </a:lnTo>
                <a:lnTo>
                  <a:pt x="347" y="0"/>
                </a:lnTo>
                <a:lnTo>
                  <a:pt x="396" y="54"/>
                </a:lnTo>
                <a:lnTo>
                  <a:pt x="412" y="122"/>
                </a:lnTo>
                <a:lnTo>
                  <a:pt x="412" y="218"/>
                </a:lnTo>
                <a:lnTo>
                  <a:pt x="399" y="268"/>
                </a:lnTo>
                <a:lnTo>
                  <a:pt x="355" y="318"/>
                </a:lnTo>
                <a:lnTo>
                  <a:pt x="275" y="324"/>
                </a:lnTo>
                <a:lnTo>
                  <a:pt x="195" y="294"/>
                </a:lnTo>
                <a:lnTo>
                  <a:pt x="113" y="253"/>
                </a:lnTo>
                <a:lnTo>
                  <a:pt x="48" y="203"/>
                </a:lnTo>
                <a:lnTo>
                  <a:pt x="9" y="155"/>
                </a:lnTo>
                <a:lnTo>
                  <a:pt x="0" y="122"/>
                </a:lnTo>
                <a:lnTo>
                  <a:pt x="6" y="66"/>
                </a:lnTo>
                <a:lnTo>
                  <a:pt x="6" y="66"/>
                </a:lnTo>
                <a:lnTo>
                  <a:pt x="6" y="6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70"/>
          <p:cNvSpPr/>
          <p:nvPr/>
        </p:nvSpPr>
        <p:spPr>
          <a:xfrm>
            <a:off x="6100920" y="5962680"/>
            <a:ext cx="642960" cy="297000"/>
          </a:xfrm>
          <a:custGeom>
            <a:avLst/>
            <a:gdLst>
              <a:gd name="textAreaLeft" fmla="*/ 0 w 642960"/>
              <a:gd name="textAreaRight" fmla="*/ 643320 w 6429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405" h="187">
                <a:moveTo>
                  <a:pt x="23" y="116"/>
                </a:moveTo>
                <a:lnTo>
                  <a:pt x="63" y="159"/>
                </a:lnTo>
                <a:lnTo>
                  <a:pt x="128" y="187"/>
                </a:lnTo>
                <a:lnTo>
                  <a:pt x="193" y="187"/>
                </a:lnTo>
                <a:lnTo>
                  <a:pt x="267" y="172"/>
                </a:lnTo>
                <a:lnTo>
                  <a:pt x="322" y="130"/>
                </a:lnTo>
                <a:lnTo>
                  <a:pt x="387" y="65"/>
                </a:lnTo>
                <a:lnTo>
                  <a:pt x="405" y="17"/>
                </a:lnTo>
                <a:lnTo>
                  <a:pt x="355" y="0"/>
                </a:lnTo>
                <a:lnTo>
                  <a:pt x="294" y="24"/>
                </a:lnTo>
                <a:lnTo>
                  <a:pt x="219" y="71"/>
                </a:lnTo>
                <a:lnTo>
                  <a:pt x="139" y="94"/>
                </a:lnTo>
                <a:lnTo>
                  <a:pt x="65" y="89"/>
                </a:lnTo>
                <a:lnTo>
                  <a:pt x="0" y="83"/>
                </a:lnTo>
                <a:lnTo>
                  <a:pt x="23" y="116"/>
                </a:lnTo>
                <a:lnTo>
                  <a:pt x="23" y="116"/>
                </a:lnTo>
                <a:lnTo>
                  <a:pt x="23" y="11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71"/>
          <p:cNvSpPr/>
          <p:nvPr/>
        </p:nvSpPr>
        <p:spPr>
          <a:xfrm>
            <a:off x="5916600" y="5369040"/>
            <a:ext cx="258840" cy="112680"/>
          </a:xfrm>
          <a:custGeom>
            <a:avLst/>
            <a:gdLst>
              <a:gd name="textAreaLeft" fmla="*/ 0 w 258840"/>
              <a:gd name="textAreaRight" fmla="*/ 259200 w 258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63" h="71">
                <a:moveTo>
                  <a:pt x="9" y="71"/>
                </a:moveTo>
                <a:lnTo>
                  <a:pt x="98" y="39"/>
                </a:lnTo>
                <a:lnTo>
                  <a:pt x="163" y="24"/>
                </a:lnTo>
                <a:lnTo>
                  <a:pt x="107" y="0"/>
                </a:lnTo>
                <a:lnTo>
                  <a:pt x="51" y="0"/>
                </a:lnTo>
                <a:lnTo>
                  <a:pt x="0" y="39"/>
                </a:lnTo>
                <a:lnTo>
                  <a:pt x="9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72"/>
          <p:cNvSpPr/>
          <p:nvPr/>
        </p:nvSpPr>
        <p:spPr>
          <a:xfrm>
            <a:off x="5245200" y="4437000"/>
            <a:ext cx="236520" cy="163440"/>
          </a:xfrm>
          <a:custGeom>
            <a:avLst/>
            <a:gdLst>
              <a:gd name="textAreaLeft" fmla="*/ 0 w 236520"/>
              <a:gd name="textAreaRight" fmla="*/ 236880 w 2365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49" h="103">
                <a:moveTo>
                  <a:pt x="0" y="86"/>
                </a:moveTo>
                <a:lnTo>
                  <a:pt x="0" y="56"/>
                </a:lnTo>
                <a:lnTo>
                  <a:pt x="23" y="24"/>
                </a:lnTo>
                <a:lnTo>
                  <a:pt x="70" y="0"/>
                </a:lnTo>
                <a:lnTo>
                  <a:pt x="121" y="6"/>
                </a:lnTo>
                <a:lnTo>
                  <a:pt x="149" y="24"/>
                </a:lnTo>
                <a:lnTo>
                  <a:pt x="56" y="65"/>
                </a:lnTo>
                <a:lnTo>
                  <a:pt x="5" y="103"/>
                </a:lnTo>
                <a:lnTo>
                  <a:pt x="0" y="86"/>
                </a:lnTo>
                <a:lnTo>
                  <a:pt x="0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73"/>
          <p:cNvSpPr/>
          <p:nvPr/>
        </p:nvSpPr>
        <p:spPr>
          <a:xfrm>
            <a:off x="324000" y="6480"/>
            <a:ext cx="5500440" cy="3771720"/>
          </a:xfrm>
          <a:custGeom>
            <a:avLst/>
            <a:gdLst>
              <a:gd name="textAreaLeft" fmla="*/ 0 w 5500440"/>
              <a:gd name="textAreaRight" fmla="*/ 5500440 w 5500440"/>
              <a:gd name="textAreaTop" fmla="*/ 0 h 3771720"/>
              <a:gd name="textAreaBottom" fmla="*/ 3772080 h 3771720"/>
            </a:gdLst>
            <a:ahLst/>
            <a:rect l="textAreaLeft" t="textAreaTop" r="textAreaRight" b="textAreaBottom"/>
            <a:pathLst>
              <a:path w="3465" h="2376">
                <a:moveTo>
                  <a:pt x="2943" y="2376"/>
                </a:moveTo>
                <a:lnTo>
                  <a:pt x="2881" y="2327"/>
                </a:lnTo>
                <a:lnTo>
                  <a:pt x="2819" y="2256"/>
                </a:lnTo>
                <a:lnTo>
                  <a:pt x="2777" y="2194"/>
                </a:lnTo>
                <a:lnTo>
                  <a:pt x="2747" y="2126"/>
                </a:lnTo>
                <a:lnTo>
                  <a:pt x="2735" y="2079"/>
                </a:lnTo>
                <a:lnTo>
                  <a:pt x="2729" y="2044"/>
                </a:lnTo>
                <a:lnTo>
                  <a:pt x="2739" y="2032"/>
                </a:lnTo>
                <a:lnTo>
                  <a:pt x="2752" y="2017"/>
                </a:lnTo>
                <a:lnTo>
                  <a:pt x="2889" y="1948"/>
                </a:lnTo>
                <a:lnTo>
                  <a:pt x="3020" y="1859"/>
                </a:lnTo>
                <a:lnTo>
                  <a:pt x="3163" y="1744"/>
                </a:lnTo>
                <a:lnTo>
                  <a:pt x="3262" y="1638"/>
                </a:lnTo>
                <a:lnTo>
                  <a:pt x="3350" y="1512"/>
                </a:lnTo>
                <a:lnTo>
                  <a:pt x="3403" y="1408"/>
                </a:lnTo>
                <a:lnTo>
                  <a:pt x="3443" y="1267"/>
                </a:lnTo>
                <a:lnTo>
                  <a:pt x="3465" y="1115"/>
                </a:lnTo>
                <a:lnTo>
                  <a:pt x="3459" y="1028"/>
                </a:lnTo>
                <a:lnTo>
                  <a:pt x="3437" y="929"/>
                </a:lnTo>
                <a:lnTo>
                  <a:pt x="3390" y="803"/>
                </a:lnTo>
                <a:lnTo>
                  <a:pt x="3329" y="694"/>
                </a:lnTo>
                <a:lnTo>
                  <a:pt x="3290" y="640"/>
                </a:lnTo>
                <a:lnTo>
                  <a:pt x="3193" y="512"/>
                </a:lnTo>
                <a:lnTo>
                  <a:pt x="3083" y="419"/>
                </a:lnTo>
                <a:lnTo>
                  <a:pt x="2893" y="292"/>
                </a:lnTo>
                <a:lnTo>
                  <a:pt x="2748" y="218"/>
                </a:lnTo>
                <a:lnTo>
                  <a:pt x="2593" y="151"/>
                </a:lnTo>
                <a:lnTo>
                  <a:pt x="2361" y="84"/>
                </a:lnTo>
                <a:lnTo>
                  <a:pt x="2087" y="29"/>
                </a:lnTo>
                <a:lnTo>
                  <a:pt x="1893" y="8"/>
                </a:lnTo>
                <a:lnTo>
                  <a:pt x="1738" y="0"/>
                </a:lnTo>
                <a:lnTo>
                  <a:pt x="1533" y="15"/>
                </a:lnTo>
                <a:lnTo>
                  <a:pt x="1289" y="43"/>
                </a:lnTo>
                <a:lnTo>
                  <a:pt x="1142" y="77"/>
                </a:lnTo>
                <a:lnTo>
                  <a:pt x="1000" y="108"/>
                </a:lnTo>
                <a:lnTo>
                  <a:pt x="910" y="136"/>
                </a:lnTo>
                <a:lnTo>
                  <a:pt x="797" y="182"/>
                </a:lnTo>
                <a:lnTo>
                  <a:pt x="721" y="215"/>
                </a:lnTo>
                <a:lnTo>
                  <a:pt x="628" y="265"/>
                </a:lnTo>
                <a:lnTo>
                  <a:pt x="519" y="326"/>
                </a:lnTo>
                <a:lnTo>
                  <a:pt x="430" y="385"/>
                </a:lnTo>
                <a:lnTo>
                  <a:pt x="315" y="487"/>
                </a:lnTo>
                <a:lnTo>
                  <a:pt x="204" y="608"/>
                </a:lnTo>
                <a:lnTo>
                  <a:pt x="123" y="710"/>
                </a:lnTo>
                <a:lnTo>
                  <a:pt x="58" y="834"/>
                </a:lnTo>
                <a:lnTo>
                  <a:pt x="21" y="971"/>
                </a:lnTo>
                <a:lnTo>
                  <a:pt x="0" y="1115"/>
                </a:lnTo>
                <a:lnTo>
                  <a:pt x="28" y="1308"/>
                </a:lnTo>
                <a:lnTo>
                  <a:pt x="73" y="1437"/>
                </a:lnTo>
                <a:lnTo>
                  <a:pt x="137" y="1553"/>
                </a:lnTo>
                <a:lnTo>
                  <a:pt x="195" y="1630"/>
                </a:lnTo>
                <a:lnTo>
                  <a:pt x="272" y="1713"/>
                </a:lnTo>
                <a:lnTo>
                  <a:pt x="344" y="1792"/>
                </a:lnTo>
                <a:lnTo>
                  <a:pt x="468" y="1878"/>
                </a:lnTo>
                <a:lnTo>
                  <a:pt x="597" y="1963"/>
                </a:lnTo>
                <a:lnTo>
                  <a:pt x="743" y="2037"/>
                </a:lnTo>
                <a:lnTo>
                  <a:pt x="912" y="2100"/>
                </a:lnTo>
                <a:lnTo>
                  <a:pt x="1107" y="2166"/>
                </a:lnTo>
                <a:lnTo>
                  <a:pt x="1299" y="2200"/>
                </a:lnTo>
                <a:lnTo>
                  <a:pt x="1607" y="2231"/>
                </a:lnTo>
                <a:lnTo>
                  <a:pt x="1886" y="2238"/>
                </a:lnTo>
                <a:lnTo>
                  <a:pt x="2020" y="2222"/>
                </a:lnTo>
                <a:lnTo>
                  <a:pt x="2162" y="2206"/>
                </a:lnTo>
                <a:lnTo>
                  <a:pt x="2310" y="2175"/>
                </a:lnTo>
                <a:lnTo>
                  <a:pt x="2453" y="2139"/>
                </a:lnTo>
                <a:lnTo>
                  <a:pt x="2567" y="2108"/>
                </a:lnTo>
                <a:lnTo>
                  <a:pt x="2576" y="2112"/>
                </a:lnTo>
                <a:lnTo>
                  <a:pt x="2625" y="2164"/>
                </a:lnTo>
                <a:lnTo>
                  <a:pt x="2672" y="2211"/>
                </a:lnTo>
                <a:lnTo>
                  <a:pt x="2747" y="2274"/>
                </a:lnTo>
                <a:lnTo>
                  <a:pt x="2797" y="2313"/>
                </a:lnTo>
                <a:lnTo>
                  <a:pt x="2873" y="2352"/>
                </a:lnTo>
                <a:lnTo>
                  <a:pt x="2916" y="2372"/>
                </a:lnTo>
                <a:lnTo>
                  <a:pt x="2943" y="2376"/>
                </a:lnTo>
                <a:close/>
              </a:path>
            </a:pathLst>
          </a:custGeom>
          <a:solidFill>
            <a:srgbClr val="ffffff"/>
          </a:solidFill>
          <a:ln w="13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74"/>
          <p:cNvSpPr/>
          <p:nvPr/>
        </p:nvSpPr>
        <p:spPr>
          <a:xfrm>
            <a:off x="914400" y="1074600"/>
            <a:ext cx="4332240" cy="15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Utilice el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método</a:t>
            </a: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 FOR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3240" y="-152280"/>
            <a:ext cx="9804240" cy="7197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4"/>
          <p:cNvSpPr/>
          <p:nvPr/>
        </p:nvSpPr>
        <p:spPr>
          <a:xfrm rot="5340000">
            <a:off x="4425480" y="2295360"/>
            <a:ext cx="936720" cy="320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 rot="5340000">
            <a:off x="4425480" y="2112840"/>
            <a:ext cx="936720" cy="3203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6"/>
          <p:cNvSpPr/>
          <p:nvPr/>
        </p:nvSpPr>
        <p:spPr>
          <a:xfrm>
            <a:off x="3740040" y="968400"/>
            <a:ext cx="1944720" cy="27604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760480"/>
              <a:gd name="textAreaBottom" fmla="*/ 2760840 h 2760480"/>
            </a:gdLst>
            <a:ahLst/>
            <a:rect l="textAreaLeft" t="textAreaTop" r="textAreaRight" b="textAreaBottom"/>
            <a:pathLst>
              <a:path w="1225" h="1739">
                <a:moveTo>
                  <a:pt x="741" y="0"/>
                </a:moveTo>
                <a:lnTo>
                  <a:pt x="545" y="18"/>
                </a:lnTo>
                <a:lnTo>
                  <a:pt x="211" y="158"/>
                </a:lnTo>
                <a:lnTo>
                  <a:pt x="95" y="519"/>
                </a:lnTo>
                <a:lnTo>
                  <a:pt x="0" y="876"/>
                </a:lnTo>
                <a:lnTo>
                  <a:pt x="110" y="1327"/>
                </a:lnTo>
                <a:lnTo>
                  <a:pt x="516" y="1688"/>
                </a:lnTo>
                <a:lnTo>
                  <a:pt x="591" y="1739"/>
                </a:lnTo>
                <a:lnTo>
                  <a:pt x="748" y="1730"/>
                </a:lnTo>
                <a:lnTo>
                  <a:pt x="865" y="1681"/>
                </a:lnTo>
                <a:lnTo>
                  <a:pt x="944" y="1635"/>
                </a:lnTo>
                <a:lnTo>
                  <a:pt x="1023" y="1556"/>
                </a:lnTo>
                <a:lnTo>
                  <a:pt x="1097" y="1398"/>
                </a:lnTo>
                <a:lnTo>
                  <a:pt x="1225" y="1150"/>
                </a:lnTo>
                <a:lnTo>
                  <a:pt x="1170" y="599"/>
                </a:lnTo>
                <a:lnTo>
                  <a:pt x="1017" y="211"/>
                </a:lnTo>
                <a:lnTo>
                  <a:pt x="872" y="49"/>
                </a:lnTo>
                <a:lnTo>
                  <a:pt x="741" y="0"/>
                </a:lnTo>
                <a:lnTo>
                  <a:pt x="741" y="0"/>
                </a:lnTo>
                <a:lnTo>
                  <a:pt x="741" y="0"/>
                </a:lnTo>
                <a:close/>
              </a:path>
            </a:pathLst>
          </a:custGeom>
          <a:solidFill>
            <a:srgbClr val="ffd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870440" y="1911240"/>
            <a:ext cx="387360" cy="144720"/>
          </a:xfrm>
          <a:custGeom>
            <a:avLst/>
            <a:gdLst>
              <a:gd name="textAreaLeft" fmla="*/ 0 w 387360"/>
              <a:gd name="textAreaRight" fmla="*/ 387720 w 387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44" h="91">
                <a:moveTo>
                  <a:pt x="0" y="78"/>
                </a:moveTo>
                <a:lnTo>
                  <a:pt x="52" y="30"/>
                </a:lnTo>
                <a:lnTo>
                  <a:pt x="98" y="7"/>
                </a:lnTo>
                <a:lnTo>
                  <a:pt x="171" y="0"/>
                </a:lnTo>
                <a:lnTo>
                  <a:pt x="244" y="44"/>
                </a:lnTo>
                <a:lnTo>
                  <a:pt x="171" y="84"/>
                </a:lnTo>
                <a:lnTo>
                  <a:pt x="88" y="91"/>
                </a:lnTo>
                <a:lnTo>
                  <a:pt x="37" y="89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8"/>
          <p:cNvSpPr/>
          <p:nvPr/>
        </p:nvSpPr>
        <p:spPr>
          <a:xfrm>
            <a:off x="4994280" y="1928880"/>
            <a:ext cx="138240" cy="119160"/>
          </a:xfrm>
          <a:custGeom>
            <a:avLst/>
            <a:gdLst>
              <a:gd name="textAreaLeft" fmla="*/ 0 w 138240"/>
              <a:gd name="textAreaRight" fmla="*/ 138240 w 1382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7" h="75">
                <a:moveTo>
                  <a:pt x="5" y="0"/>
                </a:moveTo>
                <a:lnTo>
                  <a:pt x="0" y="41"/>
                </a:lnTo>
                <a:lnTo>
                  <a:pt x="17" y="64"/>
                </a:lnTo>
                <a:lnTo>
                  <a:pt x="41" y="75"/>
                </a:lnTo>
                <a:lnTo>
                  <a:pt x="68" y="67"/>
                </a:lnTo>
                <a:lnTo>
                  <a:pt x="87" y="47"/>
                </a:lnTo>
                <a:lnTo>
                  <a:pt x="85" y="4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4089240" y="2093760"/>
            <a:ext cx="306720" cy="119160"/>
          </a:xfrm>
          <a:custGeom>
            <a:avLst/>
            <a:gdLst>
              <a:gd name="textAreaLeft" fmla="*/ 0 w 306720"/>
              <a:gd name="textAreaRight" fmla="*/ 307080 w 3067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93" h="75">
                <a:moveTo>
                  <a:pt x="0" y="57"/>
                </a:moveTo>
                <a:lnTo>
                  <a:pt x="49" y="5"/>
                </a:lnTo>
                <a:lnTo>
                  <a:pt x="134" y="0"/>
                </a:lnTo>
                <a:lnTo>
                  <a:pt x="193" y="21"/>
                </a:lnTo>
                <a:lnTo>
                  <a:pt x="188" y="38"/>
                </a:lnTo>
                <a:lnTo>
                  <a:pt x="129" y="61"/>
                </a:lnTo>
                <a:lnTo>
                  <a:pt x="56" y="75"/>
                </a:lnTo>
                <a:lnTo>
                  <a:pt x="12" y="73"/>
                </a:lnTo>
                <a:lnTo>
                  <a:pt x="0" y="57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4162320" y="2100240"/>
            <a:ext cx="155520" cy="106560"/>
          </a:xfrm>
          <a:custGeom>
            <a:avLst/>
            <a:gdLst>
              <a:gd name="textAreaLeft" fmla="*/ 0 w 155520"/>
              <a:gd name="textAreaRight" fmla="*/ 155880 w 155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98" h="67">
                <a:moveTo>
                  <a:pt x="0" y="5"/>
                </a:moveTo>
                <a:lnTo>
                  <a:pt x="8" y="46"/>
                </a:lnTo>
                <a:lnTo>
                  <a:pt x="21" y="57"/>
                </a:lnTo>
                <a:lnTo>
                  <a:pt x="62" y="67"/>
                </a:lnTo>
                <a:lnTo>
                  <a:pt x="90" y="41"/>
                </a:lnTo>
                <a:lnTo>
                  <a:pt x="98" y="10"/>
                </a:lnTo>
                <a:lnTo>
                  <a:pt x="83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4438800" y="2757600"/>
            <a:ext cx="696600" cy="247680"/>
          </a:xfrm>
          <a:custGeom>
            <a:avLst/>
            <a:gdLst>
              <a:gd name="textAreaLeft" fmla="*/ 0 w 696600"/>
              <a:gd name="textAreaRight" fmla="*/ 696960 w 6966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9" h="156">
                <a:moveTo>
                  <a:pt x="0" y="69"/>
                </a:moveTo>
                <a:lnTo>
                  <a:pt x="29" y="58"/>
                </a:lnTo>
                <a:lnTo>
                  <a:pt x="151" y="46"/>
                </a:lnTo>
                <a:lnTo>
                  <a:pt x="216" y="44"/>
                </a:lnTo>
                <a:lnTo>
                  <a:pt x="364" y="1"/>
                </a:lnTo>
                <a:lnTo>
                  <a:pt x="439" y="0"/>
                </a:lnTo>
                <a:lnTo>
                  <a:pt x="426" y="60"/>
                </a:lnTo>
                <a:lnTo>
                  <a:pt x="345" y="123"/>
                </a:lnTo>
                <a:lnTo>
                  <a:pt x="185" y="156"/>
                </a:lnTo>
                <a:lnTo>
                  <a:pt x="104" y="144"/>
                </a:lnTo>
                <a:lnTo>
                  <a:pt x="78" y="135"/>
                </a:lnTo>
                <a:lnTo>
                  <a:pt x="40" y="111"/>
                </a:lnTo>
                <a:lnTo>
                  <a:pt x="24" y="87"/>
                </a:lnTo>
                <a:lnTo>
                  <a:pt x="0" y="69"/>
                </a:lnTo>
                <a:lnTo>
                  <a:pt x="0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4402080" y="2738520"/>
            <a:ext cx="528840" cy="137880"/>
          </a:xfrm>
          <a:custGeom>
            <a:avLst/>
            <a:gdLst>
              <a:gd name="textAreaLeft" fmla="*/ 0 w 528840"/>
              <a:gd name="textAreaRight" fmla="*/ 529200 w 5288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333" h="87">
                <a:moveTo>
                  <a:pt x="0" y="87"/>
                </a:moveTo>
                <a:lnTo>
                  <a:pt x="60" y="60"/>
                </a:lnTo>
                <a:lnTo>
                  <a:pt x="103" y="51"/>
                </a:lnTo>
                <a:lnTo>
                  <a:pt x="126" y="42"/>
                </a:lnTo>
                <a:lnTo>
                  <a:pt x="152" y="26"/>
                </a:lnTo>
                <a:lnTo>
                  <a:pt x="243" y="15"/>
                </a:lnTo>
                <a:lnTo>
                  <a:pt x="333" y="0"/>
                </a:lnTo>
                <a:lnTo>
                  <a:pt x="311" y="40"/>
                </a:lnTo>
                <a:lnTo>
                  <a:pt x="222" y="58"/>
                </a:lnTo>
                <a:lnTo>
                  <a:pt x="103" y="63"/>
                </a:lnTo>
                <a:lnTo>
                  <a:pt x="0" y="87"/>
                </a:lnTo>
                <a:lnTo>
                  <a:pt x="0" y="87"/>
                </a:lnTo>
                <a:lnTo>
                  <a:pt x="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3"/>
          <p:cNvSpPr/>
          <p:nvPr/>
        </p:nvSpPr>
        <p:spPr>
          <a:xfrm>
            <a:off x="4495680" y="2927520"/>
            <a:ext cx="506520" cy="129960"/>
          </a:xfrm>
          <a:custGeom>
            <a:avLst/>
            <a:gdLst>
              <a:gd name="textAreaLeft" fmla="*/ 0 w 506520"/>
              <a:gd name="textAreaRight" fmla="*/ 506880 w 5065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19" h="82">
                <a:moveTo>
                  <a:pt x="0" y="0"/>
                </a:moveTo>
                <a:lnTo>
                  <a:pt x="58" y="34"/>
                </a:lnTo>
                <a:lnTo>
                  <a:pt x="148" y="44"/>
                </a:lnTo>
                <a:lnTo>
                  <a:pt x="248" y="30"/>
                </a:lnTo>
                <a:lnTo>
                  <a:pt x="308" y="8"/>
                </a:lnTo>
                <a:lnTo>
                  <a:pt x="319" y="41"/>
                </a:lnTo>
                <a:lnTo>
                  <a:pt x="283" y="66"/>
                </a:lnTo>
                <a:lnTo>
                  <a:pt x="235" y="82"/>
                </a:lnTo>
                <a:lnTo>
                  <a:pt x="257" y="59"/>
                </a:lnTo>
                <a:lnTo>
                  <a:pt x="250" y="51"/>
                </a:lnTo>
                <a:lnTo>
                  <a:pt x="210" y="55"/>
                </a:lnTo>
                <a:lnTo>
                  <a:pt x="150" y="63"/>
                </a:lnTo>
                <a:lnTo>
                  <a:pt x="108" y="61"/>
                </a:lnTo>
                <a:lnTo>
                  <a:pt x="68" y="53"/>
                </a:lnTo>
                <a:lnTo>
                  <a:pt x="36" y="3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4"/>
          <p:cNvSpPr/>
          <p:nvPr/>
        </p:nvSpPr>
        <p:spPr>
          <a:xfrm>
            <a:off x="5091120" y="2782800"/>
            <a:ext cx="85680" cy="100080"/>
          </a:xfrm>
          <a:custGeom>
            <a:avLst/>
            <a:gdLst>
              <a:gd name="textAreaLeft" fmla="*/ 0 w 85680"/>
              <a:gd name="textAreaRight" fmla="*/ 85680 w 856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3">
                <a:moveTo>
                  <a:pt x="36" y="6"/>
                </a:moveTo>
                <a:lnTo>
                  <a:pt x="0" y="61"/>
                </a:lnTo>
                <a:lnTo>
                  <a:pt x="26" y="63"/>
                </a:lnTo>
                <a:lnTo>
                  <a:pt x="50" y="30"/>
                </a:lnTo>
                <a:lnTo>
                  <a:pt x="54" y="0"/>
                </a:lnTo>
                <a:lnTo>
                  <a:pt x="36" y="6"/>
                </a:lnTo>
                <a:lnTo>
                  <a:pt x="36" y="6"/>
                </a:lnTo>
                <a:lnTo>
                  <a:pt x="36" y="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4219560" y="2498760"/>
            <a:ext cx="239760" cy="441360"/>
          </a:xfrm>
          <a:custGeom>
            <a:avLst/>
            <a:gdLst>
              <a:gd name="textAreaLeft" fmla="*/ 0 w 239760"/>
              <a:gd name="textAreaRight" fmla="*/ 240120 w 2397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151" h="278">
                <a:moveTo>
                  <a:pt x="29" y="278"/>
                </a:moveTo>
                <a:lnTo>
                  <a:pt x="10" y="242"/>
                </a:lnTo>
                <a:lnTo>
                  <a:pt x="0" y="197"/>
                </a:lnTo>
                <a:lnTo>
                  <a:pt x="14" y="154"/>
                </a:lnTo>
                <a:lnTo>
                  <a:pt x="31" y="129"/>
                </a:lnTo>
                <a:lnTo>
                  <a:pt x="57" y="108"/>
                </a:lnTo>
                <a:lnTo>
                  <a:pt x="81" y="84"/>
                </a:lnTo>
                <a:lnTo>
                  <a:pt x="109" y="51"/>
                </a:lnTo>
                <a:lnTo>
                  <a:pt x="151" y="0"/>
                </a:lnTo>
                <a:lnTo>
                  <a:pt x="98" y="105"/>
                </a:lnTo>
                <a:lnTo>
                  <a:pt x="36" y="188"/>
                </a:lnTo>
                <a:lnTo>
                  <a:pt x="29" y="278"/>
                </a:lnTo>
                <a:lnTo>
                  <a:pt x="29" y="278"/>
                </a:lnTo>
                <a:lnTo>
                  <a:pt x="29" y="278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6"/>
          <p:cNvSpPr/>
          <p:nvPr/>
        </p:nvSpPr>
        <p:spPr>
          <a:xfrm>
            <a:off x="5059440" y="2495520"/>
            <a:ext cx="282600" cy="243000"/>
          </a:xfrm>
          <a:custGeom>
            <a:avLst/>
            <a:gdLst>
              <a:gd name="textAreaLeft" fmla="*/ 0 w 282600"/>
              <a:gd name="textAreaRight" fmla="*/ 282960 w 282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78" h="153">
                <a:moveTo>
                  <a:pt x="0" y="0"/>
                </a:moveTo>
                <a:lnTo>
                  <a:pt x="51" y="22"/>
                </a:lnTo>
                <a:lnTo>
                  <a:pt x="91" y="42"/>
                </a:lnTo>
                <a:lnTo>
                  <a:pt x="139" y="61"/>
                </a:lnTo>
                <a:lnTo>
                  <a:pt x="173" y="88"/>
                </a:lnTo>
                <a:lnTo>
                  <a:pt x="178" y="119"/>
                </a:lnTo>
                <a:lnTo>
                  <a:pt x="157" y="153"/>
                </a:lnTo>
                <a:lnTo>
                  <a:pt x="143" y="102"/>
                </a:lnTo>
                <a:lnTo>
                  <a:pt x="83" y="65"/>
                </a:lnTo>
                <a:lnTo>
                  <a:pt x="42" y="44"/>
                </a:lnTo>
                <a:lnTo>
                  <a:pt x="8" y="1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7"/>
          <p:cNvSpPr/>
          <p:nvPr/>
        </p:nvSpPr>
        <p:spPr>
          <a:xfrm>
            <a:off x="4638600" y="1878120"/>
            <a:ext cx="411120" cy="757080"/>
          </a:xfrm>
          <a:custGeom>
            <a:avLst/>
            <a:gdLst>
              <a:gd name="textAreaLeft" fmla="*/ 0 w 411120"/>
              <a:gd name="textAreaRight" fmla="*/ 411480 w 41112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59" h="477">
                <a:moveTo>
                  <a:pt x="222" y="0"/>
                </a:moveTo>
                <a:lnTo>
                  <a:pt x="189" y="0"/>
                </a:lnTo>
                <a:lnTo>
                  <a:pt x="162" y="19"/>
                </a:lnTo>
                <a:lnTo>
                  <a:pt x="140" y="48"/>
                </a:lnTo>
                <a:lnTo>
                  <a:pt x="126" y="56"/>
                </a:lnTo>
                <a:lnTo>
                  <a:pt x="111" y="49"/>
                </a:lnTo>
                <a:lnTo>
                  <a:pt x="97" y="26"/>
                </a:lnTo>
                <a:lnTo>
                  <a:pt x="77" y="56"/>
                </a:lnTo>
                <a:lnTo>
                  <a:pt x="54" y="110"/>
                </a:lnTo>
                <a:lnTo>
                  <a:pt x="45" y="162"/>
                </a:lnTo>
                <a:lnTo>
                  <a:pt x="51" y="245"/>
                </a:lnTo>
                <a:lnTo>
                  <a:pt x="86" y="353"/>
                </a:lnTo>
                <a:lnTo>
                  <a:pt x="105" y="394"/>
                </a:lnTo>
                <a:lnTo>
                  <a:pt x="142" y="355"/>
                </a:lnTo>
                <a:lnTo>
                  <a:pt x="162" y="351"/>
                </a:lnTo>
                <a:lnTo>
                  <a:pt x="182" y="357"/>
                </a:lnTo>
                <a:lnTo>
                  <a:pt x="196" y="380"/>
                </a:lnTo>
                <a:lnTo>
                  <a:pt x="194" y="402"/>
                </a:lnTo>
                <a:lnTo>
                  <a:pt x="174" y="411"/>
                </a:lnTo>
                <a:lnTo>
                  <a:pt x="108" y="417"/>
                </a:lnTo>
                <a:lnTo>
                  <a:pt x="79" y="439"/>
                </a:lnTo>
                <a:lnTo>
                  <a:pt x="44" y="461"/>
                </a:lnTo>
                <a:lnTo>
                  <a:pt x="0" y="468"/>
                </a:lnTo>
                <a:lnTo>
                  <a:pt x="31" y="477"/>
                </a:lnTo>
                <a:lnTo>
                  <a:pt x="84" y="477"/>
                </a:lnTo>
                <a:lnTo>
                  <a:pt x="161" y="452"/>
                </a:lnTo>
                <a:lnTo>
                  <a:pt x="209" y="452"/>
                </a:lnTo>
                <a:lnTo>
                  <a:pt x="246" y="437"/>
                </a:lnTo>
                <a:lnTo>
                  <a:pt x="259" y="412"/>
                </a:lnTo>
                <a:lnTo>
                  <a:pt x="259" y="371"/>
                </a:lnTo>
                <a:lnTo>
                  <a:pt x="214" y="317"/>
                </a:lnTo>
                <a:lnTo>
                  <a:pt x="165" y="251"/>
                </a:lnTo>
                <a:lnTo>
                  <a:pt x="140" y="165"/>
                </a:lnTo>
                <a:lnTo>
                  <a:pt x="161" y="110"/>
                </a:lnTo>
                <a:lnTo>
                  <a:pt x="149" y="97"/>
                </a:lnTo>
                <a:lnTo>
                  <a:pt x="177" y="59"/>
                </a:lnTo>
                <a:lnTo>
                  <a:pt x="165" y="57"/>
                </a:lnTo>
                <a:lnTo>
                  <a:pt x="189" y="23"/>
                </a:lnTo>
                <a:lnTo>
                  <a:pt x="222" y="0"/>
                </a:lnTo>
                <a:lnTo>
                  <a:pt x="222" y="0"/>
                </a:lnTo>
                <a:lnTo>
                  <a:pt x="222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8"/>
          <p:cNvSpPr/>
          <p:nvPr/>
        </p:nvSpPr>
        <p:spPr>
          <a:xfrm>
            <a:off x="3778200" y="1125360"/>
            <a:ext cx="1389240" cy="2589480"/>
          </a:xfrm>
          <a:custGeom>
            <a:avLst/>
            <a:gdLst>
              <a:gd name="textAreaLeft" fmla="*/ 0 w 1389240"/>
              <a:gd name="textAreaRight" fmla="*/ 1389240 w 1389240"/>
              <a:gd name="textAreaTop" fmla="*/ 0 h 2589480"/>
              <a:gd name="textAreaBottom" fmla="*/ 2589840 h 2589480"/>
            </a:gdLst>
            <a:ahLst/>
            <a:rect l="textAreaLeft" t="textAreaTop" r="textAreaRight" b="textAreaBottom"/>
            <a:pathLst>
              <a:path w="875" h="1631">
                <a:moveTo>
                  <a:pt x="455" y="0"/>
                </a:moveTo>
                <a:lnTo>
                  <a:pt x="310" y="122"/>
                </a:lnTo>
                <a:lnTo>
                  <a:pt x="269" y="233"/>
                </a:lnTo>
                <a:lnTo>
                  <a:pt x="224" y="362"/>
                </a:lnTo>
                <a:lnTo>
                  <a:pt x="218" y="431"/>
                </a:lnTo>
                <a:lnTo>
                  <a:pt x="287" y="494"/>
                </a:lnTo>
                <a:lnTo>
                  <a:pt x="166" y="537"/>
                </a:lnTo>
                <a:lnTo>
                  <a:pt x="107" y="587"/>
                </a:lnTo>
                <a:lnTo>
                  <a:pt x="95" y="639"/>
                </a:lnTo>
                <a:lnTo>
                  <a:pt x="142" y="663"/>
                </a:lnTo>
                <a:lnTo>
                  <a:pt x="195" y="689"/>
                </a:lnTo>
                <a:lnTo>
                  <a:pt x="103" y="710"/>
                </a:lnTo>
                <a:lnTo>
                  <a:pt x="79" y="761"/>
                </a:lnTo>
                <a:lnTo>
                  <a:pt x="92" y="896"/>
                </a:lnTo>
                <a:lnTo>
                  <a:pt x="144" y="1058"/>
                </a:lnTo>
                <a:lnTo>
                  <a:pt x="200" y="1156"/>
                </a:lnTo>
                <a:lnTo>
                  <a:pt x="269" y="1248"/>
                </a:lnTo>
                <a:lnTo>
                  <a:pt x="356" y="1329"/>
                </a:lnTo>
                <a:lnTo>
                  <a:pt x="442" y="1393"/>
                </a:lnTo>
                <a:lnTo>
                  <a:pt x="601" y="1454"/>
                </a:lnTo>
                <a:lnTo>
                  <a:pt x="709" y="1457"/>
                </a:lnTo>
                <a:lnTo>
                  <a:pt x="795" y="1441"/>
                </a:lnTo>
                <a:lnTo>
                  <a:pt x="875" y="1413"/>
                </a:lnTo>
                <a:lnTo>
                  <a:pt x="782" y="1463"/>
                </a:lnTo>
                <a:lnTo>
                  <a:pt x="645" y="1484"/>
                </a:lnTo>
                <a:lnTo>
                  <a:pt x="543" y="1499"/>
                </a:lnTo>
                <a:lnTo>
                  <a:pt x="577" y="1631"/>
                </a:lnTo>
                <a:lnTo>
                  <a:pt x="519" y="1620"/>
                </a:lnTo>
                <a:lnTo>
                  <a:pt x="211" y="1326"/>
                </a:lnTo>
                <a:lnTo>
                  <a:pt x="0" y="977"/>
                </a:lnTo>
                <a:lnTo>
                  <a:pt x="34" y="457"/>
                </a:lnTo>
                <a:lnTo>
                  <a:pt x="237" y="33"/>
                </a:lnTo>
                <a:lnTo>
                  <a:pt x="455" y="0"/>
                </a:lnTo>
                <a:lnTo>
                  <a:pt x="455" y="0"/>
                </a:lnTo>
                <a:lnTo>
                  <a:pt x="455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"/>
          <p:cNvSpPr/>
          <p:nvPr/>
        </p:nvSpPr>
        <p:spPr>
          <a:xfrm>
            <a:off x="4468680" y="954000"/>
            <a:ext cx="1228680" cy="24750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774" h="1559">
                <a:moveTo>
                  <a:pt x="50" y="87"/>
                </a:moveTo>
                <a:lnTo>
                  <a:pt x="171" y="83"/>
                </a:lnTo>
                <a:lnTo>
                  <a:pt x="258" y="95"/>
                </a:lnTo>
                <a:lnTo>
                  <a:pt x="332" y="130"/>
                </a:lnTo>
                <a:lnTo>
                  <a:pt x="389" y="167"/>
                </a:lnTo>
                <a:lnTo>
                  <a:pt x="440" y="246"/>
                </a:lnTo>
                <a:lnTo>
                  <a:pt x="469" y="333"/>
                </a:lnTo>
                <a:lnTo>
                  <a:pt x="492" y="436"/>
                </a:lnTo>
                <a:lnTo>
                  <a:pt x="498" y="486"/>
                </a:lnTo>
                <a:lnTo>
                  <a:pt x="421" y="489"/>
                </a:lnTo>
                <a:lnTo>
                  <a:pt x="464" y="531"/>
                </a:lnTo>
                <a:lnTo>
                  <a:pt x="427" y="551"/>
                </a:lnTo>
                <a:lnTo>
                  <a:pt x="363" y="568"/>
                </a:lnTo>
                <a:lnTo>
                  <a:pt x="392" y="602"/>
                </a:lnTo>
                <a:lnTo>
                  <a:pt x="513" y="652"/>
                </a:lnTo>
                <a:lnTo>
                  <a:pt x="571" y="647"/>
                </a:lnTo>
                <a:lnTo>
                  <a:pt x="606" y="696"/>
                </a:lnTo>
                <a:lnTo>
                  <a:pt x="629" y="777"/>
                </a:lnTo>
                <a:lnTo>
                  <a:pt x="638" y="909"/>
                </a:lnTo>
                <a:lnTo>
                  <a:pt x="629" y="1038"/>
                </a:lnTo>
                <a:lnTo>
                  <a:pt x="629" y="1159"/>
                </a:lnTo>
                <a:lnTo>
                  <a:pt x="601" y="1251"/>
                </a:lnTo>
                <a:lnTo>
                  <a:pt x="500" y="1415"/>
                </a:lnTo>
                <a:lnTo>
                  <a:pt x="427" y="1484"/>
                </a:lnTo>
                <a:lnTo>
                  <a:pt x="334" y="1559"/>
                </a:lnTo>
                <a:lnTo>
                  <a:pt x="411" y="1559"/>
                </a:lnTo>
                <a:lnTo>
                  <a:pt x="606" y="1428"/>
                </a:lnTo>
                <a:lnTo>
                  <a:pt x="774" y="1217"/>
                </a:lnTo>
                <a:lnTo>
                  <a:pt x="753" y="869"/>
                </a:lnTo>
                <a:lnTo>
                  <a:pt x="659" y="457"/>
                </a:lnTo>
                <a:lnTo>
                  <a:pt x="513" y="108"/>
                </a:lnTo>
                <a:lnTo>
                  <a:pt x="345" y="3"/>
                </a:lnTo>
                <a:lnTo>
                  <a:pt x="173" y="0"/>
                </a:lnTo>
                <a:lnTo>
                  <a:pt x="0" y="46"/>
                </a:lnTo>
                <a:lnTo>
                  <a:pt x="50" y="87"/>
                </a:lnTo>
                <a:lnTo>
                  <a:pt x="50" y="87"/>
                </a:lnTo>
                <a:lnTo>
                  <a:pt x="5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0"/>
          <p:cNvSpPr/>
          <p:nvPr/>
        </p:nvSpPr>
        <p:spPr>
          <a:xfrm>
            <a:off x="5551560" y="1257480"/>
            <a:ext cx="1287360" cy="2420640"/>
          </a:xfrm>
          <a:custGeom>
            <a:avLst/>
            <a:gdLst>
              <a:gd name="textAreaLeft" fmla="*/ 0 w 1287360"/>
              <a:gd name="textAreaRight" fmla="*/ 1287720 w 1287360"/>
              <a:gd name="textAreaTop" fmla="*/ 0 h 2420640"/>
              <a:gd name="textAreaBottom" fmla="*/ 2421000 h 2420640"/>
            </a:gdLst>
            <a:ahLst/>
            <a:rect l="textAreaLeft" t="textAreaTop" r="textAreaRight" b="textAreaBottom"/>
            <a:pathLst>
              <a:path w="811" h="1525">
                <a:moveTo>
                  <a:pt x="71" y="0"/>
                </a:moveTo>
                <a:lnTo>
                  <a:pt x="375" y="127"/>
                </a:lnTo>
                <a:lnTo>
                  <a:pt x="450" y="251"/>
                </a:lnTo>
                <a:lnTo>
                  <a:pt x="529" y="348"/>
                </a:lnTo>
                <a:lnTo>
                  <a:pt x="480" y="370"/>
                </a:lnTo>
                <a:lnTo>
                  <a:pt x="534" y="485"/>
                </a:lnTo>
                <a:lnTo>
                  <a:pt x="701" y="603"/>
                </a:lnTo>
                <a:lnTo>
                  <a:pt x="802" y="762"/>
                </a:lnTo>
                <a:lnTo>
                  <a:pt x="811" y="965"/>
                </a:lnTo>
                <a:lnTo>
                  <a:pt x="679" y="1283"/>
                </a:lnTo>
                <a:lnTo>
                  <a:pt x="736" y="1517"/>
                </a:lnTo>
                <a:lnTo>
                  <a:pt x="643" y="1525"/>
                </a:lnTo>
                <a:lnTo>
                  <a:pt x="520" y="1477"/>
                </a:lnTo>
                <a:lnTo>
                  <a:pt x="415" y="1380"/>
                </a:lnTo>
                <a:lnTo>
                  <a:pt x="27" y="1318"/>
                </a:lnTo>
                <a:lnTo>
                  <a:pt x="0" y="1235"/>
                </a:lnTo>
                <a:lnTo>
                  <a:pt x="62" y="952"/>
                </a:lnTo>
                <a:lnTo>
                  <a:pt x="35" y="700"/>
                </a:lnTo>
                <a:lnTo>
                  <a:pt x="35" y="264"/>
                </a:lnTo>
                <a:lnTo>
                  <a:pt x="71" y="0"/>
                </a:lnTo>
                <a:lnTo>
                  <a:pt x="71" y="0"/>
                </a:lnTo>
                <a:lnTo>
                  <a:pt x="71" y="0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1"/>
          <p:cNvSpPr/>
          <p:nvPr/>
        </p:nvSpPr>
        <p:spPr>
          <a:xfrm>
            <a:off x="2860560" y="430200"/>
            <a:ext cx="2559240" cy="3268800"/>
          </a:xfrm>
          <a:custGeom>
            <a:avLst/>
            <a:gdLst>
              <a:gd name="textAreaLeft" fmla="*/ 0 w 2559240"/>
              <a:gd name="textAreaRight" fmla="*/ 2559240 w 2559240"/>
              <a:gd name="textAreaTop" fmla="*/ 0 h 3268800"/>
              <a:gd name="textAreaBottom" fmla="*/ 3269160 h 3268800"/>
            </a:gdLst>
            <a:ahLst/>
            <a:rect l="textAreaLeft" t="textAreaTop" r="textAreaRight" b="textAreaBottom"/>
            <a:pathLst>
              <a:path w="1612" h="2059">
                <a:moveTo>
                  <a:pt x="228" y="749"/>
                </a:moveTo>
                <a:lnTo>
                  <a:pt x="479" y="243"/>
                </a:lnTo>
                <a:lnTo>
                  <a:pt x="643" y="155"/>
                </a:lnTo>
                <a:lnTo>
                  <a:pt x="1026" y="0"/>
                </a:lnTo>
                <a:lnTo>
                  <a:pt x="1383" y="9"/>
                </a:lnTo>
                <a:lnTo>
                  <a:pt x="1528" y="44"/>
                </a:lnTo>
                <a:lnTo>
                  <a:pt x="1594" y="133"/>
                </a:lnTo>
                <a:lnTo>
                  <a:pt x="1612" y="286"/>
                </a:lnTo>
                <a:lnTo>
                  <a:pt x="1563" y="472"/>
                </a:lnTo>
                <a:lnTo>
                  <a:pt x="1369" y="410"/>
                </a:lnTo>
                <a:lnTo>
                  <a:pt x="1273" y="340"/>
                </a:lnTo>
                <a:lnTo>
                  <a:pt x="1092" y="326"/>
                </a:lnTo>
                <a:lnTo>
                  <a:pt x="836" y="468"/>
                </a:lnTo>
                <a:lnTo>
                  <a:pt x="656" y="833"/>
                </a:lnTo>
                <a:lnTo>
                  <a:pt x="567" y="1231"/>
                </a:lnTo>
                <a:lnTo>
                  <a:pt x="761" y="1853"/>
                </a:lnTo>
                <a:lnTo>
                  <a:pt x="616" y="2011"/>
                </a:lnTo>
                <a:lnTo>
                  <a:pt x="347" y="2059"/>
                </a:lnTo>
                <a:lnTo>
                  <a:pt x="35" y="2059"/>
                </a:lnTo>
                <a:lnTo>
                  <a:pt x="22" y="1927"/>
                </a:lnTo>
                <a:lnTo>
                  <a:pt x="0" y="1769"/>
                </a:lnTo>
                <a:lnTo>
                  <a:pt x="22" y="1681"/>
                </a:lnTo>
                <a:lnTo>
                  <a:pt x="48" y="1561"/>
                </a:lnTo>
                <a:lnTo>
                  <a:pt x="9" y="1443"/>
                </a:lnTo>
                <a:lnTo>
                  <a:pt x="22" y="1270"/>
                </a:lnTo>
                <a:lnTo>
                  <a:pt x="62" y="1181"/>
                </a:lnTo>
                <a:lnTo>
                  <a:pt x="35" y="1151"/>
                </a:lnTo>
                <a:lnTo>
                  <a:pt x="44" y="1089"/>
                </a:lnTo>
                <a:lnTo>
                  <a:pt x="140" y="1068"/>
                </a:lnTo>
                <a:lnTo>
                  <a:pt x="228" y="749"/>
                </a:lnTo>
                <a:lnTo>
                  <a:pt x="228" y="749"/>
                </a:lnTo>
                <a:lnTo>
                  <a:pt x="228" y="749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2"/>
          <p:cNvSpPr/>
          <p:nvPr/>
        </p:nvSpPr>
        <p:spPr>
          <a:xfrm>
            <a:off x="3835440" y="592200"/>
            <a:ext cx="971640" cy="317520"/>
          </a:xfrm>
          <a:custGeom>
            <a:avLst/>
            <a:gdLst>
              <a:gd name="textAreaLeft" fmla="*/ 0 w 971640"/>
              <a:gd name="textAreaRight" fmla="*/ 972000 w 9716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12" h="200">
                <a:moveTo>
                  <a:pt x="0" y="164"/>
                </a:moveTo>
                <a:lnTo>
                  <a:pt x="147" y="200"/>
                </a:lnTo>
                <a:lnTo>
                  <a:pt x="332" y="200"/>
                </a:lnTo>
                <a:lnTo>
                  <a:pt x="428" y="196"/>
                </a:lnTo>
                <a:lnTo>
                  <a:pt x="550" y="143"/>
                </a:lnTo>
                <a:lnTo>
                  <a:pt x="338" y="149"/>
                </a:lnTo>
                <a:lnTo>
                  <a:pt x="271" y="123"/>
                </a:lnTo>
                <a:lnTo>
                  <a:pt x="391" y="103"/>
                </a:lnTo>
                <a:lnTo>
                  <a:pt x="494" y="62"/>
                </a:lnTo>
                <a:lnTo>
                  <a:pt x="612" y="0"/>
                </a:lnTo>
                <a:lnTo>
                  <a:pt x="276" y="10"/>
                </a:lnTo>
                <a:lnTo>
                  <a:pt x="134" y="39"/>
                </a:lnTo>
                <a:lnTo>
                  <a:pt x="315" y="62"/>
                </a:lnTo>
                <a:lnTo>
                  <a:pt x="128" y="80"/>
                </a:lnTo>
                <a:lnTo>
                  <a:pt x="271" y="155"/>
                </a:lnTo>
                <a:lnTo>
                  <a:pt x="99" y="155"/>
                </a:lnTo>
                <a:lnTo>
                  <a:pt x="0" y="164"/>
                </a:lnTo>
                <a:lnTo>
                  <a:pt x="0" y="164"/>
                </a:lnTo>
                <a:lnTo>
                  <a:pt x="0" y="16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3"/>
          <p:cNvSpPr/>
          <p:nvPr/>
        </p:nvSpPr>
        <p:spPr>
          <a:xfrm>
            <a:off x="4346640" y="438120"/>
            <a:ext cx="725400" cy="128520"/>
          </a:xfrm>
          <a:custGeom>
            <a:avLst/>
            <a:gdLst>
              <a:gd name="textAreaLeft" fmla="*/ 0 w 725400"/>
              <a:gd name="textAreaRight" fmla="*/ 725760 w 725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457" h="81">
                <a:moveTo>
                  <a:pt x="71" y="55"/>
                </a:moveTo>
                <a:lnTo>
                  <a:pt x="266" y="48"/>
                </a:lnTo>
                <a:lnTo>
                  <a:pt x="341" y="42"/>
                </a:lnTo>
                <a:lnTo>
                  <a:pt x="413" y="62"/>
                </a:lnTo>
                <a:lnTo>
                  <a:pt x="454" y="81"/>
                </a:lnTo>
                <a:lnTo>
                  <a:pt x="457" y="31"/>
                </a:lnTo>
                <a:lnTo>
                  <a:pt x="224" y="0"/>
                </a:lnTo>
                <a:lnTo>
                  <a:pt x="77" y="14"/>
                </a:lnTo>
                <a:lnTo>
                  <a:pt x="0" y="46"/>
                </a:lnTo>
                <a:lnTo>
                  <a:pt x="71" y="55"/>
                </a:lnTo>
                <a:lnTo>
                  <a:pt x="71" y="55"/>
                </a:lnTo>
                <a:lnTo>
                  <a:pt x="71" y="5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4"/>
          <p:cNvSpPr/>
          <p:nvPr/>
        </p:nvSpPr>
        <p:spPr>
          <a:xfrm>
            <a:off x="3594240" y="825480"/>
            <a:ext cx="541080" cy="309600"/>
          </a:xfrm>
          <a:custGeom>
            <a:avLst/>
            <a:gdLst>
              <a:gd name="textAreaLeft" fmla="*/ 0 w 541080"/>
              <a:gd name="textAreaRight" fmla="*/ 541080 w 5410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1" h="195">
                <a:moveTo>
                  <a:pt x="0" y="12"/>
                </a:moveTo>
                <a:lnTo>
                  <a:pt x="66" y="92"/>
                </a:lnTo>
                <a:lnTo>
                  <a:pt x="117" y="134"/>
                </a:lnTo>
                <a:lnTo>
                  <a:pt x="173" y="164"/>
                </a:lnTo>
                <a:lnTo>
                  <a:pt x="255" y="195"/>
                </a:lnTo>
                <a:lnTo>
                  <a:pt x="341" y="195"/>
                </a:lnTo>
                <a:lnTo>
                  <a:pt x="255" y="164"/>
                </a:lnTo>
                <a:lnTo>
                  <a:pt x="146" y="113"/>
                </a:lnTo>
                <a:lnTo>
                  <a:pt x="70" y="53"/>
                </a:lnTo>
                <a:lnTo>
                  <a:pt x="16" y="0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5"/>
          <p:cNvSpPr/>
          <p:nvPr/>
        </p:nvSpPr>
        <p:spPr>
          <a:xfrm>
            <a:off x="3344760" y="1020600"/>
            <a:ext cx="376200" cy="551160"/>
          </a:xfrm>
          <a:custGeom>
            <a:avLst/>
            <a:gdLst>
              <a:gd name="textAreaLeft" fmla="*/ 0 w 376200"/>
              <a:gd name="textAreaRight" fmla="*/ 376560 w 376200"/>
              <a:gd name="textAreaTop" fmla="*/ 0 h 551160"/>
              <a:gd name="textAreaBottom" fmla="*/ 551520 h 551160"/>
            </a:gdLst>
            <a:ahLst/>
            <a:rect l="textAreaLeft" t="textAreaTop" r="textAreaRight" b="textAreaBottom"/>
            <a:pathLst>
              <a:path w="237" h="347">
                <a:moveTo>
                  <a:pt x="152" y="0"/>
                </a:moveTo>
                <a:lnTo>
                  <a:pt x="207" y="95"/>
                </a:lnTo>
                <a:lnTo>
                  <a:pt x="237" y="156"/>
                </a:lnTo>
                <a:lnTo>
                  <a:pt x="237" y="197"/>
                </a:lnTo>
                <a:lnTo>
                  <a:pt x="191" y="264"/>
                </a:lnTo>
                <a:lnTo>
                  <a:pt x="0" y="347"/>
                </a:lnTo>
                <a:lnTo>
                  <a:pt x="81" y="202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6"/>
          <p:cNvSpPr/>
          <p:nvPr/>
        </p:nvSpPr>
        <p:spPr>
          <a:xfrm>
            <a:off x="3780000" y="1189080"/>
            <a:ext cx="144360" cy="355680"/>
          </a:xfrm>
          <a:custGeom>
            <a:avLst/>
            <a:gdLst>
              <a:gd name="textAreaLeft" fmla="*/ 0 w 144360"/>
              <a:gd name="textAreaRight" fmla="*/ 144720 w 1443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91" h="224">
                <a:moveTo>
                  <a:pt x="91" y="30"/>
                </a:moveTo>
                <a:lnTo>
                  <a:pt x="60" y="82"/>
                </a:lnTo>
                <a:lnTo>
                  <a:pt x="50" y="133"/>
                </a:lnTo>
                <a:lnTo>
                  <a:pt x="70" y="193"/>
                </a:lnTo>
                <a:lnTo>
                  <a:pt x="70" y="224"/>
                </a:lnTo>
                <a:lnTo>
                  <a:pt x="35" y="204"/>
                </a:lnTo>
                <a:lnTo>
                  <a:pt x="4" y="137"/>
                </a:lnTo>
                <a:lnTo>
                  <a:pt x="0" y="31"/>
                </a:lnTo>
                <a:lnTo>
                  <a:pt x="44" y="0"/>
                </a:lnTo>
                <a:lnTo>
                  <a:pt x="91" y="30"/>
                </a:lnTo>
                <a:lnTo>
                  <a:pt x="91" y="30"/>
                </a:lnTo>
                <a:lnTo>
                  <a:pt x="91" y="3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7"/>
          <p:cNvSpPr/>
          <p:nvPr/>
        </p:nvSpPr>
        <p:spPr>
          <a:xfrm>
            <a:off x="5783400" y="1344600"/>
            <a:ext cx="236520" cy="709560"/>
          </a:xfrm>
          <a:custGeom>
            <a:avLst/>
            <a:gdLst>
              <a:gd name="textAreaLeft" fmla="*/ 0 w 236520"/>
              <a:gd name="textAreaRight" fmla="*/ 236880 w 236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49" h="447">
                <a:moveTo>
                  <a:pt x="15" y="0"/>
                </a:moveTo>
                <a:lnTo>
                  <a:pt x="80" y="89"/>
                </a:lnTo>
                <a:lnTo>
                  <a:pt x="93" y="143"/>
                </a:lnTo>
                <a:lnTo>
                  <a:pt x="76" y="192"/>
                </a:lnTo>
                <a:lnTo>
                  <a:pt x="59" y="117"/>
                </a:lnTo>
                <a:lnTo>
                  <a:pt x="0" y="66"/>
                </a:lnTo>
                <a:lnTo>
                  <a:pt x="24" y="147"/>
                </a:lnTo>
                <a:lnTo>
                  <a:pt x="48" y="192"/>
                </a:lnTo>
                <a:lnTo>
                  <a:pt x="45" y="242"/>
                </a:lnTo>
                <a:lnTo>
                  <a:pt x="25" y="321"/>
                </a:lnTo>
                <a:lnTo>
                  <a:pt x="25" y="365"/>
                </a:lnTo>
                <a:lnTo>
                  <a:pt x="44" y="410"/>
                </a:lnTo>
                <a:lnTo>
                  <a:pt x="89" y="447"/>
                </a:lnTo>
                <a:lnTo>
                  <a:pt x="92" y="314"/>
                </a:lnTo>
                <a:lnTo>
                  <a:pt x="149" y="161"/>
                </a:lnTo>
                <a:lnTo>
                  <a:pt x="113" y="68"/>
                </a:lnTo>
                <a:lnTo>
                  <a:pt x="66" y="2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8"/>
          <p:cNvSpPr/>
          <p:nvPr/>
        </p:nvSpPr>
        <p:spPr>
          <a:xfrm>
            <a:off x="6294600" y="1873080"/>
            <a:ext cx="550800" cy="878040"/>
          </a:xfrm>
          <a:custGeom>
            <a:avLst/>
            <a:gdLst>
              <a:gd name="textAreaLeft" fmla="*/ 0 w 550800"/>
              <a:gd name="textAreaRight" fmla="*/ 551160 w 55080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347" h="553">
                <a:moveTo>
                  <a:pt x="6" y="0"/>
                </a:moveTo>
                <a:lnTo>
                  <a:pt x="0" y="72"/>
                </a:lnTo>
                <a:lnTo>
                  <a:pt x="12" y="137"/>
                </a:lnTo>
                <a:lnTo>
                  <a:pt x="83" y="198"/>
                </a:lnTo>
                <a:lnTo>
                  <a:pt x="139" y="242"/>
                </a:lnTo>
                <a:lnTo>
                  <a:pt x="139" y="212"/>
                </a:lnTo>
                <a:lnTo>
                  <a:pt x="237" y="295"/>
                </a:lnTo>
                <a:lnTo>
                  <a:pt x="285" y="379"/>
                </a:lnTo>
                <a:lnTo>
                  <a:pt x="320" y="461"/>
                </a:lnTo>
                <a:lnTo>
                  <a:pt x="330" y="553"/>
                </a:lnTo>
                <a:lnTo>
                  <a:pt x="347" y="450"/>
                </a:lnTo>
                <a:lnTo>
                  <a:pt x="327" y="358"/>
                </a:lnTo>
                <a:lnTo>
                  <a:pt x="272" y="276"/>
                </a:lnTo>
                <a:lnTo>
                  <a:pt x="172" y="175"/>
                </a:lnTo>
                <a:lnTo>
                  <a:pt x="58" y="5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9"/>
          <p:cNvSpPr/>
          <p:nvPr/>
        </p:nvSpPr>
        <p:spPr>
          <a:xfrm>
            <a:off x="6451560" y="2303640"/>
            <a:ext cx="216000" cy="626760"/>
          </a:xfrm>
          <a:custGeom>
            <a:avLst/>
            <a:gdLst>
              <a:gd name="textAreaLeft" fmla="*/ 0 w 216000"/>
              <a:gd name="textAreaRight" fmla="*/ 216360 w 21600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136" h="395">
                <a:moveTo>
                  <a:pt x="74" y="0"/>
                </a:moveTo>
                <a:lnTo>
                  <a:pt x="118" y="70"/>
                </a:lnTo>
                <a:lnTo>
                  <a:pt x="136" y="210"/>
                </a:lnTo>
                <a:lnTo>
                  <a:pt x="84" y="327"/>
                </a:lnTo>
                <a:lnTo>
                  <a:pt x="0" y="395"/>
                </a:lnTo>
                <a:lnTo>
                  <a:pt x="60" y="265"/>
                </a:lnTo>
                <a:lnTo>
                  <a:pt x="90" y="169"/>
                </a:lnTo>
                <a:lnTo>
                  <a:pt x="88" y="112"/>
                </a:lnTo>
                <a:lnTo>
                  <a:pt x="74" y="0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0"/>
          <p:cNvSpPr/>
          <p:nvPr/>
        </p:nvSpPr>
        <p:spPr>
          <a:xfrm>
            <a:off x="2986200" y="2068560"/>
            <a:ext cx="439560" cy="233280"/>
          </a:xfrm>
          <a:custGeom>
            <a:avLst/>
            <a:gdLst>
              <a:gd name="textAreaLeft" fmla="*/ 0 w 439560"/>
              <a:gd name="textAreaRight" fmla="*/ 439920 w 4395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7" h="147">
                <a:moveTo>
                  <a:pt x="0" y="84"/>
                </a:moveTo>
                <a:lnTo>
                  <a:pt x="37" y="126"/>
                </a:lnTo>
                <a:lnTo>
                  <a:pt x="86" y="147"/>
                </a:lnTo>
                <a:lnTo>
                  <a:pt x="146" y="147"/>
                </a:lnTo>
                <a:lnTo>
                  <a:pt x="196" y="122"/>
                </a:lnTo>
                <a:lnTo>
                  <a:pt x="249" y="81"/>
                </a:lnTo>
                <a:lnTo>
                  <a:pt x="277" y="0"/>
                </a:lnTo>
                <a:lnTo>
                  <a:pt x="0" y="84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1"/>
          <p:cNvSpPr/>
          <p:nvPr/>
        </p:nvSpPr>
        <p:spPr>
          <a:xfrm>
            <a:off x="2844720" y="2336760"/>
            <a:ext cx="192240" cy="609480"/>
          </a:xfrm>
          <a:custGeom>
            <a:avLst/>
            <a:gdLst>
              <a:gd name="textAreaLeft" fmla="*/ 0 w 192240"/>
              <a:gd name="textAreaRight" fmla="*/ 192600 w 1922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1" h="384">
                <a:moveTo>
                  <a:pt x="101" y="384"/>
                </a:moveTo>
                <a:lnTo>
                  <a:pt x="121" y="355"/>
                </a:lnTo>
                <a:lnTo>
                  <a:pt x="65" y="276"/>
                </a:lnTo>
                <a:lnTo>
                  <a:pt x="58" y="200"/>
                </a:lnTo>
                <a:lnTo>
                  <a:pt x="65" y="147"/>
                </a:lnTo>
                <a:lnTo>
                  <a:pt x="96" y="0"/>
                </a:lnTo>
                <a:lnTo>
                  <a:pt x="60" y="16"/>
                </a:lnTo>
                <a:lnTo>
                  <a:pt x="0" y="147"/>
                </a:lnTo>
                <a:lnTo>
                  <a:pt x="13" y="336"/>
                </a:lnTo>
                <a:lnTo>
                  <a:pt x="101" y="384"/>
                </a:lnTo>
                <a:lnTo>
                  <a:pt x="101" y="384"/>
                </a:lnTo>
                <a:lnTo>
                  <a:pt x="101" y="3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2"/>
          <p:cNvSpPr/>
          <p:nvPr/>
        </p:nvSpPr>
        <p:spPr>
          <a:xfrm>
            <a:off x="3089160" y="2502000"/>
            <a:ext cx="273240" cy="379440"/>
          </a:xfrm>
          <a:custGeom>
            <a:avLst/>
            <a:gdLst>
              <a:gd name="textAreaLeft" fmla="*/ 0 w 273240"/>
              <a:gd name="textAreaRight" fmla="*/ 273600 w 2732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72" h="239">
                <a:moveTo>
                  <a:pt x="43" y="151"/>
                </a:moveTo>
                <a:lnTo>
                  <a:pt x="0" y="239"/>
                </a:lnTo>
                <a:lnTo>
                  <a:pt x="40" y="234"/>
                </a:lnTo>
                <a:lnTo>
                  <a:pt x="114" y="188"/>
                </a:lnTo>
                <a:lnTo>
                  <a:pt x="151" y="129"/>
                </a:lnTo>
                <a:lnTo>
                  <a:pt x="172" y="50"/>
                </a:lnTo>
                <a:lnTo>
                  <a:pt x="157" y="0"/>
                </a:lnTo>
                <a:lnTo>
                  <a:pt x="43" y="151"/>
                </a:lnTo>
                <a:lnTo>
                  <a:pt x="43" y="151"/>
                </a:lnTo>
                <a:lnTo>
                  <a:pt x="43" y="151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3"/>
          <p:cNvSpPr/>
          <p:nvPr/>
        </p:nvSpPr>
        <p:spPr>
          <a:xfrm>
            <a:off x="3403440" y="2678040"/>
            <a:ext cx="120960" cy="498600"/>
          </a:xfrm>
          <a:custGeom>
            <a:avLst/>
            <a:gdLst>
              <a:gd name="textAreaLeft" fmla="*/ 0 w 120960"/>
              <a:gd name="textAreaRight" fmla="*/ 121320 w 12096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6" h="314">
                <a:moveTo>
                  <a:pt x="50" y="0"/>
                </a:moveTo>
                <a:lnTo>
                  <a:pt x="58" y="133"/>
                </a:lnTo>
                <a:lnTo>
                  <a:pt x="30" y="187"/>
                </a:lnTo>
                <a:lnTo>
                  <a:pt x="9" y="143"/>
                </a:lnTo>
                <a:lnTo>
                  <a:pt x="0" y="221"/>
                </a:lnTo>
                <a:lnTo>
                  <a:pt x="50" y="314"/>
                </a:lnTo>
                <a:lnTo>
                  <a:pt x="76" y="184"/>
                </a:lnTo>
                <a:lnTo>
                  <a:pt x="76" y="55"/>
                </a:lnTo>
                <a:lnTo>
                  <a:pt x="5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4"/>
          <p:cNvSpPr/>
          <p:nvPr/>
        </p:nvSpPr>
        <p:spPr>
          <a:xfrm>
            <a:off x="3000240" y="3262320"/>
            <a:ext cx="182520" cy="297000"/>
          </a:xfrm>
          <a:custGeom>
            <a:avLst/>
            <a:gdLst>
              <a:gd name="textAreaLeft" fmla="*/ 0 w 182520"/>
              <a:gd name="textAreaRight" fmla="*/ 182880 w 1825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5" h="187">
                <a:moveTo>
                  <a:pt x="69" y="5"/>
                </a:moveTo>
                <a:lnTo>
                  <a:pt x="8" y="41"/>
                </a:lnTo>
                <a:lnTo>
                  <a:pt x="15" y="101"/>
                </a:lnTo>
                <a:lnTo>
                  <a:pt x="31" y="141"/>
                </a:lnTo>
                <a:lnTo>
                  <a:pt x="0" y="187"/>
                </a:lnTo>
                <a:lnTo>
                  <a:pt x="56" y="146"/>
                </a:lnTo>
                <a:lnTo>
                  <a:pt x="61" y="96"/>
                </a:lnTo>
                <a:lnTo>
                  <a:pt x="87" y="55"/>
                </a:lnTo>
                <a:lnTo>
                  <a:pt x="115" y="0"/>
                </a:lnTo>
                <a:lnTo>
                  <a:pt x="69" y="5"/>
                </a:lnTo>
                <a:lnTo>
                  <a:pt x="69" y="5"/>
                </a:lnTo>
                <a:lnTo>
                  <a:pt x="69" y="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5"/>
          <p:cNvSpPr/>
          <p:nvPr/>
        </p:nvSpPr>
        <p:spPr>
          <a:xfrm>
            <a:off x="5802480" y="2166840"/>
            <a:ext cx="428400" cy="712800"/>
          </a:xfrm>
          <a:custGeom>
            <a:avLst/>
            <a:gdLst>
              <a:gd name="textAreaLeft" fmla="*/ 0 w 428400"/>
              <a:gd name="textAreaRight" fmla="*/ 428760 w 4284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70" h="449">
                <a:moveTo>
                  <a:pt x="0" y="0"/>
                </a:moveTo>
                <a:lnTo>
                  <a:pt x="93" y="96"/>
                </a:lnTo>
                <a:lnTo>
                  <a:pt x="162" y="154"/>
                </a:lnTo>
                <a:lnTo>
                  <a:pt x="235" y="217"/>
                </a:lnTo>
                <a:lnTo>
                  <a:pt x="270" y="286"/>
                </a:lnTo>
                <a:lnTo>
                  <a:pt x="241" y="348"/>
                </a:lnTo>
                <a:lnTo>
                  <a:pt x="186" y="419"/>
                </a:lnTo>
                <a:lnTo>
                  <a:pt x="66" y="449"/>
                </a:lnTo>
                <a:lnTo>
                  <a:pt x="147" y="322"/>
                </a:lnTo>
                <a:lnTo>
                  <a:pt x="89" y="187"/>
                </a:lnTo>
                <a:lnTo>
                  <a:pt x="8" y="10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6"/>
          <p:cNvSpPr/>
          <p:nvPr/>
        </p:nvSpPr>
        <p:spPr>
          <a:xfrm>
            <a:off x="5616720" y="2494080"/>
            <a:ext cx="252360" cy="261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59" h="165">
                <a:moveTo>
                  <a:pt x="0" y="2"/>
                </a:moveTo>
                <a:lnTo>
                  <a:pt x="8" y="58"/>
                </a:lnTo>
                <a:lnTo>
                  <a:pt x="51" y="54"/>
                </a:lnTo>
                <a:lnTo>
                  <a:pt x="101" y="81"/>
                </a:lnTo>
                <a:lnTo>
                  <a:pt x="113" y="165"/>
                </a:lnTo>
                <a:lnTo>
                  <a:pt x="159" y="127"/>
                </a:lnTo>
                <a:lnTo>
                  <a:pt x="148" y="49"/>
                </a:lnTo>
                <a:lnTo>
                  <a:pt x="9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7"/>
          <p:cNvSpPr/>
          <p:nvPr/>
        </p:nvSpPr>
        <p:spPr>
          <a:xfrm>
            <a:off x="5059440" y="438120"/>
            <a:ext cx="293760" cy="507960"/>
          </a:xfrm>
          <a:custGeom>
            <a:avLst/>
            <a:gdLst>
              <a:gd name="textAreaLeft" fmla="*/ 0 w 293760"/>
              <a:gd name="textAreaRight" fmla="*/ 294120 w 2937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85" h="320">
                <a:moveTo>
                  <a:pt x="0" y="13"/>
                </a:moveTo>
                <a:lnTo>
                  <a:pt x="55" y="58"/>
                </a:lnTo>
                <a:lnTo>
                  <a:pt x="95" y="101"/>
                </a:lnTo>
                <a:lnTo>
                  <a:pt x="103" y="144"/>
                </a:lnTo>
                <a:lnTo>
                  <a:pt x="103" y="216"/>
                </a:lnTo>
                <a:lnTo>
                  <a:pt x="137" y="172"/>
                </a:lnTo>
                <a:lnTo>
                  <a:pt x="125" y="233"/>
                </a:lnTo>
                <a:lnTo>
                  <a:pt x="108" y="320"/>
                </a:lnTo>
                <a:lnTo>
                  <a:pt x="161" y="238"/>
                </a:lnTo>
                <a:lnTo>
                  <a:pt x="185" y="172"/>
                </a:lnTo>
                <a:lnTo>
                  <a:pt x="144" y="69"/>
                </a:lnTo>
                <a:lnTo>
                  <a:pt x="31" y="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8"/>
          <p:cNvSpPr/>
          <p:nvPr/>
        </p:nvSpPr>
        <p:spPr>
          <a:xfrm>
            <a:off x="4781520" y="1681200"/>
            <a:ext cx="584280" cy="181080"/>
          </a:xfrm>
          <a:custGeom>
            <a:avLst/>
            <a:gdLst>
              <a:gd name="textAreaLeft" fmla="*/ 0 w 584280"/>
              <a:gd name="textAreaRight" fmla="*/ 584280 w 5842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368" h="114">
                <a:moveTo>
                  <a:pt x="0" y="114"/>
                </a:moveTo>
                <a:lnTo>
                  <a:pt x="41" y="106"/>
                </a:lnTo>
                <a:lnTo>
                  <a:pt x="82" y="92"/>
                </a:lnTo>
                <a:lnTo>
                  <a:pt x="171" y="53"/>
                </a:lnTo>
                <a:lnTo>
                  <a:pt x="217" y="42"/>
                </a:lnTo>
                <a:lnTo>
                  <a:pt x="280" y="44"/>
                </a:lnTo>
                <a:lnTo>
                  <a:pt x="330" y="61"/>
                </a:lnTo>
                <a:lnTo>
                  <a:pt x="368" y="86"/>
                </a:lnTo>
                <a:lnTo>
                  <a:pt x="359" y="67"/>
                </a:lnTo>
                <a:lnTo>
                  <a:pt x="366" y="45"/>
                </a:lnTo>
                <a:lnTo>
                  <a:pt x="337" y="47"/>
                </a:lnTo>
                <a:lnTo>
                  <a:pt x="316" y="44"/>
                </a:lnTo>
                <a:lnTo>
                  <a:pt x="316" y="25"/>
                </a:lnTo>
                <a:lnTo>
                  <a:pt x="266" y="6"/>
                </a:lnTo>
                <a:lnTo>
                  <a:pt x="217" y="0"/>
                </a:lnTo>
                <a:lnTo>
                  <a:pt x="167" y="4"/>
                </a:lnTo>
                <a:lnTo>
                  <a:pt x="126" y="22"/>
                </a:lnTo>
                <a:lnTo>
                  <a:pt x="57" y="35"/>
                </a:lnTo>
                <a:lnTo>
                  <a:pt x="17" y="70"/>
                </a:lnTo>
                <a:lnTo>
                  <a:pt x="7" y="95"/>
                </a:lnTo>
                <a:lnTo>
                  <a:pt x="0" y="114"/>
                </a:lnTo>
                <a:lnTo>
                  <a:pt x="0" y="114"/>
                </a:lnTo>
                <a:lnTo>
                  <a:pt x="0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9"/>
          <p:cNvSpPr/>
          <p:nvPr/>
        </p:nvSpPr>
        <p:spPr>
          <a:xfrm>
            <a:off x="3902040" y="1886040"/>
            <a:ext cx="452520" cy="169920"/>
          </a:xfrm>
          <a:custGeom>
            <a:avLst/>
            <a:gdLst>
              <a:gd name="textAreaLeft" fmla="*/ 0 w 452520"/>
              <a:gd name="textAreaRight" fmla="*/ 452880 w 4525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85" h="107">
                <a:moveTo>
                  <a:pt x="261" y="40"/>
                </a:moveTo>
                <a:lnTo>
                  <a:pt x="223" y="50"/>
                </a:lnTo>
                <a:lnTo>
                  <a:pt x="159" y="48"/>
                </a:lnTo>
                <a:lnTo>
                  <a:pt x="118" y="48"/>
                </a:lnTo>
                <a:lnTo>
                  <a:pt x="75" y="56"/>
                </a:lnTo>
                <a:lnTo>
                  <a:pt x="24" y="83"/>
                </a:lnTo>
                <a:lnTo>
                  <a:pt x="0" y="107"/>
                </a:lnTo>
                <a:lnTo>
                  <a:pt x="24" y="56"/>
                </a:lnTo>
                <a:lnTo>
                  <a:pt x="73" y="24"/>
                </a:lnTo>
                <a:lnTo>
                  <a:pt x="129" y="18"/>
                </a:lnTo>
                <a:lnTo>
                  <a:pt x="152" y="6"/>
                </a:lnTo>
                <a:lnTo>
                  <a:pt x="220" y="0"/>
                </a:lnTo>
                <a:lnTo>
                  <a:pt x="259" y="8"/>
                </a:lnTo>
                <a:lnTo>
                  <a:pt x="285" y="25"/>
                </a:lnTo>
                <a:lnTo>
                  <a:pt x="261" y="40"/>
                </a:lnTo>
                <a:lnTo>
                  <a:pt x="261" y="40"/>
                </a:lnTo>
                <a:lnTo>
                  <a:pt x="261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0"/>
          <p:cNvSpPr/>
          <p:nvPr/>
        </p:nvSpPr>
        <p:spPr>
          <a:xfrm>
            <a:off x="4673520" y="1871640"/>
            <a:ext cx="362160" cy="763560"/>
          </a:xfrm>
          <a:custGeom>
            <a:avLst/>
            <a:gdLst>
              <a:gd name="textAreaLeft" fmla="*/ 0 w 362160"/>
              <a:gd name="textAreaRight" fmla="*/ 362520 w 3621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28" h="481">
                <a:moveTo>
                  <a:pt x="212" y="0"/>
                </a:moveTo>
                <a:lnTo>
                  <a:pt x="166" y="27"/>
                </a:lnTo>
                <a:lnTo>
                  <a:pt x="125" y="65"/>
                </a:lnTo>
                <a:lnTo>
                  <a:pt x="109" y="88"/>
                </a:lnTo>
                <a:lnTo>
                  <a:pt x="113" y="117"/>
                </a:lnTo>
                <a:lnTo>
                  <a:pt x="87" y="116"/>
                </a:lnTo>
                <a:lnTo>
                  <a:pt x="89" y="144"/>
                </a:lnTo>
                <a:lnTo>
                  <a:pt x="121" y="239"/>
                </a:lnTo>
                <a:lnTo>
                  <a:pt x="148" y="298"/>
                </a:lnTo>
                <a:lnTo>
                  <a:pt x="196" y="339"/>
                </a:lnTo>
                <a:lnTo>
                  <a:pt x="228" y="388"/>
                </a:lnTo>
                <a:lnTo>
                  <a:pt x="216" y="436"/>
                </a:lnTo>
                <a:lnTo>
                  <a:pt x="178" y="452"/>
                </a:lnTo>
                <a:lnTo>
                  <a:pt x="144" y="448"/>
                </a:lnTo>
                <a:lnTo>
                  <a:pt x="59" y="481"/>
                </a:lnTo>
                <a:lnTo>
                  <a:pt x="0" y="481"/>
                </a:lnTo>
                <a:lnTo>
                  <a:pt x="41" y="466"/>
                </a:lnTo>
                <a:lnTo>
                  <a:pt x="63" y="450"/>
                </a:lnTo>
                <a:lnTo>
                  <a:pt x="79" y="434"/>
                </a:lnTo>
                <a:lnTo>
                  <a:pt x="97" y="429"/>
                </a:lnTo>
                <a:lnTo>
                  <a:pt x="132" y="422"/>
                </a:lnTo>
                <a:lnTo>
                  <a:pt x="182" y="422"/>
                </a:lnTo>
                <a:lnTo>
                  <a:pt x="198" y="402"/>
                </a:lnTo>
                <a:lnTo>
                  <a:pt x="198" y="371"/>
                </a:lnTo>
                <a:lnTo>
                  <a:pt x="182" y="345"/>
                </a:lnTo>
                <a:lnTo>
                  <a:pt x="164" y="333"/>
                </a:lnTo>
                <a:lnTo>
                  <a:pt x="140" y="329"/>
                </a:lnTo>
                <a:lnTo>
                  <a:pt x="93" y="373"/>
                </a:lnTo>
                <a:lnTo>
                  <a:pt x="75" y="331"/>
                </a:lnTo>
                <a:lnTo>
                  <a:pt x="54" y="250"/>
                </a:lnTo>
                <a:lnTo>
                  <a:pt x="48" y="156"/>
                </a:lnTo>
                <a:lnTo>
                  <a:pt x="46" y="117"/>
                </a:lnTo>
                <a:lnTo>
                  <a:pt x="55" y="86"/>
                </a:lnTo>
                <a:lnTo>
                  <a:pt x="75" y="54"/>
                </a:lnTo>
                <a:lnTo>
                  <a:pt x="82" y="69"/>
                </a:lnTo>
                <a:lnTo>
                  <a:pt x="97" y="77"/>
                </a:lnTo>
                <a:lnTo>
                  <a:pt x="116" y="65"/>
                </a:lnTo>
                <a:lnTo>
                  <a:pt x="146" y="31"/>
                </a:lnTo>
                <a:lnTo>
                  <a:pt x="178" y="9"/>
                </a:lnTo>
                <a:lnTo>
                  <a:pt x="212" y="0"/>
                </a:lnTo>
                <a:lnTo>
                  <a:pt x="212" y="0"/>
                </a:lnTo>
                <a:lnTo>
                  <a:pt x="2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1"/>
          <p:cNvSpPr/>
          <p:nvPr/>
        </p:nvSpPr>
        <p:spPr>
          <a:xfrm>
            <a:off x="4849920" y="1862280"/>
            <a:ext cx="504720" cy="193680"/>
          </a:xfrm>
          <a:custGeom>
            <a:avLst/>
            <a:gdLst>
              <a:gd name="textAreaLeft" fmla="*/ 0 w 504720"/>
              <a:gd name="textAreaRight" fmla="*/ 504720 w 504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18" h="122">
                <a:moveTo>
                  <a:pt x="0" y="111"/>
                </a:moveTo>
                <a:lnTo>
                  <a:pt x="43" y="69"/>
                </a:lnTo>
                <a:lnTo>
                  <a:pt x="77" y="45"/>
                </a:lnTo>
                <a:lnTo>
                  <a:pt x="119" y="28"/>
                </a:lnTo>
                <a:lnTo>
                  <a:pt x="142" y="24"/>
                </a:lnTo>
                <a:lnTo>
                  <a:pt x="171" y="23"/>
                </a:lnTo>
                <a:lnTo>
                  <a:pt x="148" y="0"/>
                </a:lnTo>
                <a:lnTo>
                  <a:pt x="182" y="0"/>
                </a:lnTo>
                <a:lnTo>
                  <a:pt x="209" y="6"/>
                </a:lnTo>
                <a:lnTo>
                  <a:pt x="239" y="6"/>
                </a:lnTo>
                <a:lnTo>
                  <a:pt x="235" y="21"/>
                </a:lnTo>
                <a:lnTo>
                  <a:pt x="278" y="24"/>
                </a:lnTo>
                <a:lnTo>
                  <a:pt x="298" y="17"/>
                </a:lnTo>
                <a:lnTo>
                  <a:pt x="280" y="40"/>
                </a:lnTo>
                <a:lnTo>
                  <a:pt x="318" y="31"/>
                </a:lnTo>
                <a:lnTo>
                  <a:pt x="302" y="55"/>
                </a:lnTo>
                <a:lnTo>
                  <a:pt x="316" y="75"/>
                </a:lnTo>
                <a:lnTo>
                  <a:pt x="280" y="73"/>
                </a:lnTo>
                <a:lnTo>
                  <a:pt x="262" y="81"/>
                </a:lnTo>
                <a:lnTo>
                  <a:pt x="251" y="101"/>
                </a:lnTo>
                <a:lnTo>
                  <a:pt x="227" y="101"/>
                </a:lnTo>
                <a:lnTo>
                  <a:pt x="196" y="113"/>
                </a:lnTo>
                <a:lnTo>
                  <a:pt x="164" y="122"/>
                </a:lnTo>
                <a:lnTo>
                  <a:pt x="108" y="122"/>
                </a:lnTo>
                <a:lnTo>
                  <a:pt x="189" y="106"/>
                </a:lnTo>
                <a:lnTo>
                  <a:pt x="241" y="77"/>
                </a:lnTo>
                <a:lnTo>
                  <a:pt x="207" y="62"/>
                </a:lnTo>
                <a:lnTo>
                  <a:pt x="174" y="53"/>
                </a:lnTo>
                <a:lnTo>
                  <a:pt x="142" y="51"/>
                </a:lnTo>
                <a:lnTo>
                  <a:pt x="113" y="51"/>
                </a:lnTo>
                <a:lnTo>
                  <a:pt x="85" y="57"/>
                </a:lnTo>
                <a:lnTo>
                  <a:pt x="60" y="69"/>
                </a:lnTo>
                <a:lnTo>
                  <a:pt x="43" y="87"/>
                </a:lnTo>
                <a:lnTo>
                  <a:pt x="30" y="108"/>
                </a:lnTo>
                <a:lnTo>
                  <a:pt x="73" y="122"/>
                </a:lnTo>
                <a:lnTo>
                  <a:pt x="21" y="122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2"/>
          <p:cNvSpPr/>
          <p:nvPr/>
        </p:nvSpPr>
        <p:spPr>
          <a:xfrm>
            <a:off x="5035680" y="1943280"/>
            <a:ext cx="64800" cy="64800"/>
          </a:xfrm>
          <a:custGeom>
            <a:avLst/>
            <a:gdLst>
              <a:gd name="textAreaLeft" fmla="*/ 0 w 64800"/>
              <a:gd name="textAreaRight" fmla="*/ 65160 w 648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41" h="41">
                <a:moveTo>
                  <a:pt x="0" y="12"/>
                </a:moveTo>
                <a:lnTo>
                  <a:pt x="13" y="19"/>
                </a:lnTo>
                <a:lnTo>
                  <a:pt x="15" y="28"/>
                </a:lnTo>
                <a:lnTo>
                  <a:pt x="5" y="37"/>
                </a:lnTo>
                <a:lnTo>
                  <a:pt x="21" y="41"/>
                </a:lnTo>
                <a:lnTo>
                  <a:pt x="35" y="37"/>
                </a:lnTo>
                <a:lnTo>
                  <a:pt x="41" y="24"/>
                </a:lnTo>
                <a:lnTo>
                  <a:pt x="37" y="9"/>
                </a:lnTo>
                <a:lnTo>
                  <a:pt x="23" y="0"/>
                </a:lnTo>
                <a:lnTo>
                  <a:pt x="9" y="3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3"/>
          <p:cNvSpPr/>
          <p:nvPr/>
        </p:nvSpPr>
        <p:spPr>
          <a:xfrm>
            <a:off x="4975200" y="1936800"/>
            <a:ext cx="171360" cy="115920"/>
          </a:xfrm>
          <a:custGeom>
            <a:avLst/>
            <a:gdLst>
              <a:gd name="textAreaLeft" fmla="*/ 0 w 171360"/>
              <a:gd name="textAreaRight" fmla="*/ 171720 w 1713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08" h="73">
                <a:moveTo>
                  <a:pt x="24" y="0"/>
                </a:moveTo>
                <a:lnTo>
                  <a:pt x="18" y="38"/>
                </a:lnTo>
                <a:lnTo>
                  <a:pt x="34" y="59"/>
                </a:lnTo>
                <a:lnTo>
                  <a:pt x="47" y="63"/>
                </a:lnTo>
                <a:lnTo>
                  <a:pt x="65" y="63"/>
                </a:lnTo>
                <a:lnTo>
                  <a:pt x="81" y="54"/>
                </a:lnTo>
                <a:lnTo>
                  <a:pt x="94" y="38"/>
                </a:lnTo>
                <a:lnTo>
                  <a:pt x="95" y="20"/>
                </a:lnTo>
                <a:lnTo>
                  <a:pt x="87" y="2"/>
                </a:lnTo>
                <a:lnTo>
                  <a:pt x="103" y="2"/>
                </a:lnTo>
                <a:lnTo>
                  <a:pt x="108" y="22"/>
                </a:lnTo>
                <a:lnTo>
                  <a:pt x="106" y="43"/>
                </a:lnTo>
                <a:lnTo>
                  <a:pt x="94" y="61"/>
                </a:lnTo>
                <a:lnTo>
                  <a:pt x="74" y="70"/>
                </a:lnTo>
                <a:lnTo>
                  <a:pt x="45" y="73"/>
                </a:lnTo>
                <a:lnTo>
                  <a:pt x="24" y="64"/>
                </a:lnTo>
                <a:lnTo>
                  <a:pt x="6" y="38"/>
                </a:lnTo>
                <a:lnTo>
                  <a:pt x="0" y="18"/>
                </a:lnTo>
                <a:lnTo>
                  <a:pt x="0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4"/>
          <p:cNvSpPr/>
          <p:nvPr/>
        </p:nvSpPr>
        <p:spPr>
          <a:xfrm>
            <a:off x="4511520" y="2593800"/>
            <a:ext cx="136800" cy="32040"/>
          </a:xfrm>
          <a:custGeom>
            <a:avLst/>
            <a:gdLst>
              <a:gd name="textAreaLeft" fmla="*/ 0 w 136800"/>
              <a:gd name="textAreaRight" fmla="*/ 137160 w 136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86" h="20">
                <a:moveTo>
                  <a:pt x="86" y="20"/>
                </a:moveTo>
                <a:lnTo>
                  <a:pt x="37" y="0"/>
                </a:lnTo>
                <a:lnTo>
                  <a:pt x="0" y="10"/>
                </a:lnTo>
                <a:lnTo>
                  <a:pt x="11" y="20"/>
                </a:lnTo>
                <a:lnTo>
                  <a:pt x="55" y="20"/>
                </a:lnTo>
                <a:lnTo>
                  <a:pt x="86" y="20"/>
                </a:lnTo>
                <a:lnTo>
                  <a:pt x="86" y="20"/>
                </a:lnTo>
                <a:lnTo>
                  <a:pt x="8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5"/>
          <p:cNvSpPr/>
          <p:nvPr/>
        </p:nvSpPr>
        <p:spPr>
          <a:xfrm>
            <a:off x="5062680" y="2503440"/>
            <a:ext cx="245880" cy="2239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55" h="141">
                <a:moveTo>
                  <a:pt x="0" y="0"/>
                </a:moveTo>
                <a:lnTo>
                  <a:pt x="42" y="32"/>
                </a:lnTo>
                <a:lnTo>
                  <a:pt x="137" y="81"/>
                </a:lnTo>
                <a:lnTo>
                  <a:pt x="155" y="101"/>
                </a:lnTo>
                <a:lnTo>
                  <a:pt x="155" y="141"/>
                </a:lnTo>
                <a:lnTo>
                  <a:pt x="146" y="107"/>
                </a:lnTo>
                <a:lnTo>
                  <a:pt x="111" y="81"/>
                </a:lnTo>
                <a:lnTo>
                  <a:pt x="39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6"/>
          <p:cNvSpPr/>
          <p:nvPr/>
        </p:nvSpPr>
        <p:spPr>
          <a:xfrm>
            <a:off x="4440240" y="2724120"/>
            <a:ext cx="760320" cy="139680"/>
          </a:xfrm>
          <a:custGeom>
            <a:avLst/>
            <a:gdLst>
              <a:gd name="textAreaLeft" fmla="*/ 0 w 760320"/>
              <a:gd name="textAreaRight" fmla="*/ 760680 w 760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79" h="88">
                <a:moveTo>
                  <a:pt x="0" y="88"/>
                </a:moveTo>
                <a:lnTo>
                  <a:pt x="70" y="77"/>
                </a:lnTo>
                <a:lnTo>
                  <a:pt x="117" y="73"/>
                </a:lnTo>
                <a:lnTo>
                  <a:pt x="206" y="70"/>
                </a:lnTo>
                <a:lnTo>
                  <a:pt x="238" y="63"/>
                </a:lnTo>
                <a:lnTo>
                  <a:pt x="313" y="47"/>
                </a:lnTo>
                <a:lnTo>
                  <a:pt x="377" y="31"/>
                </a:lnTo>
                <a:lnTo>
                  <a:pt x="411" y="27"/>
                </a:lnTo>
                <a:lnTo>
                  <a:pt x="429" y="27"/>
                </a:lnTo>
                <a:lnTo>
                  <a:pt x="429" y="55"/>
                </a:lnTo>
                <a:lnTo>
                  <a:pt x="431" y="72"/>
                </a:lnTo>
                <a:lnTo>
                  <a:pt x="456" y="45"/>
                </a:lnTo>
                <a:lnTo>
                  <a:pt x="456" y="72"/>
                </a:lnTo>
                <a:lnTo>
                  <a:pt x="475" y="36"/>
                </a:lnTo>
                <a:lnTo>
                  <a:pt x="479" y="9"/>
                </a:lnTo>
                <a:lnTo>
                  <a:pt x="465" y="4"/>
                </a:lnTo>
                <a:lnTo>
                  <a:pt x="429" y="0"/>
                </a:lnTo>
                <a:lnTo>
                  <a:pt x="379" y="0"/>
                </a:lnTo>
                <a:lnTo>
                  <a:pt x="311" y="2"/>
                </a:lnTo>
                <a:lnTo>
                  <a:pt x="285" y="9"/>
                </a:lnTo>
                <a:lnTo>
                  <a:pt x="229" y="18"/>
                </a:lnTo>
                <a:lnTo>
                  <a:pt x="202" y="20"/>
                </a:lnTo>
                <a:lnTo>
                  <a:pt x="119" y="31"/>
                </a:lnTo>
                <a:lnTo>
                  <a:pt x="84" y="43"/>
                </a:lnTo>
                <a:lnTo>
                  <a:pt x="134" y="36"/>
                </a:lnTo>
                <a:lnTo>
                  <a:pt x="190" y="31"/>
                </a:lnTo>
                <a:lnTo>
                  <a:pt x="224" y="31"/>
                </a:lnTo>
                <a:lnTo>
                  <a:pt x="263" y="23"/>
                </a:lnTo>
                <a:lnTo>
                  <a:pt x="291" y="18"/>
                </a:lnTo>
                <a:lnTo>
                  <a:pt x="266" y="48"/>
                </a:lnTo>
                <a:lnTo>
                  <a:pt x="227" y="57"/>
                </a:lnTo>
                <a:lnTo>
                  <a:pt x="175" y="63"/>
                </a:lnTo>
                <a:lnTo>
                  <a:pt x="122" y="65"/>
                </a:lnTo>
                <a:lnTo>
                  <a:pt x="90" y="72"/>
                </a:lnTo>
                <a:lnTo>
                  <a:pt x="41" y="75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7"/>
          <p:cNvSpPr/>
          <p:nvPr/>
        </p:nvSpPr>
        <p:spPr>
          <a:xfrm>
            <a:off x="4386240" y="2860560"/>
            <a:ext cx="109440" cy="76320"/>
          </a:xfrm>
          <a:custGeom>
            <a:avLst/>
            <a:gdLst>
              <a:gd name="textAreaLeft" fmla="*/ 0 w 109440"/>
              <a:gd name="textAreaRight" fmla="*/ 109800 w 109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9" h="48">
                <a:moveTo>
                  <a:pt x="0" y="10"/>
                </a:moveTo>
                <a:lnTo>
                  <a:pt x="41" y="48"/>
                </a:lnTo>
                <a:lnTo>
                  <a:pt x="41" y="30"/>
                </a:lnTo>
                <a:lnTo>
                  <a:pt x="69" y="32"/>
                </a:lnTo>
                <a:lnTo>
                  <a:pt x="43" y="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8"/>
          <p:cNvSpPr/>
          <p:nvPr/>
        </p:nvSpPr>
        <p:spPr>
          <a:xfrm>
            <a:off x="4492800" y="2835360"/>
            <a:ext cx="628560" cy="176040"/>
          </a:xfrm>
          <a:custGeom>
            <a:avLst/>
            <a:gdLst>
              <a:gd name="textAreaLeft" fmla="*/ 0 w 628560"/>
              <a:gd name="textAreaRight" fmla="*/ 628920 w 6285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396" h="111">
                <a:moveTo>
                  <a:pt x="0" y="61"/>
                </a:moveTo>
                <a:lnTo>
                  <a:pt x="49" y="84"/>
                </a:lnTo>
                <a:lnTo>
                  <a:pt x="118" y="97"/>
                </a:lnTo>
                <a:lnTo>
                  <a:pt x="175" y="97"/>
                </a:lnTo>
                <a:lnTo>
                  <a:pt x="241" y="84"/>
                </a:lnTo>
                <a:lnTo>
                  <a:pt x="302" y="64"/>
                </a:lnTo>
                <a:lnTo>
                  <a:pt x="353" y="34"/>
                </a:lnTo>
                <a:lnTo>
                  <a:pt x="396" y="0"/>
                </a:lnTo>
                <a:lnTo>
                  <a:pt x="351" y="44"/>
                </a:lnTo>
                <a:lnTo>
                  <a:pt x="314" y="71"/>
                </a:lnTo>
                <a:lnTo>
                  <a:pt x="254" y="95"/>
                </a:lnTo>
                <a:lnTo>
                  <a:pt x="201" y="107"/>
                </a:lnTo>
                <a:lnTo>
                  <a:pt x="146" y="111"/>
                </a:lnTo>
                <a:lnTo>
                  <a:pt x="91" y="105"/>
                </a:lnTo>
                <a:lnTo>
                  <a:pt x="42" y="91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9"/>
          <p:cNvSpPr/>
          <p:nvPr/>
        </p:nvSpPr>
        <p:spPr>
          <a:xfrm>
            <a:off x="4511520" y="2824200"/>
            <a:ext cx="649440" cy="258840"/>
          </a:xfrm>
          <a:custGeom>
            <a:avLst/>
            <a:gdLst>
              <a:gd name="textAreaLeft" fmla="*/ 0 w 649440"/>
              <a:gd name="textAreaRight" fmla="*/ 649800 w 649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09" h="163">
                <a:moveTo>
                  <a:pt x="409" y="10"/>
                </a:moveTo>
                <a:lnTo>
                  <a:pt x="384" y="59"/>
                </a:lnTo>
                <a:lnTo>
                  <a:pt x="343" y="98"/>
                </a:lnTo>
                <a:lnTo>
                  <a:pt x="282" y="134"/>
                </a:lnTo>
                <a:lnTo>
                  <a:pt x="227" y="155"/>
                </a:lnTo>
                <a:lnTo>
                  <a:pt x="170" y="163"/>
                </a:lnTo>
                <a:lnTo>
                  <a:pt x="104" y="157"/>
                </a:lnTo>
                <a:lnTo>
                  <a:pt x="43" y="136"/>
                </a:lnTo>
                <a:lnTo>
                  <a:pt x="0" y="104"/>
                </a:lnTo>
                <a:lnTo>
                  <a:pt x="51" y="132"/>
                </a:lnTo>
                <a:lnTo>
                  <a:pt x="87" y="142"/>
                </a:lnTo>
                <a:lnTo>
                  <a:pt x="143" y="150"/>
                </a:lnTo>
                <a:lnTo>
                  <a:pt x="193" y="148"/>
                </a:lnTo>
                <a:lnTo>
                  <a:pt x="240" y="139"/>
                </a:lnTo>
                <a:lnTo>
                  <a:pt x="271" y="124"/>
                </a:lnTo>
                <a:lnTo>
                  <a:pt x="286" y="114"/>
                </a:lnTo>
                <a:lnTo>
                  <a:pt x="292" y="102"/>
                </a:lnTo>
                <a:lnTo>
                  <a:pt x="280" y="91"/>
                </a:lnTo>
                <a:lnTo>
                  <a:pt x="260" y="89"/>
                </a:lnTo>
                <a:lnTo>
                  <a:pt x="304" y="69"/>
                </a:lnTo>
                <a:lnTo>
                  <a:pt x="343" y="41"/>
                </a:lnTo>
                <a:lnTo>
                  <a:pt x="391" y="0"/>
                </a:lnTo>
                <a:lnTo>
                  <a:pt x="384" y="30"/>
                </a:lnTo>
                <a:lnTo>
                  <a:pt x="409" y="10"/>
                </a:lnTo>
                <a:lnTo>
                  <a:pt x="409" y="10"/>
                </a:lnTo>
                <a:lnTo>
                  <a:pt x="4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0"/>
          <p:cNvSpPr/>
          <p:nvPr/>
        </p:nvSpPr>
        <p:spPr>
          <a:xfrm>
            <a:off x="4248000" y="2538360"/>
            <a:ext cx="184320" cy="393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16" h="248">
                <a:moveTo>
                  <a:pt x="116" y="0"/>
                </a:moveTo>
                <a:lnTo>
                  <a:pt x="98" y="59"/>
                </a:lnTo>
                <a:lnTo>
                  <a:pt x="67" y="112"/>
                </a:lnTo>
                <a:lnTo>
                  <a:pt x="45" y="142"/>
                </a:lnTo>
                <a:lnTo>
                  <a:pt x="31" y="172"/>
                </a:lnTo>
                <a:lnTo>
                  <a:pt x="16" y="217"/>
                </a:lnTo>
                <a:lnTo>
                  <a:pt x="12" y="248"/>
                </a:lnTo>
                <a:lnTo>
                  <a:pt x="0" y="209"/>
                </a:lnTo>
                <a:lnTo>
                  <a:pt x="0" y="178"/>
                </a:lnTo>
                <a:lnTo>
                  <a:pt x="9" y="146"/>
                </a:lnTo>
                <a:lnTo>
                  <a:pt x="33" y="114"/>
                </a:lnTo>
                <a:lnTo>
                  <a:pt x="57" y="89"/>
                </a:lnTo>
                <a:lnTo>
                  <a:pt x="78" y="66"/>
                </a:lnTo>
                <a:lnTo>
                  <a:pt x="93" y="41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1"/>
          <p:cNvSpPr/>
          <p:nvPr/>
        </p:nvSpPr>
        <p:spPr>
          <a:xfrm>
            <a:off x="3962520" y="2070000"/>
            <a:ext cx="477720" cy="184320"/>
          </a:xfrm>
          <a:custGeom>
            <a:avLst/>
            <a:gdLst>
              <a:gd name="textAreaLeft" fmla="*/ 0 w 477720"/>
              <a:gd name="textAreaRight" fmla="*/ 477720 w 4777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01" h="116">
                <a:moveTo>
                  <a:pt x="253" y="64"/>
                </a:moveTo>
                <a:lnTo>
                  <a:pt x="301" y="48"/>
                </a:lnTo>
                <a:lnTo>
                  <a:pt x="273" y="25"/>
                </a:lnTo>
                <a:lnTo>
                  <a:pt x="217" y="7"/>
                </a:lnTo>
                <a:lnTo>
                  <a:pt x="156" y="0"/>
                </a:lnTo>
                <a:lnTo>
                  <a:pt x="118" y="7"/>
                </a:lnTo>
                <a:lnTo>
                  <a:pt x="120" y="23"/>
                </a:lnTo>
                <a:lnTo>
                  <a:pt x="91" y="27"/>
                </a:lnTo>
                <a:lnTo>
                  <a:pt x="84" y="13"/>
                </a:lnTo>
                <a:lnTo>
                  <a:pt x="44" y="41"/>
                </a:lnTo>
                <a:lnTo>
                  <a:pt x="23" y="64"/>
                </a:lnTo>
                <a:lnTo>
                  <a:pt x="39" y="76"/>
                </a:lnTo>
                <a:lnTo>
                  <a:pt x="26" y="88"/>
                </a:lnTo>
                <a:lnTo>
                  <a:pt x="0" y="102"/>
                </a:lnTo>
                <a:lnTo>
                  <a:pt x="30" y="111"/>
                </a:lnTo>
                <a:lnTo>
                  <a:pt x="51" y="111"/>
                </a:lnTo>
                <a:lnTo>
                  <a:pt x="80" y="104"/>
                </a:lnTo>
                <a:lnTo>
                  <a:pt x="94" y="116"/>
                </a:lnTo>
                <a:lnTo>
                  <a:pt x="112" y="104"/>
                </a:lnTo>
                <a:lnTo>
                  <a:pt x="130" y="109"/>
                </a:lnTo>
                <a:lnTo>
                  <a:pt x="146" y="89"/>
                </a:lnTo>
                <a:lnTo>
                  <a:pt x="105" y="84"/>
                </a:lnTo>
                <a:lnTo>
                  <a:pt x="91" y="72"/>
                </a:lnTo>
                <a:lnTo>
                  <a:pt x="110" y="52"/>
                </a:lnTo>
                <a:lnTo>
                  <a:pt x="134" y="35"/>
                </a:lnTo>
                <a:lnTo>
                  <a:pt x="162" y="27"/>
                </a:lnTo>
                <a:lnTo>
                  <a:pt x="196" y="27"/>
                </a:lnTo>
                <a:lnTo>
                  <a:pt x="233" y="34"/>
                </a:lnTo>
                <a:lnTo>
                  <a:pt x="262" y="39"/>
                </a:lnTo>
                <a:lnTo>
                  <a:pt x="253" y="64"/>
                </a:lnTo>
                <a:lnTo>
                  <a:pt x="253" y="64"/>
                </a:lnTo>
                <a:lnTo>
                  <a:pt x="253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2"/>
          <p:cNvSpPr/>
          <p:nvPr/>
        </p:nvSpPr>
        <p:spPr>
          <a:xfrm>
            <a:off x="4213080" y="2174760"/>
            <a:ext cx="115920" cy="50760"/>
          </a:xfrm>
          <a:custGeom>
            <a:avLst/>
            <a:gdLst>
              <a:gd name="textAreaLeft" fmla="*/ 0 w 115920"/>
              <a:gd name="textAreaRight" fmla="*/ 116280 w 115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3" h="32">
                <a:moveTo>
                  <a:pt x="0" y="20"/>
                </a:moveTo>
                <a:lnTo>
                  <a:pt x="36" y="12"/>
                </a:lnTo>
                <a:lnTo>
                  <a:pt x="73" y="0"/>
                </a:lnTo>
                <a:lnTo>
                  <a:pt x="41" y="23"/>
                </a:lnTo>
                <a:lnTo>
                  <a:pt x="19" y="23"/>
                </a:lnTo>
                <a:lnTo>
                  <a:pt x="0" y="32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3"/>
          <p:cNvSpPr/>
          <p:nvPr/>
        </p:nvSpPr>
        <p:spPr>
          <a:xfrm>
            <a:off x="4057560" y="2038320"/>
            <a:ext cx="289080" cy="85680"/>
          </a:xfrm>
          <a:custGeom>
            <a:avLst/>
            <a:gdLst>
              <a:gd name="textAreaLeft" fmla="*/ 0 w 289080"/>
              <a:gd name="textAreaRight" fmla="*/ 289440 w 2890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82" h="54">
                <a:moveTo>
                  <a:pt x="0" y="51"/>
                </a:moveTo>
                <a:lnTo>
                  <a:pt x="45" y="16"/>
                </a:lnTo>
                <a:lnTo>
                  <a:pt x="98" y="0"/>
                </a:lnTo>
                <a:lnTo>
                  <a:pt x="141" y="0"/>
                </a:lnTo>
                <a:lnTo>
                  <a:pt x="182" y="9"/>
                </a:lnTo>
                <a:lnTo>
                  <a:pt x="109" y="9"/>
                </a:lnTo>
                <a:lnTo>
                  <a:pt x="52" y="25"/>
                </a:lnTo>
                <a:lnTo>
                  <a:pt x="20" y="54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4"/>
          <p:cNvSpPr/>
          <p:nvPr/>
        </p:nvSpPr>
        <p:spPr>
          <a:xfrm>
            <a:off x="4222800" y="2116080"/>
            <a:ext cx="55440" cy="47520"/>
          </a:xfrm>
          <a:custGeom>
            <a:avLst/>
            <a:gdLst>
              <a:gd name="textAreaLeft" fmla="*/ 0 w 55440"/>
              <a:gd name="textAreaRight" fmla="*/ 55800 w 554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5" h="30">
                <a:moveTo>
                  <a:pt x="5" y="5"/>
                </a:moveTo>
                <a:lnTo>
                  <a:pt x="15" y="12"/>
                </a:lnTo>
                <a:lnTo>
                  <a:pt x="15" y="23"/>
                </a:lnTo>
                <a:lnTo>
                  <a:pt x="0" y="30"/>
                </a:lnTo>
                <a:lnTo>
                  <a:pt x="18" y="30"/>
                </a:lnTo>
                <a:lnTo>
                  <a:pt x="35" y="21"/>
                </a:lnTo>
                <a:lnTo>
                  <a:pt x="35" y="8"/>
                </a:lnTo>
                <a:lnTo>
                  <a:pt x="23" y="0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5"/>
          <p:cNvSpPr/>
          <p:nvPr/>
        </p:nvSpPr>
        <p:spPr>
          <a:xfrm>
            <a:off x="4152960" y="2100240"/>
            <a:ext cx="169920" cy="103320"/>
          </a:xfrm>
          <a:custGeom>
            <a:avLst/>
            <a:gdLst>
              <a:gd name="textAreaLeft" fmla="*/ 0 w 169920"/>
              <a:gd name="textAreaRight" fmla="*/ 170280 w 1699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7" h="65">
                <a:moveTo>
                  <a:pt x="22" y="6"/>
                </a:moveTo>
                <a:lnTo>
                  <a:pt x="16" y="34"/>
                </a:lnTo>
                <a:lnTo>
                  <a:pt x="30" y="53"/>
                </a:lnTo>
                <a:lnTo>
                  <a:pt x="53" y="59"/>
                </a:lnTo>
                <a:lnTo>
                  <a:pt x="79" y="53"/>
                </a:lnTo>
                <a:lnTo>
                  <a:pt x="95" y="36"/>
                </a:lnTo>
                <a:lnTo>
                  <a:pt x="97" y="20"/>
                </a:lnTo>
                <a:lnTo>
                  <a:pt x="87" y="0"/>
                </a:lnTo>
                <a:lnTo>
                  <a:pt x="107" y="6"/>
                </a:lnTo>
                <a:lnTo>
                  <a:pt x="107" y="29"/>
                </a:lnTo>
                <a:lnTo>
                  <a:pt x="99" y="53"/>
                </a:lnTo>
                <a:lnTo>
                  <a:pt x="74" y="65"/>
                </a:lnTo>
                <a:lnTo>
                  <a:pt x="38" y="65"/>
                </a:lnTo>
                <a:lnTo>
                  <a:pt x="22" y="61"/>
                </a:lnTo>
                <a:lnTo>
                  <a:pt x="10" y="45"/>
                </a:lnTo>
                <a:lnTo>
                  <a:pt x="4" y="29"/>
                </a:lnTo>
                <a:lnTo>
                  <a:pt x="0" y="15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6"/>
          <p:cNvSpPr/>
          <p:nvPr/>
        </p:nvSpPr>
        <p:spPr>
          <a:xfrm>
            <a:off x="3735360" y="592200"/>
            <a:ext cx="1488960" cy="1679400"/>
          </a:xfrm>
          <a:custGeom>
            <a:avLst/>
            <a:gdLst>
              <a:gd name="textAreaLeft" fmla="*/ 0 w 1488960"/>
              <a:gd name="textAreaRight" fmla="*/ 1489320 w 1488960"/>
              <a:gd name="textAreaTop" fmla="*/ 0 h 1679400"/>
              <a:gd name="textAreaBottom" fmla="*/ 1679760 h 1679400"/>
            </a:gdLst>
            <a:ahLst/>
            <a:rect l="textAreaLeft" t="textAreaTop" r="textAreaRight" b="textAreaBottom"/>
            <a:pathLst>
              <a:path w="938" h="1058">
                <a:moveTo>
                  <a:pt x="599" y="311"/>
                </a:moveTo>
                <a:lnTo>
                  <a:pt x="622" y="268"/>
                </a:lnTo>
                <a:lnTo>
                  <a:pt x="636" y="311"/>
                </a:lnTo>
                <a:lnTo>
                  <a:pt x="675" y="249"/>
                </a:lnTo>
                <a:lnTo>
                  <a:pt x="680" y="316"/>
                </a:lnTo>
                <a:lnTo>
                  <a:pt x="728" y="268"/>
                </a:lnTo>
                <a:lnTo>
                  <a:pt x="732" y="321"/>
                </a:lnTo>
                <a:lnTo>
                  <a:pt x="780" y="298"/>
                </a:lnTo>
                <a:lnTo>
                  <a:pt x="804" y="331"/>
                </a:lnTo>
                <a:lnTo>
                  <a:pt x="861" y="311"/>
                </a:lnTo>
                <a:lnTo>
                  <a:pt x="899" y="273"/>
                </a:lnTo>
                <a:lnTo>
                  <a:pt x="924" y="216"/>
                </a:lnTo>
                <a:lnTo>
                  <a:pt x="938" y="134"/>
                </a:lnTo>
                <a:lnTo>
                  <a:pt x="899" y="58"/>
                </a:lnTo>
                <a:lnTo>
                  <a:pt x="833" y="0"/>
                </a:lnTo>
                <a:lnTo>
                  <a:pt x="866" y="48"/>
                </a:lnTo>
                <a:lnTo>
                  <a:pt x="885" y="106"/>
                </a:lnTo>
                <a:lnTo>
                  <a:pt x="885" y="148"/>
                </a:lnTo>
                <a:lnTo>
                  <a:pt x="842" y="76"/>
                </a:lnTo>
                <a:lnTo>
                  <a:pt x="780" y="48"/>
                </a:lnTo>
                <a:lnTo>
                  <a:pt x="695" y="38"/>
                </a:lnTo>
                <a:lnTo>
                  <a:pt x="636" y="58"/>
                </a:lnTo>
                <a:lnTo>
                  <a:pt x="565" y="96"/>
                </a:lnTo>
                <a:lnTo>
                  <a:pt x="516" y="116"/>
                </a:lnTo>
                <a:lnTo>
                  <a:pt x="460" y="134"/>
                </a:lnTo>
                <a:lnTo>
                  <a:pt x="364" y="153"/>
                </a:lnTo>
                <a:lnTo>
                  <a:pt x="465" y="163"/>
                </a:lnTo>
                <a:lnTo>
                  <a:pt x="556" y="163"/>
                </a:lnTo>
                <a:lnTo>
                  <a:pt x="627" y="148"/>
                </a:lnTo>
                <a:lnTo>
                  <a:pt x="685" y="120"/>
                </a:lnTo>
                <a:lnTo>
                  <a:pt x="728" y="116"/>
                </a:lnTo>
                <a:lnTo>
                  <a:pt x="765" y="125"/>
                </a:lnTo>
                <a:lnTo>
                  <a:pt x="785" y="148"/>
                </a:lnTo>
                <a:lnTo>
                  <a:pt x="785" y="186"/>
                </a:lnTo>
                <a:lnTo>
                  <a:pt x="742" y="153"/>
                </a:lnTo>
                <a:lnTo>
                  <a:pt x="685" y="148"/>
                </a:lnTo>
                <a:lnTo>
                  <a:pt x="636" y="167"/>
                </a:lnTo>
                <a:lnTo>
                  <a:pt x="570" y="197"/>
                </a:lnTo>
                <a:lnTo>
                  <a:pt x="488" y="220"/>
                </a:lnTo>
                <a:lnTo>
                  <a:pt x="411" y="235"/>
                </a:lnTo>
                <a:lnTo>
                  <a:pt x="331" y="235"/>
                </a:lnTo>
                <a:lnTo>
                  <a:pt x="187" y="216"/>
                </a:lnTo>
                <a:lnTo>
                  <a:pt x="216" y="259"/>
                </a:lnTo>
                <a:lnTo>
                  <a:pt x="163" y="249"/>
                </a:lnTo>
                <a:lnTo>
                  <a:pt x="77" y="211"/>
                </a:lnTo>
                <a:lnTo>
                  <a:pt x="120" y="273"/>
                </a:lnTo>
                <a:lnTo>
                  <a:pt x="167" y="316"/>
                </a:lnTo>
                <a:lnTo>
                  <a:pt x="216" y="335"/>
                </a:lnTo>
                <a:lnTo>
                  <a:pt x="163" y="345"/>
                </a:lnTo>
                <a:lnTo>
                  <a:pt x="92" y="335"/>
                </a:lnTo>
                <a:lnTo>
                  <a:pt x="0" y="307"/>
                </a:lnTo>
                <a:lnTo>
                  <a:pt x="57" y="388"/>
                </a:lnTo>
                <a:lnTo>
                  <a:pt x="115" y="422"/>
                </a:lnTo>
                <a:lnTo>
                  <a:pt x="101" y="484"/>
                </a:lnTo>
                <a:lnTo>
                  <a:pt x="110" y="537"/>
                </a:lnTo>
                <a:lnTo>
                  <a:pt x="120" y="609"/>
                </a:lnTo>
                <a:lnTo>
                  <a:pt x="68" y="675"/>
                </a:lnTo>
                <a:lnTo>
                  <a:pt x="43" y="757"/>
                </a:lnTo>
                <a:lnTo>
                  <a:pt x="34" y="824"/>
                </a:lnTo>
                <a:lnTo>
                  <a:pt x="43" y="881"/>
                </a:lnTo>
                <a:lnTo>
                  <a:pt x="34" y="967"/>
                </a:lnTo>
                <a:lnTo>
                  <a:pt x="5" y="1058"/>
                </a:lnTo>
                <a:lnTo>
                  <a:pt x="72" y="991"/>
                </a:lnTo>
                <a:lnTo>
                  <a:pt x="125" y="900"/>
                </a:lnTo>
                <a:lnTo>
                  <a:pt x="158" y="809"/>
                </a:lnTo>
                <a:lnTo>
                  <a:pt x="192" y="752"/>
                </a:lnTo>
                <a:lnTo>
                  <a:pt x="202" y="671"/>
                </a:lnTo>
                <a:lnTo>
                  <a:pt x="221" y="593"/>
                </a:lnTo>
                <a:lnTo>
                  <a:pt x="239" y="522"/>
                </a:lnTo>
                <a:lnTo>
                  <a:pt x="282" y="446"/>
                </a:lnTo>
                <a:lnTo>
                  <a:pt x="317" y="417"/>
                </a:lnTo>
                <a:lnTo>
                  <a:pt x="350" y="403"/>
                </a:lnTo>
                <a:lnTo>
                  <a:pt x="397" y="407"/>
                </a:lnTo>
                <a:lnTo>
                  <a:pt x="465" y="388"/>
                </a:lnTo>
                <a:lnTo>
                  <a:pt x="507" y="350"/>
                </a:lnTo>
                <a:lnTo>
                  <a:pt x="570" y="287"/>
                </a:lnTo>
                <a:lnTo>
                  <a:pt x="599" y="311"/>
                </a:lnTo>
                <a:lnTo>
                  <a:pt x="599" y="311"/>
                </a:lnTo>
                <a:lnTo>
                  <a:pt x="599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7"/>
          <p:cNvSpPr/>
          <p:nvPr/>
        </p:nvSpPr>
        <p:spPr>
          <a:xfrm>
            <a:off x="5079960" y="738360"/>
            <a:ext cx="2021040" cy="297972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2979720"/>
              <a:gd name="textAreaBottom" fmla="*/ 2980080 h 2979720"/>
            </a:gdLst>
            <a:ahLst/>
            <a:rect l="textAreaLeft" t="textAreaTop" r="textAreaRight" b="textAreaBottom"/>
            <a:pathLst>
              <a:path w="1273" h="1877">
                <a:moveTo>
                  <a:pt x="0" y="234"/>
                </a:moveTo>
                <a:lnTo>
                  <a:pt x="58" y="215"/>
                </a:lnTo>
                <a:lnTo>
                  <a:pt x="110" y="176"/>
                </a:lnTo>
                <a:lnTo>
                  <a:pt x="167" y="119"/>
                </a:lnTo>
                <a:lnTo>
                  <a:pt x="201" y="61"/>
                </a:lnTo>
                <a:lnTo>
                  <a:pt x="211" y="0"/>
                </a:lnTo>
                <a:lnTo>
                  <a:pt x="225" y="51"/>
                </a:lnTo>
                <a:lnTo>
                  <a:pt x="282" y="42"/>
                </a:lnTo>
                <a:lnTo>
                  <a:pt x="335" y="61"/>
                </a:lnTo>
                <a:lnTo>
                  <a:pt x="382" y="100"/>
                </a:lnTo>
                <a:lnTo>
                  <a:pt x="401" y="157"/>
                </a:lnTo>
                <a:lnTo>
                  <a:pt x="412" y="224"/>
                </a:lnTo>
                <a:lnTo>
                  <a:pt x="426" y="267"/>
                </a:lnTo>
                <a:lnTo>
                  <a:pt x="460" y="296"/>
                </a:lnTo>
                <a:lnTo>
                  <a:pt x="497" y="325"/>
                </a:lnTo>
                <a:lnTo>
                  <a:pt x="598" y="359"/>
                </a:lnTo>
                <a:lnTo>
                  <a:pt x="689" y="363"/>
                </a:lnTo>
                <a:lnTo>
                  <a:pt x="598" y="387"/>
                </a:lnTo>
                <a:lnTo>
                  <a:pt x="670" y="440"/>
                </a:lnTo>
                <a:lnTo>
                  <a:pt x="722" y="497"/>
                </a:lnTo>
                <a:lnTo>
                  <a:pt x="750" y="574"/>
                </a:lnTo>
                <a:lnTo>
                  <a:pt x="708" y="517"/>
                </a:lnTo>
                <a:lnTo>
                  <a:pt x="652" y="468"/>
                </a:lnTo>
                <a:lnTo>
                  <a:pt x="603" y="454"/>
                </a:lnTo>
                <a:lnTo>
                  <a:pt x="641" y="512"/>
                </a:lnTo>
                <a:lnTo>
                  <a:pt x="665" y="569"/>
                </a:lnTo>
                <a:lnTo>
                  <a:pt x="699" y="626"/>
                </a:lnTo>
                <a:lnTo>
                  <a:pt x="746" y="646"/>
                </a:lnTo>
                <a:lnTo>
                  <a:pt x="795" y="660"/>
                </a:lnTo>
                <a:lnTo>
                  <a:pt x="741" y="684"/>
                </a:lnTo>
                <a:lnTo>
                  <a:pt x="741" y="751"/>
                </a:lnTo>
                <a:lnTo>
                  <a:pt x="708" y="703"/>
                </a:lnTo>
                <a:lnTo>
                  <a:pt x="717" y="808"/>
                </a:lnTo>
                <a:lnTo>
                  <a:pt x="761" y="861"/>
                </a:lnTo>
                <a:lnTo>
                  <a:pt x="832" y="914"/>
                </a:lnTo>
                <a:lnTo>
                  <a:pt x="870" y="948"/>
                </a:lnTo>
                <a:lnTo>
                  <a:pt x="904" y="1005"/>
                </a:lnTo>
                <a:lnTo>
                  <a:pt x="924" y="1053"/>
                </a:lnTo>
                <a:lnTo>
                  <a:pt x="928" y="1101"/>
                </a:lnTo>
                <a:lnTo>
                  <a:pt x="924" y="1163"/>
                </a:lnTo>
                <a:lnTo>
                  <a:pt x="890" y="1220"/>
                </a:lnTo>
                <a:lnTo>
                  <a:pt x="828" y="1287"/>
                </a:lnTo>
                <a:lnTo>
                  <a:pt x="909" y="1254"/>
                </a:lnTo>
                <a:lnTo>
                  <a:pt x="904" y="1330"/>
                </a:lnTo>
                <a:lnTo>
                  <a:pt x="962" y="1263"/>
                </a:lnTo>
                <a:lnTo>
                  <a:pt x="981" y="1206"/>
                </a:lnTo>
                <a:lnTo>
                  <a:pt x="990" y="1149"/>
                </a:lnTo>
                <a:lnTo>
                  <a:pt x="981" y="1086"/>
                </a:lnTo>
                <a:lnTo>
                  <a:pt x="966" y="1034"/>
                </a:lnTo>
                <a:lnTo>
                  <a:pt x="1010" y="1091"/>
                </a:lnTo>
                <a:lnTo>
                  <a:pt x="1029" y="1129"/>
                </a:lnTo>
                <a:lnTo>
                  <a:pt x="1043" y="1178"/>
                </a:lnTo>
                <a:lnTo>
                  <a:pt x="1048" y="1229"/>
                </a:lnTo>
                <a:lnTo>
                  <a:pt x="1043" y="1297"/>
                </a:lnTo>
                <a:lnTo>
                  <a:pt x="1091" y="1229"/>
                </a:lnTo>
                <a:lnTo>
                  <a:pt x="1110" y="1154"/>
                </a:lnTo>
                <a:lnTo>
                  <a:pt x="1129" y="1240"/>
                </a:lnTo>
                <a:lnTo>
                  <a:pt x="1115" y="1311"/>
                </a:lnTo>
                <a:lnTo>
                  <a:pt x="1096" y="1369"/>
                </a:lnTo>
                <a:lnTo>
                  <a:pt x="1115" y="1451"/>
                </a:lnTo>
                <a:lnTo>
                  <a:pt x="1105" y="1513"/>
                </a:lnTo>
                <a:lnTo>
                  <a:pt x="1148" y="1551"/>
                </a:lnTo>
                <a:lnTo>
                  <a:pt x="1191" y="1556"/>
                </a:lnTo>
                <a:lnTo>
                  <a:pt x="1249" y="1537"/>
                </a:lnTo>
                <a:lnTo>
                  <a:pt x="1244" y="1594"/>
                </a:lnTo>
                <a:lnTo>
                  <a:pt x="1215" y="1641"/>
                </a:lnTo>
                <a:lnTo>
                  <a:pt x="1181" y="1671"/>
                </a:lnTo>
                <a:lnTo>
                  <a:pt x="1196" y="1718"/>
                </a:lnTo>
                <a:lnTo>
                  <a:pt x="1201" y="1791"/>
                </a:lnTo>
                <a:lnTo>
                  <a:pt x="1259" y="1828"/>
                </a:lnTo>
                <a:lnTo>
                  <a:pt x="1273" y="1877"/>
                </a:lnTo>
                <a:lnTo>
                  <a:pt x="1240" y="1838"/>
                </a:lnTo>
                <a:lnTo>
                  <a:pt x="1167" y="1857"/>
                </a:lnTo>
                <a:lnTo>
                  <a:pt x="1058" y="1857"/>
                </a:lnTo>
                <a:lnTo>
                  <a:pt x="996" y="1848"/>
                </a:lnTo>
                <a:lnTo>
                  <a:pt x="895" y="1810"/>
                </a:lnTo>
                <a:lnTo>
                  <a:pt x="828" y="1748"/>
                </a:lnTo>
                <a:lnTo>
                  <a:pt x="799" y="1685"/>
                </a:lnTo>
                <a:lnTo>
                  <a:pt x="795" y="1608"/>
                </a:lnTo>
                <a:lnTo>
                  <a:pt x="813" y="1513"/>
                </a:lnTo>
                <a:lnTo>
                  <a:pt x="861" y="1412"/>
                </a:lnTo>
                <a:lnTo>
                  <a:pt x="795" y="1493"/>
                </a:lnTo>
                <a:lnTo>
                  <a:pt x="766" y="1561"/>
                </a:lnTo>
                <a:lnTo>
                  <a:pt x="746" y="1627"/>
                </a:lnTo>
                <a:lnTo>
                  <a:pt x="755" y="1704"/>
                </a:lnTo>
                <a:lnTo>
                  <a:pt x="808" y="1771"/>
                </a:lnTo>
                <a:lnTo>
                  <a:pt x="689" y="1737"/>
                </a:lnTo>
                <a:lnTo>
                  <a:pt x="445" y="1718"/>
                </a:lnTo>
                <a:lnTo>
                  <a:pt x="263" y="1657"/>
                </a:lnTo>
                <a:lnTo>
                  <a:pt x="297" y="1571"/>
                </a:lnTo>
                <a:lnTo>
                  <a:pt x="330" y="1503"/>
                </a:lnTo>
                <a:lnTo>
                  <a:pt x="392" y="1435"/>
                </a:lnTo>
                <a:lnTo>
                  <a:pt x="344" y="1522"/>
                </a:lnTo>
                <a:lnTo>
                  <a:pt x="335" y="1604"/>
                </a:lnTo>
                <a:lnTo>
                  <a:pt x="382" y="1517"/>
                </a:lnTo>
                <a:lnTo>
                  <a:pt x="445" y="1455"/>
                </a:lnTo>
                <a:lnTo>
                  <a:pt x="527" y="1397"/>
                </a:lnTo>
                <a:lnTo>
                  <a:pt x="612" y="1321"/>
                </a:lnTo>
                <a:lnTo>
                  <a:pt x="665" y="1268"/>
                </a:lnTo>
                <a:lnTo>
                  <a:pt x="694" y="1206"/>
                </a:lnTo>
                <a:lnTo>
                  <a:pt x="694" y="1158"/>
                </a:lnTo>
                <a:lnTo>
                  <a:pt x="670" y="1101"/>
                </a:lnTo>
                <a:lnTo>
                  <a:pt x="617" y="1039"/>
                </a:lnTo>
                <a:lnTo>
                  <a:pt x="560" y="976"/>
                </a:lnTo>
                <a:lnTo>
                  <a:pt x="521" y="918"/>
                </a:lnTo>
                <a:lnTo>
                  <a:pt x="516" y="852"/>
                </a:lnTo>
                <a:lnTo>
                  <a:pt x="556" y="909"/>
                </a:lnTo>
                <a:lnTo>
                  <a:pt x="652" y="948"/>
                </a:lnTo>
                <a:lnTo>
                  <a:pt x="584" y="890"/>
                </a:lnTo>
                <a:lnTo>
                  <a:pt x="521" y="823"/>
                </a:lnTo>
                <a:lnTo>
                  <a:pt x="493" y="747"/>
                </a:lnTo>
                <a:lnTo>
                  <a:pt x="488" y="693"/>
                </a:lnTo>
                <a:lnTo>
                  <a:pt x="512" y="637"/>
                </a:lnTo>
                <a:lnTo>
                  <a:pt x="556" y="574"/>
                </a:lnTo>
                <a:lnTo>
                  <a:pt x="560" y="506"/>
                </a:lnTo>
                <a:lnTo>
                  <a:pt x="532" y="449"/>
                </a:lnTo>
                <a:lnTo>
                  <a:pt x="473" y="401"/>
                </a:lnTo>
                <a:lnTo>
                  <a:pt x="507" y="487"/>
                </a:lnTo>
                <a:lnTo>
                  <a:pt x="512" y="536"/>
                </a:lnTo>
                <a:lnTo>
                  <a:pt x="464" y="468"/>
                </a:lnTo>
                <a:lnTo>
                  <a:pt x="478" y="536"/>
                </a:lnTo>
                <a:lnTo>
                  <a:pt x="455" y="621"/>
                </a:lnTo>
                <a:lnTo>
                  <a:pt x="377" y="732"/>
                </a:lnTo>
                <a:lnTo>
                  <a:pt x="335" y="842"/>
                </a:lnTo>
                <a:lnTo>
                  <a:pt x="316" y="943"/>
                </a:lnTo>
                <a:lnTo>
                  <a:pt x="302" y="794"/>
                </a:lnTo>
                <a:lnTo>
                  <a:pt x="268" y="688"/>
                </a:lnTo>
                <a:lnTo>
                  <a:pt x="134" y="387"/>
                </a:lnTo>
                <a:lnTo>
                  <a:pt x="96" y="315"/>
                </a:lnTo>
                <a:lnTo>
                  <a:pt x="67" y="281"/>
                </a:lnTo>
                <a:lnTo>
                  <a:pt x="33" y="253"/>
                </a:lnTo>
                <a:lnTo>
                  <a:pt x="0" y="234"/>
                </a:lnTo>
                <a:lnTo>
                  <a:pt x="0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8"/>
          <p:cNvSpPr/>
          <p:nvPr/>
        </p:nvSpPr>
        <p:spPr>
          <a:xfrm>
            <a:off x="6296040" y="1693800"/>
            <a:ext cx="523800" cy="762120"/>
          </a:xfrm>
          <a:custGeom>
            <a:avLst/>
            <a:gdLst>
              <a:gd name="textAreaLeft" fmla="*/ 0 w 523800"/>
              <a:gd name="textAreaRight" fmla="*/ 524160 w 523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30" h="480">
                <a:moveTo>
                  <a:pt x="5" y="0"/>
                </a:moveTo>
                <a:lnTo>
                  <a:pt x="24" y="30"/>
                </a:lnTo>
                <a:lnTo>
                  <a:pt x="71" y="73"/>
                </a:lnTo>
                <a:lnTo>
                  <a:pt x="33" y="91"/>
                </a:lnTo>
                <a:lnTo>
                  <a:pt x="85" y="187"/>
                </a:lnTo>
                <a:lnTo>
                  <a:pt x="158" y="264"/>
                </a:lnTo>
                <a:lnTo>
                  <a:pt x="244" y="341"/>
                </a:lnTo>
                <a:lnTo>
                  <a:pt x="301" y="412"/>
                </a:lnTo>
                <a:lnTo>
                  <a:pt x="330" y="480"/>
                </a:lnTo>
                <a:lnTo>
                  <a:pt x="272" y="398"/>
                </a:lnTo>
                <a:lnTo>
                  <a:pt x="181" y="302"/>
                </a:lnTo>
                <a:lnTo>
                  <a:pt x="76" y="235"/>
                </a:lnTo>
                <a:lnTo>
                  <a:pt x="124" y="312"/>
                </a:lnTo>
                <a:lnTo>
                  <a:pt x="57" y="264"/>
                </a:lnTo>
                <a:lnTo>
                  <a:pt x="14" y="212"/>
                </a:lnTo>
                <a:lnTo>
                  <a:pt x="0" y="140"/>
                </a:lnTo>
                <a:lnTo>
                  <a:pt x="0" y="58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9"/>
          <p:cNvSpPr/>
          <p:nvPr/>
        </p:nvSpPr>
        <p:spPr>
          <a:xfrm>
            <a:off x="4792680" y="1763640"/>
            <a:ext cx="1336680" cy="197028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842" h="1241">
                <a:moveTo>
                  <a:pt x="521" y="168"/>
                </a:moveTo>
                <a:lnTo>
                  <a:pt x="582" y="91"/>
                </a:lnTo>
                <a:lnTo>
                  <a:pt x="654" y="0"/>
                </a:lnTo>
                <a:lnTo>
                  <a:pt x="636" y="91"/>
                </a:lnTo>
                <a:lnTo>
                  <a:pt x="631" y="153"/>
                </a:lnTo>
                <a:lnTo>
                  <a:pt x="636" y="215"/>
                </a:lnTo>
                <a:lnTo>
                  <a:pt x="659" y="302"/>
                </a:lnTo>
                <a:lnTo>
                  <a:pt x="702" y="354"/>
                </a:lnTo>
                <a:lnTo>
                  <a:pt x="817" y="445"/>
                </a:lnTo>
                <a:lnTo>
                  <a:pt x="842" y="483"/>
                </a:lnTo>
                <a:lnTo>
                  <a:pt x="842" y="541"/>
                </a:lnTo>
                <a:lnTo>
                  <a:pt x="812" y="603"/>
                </a:lnTo>
                <a:lnTo>
                  <a:pt x="765" y="670"/>
                </a:lnTo>
                <a:lnTo>
                  <a:pt x="645" y="756"/>
                </a:lnTo>
                <a:lnTo>
                  <a:pt x="587" y="794"/>
                </a:lnTo>
                <a:lnTo>
                  <a:pt x="535" y="862"/>
                </a:lnTo>
                <a:lnTo>
                  <a:pt x="497" y="929"/>
                </a:lnTo>
                <a:lnTo>
                  <a:pt x="473" y="1020"/>
                </a:lnTo>
                <a:lnTo>
                  <a:pt x="397" y="1005"/>
                </a:lnTo>
                <a:lnTo>
                  <a:pt x="364" y="1072"/>
                </a:lnTo>
                <a:lnTo>
                  <a:pt x="296" y="1140"/>
                </a:lnTo>
                <a:lnTo>
                  <a:pt x="195" y="1202"/>
                </a:lnTo>
                <a:lnTo>
                  <a:pt x="66" y="1241"/>
                </a:lnTo>
                <a:lnTo>
                  <a:pt x="209" y="1173"/>
                </a:lnTo>
                <a:lnTo>
                  <a:pt x="291" y="1111"/>
                </a:lnTo>
                <a:lnTo>
                  <a:pt x="343" y="1049"/>
                </a:lnTo>
                <a:lnTo>
                  <a:pt x="353" y="995"/>
                </a:lnTo>
                <a:lnTo>
                  <a:pt x="310" y="981"/>
                </a:lnTo>
                <a:lnTo>
                  <a:pt x="224" y="1034"/>
                </a:lnTo>
                <a:lnTo>
                  <a:pt x="157" y="1063"/>
                </a:lnTo>
                <a:lnTo>
                  <a:pt x="81" y="1077"/>
                </a:lnTo>
                <a:lnTo>
                  <a:pt x="0" y="1068"/>
                </a:lnTo>
                <a:lnTo>
                  <a:pt x="85" y="1068"/>
                </a:lnTo>
                <a:lnTo>
                  <a:pt x="133" y="1053"/>
                </a:lnTo>
                <a:lnTo>
                  <a:pt x="195" y="1025"/>
                </a:lnTo>
                <a:lnTo>
                  <a:pt x="286" y="958"/>
                </a:lnTo>
                <a:lnTo>
                  <a:pt x="377" y="862"/>
                </a:lnTo>
                <a:lnTo>
                  <a:pt x="478" y="723"/>
                </a:lnTo>
                <a:lnTo>
                  <a:pt x="516" y="670"/>
                </a:lnTo>
                <a:lnTo>
                  <a:pt x="525" y="613"/>
                </a:lnTo>
                <a:lnTo>
                  <a:pt x="530" y="541"/>
                </a:lnTo>
                <a:lnTo>
                  <a:pt x="549" y="627"/>
                </a:lnTo>
                <a:lnTo>
                  <a:pt x="598" y="627"/>
                </a:lnTo>
                <a:lnTo>
                  <a:pt x="587" y="560"/>
                </a:lnTo>
                <a:lnTo>
                  <a:pt x="641" y="603"/>
                </a:lnTo>
                <a:lnTo>
                  <a:pt x="654" y="551"/>
                </a:lnTo>
                <a:lnTo>
                  <a:pt x="626" y="508"/>
                </a:lnTo>
                <a:lnTo>
                  <a:pt x="602" y="488"/>
                </a:lnTo>
                <a:lnTo>
                  <a:pt x="525" y="494"/>
                </a:lnTo>
                <a:lnTo>
                  <a:pt x="506" y="421"/>
                </a:lnTo>
                <a:lnTo>
                  <a:pt x="497" y="316"/>
                </a:lnTo>
                <a:lnTo>
                  <a:pt x="497" y="206"/>
                </a:lnTo>
                <a:lnTo>
                  <a:pt x="521" y="168"/>
                </a:lnTo>
                <a:lnTo>
                  <a:pt x="521" y="168"/>
                </a:lnTo>
                <a:lnTo>
                  <a:pt x="521" y="1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0"/>
          <p:cNvSpPr/>
          <p:nvPr/>
        </p:nvSpPr>
        <p:spPr>
          <a:xfrm>
            <a:off x="3197160" y="318960"/>
            <a:ext cx="2179800" cy="10875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1373" h="685">
                <a:moveTo>
                  <a:pt x="1373" y="192"/>
                </a:moveTo>
                <a:lnTo>
                  <a:pt x="1348" y="110"/>
                </a:lnTo>
                <a:lnTo>
                  <a:pt x="1258" y="57"/>
                </a:lnTo>
                <a:lnTo>
                  <a:pt x="1148" y="47"/>
                </a:lnTo>
                <a:lnTo>
                  <a:pt x="1024" y="4"/>
                </a:lnTo>
                <a:lnTo>
                  <a:pt x="942" y="0"/>
                </a:lnTo>
                <a:lnTo>
                  <a:pt x="870" y="4"/>
                </a:lnTo>
                <a:lnTo>
                  <a:pt x="789" y="38"/>
                </a:lnTo>
                <a:lnTo>
                  <a:pt x="722" y="86"/>
                </a:lnTo>
                <a:lnTo>
                  <a:pt x="621" y="114"/>
                </a:lnTo>
                <a:lnTo>
                  <a:pt x="531" y="138"/>
                </a:lnTo>
                <a:lnTo>
                  <a:pt x="435" y="210"/>
                </a:lnTo>
                <a:lnTo>
                  <a:pt x="396" y="239"/>
                </a:lnTo>
                <a:lnTo>
                  <a:pt x="339" y="248"/>
                </a:lnTo>
                <a:lnTo>
                  <a:pt x="287" y="230"/>
                </a:lnTo>
                <a:lnTo>
                  <a:pt x="315" y="258"/>
                </a:lnTo>
                <a:lnTo>
                  <a:pt x="349" y="278"/>
                </a:lnTo>
                <a:lnTo>
                  <a:pt x="301" y="297"/>
                </a:lnTo>
                <a:lnTo>
                  <a:pt x="234" y="292"/>
                </a:lnTo>
                <a:lnTo>
                  <a:pt x="206" y="258"/>
                </a:lnTo>
                <a:lnTo>
                  <a:pt x="196" y="288"/>
                </a:lnTo>
                <a:lnTo>
                  <a:pt x="210" y="335"/>
                </a:lnTo>
                <a:lnTo>
                  <a:pt x="234" y="364"/>
                </a:lnTo>
                <a:lnTo>
                  <a:pt x="201" y="388"/>
                </a:lnTo>
                <a:lnTo>
                  <a:pt x="152" y="435"/>
                </a:lnTo>
                <a:lnTo>
                  <a:pt x="148" y="517"/>
                </a:lnTo>
                <a:lnTo>
                  <a:pt x="105" y="570"/>
                </a:lnTo>
                <a:lnTo>
                  <a:pt x="52" y="579"/>
                </a:lnTo>
                <a:lnTo>
                  <a:pt x="23" y="512"/>
                </a:lnTo>
                <a:lnTo>
                  <a:pt x="0" y="570"/>
                </a:lnTo>
                <a:lnTo>
                  <a:pt x="18" y="623"/>
                </a:lnTo>
                <a:lnTo>
                  <a:pt x="76" y="656"/>
                </a:lnTo>
                <a:lnTo>
                  <a:pt x="177" y="661"/>
                </a:lnTo>
                <a:lnTo>
                  <a:pt x="239" y="627"/>
                </a:lnTo>
                <a:lnTo>
                  <a:pt x="277" y="685"/>
                </a:lnTo>
                <a:lnTo>
                  <a:pt x="311" y="627"/>
                </a:lnTo>
                <a:lnTo>
                  <a:pt x="272" y="531"/>
                </a:lnTo>
                <a:lnTo>
                  <a:pt x="267" y="435"/>
                </a:lnTo>
                <a:lnTo>
                  <a:pt x="311" y="454"/>
                </a:lnTo>
                <a:lnTo>
                  <a:pt x="277" y="378"/>
                </a:lnTo>
                <a:lnTo>
                  <a:pt x="272" y="335"/>
                </a:lnTo>
                <a:lnTo>
                  <a:pt x="325" y="378"/>
                </a:lnTo>
                <a:lnTo>
                  <a:pt x="368" y="407"/>
                </a:lnTo>
                <a:lnTo>
                  <a:pt x="363" y="330"/>
                </a:lnTo>
                <a:lnTo>
                  <a:pt x="411" y="339"/>
                </a:lnTo>
                <a:lnTo>
                  <a:pt x="521" y="349"/>
                </a:lnTo>
                <a:lnTo>
                  <a:pt x="631" y="330"/>
                </a:lnTo>
                <a:lnTo>
                  <a:pt x="531" y="283"/>
                </a:lnTo>
                <a:lnTo>
                  <a:pt x="631" y="206"/>
                </a:lnTo>
                <a:lnTo>
                  <a:pt x="746" y="187"/>
                </a:lnTo>
                <a:lnTo>
                  <a:pt x="880" y="206"/>
                </a:lnTo>
                <a:lnTo>
                  <a:pt x="985" y="196"/>
                </a:lnTo>
                <a:lnTo>
                  <a:pt x="1052" y="168"/>
                </a:lnTo>
                <a:lnTo>
                  <a:pt x="1119" y="157"/>
                </a:lnTo>
                <a:lnTo>
                  <a:pt x="1043" y="138"/>
                </a:lnTo>
                <a:lnTo>
                  <a:pt x="966" y="148"/>
                </a:lnTo>
                <a:lnTo>
                  <a:pt x="890" y="143"/>
                </a:lnTo>
                <a:lnTo>
                  <a:pt x="799" y="110"/>
                </a:lnTo>
                <a:lnTo>
                  <a:pt x="942" y="110"/>
                </a:lnTo>
                <a:lnTo>
                  <a:pt x="1038" y="100"/>
                </a:lnTo>
                <a:lnTo>
                  <a:pt x="1115" y="110"/>
                </a:lnTo>
                <a:lnTo>
                  <a:pt x="1181" y="138"/>
                </a:lnTo>
                <a:lnTo>
                  <a:pt x="1195" y="100"/>
                </a:lnTo>
                <a:lnTo>
                  <a:pt x="1249" y="124"/>
                </a:lnTo>
                <a:lnTo>
                  <a:pt x="1282" y="176"/>
                </a:lnTo>
                <a:lnTo>
                  <a:pt x="1291" y="230"/>
                </a:lnTo>
                <a:lnTo>
                  <a:pt x="1325" y="206"/>
                </a:lnTo>
                <a:lnTo>
                  <a:pt x="1325" y="258"/>
                </a:lnTo>
                <a:lnTo>
                  <a:pt x="1301" y="349"/>
                </a:lnTo>
                <a:lnTo>
                  <a:pt x="1373" y="258"/>
                </a:lnTo>
                <a:lnTo>
                  <a:pt x="1373" y="192"/>
                </a:lnTo>
                <a:lnTo>
                  <a:pt x="1373" y="192"/>
                </a:lnTo>
                <a:lnTo>
                  <a:pt x="1373" y="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1"/>
          <p:cNvSpPr/>
          <p:nvPr/>
        </p:nvSpPr>
        <p:spPr>
          <a:xfrm>
            <a:off x="2846520" y="1093680"/>
            <a:ext cx="1831680" cy="2624400"/>
          </a:xfrm>
          <a:custGeom>
            <a:avLst/>
            <a:gdLst>
              <a:gd name="textAreaLeft" fmla="*/ 0 w 1831680"/>
              <a:gd name="textAreaRight" fmla="*/ 1832040 w 1831680"/>
              <a:gd name="textAreaTop" fmla="*/ 0 h 2624400"/>
              <a:gd name="textAreaBottom" fmla="*/ 2624760 h 2624400"/>
            </a:gdLst>
            <a:ahLst/>
            <a:rect l="textAreaLeft" t="textAreaTop" r="textAreaRight" b="textAreaBottom"/>
            <a:pathLst>
              <a:path w="1154" h="1653">
                <a:moveTo>
                  <a:pt x="536" y="15"/>
                </a:moveTo>
                <a:lnTo>
                  <a:pt x="574" y="106"/>
                </a:lnTo>
                <a:lnTo>
                  <a:pt x="560" y="197"/>
                </a:lnTo>
                <a:lnTo>
                  <a:pt x="513" y="244"/>
                </a:lnTo>
                <a:lnTo>
                  <a:pt x="446" y="282"/>
                </a:lnTo>
                <a:lnTo>
                  <a:pt x="302" y="321"/>
                </a:lnTo>
                <a:lnTo>
                  <a:pt x="408" y="263"/>
                </a:lnTo>
                <a:lnTo>
                  <a:pt x="498" y="206"/>
                </a:lnTo>
                <a:lnTo>
                  <a:pt x="441" y="187"/>
                </a:lnTo>
                <a:lnTo>
                  <a:pt x="388" y="130"/>
                </a:lnTo>
                <a:lnTo>
                  <a:pt x="283" y="139"/>
                </a:lnTo>
                <a:lnTo>
                  <a:pt x="239" y="206"/>
                </a:lnTo>
                <a:lnTo>
                  <a:pt x="221" y="293"/>
                </a:lnTo>
                <a:lnTo>
                  <a:pt x="168" y="312"/>
                </a:lnTo>
                <a:lnTo>
                  <a:pt x="134" y="244"/>
                </a:lnTo>
                <a:lnTo>
                  <a:pt x="96" y="331"/>
                </a:lnTo>
                <a:lnTo>
                  <a:pt x="96" y="378"/>
                </a:lnTo>
                <a:lnTo>
                  <a:pt x="110" y="427"/>
                </a:lnTo>
                <a:lnTo>
                  <a:pt x="91" y="464"/>
                </a:lnTo>
                <a:lnTo>
                  <a:pt x="82" y="518"/>
                </a:lnTo>
                <a:lnTo>
                  <a:pt x="106" y="570"/>
                </a:lnTo>
                <a:lnTo>
                  <a:pt x="91" y="613"/>
                </a:lnTo>
                <a:lnTo>
                  <a:pt x="49" y="632"/>
                </a:lnTo>
                <a:lnTo>
                  <a:pt x="0" y="628"/>
                </a:lnTo>
                <a:lnTo>
                  <a:pt x="15" y="651"/>
                </a:lnTo>
                <a:lnTo>
                  <a:pt x="44" y="670"/>
                </a:lnTo>
                <a:lnTo>
                  <a:pt x="96" y="680"/>
                </a:lnTo>
                <a:lnTo>
                  <a:pt x="82" y="709"/>
                </a:lnTo>
                <a:lnTo>
                  <a:pt x="125" y="738"/>
                </a:lnTo>
                <a:lnTo>
                  <a:pt x="168" y="747"/>
                </a:lnTo>
                <a:lnTo>
                  <a:pt x="225" y="738"/>
                </a:lnTo>
                <a:lnTo>
                  <a:pt x="279" y="714"/>
                </a:lnTo>
                <a:lnTo>
                  <a:pt x="359" y="632"/>
                </a:lnTo>
                <a:lnTo>
                  <a:pt x="403" y="560"/>
                </a:lnTo>
                <a:lnTo>
                  <a:pt x="373" y="666"/>
                </a:lnTo>
                <a:lnTo>
                  <a:pt x="326" y="728"/>
                </a:lnTo>
                <a:lnTo>
                  <a:pt x="254" y="776"/>
                </a:lnTo>
                <a:lnTo>
                  <a:pt x="211" y="781"/>
                </a:lnTo>
                <a:lnTo>
                  <a:pt x="158" y="776"/>
                </a:lnTo>
                <a:lnTo>
                  <a:pt x="106" y="810"/>
                </a:lnTo>
                <a:lnTo>
                  <a:pt x="78" y="886"/>
                </a:lnTo>
                <a:lnTo>
                  <a:pt x="87" y="925"/>
                </a:lnTo>
                <a:lnTo>
                  <a:pt x="63" y="987"/>
                </a:lnTo>
                <a:lnTo>
                  <a:pt x="73" y="1049"/>
                </a:lnTo>
                <a:lnTo>
                  <a:pt x="134" y="1131"/>
                </a:lnTo>
                <a:lnTo>
                  <a:pt x="139" y="1063"/>
                </a:lnTo>
                <a:lnTo>
                  <a:pt x="187" y="1021"/>
                </a:lnTo>
                <a:lnTo>
                  <a:pt x="187" y="1082"/>
                </a:lnTo>
                <a:lnTo>
                  <a:pt x="273" y="1016"/>
                </a:lnTo>
                <a:lnTo>
                  <a:pt x="317" y="939"/>
                </a:lnTo>
                <a:lnTo>
                  <a:pt x="335" y="834"/>
                </a:lnTo>
                <a:lnTo>
                  <a:pt x="364" y="939"/>
                </a:lnTo>
                <a:lnTo>
                  <a:pt x="417" y="1030"/>
                </a:lnTo>
                <a:lnTo>
                  <a:pt x="532" y="1092"/>
                </a:lnTo>
                <a:lnTo>
                  <a:pt x="598" y="1131"/>
                </a:lnTo>
                <a:lnTo>
                  <a:pt x="637" y="1173"/>
                </a:lnTo>
                <a:lnTo>
                  <a:pt x="637" y="1251"/>
                </a:lnTo>
                <a:lnTo>
                  <a:pt x="589" y="1347"/>
                </a:lnTo>
                <a:lnTo>
                  <a:pt x="570" y="1394"/>
                </a:lnTo>
                <a:lnTo>
                  <a:pt x="560" y="1451"/>
                </a:lnTo>
                <a:lnTo>
                  <a:pt x="565" y="1504"/>
                </a:lnTo>
                <a:lnTo>
                  <a:pt x="612" y="1567"/>
                </a:lnTo>
                <a:lnTo>
                  <a:pt x="451" y="1638"/>
                </a:lnTo>
                <a:lnTo>
                  <a:pt x="661" y="1576"/>
                </a:lnTo>
                <a:lnTo>
                  <a:pt x="804" y="1499"/>
                </a:lnTo>
                <a:lnTo>
                  <a:pt x="838" y="1547"/>
                </a:lnTo>
                <a:lnTo>
                  <a:pt x="919" y="1604"/>
                </a:lnTo>
                <a:lnTo>
                  <a:pt x="991" y="1628"/>
                </a:lnTo>
                <a:lnTo>
                  <a:pt x="1025" y="1653"/>
                </a:lnTo>
                <a:lnTo>
                  <a:pt x="1144" y="1653"/>
                </a:lnTo>
                <a:lnTo>
                  <a:pt x="1111" y="1557"/>
                </a:lnTo>
                <a:lnTo>
                  <a:pt x="1081" y="1494"/>
                </a:lnTo>
                <a:lnTo>
                  <a:pt x="1154" y="1485"/>
                </a:lnTo>
                <a:lnTo>
                  <a:pt x="1058" y="1466"/>
                </a:lnTo>
                <a:lnTo>
                  <a:pt x="891" y="1347"/>
                </a:lnTo>
                <a:lnTo>
                  <a:pt x="814" y="1269"/>
                </a:lnTo>
                <a:lnTo>
                  <a:pt x="766" y="1202"/>
                </a:lnTo>
                <a:lnTo>
                  <a:pt x="742" y="1155"/>
                </a:lnTo>
                <a:lnTo>
                  <a:pt x="685" y="1001"/>
                </a:lnTo>
                <a:lnTo>
                  <a:pt x="652" y="862"/>
                </a:lnTo>
                <a:lnTo>
                  <a:pt x="656" y="747"/>
                </a:lnTo>
                <a:lnTo>
                  <a:pt x="656" y="599"/>
                </a:lnTo>
                <a:lnTo>
                  <a:pt x="579" y="699"/>
                </a:lnTo>
                <a:lnTo>
                  <a:pt x="584" y="613"/>
                </a:lnTo>
                <a:lnTo>
                  <a:pt x="570" y="532"/>
                </a:lnTo>
                <a:lnTo>
                  <a:pt x="560" y="464"/>
                </a:lnTo>
                <a:lnTo>
                  <a:pt x="570" y="383"/>
                </a:lnTo>
                <a:lnTo>
                  <a:pt x="589" y="317"/>
                </a:lnTo>
                <a:lnTo>
                  <a:pt x="642" y="268"/>
                </a:lnTo>
                <a:lnTo>
                  <a:pt x="612" y="211"/>
                </a:lnTo>
                <a:lnTo>
                  <a:pt x="607" y="163"/>
                </a:lnTo>
                <a:lnTo>
                  <a:pt x="617" y="115"/>
                </a:lnTo>
                <a:lnTo>
                  <a:pt x="656" y="67"/>
                </a:lnTo>
                <a:lnTo>
                  <a:pt x="570" y="0"/>
                </a:lnTo>
                <a:lnTo>
                  <a:pt x="536" y="15"/>
                </a:lnTo>
                <a:lnTo>
                  <a:pt x="536" y="15"/>
                </a:lnTo>
                <a:lnTo>
                  <a:pt x="536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2"/>
          <p:cNvSpPr/>
          <p:nvPr/>
        </p:nvSpPr>
        <p:spPr>
          <a:xfrm>
            <a:off x="2886120" y="2417760"/>
            <a:ext cx="909720" cy="1292400"/>
          </a:xfrm>
          <a:custGeom>
            <a:avLst/>
            <a:gdLst>
              <a:gd name="textAreaLeft" fmla="*/ 0 w 909720"/>
              <a:gd name="textAreaRight" fmla="*/ 910080 w 90972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573" h="814">
                <a:moveTo>
                  <a:pt x="320" y="0"/>
                </a:moveTo>
                <a:lnTo>
                  <a:pt x="320" y="134"/>
                </a:lnTo>
                <a:lnTo>
                  <a:pt x="268" y="234"/>
                </a:lnTo>
                <a:lnTo>
                  <a:pt x="172" y="311"/>
                </a:lnTo>
                <a:lnTo>
                  <a:pt x="138" y="272"/>
                </a:lnTo>
                <a:lnTo>
                  <a:pt x="104" y="349"/>
                </a:lnTo>
                <a:lnTo>
                  <a:pt x="81" y="412"/>
                </a:lnTo>
                <a:lnTo>
                  <a:pt x="38" y="455"/>
                </a:lnTo>
                <a:lnTo>
                  <a:pt x="5" y="508"/>
                </a:lnTo>
                <a:lnTo>
                  <a:pt x="0" y="546"/>
                </a:lnTo>
                <a:lnTo>
                  <a:pt x="10" y="583"/>
                </a:lnTo>
                <a:lnTo>
                  <a:pt x="43" y="632"/>
                </a:lnTo>
                <a:lnTo>
                  <a:pt x="81" y="665"/>
                </a:lnTo>
                <a:lnTo>
                  <a:pt x="71" y="622"/>
                </a:lnTo>
                <a:lnTo>
                  <a:pt x="81" y="583"/>
                </a:lnTo>
                <a:lnTo>
                  <a:pt x="114" y="569"/>
                </a:lnTo>
                <a:lnTo>
                  <a:pt x="162" y="560"/>
                </a:lnTo>
                <a:lnTo>
                  <a:pt x="196" y="541"/>
                </a:lnTo>
                <a:lnTo>
                  <a:pt x="234" y="513"/>
                </a:lnTo>
                <a:lnTo>
                  <a:pt x="210" y="569"/>
                </a:lnTo>
                <a:lnTo>
                  <a:pt x="167" y="608"/>
                </a:lnTo>
                <a:lnTo>
                  <a:pt x="133" y="646"/>
                </a:lnTo>
                <a:lnTo>
                  <a:pt x="128" y="695"/>
                </a:lnTo>
                <a:lnTo>
                  <a:pt x="66" y="747"/>
                </a:lnTo>
                <a:lnTo>
                  <a:pt x="38" y="785"/>
                </a:lnTo>
                <a:lnTo>
                  <a:pt x="24" y="814"/>
                </a:lnTo>
                <a:lnTo>
                  <a:pt x="392" y="814"/>
                </a:lnTo>
                <a:lnTo>
                  <a:pt x="473" y="794"/>
                </a:lnTo>
                <a:lnTo>
                  <a:pt x="507" y="766"/>
                </a:lnTo>
                <a:lnTo>
                  <a:pt x="478" y="742"/>
                </a:lnTo>
                <a:lnTo>
                  <a:pt x="459" y="695"/>
                </a:lnTo>
                <a:lnTo>
                  <a:pt x="468" y="617"/>
                </a:lnTo>
                <a:lnTo>
                  <a:pt x="497" y="670"/>
                </a:lnTo>
                <a:lnTo>
                  <a:pt x="497" y="599"/>
                </a:lnTo>
                <a:lnTo>
                  <a:pt x="526" y="541"/>
                </a:lnTo>
                <a:lnTo>
                  <a:pt x="573" y="445"/>
                </a:lnTo>
                <a:lnTo>
                  <a:pt x="573" y="377"/>
                </a:lnTo>
                <a:lnTo>
                  <a:pt x="549" y="306"/>
                </a:lnTo>
                <a:lnTo>
                  <a:pt x="507" y="239"/>
                </a:lnTo>
                <a:lnTo>
                  <a:pt x="388" y="177"/>
                </a:lnTo>
                <a:lnTo>
                  <a:pt x="411" y="267"/>
                </a:lnTo>
                <a:lnTo>
                  <a:pt x="421" y="316"/>
                </a:lnTo>
                <a:lnTo>
                  <a:pt x="402" y="377"/>
                </a:lnTo>
                <a:lnTo>
                  <a:pt x="363" y="455"/>
                </a:lnTo>
                <a:lnTo>
                  <a:pt x="348" y="550"/>
                </a:lnTo>
                <a:lnTo>
                  <a:pt x="325" y="469"/>
                </a:lnTo>
                <a:lnTo>
                  <a:pt x="325" y="402"/>
                </a:lnTo>
                <a:lnTo>
                  <a:pt x="363" y="297"/>
                </a:lnTo>
                <a:lnTo>
                  <a:pt x="363" y="182"/>
                </a:lnTo>
                <a:lnTo>
                  <a:pt x="353" y="86"/>
                </a:lnTo>
                <a:lnTo>
                  <a:pt x="320" y="0"/>
                </a:lnTo>
                <a:lnTo>
                  <a:pt x="32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3"/>
          <p:cNvSpPr/>
          <p:nvPr/>
        </p:nvSpPr>
        <p:spPr>
          <a:xfrm>
            <a:off x="2841480" y="2195640"/>
            <a:ext cx="195480" cy="1065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065240"/>
              <a:gd name="textAreaBottom" fmla="*/ 1065240 h 1065240"/>
            </a:gdLst>
            <a:ahLst/>
            <a:rect l="textAreaLeft" t="textAreaTop" r="textAreaRight" b="textAreaBottom"/>
            <a:pathLst>
              <a:path w="123" h="671">
                <a:moveTo>
                  <a:pt x="52" y="0"/>
                </a:moveTo>
                <a:lnTo>
                  <a:pt x="61" y="39"/>
                </a:lnTo>
                <a:lnTo>
                  <a:pt x="123" y="82"/>
                </a:lnTo>
                <a:lnTo>
                  <a:pt x="76" y="101"/>
                </a:lnTo>
                <a:lnTo>
                  <a:pt x="52" y="168"/>
                </a:lnTo>
                <a:lnTo>
                  <a:pt x="43" y="236"/>
                </a:lnTo>
                <a:lnTo>
                  <a:pt x="33" y="297"/>
                </a:lnTo>
                <a:lnTo>
                  <a:pt x="43" y="345"/>
                </a:lnTo>
                <a:lnTo>
                  <a:pt x="71" y="422"/>
                </a:lnTo>
                <a:lnTo>
                  <a:pt x="113" y="461"/>
                </a:lnTo>
                <a:lnTo>
                  <a:pt x="76" y="537"/>
                </a:lnTo>
                <a:lnTo>
                  <a:pt x="33" y="614"/>
                </a:lnTo>
                <a:lnTo>
                  <a:pt x="13" y="671"/>
                </a:lnTo>
                <a:lnTo>
                  <a:pt x="13" y="595"/>
                </a:lnTo>
                <a:lnTo>
                  <a:pt x="38" y="537"/>
                </a:lnTo>
                <a:lnTo>
                  <a:pt x="3" y="432"/>
                </a:lnTo>
                <a:lnTo>
                  <a:pt x="0" y="317"/>
                </a:lnTo>
                <a:lnTo>
                  <a:pt x="0" y="222"/>
                </a:lnTo>
                <a:lnTo>
                  <a:pt x="38" y="116"/>
                </a:lnTo>
                <a:lnTo>
                  <a:pt x="57" y="77"/>
                </a:lnTo>
                <a:lnTo>
                  <a:pt x="43" y="39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4"/>
          <p:cNvSpPr/>
          <p:nvPr/>
        </p:nvSpPr>
        <p:spPr>
          <a:xfrm>
            <a:off x="2862360" y="3397320"/>
            <a:ext cx="152280" cy="280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96" h="177">
                <a:moveTo>
                  <a:pt x="10" y="0"/>
                </a:moveTo>
                <a:lnTo>
                  <a:pt x="34" y="48"/>
                </a:lnTo>
                <a:lnTo>
                  <a:pt x="96" y="87"/>
                </a:lnTo>
                <a:lnTo>
                  <a:pt x="39" y="177"/>
                </a:lnTo>
                <a:lnTo>
                  <a:pt x="20" y="130"/>
                </a:lnTo>
                <a:lnTo>
                  <a:pt x="0" y="53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5"/>
          <p:cNvSpPr/>
          <p:nvPr/>
        </p:nvSpPr>
        <p:spPr>
          <a:xfrm>
            <a:off x="4192560" y="212256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4" y="3"/>
                </a:moveTo>
                <a:lnTo>
                  <a:pt x="18" y="0"/>
                </a:lnTo>
                <a:lnTo>
                  <a:pt x="26" y="8"/>
                </a:lnTo>
                <a:lnTo>
                  <a:pt x="22" y="20"/>
                </a:lnTo>
                <a:lnTo>
                  <a:pt x="6" y="20"/>
                </a:lnTo>
                <a:lnTo>
                  <a:pt x="0" y="14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6"/>
          <p:cNvSpPr/>
          <p:nvPr/>
        </p:nvSpPr>
        <p:spPr>
          <a:xfrm>
            <a:off x="5011560" y="1963800"/>
            <a:ext cx="38160" cy="34920"/>
          </a:xfrm>
          <a:custGeom>
            <a:avLst/>
            <a:gdLst>
              <a:gd name="textAreaLeft" fmla="*/ 0 w 38160"/>
              <a:gd name="textAreaRight" fmla="*/ 38520 w 381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4" h="22">
                <a:moveTo>
                  <a:pt x="0" y="18"/>
                </a:moveTo>
                <a:lnTo>
                  <a:pt x="2" y="3"/>
                </a:lnTo>
                <a:lnTo>
                  <a:pt x="11" y="0"/>
                </a:lnTo>
                <a:lnTo>
                  <a:pt x="20" y="5"/>
                </a:lnTo>
                <a:lnTo>
                  <a:pt x="24" y="12"/>
                </a:lnTo>
                <a:lnTo>
                  <a:pt x="24" y="18"/>
                </a:lnTo>
                <a:lnTo>
                  <a:pt x="15" y="22"/>
                </a:lnTo>
                <a:lnTo>
                  <a:pt x="7" y="21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7"/>
          <p:cNvSpPr/>
          <p:nvPr/>
        </p:nvSpPr>
        <p:spPr>
          <a:xfrm>
            <a:off x="4221000" y="1185840"/>
            <a:ext cx="833760" cy="666720"/>
          </a:xfrm>
          <a:custGeom>
            <a:avLst/>
            <a:gdLst>
              <a:gd name="textAreaLeft" fmla="*/ 0 w 833760"/>
              <a:gd name="textAreaRight" fmla="*/ 834120 w 8337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525" h="420">
                <a:moveTo>
                  <a:pt x="99" y="409"/>
                </a:moveTo>
                <a:lnTo>
                  <a:pt x="25" y="384"/>
                </a:lnTo>
                <a:lnTo>
                  <a:pt x="0" y="342"/>
                </a:lnTo>
                <a:lnTo>
                  <a:pt x="0" y="285"/>
                </a:lnTo>
                <a:lnTo>
                  <a:pt x="36" y="201"/>
                </a:lnTo>
                <a:lnTo>
                  <a:pt x="95" y="102"/>
                </a:lnTo>
                <a:lnTo>
                  <a:pt x="177" y="43"/>
                </a:lnTo>
                <a:lnTo>
                  <a:pt x="252" y="3"/>
                </a:lnTo>
                <a:lnTo>
                  <a:pt x="339" y="0"/>
                </a:lnTo>
                <a:lnTo>
                  <a:pt x="384" y="15"/>
                </a:lnTo>
                <a:lnTo>
                  <a:pt x="457" y="57"/>
                </a:lnTo>
                <a:lnTo>
                  <a:pt x="493" y="114"/>
                </a:lnTo>
                <a:lnTo>
                  <a:pt x="525" y="187"/>
                </a:lnTo>
                <a:lnTo>
                  <a:pt x="525" y="240"/>
                </a:lnTo>
                <a:lnTo>
                  <a:pt x="507" y="290"/>
                </a:lnTo>
                <a:lnTo>
                  <a:pt x="455" y="324"/>
                </a:lnTo>
                <a:lnTo>
                  <a:pt x="395" y="328"/>
                </a:lnTo>
                <a:lnTo>
                  <a:pt x="334" y="364"/>
                </a:lnTo>
                <a:lnTo>
                  <a:pt x="278" y="402"/>
                </a:lnTo>
                <a:lnTo>
                  <a:pt x="197" y="420"/>
                </a:lnTo>
                <a:lnTo>
                  <a:pt x="99" y="409"/>
                </a:lnTo>
                <a:lnTo>
                  <a:pt x="99" y="409"/>
                </a:lnTo>
                <a:lnTo>
                  <a:pt x="99" y="40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8"/>
          <p:cNvSpPr/>
          <p:nvPr/>
        </p:nvSpPr>
        <p:spPr>
          <a:xfrm>
            <a:off x="4552920" y="2062080"/>
            <a:ext cx="155520" cy="455760"/>
          </a:xfrm>
          <a:custGeom>
            <a:avLst/>
            <a:gdLst>
              <a:gd name="textAreaLeft" fmla="*/ 0 w 155520"/>
              <a:gd name="textAreaRight" fmla="*/ 155880 w 15552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8" h="287">
                <a:moveTo>
                  <a:pt x="13" y="0"/>
                </a:moveTo>
                <a:lnTo>
                  <a:pt x="0" y="58"/>
                </a:lnTo>
                <a:lnTo>
                  <a:pt x="18" y="108"/>
                </a:lnTo>
                <a:lnTo>
                  <a:pt x="31" y="164"/>
                </a:lnTo>
                <a:lnTo>
                  <a:pt x="26" y="226"/>
                </a:lnTo>
                <a:lnTo>
                  <a:pt x="38" y="273"/>
                </a:lnTo>
                <a:lnTo>
                  <a:pt x="60" y="287"/>
                </a:lnTo>
                <a:lnTo>
                  <a:pt x="85" y="287"/>
                </a:lnTo>
                <a:lnTo>
                  <a:pt x="98" y="251"/>
                </a:lnTo>
                <a:lnTo>
                  <a:pt x="81" y="200"/>
                </a:lnTo>
                <a:lnTo>
                  <a:pt x="56" y="134"/>
                </a:lnTo>
                <a:lnTo>
                  <a:pt x="56" y="75"/>
                </a:lnTo>
                <a:lnTo>
                  <a:pt x="45" y="12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9"/>
          <p:cNvSpPr/>
          <p:nvPr/>
        </p:nvSpPr>
        <p:spPr>
          <a:xfrm>
            <a:off x="4516560" y="2490840"/>
            <a:ext cx="85680" cy="57240"/>
          </a:xfrm>
          <a:custGeom>
            <a:avLst/>
            <a:gdLst>
              <a:gd name="textAreaLeft" fmla="*/ 0 w 85680"/>
              <a:gd name="textAreaRight" fmla="*/ 85680 w 85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4" h="36">
                <a:moveTo>
                  <a:pt x="0" y="29"/>
                </a:moveTo>
                <a:lnTo>
                  <a:pt x="5" y="6"/>
                </a:lnTo>
                <a:lnTo>
                  <a:pt x="29" y="0"/>
                </a:lnTo>
                <a:lnTo>
                  <a:pt x="54" y="29"/>
                </a:lnTo>
                <a:lnTo>
                  <a:pt x="29" y="36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0"/>
          <p:cNvSpPr/>
          <p:nvPr/>
        </p:nvSpPr>
        <p:spPr>
          <a:xfrm>
            <a:off x="3959280" y="2254320"/>
            <a:ext cx="485640" cy="399960"/>
          </a:xfrm>
          <a:custGeom>
            <a:avLst/>
            <a:gdLst>
              <a:gd name="textAreaLeft" fmla="*/ 0 w 485640"/>
              <a:gd name="textAreaRight" fmla="*/ 486000 w 485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306" h="252">
                <a:moveTo>
                  <a:pt x="0" y="97"/>
                </a:moveTo>
                <a:lnTo>
                  <a:pt x="15" y="68"/>
                </a:lnTo>
                <a:lnTo>
                  <a:pt x="36" y="50"/>
                </a:lnTo>
                <a:lnTo>
                  <a:pt x="85" y="36"/>
                </a:lnTo>
                <a:lnTo>
                  <a:pt x="134" y="36"/>
                </a:lnTo>
                <a:lnTo>
                  <a:pt x="208" y="32"/>
                </a:lnTo>
                <a:lnTo>
                  <a:pt x="262" y="11"/>
                </a:lnTo>
                <a:lnTo>
                  <a:pt x="306" y="0"/>
                </a:lnTo>
                <a:lnTo>
                  <a:pt x="295" y="66"/>
                </a:lnTo>
                <a:lnTo>
                  <a:pt x="270" y="122"/>
                </a:lnTo>
                <a:lnTo>
                  <a:pt x="226" y="178"/>
                </a:lnTo>
                <a:lnTo>
                  <a:pt x="165" y="214"/>
                </a:lnTo>
                <a:lnTo>
                  <a:pt x="130" y="246"/>
                </a:lnTo>
                <a:lnTo>
                  <a:pt x="89" y="252"/>
                </a:lnTo>
                <a:lnTo>
                  <a:pt x="49" y="227"/>
                </a:lnTo>
                <a:lnTo>
                  <a:pt x="18" y="191"/>
                </a:lnTo>
                <a:lnTo>
                  <a:pt x="4" y="142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1"/>
          <p:cNvSpPr/>
          <p:nvPr/>
        </p:nvSpPr>
        <p:spPr>
          <a:xfrm>
            <a:off x="4937040" y="2068560"/>
            <a:ext cx="493920" cy="388800"/>
          </a:xfrm>
          <a:custGeom>
            <a:avLst/>
            <a:gdLst>
              <a:gd name="textAreaLeft" fmla="*/ 0 w 493920"/>
              <a:gd name="textAreaRight" fmla="*/ 494280 w 4939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311" h="245">
                <a:moveTo>
                  <a:pt x="4" y="50"/>
                </a:moveTo>
                <a:lnTo>
                  <a:pt x="71" y="54"/>
                </a:lnTo>
                <a:lnTo>
                  <a:pt x="127" y="50"/>
                </a:lnTo>
                <a:lnTo>
                  <a:pt x="188" y="30"/>
                </a:lnTo>
                <a:lnTo>
                  <a:pt x="232" y="0"/>
                </a:lnTo>
                <a:lnTo>
                  <a:pt x="262" y="0"/>
                </a:lnTo>
                <a:lnTo>
                  <a:pt x="300" y="41"/>
                </a:lnTo>
                <a:lnTo>
                  <a:pt x="311" y="92"/>
                </a:lnTo>
                <a:lnTo>
                  <a:pt x="311" y="165"/>
                </a:lnTo>
                <a:lnTo>
                  <a:pt x="302" y="203"/>
                </a:lnTo>
                <a:lnTo>
                  <a:pt x="269" y="241"/>
                </a:lnTo>
                <a:lnTo>
                  <a:pt x="208" y="245"/>
                </a:lnTo>
                <a:lnTo>
                  <a:pt x="148" y="222"/>
                </a:lnTo>
                <a:lnTo>
                  <a:pt x="85" y="191"/>
                </a:lnTo>
                <a:lnTo>
                  <a:pt x="36" y="153"/>
                </a:lnTo>
                <a:lnTo>
                  <a:pt x="6" y="117"/>
                </a:lnTo>
                <a:lnTo>
                  <a:pt x="0" y="92"/>
                </a:lnTo>
                <a:lnTo>
                  <a:pt x="4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2"/>
          <p:cNvSpPr/>
          <p:nvPr/>
        </p:nvSpPr>
        <p:spPr>
          <a:xfrm>
            <a:off x="4624560" y="3164040"/>
            <a:ext cx="485640" cy="223560"/>
          </a:xfrm>
          <a:custGeom>
            <a:avLst/>
            <a:gdLst>
              <a:gd name="textAreaLeft" fmla="*/ 0 w 485640"/>
              <a:gd name="textAreaRight" fmla="*/ 486000 w 48564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306" h="141">
                <a:moveTo>
                  <a:pt x="17" y="87"/>
                </a:moveTo>
                <a:lnTo>
                  <a:pt x="47" y="120"/>
                </a:lnTo>
                <a:lnTo>
                  <a:pt x="97" y="141"/>
                </a:lnTo>
                <a:lnTo>
                  <a:pt x="146" y="141"/>
                </a:lnTo>
                <a:lnTo>
                  <a:pt x="201" y="130"/>
                </a:lnTo>
                <a:lnTo>
                  <a:pt x="243" y="98"/>
                </a:lnTo>
                <a:lnTo>
                  <a:pt x="292" y="49"/>
                </a:lnTo>
                <a:lnTo>
                  <a:pt x="306" y="13"/>
                </a:lnTo>
                <a:lnTo>
                  <a:pt x="268" y="0"/>
                </a:lnTo>
                <a:lnTo>
                  <a:pt x="221" y="18"/>
                </a:lnTo>
                <a:lnTo>
                  <a:pt x="166" y="54"/>
                </a:lnTo>
                <a:lnTo>
                  <a:pt x="105" y="71"/>
                </a:lnTo>
                <a:lnTo>
                  <a:pt x="49" y="67"/>
                </a:lnTo>
                <a:lnTo>
                  <a:pt x="0" y="62"/>
                </a:lnTo>
                <a:lnTo>
                  <a:pt x="17" y="87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3"/>
          <p:cNvSpPr/>
          <p:nvPr/>
        </p:nvSpPr>
        <p:spPr>
          <a:xfrm>
            <a:off x="4484520" y="2714760"/>
            <a:ext cx="196920" cy="85680"/>
          </a:xfrm>
          <a:custGeom>
            <a:avLst/>
            <a:gdLst>
              <a:gd name="textAreaLeft" fmla="*/ 0 w 196920"/>
              <a:gd name="textAreaRight" fmla="*/ 197280 w 1969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24" h="54">
                <a:moveTo>
                  <a:pt x="7" y="54"/>
                </a:moveTo>
                <a:lnTo>
                  <a:pt x="74" y="29"/>
                </a:lnTo>
                <a:lnTo>
                  <a:pt x="124" y="18"/>
                </a:lnTo>
                <a:lnTo>
                  <a:pt x="81" y="0"/>
                </a:lnTo>
                <a:lnTo>
                  <a:pt x="38" y="0"/>
                </a:lnTo>
                <a:lnTo>
                  <a:pt x="0" y="29"/>
                </a:lnTo>
                <a:lnTo>
                  <a:pt x="7" y="54"/>
                </a:lnTo>
                <a:lnTo>
                  <a:pt x="7" y="54"/>
                </a:lnTo>
                <a:lnTo>
                  <a:pt x="7" y="54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4"/>
          <p:cNvSpPr/>
          <p:nvPr/>
        </p:nvSpPr>
        <p:spPr>
          <a:xfrm>
            <a:off x="3976560" y="2009880"/>
            <a:ext cx="177840" cy="123840"/>
          </a:xfrm>
          <a:custGeom>
            <a:avLst/>
            <a:gdLst>
              <a:gd name="textAreaLeft" fmla="*/ 0 w 177840"/>
              <a:gd name="textAreaRight" fmla="*/ 177840 w 177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12" h="78">
                <a:moveTo>
                  <a:pt x="0" y="65"/>
                </a:moveTo>
                <a:lnTo>
                  <a:pt x="0" y="42"/>
                </a:lnTo>
                <a:lnTo>
                  <a:pt x="17" y="18"/>
                </a:lnTo>
                <a:lnTo>
                  <a:pt x="53" y="0"/>
                </a:lnTo>
                <a:lnTo>
                  <a:pt x="91" y="5"/>
                </a:lnTo>
                <a:lnTo>
                  <a:pt x="112" y="18"/>
                </a:lnTo>
                <a:lnTo>
                  <a:pt x="42" y="49"/>
                </a:lnTo>
                <a:lnTo>
                  <a:pt x="4" y="78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5"/>
          <p:cNvSpPr/>
          <p:nvPr/>
        </p:nvSpPr>
        <p:spPr>
          <a:xfrm rot="2926200">
            <a:off x="3306240" y="3668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6"/>
          <p:cNvSpPr/>
          <p:nvPr/>
        </p:nvSpPr>
        <p:spPr>
          <a:xfrm rot="1699800">
            <a:off x="3551040" y="3862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7"/>
          <p:cNvSpPr/>
          <p:nvPr/>
        </p:nvSpPr>
        <p:spPr>
          <a:xfrm rot="781800">
            <a:off x="3882600" y="3983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8"/>
          <p:cNvSpPr/>
          <p:nvPr/>
        </p:nvSpPr>
        <p:spPr>
          <a:xfrm rot="563400">
            <a:off x="4192200" y="4041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9"/>
          <p:cNvSpPr/>
          <p:nvPr/>
        </p:nvSpPr>
        <p:spPr>
          <a:xfrm rot="273600">
            <a:off x="4543200" y="4084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0"/>
          <p:cNvSpPr/>
          <p:nvPr/>
        </p:nvSpPr>
        <p:spPr>
          <a:xfrm rot="21552600">
            <a:off x="5014800" y="4093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1"/>
          <p:cNvSpPr/>
          <p:nvPr/>
        </p:nvSpPr>
        <p:spPr>
          <a:xfrm rot="21330000">
            <a:off x="5367240" y="4071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2"/>
          <p:cNvSpPr/>
          <p:nvPr/>
        </p:nvSpPr>
        <p:spPr>
          <a:xfrm rot="21244800">
            <a:off x="5524560" y="4053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3"/>
          <p:cNvSpPr/>
          <p:nvPr/>
        </p:nvSpPr>
        <p:spPr>
          <a:xfrm rot="20866800">
            <a:off x="5873760" y="3995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4"/>
          <p:cNvSpPr/>
          <p:nvPr/>
        </p:nvSpPr>
        <p:spPr>
          <a:xfrm rot="20562000">
            <a:off x="6024600" y="3954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5"/>
          <p:cNvSpPr/>
          <p:nvPr/>
        </p:nvSpPr>
        <p:spPr>
          <a:xfrm rot="19930200">
            <a:off x="6350040" y="3816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6"/>
          <p:cNvSpPr/>
          <p:nvPr/>
        </p:nvSpPr>
        <p:spPr>
          <a:xfrm rot="18729000">
            <a:off x="6475320" y="3722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7"/>
          <p:cNvSpPr/>
          <p:nvPr/>
        </p:nvSpPr>
        <p:spPr>
          <a:xfrm rot="15335400">
            <a:off x="6432120" y="3385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8"/>
          <p:cNvSpPr/>
          <p:nvPr/>
        </p:nvSpPr>
        <p:spPr>
          <a:xfrm rot="15335400">
            <a:off x="6347880" y="308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3"/>
          <p:cNvSpPr/>
          <p:nvPr/>
        </p:nvSpPr>
        <p:spPr>
          <a:xfrm>
            <a:off x="-55440" y="-27000"/>
            <a:ext cx="9896400" cy="6597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4"/>
          <p:cNvSpPr/>
          <p:nvPr/>
        </p:nvSpPr>
        <p:spPr>
          <a:xfrm>
            <a:off x="4932360" y="3059280"/>
            <a:ext cx="2573280" cy="3651120"/>
          </a:xfrm>
          <a:custGeom>
            <a:avLst/>
            <a:gdLst>
              <a:gd name="textAreaLeft" fmla="*/ 0 w 2573280"/>
              <a:gd name="textAreaRight" fmla="*/ 2573640 w 2573280"/>
              <a:gd name="textAreaTop" fmla="*/ 0 h 3651120"/>
              <a:gd name="textAreaBottom" fmla="*/ 3651480 h 3651120"/>
            </a:gdLst>
            <a:ahLst/>
            <a:rect l="textAreaLeft" t="textAreaTop" r="textAreaRight" b="textAreaBottom"/>
            <a:pathLst>
              <a:path w="1621" h="2300">
                <a:moveTo>
                  <a:pt x="980" y="0"/>
                </a:moveTo>
                <a:lnTo>
                  <a:pt x="721" y="24"/>
                </a:lnTo>
                <a:lnTo>
                  <a:pt x="279" y="210"/>
                </a:lnTo>
                <a:lnTo>
                  <a:pt x="125" y="687"/>
                </a:lnTo>
                <a:lnTo>
                  <a:pt x="0" y="1158"/>
                </a:lnTo>
                <a:lnTo>
                  <a:pt x="146" y="1755"/>
                </a:lnTo>
                <a:lnTo>
                  <a:pt x="683" y="2233"/>
                </a:lnTo>
                <a:lnTo>
                  <a:pt x="781" y="2300"/>
                </a:lnTo>
                <a:lnTo>
                  <a:pt x="989" y="2288"/>
                </a:lnTo>
                <a:lnTo>
                  <a:pt x="1144" y="2223"/>
                </a:lnTo>
                <a:lnTo>
                  <a:pt x="1248" y="2163"/>
                </a:lnTo>
                <a:lnTo>
                  <a:pt x="1352" y="2059"/>
                </a:lnTo>
                <a:lnTo>
                  <a:pt x="1450" y="1849"/>
                </a:lnTo>
                <a:lnTo>
                  <a:pt x="1621" y="1521"/>
                </a:lnTo>
                <a:lnTo>
                  <a:pt x="1548" y="792"/>
                </a:lnTo>
                <a:lnTo>
                  <a:pt x="1345" y="279"/>
                </a:lnTo>
                <a:lnTo>
                  <a:pt x="1154" y="65"/>
                </a:lnTo>
                <a:lnTo>
                  <a:pt x="980" y="0"/>
                </a:lnTo>
                <a:lnTo>
                  <a:pt x="980" y="0"/>
                </a:lnTo>
                <a:lnTo>
                  <a:pt x="980" y="0"/>
                </a:lnTo>
                <a:close/>
              </a:path>
            </a:pathLst>
          </a:custGeom>
          <a:solidFill>
            <a:srgbClr val="ffd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5"/>
          <p:cNvSpPr/>
          <p:nvPr/>
        </p:nvSpPr>
        <p:spPr>
          <a:xfrm>
            <a:off x="6426360" y="4305240"/>
            <a:ext cx="512640" cy="192240"/>
          </a:xfrm>
          <a:custGeom>
            <a:avLst/>
            <a:gdLst>
              <a:gd name="textAreaLeft" fmla="*/ 0 w 512640"/>
              <a:gd name="textAreaRight" fmla="*/ 513000 w 5126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23" h="121">
                <a:moveTo>
                  <a:pt x="0" y="104"/>
                </a:moveTo>
                <a:lnTo>
                  <a:pt x="69" y="40"/>
                </a:lnTo>
                <a:lnTo>
                  <a:pt x="130" y="10"/>
                </a:lnTo>
                <a:lnTo>
                  <a:pt x="227" y="0"/>
                </a:lnTo>
                <a:lnTo>
                  <a:pt x="323" y="60"/>
                </a:lnTo>
                <a:lnTo>
                  <a:pt x="227" y="113"/>
                </a:lnTo>
                <a:lnTo>
                  <a:pt x="117" y="121"/>
                </a:lnTo>
                <a:lnTo>
                  <a:pt x="49" y="119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6"/>
          <p:cNvSpPr/>
          <p:nvPr/>
        </p:nvSpPr>
        <p:spPr>
          <a:xfrm>
            <a:off x="6591240" y="4330800"/>
            <a:ext cx="182520" cy="156960"/>
          </a:xfrm>
          <a:custGeom>
            <a:avLst/>
            <a:gdLst>
              <a:gd name="textAreaLeft" fmla="*/ 0 w 182520"/>
              <a:gd name="textAreaRight" fmla="*/ 182880 w 1825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15" h="99">
                <a:moveTo>
                  <a:pt x="6" y="0"/>
                </a:moveTo>
                <a:lnTo>
                  <a:pt x="0" y="54"/>
                </a:lnTo>
                <a:lnTo>
                  <a:pt x="22" y="84"/>
                </a:lnTo>
                <a:lnTo>
                  <a:pt x="54" y="99"/>
                </a:lnTo>
                <a:lnTo>
                  <a:pt x="90" y="88"/>
                </a:lnTo>
                <a:lnTo>
                  <a:pt x="115" y="61"/>
                </a:lnTo>
                <a:lnTo>
                  <a:pt x="113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7"/>
          <p:cNvSpPr/>
          <p:nvPr/>
        </p:nvSpPr>
        <p:spPr>
          <a:xfrm>
            <a:off x="5392800" y="4548240"/>
            <a:ext cx="406440" cy="158760"/>
          </a:xfrm>
          <a:custGeom>
            <a:avLst/>
            <a:gdLst>
              <a:gd name="textAreaLeft" fmla="*/ 0 w 406440"/>
              <a:gd name="textAreaRight" fmla="*/ 406800 w 4064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56" h="100">
                <a:moveTo>
                  <a:pt x="0" y="75"/>
                </a:moveTo>
                <a:lnTo>
                  <a:pt x="66" y="7"/>
                </a:lnTo>
                <a:lnTo>
                  <a:pt x="179" y="0"/>
                </a:lnTo>
                <a:lnTo>
                  <a:pt x="256" y="28"/>
                </a:lnTo>
                <a:lnTo>
                  <a:pt x="250" y="51"/>
                </a:lnTo>
                <a:lnTo>
                  <a:pt x="171" y="82"/>
                </a:lnTo>
                <a:lnTo>
                  <a:pt x="74" y="100"/>
                </a:lnTo>
                <a:lnTo>
                  <a:pt x="16" y="98"/>
                </a:lnTo>
                <a:lnTo>
                  <a:pt x="0" y="75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8"/>
          <p:cNvSpPr/>
          <p:nvPr/>
        </p:nvSpPr>
        <p:spPr>
          <a:xfrm>
            <a:off x="5491080" y="4557600"/>
            <a:ext cx="204840" cy="139680"/>
          </a:xfrm>
          <a:custGeom>
            <a:avLst/>
            <a:gdLst>
              <a:gd name="textAreaLeft" fmla="*/ 0 w 204840"/>
              <a:gd name="textAreaRight" fmla="*/ 205200 w 204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9" h="88">
                <a:moveTo>
                  <a:pt x="0" y="7"/>
                </a:moveTo>
                <a:lnTo>
                  <a:pt x="10" y="60"/>
                </a:lnTo>
                <a:lnTo>
                  <a:pt x="27" y="76"/>
                </a:lnTo>
                <a:lnTo>
                  <a:pt x="81" y="88"/>
                </a:lnTo>
                <a:lnTo>
                  <a:pt x="119" y="54"/>
                </a:lnTo>
                <a:lnTo>
                  <a:pt x="129" y="13"/>
                </a:lnTo>
                <a:lnTo>
                  <a:pt x="109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9"/>
          <p:cNvSpPr/>
          <p:nvPr/>
        </p:nvSpPr>
        <p:spPr>
          <a:xfrm>
            <a:off x="5857920" y="5425920"/>
            <a:ext cx="920880" cy="327240"/>
          </a:xfrm>
          <a:custGeom>
            <a:avLst/>
            <a:gdLst>
              <a:gd name="textAreaLeft" fmla="*/ 0 w 920880"/>
              <a:gd name="textAreaRight" fmla="*/ 921240 w 9208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580" h="206">
                <a:moveTo>
                  <a:pt x="0" y="91"/>
                </a:moveTo>
                <a:lnTo>
                  <a:pt x="37" y="77"/>
                </a:lnTo>
                <a:lnTo>
                  <a:pt x="198" y="61"/>
                </a:lnTo>
                <a:lnTo>
                  <a:pt x="284" y="58"/>
                </a:lnTo>
                <a:lnTo>
                  <a:pt x="480" y="2"/>
                </a:lnTo>
                <a:lnTo>
                  <a:pt x="580" y="0"/>
                </a:lnTo>
                <a:lnTo>
                  <a:pt x="562" y="79"/>
                </a:lnTo>
                <a:lnTo>
                  <a:pt x="455" y="163"/>
                </a:lnTo>
                <a:lnTo>
                  <a:pt x="243" y="206"/>
                </a:lnTo>
                <a:lnTo>
                  <a:pt x="137" y="190"/>
                </a:lnTo>
                <a:lnTo>
                  <a:pt x="102" y="179"/>
                </a:lnTo>
                <a:lnTo>
                  <a:pt x="52" y="147"/>
                </a:lnTo>
                <a:lnTo>
                  <a:pt x="31" y="116"/>
                </a:lnTo>
                <a:lnTo>
                  <a:pt x="0" y="91"/>
                </a:lnTo>
                <a:lnTo>
                  <a:pt x="0" y="91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0"/>
          <p:cNvSpPr/>
          <p:nvPr/>
        </p:nvSpPr>
        <p:spPr>
          <a:xfrm>
            <a:off x="5808600" y="5400720"/>
            <a:ext cx="698400" cy="182520"/>
          </a:xfrm>
          <a:custGeom>
            <a:avLst/>
            <a:gdLst>
              <a:gd name="textAreaLeft" fmla="*/ 0 w 698400"/>
              <a:gd name="textAreaRight" fmla="*/ 698760 w 6984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40" h="115">
                <a:moveTo>
                  <a:pt x="0" y="115"/>
                </a:moveTo>
                <a:lnTo>
                  <a:pt x="79" y="79"/>
                </a:lnTo>
                <a:lnTo>
                  <a:pt x="136" y="67"/>
                </a:lnTo>
                <a:lnTo>
                  <a:pt x="166" y="56"/>
                </a:lnTo>
                <a:lnTo>
                  <a:pt x="200" y="34"/>
                </a:lnTo>
                <a:lnTo>
                  <a:pt x="320" y="20"/>
                </a:lnTo>
                <a:lnTo>
                  <a:pt x="440" y="0"/>
                </a:lnTo>
                <a:lnTo>
                  <a:pt x="411" y="54"/>
                </a:lnTo>
                <a:lnTo>
                  <a:pt x="293" y="77"/>
                </a:lnTo>
                <a:lnTo>
                  <a:pt x="136" y="84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1"/>
          <p:cNvSpPr/>
          <p:nvPr/>
        </p:nvSpPr>
        <p:spPr>
          <a:xfrm>
            <a:off x="5931000" y="5649840"/>
            <a:ext cx="669960" cy="173160"/>
          </a:xfrm>
          <a:custGeom>
            <a:avLst/>
            <a:gdLst/>
            <a:ahLst/>
            <a:rect l="l" t="t" r="r" b="b"/>
            <a:pathLst>
              <a:path w="422" h="109">
                <a:moveTo>
                  <a:pt x="0" y="0"/>
                </a:moveTo>
                <a:lnTo>
                  <a:pt x="77" y="45"/>
                </a:lnTo>
                <a:lnTo>
                  <a:pt x="196" y="59"/>
                </a:lnTo>
                <a:lnTo>
                  <a:pt x="328" y="40"/>
                </a:lnTo>
                <a:lnTo>
                  <a:pt x="408" y="11"/>
                </a:lnTo>
                <a:lnTo>
                  <a:pt x="422" y="55"/>
                </a:lnTo>
                <a:lnTo>
                  <a:pt x="375" y="88"/>
                </a:lnTo>
                <a:lnTo>
                  <a:pt x="311" y="109"/>
                </a:lnTo>
                <a:lnTo>
                  <a:pt x="341" y="78"/>
                </a:lnTo>
                <a:lnTo>
                  <a:pt x="330" y="68"/>
                </a:lnTo>
                <a:lnTo>
                  <a:pt x="278" y="73"/>
                </a:lnTo>
                <a:lnTo>
                  <a:pt x="199" y="84"/>
                </a:lnTo>
                <a:lnTo>
                  <a:pt x="143" y="81"/>
                </a:lnTo>
                <a:lnTo>
                  <a:pt x="91" y="70"/>
                </a:lnTo>
                <a:lnTo>
                  <a:pt x="48" y="4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2"/>
          <p:cNvSpPr/>
          <p:nvPr/>
        </p:nvSpPr>
        <p:spPr>
          <a:xfrm>
            <a:off x="6719760" y="5460840"/>
            <a:ext cx="111240" cy="130320"/>
          </a:xfrm>
          <a:custGeom>
            <a:avLst/>
            <a:gdLst>
              <a:gd name="textAreaLeft" fmla="*/ 0 w 111240"/>
              <a:gd name="textAreaRight" fmla="*/ 111600 w 1112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70" h="82">
                <a:moveTo>
                  <a:pt x="47" y="7"/>
                </a:moveTo>
                <a:lnTo>
                  <a:pt x="0" y="80"/>
                </a:lnTo>
                <a:lnTo>
                  <a:pt x="34" y="82"/>
                </a:lnTo>
                <a:lnTo>
                  <a:pt x="65" y="39"/>
                </a:lnTo>
                <a:lnTo>
                  <a:pt x="70" y="0"/>
                </a:lnTo>
                <a:lnTo>
                  <a:pt x="47" y="7"/>
                </a:lnTo>
                <a:lnTo>
                  <a:pt x="47" y="7"/>
                </a:lnTo>
                <a:lnTo>
                  <a:pt x="47" y="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3"/>
          <p:cNvSpPr/>
          <p:nvPr/>
        </p:nvSpPr>
        <p:spPr>
          <a:xfrm>
            <a:off x="5565600" y="5083200"/>
            <a:ext cx="317520" cy="584280"/>
          </a:xfrm>
          <a:custGeom>
            <a:avLst/>
            <a:gdLst>
              <a:gd name="textAreaLeft" fmla="*/ 0 w 317520"/>
              <a:gd name="textAreaRight" fmla="*/ 317880 w 31752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200" h="368">
                <a:moveTo>
                  <a:pt x="38" y="368"/>
                </a:moveTo>
                <a:lnTo>
                  <a:pt x="13" y="320"/>
                </a:lnTo>
                <a:lnTo>
                  <a:pt x="0" y="261"/>
                </a:lnTo>
                <a:lnTo>
                  <a:pt x="18" y="204"/>
                </a:lnTo>
                <a:lnTo>
                  <a:pt x="42" y="171"/>
                </a:lnTo>
                <a:lnTo>
                  <a:pt x="76" y="143"/>
                </a:lnTo>
                <a:lnTo>
                  <a:pt x="108" y="111"/>
                </a:lnTo>
                <a:lnTo>
                  <a:pt x="145" y="68"/>
                </a:lnTo>
                <a:lnTo>
                  <a:pt x="200" y="0"/>
                </a:lnTo>
                <a:lnTo>
                  <a:pt x="130" y="140"/>
                </a:lnTo>
                <a:lnTo>
                  <a:pt x="48" y="249"/>
                </a:lnTo>
                <a:lnTo>
                  <a:pt x="38" y="368"/>
                </a:lnTo>
                <a:lnTo>
                  <a:pt x="38" y="368"/>
                </a:lnTo>
                <a:lnTo>
                  <a:pt x="38" y="368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reeform 14"/>
          <p:cNvSpPr/>
          <p:nvPr/>
        </p:nvSpPr>
        <p:spPr>
          <a:xfrm>
            <a:off x="6676920" y="5078520"/>
            <a:ext cx="373320" cy="322200"/>
          </a:xfrm>
          <a:custGeom>
            <a:avLst/>
            <a:gdLst>
              <a:gd name="textAreaLeft" fmla="*/ 0 w 373320"/>
              <a:gd name="textAreaRight" fmla="*/ 373680 w 3733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35" h="203">
                <a:moveTo>
                  <a:pt x="0" y="0"/>
                </a:moveTo>
                <a:lnTo>
                  <a:pt x="67" y="29"/>
                </a:lnTo>
                <a:lnTo>
                  <a:pt x="120" y="56"/>
                </a:lnTo>
                <a:lnTo>
                  <a:pt x="184" y="81"/>
                </a:lnTo>
                <a:lnTo>
                  <a:pt x="229" y="116"/>
                </a:lnTo>
                <a:lnTo>
                  <a:pt x="235" y="158"/>
                </a:lnTo>
                <a:lnTo>
                  <a:pt x="208" y="203"/>
                </a:lnTo>
                <a:lnTo>
                  <a:pt x="189" y="135"/>
                </a:lnTo>
                <a:lnTo>
                  <a:pt x="110" y="86"/>
                </a:lnTo>
                <a:lnTo>
                  <a:pt x="56" y="59"/>
                </a:lnTo>
                <a:lnTo>
                  <a:pt x="11" y="1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15"/>
          <p:cNvSpPr/>
          <p:nvPr/>
        </p:nvSpPr>
        <p:spPr>
          <a:xfrm>
            <a:off x="6119640" y="4262400"/>
            <a:ext cx="544680" cy="1000080"/>
          </a:xfrm>
          <a:custGeom>
            <a:avLst/>
            <a:gdLst>
              <a:gd name="textAreaLeft" fmla="*/ 0 w 544680"/>
              <a:gd name="textAreaRight" fmla="*/ 545040 w 5446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43" h="630">
                <a:moveTo>
                  <a:pt x="294" y="0"/>
                </a:moveTo>
                <a:lnTo>
                  <a:pt x="251" y="0"/>
                </a:lnTo>
                <a:lnTo>
                  <a:pt x="215" y="25"/>
                </a:lnTo>
                <a:lnTo>
                  <a:pt x="186" y="63"/>
                </a:lnTo>
                <a:lnTo>
                  <a:pt x="167" y="75"/>
                </a:lnTo>
                <a:lnTo>
                  <a:pt x="147" y="64"/>
                </a:lnTo>
                <a:lnTo>
                  <a:pt x="128" y="34"/>
                </a:lnTo>
                <a:lnTo>
                  <a:pt x="102" y="75"/>
                </a:lnTo>
                <a:lnTo>
                  <a:pt x="72" y="146"/>
                </a:lnTo>
                <a:lnTo>
                  <a:pt x="60" y="215"/>
                </a:lnTo>
                <a:lnTo>
                  <a:pt x="68" y="324"/>
                </a:lnTo>
                <a:lnTo>
                  <a:pt x="114" y="467"/>
                </a:lnTo>
                <a:lnTo>
                  <a:pt x="140" y="521"/>
                </a:lnTo>
                <a:lnTo>
                  <a:pt x="189" y="470"/>
                </a:lnTo>
                <a:lnTo>
                  <a:pt x="215" y="464"/>
                </a:lnTo>
                <a:lnTo>
                  <a:pt x="241" y="472"/>
                </a:lnTo>
                <a:lnTo>
                  <a:pt x="260" y="503"/>
                </a:lnTo>
                <a:lnTo>
                  <a:pt x="258" y="532"/>
                </a:lnTo>
                <a:lnTo>
                  <a:pt x="230" y="543"/>
                </a:lnTo>
                <a:lnTo>
                  <a:pt x="143" y="551"/>
                </a:lnTo>
                <a:lnTo>
                  <a:pt x="105" y="581"/>
                </a:lnTo>
                <a:lnTo>
                  <a:pt x="59" y="609"/>
                </a:lnTo>
                <a:lnTo>
                  <a:pt x="0" y="619"/>
                </a:lnTo>
                <a:lnTo>
                  <a:pt x="42" y="630"/>
                </a:lnTo>
                <a:lnTo>
                  <a:pt x="111" y="630"/>
                </a:lnTo>
                <a:lnTo>
                  <a:pt x="213" y="598"/>
                </a:lnTo>
                <a:lnTo>
                  <a:pt x="276" y="598"/>
                </a:lnTo>
                <a:lnTo>
                  <a:pt x="325" y="579"/>
                </a:lnTo>
                <a:lnTo>
                  <a:pt x="343" y="545"/>
                </a:lnTo>
                <a:lnTo>
                  <a:pt x="343" y="491"/>
                </a:lnTo>
                <a:lnTo>
                  <a:pt x="284" y="420"/>
                </a:lnTo>
                <a:lnTo>
                  <a:pt x="219" y="333"/>
                </a:lnTo>
                <a:lnTo>
                  <a:pt x="186" y="219"/>
                </a:lnTo>
                <a:lnTo>
                  <a:pt x="213" y="146"/>
                </a:lnTo>
                <a:lnTo>
                  <a:pt x="197" y="128"/>
                </a:lnTo>
                <a:lnTo>
                  <a:pt x="234" y="78"/>
                </a:lnTo>
                <a:lnTo>
                  <a:pt x="219" y="76"/>
                </a:lnTo>
                <a:lnTo>
                  <a:pt x="251" y="30"/>
                </a:lnTo>
                <a:lnTo>
                  <a:pt x="294" y="0"/>
                </a:lnTo>
                <a:lnTo>
                  <a:pt x="294" y="0"/>
                </a:lnTo>
                <a:lnTo>
                  <a:pt x="294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16"/>
          <p:cNvSpPr/>
          <p:nvPr/>
        </p:nvSpPr>
        <p:spPr>
          <a:xfrm>
            <a:off x="4983120" y="3268800"/>
            <a:ext cx="1836720" cy="342252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157" h="2156">
                <a:moveTo>
                  <a:pt x="602" y="0"/>
                </a:moveTo>
                <a:lnTo>
                  <a:pt x="410" y="161"/>
                </a:lnTo>
                <a:lnTo>
                  <a:pt x="355" y="307"/>
                </a:lnTo>
                <a:lnTo>
                  <a:pt x="296" y="478"/>
                </a:lnTo>
                <a:lnTo>
                  <a:pt x="288" y="569"/>
                </a:lnTo>
                <a:lnTo>
                  <a:pt x="379" y="653"/>
                </a:lnTo>
                <a:lnTo>
                  <a:pt x="219" y="709"/>
                </a:lnTo>
                <a:lnTo>
                  <a:pt x="142" y="775"/>
                </a:lnTo>
                <a:lnTo>
                  <a:pt x="125" y="845"/>
                </a:lnTo>
                <a:lnTo>
                  <a:pt x="188" y="876"/>
                </a:lnTo>
                <a:lnTo>
                  <a:pt x="257" y="911"/>
                </a:lnTo>
                <a:lnTo>
                  <a:pt x="136" y="939"/>
                </a:lnTo>
                <a:lnTo>
                  <a:pt x="103" y="1005"/>
                </a:lnTo>
                <a:lnTo>
                  <a:pt x="121" y="1183"/>
                </a:lnTo>
                <a:lnTo>
                  <a:pt x="190" y="1399"/>
                </a:lnTo>
                <a:lnTo>
                  <a:pt x="265" y="1529"/>
                </a:lnTo>
                <a:lnTo>
                  <a:pt x="355" y="1650"/>
                </a:lnTo>
                <a:lnTo>
                  <a:pt x="470" y="1756"/>
                </a:lnTo>
                <a:lnTo>
                  <a:pt x="584" y="1842"/>
                </a:lnTo>
                <a:lnTo>
                  <a:pt x="794" y="1923"/>
                </a:lnTo>
                <a:lnTo>
                  <a:pt x="938" y="1927"/>
                </a:lnTo>
                <a:lnTo>
                  <a:pt x="1051" y="1905"/>
                </a:lnTo>
                <a:lnTo>
                  <a:pt x="1157" y="1868"/>
                </a:lnTo>
                <a:lnTo>
                  <a:pt x="1034" y="1934"/>
                </a:lnTo>
                <a:lnTo>
                  <a:pt x="853" y="1961"/>
                </a:lnTo>
                <a:lnTo>
                  <a:pt x="717" y="1982"/>
                </a:lnTo>
                <a:lnTo>
                  <a:pt x="763" y="2156"/>
                </a:lnTo>
                <a:lnTo>
                  <a:pt x="686" y="2142"/>
                </a:lnTo>
                <a:lnTo>
                  <a:pt x="278" y="1752"/>
                </a:lnTo>
                <a:lnTo>
                  <a:pt x="0" y="1291"/>
                </a:lnTo>
                <a:lnTo>
                  <a:pt x="45" y="604"/>
                </a:lnTo>
                <a:lnTo>
                  <a:pt x="314" y="42"/>
                </a:lnTo>
                <a:lnTo>
                  <a:pt x="602" y="0"/>
                </a:lnTo>
                <a:lnTo>
                  <a:pt x="602" y="0"/>
                </a:lnTo>
                <a:lnTo>
                  <a:pt x="602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17"/>
          <p:cNvSpPr/>
          <p:nvPr/>
        </p:nvSpPr>
        <p:spPr>
          <a:xfrm>
            <a:off x="5896080" y="3041640"/>
            <a:ext cx="1625400" cy="327348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3273480"/>
              <a:gd name="textAreaBottom" fmla="*/ 3273840 h 3273480"/>
            </a:gdLst>
            <a:ahLst/>
            <a:rect l="textAreaLeft" t="textAreaTop" r="textAreaRight" b="textAreaBottom"/>
            <a:pathLst>
              <a:path w="1024" h="2062">
                <a:moveTo>
                  <a:pt x="66" y="115"/>
                </a:moveTo>
                <a:lnTo>
                  <a:pt x="225" y="109"/>
                </a:lnTo>
                <a:lnTo>
                  <a:pt x="341" y="125"/>
                </a:lnTo>
                <a:lnTo>
                  <a:pt x="439" y="172"/>
                </a:lnTo>
                <a:lnTo>
                  <a:pt x="515" y="221"/>
                </a:lnTo>
                <a:lnTo>
                  <a:pt x="582" y="325"/>
                </a:lnTo>
                <a:lnTo>
                  <a:pt x="620" y="440"/>
                </a:lnTo>
                <a:lnTo>
                  <a:pt x="651" y="576"/>
                </a:lnTo>
                <a:lnTo>
                  <a:pt x="658" y="642"/>
                </a:lnTo>
                <a:lnTo>
                  <a:pt x="557" y="646"/>
                </a:lnTo>
                <a:lnTo>
                  <a:pt x="614" y="701"/>
                </a:lnTo>
                <a:lnTo>
                  <a:pt x="565" y="729"/>
                </a:lnTo>
                <a:lnTo>
                  <a:pt x="480" y="750"/>
                </a:lnTo>
                <a:lnTo>
                  <a:pt x="519" y="796"/>
                </a:lnTo>
                <a:lnTo>
                  <a:pt x="679" y="862"/>
                </a:lnTo>
                <a:lnTo>
                  <a:pt x="755" y="856"/>
                </a:lnTo>
                <a:lnTo>
                  <a:pt x="802" y="921"/>
                </a:lnTo>
                <a:lnTo>
                  <a:pt x="832" y="1027"/>
                </a:lnTo>
                <a:lnTo>
                  <a:pt x="843" y="1201"/>
                </a:lnTo>
                <a:lnTo>
                  <a:pt x="832" y="1372"/>
                </a:lnTo>
                <a:lnTo>
                  <a:pt x="832" y="1532"/>
                </a:lnTo>
                <a:lnTo>
                  <a:pt x="794" y="1654"/>
                </a:lnTo>
                <a:lnTo>
                  <a:pt x="661" y="1871"/>
                </a:lnTo>
                <a:lnTo>
                  <a:pt x="565" y="1962"/>
                </a:lnTo>
                <a:lnTo>
                  <a:pt x="442" y="2062"/>
                </a:lnTo>
                <a:lnTo>
                  <a:pt x="543" y="2062"/>
                </a:lnTo>
                <a:lnTo>
                  <a:pt x="802" y="1888"/>
                </a:lnTo>
                <a:lnTo>
                  <a:pt x="1024" y="1609"/>
                </a:lnTo>
                <a:lnTo>
                  <a:pt x="996" y="1148"/>
                </a:lnTo>
                <a:lnTo>
                  <a:pt x="871" y="604"/>
                </a:lnTo>
                <a:lnTo>
                  <a:pt x="679" y="143"/>
                </a:lnTo>
                <a:lnTo>
                  <a:pt x="456" y="4"/>
                </a:lnTo>
                <a:lnTo>
                  <a:pt x="229" y="0"/>
                </a:lnTo>
                <a:lnTo>
                  <a:pt x="0" y="60"/>
                </a:lnTo>
                <a:lnTo>
                  <a:pt x="66" y="115"/>
                </a:lnTo>
                <a:lnTo>
                  <a:pt x="66" y="115"/>
                </a:lnTo>
                <a:lnTo>
                  <a:pt x="66" y="115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18"/>
          <p:cNvSpPr/>
          <p:nvPr/>
        </p:nvSpPr>
        <p:spPr>
          <a:xfrm>
            <a:off x="7327800" y="3441600"/>
            <a:ext cx="1702080" cy="3203640"/>
          </a:xfrm>
          <a:custGeom>
            <a:avLst/>
            <a:gdLst>
              <a:gd name="textAreaLeft" fmla="*/ 0 w 1702080"/>
              <a:gd name="textAreaRight" fmla="*/ 1702440 w 170208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1072" h="2018">
                <a:moveTo>
                  <a:pt x="94" y="0"/>
                </a:moveTo>
                <a:lnTo>
                  <a:pt x="496" y="168"/>
                </a:lnTo>
                <a:lnTo>
                  <a:pt x="595" y="331"/>
                </a:lnTo>
                <a:lnTo>
                  <a:pt x="700" y="461"/>
                </a:lnTo>
                <a:lnTo>
                  <a:pt x="635" y="489"/>
                </a:lnTo>
                <a:lnTo>
                  <a:pt x="706" y="641"/>
                </a:lnTo>
                <a:lnTo>
                  <a:pt x="926" y="798"/>
                </a:lnTo>
                <a:lnTo>
                  <a:pt x="1061" y="1008"/>
                </a:lnTo>
                <a:lnTo>
                  <a:pt x="1072" y="1277"/>
                </a:lnTo>
                <a:lnTo>
                  <a:pt x="898" y="1697"/>
                </a:lnTo>
                <a:lnTo>
                  <a:pt x="973" y="2006"/>
                </a:lnTo>
                <a:lnTo>
                  <a:pt x="851" y="2018"/>
                </a:lnTo>
                <a:lnTo>
                  <a:pt x="688" y="1953"/>
                </a:lnTo>
                <a:lnTo>
                  <a:pt x="548" y="1825"/>
                </a:lnTo>
                <a:lnTo>
                  <a:pt x="36" y="1744"/>
                </a:lnTo>
                <a:lnTo>
                  <a:pt x="0" y="1633"/>
                </a:lnTo>
                <a:lnTo>
                  <a:pt x="82" y="1259"/>
                </a:lnTo>
                <a:lnTo>
                  <a:pt x="46" y="926"/>
                </a:lnTo>
                <a:lnTo>
                  <a:pt x="46" y="349"/>
                </a:lnTo>
                <a:lnTo>
                  <a:pt x="94" y="0"/>
                </a:lnTo>
                <a:lnTo>
                  <a:pt x="94" y="0"/>
                </a:lnTo>
                <a:lnTo>
                  <a:pt x="94" y="0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19"/>
          <p:cNvSpPr/>
          <p:nvPr/>
        </p:nvSpPr>
        <p:spPr>
          <a:xfrm>
            <a:off x="3768840" y="2347920"/>
            <a:ext cx="3384360" cy="432288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4322880"/>
              <a:gd name="textAreaBottom" fmla="*/ 4323240 h 4322880"/>
            </a:gdLst>
            <a:ahLst/>
            <a:rect l="textAreaLeft" t="textAreaTop" r="textAreaRight" b="textAreaBottom"/>
            <a:pathLst>
              <a:path w="2132" h="2723">
                <a:moveTo>
                  <a:pt x="302" y="992"/>
                </a:moveTo>
                <a:lnTo>
                  <a:pt x="634" y="321"/>
                </a:lnTo>
                <a:lnTo>
                  <a:pt x="850" y="204"/>
                </a:lnTo>
                <a:lnTo>
                  <a:pt x="1357" y="0"/>
                </a:lnTo>
                <a:lnTo>
                  <a:pt x="1829" y="12"/>
                </a:lnTo>
                <a:lnTo>
                  <a:pt x="2021" y="59"/>
                </a:lnTo>
                <a:lnTo>
                  <a:pt x="2109" y="176"/>
                </a:lnTo>
                <a:lnTo>
                  <a:pt x="2132" y="379"/>
                </a:lnTo>
                <a:lnTo>
                  <a:pt x="2067" y="624"/>
                </a:lnTo>
                <a:lnTo>
                  <a:pt x="1812" y="542"/>
                </a:lnTo>
                <a:lnTo>
                  <a:pt x="1683" y="449"/>
                </a:lnTo>
                <a:lnTo>
                  <a:pt x="1445" y="431"/>
                </a:lnTo>
                <a:lnTo>
                  <a:pt x="1106" y="619"/>
                </a:lnTo>
                <a:lnTo>
                  <a:pt x="867" y="1102"/>
                </a:lnTo>
                <a:lnTo>
                  <a:pt x="751" y="1628"/>
                </a:lnTo>
                <a:lnTo>
                  <a:pt x="1007" y="2450"/>
                </a:lnTo>
                <a:lnTo>
                  <a:pt x="815" y="2660"/>
                </a:lnTo>
                <a:lnTo>
                  <a:pt x="459" y="2723"/>
                </a:lnTo>
                <a:lnTo>
                  <a:pt x="46" y="2723"/>
                </a:lnTo>
                <a:lnTo>
                  <a:pt x="29" y="2549"/>
                </a:lnTo>
                <a:lnTo>
                  <a:pt x="0" y="2340"/>
                </a:lnTo>
                <a:lnTo>
                  <a:pt x="29" y="2223"/>
                </a:lnTo>
                <a:lnTo>
                  <a:pt x="64" y="2065"/>
                </a:lnTo>
                <a:lnTo>
                  <a:pt x="12" y="1908"/>
                </a:lnTo>
                <a:lnTo>
                  <a:pt x="29" y="1679"/>
                </a:lnTo>
                <a:lnTo>
                  <a:pt x="82" y="1563"/>
                </a:lnTo>
                <a:lnTo>
                  <a:pt x="46" y="1523"/>
                </a:lnTo>
                <a:lnTo>
                  <a:pt x="58" y="1441"/>
                </a:lnTo>
                <a:lnTo>
                  <a:pt x="186" y="1413"/>
                </a:lnTo>
                <a:lnTo>
                  <a:pt x="302" y="992"/>
                </a:lnTo>
                <a:lnTo>
                  <a:pt x="302" y="992"/>
                </a:lnTo>
                <a:lnTo>
                  <a:pt x="302" y="992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20"/>
          <p:cNvSpPr/>
          <p:nvPr/>
        </p:nvSpPr>
        <p:spPr>
          <a:xfrm>
            <a:off x="5057640" y="2562120"/>
            <a:ext cx="1285920" cy="419040"/>
          </a:xfrm>
          <a:custGeom>
            <a:avLst/>
            <a:gdLst>
              <a:gd name="textAreaLeft" fmla="*/ 0 w 1285920"/>
              <a:gd name="textAreaRight" fmla="*/ 1286280 w 1285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10" h="264">
                <a:moveTo>
                  <a:pt x="0" y="217"/>
                </a:moveTo>
                <a:lnTo>
                  <a:pt x="195" y="264"/>
                </a:lnTo>
                <a:lnTo>
                  <a:pt x="439" y="264"/>
                </a:lnTo>
                <a:lnTo>
                  <a:pt x="567" y="259"/>
                </a:lnTo>
                <a:lnTo>
                  <a:pt x="728" y="190"/>
                </a:lnTo>
                <a:lnTo>
                  <a:pt x="447" y="198"/>
                </a:lnTo>
                <a:lnTo>
                  <a:pt x="358" y="162"/>
                </a:lnTo>
                <a:lnTo>
                  <a:pt x="518" y="136"/>
                </a:lnTo>
                <a:lnTo>
                  <a:pt x="653" y="82"/>
                </a:lnTo>
                <a:lnTo>
                  <a:pt x="810" y="0"/>
                </a:lnTo>
                <a:lnTo>
                  <a:pt x="366" y="13"/>
                </a:lnTo>
                <a:lnTo>
                  <a:pt x="177" y="52"/>
                </a:lnTo>
                <a:lnTo>
                  <a:pt x="417" y="82"/>
                </a:lnTo>
                <a:lnTo>
                  <a:pt x="170" y="106"/>
                </a:lnTo>
                <a:lnTo>
                  <a:pt x="358" y="205"/>
                </a:lnTo>
                <a:lnTo>
                  <a:pt x="131" y="205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21"/>
          <p:cNvSpPr/>
          <p:nvPr/>
        </p:nvSpPr>
        <p:spPr>
          <a:xfrm>
            <a:off x="5735520" y="2357280"/>
            <a:ext cx="959040" cy="171720"/>
          </a:xfrm>
          <a:custGeom>
            <a:avLst/>
            <a:gdLst>
              <a:gd name="textAreaLeft" fmla="*/ 0 w 959040"/>
              <a:gd name="textAreaRight" fmla="*/ 959400 w 959040"/>
              <a:gd name="textAreaTop" fmla="*/ 0 h 171720"/>
              <a:gd name="textAreaBottom" fmla="*/ 171720 h 171720"/>
            </a:gdLst>
            <a:ahLst/>
            <a:rect l="textAreaLeft" t="textAreaTop" r="textAreaRight" b="textAreaBottom"/>
            <a:pathLst>
              <a:path w="604" h="108">
                <a:moveTo>
                  <a:pt x="93" y="73"/>
                </a:moveTo>
                <a:lnTo>
                  <a:pt x="350" y="64"/>
                </a:lnTo>
                <a:lnTo>
                  <a:pt x="449" y="57"/>
                </a:lnTo>
                <a:lnTo>
                  <a:pt x="545" y="83"/>
                </a:lnTo>
                <a:lnTo>
                  <a:pt x="599" y="108"/>
                </a:lnTo>
                <a:lnTo>
                  <a:pt x="604" y="41"/>
                </a:lnTo>
                <a:lnTo>
                  <a:pt x="295" y="0"/>
                </a:lnTo>
                <a:lnTo>
                  <a:pt x="101" y="19"/>
                </a:lnTo>
                <a:lnTo>
                  <a:pt x="0" y="62"/>
                </a:lnTo>
                <a:lnTo>
                  <a:pt x="93" y="73"/>
                </a:lnTo>
                <a:lnTo>
                  <a:pt x="93" y="73"/>
                </a:lnTo>
                <a:lnTo>
                  <a:pt x="93" y="7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22"/>
          <p:cNvSpPr/>
          <p:nvPr/>
        </p:nvSpPr>
        <p:spPr>
          <a:xfrm>
            <a:off x="4738680" y="2871720"/>
            <a:ext cx="716040" cy="407880"/>
          </a:xfrm>
          <a:custGeom>
            <a:avLst/>
            <a:gdLst>
              <a:gd name="textAreaLeft" fmla="*/ 0 w 716040"/>
              <a:gd name="textAreaRight" fmla="*/ 716040 w 71604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451" h="257">
                <a:moveTo>
                  <a:pt x="0" y="15"/>
                </a:moveTo>
                <a:lnTo>
                  <a:pt x="88" y="121"/>
                </a:lnTo>
                <a:lnTo>
                  <a:pt x="155" y="177"/>
                </a:lnTo>
                <a:lnTo>
                  <a:pt x="229" y="216"/>
                </a:lnTo>
                <a:lnTo>
                  <a:pt x="337" y="257"/>
                </a:lnTo>
                <a:lnTo>
                  <a:pt x="451" y="257"/>
                </a:lnTo>
                <a:lnTo>
                  <a:pt x="337" y="216"/>
                </a:lnTo>
                <a:lnTo>
                  <a:pt x="194" y="149"/>
                </a:lnTo>
                <a:lnTo>
                  <a:pt x="93" y="69"/>
                </a:lnTo>
                <a:lnTo>
                  <a:pt x="20" y="0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23"/>
          <p:cNvSpPr/>
          <p:nvPr/>
        </p:nvSpPr>
        <p:spPr>
          <a:xfrm>
            <a:off x="4408560" y="3129120"/>
            <a:ext cx="498240" cy="728640"/>
          </a:xfrm>
          <a:custGeom>
            <a:avLst/>
            <a:gdLst>
              <a:gd name="textAreaLeft" fmla="*/ 0 w 498240"/>
              <a:gd name="textAreaRight" fmla="*/ 498240 w 498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314" h="459">
                <a:moveTo>
                  <a:pt x="201" y="0"/>
                </a:moveTo>
                <a:lnTo>
                  <a:pt x="275" y="125"/>
                </a:lnTo>
                <a:lnTo>
                  <a:pt x="314" y="206"/>
                </a:lnTo>
                <a:lnTo>
                  <a:pt x="314" y="260"/>
                </a:lnTo>
                <a:lnTo>
                  <a:pt x="253" y="349"/>
                </a:lnTo>
                <a:lnTo>
                  <a:pt x="0" y="459"/>
                </a:lnTo>
                <a:lnTo>
                  <a:pt x="108" y="267"/>
                </a:lnTo>
                <a:lnTo>
                  <a:pt x="201" y="0"/>
                </a:lnTo>
                <a:lnTo>
                  <a:pt x="201" y="0"/>
                </a:lnTo>
                <a:lnTo>
                  <a:pt x="201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24"/>
          <p:cNvSpPr/>
          <p:nvPr/>
        </p:nvSpPr>
        <p:spPr>
          <a:xfrm>
            <a:off x="4984920" y="3352680"/>
            <a:ext cx="190440" cy="470160"/>
          </a:xfrm>
          <a:custGeom>
            <a:avLst/>
            <a:gdLst>
              <a:gd name="textAreaLeft" fmla="*/ 0 w 190440"/>
              <a:gd name="textAreaRight" fmla="*/ 190800 w 1904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20" h="296">
                <a:moveTo>
                  <a:pt x="120" y="38"/>
                </a:moveTo>
                <a:lnTo>
                  <a:pt x="79" y="108"/>
                </a:lnTo>
                <a:lnTo>
                  <a:pt x="66" y="175"/>
                </a:lnTo>
                <a:lnTo>
                  <a:pt x="92" y="254"/>
                </a:lnTo>
                <a:lnTo>
                  <a:pt x="92" y="296"/>
                </a:lnTo>
                <a:lnTo>
                  <a:pt x="46" y="270"/>
                </a:lnTo>
                <a:lnTo>
                  <a:pt x="5" y="180"/>
                </a:lnTo>
                <a:lnTo>
                  <a:pt x="0" y="41"/>
                </a:lnTo>
                <a:lnTo>
                  <a:pt x="59" y="0"/>
                </a:lnTo>
                <a:lnTo>
                  <a:pt x="120" y="38"/>
                </a:lnTo>
                <a:lnTo>
                  <a:pt x="120" y="38"/>
                </a:lnTo>
                <a:lnTo>
                  <a:pt x="120" y="3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25"/>
          <p:cNvSpPr/>
          <p:nvPr/>
        </p:nvSpPr>
        <p:spPr>
          <a:xfrm>
            <a:off x="7634160" y="3557520"/>
            <a:ext cx="311400" cy="938160"/>
          </a:xfrm>
          <a:custGeom>
            <a:avLst/>
            <a:gdLst>
              <a:gd name="textAreaLeft" fmla="*/ 0 w 311400"/>
              <a:gd name="textAreaRight" fmla="*/ 311760 w 311400"/>
              <a:gd name="textAreaTop" fmla="*/ 0 h 938160"/>
              <a:gd name="textAreaBottom" fmla="*/ 938160 h 938160"/>
            </a:gdLst>
            <a:ahLst/>
            <a:rect l="textAreaLeft" t="textAreaTop" r="textAreaRight" b="textAreaBottom"/>
            <a:pathLst>
              <a:path w="196" h="591">
                <a:moveTo>
                  <a:pt x="19" y="0"/>
                </a:moveTo>
                <a:lnTo>
                  <a:pt x="106" y="118"/>
                </a:lnTo>
                <a:lnTo>
                  <a:pt x="123" y="189"/>
                </a:lnTo>
                <a:lnTo>
                  <a:pt x="100" y="254"/>
                </a:lnTo>
                <a:lnTo>
                  <a:pt x="78" y="155"/>
                </a:lnTo>
                <a:lnTo>
                  <a:pt x="0" y="88"/>
                </a:lnTo>
                <a:lnTo>
                  <a:pt x="31" y="195"/>
                </a:lnTo>
                <a:lnTo>
                  <a:pt x="63" y="254"/>
                </a:lnTo>
                <a:lnTo>
                  <a:pt x="59" y="320"/>
                </a:lnTo>
                <a:lnTo>
                  <a:pt x="33" y="424"/>
                </a:lnTo>
                <a:lnTo>
                  <a:pt x="33" y="483"/>
                </a:lnTo>
                <a:lnTo>
                  <a:pt x="58" y="542"/>
                </a:lnTo>
                <a:lnTo>
                  <a:pt x="117" y="591"/>
                </a:lnTo>
                <a:lnTo>
                  <a:pt x="122" y="415"/>
                </a:lnTo>
                <a:lnTo>
                  <a:pt x="196" y="214"/>
                </a:lnTo>
                <a:lnTo>
                  <a:pt x="150" y="90"/>
                </a:lnTo>
                <a:lnTo>
                  <a:pt x="87" y="36"/>
                </a:ln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26"/>
          <p:cNvSpPr/>
          <p:nvPr/>
        </p:nvSpPr>
        <p:spPr>
          <a:xfrm>
            <a:off x="8310600" y="4255920"/>
            <a:ext cx="727200" cy="1162080"/>
          </a:xfrm>
          <a:custGeom>
            <a:avLst/>
            <a:gdLst>
              <a:gd name="textAreaLeft" fmla="*/ 0 w 727200"/>
              <a:gd name="textAreaRight" fmla="*/ 727560 w 72720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458" h="732">
                <a:moveTo>
                  <a:pt x="8" y="0"/>
                </a:moveTo>
                <a:lnTo>
                  <a:pt x="0" y="96"/>
                </a:lnTo>
                <a:lnTo>
                  <a:pt x="16" y="181"/>
                </a:lnTo>
                <a:lnTo>
                  <a:pt x="110" y="262"/>
                </a:lnTo>
                <a:lnTo>
                  <a:pt x="183" y="321"/>
                </a:lnTo>
                <a:lnTo>
                  <a:pt x="183" y="280"/>
                </a:lnTo>
                <a:lnTo>
                  <a:pt x="314" y="390"/>
                </a:lnTo>
                <a:lnTo>
                  <a:pt x="376" y="501"/>
                </a:lnTo>
                <a:lnTo>
                  <a:pt x="423" y="609"/>
                </a:lnTo>
                <a:lnTo>
                  <a:pt x="435" y="732"/>
                </a:lnTo>
                <a:lnTo>
                  <a:pt x="458" y="595"/>
                </a:lnTo>
                <a:lnTo>
                  <a:pt x="431" y="474"/>
                </a:lnTo>
                <a:lnTo>
                  <a:pt x="360" y="366"/>
                </a:lnTo>
                <a:lnTo>
                  <a:pt x="227" y="231"/>
                </a:lnTo>
                <a:lnTo>
                  <a:pt x="77" y="72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Freeform 27"/>
          <p:cNvSpPr/>
          <p:nvPr/>
        </p:nvSpPr>
        <p:spPr>
          <a:xfrm>
            <a:off x="8516880" y="4824360"/>
            <a:ext cx="285840" cy="830160"/>
          </a:xfrm>
          <a:custGeom>
            <a:avLst/>
            <a:gdLst>
              <a:gd name="textAreaLeft" fmla="*/ 0 w 285840"/>
              <a:gd name="textAreaRight" fmla="*/ 286200 w 285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80" h="523">
                <a:moveTo>
                  <a:pt x="98" y="0"/>
                </a:moveTo>
                <a:lnTo>
                  <a:pt x="156" y="93"/>
                </a:lnTo>
                <a:lnTo>
                  <a:pt x="180" y="278"/>
                </a:lnTo>
                <a:lnTo>
                  <a:pt x="112" y="433"/>
                </a:lnTo>
                <a:lnTo>
                  <a:pt x="0" y="523"/>
                </a:lnTo>
                <a:lnTo>
                  <a:pt x="80" y="351"/>
                </a:lnTo>
                <a:lnTo>
                  <a:pt x="119" y="225"/>
                </a:lnTo>
                <a:lnTo>
                  <a:pt x="117" y="149"/>
                </a:lnTo>
                <a:lnTo>
                  <a:pt x="98" y="0"/>
                </a:lnTo>
                <a:lnTo>
                  <a:pt x="98" y="0"/>
                </a:lnTo>
                <a:lnTo>
                  <a:pt x="98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Freeform 28"/>
          <p:cNvSpPr/>
          <p:nvPr/>
        </p:nvSpPr>
        <p:spPr>
          <a:xfrm>
            <a:off x="3935520" y="4514760"/>
            <a:ext cx="581040" cy="308160"/>
          </a:xfrm>
          <a:custGeom>
            <a:avLst/>
            <a:gdLst>
              <a:gd name="textAreaLeft" fmla="*/ 0 w 581040"/>
              <a:gd name="textAreaRight" fmla="*/ 581400 w 58104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366" h="194">
                <a:moveTo>
                  <a:pt x="0" y="111"/>
                </a:moveTo>
                <a:lnTo>
                  <a:pt x="48" y="167"/>
                </a:lnTo>
                <a:lnTo>
                  <a:pt x="114" y="194"/>
                </a:lnTo>
                <a:lnTo>
                  <a:pt x="192" y="194"/>
                </a:lnTo>
                <a:lnTo>
                  <a:pt x="259" y="161"/>
                </a:lnTo>
                <a:lnTo>
                  <a:pt x="329" y="108"/>
                </a:lnTo>
                <a:lnTo>
                  <a:pt x="366" y="0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reeform 29"/>
          <p:cNvSpPr/>
          <p:nvPr/>
        </p:nvSpPr>
        <p:spPr>
          <a:xfrm>
            <a:off x="3747960" y="4869000"/>
            <a:ext cx="254160" cy="806400"/>
          </a:xfrm>
          <a:custGeom>
            <a:avLst/>
            <a:gdLst>
              <a:gd name="textAreaLeft" fmla="*/ 0 w 254160"/>
              <a:gd name="textAreaRight" fmla="*/ 254520 w 2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60" h="508">
                <a:moveTo>
                  <a:pt x="134" y="508"/>
                </a:moveTo>
                <a:lnTo>
                  <a:pt x="160" y="471"/>
                </a:lnTo>
                <a:lnTo>
                  <a:pt x="86" y="365"/>
                </a:lnTo>
                <a:lnTo>
                  <a:pt x="77" y="264"/>
                </a:lnTo>
                <a:lnTo>
                  <a:pt x="86" y="195"/>
                </a:lnTo>
                <a:lnTo>
                  <a:pt x="127" y="0"/>
                </a:lnTo>
                <a:lnTo>
                  <a:pt x="80" y="21"/>
                </a:lnTo>
                <a:lnTo>
                  <a:pt x="0" y="195"/>
                </a:lnTo>
                <a:lnTo>
                  <a:pt x="17" y="445"/>
                </a:lnTo>
                <a:lnTo>
                  <a:pt x="134" y="508"/>
                </a:lnTo>
                <a:lnTo>
                  <a:pt x="134" y="508"/>
                </a:lnTo>
                <a:lnTo>
                  <a:pt x="134" y="50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0"/>
          <p:cNvSpPr/>
          <p:nvPr/>
        </p:nvSpPr>
        <p:spPr>
          <a:xfrm>
            <a:off x="4071960" y="5086440"/>
            <a:ext cx="361800" cy="503280"/>
          </a:xfrm>
          <a:custGeom>
            <a:avLst/>
            <a:gdLst>
              <a:gd name="textAreaLeft" fmla="*/ 0 w 361800"/>
              <a:gd name="textAreaRight" fmla="*/ 362160 w 3618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28" h="317">
                <a:moveTo>
                  <a:pt x="56" y="200"/>
                </a:moveTo>
                <a:lnTo>
                  <a:pt x="0" y="317"/>
                </a:lnTo>
                <a:lnTo>
                  <a:pt x="52" y="311"/>
                </a:lnTo>
                <a:lnTo>
                  <a:pt x="151" y="251"/>
                </a:lnTo>
                <a:lnTo>
                  <a:pt x="200" y="172"/>
                </a:lnTo>
                <a:lnTo>
                  <a:pt x="228" y="67"/>
                </a:lnTo>
                <a:lnTo>
                  <a:pt x="207" y="0"/>
                </a:lnTo>
                <a:lnTo>
                  <a:pt x="56" y="200"/>
                </a:lnTo>
                <a:lnTo>
                  <a:pt x="56" y="200"/>
                </a:lnTo>
                <a:lnTo>
                  <a:pt x="56" y="20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1"/>
          <p:cNvSpPr/>
          <p:nvPr/>
        </p:nvSpPr>
        <p:spPr>
          <a:xfrm>
            <a:off x="4486320" y="5321160"/>
            <a:ext cx="158760" cy="658800"/>
          </a:xfrm>
          <a:custGeom>
            <a:avLst/>
            <a:gdLst>
              <a:gd name="textAreaLeft" fmla="*/ 0 w 158760"/>
              <a:gd name="textAreaRight" fmla="*/ 159120 w 15876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00" h="415">
                <a:moveTo>
                  <a:pt x="66" y="0"/>
                </a:moveTo>
                <a:lnTo>
                  <a:pt x="77" y="176"/>
                </a:lnTo>
                <a:lnTo>
                  <a:pt x="40" y="247"/>
                </a:lnTo>
                <a:lnTo>
                  <a:pt x="13" y="189"/>
                </a:lnTo>
                <a:lnTo>
                  <a:pt x="0" y="292"/>
                </a:lnTo>
                <a:lnTo>
                  <a:pt x="66" y="415"/>
                </a:lnTo>
                <a:lnTo>
                  <a:pt x="100" y="243"/>
                </a:lnTo>
                <a:lnTo>
                  <a:pt x="100" y="73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"/>
          <p:cNvSpPr/>
          <p:nvPr/>
        </p:nvSpPr>
        <p:spPr>
          <a:xfrm>
            <a:off x="3954600" y="6094440"/>
            <a:ext cx="241200" cy="392040"/>
          </a:xfrm>
          <a:custGeom>
            <a:avLst/>
            <a:gdLst>
              <a:gd name="textAreaLeft" fmla="*/ 0 w 241200"/>
              <a:gd name="textAreaRight" fmla="*/ 241560 w 24120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152" h="247">
                <a:moveTo>
                  <a:pt x="91" y="6"/>
                </a:moveTo>
                <a:lnTo>
                  <a:pt x="10" y="53"/>
                </a:lnTo>
                <a:lnTo>
                  <a:pt x="20" y="133"/>
                </a:lnTo>
                <a:lnTo>
                  <a:pt x="41" y="187"/>
                </a:lnTo>
                <a:lnTo>
                  <a:pt x="0" y="247"/>
                </a:lnTo>
                <a:lnTo>
                  <a:pt x="74" y="193"/>
                </a:lnTo>
                <a:lnTo>
                  <a:pt x="80" y="126"/>
                </a:lnTo>
                <a:lnTo>
                  <a:pt x="114" y="73"/>
                </a:lnTo>
                <a:lnTo>
                  <a:pt x="152" y="0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3"/>
          <p:cNvSpPr/>
          <p:nvPr/>
        </p:nvSpPr>
        <p:spPr>
          <a:xfrm>
            <a:off x="7658280" y="4645080"/>
            <a:ext cx="568080" cy="942840"/>
          </a:xfrm>
          <a:custGeom>
            <a:avLst/>
            <a:gdLst>
              <a:gd name="textAreaLeft" fmla="*/ 0 w 568080"/>
              <a:gd name="textAreaRight" fmla="*/ 568440 w 56808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358" h="594">
                <a:moveTo>
                  <a:pt x="0" y="0"/>
                </a:moveTo>
                <a:lnTo>
                  <a:pt x="123" y="127"/>
                </a:lnTo>
                <a:lnTo>
                  <a:pt x="215" y="204"/>
                </a:lnTo>
                <a:lnTo>
                  <a:pt x="312" y="286"/>
                </a:lnTo>
                <a:lnTo>
                  <a:pt x="358" y="378"/>
                </a:lnTo>
                <a:lnTo>
                  <a:pt x="320" y="460"/>
                </a:lnTo>
                <a:lnTo>
                  <a:pt x="247" y="554"/>
                </a:lnTo>
                <a:lnTo>
                  <a:pt x="88" y="594"/>
                </a:lnTo>
                <a:lnTo>
                  <a:pt x="195" y="426"/>
                </a:lnTo>
                <a:lnTo>
                  <a:pt x="119" y="248"/>
                </a:lnTo>
                <a:lnTo>
                  <a:pt x="12" y="13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4"/>
          <p:cNvSpPr/>
          <p:nvPr/>
        </p:nvSpPr>
        <p:spPr>
          <a:xfrm>
            <a:off x="7413480" y="5076720"/>
            <a:ext cx="335160" cy="347760"/>
          </a:xfrm>
          <a:custGeom>
            <a:avLst/>
            <a:gdLst>
              <a:gd name="textAreaLeft" fmla="*/ 0 w 335160"/>
              <a:gd name="textAreaRight" fmla="*/ 335520 w 3351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211" h="219">
                <a:moveTo>
                  <a:pt x="0" y="4"/>
                </a:moveTo>
                <a:lnTo>
                  <a:pt x="11" y="77"/>
                </a:lnTo>
                <a:lnTo>
                  <a:pt x="68" y="72"/>
                </a:lnTo>
                <a:lnTo>
                  <a:pt x="134" y="107"/>
                </a:lnTo>
                <a:lnTo>
                  <a:pt x="150" y="219"/>
                </a:lnTo>
                <a:lnTo>
                  <a:pt x="211" y="169"/>
                </a:lnTo>
                <a:lnTo>
                  <a:pt x="196" y="66"/>
                </a:lnTo>
                <a:lnTo>
                  <a:pt x="119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5"/>
          <p:cNvSpPr/>
          <p:nvPr/>
        </p:nvSpPr>
        <p:spPr>
          <a:xfrm>
            <a:off x="6676920" y="2357280"/>
            <a:ext cx="389160" cy="673200"/>
          </a:xfrm>
          <a:custGeom>
            <a:avLst/>
            <a:gdLst>
              <a:gd name="textAreaLeft" fmla="*/ 0 w 389160"/>
              <a:gd name="textAreaRight" fmla="*/ 389520 w 38916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245" h="424">
                <a:moveTo>
                  <a:pt x="0" y="18"/>
                </a:moveTo>
                <a:lnTo>
                  <a:pt x="73" y="77"/>
                </a:lnTo>
                <a:lnTo>
                  <a:pt x="126" y="135"/>
                </a:lnTo>
                <a:lnTo>
                  <a:pt x="137" y="191"/>
                </a:lnTo>
                <a:lnTo>
                  <a:pt x="137" y="287"/>
                </a:lnTo>
                <a:lnTo>
                  <a:pt x="180" y="228"/>
                </a:lnTo>
                <a:lnTo>
                  <a:pt x="165" y="309"/>
                </a:lnTo>
                <a:lnTo>
                  <a:pt x="142" y="424"/>
                </a:lnTo>
                <a:lnTo>
                  <a:pt x="213" y="315"/>
                </a:lnTo>
                <a:lnTo>
                  <a:pt x="245" y="228"/>
                </a:lnTo>
                <a:lnTo>
                  <a:pt x="191" y="92"/>
                </a:lnTo>
                <a:lnTo>
                  <a:pt x="41" y="0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6"/>
          <p:cNvSpPr/>
          <p:nvPr/>
        </p:nvSpPr>
        <p:spPr>
          <a:xfrm>
            <a:off x="6308640" y="4003560"/>
            <a:ext cx="773280" cy="236520"/>
          </a:xfrm>
          <a:custGeom>
            <a:avLst/>
            <a:gdLst>
              <a:gd name="textAreaLeft" fmla="*/ 0 w 773280"/>
              <a:gd name="textAreaRight" fmla="*/ 773640 w 773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87" h="149">
                <a:moveTo>
                  <a:pt x="0" y="149"/>
                </a:moveTo>
                <a:lnTo>
                  <a:pt x="55" y="139"/>
                </a:lnTo>
                <a:lnTo>
                  <a:pt x="109" y="120"/>
                </a:lnTo>
                <a:lnTo>
                  <a:pt x="226" y="69"/>
                </a:lnTo>
                <a:lnTo>
                  <a:pt x="288" y="54"/>
                </a:lnTo>
                <a:lnTo>
                  <a:pt x="371" y="57"/>
                </a:lnTo>
                <a:lnTo>
                  <a:pt x="437" y="80"/>
                </a:lnTo>
                <a:lnTo>
                  <a:pt x="487" y="113"/>
                </a:lnTo>
                <a:lnTo>
                  <a:pt x="475" y="88"/>
                </a:lnTo>
                <a:lnTo>
                  <a:pt x="484" y="59"/>
                </a:lnTo>
                <a:lnTo>
                  <a:pt x="446" y="61"/>
                </a:lnTo>
                <a:lnTo>
                  <a:pt x="419" y="57"/>
                </a:lnTo>
                <a:lnTo>
                  <a:pt x="419" y="33"/>
                </a:lnTo>
                <a:lnTo>
                  <a:pt x="352" y="7"/>
                </a:lnTo>
                <a:lnTo>
                  <a:pt x="288" y="0"/>
                </a:lnTo>
                <a:lnTo>
                  <a:pt x="222" y="5"/>
                </a:lnTo>
                <a:lnTo>
                  <a:pt x="168" y="29"/>
                </a:lnTo>
                <a:lnTo>
                  <a:pt x="76" y="46"/>
                </a:lnTo>
                <a:lnTo>
                  <a:pt x="23" y="92"/>
                </a:lnTo>
                <a:lnTo>
                  <a:pt x="9" y="125"/>
                </a:lnTo>
                <a:lnTo>
                  <a:pt x="0" y="149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7"/>
          <p:cNvSpPr/>
          <p:nvPr/>
        </p:nvSpPr>
        <p:spPr>
          <a:xfrm>
            <a:off x="5145120" y="4273560"/>
            <a:ext cx="600120" cy="223920"/>
          </a:xfrm>
          <a:custGeom>
            <a:avLst/>
            <a:gdLst>
              <a:gd name="textAreaLeft" fmla="*/ 0 w 600120"/>
              <a:gd name="textAreaRight" fmla="*/ 600480 w 6001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378" h="141">
                <a:moveTo>
                  <a:pt x="346" y="52"/>
                </a:moveTo>
                <a:lnTo>
                  <a:pt x="295" y="66"/>
                </a:lnTo>
                <a:lnTo>
                  <a:pt x="212" y="64"/>
                </a:lnTo>
                <a:lnTo>
                  <a:pt x="156" y="64"/>
                </a:lnTo>
                <a:lnTo>
                  <a:pt x="100" y="74"/>
                </a:lnTo>
                <a:lnTo>
                  <a:pt x="32" y="109"/>
                </a:lnTo>
                <a:lnTo>
                  <a:pt x="0" y="141"/>
                </a:lnTo>
                <a:lnTo>
                  <a:pt x="32" y="74"/>
                </a:lnTo>
                <a:lnTo>
                  <a:pt x="97" y="31"/>
                </a:lnTo>
                <a:lnTo>
                  <a:pt x="171" y="23"/>
                </a:lnTo>
                <a:lnTo>
                  <a:pt x="202" y="7"/>
                </a:lnTo>
                <a:lnTo>
                  <a:pt x="292" y="0"/>
                </a:lnTo>
                <a:lnTo>
                  <a:pt x="343" y="10"/>
                </a:lnTo>
                <a:lnTo>
                  <a:pt x="378" y="33"/>
                </a:lnTo>
                <a:lnTo>
                  <a:pt x="346" y="52"/>
                </a:lnTo>
                <a:lnTo>
                  <a:pt x="346" y="52"/>
                </a:lnTo>
                <a:lnTo>
                  <a:pt x="346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8"/>
          <p:cNvSpPr/>
          <p:nvPr/>
        </p:nvSpPr>
        <p:spPr>
          <a:xfrm>
            <a:off x="6165720" y="4254480"/>
            <a:ext cx="481320" cy="1008000"/>
          </a:xfrm>
          <a:custGeom>
            <a:avLst/>
            <a:gdLst>
              <a:gd name="textAreaLeft" fmla="*/ 0 w 481320"/>
              <a:gd name="textAreaRight" fmla="*/ 481680 w 4813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303" h="635">
                <a:moveTo>
                  <a:pt x="281" y="0"/>
                </a:moveTo>
                <a:lnTo>
                  <a:pt x="220" y="35"/>
                </a:lnTo>
                <a:lnTo>
                  <a:pt x="166" y="86"/>
                </a:lnTo>
                <a:lnTo>
                  <a:pt x="145" y="116"/>
                </a:lnTo>
                <a:lnTo>
                  <a:pt x="150" y="155"/>
                </a:lnTo>
                <a:lnTo>
                  <a:pt x="116" y="153"/>
                </a:lnTo>
                <a:lnTo>
                  <a:pt x="118" y="191"/>
                </a:lnTo>
                <a:lnTo>
                  <a:pt x="160" y="317"/>
                </a:lnTo>
                <a:lnTo>
                  <a:pt x="196" y="394"/>
                </a:lnTo>
                <a:lnTo>
                  <a:pt x="260" y="449"/>
                </a:lnTo>
                <a:lnTo>
                  <a:pt x="303" y="512"/>
                </a:lnTo>
                <a:lnTo>
                  <a:pt x="286" y="577"/>
                </a:lnTo>
                <a:lnTo>
                  <a:pt x="236" y="597"/>
                </a:lnTo>
                <a:lnTo>
                  <a:pt x="191" y="593"/>
                </a:lnTo>
                <a:lnTo>
                  <a:pt x="78" y="635"/>
                </a:lnTo>
                <a:lnTo>
                  <a:pt x="0" y="635"/>
                </a:lnTo>
                <a:lnTo>
                  <a:pt x="54" y="617"/>
                </a:lnTo>
                <a:lnTo>
                  <a:pt x="83" y="595"/>
                </a:lnTo>
                <a:lnTo>
                  <a:pt x="104" y="574"/>
                </a:lnTo>
                <a:lnTo>
                  <a:pt x="128" y="566"/>
                </a:lnTo>
                <a:lnTo>
                  <a:pt x="175" y="558"/>
                </a:lnTo>
                <a:lnTo>
                  <a:pt x="241" y="558"/>
                </a:lnTo>
                <a:lnTo>
                  <a:pt x="263" y="531"/>
                </a:lnTo>
                <a:lnTo>
                  <a:pt x="263" y="491"/>
                </a:lnTo>
                <a:lnTo>
                  <a:pt x="241" y="456"/>
                </a:lnTo>
                <a:lnTo>
                  <a:pt x="217" y="440"/>
                </a:lnTo>
                <a:lnTo>
                  <a:pt x="185" y="435"/>
                </a:lnTo>
                <a:lnTo>
                  <a:pt x="124" y="494"/>
                </a:lnTo>
                <a:lnTo>
                  <a:pt x="99" y="437"/>
                </a:lnTo>
                <a:lnTo>
                  <a:pt x="72" y="331"/>
                </a:lnTo>
                <a:lnTo>
                  <a:pt x="64" y="206"/>
                </a:lnTo>
                <a:lnTo>
                  <a:pt x="62" y="155"/>
                </a:lnTo>
                <a:lnTo>
                  <a:pt x="73" y="113"/>
                </a:lnTo>
                <a:lnTo>
                  <a:pt x="99" y="70"/>
                </a:lnTo>
                <a:lnTo>
                  <a:pt x="109" y="92"/>
                </a:lnTo>
                <a:lnTo>
                  <a:pt x="128" y="102"/>
                </a:lnTo>
                <a:lnTo>
                  <a:pt x="153" y="86"/>
                </a:lnTo>
                <a:lnTo>
                  <a:pt x="194" y="40"/>
                </a:lnTo>
                <a:lnTo>
                  <a:pt x="236" y="12"/>
                </a:lnTo>
                <a:lnTo>
                  <a:pt x="281" y="0"/>
                </a:lnTo>
                <a:lnTo>
                  <a:pt x="28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9"/>
          <p:cNvSpPr/>
          <p:nvPr/>
        </p:nvSpPr>
        <p:spPr>
          <a:xfrm>
            <a:off x="6400800" y="4240080"/>
            <a:ext cx="666720" cy="257400"/>
          </a:xfrm>
          <a:custGeom>
            <a:avLst/>
            <a:gdLst>
              <a:gd name="textAreaLeft" fmla="*/ 0 w 666720"/>
              <a:gd name="textAreaRight" fmla="*/ 667080 w 6667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420" h="162">
                <a:moveTo>
                  <a:pt x="0" y="149"/>
                </a:moveTo>
                <a:lnTo>
                  <a:pt x="56" y="92"/>
                </a:lnTo>
                <a:lnTo>
                  <a:pt x="102" y="61"/>
                </a:lnTo>
                <a:lnTo>
                  <a:pt x="157" y="38"/>
                </a:lnTo>
                <a:lnTo>
                  <a:pt x="188" y="33"/>
                </a:lnTo>
                <a:lnTo>
                  <a:pt x="225" y="31"/>
                </a:lnTo>
                <a:lnTo>
                  <a:pt x="195" y="0"/>
                </a:lnTo>
                <a:lnTo>
                  <a:pt x="240" y="0"/>
                </a:lnTo>
                <a:lnTo>
                  <a:pt x="275" y="9"/>
                </a:lnTo>
                <a:lnTo>
                  <a:pt x="315" y="9"/>
                </a:lnTo>
                <a:lnTo>
                  <a:pt x="311" y="28"/>
                </a:lnTo>
                <a:lnTo>
                  <a:pt x="367" y="33"/>
                </a:lnTo>
                <a:lnTo>
                  <a:pt x="393" y="23"/>
                </a:lnTo>
                <a:lnTo>
                  <a:pt x="370" y="54"/>
                </a:lnTo>
                <a:lnTo>
                  <a:pt x="420" y="41"/>
                </a:lnTo>
                <a:lnTo>
                  <a:pt x="398" y="73"/>
                </a:lnTo>
                <a:lnTo>
                  <a:pt x="417" y="101"/>
                </a:lnTo>
                <a:lnTo>
                  <a:pt x="370" y="97"/>
                </a:lnTo>
                <a:lnTo>
                  <a:pt x="346" y="108"/>
                </a:lnTo>
                <a:lnTo>
                  <a:pt x="332" y="135"/>
                </a:lnTo>
                <a:lnTo>
                  <a:pt x="300" y="135"/>
                </a:lnTo>
                <a:lnTo>
                  <a:pt x="259" y="151"/>
                </a:lnTo>
                <a:lnTo>
                  <a:pt x="216" y="162"/>
                </a:lnTo>
                <a:lnTo>
                  <a:pt x="142" y="162"/>
                </a:lnTo>
                <a:lnTo>
                  <a:pt x="249" y="141"/>
                </a:lnTo>
                <a:lnTo>
                  <a:pt x="318" y="103"/>
                </a:lnTo>
                <a:lnTo>
                  <a:pt x="273" y="82"/>
                </a:lnTo>
                <a:lnTo>
                  <a:pt x="230" y="71"/>
                </a:lnTo>
                <a:lnTo>
                  <a:pt x="188" y="68"/>
                </a:lnTo>
                <a:lnTo>
                  <a:pt x="150" y="68"/>
                </a:lnTo>
                <a:lnTo>
                  <a:pt x="112" y="76"/>
                </a:lnTo>
                <a:lnTo>
                  <a:pt x="79" y="92"/>
                </a:lnTo>
                <a:lnTo>
                  <a:pt x="56" y="116"/>
                </a:lnTo>
                <a:lnTo>
                  <a:pt x="39" y="144"/>
                </a:lnTo>
                <a:lnTo>
                  <a:pt x="96" y="162"/>
                </a:lnTo>
                <a:lnTo>
                  <a:pt x="27" y="162"/>
                </a:lnTo>
                <a:lnTo>
                  <a:pt x="0" y="149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40"/>
          <p:cNvSpPr/>
          <p:nvPr/>
        </p:nvSpPr>
        <p:spPr>
          <a:xfrm>
            <a:off x="6647040" y="43480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17"/>
                </a:moveTo>
                <a:lnTo>
                  <a:pt x="16" y="26"/>
                </a:lnTo>
                <a:lnTo>
                  <a:pt x="19" y="38"/>
                </a:lnTo>
                <a:lnTo>
                  <a:pt x="6" y="49"/>
                </a:lnTo>
                <a:lnTo>
                  <a:pt x="27" y="54"/>
                </a:lnTo>
                <a:lnTo>
                  <a:pt x="46" y="49"/>
                </a:lnTo>
                <a:lnTo>
                  <a:pt x="54" y="33"/>
                </a:lnTo>
                <a:lnTo>
                  <a:pt x="49" y="11"/>
                </a:lnTo>
                <a:lnTo>
                  <a:pt x="30" y="0"/>
                </a:lnTo>
                <a:lnTo>
                  <a:pt x="11" y="4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reeform 41"/>
          <p:cNvSpPr/>
          <p:nvPr/>
        </p:nvSpPr>
        <p:spPr>
          <a:xfrm>
            <a:off x="6567480" y="4340160"/>
            <a:ext cx="225360" cy="154080"/>
          </a:xfrm>
          <a:custGeom>
            <a:avLst/>
            <a:gdLst>
              <a:gd name="textAreaLeft" fmla="*/ 0 w 225360"/>
              <a:gd name="textAreaRight" fmla="*/ 225720 w 225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42" h="97">
                <a:moveTo>
                  <a:pt x="31" y="0"/>
                </a:moveTo>
                <a:lnTo>
                  <a:pt x="23" y="50"/>
                </a:lnTo>
                <a:lnTo>
                  <a:pt x="45" y="78"/>
                </a:lnTo>
                <a:lnTo>
                  <a:pt x="61" y="83"/>
                </a:lnTo>
                <a:lnTo>
                  <a:pt x="85" y="83"/>
                </a:lnTo>
                <a:lnTo>
                  <a:pt x="106" y="72"/>
                </a:lnTo>
                <a:lnTo>
                  <a:pt x="123" y="50"/>
                </a:lnTo>
                <a:lnTo>
                  <a:pt x="125" y="27"/>
                </a:lnTo>
                <a:lnTo>
                  <a:pt x="114" y="2"/>
                </a:lnTo>
                <a:lnTo>
                  <a:pt x="135" y="2"/>
                </a:lnTo>
                <a:lnTo>
                  <a:pt x="142" y="29"/>
                </a:lnTo>
                <a:lnTo>
                  <a:pt x="139" y="57"/>
                </a:lnTo>
                <a:lnTo>
                  <a:pt x="123" y="81"/>
                </a:lnTo>
                <a:lnTo>
                  <a:pt x="97" y="93"/>
                </a:lnTo>
                <a:lnTo>
                  <a:pt x="59" y="97"/>
                </a:lnTo>
                <a:lnTo>
                  <a:pt x="31" y="86"/>
                </a:lnTo>
                <a:lnTo>
                  <a:pt x="7" y="50"/>
                </a:lnTo>
                <a:lnTo>
                  <a:pt x="0" y="24"/>
                </a:lnTo>
                <a:lnTo>
                  <a:pt x="0" y="10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42"/>
          <p:cNvSpPr/>
          <p:nvPr/>
        </p:nvSpPr>
        <p:spPr>
          <a:xfrm>
            <a:off x="5952960" y="5208480"/>
            <a:ext cx="179640" cy="42840"/>
          </a:xfrm>
          <a:custGeom>
            <a:avLst/>
            <a:gdLst>
              <a:gd name="textAreaLeft" fmla="*/ 0 w 179640"/>
              <a:gd name="textAreaRight" fmla="*/ 180000 w 179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3" h="27">
                <a:moveTo>
                  <a:pt x="113" y="27"/>
                </a:moveTo>
                <a:lnTo>
                  <a:pt x="49" y="0"/>
                </a:lnTo>
                <a:lnTo>
                  <a:pt x="0" y="13"/>
                </a:lnTo>
                <a:lnTo>
                  <a:pt x="14" y="27"/>
                </a:lnTo>
                <a:lnTo>
                  <a:pt x="73" y="27"/>
                </a:lnTo>
                <a:lnTo>
                  <a:pt x="113" y="27"/>
                </a:lnTo>
                <a:lnTo>
                  <a:pt x="113" y="27"/>
                </a:lnTo>
                <a:lnTo>
                  <a:pt x="113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43"/>
          <p:cNvSpPr/>
          <p:nvPr/>
        </p:nvSpPr>
        <p:spPr>
          <a:xfrm>
            <a:off x="6680160" y="5089680"/>
            <a:ext cx="327240" cy="296640"/>
          </a:xfrm>
          <a:custGeom>
            <a:avLst/>
            <a:gdLst>
              <a:gd name="textAreaLeft" fmla="*/ 0 w 327240"/>
              <a:gd name="textAreaRight" fmla="*/ 327600 w 32724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06" h="187">
                <a:moveTo>
                  <a:pt x="0" y="0"/>
                </a:moveTo>
                <a:lnTo>
                  <a:pt x="57" y="43"/>
                </a:lnTo>
                <a:lnTo>
                  <a:pt x="182" y="107"/>
                </a:lnTo>
                <a:lnTo>
                  <a:pt x="206" y="134"/>
                </a:lnTo>
                <a:lnTo>
                  <a:pt x="206" y="187"/>
                </a:lnTo>
                <a:lnTo>
                  <a:pt x="194" y="142"/>
                </a:lnTo>
                <a:lnTo>
                  <a:pt x="148" y="107"/>
                </a:lnTo>
                <a:lnTo>
                  <a:pt x="52" y="5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44"/>
          <p:cNvSpPr/>
          <p:nvPr/>
        </p:nvSpPr>
        <p:spPr>
          <a:xfrm>
            <a:off x="5859360" y="5381640"/>
            <a:ext cx="1005120" cy="18396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33" h="116">
                <a:moveTo>
                  <a:pt x="0" y="116"/>
                </a:moveTo>
                <a:lnTo>
                  <a:pt x="92" y="102"/>
                </a:lnTo>
                <a:lnTo>
                  <a:pt x="153" y="97"/>
                </a:lnTo>
                <a:lnTo>
                  <a:pt x="271" y="92"/>
                </a:lnTo>
                <a:lnTo>
                  <a:pt x="314" y="83"/>
                </a:lnTo>
                <a:lnTo>
                  <a:pt x="413" y="62"/>
                </a:lnTo>
                <a:lnTo>
                  <a:pt x="498" y="41"/>
                </a:lnTo>
                <a:lnTo>
                  <a:pt x="543" y="36"/>
                </a:lnTo>
                <a:lnTo>
                  <a:pt x="566" y="36"/>
                </a:lnTo>
                <a:lnTo>
                  <a:pt x="566" y="73"/>
                </a:lnTo>
                <a:lnTo>
                  <a:pt x="569" y="95"/>
                </a:lnTo>
                <a:lnTo>
                  <a:pt x="602" y="59"/>
                </a:lnTo>
                <a:lnTo>
                  <a:pt x="602" y="95"/>
                </a:lnTo>
                <a:lnTo>
                  <a:pt x="628" y="47"/>
                </a:lnTo>
                <a:lnTo>
                  <a:pt x="633" y="12"/>
                </a:lnTo>
                <a:lnTo>
                  <a:pt x="614" y="6"/>
                </a:lnTo>
                <a:lnTo>
                  <a:pt x="566" y="0"/>
                </a:lnTo>
                <a:lnTo>
                  <a:pt x="501" y="0"/>
                </a:lnTo>
                <a:lnTo>
                  <a:pt x="410" y="3"/>
                </a:lnTo>
                <a:lnTo>
                  <a:pt x="375" y="12"/>
                </a:lnTo>
                <a:lnTo>
                  <a:pt x="302" y="24"/>
                </a:lnTo>
                <a:lnTo>
                  <a:pt x="266" y="27"/>
                </a:lnTo>
                <a:lnTo>
                  <a:pt x="156" y="41"/>
                </a:lnTo>
                <a:lnTo>
                  <a:pt x="110" y="57"/>
                </a:lnTo>
                <a:lnTo>
                  <a:pt x="177" y="47"/>
                </a:lnTo>
                <a:lnTo>
                  <a:pt x="250" y="41"/>
                </a:lnTo>
                <a:lnTo>
                  <a:pt x="295" y="41"/>
                </a:lnTo>
                <a:lnTo>
                  <a:pt x="346" y="31"/>
                </a:lnTo>
                <a:lnTo>
                  <a:pt x="384" y="24"/>
                </a:lnTo>
                <a:lnTo>
                  <a:pt x="351" y="65"/>
                </a:lnTo>
                <a:lnTo>
                  <a:pt x="300" y="76"/>
                </a:lnTo>
                <a:lnTo>
                  <a:pt x="231" y="83"/>
                </a:lnTo>
                <a:lnTo>
                  <a:pt x="161" y="86"/>
                </a:lnTo>
                <a:lnTo>
                  <a:pt x="118" y="95"/>
                </a:lnTo>
                <a:lnTo>
                  <a:pt x="54" y="100"/>
                </a:lnTo>
                <a:lnTo>
                  <a:pt x="0" y="116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Freeform 45"/>
          <p:cNvSpPr/>
          <p:nvPr/>
        </p:nvSpPr>
        <p:spPr>
          <a:xfrm>
            <a:off x="5788080" y="5562720"/>
            <a:ext cx="144360" cy="101520"/>
          </a:xfrm>
          <a:custGeom>
            <a:avLst/>
            <a:gdLst>
              <a:gd name="textAreaLeft" fmla="*/ 0 w 144360"/>
              <a:gd name="textAreaRight" fmla="*/ 144720 w 144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91" h="64">
                <a:moveTo>
                  <a:pt x="0" y="13"/>
                </a:moveTo>
                <a:lnTo>
                  <a:pt x="54" y="64"/>
                </a:lnTo>
                <a:lnTo>
                  <a:pt x="54" y="40"/>
                </a:lnTo>
                <a:lnTo>
                  <a:pt x="91" y="42"/>
                </a:lnTo>
                <a:lnTo>
                  <a:pt x="56" y="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46"/>
          <p:cNvSpPr/>
          <p:nvPr/>
        </p:nvSpPr>
        <p:spPr>
          <a:xfrm>
            <a:off x="5925960" y="5527800"/>
            <a:ext cx="831960" cy="233280"/>
          </a:xfrm>
          <a:custGeom>
            <a:avLst/>
            <a:gdLst>
              <a:gd name="textAreaLeft" fmla="*/ 0 w 831960"/>
              <a:gd name="textAreaRight" fmla="*/ 832320 w 8319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24" h="147">
                <a:moveTo>
                  <a:pt x="0" y="81"/>
                </a:moveTo>
                <a:lnTo>
                  <a:pt x="66" y="112"/>
                </a:lnTo>
                <a:lnTo>
                  <a:pt x="156" y="129"/>
                </a:lnTo>
                <a:lnTo>
                  <a:pt x="232" y="129"/>
                </a:lnTo>
                <a:lnTo>
                  <a:pt x="319" y="112"/>
                </a:lnTo>
                <a:lnTo>
                  <a:pt x="401" y="86"/>
                </a:lnTo>
                <a:lnTo>
                  <a:pt x="467" y="46"/>
                </a:lnTo>
                <a:lnTo>
                  <a:pt x="524" y="0"/>
                </a:lnTo>
                <a:lnTo>
                  <a:pt x="465" y="59"/>
                </a:lnTo>
                <a:lnTo>
                  <a:pt x="416" y="94"/>
                </a:lnTo>
                <a:lnTo>
                  <a:pt x="336" y="126"/>
                </a:lnTo>
                <a:lnTo>
                  <a:pt x="267" y="142"/>
                </a:lnTo>
                <a:lnTo>
                  <a:pt x="194" y="147"/>
                </a:lnTo>
                <a:lnTo>
                  <a:pt x="121" y="140"/>
                </a:lnTo>
                <a:lnTo>
                  <a:pt x="57" y="121"/>
                </a:lnTo>
                <a:lnTo>
                  <a:pt x="0" y="81"/>
                </a:lnTo>
                <a:lnTo>
                  <a:pt x="0" y="81"/>
                </a:lnTo>
                <a:lnTo>
                  <a:pt x="0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47"/>
          <p:cNvSpPr/>
          <p:nvPr/>
        </p:nvSpPr>
        <p:spPr>
          <a:xfrm>
            <a:off x="5952960" y="5513400"/>
            <a:ext cx="858960" cy="341280"/>
          </a:xfrm>
          <a:custGeom>
            <a:avLst/>
            <a:gdLst>
              <a:gd name="textAreaLeft" fmla="*/ 0 w 858960"/>
              <a:gd name="textAreaRight" fmla="*/ 859320 w 858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41" h="215">
                <a:moveTo>
                  <a:pt x="541" y="14"/>
                </a:moveTo>
                <a:lnTo>
                  <a:pt x="507" y="79"/>
                </a:lnTo>
                <a:lnTo>
                  <a:pt x="453" y="130"/>
                </a:lnTo>
                <a:lnTo>
                  <a:pt x="373" y="177"/>
                </a:lnTo>
                <a:lnTo>
                  <a:pt x="300" y="205"/>
                </a:lnTo>
                <a:lnTo>
                  <a:pt x="224" y="215"/>
                </a:lnTo>
                <a:lnTo>
                  <a:pt x="137" y="208"/>
                </a:lnTo>
                <a:lnTo>
                  <a:pt x="56" y="180"/>
                </a:lnTo>
                <a:lnTo>
                  <a:pt x="0" y="138"/>
                </a:lnTo>
                <a:lnTo>
                  <a:pt x="68" y="175"/>
                </a:lnTo>
                <a:lnTo>
                  <a:pt x="115" y="189"/>
                </a:lnTo>
                <a:lnTo>
                  <a:pt x="188" y="199"/>
                </a:lnTo>
                <a:lnTo>
                  <a:pt x="255" y="196"/>
                </a:lnTo>
                <a:lnTo>
                  <a:pt x="316" y="184"/>
                </a:lnTo>
                <a:lnTo>
                  <a:pt x="359" y="164"/>
                </a:lnTo>
                <a:lnTo>
                  <a:pt x="378" y="151"/>
                </a:lnTo>
                <a:lnTo>
                  <a:pt x="387" y="135"/>
                </a:lnTo>
                <a:lnTo>
                  <a:pt x="370" y="121"/>
                </a:lnTo>
                <a:lnTo>
                  <a:pt x="343" y="118"/>
                </a:lnTo>
                <a:lnTo>
                  <a:pt x="402" y="92"/>
                </a:lnTo>
                <a:lnTo>
                  <a:pt x="453" y="55"/>
                </a:lnTo>
                <a:lnTo>
                  <a:pt x="517" y="0"/>
                </a:lnTo>
                <a:lnTo>
                  <a:pt x="507" y="41"/>
                </a:lnTo>
                <a:lnTo>
                  <a:pt x="541" y="14"/>
                </a:lnTo>
                <a:lnTo>
                  <a:pt x="541" y="14"/>
                </a:lnTo>
                <a:lnTo>
                  <a:pt x="54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48"/>
          <p:cNvSpPr/>
          <p:nvPr/>
        </p:nvSpPr>
        <p:spPr>
          <a:xfrm>
            <a:off x="5603760" y="5135400"/>
            <a:ext cx="244440" cy="520920"/>
          </a:xfrm>
          <a:custGeom>
            <a:avLst/>
            <a:gdLst>
              <a:gd name="textAreaLeft" fmla="*/ 0 w 244440"/>
              <a:gd name="textAreaRight" fmla="*/ 244800 w 244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54" h="328">
                <a:moveTo>
                  <a:pt x="154" y="0"/>
                </a:moveTo>
                <a:lnTo>
                  <a:pt x="130" y="78"/>
                </a:lnTo>
                <a:lnTo>
                  <a:pt x="89" y="149"/>
                </a:lnTo>
                <a:lnTo>
                  <a:pt x="59" y="188"/>
                </a:lnTo>
                <a:lnTo>
                  <a:pt x="40" y="228"/>
                </a:lnTo>
                <a:lnTo>
                  <a:pt x="22" y="287"/>
                </a:lnTo>
                <a:lnTo>
                  <a:pt x="16" y="328"/>
                </a:lnTo>
                <a:lnTo>
                  <a:pt x="0" y="277"/>
                </a:lnTo>
                <a:lnTo>
                  <a:pt x="0" y="236"/>
                </a:lnTo>
                <a:lnTo>
                  <a:pt x="11" y="194"/>
                </a:lnTo>
                <a:lnTo>
                  <a:pt x="44" y="151"/>
                </a:lnTo>
                <a:lnTo>
                  <a:pt x="75" y="118"/>
                </a:lnTo>
                <a:lnTo>
                  <a:pt x="103" y="87"/>
                </a:lnTo>
                <a:lnTo>
                  <a:pt x="123" y="54"/>
                </a:lnTo>
                <a:lnTo>
                  <a:pt x="154" y="0"/>
                </a:lnTo>
                <a:lnTo>
                  <a:pt x="154" y="0"/>
                </a:lnTo>
                <a:lnTo>
                  <a:pt x="1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49"/>
          <p:cNvSpPr/>
          <p:nvPr/>
        </p:nvSpPr>
        <p:spPr>
          <a:xfrm>
            <a:off x="5224320" y="4518000"/>
            <a:ext cx="635040" cy="243000"/>
          </a:xfrm>
          <a:custGeom>
            <a:avLst/>
            <a:gdLst>
              <a:gd name="textAreaLeft" fmla="*/ 0 w 635040"/>
              <a:gd name="textAreaRight" fmla="*/ 635040 w 635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00" h="153">
                <a:moveTo>
                  <a:pt x="336" y="84"/>
                </a:moveTo>
                <a:lnTo>
                  <a:pt x="400" y="62"/>
                </a:lnTo>
                <a:lnTo>
                  <a:pt x="362" y="33"/>
                </a:lnTo>
                <a:lnTo>
                  <a:pt x="288" y="9"/>
                </a:lnTo>
                <a:lnTo>
                  <a:pt x="208" y="0"/>
                </a:lnTo>
                <a:lnTo>
                  <a:pt x="156" y="9"/>
                </a:lnTo>
                <a:lnTo>
                  <a:pt x="159" y="30"/>
                </a:lnTo>
                <a:lnTo>
                  <a:pt x="121" y="35"/>
                </a:lnTo>
                <a:lnTo>
                  <a:pt x="111" y="16"/>
                </a:lnTo>
                <a:lnTo>
                  <a:pt x="59" y="54"/>
                </a:lnTo>
                <a:lnTo>
                  <a:pt x="31" y="84"/>
                </a:lnTo>
                <a:lnTo>
                  <a:pt x="53" y="99"/>
                </a:lnTo>
                <a:lnTo>
                  <a:pt x="36" y="115"/>
                </a:lnTo>
                <a:lnTo>
                  <a:pt x="0" y="134"/>
                </a:lnTo>
                <a:lnTo>
                  <a:pt x="41" y="145"/>
                </a:lnTo>
                <a:lnTo>
                  <a:pt x="69" y="145"/>
                </a:lnTo>
                <a:lnTo>
                  <a:pt x="106" y="137"/>
                </a:lnTo>
                <a:lnTo>
                  <a:pt x="125" y="153"/>
                </a:lnTo>
                <a:lnTo>
                  <a:pt x="149" y="137"/>
                </a:lnTo>
                <a:lnTo>
                  <a:pt x="173" y="143"/>
                </a:lnTo>
                <a:lnTo>
                  <a:pt x="194" y="118"/>
                </a:lnTo>
                <a:lnTo>
                  <a:pt x="140" y="110"/>
                </a:lnTo>
                <a:lnTo>
                  <a:pt x="121" y="94"/>
                </a:lnTo>
                <a:lnTo>
                  <a:pt x="146" y="68"/>
                </a:lnTo>
                <a:lnTo>
                  <a:pt x="178" y="46"/>
                </a:lnTo>
                <a:lnTo>
                  <a:pt x="215" y="35"/>
                </a:lnTo>
                <a:lnTo>
                  <a:pt x="261" y="35"/>
                </a:lnTo>
                <a:lnTo>
                  <a:pt x="309" y="44"/>
                </a:lnTo>
                <a:lnTo>
                  <a:pt x="347" y="51"/>
                </a:lnTo>
                <a:lnTo>
                  <a:pt x="336" y="84"/>
                </a:lnTo>
                <a:lnTo>
                  <a:pt x="336" y="84"/>
                </a:lnTo>
                <a:lnTo>
                  <a:pt x="33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50"/>
          <p:cNvSpPr/>
          <p:nvPr/>
        </p:nvSpPr>
        <p:spPr>
          <a:xfrm>
            <a:off x="5557680" y="4656240"/>
            <a:ext cx="154080" cy="66600"/>
          </a:xfrm>
          <a:custGeom>
            <a:avLst/>
            <a:gdLst>
              <a:gd name="textAreaLeft" fmla="*/ 0 w 154080"/>
              <a:gd name="textAreaRight" fmla="*/ 154440 w 154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7" h="42">
                <a:moveTo>
                  <a:pt x="0" y="26"/>
                </a:moveTo>
                <a:lnTo>
                  <a:pt x="48" y="16"/>
                </a:lnTo>
                <a:lnTo>
                  <a:pt x="97" y="0"/>
                </a:lnTo>
                <a:lnTo>
                  <a:pt x="54" y="31"/>
                </a:lnTo>
                <a:lnTo>
                  <a:pt x="25" y="31"/>
                </a:lnTo>
                <a:lnTo>
                  <a:pt x="0" y="42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51"/>
          <p:cNvSpPr/>
          <p:nvPr/>
        </p:nvSpPr>
        <p:spPr>
          <a:xfrm>
            <a:off x="5353200" y="4476600"/>
            <a:ext cx="382320" cy="111240"/>
          </a:xfrm>
          <a:custGeom>
            <a:avLst/>
            <a:gdLst>
              <a:gd name="textAreaLeft" fmla="*/ 0 w 382320"/>
              <a:gd name="textAreaRight" fmla="*/ 382680 w 382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41" h="70">
                <a:moveTo>
                  <a:pt x="0" y="66"/>
                </a:moveTo>
                <a:lnTo>
                  <a:pt x="59" y="21"/>
                </a:lnTo>
                <a:lnTo>
                  <a:pt x="129" y="0"/>
                </a:lnTo>
                <a:lnTo>
                  <a:pt x="186" y="0"/>
                </a:lnTo>
                <a:lnTo>
                  <a:pt x="241" y="11"/>
                </a:lnTo>
                <a:lnTo>
                  <a:pt x="143" y="11"/>
                </a:lnTo>
                <a:lnTo>
                  <a:pt x="68" y="32"/>
                </a:lnTo>
                <a:lnTo>
                  <a:pt x="25" y="70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52"/>
          <p:cNvSpPr/>
          <p:nvPr/>
        </p:nvSpPr>
        <p:spPr>
          <a:xfrm>
            <a:off x="5570640" y="4578480"/>
            <a:ext cx="73080" cy="63360"/>
          </a:xfrm>
          <a:custGeom>
            <a:avLst/>
            <a:gdLst>
              <a:gd name="textAreaLeft" fmla="*/ 0 w 73080"/>
              <a:gd name="textAreaRight" fmla="*/ 73440 w 730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6" h="40">
                <a:moveTo>
                  <a:pt x="6" y="6"/>
                </a:moveTo>
                <a:lnTo>
                  <a:pt x="19" y="16"/>
                </a:lnTo>
                <a:lnTo>
                  <a:pt x="19" y="30"/>
                </a:lnTo>
                <a:lnTo>
                  <a:pt x="0" y="40"/>
                </a:lnTo>
                <a:lnTo>
                  <a:pt x="24" y="40"/>
                </a:lnTo>
                <a:lnTo>
                  <a:pt x="46" y="27"/>
                </a:lnTo>
                <a:lnTo>
                  <a:pt x="46" y="10"/>
                </a:lnTo>
                <a:lnTo>
                  <a:pt x="30" y="0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53"/>
          <p:cNvSpPr/>
          <p:nvPr/>
        </p:nvSpPr>
        <p:spPr>
          <a:xfrm>
            <a:off x="5477040" y="4557600"/>
            <a:ext cx="225360" cy="135000"/>
          </a:xfrm>
          <a:custGeom>
            <a:avLst/>
            <a:gdLst>
              <a:gd name="textAreaLeft" fmla="*/ 0 w 225360"/>
              <a:gd name="textAreaRight" fmla="*/ 225720 w 2253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42" h="85">
                <a:moveTo>
                  <a:pt x="30" y="8"/>
                </a:moveTo>
                <a:lnTo>
                  <a:pt x="21" y="45"/>
                </a:lnTo>
                <a:lnTo>
                  <a:pt x="40" y="69"/>
                </a:lnTo>
                <a:lnTo>
                  <a:pt x="70" y="78"/>
                </a:lnTo>
                <a:lnTo>
                  <a:pt x="105" y="69"/>
                </a:lnTo>
                <a:lnTo>
                  <a:pt x="127" y="48"/>
                </a:lnTo>
                <a:lnTo>
                  <a:pt x="129" y="26"/>
                </a:lnTo>
                <a:lnTo>
                  <a:pt x="115" y="0"/>
                </a:lnTo>
                <a:lnTo>
                  <a:pt x="142" y="8"/>
                </a:lnTo>
                <a:lnTo>
                  <a:pt x="142" y="37"/>
                </a:lnTo>
                <a:lnTo>
                  <a:pt x="132" y="69"/>
                </a:lnTo>
                <a:lnTo>
                  <a:pt x="99" y="85"/>
                </a:lnTo>
                <a:lnTo>
                  <a:pt x="51" y="85"/>
                </a:lnTo>
                <a:lnTo>
                  <a:pt x="30" y="81"/>
                </a:lnTo>
                <a:lnTo>
                  <a:pt x="14" y="59"/>
                </a:lnTo>
                <a:lnTo>
                  <a:pt x="6" y="37"/>
                </a:lnTo>
                <a:lnTo>
                  <a:pt x="0" y="19"/>
                </a:lnTo>
                <a:lnTo>
                  <a:pt x="30" y="8"/>
                </a:lnTo>
                <a:lnTo>
                  <a:pt x="30" y="8"/>
                </a:lnTo>
                <a:lnTo>
                  <a:pt x="3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54"/>
          <p:cNvSpPr/>
          <p:nvPr/>
        </p:nvSpPr>
        <p:spPr>
          <a:xfrm>
            <a:off x="4925880" y="2562120"/>
            <a:ext cx="1970280" cy="2222640"/>
          </a:xfrm>
          <a:custGeom>
            <a:avLst/>
            <a:gdLst>
              <a:gd name="textAreaLeft" fmla="*/ 0 w 1970280"/>
              <a:gd name="textAreaRight" fmla="*/ 1970640 w 1970280"/>
              <a:gd name="textAreaTop" fmla="*/ 0 h 2222640"/>
              <a:gd name="textAreaBottom" fmla="*/ 2223000 h 2222640"/>
            </a:gdLst>
            <a:ahLst/>
            <a:rect l="textAreaLeft" t="textAreaTop" r="textAreaRight" b="textAreaBottom"/>
            <a:pathLst>
              <a:path w="1241" h="1400">
                <a:moveTo>
                  <a:pt x="791" y="412"/>
                </a:moveTo>
                <a:lnTo>
                  <a:pt x="822" y="354"/>
                </a:lnTo>
                <a:lnTo>
                  <a:pt x="842" y="412"/>
                </a:lnTo>
                <a:lnTo>
                  <a:pt x="893" y="330"/>
                </a:lnTo>
                <a:lnTo>
                  <a:pt x="899" y="418"/>
                </a:lnTo>
                <a:lnTo>
                  <a:pt x="962" y="354"/>
                </a:lnTo>
                <a:lnTo>
                  <a:pt x="968" y="425"/>
                </a:lnTo>
                <a:lnTo>
                  <a:pt x="1032" y="393"/>
                </a:lnTo>
                <a:lnTo>
                  <a:pt x="1063" y="438"/>
                </a:lnTo>
                <a:lnTo>
                  <a:pt x="1139" y="412"/>
                </a:lnTo>
                <a:lnTo>
                  <a:pt x="1189" y="361"/>
                </a:lnTo>
                <a:lnTo>
                  <a:pt x="1222" y="286"/>
                </a:lnTo>
                <a:lnTo>
                  <a:pt x="1241" y="177"/>
                </a:lnTo>
                <a:lnTo>
                  <a:pt x="1189" y="76"/>
                </a:lnTo>
                <a:lnTo>
                  <a:pt x="1101" y="0"/>
                </a:lnTo>
                <a:lnTo>
                  <a:pt x="1145" y="63"/>
                </a:lnTo>
                <a:lnTo>
                  <a:pt x="1170" y="140"/>
                </a:lnTo>
                <a:lnTo>
                  <a:pt x="1170" y="197"/>
                </a:lnTo>
                <a:lnTo>
                  <a:pt x="1114" y="101"/>
                </a:lnTo>
                <a:lnTo>
                  <a:pt x="1032" y="63"/>
                </a:lnTo>
                <a:lnTo>
                  <a:pt x="918" y="51"/>
                </a:lnTo>
                <a:lnTo>
                  <a:pt x="842" y="76"/>
                </a:lnTo>
                <a:lnTo>
                  <a:pt x="747" y="127"/>
                </a:lnTo>
                <a:lnTo>
                  <a:pt x="683" y="152"/>
                </a:lnTo>
                <a:lnTo>
                  <a:pt x="608" y="177"/>
                </a:lnTo>
                <a:lnTo>
                  <a:pt x="481" y="203"/>
                </a:lnTo>
                <a:lnTo>
                  <a:pt x="615" y="215"/>
                </a:lnTo>
                <a:lnTo>
                  <a:pt x="735" y="215"/>
                </a:lnTo>
                <a:lnTo>
                  <a:pt x="829" y="197"/>
                </a:lnTo>
                <a:lnTo>
                  <a:pt x="905" y="159"/>
                </a:lnTo>
                <a:lnTo>
                  <a:pt x="962" y="152"/>
                </a:lnTo>
                <a:lnTo>
                  <a:pt x="1012" y="165"/>
                </a:lnTo>
                <a:lnTo>
                  <a:pt x="1039" y="197"/>
                </a:lnTo>
                <a:lnTo>
                  <a:pt x="1039" y="246"/>
                </a:lnTo>
                <a:lnTo>
                  <a:pt x="981" y="203"/>
                </a:lnTo>
                <a:lnTo>
                  <a:pt x="905" y="197"/>
                </a:lnTo>
                <a:lnTo>
                  <a:pt x="842" y="222"/>
                </a:lnTo>
                <a:lnTo>
                  <a:pt x="753" y="260"/>
                </a:lnTo>
                <a:lnTo>
                  <a:pt x="646" y="292"/>
                </a:lnTo>
                <a:lnTo>
                  <a:pt x="544" y="310"/>
                </a:lnTo>
                <a:lnTo>
                  <a:pt x="437" y="310"/>
                </a:lnTo>
                <a:lnTo>
                  <a:pt x="247" y="286"/>
                </a:lnTo>
                <a:lnTo>
                  <a:pt x="285" y="342"/>
                </a:lnTo>
                <a:lnTo>
                  <a:pt x="215" y="330"/>
                </a:lnTo>
                <a:lnTo>
                  <a:pt x="102" y="280"/>
                </a:lnTo>
                <a:lnTo>
                  <a:pt x="159" y="361"/>
                </a:lnTo>
                <a:lnTo>
                  <a:pt x="221" y="418"/>
                </a:lnTo>
                <a:lnTo>
                  <a:pt x="285" y="444"/>
                </a:lnTo>
                <a:lnTo>
                  <a:pt x="215" y="456"/>
                </a:lnTo>
                <a:lnTo>
                  <a:pt x="121" y="444"/>
                </a:lnTo>
                <a:lnTo>
                  <a:pt x="0" y="406"/>
                </a:lnTo>
                <a:lnTo>
                  <a:pt x="76" y="513"/>
                </a:lnTo>
                <a:lnTo>
                  <a:pt x="152" y="558"/>
                </a:lnTo>
                <a:lnTo>
                  <a:pt x="133" y="640"/>
                </a:lnTo>
                <a:lnTo>
                  <a:pt x="146" y="710"/>
                </a:lnTo>
                <a:lnTo>
                  <a:pt x="159" y="805"/>
                </a:lnTo>
                <a:lnTo>
                  <a:pt x="89" y="893"/>
                </a:lnTo>
                <a:lnTo>
                  <a:pt x="57" y="1001"/>
                </a:lnTo>
                <a:lnTo>
                  <a:pt x="44" y="1090"/>
                </a:lnTo>
                <a:lnTo>
                  <a:pt x="57" y="1165"/>
                </a:lnTo>
                <a:lnTo>
                  <a:pt x="44" y="1279"/>
                </a:lnTo>
                <a:lnTo>
                  <a:pt x="6" y="1400"/>
                </a:lnTo>
                <a:lnTo>
                  <a:pt x="96" y="1311"/>
                </a:lnTo>
                <a:lnTo>
                  <a:pt x="165" y="1191"/>
                </a:lnTo>
                <a:lnTo>
                  <a:pt x="209" y="1070"/>
                </a:lnTo>
                <a:lnTo>
                  <a:pt x="254" y="995"/>
                </a:lnTo>
                <a:lnTo>
                  <a:pt x="267" y="887"/>
                </a:lnTo>
                <a:lnTo>
                  <a:pt x="292" y="785"/>
                </a:lnTo>
                <a:lnTo>
                  <a:pt x="317" y="691"/>
                </a:lnTo>
                <a:lnTo>
                  <a:pt x="373" y="590"/>
                </a:lnTo>
                <a:lnTo>
                  <a:pt x="419" y="551"/>
                </a:lnTo>
                <a:lnTo>
                  <a:pt x="462" y="533"/>
                </a:lnTo>
                <a:lnTo>
                  <a:pt x="525" y="539"/>
                </a:lnTo>
                <a:lnTo>
                  <a:pt x="615" y="513"/>
                </a:lnTo>
                <a:lnTo>
                  <a:pt x="671" y="462"/>
                </a:lnTo>
                <a:lnTo>
                  <a:pt x="753" y="379"/>
                </a:lnTo>
                <a:lnTo>
                  <a:pt x="791" y="412"/>
                </a:lnTo>
                <a:lnTo>
                  <a:pt x="791" y="412"/>
                </a:lnTo>
                <a:lnTo>
                  <a:pt x="791" y="4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55"/>
          <p:cNvSpPr/>
          <p:nvPr/>
        </p:nvSpPr>
        <p:spPr>
          <a:xfrm>
            <a:off x="6703920" y="2754360"/>
            <a:ext cx="2671920" cy="3941640"/>
          </a:xfrm>
          <a:custGeom>
            <a:avLst/>
            <a:gdLst>
              <a:gd name="textAreaLeft" fmla="*/ 0 w 2671920"/>
              <a:gd name="textAreaRight" fmla="*/ 2672280 w 2671920"/>
              <a:gd name="textAreaTop" fmla="*/ 0 h 3941640"/>
              <a:gd name="textAreaBottom" fmla="*/ 3942000 h 3941640"/>
            </a:gdLst>
            <a:ahLst/>
            <a:rect l="textAreaLeft" t="textAreaTop" r="textAreaRight" b="textAreaBottom"/>
            <a:pathLst>
              <a:path w="1683" h="2483">
                <a:moveTo>
                  <a:pt x="0" y="310"/>
                </a:moveTo>
                <a:lnTo>
                  <a:pt x="76" y="285"/>
                </a:lnTo>
                <a:lnTo>
                  <a:pt x="145" y="233"/>
                </a:lnTo>
                <a:lnTo>
                  <a:pt x="221" y="159"/>
                </a:lnTo>
                <a:lnTo>
                  <a:pt x="266" y="82"/>
                </a:lnTo>
                <a:lnTo>
                  <a:pt x="279" y="0"/>
                </a:lnTo>
                <a:lnTo>
                  <a:pt x="298" y="69"/>
                </a:lnTo>
                <a:lnTo>
                  <a:pt x="373" y="56"/>
                </a:lnTo>
                <a:lnTo>
                  <a:pt x="443" y="82"/>
                </a:lnTo>
                <a:lnTo>
                  <a:pt x="506" y="133"/>
                </a:lnTo>
                <a:lnTo>
                  <a:pt x="531" y="209"/>
                </a:lnTo>
                <a:lnTo>
                  <a:pt x="545" y="297"/>
                </a:lnTo>
                <a:lnTo>
                  <a:pt x="564" y="353"/>
                </a:lnTo>
                <a:lnTo>
                  <a:pt x="608" y="392"/>
                </a:lnTo>
                <a:lnTo>
                  <a:pt x="658" y="430"/>
                </a:lnTo>
                <a:lnTo>
                  <a:pt x="791" y="475"/>
                </a:lnTo>
                <a:lnTo>
                  <a:pt x="912" y="481"/>
                </a:lnTo>
                <a:lnTo>
                  <a:pt x="791" y="512"/>
                </a:lnTo>
                <a:lnTo>
                  <a:pt x="886" y="582"/>
                </a:lnTo>
                <a:lnTo>
                  <a:pt x="955" y="658"/>
                </a:lnTo>
                <a:lnTo>
                  <a:pt x="993" y="760"/>
                </a:lnTo>
                <a:lnTo>
                  <a:pt x="937" y="684"/>
                </a:lnTo>
                <a:lnTo>
                  <a:pt x="862" y="620"/>
                </a:lnTo>
                <a:lnTo>
                  <a:pt x="797" y="601"/>
                </a:lnTo>
                <a:lnTo>
                  <a:pt x="848" y="677"/>
                </a:lnTo>
                <a:lnTo>
                  <a:pt x="880" y="753"/>
                </a:lnTo>
                <a:lnTo>
                  <a:pt x="925" y="829"/>
                </a:lnTo>
                <a:lnTo>
                  <a:pt x="987" y="855"/>
                </a:lnTo>
                <a:lnTo>
                  <a:pt x="1051" y="874"/>
                </a:lnTo>
                <a:lnTo>
                  <a:pt x="981" y="905"/>
                </a:lnTo>
                <a:lnTo>
                  <a:pt x="981" y="994"/>
                </a:lnTo>
                <a:lnTo>
                  <a:pt x="937" y="930"/>
                </a:lnTo>
                <a:lnTo>
                  <a:pt x="949" y="1070"/>
                </a:lnTo>
                <a:lnTo>
                  <a:pt x="1007" y="1140"/>
                </a:lnTo>
                <a:lnTo>
                  <a:pt x="1101" y="1209"/>
                </a:lnTo>
                <a:lnTo>
                  <a:pt x="1151" y="1254"/>
                </a:lnTo>
                <a:lnTo>
                  <a:pt x="1196" y="1329"/>
                </a:lnTo>
                <a:lnTo>
                  <a:pt x="1222" y="1394"/>
                </a:lnTo>
                <a:lnTo>
                  <a:pt x="1228" y="1456"/>
                </a:lnTo>
                <a:lnTo>
                  <a:pt x="1222" y="1539"/>
                </a:lnTo>
                <a:lnTo>
                  <a:pt x="1177" y="1614"/>
                </a:lnTo>
                <a:lnTo>
                  <a:pt x="1095" y="1704"/>
                </a:lnTo>
                <a:lnTo>
                  <a:pt x="1202" y="1659"/>
                </a:lnTo>
                <a:lnTo>
                  <a:pt x="1196" y="1760"/>
                </a:lnTo>
                <a:lnTo>
                  <a:pt x="1272" y="1672"/>
                </a:lnTo>
                <a:lnTo>
                  <a:pt x="1297" y="1595"/>
                </a:lnTo>
                <a:lnTo>
                  <a:pt x="1309" y="1520"/>
                </a:lnTo>
                <a:lnTo>
                  <a:pt x="1297" y="1437"/>
                </a:lnTo>
                <a:lnTo>
                  <a:pt x="1278" y="1368"/>
                </a:lnTo>
                <a:lnTo>
                  <a:pt x="1336" y="1444"/>
                </a:lnTo>
                <a:lnTo>
                  <a:pt x="1361" y="1493"/>
                </a:lnTo>
                <a:lnTo>
                  <a:pt x="1380" y="1558"/>
                </a:lnTo>
                <a:lnTo>
                  <a:pt x="1386" y="1627"/>
                </a:lnTo>
                <a:lnTo>
                  <a:pt x="1380" y="1716"/>
                </a:lnTo>
                <a:lnTo>
                  <a:pt x="1442" y="1627"/>
                </a:lnTo>
                <a:lnTo>
                  <a:pt x="1468" y="1527"/>
                </a:lnTo>
                <a:lnTo>
                  <a:pt x="1494" y="1641"/>
                </a:lnTo>
                <a:lnTo>
                  <a:pt x="1474" y="1734"/>
                </a:lnTo>
                <a:lnTo>
                  <a:pt x="1449" y="1811"/>
                </a:lnTo>
                <a:lnTo>
                  <a:pt x="1474" y="1919"/>
                </a:lnTo>
                <a:lnTo>
                  <a:pt x="1461" y="2001"/>
                </a:lnTo>
                <a:lnTo>
                  <a:pt x="1519" y="2052"/>
                </a:lnTo>
                <a:lnTo>
                  <a:pt x="1575" y="2058"/>
                </a:lnTo>
                <a:lnTo>
                  <a:pt x="1652" y="2033"/>
                </a:lnTo>
                <a:lnTo>
                  <a:pt x="1646" y="2109"/>
                </a:lnTo>
                <a:lnTo>
                  <a:pt x="1607" y="2171"/>
                </a:lnTo>
                <a:lnTo>
                  <a:pt x="1563" y="2211"/>
                </a:lnTo>
                <a:lnTo>
                  <a:pt x="1582" y="2273"/>
                </a:lnTo>
                <a:lnTo>
                  <a:pt x="1588" y="2369"/>
                </a:lnTo>
                <a:lnTo>
                  <a:pt x="1665" y="2419"/>
                </a:lnTo>
                <a:lnTo>
                  <a:pt x="1683" y="2483"/>
                </a:lnTo>
                <a:lnTo>
                  <a:pt x="1640" y="2431"/>
                </a:lnTo>
                <a:lnTo>
                  <a:pt x="1544" y="2457"/>
                </a:lnTo>
                <a:lnTo>
                  <a:pt x="1399" y="2457"/>
                </a:lnTo>
                <a:lnTo>
                  <a:pt x="1317" y="2444"/>
                </a:lnTo>
                <a:lnTo>
                  <a:pt x="1184" y="2394"/>
                </a:lnTo>
                <a:lnTo>
                  <a:pt x="1095" y="2312"/>
                </a:lnTo>
                <a:lnTo>
                  <a:pt x="1057" y="2229"/>
                </a:lnTo>
                <a:lnTo>
                  <a:pt x="1051" y="2128"/>
                </a:lnTo>
                <a:lnTo>
                  <a:pt x="1076" y="2001"/>
                </a:lnTo>
                <a:lnTo>
                  <a:pt x="1139" y="1868"/>
                </a:lnTo>
                <a:lnTo>
                  <a:pt x="1051" y="1975"/>
                </a:lnTo>
                <a:lnTo>
                  <a:pt x="1013" y="2065"/>
                </a:lnTo>
                <a:lnTo>
                  <a:pt x="987" y="2153"/>
                </a:lnTo>
                <a:lnTo>
                  <a:pt x="999" y="2254"/>
                </a:lnTo>
                <a:lnTo>
                  <a:pt x="1069" y="2343"/>
                </a:lnTo>
                <a:lnTo>
                  <a:pt x="912" y="2298"/>
                </a:lnTo>
                <a:lnTo>
                  <a:pt x="589" y="2273"/>
                </a:lnTo>
                <a:lnTo>
                  <a:pt x="348" y="2192"/>
                </a:lnTo>
                <a:lnTo>
                  <a:pt x="393" y="2078"/>
                </a:lnTo>
                <a:lnTo>
                  <a:pt x="437" y="1988"/>
                </a:lnTo>
                <a:lnTo>
                  <a:pt x="518" y="1899"/>
                </a:lnTo>
                <a:lnTo>
                  <a:pt x="456" y="2014"/>
                </a:lnTo>
                <a:lnTo>
                  <a:pt x="443" y="2121"/>
                </a:lnTo>
                <a:lnTo>
                  <a:pt x="506" y="2007"/>
                </a:lnTo>
                <a:lnTo>
                  <a:pt x="589" y="1925"/>
                </a:lnTo>
                <a:lnTo>
                  <a:pt x="697" y="1849"/>
                </a:lnTo>
                <a:lnTo>
                  <a:pt x="809" y="1747"/>
                </a:lnTo>
                <a:lnTo>
                  <a:pt x="880" y="1678"/>
                </a:lnTo>
                <a:lnTo>
                  <a:pt x="918" y="1595"/>
                </a:lnTo>
                <a:lnTo>
                  <a:pt x="918" y="1532"/>
                </a:lnTo>
                <a:lnTo>
                  <a:pt x="886" y="1456"/>
                </a:lnTo>
                <a:lnTo>
                  <a:pt x="816" y="1374"/>
                </a:lnTo>
                <a:lnTo>
                  <a:pt x="740" y="1291"/>
                </a:lnTo>
                <a:lnTo>
                  <a:pt x="689" y="1216"/>
                </a:lnTo>
                <a:lnTo>
                  <a:pt x="683" y="1127"/>
                </a:lnTo>
                <a:lnTo>
                  <a:pt x="735" y="1203"/>
                </a:lnTo>
                <a:lnTo>
                  <a:pt x="862" y="1254"/>
                </a:lnTo>
                <a:lnTo>
                  <a:pt x="772" y="1177"/>
                </a:lnTo>
                <a:lnTo>
                  <a:pt x="689" y="1090"/>
                </a:lnTo>
                <a:lnTo>
                  <a:pt x="652" y="988"/>
                </a:lnTo>
                <a:lnTo>
                  <a:pt x="645" y="917"/>
                </a:lnTo>
                <a:lnTo>
                  <a:pt x="677" y="843"/>
                </a:lnTo>
                <a:lnTo>
                  <a:pt x="735" y="760"/>
                </a:lnTo>
                <a:lnTo>
                  <a:pt x="740" y="670"/>
                </a:lnTo>
                <a:lnTo>
                  <a:pt x="703" y="595"/>
                </a:lnTo>
                <a:lnTo>
                  <a:pt x="626" y="531"/>
                </a:lnTo>
                <a:lnTo>
                  <a:pt x="671" y="645"/>
                </a:lnTo>
                <a:lnTo>
                  <a:pt x="677" y="709"/>
                </a:lnTo>
                <a:lnTo>
                  <a:pt x="614" y="620"/>
                </a:lnTo>
                <a:lnTo>
                  <a:pt x="633" y="709"/>
                </a:lnTo>
                <a:lnTo>
                  <a:pt x="601" y="822"/>
                </a:lnTo>
                <a:lnTo>
                  <a:pt x="500" y="969"/>
                </a:lnTo>
                <a:lnTo>
                  <a:pt x="443" y="1115"/>
                </a:lnTo>
                <a:lnTo>
                  <a:pt x="418" y="1248"/>
                </a:lnTo>
                <a:lnTo>
                  <a:pt x="399" y="1050"/>
                </a:lnTo>
                <a:lnTo>
                  <a:pt x="354" y="911"/>
                </a:lnTo>
                <a:lnTo>
                  <a:pt x="177" y="512"/>
                </a:lnTo>
                <a:lnTo>
                  <a:pt x="127" y="418"/>
                </a:lnTo>
                <a:lnTo>
                  <a:pt x="89" y="373"/>
                </a:lnTo>
                <a:lnTo>
                  <a:pt x="44" y="335"/>
                </a:lnTo>
                <a:lnTo>
                  <a:pt x="0" y="310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56"/>
          <p:cNvSpPr/>
          <p:nvPr/>
        </p:nvSpPr>
        <p:spPr>
          <a:xfrm>
            <a:off x="8312040" y="4019400"/>
            <a:ext cx="692280" cy="1006560"/>
          </a:xfrm>
          <a:custGeom>
            <a:avLst/>
            <a:gdLst>
              <a:gd name="textAreaLeft" fmla="*/ 0 w 692280"/>
              <a:gd name="textAreaRight" fmla="*/ 692640 w 69228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36" h="634">
                <a:moveTo>
                  <a:pt x="7" y="0"/>
                </a:moveTo>
                <a:lnTo>
                  <a:pt x="32" y="39"/>
                </a:lnTo>
                <a:lnTo>
                  <a:pt x="94" y="96"/>
                </a:lnTo>
                <a:lnTo>
                  <a:pt x="44" y="120"/>
                </a:lnTo>
                <a:lnTo>
                  <a:pt x="113" y="247"/>
                </a:lnTo>
                <a:lnTo>
                  <a:pt x="209" y="349"/>
                </a:lnTo>
                <a:lnTo>
                  <a:pt x="323" y="451"/>
                </a:lnTo>
                <a:lnTo>
                  <a:pt x="398" y="545"/>
                </a:lnTo>
                <a:lnTo>
                  <a:pt x="436" y="634"/>
                </a:lnTo>
                <a:lnTo>
                  <a:pt x="360" y="526"/>
                </a:lnTo>
                <a:lnTo>
                  <a:pt x="240" y="399"/>
                </a:lnTo>
                <a:lnTo>
                  <a:pt x="100" y="311"/>
                </a:lnTo>
                <a:lnTo>
                  <a:pt x="164" y="412"/>
                </a:lnTo>
                <a:lnTo>
                  <a:pt x="76" y="349"/>
                </a:lnTo>
                <a:lnTo>
                  <a:pt x="19" y="280"/>
                </a:lnTo>
                <a:lnTo>
                  <a:pt x="0" y="184"/>
                </a:lnTo>
                <a:lnTo>
                  <a:pt x="0" y="7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7"/>
          <p:cNvSpPr/>
          <p:nvPr/>
        </p:nvSpPr>
        <p:spPr>
          <a:xfrm>
            <a:off x="6323040" y="4111560"/>
            <a:ext cx="1768320" cy="260352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2603520"/>
              <a:gd name="textAreaBottom" fmla="*/ 2603880 h 2603520"/>
            </a:gdLst>
            <a:ahLst/>
            <a:rect l="textAreaLeft" t="textAreaTop" r="textAreaRight" b="textAreaBottom"/>
            <a:pathLst>
              <a:path w="1114" h="1640">
                <a:moveTo>
                  <a:pt x="689" y="222"/>
                </a:moveTo>
                <a:lnTo>
                  <a:pt x="771" y="120"/>
                </a:lnTo>
                <a:lnTo>
                  <a:pt x="866" y="0"/>
                </a:lnTo>
                <a:lnTo>
                  <a:pt x="841" y="120"/>
                </a:lnTo>
                <a:lnTo>
                  <a:pt x="835" y="202"/>
                </a:lnTo>
                <a:lnTo>
                  <a:pt x="841" y="285"/>
                </a:lnTo>
                <a:lnTo>
                  <a:pt x="873" y="399"/>
                </a:lnTo>
                <a:lnTo>
                  <a:pt x="929" y="468"/>
                </a:lnTo>
                <a:lnTo>
                  <a:pt x="1081" y="589"/>
                </a:lnTo>
                <a:lnTo>
                  <a:pt x="1114" y="638"/>
                </a:lnTo>
                <a:lnTo>
                  <a:pt x="1114" y="715"/>
                </a:lnTo>
                <a:lnTo>
                  <a:pt x="1075" y="798"/>
                </a:lnTo>
                <a:lnTo>
                  <a:pt x="1012" y="886"/>
                </a:lnTo>
                <a:lnTo>
                  <a:pt x="854" y="1000"/>
                </a:lnTo>
                <a:lnTo>
                  <a:pt x="778" y="1050"/>
                </a:lnTo>
                <a:lnTo>
                  <a:pt x="709" y="1140"/>
                </a:lnTo>
                <a:lnTo>
                  <a:pt x="658" y="1229"/>
                </a:lnTo>
                <a:lnTo>
                  <a:pt x="625" y="1349"/>
                </a:lnTo>
                <a:lnTo>
                  <a:pt x="525" y="1329"/>
                </a:lnTo>
                <a:lnTo>
                  <a:pt x="481" y="1418"/>
                </a:lnTo>
                <a:lnTo>
                  <a:pt x="392" y="1507"/>
                </a:lnTo>
                <a:lnTo>
                  <a:pt x="259" y="1589"/>
                </a:lnTo>
                <a:lnTo>
                  <a:pt x="88" y="1640"/>
                </a:lnTo>
                <a:lnTo>
                  <a:pt x="278" y="1551"/>
                </a:lnTo>
                <a:lnTo>
                  <a:pt x="385" y="1470"/>
                </a:lnTo>
                <a:lnTo>
                  <a:pt x="455" y="1387"/>
                </a:lnTo>
                <a:lnTo>
                  <a:pt x="468" y="1316"/>
                </a:lnTo>
                <a:lnTo>
                  <a:pt x="411" y="1298"/>
                </a:lnTo>
                <a:lnTo>
                  <a:pt x="297" y="1368"/>
                </a:lnTo>
                <a:lnTo>
                  <a:pt x="209" y="1406"/>
                </a:lnTo>
                <a:lnTo>
                  <a:pt x="108" y="1424"/>
                </a:lnTo>
                <a:lnTo>
                  <a:pt x="0" y="1412"/>
                </a:lnTo>
                <a:lnTo>
                  <a:pt x="113" y="1412"/>
                </a:lnTo>
                <a:lnTo>
                  <a:pt x="177" y="1393"/>
                </a:lnTo>
                <a:lnTo>
                  <a:pt x="259" y="1356"/>
                </a:lnTo>
                <a:lnTo>
                  <a:pt x="379" y="1266"/>
                </a:lnTo>
                <a:lnTo>
                  <a:pt x="500" y="1140"/>
                </a:lnTo>
                <a:lnTo>
                  <a:pt x="633" y="956"/>
                </a:lnTo>
                <a:lnTo>
                  <a:pt x="683" y="886"/>
                </a:lnTo>
                <a:lnTo>
                  <a:pt x="696" y="810"/>
                </a:lnTo>
                <a:lnTo>
                  <a:pt x="702" y="715"/>
                </a:lnTo>
                <a:lnTo>
                  <a:pt x="727" y="830"/>
                </a:lnTo>
                <a:lnTo>
                  <a:pt x="792" y="830"/>
                </a:lnTo>
                <a:lnTo>
                  <a:pt x="778" y="740"/>
                </a:lnTo>
                <a:lnTo>
                  <a:pt x="848" y="798"/>
                </a:lnTo>
                <a:lnTo>
                  <a:pt x="866" y="728"/>
                </a:lnTo>
                <a:lnTo>
                  <a:pt x="829" y="672"/>
                </a:lnTo>
                <a:lnTo>
                  <a:pt x="797" y="645"/>
                </a:lnTo>
                <a:lnTo>
                  <a:pt x="696" y="652"/>
                </a:lnTo>
                <a:lnTo>
                  <a:pt x="671" y="557"/>
                </a:lnTo>
                <a:lnTo>
                  <a:pt x="658" y="418"/>
                </a:lnTo>
                <a:lnTo>
                  <a:pt x="658" y="272"/>
                </a:lnTo>
                <a:lnTo>
                  <a:pt x="689" y="222"/>
                </a:lnTo>
                <a:lnTo>
                  <a:pt x="689" y="222"/>
                </a:lnTo>
                <a:lnTo>
                  <a:pt x="689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58"/>
          <p:cNvSpPr/>
          <p:nvPr/>
        </p:nvSpPr>
        <p:spPr>
          <a:xfrm>
            <a:off x="4213080" y="2200320"/>
            <a:ext cx="2882880" cy="143820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816" h="906">
                <a:moveTo>
                  <a:pt x="1816" y="254"/>
                </a:moveTo>
                <a:lnTo>
                  <a:pt x="1784" y="145"/>
                </a:lnTo>
                <a:lnTo>
                  <a:pt x="1665" y="76"/>
                </a:lnTo>
                <a:lnTo>
                  <a:pt x="1519" y="63"/>
                </a:lnTo>
                <a:lnTo>
                  <a:pt x="1354" y="6"/>
                </a:lnTo>
                <a:lnTo>
                  <a:pt x="1247" y="0"/>
                </a:lnTo>
                <a:lnTo>
                  <a:pt x="1151" y="6"/>
                </a:lnTo>
                <a:lnTo>
                  <a:pt x="1044" y="50"/>
                </a:lnTo>
                <a:lnTo>
                  <a:pt x="955" y="114"/>
                </a:lnTo>
                <a:lnTo>
                  <a:pt x="822" y="152"/>
                </a:lnTo>
                <a:lnTo>
                  <a:pt x="703" y="184"/>
                </a:lnTo>
                <a:lnTo>
                  <a:pt x="576" y="279"/>
                </a:lnTo>
                <a:lnTo>
                  <a:pt x="525" y="317"/>
                </a:lnTo>
                <a:lnTo>
                  <a:pt x="449" y="329"/>
                </a:lnTo>
                <a:lnTo>
                  <a:pt x="380" y="304"/>
                </a:lnTo>
                <a:lnTo>
                  <a:pt x="418" y="342"/>
                </a:lnTo>
                <a:lnTo>
                  <a:pt x="462" y="368"/>
                </a:lnTo>
                <a:lnTo>
                  <a:pt x="399" y="393"/>
                </a:lnTo>
                <a:lnTo>
                  <a:pt x="310" y="387"/>
                </a:lnTo>
                <a:lnTo>
                  <a:pt x="272" y="342"/>
                </a:lnTo>
                <a:lnTo>
                  <a:pt x="260" y="380"/>
                </a:lnTo>
                <a:lnTo>
                  <a:pt x="279" y="443"/>
                </a:lnTo>
                <a:lnTo>
                  <a:pt x="310" y="482"/>
                </a:lnTo>
                <a:lnTo>
                  <a:pt x="266" y="514"/>
                </a:lnTo>
                <a:lnTo>
                  <a:pt x="202" y="576"/>
                </a:lnTo>
                <a:lnTo>
                  <a:pt x="196" y="684"/>
                </a:lnTo>
                <a:lnTo>
                  <a:pt x="140" y="755"/>
                </a:lnTo>
                <a:lnTo>
                  <a:pt x="70" y="767"/>
                </a:lnTo>
                <a:lnTo>
                  <a:pt x="31" y="678"/>
                </a:lnTo>
                <a:lnTo>
                  <a:pt x="0" y="755"/>
                </a:lnTo>
                <a:lnTo>
                  <a:pt x="25" y="824"/>
                </a:lnTo>
                <a:lnTo>
                  <a:pt x="102" y="868"/>
                </a:lnTo>
                <a:lnTo>
                  <a:pt x="235" y="874"/>
                </a:lnTo>
                <a:lnTo>
                  <a:pt x="317" y="830"/>
                </a:lnTo>
                <a:lnTo>
                  <a:pt x="367" y="906"/>
                </a:lnTo>
                <a:lnTo>
                  <a:pt x="412" y="830"/>
                </a:lnTo>
                <a:lnTo>
                  <a:pt x="360" y="702"/>
                </a:lnTo>
                <a:lnTo>
                  <a:pt x="354" y="576"/>
                </a:lnTo>
                <a:lnTo>
                  <a:pt x="412" y="601"/>
                </a:lnTo>
                <a:lnTo>
                  <a:pt x="367" y="501"/>
                </a:lnTo>
                <a:lnTo>
                  <a:pt x="360" y="443"/>
                </a:lnTo>
                <a:lnTo>
                  <a:pt x="431" y="501"/>
                </a:lnTo>
                <a:lnTo>
                  <a:pt x="487" y="538"/>
                </a:lnTo>
                <a:lnTo>
                  <a:pt x="481" y="437"/>
                </a:lnTo>
                <a:lnTo>
                  <a:pt x="545" y="450"/>
                </a:lnTo>
                <a:lnTo>
                  <a:pt x="690" y="462"/>
                </a:lnTo>
                <a:lnTo>
                  <a:pt x="835" y="437"/>
                </a:lnTo>
                <a:lnTo>
                  <a:pt x="703" y="374"/>
                </a:lnTo>
                <a:lnTo>
                  <a:pt x="835" y="272"/>
                </a:lnTo>
                <a:lnTo>
                  <a:pt x="987" y="247"/>
                </a:lnTo>
                <a:lnTo>
                  <a:pt x="1165" y="272"/>
                </a:lnTo>
                <a:lnTo>
                  <a:pt x="1303" y="260"/>
                </a:lnTo>
                <a:lnTo>
                  <a:pt x="1392" y="222"/>
                </a:lnTo>
                <a:lnTo>
                  <a:pt x="1481" y="208"/>
                </a:lnTo>
                <a:lnTo>
                  <a:pt x="1380" y="184"/>
                </a:lnTo>
                <a:lnTo>
                  <a:pt x="1278" y="196"/>
                </a:lnTo>
                <a:lnTo>
                  <a:pt x="1178" y="190"/>
                </a:lnTo>
                <a:lnTo>
                  <a:pt x="1057" y="145"/>
                </a:lnTo>
                <a:lnTo>
                  <a:pt x="1247" y="145"/>
                </a:lnTo>
                <a:lnTo>
                  <a:pt x="1374" y="133"/>
                </a:lnTo>
                <a:lnTo>
                  <a:pt x="1475" y="145"/>
                </a:lnTo>
                <a:lnTo>
                  <a:pt x="1563" y="184"/>
                </a:lnTo>
                <a:lnTo>
                  <a:pt x="1582" y="133"/>
                </a:lnTo>
                <a:lnTo>
                  <a:pt x="1652" y="164"/>
                </a:lnTo>
                <a:lnTo>
                  <a:pt x="1696" y="234"/>
                </a:lnTo>
                <a:lnTo>
                  <a:pt x="1708" y="304"/>
                </a:lnTo>
                <a:lnTo>
                  <a:pt x="1753" y="272"/>
                </a:lnTo>
                <a:lnTo>
                  <a:pt x="1753" y="342"/>
                </a:lnTo>
                <a:lnTo>
                  <a:pt x="1721" y="462"/>
                </a:lnTo>
                <a:lnTo>
                  <a:pt x="1816" y="342"/>
                </a:lnTo>
                <a:lnTo>
                  <a:pt x="1816" y="254"/>
                </a:lnTo>
                <a:lnTo>
                  <a:pt x="1816" y="254"/>
                </a:lnTo>
                <a:lnTo>
                  <a:pt x="1816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59"/>
          <p:cNvSpPr/>
          <p:nvPr/>
        </p:nvSpPr>
        <p:spPr>
          <a:xfrm>
            <a:off x="3751200" y="3225960"/>
            <a:ext cx="2421000" cy="347004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3470040"/>
              <a:gd name="textAreaBottom" fmla="*/ 3470400 h 3470040"/>
            </a:gdLst>
            <a:ahLst/>
            <a:rect l="textAreaLeft" t="textAreaTop" r="textAreaRight" b="textAreaBottom"/>
            <a:pathLst>
              <a:path w="1525" h="2186">
                <a:moveTo>
                  <a:pt x="709" y="20"/>
                </a:moveTo>
                <a:lnTo>
                  <a:pt x="759" y="140"/>
                </a:lnTo>
                <a:lnTo>
                  <a:pt x="740" y="260"/>
                </a:lnTo>
                <a:lnTo>
                  <a:pt x="678" y="323"/>
                </a:lnTo>
                <a:lnTo>
                  <a:pt x="589" y="373"/>
                </a:lnTo>
                <a:lnTo>
                  <a:pt x="399" y="425"/>
                </a:lnTo>
                <a:lnTo>
                  <a:pt x="539" y="348"/>
                </a:lnTo>
                <a:lnTo>
                  <a:pt x="658" y="273"/>
                </a:lnTo>
                <a:lnTo>
                  <a:pt x="582" y="246"/>
                </a:lnTo>
                <a:lnTo>
                  <a:pt x="512" y="172"/>
                </a:lnTo>
                <a:lnTo>
                  <a:pt x="373" y="184"/>
                </a:lnTo>
                <a:lnTo>
                  <a:pt x="316" y="273"/>
                </a:lnTo>
                <a:lnTo>
                  <a:pt x="291" y="387"/>
                </a:lnTo>
                <a:lnTo>
                  <a:pt x="222" y="412"/>
                </a:lnTo>
                <a:lnTo>
                  <a:pt x="177" y="323"/>
                </a:lnTo>
                <a:lnTo>
                  <a:pt x="126" y="437"/>
                </a:lnTo>
                <a:lnTo>
                  <a:pt x="126" y="500"/>
                </a:lnTo>
                <a:lnTo>
                  <a:pt x="145" y="564"/>
                </a:lnTo>
                <a:lnTo>
                  <a:pt x="120" y="614"/>
                </a:lnTo>
                <a:lnTo>
                  <a:pt x="108" y="684"/>
                </a:lnTo>
                <a:lnTo>
                  <a:pt x="139" y="753"/>
                </a:lnTo>
                <a:lnTo>
                  <a:pt x="120" y="811"/>
                </a:lnTo>
                <a:lnTo>
                  <a:pt x="63" y="836"/>
                </a:lnTo>
                <a:lnTo>
                  <a:pt x="0" y="830"/>
                </a:lnTo>
                <a:lnTo>
                  <a:pt x="19" y="861"/>
                </a:lnTo>
                <a:lnTo>
                  <a:pt x="57" y="887"/>
                </a:lnTo>
                <a:lnTo>
                  <a:pt x="126" y="899"/>
                </a:lnTo>
                <a:lnTo>
                  <a:pt x="108" y="938"/>
                </a:lnTo>
                <a:lnTo>
                  <a:pt x="164" y="976"/>
                </a:lnTo>
                <a:lnTo>
                  <a:pt x="222" y="988"/>
                </a:lnTo>
                <a:lnTo>
                  <a:pt x="298" y="976"/>
                </a:lnTo>
                <a:lnTo>
                  <a:pt x="368" y="944"/>
                </a:lnTo>
                <a:lnTo>
                  <a:pt x="474" y="836"/>
                </a:lnTo>
                <a:lnTo>
                  <a:pt x="532" y="741"/>
                </a:lnTo>
                <a:lnTo>
                  <a:pt x="493" y="880"/>
                </a:lnTo>
                <a:lnTo>
                  <a:pt x="431" y="963"/>
                </a:lnTo>
                <a:lnTo>
                  <a:pt x="335" y="1026"/>
                </a:lnTo>
                <a:lnTo>
                  <a:pt x="278" y="1032"/>
                </a:lnTo>
                <a:lnTo>
                  <a:pt x="208" y="1026"/>
                </a:lnTo>
                <a:lnTo>
                  <a:pt x="139" y="1071"/>
                </a:lnTo>
                <a:lnTo>
                  <a:pt x="102" y="1172"/>
                </a:lnTo>
                <a:lnTo>
                  <a:pt x="114" y="1223"/>
                </a:lnTo>
                <a:lnTo>
                  <a:pt x="83" y="1304"/>
                </a:lnTo>
                <a:lnTo>
                  <a:pt x="96" y="1388"/>
                </a:lnTo>
                <a:lnTo>
                  <a:pt x="177" y="1496"/>
                </a:lnTo>
                <a:lnTo>
                  <a:pt x="183" y="1407"/>
                </a:lnTo>
                <a:lnTo>
                  <a:pt x="247" y="1350"/>
                </a:lnTo>
                <a:lnTo>
                  <a:pt x="247" y="1431"/>
                </a:lnTo>
                <a:lnTo>
                  <a:pt x="361" y="1344"/>
                </a:lnTo>
                <a:lnTo>
                  <a:pt x="418" y="1242"/>
                </a:lnTo>
                <a:lnTo>
                  <a:pt x="443" y="1103"/>
                </a:lnTo>
                <a:lnTo>
                  <a:pt x="481" y="1242"/>
                </a:lnTo>
                <a:lnTo>
                  <a:pt x="551" y="1362"/>
                </a:lnTo>
                <a:lnTo>
                  <a:pt x="703" y="1444"/>
                </a:lnTo>
                <a:lnTo>
                  <a:pt x="791" y="1496"/>
                </a:lnTo>
                <a:lnTo>
                  <a:pt x="842" y="1552"/>
                </a:lnTo>
                <a:lnTo>
                  <a:pt x="842" y="1654"/>
                </a:lnTo>
                <a:lnTo>
                  <a:pt x="778" y="1781"/>
                </a:lnTo>
                <a:lnTo>
                  <a:pt x="753" y="1844"/>
                </a:lnTo>
                <a:lnTo>
                  <a:pt x="740" y="1919"/>
                </a:lnTo>
                <a:lnTo>
                  <a:pt x="746" y="1988"/>
                </a:lnTo>
                <a:lnTo>
                  <a:pt x="809" y="2072"/>
                </a:lnTo>
                <a:lnTo>
                  <a:pt x="595" y="2166"/>
                </a:lnTo>
                <a:lnTo>
                  <a:pt x="873" y="2084"/>
                </a:lnTo>
                <a:lnTo>
                  <a:pt x="1063" y="1982"/>
                </a:lnTo>
                <a:lnTo>
                  <a:pt x="1107" y="2046"/>
                </a:lnTo>
                <a:lnTo>
                  <a:pt x="1215" y="2122"/>
                </a:lnTo>
                <a:lnTo>
                  <a:pt x="1310" y="2154"/>
                </a:lnTo>
                <a:lnTo>
                  <a:pt x="1355" y="2186"/>
                </a:lnTo>
                <a:lnTo>
                  <a:pt x="1513" y="2186"/>
                </a:lnTo>
                <a:lnTo>
                  <a:pt x="1469" y="2059"/>
                </a:lnTo>
                <a:lnTo>
                  <a:pt x="1429" y="1976"/>
                </a:lnTo>
                <a:lnTo>
                  <a:pt x="1525" y="1964"/>
                </a:lnTo>
                <a:lnTo>
                  <a:pt x="1398" y="1939"/>
                </a:lnTo>
                <a:lnTo>
                  <a:pt x="1177" y="1781"/>
                </a:lnTo>
                <a:lnTo>
                  <a:pt x="1076" y="1678"/>
                </a:lnTo>
                <a:lnTo>
                  <a:pt x="1013" y="1590"/>
                </a:lnTo>
                <a:lnTo>
                  <a:pt x="981" y="1527"/>
                </a:lnTo>
                <a:lnTo>
                  <a:pt x="905" y="1324"/>
                </a:lnTo>
                <a:lnTo>
                  <a:pt x="861" y="1140"/>
                </a:lnTo>
                <a:lnTo>
                  <a:pt x="867" y="988"/>
                </a:lnTo>
                <a:lnTo>
                  <a:pt x="867" y="793"/>
                </a:lnTo>
                <a:lnTo>
                  <a:pt x="766" y="924"/>
                </a:lnTo>
                <a:lnTo>
                  <a:pt x="772" y="811"/>
                </a:lnTo>
                <a:lnTo>
                  <a:pt x="753" y="704"/>
                </a:lnTo>
                <a:lnTo>
                  <a:pt x="740" y="614"/>
                </a:lnTo>
                <a:lnTo>
                  <a:pt x="753" y="506"/>
                </a:lnTo>
                <a:lnTo>
                  <a:pt x="778" y="419"/>
                </a:lnTo>
                <a:lnTo>
                  <a:pt x="849" y="355"/>
                </a:lnTo>
                <a:lnTo>
                  <a:pt x="809" y="279"/>
                </a:lnTo>
                <a:lnTo>
                  <a:pt x="803" y="215"/>
                </a:lnTo>
                <a:lnTo>
                  <a:pt x="816" y="152"/>
                </a:lnTo>
                <a:lnTo>
                  <a:pt x="867" y="89"/>
                </a:lnTo>
                <a:lnTo>
                  <a:pt x="753" y="0"/>
                </a:lnTo>
                <a:lnTo>
                  <a:pt x="709" y="20"/>
                </a:lnTo>
                <a:lnTo>
                  <a:pt x="709" y="20"/>
                </a:lnTo>
                <a:lnTo>
                  <a:pt x="709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60"/>
          <p:cNvSpPr/>
          <p:nvPr/>
        </p:nvSpPr>
        <p:spPr>
          <a:xfrm>
            <a:off x="3803760" y="4976640"/>
            <a:ext cx="1203120" cy="171000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710000"/>
              <a:gd name="textAreaBottom" fmla="*/ 1710360 h 1710000"/>
            </a:gdLst>
            <a:ahLst/>
            <a:rect l="textAreaLeft" t="textAreaTop" r="textAreaRight" b="textAreaBottom"/>
            <a:pathLst>
              <a:path w="758" h="1077">
                <a:moveTo>
                  <a:pt x="423" y="0"/>
                </a:moveTo>
                <a:lnTo>
                  <a:pt x="423" y="177"/>
                </a:lnTo>
                <a:lnTo>
                  <a:pt x="353" y="310"/>
                </a:lnTo>
                <a:lnTo>
                  <a:pt x="227" y="411"/>
                </a:lnTo>
                <a:lnTo>
                  <a:pt x="183" y="360"/>
                </a:lnTo>
                <a:lnTo>
                  <a:pt x="138" y="462"/>
                </a:lnTo>
                <a:lnTo>
                  <a:pt x="106" y="545"/>
                </a:lnTo>
                <a:lnTo>
                  <a:pt x="50" y="601"/>
                </a:lnTo>
                <a:lnTo>
                  <a:pt x="6" y="671"/>
                </a:lnTo>
                <a:lnTo>
                  <a:pt x="0" y="721"/>
                </a:lnTo>
                <a:lnTo>
                  <a:pt x="12" y="771"/>
                </a:lnTo>
                <a:lnTo>
                  <a:pt x="56" y="836"/>
                </a:lnTo>
                <a:lnTo>
                  <a:pt x="106" y="879"/>
                </a:lnTo>
                <a:lnTo>
                  <a:pt x="93" y="823"/>
                </a:lnTo>
                <a:lnTo>
                  <a:pt x="106" y="771"/>
                </a:lnTo>
                <a:lnTo>
                  <a:pt x="150" y="753"/>
                </a:lnTo>
                <a:lnTo>
                  <a:pt x="214" y="741"/>
                </a:lnTo>
                <a:lnTo>
                  <a:pt x="258" y="715"/>
                </a:lnTo>
                <a:lnTo>
                  <a:pt x="308" y="678"/>
                </a:lnTo>
                <a:lnTo>
                  <a:pt x="277" y="753"/>
                </a:lnTo>
                <a:lnTo>
                  <a:pt x="220" y="804"/>
                </a:lnTo>
                <a:lnTo>
                  <a:pt x="175" y="854"/>
                </a:lnTo>
                <a:lnTo>
                  <a:pt x="169" y="919"/>
                </a:lnTo>
                <a:lnTo>
                  <a:pt x="87" y="988"/>
                </a:lnTo>
                <a:lnTo>
                  <a:pt x="50" y="1038"/>
                </a:lnTo>
                <a:lnTo>
                  <a:pt x="30" y="1077"/>
                </a:lnTo>
                <a:lnTo>
                  <a:pt x="518" y="1077"/>
                </a:lnTo>
                <a:lnTo>
                  <a:pt x="625" y="1051"/>
                </a:lnTo>
                <a:lnTo>
                  <a:pt x="670" y="1012"/>
                </a:lnTo>
                <a:lnTo>
                  <a:pt x="631" y="981"/>
                </a:lnTo>
                <a:lnTo>
                  <a:pt x="606" y="919"/>
                </a:lnTo>
                <a:lnTo>
                  <a:pt x="618" y="816"/>
                </a:lnTo>
                <a:lnTo>
                  <a:pt x="657" y="885"/>
                </a:lnTo>
                <a:lnTo>
                  <a:pt x="657" y="792"/>
                </a:lnTo>
                <a:lnTo>
                  <a:pt x="695" y="715"/>
                </a:lnTo>
                <a:lnTo>
                  <a:pt x="758" y="588"/>
                </a:lnTo>
                <a:lnTo>
                  <a:pt x="758" y="499"/>
                </a:lnTo>
                <a:lnTo>
                  <a:pt x="726" y="405"/>
                </a:lnTo>
                <a:lnTo>
                  <a:pt x="670" y="316"/>
                </a:lnTo>
                <a:lnTo>
                  <a:pt x="512" y="235"/>
                </a:lnTo>
                <a:lnTo>
                  <a:pt x="543" y="354"/>
                </a:lnTo>
                <a:lnTo>
                  <a:pt x="556" y="417"/>
                </a:lnTo>
                <a:lnTo>
                  <a:pt x="530" y="499"/>
                </a:lnTo>
                <a:lnTo>
                  <a:pt x="479" y="601"/>
                </a:lnTo>
                <a:lnTo>
                  <a:pt x="460" y="728"/>
                </a:lnTo>
                <a:lnTo>
                  <a:pt x="429" y="620"/>
                </a:lnTo>
                <a:lnTo>
                  <a:pt x="429" y="532"/>
                </a:lnTo>
                <a:lnTo>
                  <a:pt x="479" y="393"/>
                </a:lnTo>
                <a:lnTo>
                  <a:pt x="479" y="241"/>
                </a:lnTo>
                <a:lnTo>
                  <a:pt x="466" y="114"/>
                </a:lnTo>
                <a:lnTo>
                  <a:pt x="423" y="0"/>
                </a:lnTo>
                <a:lnTo>
                  <a:pt x="423" y="0"/>
                </a:lnTo>
                <a:lnTo>
                  <a:pt x="4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Freeform 61"/>
          <p:cNvSpPr/>
          <p:nvPr/>
        </p:nvSpPr>
        <p:spPr>
          <a:xfrm>
            <a:off x="3743280" y="4684680"/>
            <a:ext cx="258840" cy="1406520"/>
          </a:xfrm>
          <a:custGeom>
            <a:avLst/>
            <a:gdLst>
              <a:gd name="textAreaLeft" fmla="*/ 0 w 258840"/>
              <a:gd name="textAreaRight" fmla="*/ 259200 w 258840"/>
              <a:gd name="textAreaTop" fmla="*/ 0 h 1406520"/>
              <a:gd name="textAreaBottom" fmla="*/ 1406520 h 1406520"/>
            </a:gdLst>
            <a:ahLst/>
            <a:rect l="textAreaLeft" t="textAreaTop" r="textAreaRight" b="textAreaBottom"/>
            <a:pathLst>
              <a:path w="163" h="886">
                <a:moveTo>
                  <a:pt x="68" y="0"/>
                </a:moveTo>
                <a:lnTo>
                  <a:pt x="81" y="51"/>
                </a:lnTo>
                <a:lnTo>
                  <a:pt x="163" y="107"/>
                </a:lnTo>
                <a:lnTo>
                  <a:pt x="101" y="132"/>
                </a:lnTo>
                <a:lnTo>
                  <a:pt x="68" y="221"/>
                </a:lnTo>
                <a:lnTo>
                  <a:pt x="56" y="311"/>
                </a:lnTo>
                <a:lnTo>
                  <a:pt x="44" y="392"/>
                </a:lnTo>
                <a:lnTo>
                  <a:pt x="56" y="456"/>
                </a:lnTo>
                <a:lnTo>
                  <a:pt x="94" y="557"/>
                </a:lnTo>
                <a:lnTo>
                  <a:pt x="150" y="608"/>
                </a:lnTo>
                <a:lnTo>
                  <a:pt x="101" y="709"/>
                </a:lnTo>
                <a:lnTo>
                  <a:pt x="44" y="810"/>
                </a:lnTo>
                <a:lnTo>
                  <a:pt x="17" y="886"/>
                </a:lnTo>
                <a:lnTo>
                  <a:pt x="17" y="785"/>
                </a:lnTo>
                <a:lnTo>
                  <a:pt x="50" y="709"/>
                </a:lnTo>
                <a:lnTo>
                  <a:pt x="5" y="570"/>
                </a:lnTo>
                <a:lnTo>
                  <a:pt x="0" y="419"/>
                </a:lnTo>
                <a:lnTo>
                  <a:pt x="0" y="291"/>
                </a:lnTo>
                <a:lnTo>
                  <a:pt x="50" y="152"/>
                </a:lnTo>
                <a:lnTo>
                  <a:pt x="75" y="101"/>
                </a:lnTo>
                <a:lnTo>
                  <a:pt x="56" y="51"/>
                </a:lnTo>
                <a:lnTo>
                  <a:pt x="68" y="0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62"/>
          <p:cNvSpPr/>
          <p:nvPr/>
        </p:nvSpPr>
        <p:spPr>
          <a:xfrm>
            <a:off x="3770280" y="6272280"/>
            <a:ext cx="201600" cy="372960"/>
          </a:xfrm>
          <a:custGeom>
            <a:avLst/>
            <a:gdLst>
              <a:gd name="textAreaLeft" fmla="*/ 0 w 201600"/>
              <a:gd name="textAreaRight" fmla="*/ 201960 w 2016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27" h="235">
                <a:moveTo>
                  <a:pt x="14" y="0"/>
                </a:moveTo>
                <a:lnTo>
                  <a:pt x="45" y="63"/>
                </a:lnTo>
                <a:lnTo>
                  <a:pt x="127" y="115"/>
                </a:lnTo>
                <a:lnTo>
                  <a:pt x="51" y="235"/>
                </a:lnTo>
                <a:lnTo>
                  <a:pt x="27" y="172"/>
                </a:lnTo>
                <a:lnTo>
                  <a:pt x="0" y="69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reeform 63"/>
          <p:cNvSpPr/>
          <p:nvPr/>
        </p:nvSpPr>
        <p:spPr>
          <a:xfrm>
            <a:off x="5529240" y="4586400"/>
            <a:ext cx="55440" cy="42840"/>
          </a:xfrm>
          <a:custGeom>
            <a:avLst/>
            <a:gdLst>
              <a:gd name="textAreaLeft" fmla="*/ 0 w 55440"/>
              <a:gd name="textAreaRight" fmla="*/ 55800 w 554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5" h="27">
                <a:moveTo>
                  <a:pt x="6" y="4"/>
                </a:moveTo>
                <a:lnTo>
                  <a:pt x="25" y="0"/>
                </a:lnTo>
                <a:lnTo>
                  <a:pt x="35" y="11"/>
                </a:lnTo>
                <a:lnTo>
                  <a:pt x="30" y="27"/>
                </a:lnTo>
                <a:lnTo>
                  <a:pt x="8" y="27"/>
                </a:lnTo>
                <a:lnTo>
                  <a:pt x="0" y="18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reeform 64"/>
          <p:cNvSpPr/>
          <p:nvPr/>
        </p:nvSpPr>
        <p:spPr>
          <a:xfrm>
            <a:off x="6613560" y="4376880"/>
            <a:ext cx="50760" cy="44280"/>
          </a:xfrm>
          <a:custGeom>
            <a:avLst/>
            <a:gdLst>
              <a:gd name="textAreaLeft" fmla="*/ 0 w 50760"/>
              <a:gd name="textAreaRight" fmla="*/ 51120 w 507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32" h="28">
                <a:moveTo>
                  <a:pt x="0" y="24"/>
                </a:moveTo>
                <a:lnTo>
                  <a:pt x="3" y="4"/>
                </a:lnTo>
                <a:lnTo>
                  <a:pt x="14" y="0"/>
                </a:lnTo>
                <a:lnTo>
                  <a:pt x="27" y="6"/>
                </a:lnTo>
                <a:lnTo>
                  <a:pt x="32" y="16"/>
                </a:lnTo>
                <a:lnTo>
                  <a:pt x="32" y="24"/>
                </a:lnTo>
                <a:lnTo>
                  <a:pt x="21" y="28"/>
                </a:lnTo>
                <a:lnTo>
                  <a:pt x="10" y="27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Freeform 65"/>
          <p:cNvSpPr/>
          <p:nvPr/>
        </p:nvSpPr>
        <p:spPr>
          <a:xfrm>
            <a:off x="5568840" y="3348000"/>
            <a:ext cx="1101960" cy="881280"/>
          </a:xfrm>
          <a:custGeom>
            <a:avLst/>
            <a:gdLst>
              <a:gd name="textAreaLeft" fmla="*/ 0 w 1101960"/>
              <a:gd name="textAreaRight" fmla="*/ 1102320 w 110196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694" h="555">
                <a:moveTo>
                  <a:pt x="130" y="541"/>
                </a:moveTo>
                <a:lnTo>
                  <a:pt x="32" y="507"/>
                </a:lnTo>
                <a:lnTo>
                  <a:pt x="0" y="452"/>
                </a:lnTo>
                <a:lnTo>
                  <a:pt x="0" y="376"/>
                </a:lnTo>
                <a:lnTo>
                  <a:pt x="47" y="265"/>
                </a:lnTo>
                <a:lnTo>
                  <a:pt x="125" y="135"/>
                </a:lnTo>
                <a:lnTo>
                  <a:pt x="234" y="56"/>
                </a:lnTo>
                <a:lnTo>
                  <a:pt x="332" y="4"/>
                </a:lnTo>
                <a:lnTo>
                  <a:pt x="448" y="0"/>
                </a:lnTo>
                <a:lnTo>
                  <a:pt x="507" y="19"/>
                </a:lnTo>
                <a:lnTo>
                  <a:pt x="605" y="75"/>
                </a:lnTo>
                <a:lnTo>
                  <a:pt x="652" y="149"/>
                </a:lnTo>
                <a:lnTo>
                  <a:pt x="694" y="247"/>
                </a:lnTo>
                <a:lnTo>
                  <a:pt x="694" y="317"/>
                </a:lnTo>
                <a:lnTo>
                  <a:pt x="670" y="383"/>
                </a:lnTo>
                <a:lnTo>
                  <a:pt x="602" y="428"/>
                </a:lnTo>
                <a:lnTo>
                  <a:pt x="522" y="433"/>
                </a:lnTo>
                <a:lnTo>
                  <a:pt x="441" y="481"/>
                </a:lnTo>
                <a:lnTo>
                  <a:pt x="368" y="531"/>
                </a:lnTo>
                <a:lnTo>
                  <a:pt x="261" y="555"/>
                </a:lnTo>
                <a:lnTo>
                  <a:pt x="130" y="541"/>
                </a:lnTo>
                <a:lnTo>
                  <a:pt x="130" y="541"/>
                </a:lnTo>
                <a:lnTo>
                  <a:pt x="130" y="541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66"/>
          <p:cNvSpPr/>
          <p:nvPr/>
        </p:nvSpPr>
        <p:spPr>
          <a:xfrm>
            <a:off x="6006960" y="4506840"/>
            <a:ext cx="206640" cy="601560"/>
          </a:xfrm>
          <a:custGeom>
            <a:avLst/>
            <a:gdLst>
              <a:gd name="textAreaLeft" fmla="*/ 0 w 206640"/>
              <a:gd name="textAreaRight" fmla="*/ 207000 w 2066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30" h="379">
                <a:moveTo>
                  <a:pt x="17" y="0"/>
                </a:moveTo>
                <a:lnTo>
                  <a:pt x="0" y="77"/>
                </a:lnTo>
                <a:lnTo>
                  <a:pt x="23" y="142"/>
                </a:lnTo>
                <a:lnTo>
                  <a:pt x="41" y="217"/>
                </a:lnTo>
                <a:lnTo>
                  <a:pt x="35" y="299"/>
                </a:lnTo>
                <a:lnTo>
                  <a:pt x="50" y="360"/>
                </a:lnTo>
                <a:lnTo>
                  <a:pt x="80" y="379"/>
                </a:lnTo>
                <a:lnTo>
                  <a:pt x="113" y="379"/>
                </a:lnTo>
                <a:lnTo>
                  <a:pt x="130" y="332"/>
                </a:lnTo>
                <a:lnTo>
                  <a:pt x="106" y="264"/>
                </a:lnTo>
                <a:lnTo>
                  <a:pt x="74" y="177"/>
                </a:lnTo>
                <a:lnTo>
                  <a:pt x="74" y="99"/>
                </a:lnTo>
                <a:lnTo>
                  <a:pt x="59" y="16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Freeform 67"/>
          <p:cNvSpPr/>
          <p:nvPr/>
        </p:nvSpPr>
        <p:spPr>
          <a:xfrm>
            <a:off x="5959440" y="5072040"/>
            <a:ext cx="112680" cy="74520"/>
          </a:xfrm>
          <a:custGeom>
            <a:avLst/>
            <a:gdLst>
              <a:gd name="textAreaLeft" fmla="*/ 0 w 112680"/>
              <a:gd name="textAreaRight" fmla="*/ 113040 w 1126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71" h="47">
                <a:moveTo>
                  <a:pt x="0" y="39"/>
                </a:moveTo>
                <a:lnTo>
                  <a:pt x="6" y="9"/>
                </a:lnTo>
                <a:lnTo>
                  <a:pt x="38" y="0"/>
                </a:lnTo>
                <a:lnTo>
                  <a:pt x="71" y="39"/>
                </a:lnTo>
                <a:lnTo>
                  <a:pt x="38" y="47"/>
                </a:lnTo>
                <a:lnTo>
                  <a:pt x="0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reeform 68"/>
          <p:cNvSpPr/>
          <p:nvPr/>
        </p:nvSpPr>
        <p:spPr>
          <a:xfrm>
            <a:off x="5221440" y="4761000"/>
            <a:ext cx="644400" cy="527040"/>
          </a:xfrm>
          <a:custGeom>
            <a:avLst/>
            <a:gdLst>
              <a:gd name="textAreaLeft" fmla="*/ 0 w 644400"/>
              <a:gd name="textAreaRight" fmla="*/ 644760 w 6444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06" h="332">
                <a:moveTo>
                  <a:pt x="0" y="128"/>
                </a:moveTo>
                <a:lnTo>
                  <a:pt x="20" y="89"/>
                </a:lnTo>
                <a:lnTo>
                  <a:pt x="48" y="65"/>
                </a:lnTo>
                <a:lnTo>
                  <a:pt x="112" y="48"/>
                </a:lnTo>
                <a:lnTo>
                  <a:pt x="178" y="48"/>
                </a:lnTo>
                <a:lnTo>
                  <a:pt x="275" y="41"/>
                </a:lnTo>
                <a:lnTo>
                  <a:pt x="347" y="15"/>
                </a:lnTo>
                <a:lnTo>
                  <a:pt x="406" y="0"/>
                </a:lnTo>
                <a:lnTo>
                  <a:pt x="391" y="86"/>
                </a:lnTo>
                <a:lnTo>
                  <a:pt x="358" y="160"/>
                </a:lnTo>
                <a:lnTo>
                  <a:pt x="299" y="235"/>
                </a:lnTo>
                <a:lnTo>
                  <a:pt x="219" y="282"/>
                </a:lnTo>
                <a:lnTo>
                  <a:pt x="172" y="324"/>
                </a:lnTo>
                <a:lnTo>
                  <a:pt x="119" y="332"/>
                </a:lnTo>
                <a:lnTo>
                  <a:pt x="65" y="300"/>
                </a:lnTo>
                <a:lnTo>
                  <a:pt x="24" y="253"/>
                </a:lnTo>
                <a:lnTo>
                  <a:pt x="6" y="187"/>
                </a:lnTo>
                <a:lnTo>
                  <a:pt x="0" y="128"/>
                </a:lnTo>
                <a:lnTo>
                  <a:pt x="0" y="128"/>
                </a:lnTo>
                <a:lnTo>
                  <a:pt x="0" y="128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69"/>
          <p:cNvSpPr/>
          <p:nvPr/>
        </p:nvSpPr>
        <p:spPr>
          <a:xfrm>
            <a:off x="6515280" y="4514760"/>
            <a:ext cx="653760" cy="514440"/>
          </a:xfrm>
          <a:custGeom>
            <a:avLst/>
            <a:gdLst/>
            <a:ahLst/>
            <a:rect l="l" t="t" r="r" b="b"/>
            <a:pathLst>
              <a:path w="412" h="324">
                <a:moveTo>
                  <a:pt x="6" y="66"/>
                </a:moveTo>
                <a:lnTo>
                  <a:pt x="94" y="72"/>
                </a:lnTo>
                <a:lnTo>
                  <a:pt x="168" y="66"/>
                </a:lnTo>
                <a:lnTo>
                  <a:pt x="248" y="40"/>
                </a:lnTo>
                <a:lnTo>
                  <a:pt x="307" y="0"/>
                </a:lnTo>
                <a:lnTo>
                  <a:pt x="347" y="0"/>
                </a:lnTo>
                <a:lnTo>
                  <a:pt x="396" y="54"/>
                </a:lnTo>
                <a:lnTo>
                  <a:pt x="412" y="122"/>
                </a:lnTo>
                <a:lnTo>
                  <a:pt x="412" y="218"/>
                </a:lnTo>
                <a:lnTo>
                  <a:pt x="399" y="268"/>
                </a:lnTo>
                <a:lnTo>
                  <a:pt x="355" y="318"/>
                </a:lnTo>
                <a:lnTo>
                  <a:pt x="275" y="324"/>
                </a:lnTo>
                <a:lnTo>
                  <a:pt x="195" y="294"/>
                </a:lnTo>
                <a:lnTo>
                  <a:pt x="113" y="253"/>
                </a:lnTo>
                <a:lnTo>
                  <a:pt x="48" y="203"/>
                </a:lnTo>
                <a:lnTo>
                  <a:pt x="9" y="155"/>
                </a:lnTo>
                <a:lnTo>
                  <a:pt x="0" y="122"/>
                </a:lnTo>
                <a:lnTo>
                  <a:pt x="6" y="66"/>
                </a:lnTo>
                <a:lnTo>
                  <a:pt x="6" y="66"/>
                </a:lnTo>
                <a:lnTo>
                  <a:pt x="6" y="6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70"/>
          <p:cNvSpPr/>
          <p:nvPr/>
        </p:nvSpPr>
        <p:spPr>
          <a:xfrm>
            <a:off x="6100920" y="5962680"/>
            <a:ext cx="642960" cy="297000"/>
          </a:xfrm>
          <a:custGeom>
            <a:avLst/>
            <a:gdLst>
              <a:gd name="textAreaLeft" fmla="*/ 0 w 642960"/>
              <a:gd name="textAreaRight" fmla="*/ 643320 w 6429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405" h="187">
                <a:moveTo>
                  <a:pt x="23" y="116"/>
                </a:moveTo>
                <a:lnTo>
                  <a:pt x="63" y="159"/>
                </a:lnTo>
                <a:lnTo>
                  <a:pt x="128" y="187"/>
                </a:lnTo>
                <a:lnTo>
                  <a:pt x="193" y="187"/>
                </a:lnTo>
                <a:lnTo>
                  <a:pt x="267" y="172"/>
                </a:lnTo>
                <a:lnTo>
                  <a:pt x="322" y="130"/>
                </a:lnTo>
                <a:lnTo>
                  <a:pt x="387" y="65"/>
                </a:lnTo>
                <a:lnTo>
                  <a:pt x="405" y="17"/>
                </a:lnTo>
                <a:lnTo>
                  <a:pt x="355" y="0"/>
                </a:lnTo>
                <a:lnTo>
                  <a:pt x="294" y="24"/>
                </a:lnTo>
                <a:lnTo>
                  <a:pt x="219" y="71"/>
                </a:lnTo>
                <a:lnTo>
                  <a:pt x="139" y="94"/>
                </a:lnTo>
                <a:lnTo>
                  <a:pt x="65" y="89"/>
                </a:lnTo>
                <a:lnTo>
                  <a:pt x="0" y="83"/>
                </a:lnTo>
                <a:lnTo>
                  <a:pt x="23" y="116"/>
                </a:lnTo>
                <a:lnTo>
                  <a:pt x="23" y="116"/>
                </a:lnTo>
                <a:lnTo>
                  <a:pt x="23" y="11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Freeform 71"/>
          <p:cNvSpPr/>
          <p:nvPr/>
        </p:nvSpPr>
        <p:spPr>
          <a:xfrm>
            <a:off x="5916600" y="5369040"/>
            <a:ext cx="258840" cy="112680"/>
          </a:xfrm>
          <a:custGeom>
            <a:avLst/>
            <a:gdLst>
              <a:gd name="textAreaLeft" fmla="*/ 0 w 258840"/>
              <a:gd name="textAreaRight" fmla="*/ 259200 w 258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63" h="71">
                <a:moveTo>
                  <a:pt x="9" y="71"/>
                </a:moveTo>
                <a:lnTo>
                  <a:pt x="98" y="39"/>
                </a:lnTo>
                <a:lnTo>
                  <a:pt x="163" y="24"/>
                </a:lnTo>
                <a:lnTo>
                  <a:pt x="107" y="0"/>
                </a:lnTo>
                <a:lnTo>
                  <a:pt x="51" y="0"/>
                </a:lnTo>
                <a:lnTo>
                  <a:pt x="0" y="39"/>
                </a:lnTo>
                <a:lnTo>
                  <a:pt x="9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72"/>
          <p:cNvSpPr/>
          <p:nvPr/>
        </p:nvSpPr>
        <p:spPr>
          <a:xfrm>
            <a:off x="5245200" y="4437000"/>
            <a:ext cx="236520" cy="163440"/>
          </a:xfrm>
          <a:custGeom>
            <a:avLst/>
            <a:gdLst>
              <a:gd name="textAreaLeft" fmla="*/ 0 w 236520"/>
              <a:gd name="textAreaRight" fmla="*/ 236880 w 2365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49" h="103">
                <a:moveTo>
                  <a:pt x="0" y="86"/>
                </a:moveTo>
                <a:lnTo>
                  <a:pt x="0" y="56"/>
                </a:lnTo>
                <a:lnTo>
                  <a:pt x="23" y="24"/>
                </a:lnTo>
                <a:lnTo>
                  <a:pt x="70" y="0"/>
                </a:lnTo>
                <a:lnTo>
                  <a:pt x="121" y="6"/>
                </a:lnTo>
                <a:lnTo>
                  <a:pt x="149" y="24"/>
                </a:lnTo>
                <a:lnTo>
                  <a:pt x="56" y="65"/>
                </a:lnTo>
                <a:lnTo>
                  <a:pt x="5" y="103"/>
                </a:lnTo>
                <a:lnTo>
                  <a:pt x="0" y="86"/>
                </a:lnTo>
                <a:lnTo>
                  <a:pt x="0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reeform 73"/>
          <p:cNvSpPr/>
          <p:nvPr/>
        </p:nvSpPr>
        <p:spPr>
          <a:xfrm>
            <a:off x="324000" y="6480"/>
            <a:ext cx="5500440" cy="3771720"/>
          </a:xfrm>
          <a:custGeom>
            <a:avLst/>
            <a:gdLst>
              <a:gd name="textAreaLeft" fmla="*/ 0 w 5500440"/>
              <a:gd name="textAreaRight" fmla="*/ 5500440 w 5500440"/>
              <a:gd name="textAreaTop" fmla="*/ 0 h 3771720"/>
              <a:gd name="textAreaBottom" fmla="*/ 3772080 h 3771720"/>
            </a:gdLst>
            <a:ahLst/>
            <a:rect l="textAreaLeft" t="textAreaTop" r="textAreaRight" b="textAreaBottom"/>
            <a:pathLst>
              <a:path w="3465" h="2376">
                <a:moveTo>
                  <a:pt x="2943" y="2376"/>
                </a:moveTo>
                <a:lnTo>
                  <a:pt x="2881" y="2327"/>
                </a:lnTo>
                <a:lnTo>
                  <a:pt x="2819" y="2256"/>
                </a:lnTo>
                <a:lnTo>
                  <a:pt x="2777" y="2194"/>
                </a:lnTo>
                <a:lnTo>
                  <a:pt x="2747" y="2126"/>
                </a:lnTo>
                <a:lnTo>
                  <a:pt x="2735" y="2079"/>
                </a:lnTo>
                <a:lnTo>
                  <a:pt x="2729" y="2044"/>
                </a:lnTo>
                <a:lnTo>
                  <a:pt x="2739" y="2032"/>
                </a:lnTo>
                <a:lnTo>
                  <a:pt x="2752" y="2017"/>
                </a:lnTo>
                <a:lnTo>
                  <a:pt x="2889" y="1948"/>
                </a:lnTo>
                <a:lnTo>
                  <a:pt x="3020" y="1859"/>
                </a:lnTo>
                <a:lnTo>
                  <a:pt x="3163" y="1744"/>
                </a:lnTo>
                <a:lnTo>
                  <a:pt x="3262" y="1638"/>
                </a:lnTo>
                <a:lnTo>
                  <a:pt x="3350" y="1512"/>
                </a:lnTo>
                <a:lnTo>
                  <a:pt x="3403" y="1408"/>
                </a:lnTo>
                <a:lnTo>
                  <a:pt x="3443" y="1267"/>
                </a:lnTo>
                <a:lnTo>
                  <a:pt x="3465" y="1115"/>
                </a:lnTo>
                <a:lnTo>
                  <a:pt x="3459" y="1028"/>
                </a:lnTo>
                <a:lnTo>
                  <a:pt x="3437" y="929"/>
                </a:lnTo>
                <a:lnTo>
                  <a:pt x="3390" y="803"/>
                </a:lnTo>
                <a:lnTo>
                  <a:pt x="3329" y="694"/>
                </a:lnTo>
                <a:lnTo>
                  <a:pt x="3290" y="640"/>
                </a:lnTo>
                <a:lnTo>
                  <a:pt x="3193" y="512"/>
                </a:lnTo>
                <a:lnTo>
                  <a:pt x="3083" y="419"/>
                </a:lnTo>
                <a:lnTo>
                  <a:pt x="2893" y="292"/>
                </a:lnTo>
                <a:lnTo>
                  <a:pt x="2748" y="218"/>
                </a:lnTo>
                <a:lnTo>
                  <a:pt x="2593" y="151"/>
                </a:lnTo>
                <a:lnTo>
                  <a:pt x="2361" y="84"/>
                </a:lnTo>
                <a:lnTo>
                  <a:pt x="2087" y="29"/>
                </a:lnTo>
                <a:lnTo>
                  <a:pt x="1893" y="8"/>
                </a:lnTo>
                <a:lnTo>
                  <a:pt x="1738" y="0"/>
                </a:lnTo>
                <a:lnTo>
                  <a:pt x="1533" y="15"/>
                </a:lnTo>
                <a:lnTo>
                  <a:pt x="1289" y="43"/>
                </a:lnTo>
                <a:lnTo>
                  <a:pt x="1142" y="77"/>
                </a:lnTo>
                <a:lnTo>
                  <a:pt x="1000" y="108"/>
                </a:lnTo>
                <a:lnTo>
                  <a:pt x="910" y="136"/>
                </a:lnTo>
                <a:lnTo>
                  <a:pt x="797" y="182"/>
                </a:lnTo>
                <a:lnTo>
                  <a:pt x="721" y="215"/>
                </a:lnTo>
                <a:lnTo>
                  <a:pt x="628" y="265"/>
                </a:lnTo>
                <a:lnTo>
                  <a:pt x="519" y="326"/>
                </a:lnTo>
                <a:lnTo>
                  <a:pt x="430" y="385"/>
                </a:lnTo>
                <a:lnTo>
                  <a:pt x="315" y="487"/>
                </a:lnTo>
                <a:lnTo>
                  <a:pt x="204" y="608"/>
                </a:lnTo>
                <a:lnTo>
                  <a:pt x="123" y="710"/>
                </a:lnTo>
                <a:lnTo>
                  <a:pt x="58" y="834"/>
                </a:lnTo>
                <a:lnTo>
                  <a:pt x="21" y="971"/>
                </a:lnTo>
                <a:lnTo>
                  <a:pt x="0" y="1115"/>
                </a:lnTo>
                <a:lnTo>
                  <a:pt x="28" y="1308"/>
                </a:lnTo>
                <a:lnTo>
                  <a:pt x="73" y="1437"/>
                </a:lnTo>
                <a:lnTo>
                  <a:pt x="137" y="1553"/>
                </a:lnTo>
                <a:lnTo>
                  <a:pt x="195" y="1630"/>
                </a:lnTo>
                <a:lnTo>
                  <a:pt x="272" y="1713"/>
                </a:lnTo>
                <a:lnTo>
                  <a:pt x="344" y="1792"/>
                </a:lnTo>
                <a:lnTo>
                  <a:pt x="468" y="1878"/>
                </a:lnTo>
                <a:lnTo>
                  <a:pt x="597" y="1963"/>
                </a:lnTo>
                <a:lnTo>
                  <a:pt x="743" y="2037"/>
                </a:lnTo>
                <a:lnTo>
                  <a:pt x="912" y="2100"/>
                </a:lnTo>
                <a:lnTo>
                  <a:pt x="1107" y="2166"/>
                </a:lnTo>
                <a:lnTo>
                  <a:pt x="1299" y="2200"/>
                </a:lnTo>
                <a:lnTo>
                  <a:pt x="1607" y="2231"/>
                </a:lnTo>
                <a:lnTo>
                  <a:pt x="1886" y="2238"/>
                </a:lnTo>
                <a:lnTo>
                  <a:pt x="2020" y="2222"/>
                </a:lnTo>
                <a:lnTo>
                  <a:pt x="2162" y="2206"/>
                </a:lnTo>
                <a:lnTo>
                  <a:pt x="2310" y="2175"/>
                </a:lnTo>
                <a:lnTo>
                  <a:pt x="2453" y="2139"/>
                </a:lnTo>
                <a:lnTo>
                  <a:pt x="2567" y="2108"/>
                </a:lnTo>
                <a:lnTo>
                  <a:pt x="2576" y="2112"/>
                </a:lnTo>
                <a:lnTo>
                  <a:pt x="2625" y="2164"/>
                </a:lnTo>
                <a:lnTo>
                  <a:pt x="2672" y="2211"/>
                </a:lnTo>
                <a:lnTo>
                  <a:pt x="2747" y="2274"/>
                </a:lnTo>
                <a:lnTo>
                  <a:pt x="2797" y="2313"/>
                </a:lnTo>
                <a:lnTo>
                  <a:pt x="2873" y="2352"/>
                </a:lnTo>
                <a:lnTo>
                  <a:pt x="2916" y="2372"/>
                </a:lnTo>
                <a:lnTo>
                  <a:pt x="2943" y="2376"/>
                </a:lnTo>
                <a:close/>
              </a:path>
            </a:pathLst>
          </a:custGeom>
          <a:solidFill>
            <a:srgbClr val="ffffff"/>
          </a:solidFill>
          <a:ln w="13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74"/>
          <p:cNvSpPr/>
          <p:nvPr/>
        </p:nvSpPr>
        <p:spPr>
          <a:xfrm>
            <a:off x="1611360" y="558720"/>
            <a:ext cx="433224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amili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3"/>
          <p:cNvSpPr/>
          <p:nvPr/>
        </p:nvSpPr>
        <p:spPr>
          <a:xfrm>
            <a:off x="-66600" y="98280"/>
            <a:ext cx="9896400" cy="6724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4"/>
          <p:cNvSpPr/>
          <p:nvPr/>
        </p:nvSpPr>
        <p:spPr>
          <a:xfrm>
            <a:off x="4932360" y="3059280"/>
            <a:ext cx="2573280" cy="3651120"/>
          </a:xfrm>
          <a:custGeom>
            <a:avLst/>
            <a:gdLst>
              <a:gd name="textAreaLeft" fmla="*/ 0 w 2573280"/>
              <a:gd name="textAreaRight" fmla="*/ 2573640 w 2573280"/>
              <a:gd name="textAreaTop" fmla="*/ 0 h 3651120"/>
              <a:gd name="textAreaBottom" fmla="*/ 3651480 h 3651120"/>
            </a:gdLst>
            <a:ahLst/>
            <a:rect l="textAreaLeft" t="textAreaTop" r="textAreaRight" b="textAreaBottom"/>
            <a:pathLst>
              <a:path w="1621" h="2300">
                <a:moveTo>
                  <a:pt x="980" y="0"/>
                </a:moveTo>
                <a:lnTo>
                  <a:pt x="721" y="24"/>
                </a:lnTo>
                <a:lnTo>
                  <a:pt x="279" y="210"/>
                </a:lnTo>
                <a:lnTo>
                  <a:pt x="125" y="687"/>
                </a:lnTo>
                <a:lnTo>
                  <a:pt x="0" y="1158"/>
                </a:lnTo>
                <a:lnTo>
                  <a:pt x="146" y="1755"/>
                </a:lnTo>
                <a:lnTo>
                  <a:pt x="683" y="2233"/>
                </a:lnTo>
                <a:lnTo>
                  <a:pt x="781" y="2300"/>
                </a:lnTo>
                <a:lnTo>
                  <a:pt x="989" y="2288"/>
                </a:lnTo>
                <a:lnTo>
                  <a:pt x="1144" y="2223"/>
                </a:lnTo>
                <a:lnTo>
                  <a:pt x="1248" y="2163"/>
                </a:lnTo>
                <a:lnTo>
                  <a:pt x="1352" y="2059"/>
                </a:lnTo>
                <a:lnTo>
                  <a:pt x="1450" y="1849"/>
                </a:lnTo>
                <a:lnTo>
                  <a:pt x="1621" y="1521"/>
                </a:lnTo>
                <a:lnTo>
                  <a:pt x="1548" y="792"/>
                </a:lnTo>
                <a:lnTo>
                  <a:pt x="1345" y="279"/>
                </a:lnTo>
                <a:lnTo>
                  <a:pt x="1154" y="65"/>
                </a:lnTo>
                <a:lnTo>
                  <a:pt x="980" y="0"/>
                </a:lnTo>
                <a:lnTo>
                  <a:pt x="980" y="0"/>
                </a:lnTo>
                <a:lnTo>
                  <a:pt x="980" y="0"/>
                </a:lnTo>
                <a:close/>
              </a:path>
            </a:pathLst>
          </a:custGeom>
          <a:solidFill>
            <a:srgbClr val="ffd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5"/>
          <p:cNvSpPr/>
          <p:nvPr/>
        </p:nvSpPr>
        <p:spPr>
          <a:xfrm>
            <a:off x="6426360" y="4305240"/>
            <a:ext cx="512640" cy="192240"/>
          </a:xfrm>
          <a:custGeom>
            <a:avLst/>
            <a:gdLst>
              <a:gd name="textAreaLeft" fmla="*/ 0 w 512640"/>
              <a:gd name="textAreaRight" fmla="*/ 513000 w 5126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23" h="121">
                <a:moveTo>
                  <a:pt x="0" y="104"/>
                </a:moveTo>
                <a:lnTo>
                  <a:pt x="69" y="40"/>
                </a:lnTo>
                <a:lnTo>
                  <a:pt x="130" y="10"/>
                </a:lnTo>
                <a:lnTo>
                  <a:pt x="227" y="0"/>
                </a:lnTo>
                <a:lnTo>
                  <a:pt x="323" y="60"/>
                </a:lnTo>
                <a:lnTo>
                  <a:pt x="227" y="113"/>
                </a:lnTo>
                <a:lnTo>
                  <a:pt x="117" y="121"/>
                </a:lnTo>
                <a:lnTo>
                  <a:pt x="49" y="119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reeform 6"/>
          <p:cNvSpPr/>
          <p:nvPr/>
        </p:nvSpPr>
        <p:spPr>
          <a:xfrm>
            <a:off x="6591240" y="4330800"/>
            <a:ext cx="182520" cy="156960"/>
          </a:xfrm>
          <a:custGeom>
            <a:avLst/>
            <a:gdLst>
              <a:gd name="textAreaLeft" fmla="*/ 0 w 182520"/>
              <a:gd name="textAreaRight" fmla="*/ 182880 w 1825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15" h="99">
                <a:moveTo>
                  <a:pt x="6" y="0"/>
                </a:moveTo>
                <a:lnTo>
                  <a:pt x="0" y="54"/>
                </a:lnTo>
                <a:lnTo>
                  <a:pt x="22" y="84"/>
                </a:lnTo>
                <a:lnTo>
                  <a:pt x="54" y="99"/>
                </a:lnTo>
                <a:lnTo>
                  <a:pt x="90" y="88"/>
                </a:lnTo>
                <a:lnTo>
                  <a:pt x="115" y="61"/>
                </a:lnTo>
                <a:lnTo>
                  <a:pt x="113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Freeform 7"/>
          <p:cNvSpPr/>
          <p:nvPr/>
        </p:nvSpPr>
        <p:spPr>
          <a:xfrm>
            <a:off x="5392800" y="4548240"/>
            <a:ext cx="406440" cy="158760"/>
          </a:xfrm>
          <a:custGeom>
            <a:avLst/>
            <a:gdLst>
              <a:gd name="textAreaLeft" fmla="*/ 0 w 406440"/>
              <a:gd name="textAreaRight" fmla="*/ 406800 w 4064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56" h="100">
                <a:moveTo>
                  <a:pt x="0" y="75"/>
                </a:moveTo>
                <a:lnTo>
                  <a:pt x="66" y="7"/>
                </a:lnTo>
                <a:lnTo>
                  <a:pt x="179" y="0"/>
                </a:lnTo>
                <a:lnTo>
                  <a:pt x="256" y="28"/>
                </a:lnTo>
                <a:lnTo>
                  <a:pt x="250" y="51"/>
                </a:lnTo>
                <a:lnTo>
                  <a:pt x="171" y="82"/>
                </a:lnTo>
                <a:lnTo>
                  <a:pt x="74" y="100"/>
                </a:lnTo>
                <a:lnTo>
                  <a:pt x="16" y="98"/>
                </a:lnTo>
                <a:lnTo>
                  <a:pt x="0" y="75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Freeform 8"/>
          <p:cNvSpPr/>
          <p:nvPr/>
        </p:nvSpPr>
        <p:spPr>
          <a:xfrm>
            <a:off x="5491080" y="4557600"/>
            <a:ext cx="204840" cy="139680"/>
          </a:xfrm>
          <a:custGeom>
            <a:avLst/>
            <a:gdLst>
              <a:gd name="textAreaLeft" fmla="*/ 0 w 204840"/>
              <a:gd name="textAreaRight" fmla="*/ 205200 w 204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9" h="88">
                <a:moveTo>
                  <a:pt x="0" y="7"/>
                </a:moveTo>
                <a:lnTo>
                  <a:pt x="10" y="60"/>
                </a:lnTo>
                <a:lnTo>
                  <a:pt x="27" y="76"/>
                </a:lnTo>
                <a:lnTo>
                  <a:pt x="81" y="88"/>
                </a:lnTo>
                <a:lnTo>
                  <a:pt x="119" y="54"/>
                </a:lnTo>
                <a:lnTo>
                  <a:pt x="129" y="13"/>
                </a:lnTo>
                <a:lnTo>
                  <a:pt x="109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Freeform 9"/>
          <p:cNvSpPr/>
          <p:nvPr/>
        </p:nvSpPr>
        <p:spPr>
          <a:xfrm>
            <a:off x="5857920" y="5425920"/>
            <a:ext cx="920880" cy="327240"/>
          </a:xfrm>
          <a:custGeom>
            <a:avLst/>
            <a:gdLst>
              <a:gd name="textAreaLeft" fmla="*/ 0 w 920880"/>
              <a:gd name="textAreaRight" fmla="*/ 921240 w 9208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580" h="206">
                <a:moveTo>
                  <a:pt x="0" y="91"/>
                </a:moveTo>
                <a:lnTo>
                  <a:pt x="37" y="77"/>
                </a:lnTo>
                <a:lnTo>
                  <a:pt x="198" y="61"/>
                </a:lnTo>
                <a:lnTo>
                  <a:pt x="284" y="58"/>
                </a:lnTo>
                <a:lnTo>
                  <a:pt x="480" y="2"/>
                </a:lnTo>
                <a:lnTo>
                  <a:pt x="580" y="0"/>
                </a:lnTo>
                <a:lnTo>
                  <a:pt x="562" y="79"/>
                </a:lnTo>
                <a:lnTo>
                  <a:pt x="455" y="163"/>
                </a:lnTo>
                <a:lnTo>
                  <a:pt x="243" y="206"/>
                </a:lnTo>
                <a:lnTo>
                  <a:pt x="137" y="190"/>
                </a:lnTo>
                <a:lnTo>
                  <a:pt x="102" y="179"/>
                </a:lnTo>
                <a:lnTo>
                  <a:pt x="52" y="147"/>
                </a:lnTo>
                <a:lnTo>
                  <a:pt x="31" y="116"/>
                </a:lnTo>
                <a:lnTo>
                  <a:pt x="0" y="91"/>
                </a:lnTo>
                <a:lnTo>
                  <a:pt x="0" y="91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Freeform 10"/>
          <p:cNvSpPr/>
          <p:nvPr/>
        </p:nvSpPr>
        <p:spPr>
          <a:xfrm>
            <a:off x="5808600" y="5400720"/>
            <a:ext cx="698400" cy="182520"/>
          </a:xfrm>
          <a:custGeom>
            <a:avLst/>
            <a:gdLst>
              <a:gd name="textAreaLeft" fmla="*/ 0 w 698400"/>
              <a:gd name="textAreaRight" fmla="*/ 698760 w 6984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40" h="115">
                <a:moveTo>
                  <a:pt x="0" y="115"/>
                </a:moveTo>
                <a:lnTo>
                  <a:pt x="79" y="79"/>
                </a:lnTo>
                <a:lnTo>
                  <a:pt x="136" y="67"/>
                </a:lnTo>
                <a:lnTo>
                  <a:pt x="166" y="56"/>
                </a:lnTo>
                <a:lnTo>
                  <a:pt x="200" y="34"/>
                </a:lnTo>
                <a:lnTo>
                  <a:pt x="320" y="20"/>
                </a:lnTo>
                <a:lnTo>
                  <a:pt x="440" y="0"/>
                </a:lnTo>
                <a:lnTo>
                  <a:pt x="411" y="54"/>
                </a:lnTo>
                <a:lnTo>
                  <a:pt x="293" y="77"/>
                </a:lnTo>
                <a:lnTo>
                  <a:pt x="136" y="84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Freeform 11"/>
          <p:cNvSpPr/>
          <p:nvPr/>
        </p:nvSpPr>
        <p:spPr>
          <a:xfrm>
            <a:off x="5931000" y="5649840"/>
            <a:ext cx="669960" cy="173160"/>
          </a:xfrm>
          <a:custGeom>
            <a:avLst/>
            <a:gdLst/>
            <a:ahLst/>
            <a:rect l="l" t="t" r="r" b="b"/>
            <a:pathLst>
              <a:path w="422" h="109">
                <a:moveTo>
                  <a:pt x="0" y="0"/>
                </a:moveTo>
                <a:lnTo>
                  <a:pt x="77" y="45"/>
                </a:lnTo>
                <a:lnTo>
                  <a:pt x="196" y="59"/>
                </a:lnTo>
                <a:lnTo>
                  <a:pt x="328" y="40"/>
                </a:lnTo>
                <a:lnTo>
                  <a:pt x="408" y="11"/>
                </a:lnTo>
                <a:lnTo>
                  <a:pt x="422" y="55"/>
                </a:lnTo>
                <a:lnTo>
                  <a:pt x="375" y="88"/>
                </a:lnTo>
                <a:lnTo>
                  <a:pt x="311" y="109"/>
                </a:lnTo>
                <a:lnTo>
                  <a:pt x="341" y="78"/>
                </a:lnTo>
                <a:lnTo>
                  <a:pt x="330" y="68"/>
                </a:lnTo>
                <a:lnTo>
                  <a:pt x="278" y="73"/>
                </a:lnTo>
                <a:lnTo>
                  <a:pt x="199" y="84"/>
                </a:lnTo>
                <a:lnTo>
                  <a:pt x="143" y="81"/>
                </a:lnTo>
                <a:lnTo>
                  <a:pt x="91" y="70"/>
                </a:lnTo>
                <a:lnTo>
                  <a:pt x="48" y="4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12"/>
          <p:cNvSpPr/>
          <p:nvPr/>
        </p:nvSpPr>
        <p:spPr>
          <a:xfrm>
            <a:off x="6719760" y="5460840"/>
            <a:ext cx="111240" cy="130320"/>
          </a:xfrm>
          <a:custGeom>
            <a:avLst/>
            <a:gdLst>
              <a:gd name="textAreaLeft" fmla="*/ 0 w 111240"/>
              <a:gd name="textAreaRight" fmla="*/ 111600 w 1112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70" h="82">
                <a:moveTo>
                  <a:pt x="47" y="7"/>
                </a:moveTo>
                <a:lnTo>
                  <a:pt x="0" y="80"/>
                </a:lnTo>
                <a:lnTo>
                  <a:pt x="34" y="82"/>
                </a:lnTo>
                <a:lnTo>
                  <a:pt x="65" y="39"/>
                </a:lnTo>
                <a:lnTo>
                  <a:pt x="70" y="0"/>
                </a:lnTo>
                <a:lnTo>
                  <a:pt x="47" y="7"/>
                </a:lnTo>
                <a:lnTo>
                  <a:pt x="47" y="7"/>
                </a:lnTo>
                <a:lnTo>
                  <a:pt x="47" y="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13"/>
          <p:cNvSpPr/>
          <p:nvPr/>
        </p:nvSpPr>
        <p:spPr>
          <a:xfrm>
            <a:off x="5565600" y="5083200"/>
            <a:ext cx="317520" cy="584280"/>
          </a:xfrm>
          <a:custGeom>
            <a:avLst/>
            <a:gdLst>
              <a:gd name="textAreaLeft" fmla="*/ 0 w 317520"/>
              <a:gd name="textAreaRight" fmla="*/ 317880 w 31752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200" h="368">
                <a:moveTo>
                  <a:pt x="38" y="368"/>
                </a:moveTo>
                <a:lnTo>
                  <a:pt x="13" y="320"/>
                </a:lnTo>
                <a:lnTo>
                  <a:pt x="0" y="261"/>
                </a:lnTo>
                <a:lnTo>
                  <a:pt x="18" y="204"/>
                </a:lnTo>
                <a:lnTo>
                  <a:pt x="42" y="171"/>
                </a:lnTo>
                <a:lnTo>
                  <a:pt x="76" y="143"/>
                </a:lnTo>
                <a:lnTo>
                  <a:pt x="108" y="111"/>
                </a:lnTo>
                <a:lnTo>
                  <a:pt x="145" y="68"/>
                </a:lnTo>
                <a:lnTo>
                  <a:pt x="200" y="0"/>
                </a:lnTo>
                <a:lnTo>
                  <a:pt x="130" y="140"/>
                </a:lnTo>
                <a:lnTo>
                  <a:pt x="48" y="249"/>
                </a:lnTo>
                <a:lnTo>
                  <a:pt x="38" y="368"/>
                </a:lnTo>
                <a:lnTo>
                  <a:pt x="38" y="368"/>
                </a:lnTo>
                <a:lnTo>
                  <a:pt x="38" y="368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14"/>
          <p:cNvSpPr/>
          <p:nvPr/>
        </p:nvSpPr>
        <p:spPr>
          <a:xfrm>
            <a:off x="6676920" y="5078520"/>
            <a:ext cx="373320" cy="322200"/>
          </a:xfrm>
          <a:custGeom>
            <a:avLst/>
            <a:gdLst>
              <a:gd name="textAreaLeft" fmla="*/ 0 w 373320"/>
              <a:gd name="textAreaRight" fmla="*/ 373680 w 3733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35" h="203">
                <a:moveTo>
                  <a:pt x="0" y="0"/>
                </a:moveTo>
                <a:lnTo>
                  <a:pt x="67" y="29"/>
                </a:lnTo>
                <a:lnTo>
                  <a:pt x="120" y="56"/>
                </a:lnTo>
                <a:lnTo>
                  <a:pt x="184" y="81"/>
                </a:lnTo>
                <a:lnTo>
                  <a:pt x="229" y="116"/>
                </a:lnTo>
                <a:lnTo>
                  <a:pt x="235" y="158"/>
                </a:lnTo>
                <a:lnTo>
                  <a:pt x="208" y="203"/>
                </a:lnTo>
                <a:lnTo>
                  <a:pt x="189" y="135"/>
                </a:lnTo>
                <a:lnTo>
                  <a:pt x="110" y="86"/>
                </a:lnTo>
                <a:lnTo>
                  <a:pt x="56" y="59"/>
                </a:lnTo>
                <a:lnTo>
                  <a:pt x="11" y="1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15"/>
          <p:cNvSpPr/>
          <p:nvPr/>
        </p:nvSpPr>
        <p:spPr>
          <a:xfrm>
            <a:off x="6119640" y="4262400"/>
            <a:ext cx="544680" cy="1000080"/>
          </a:xfrm>
          <a:custGeom>
            <a:avLst/>
            <a:gdLst>
              <a:gd name="textAreaLeft" fmla="*/ 0 w 544680"/>
              <a:gd name="textAreaRight" fmla="*/ 545040 w 5446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43" h="630">
                <a:moveTo>
                  <a:pt x="294" y="0"/>
                </a:moveTo>
                <a:lnTo>
                  <a:pt x="251" y="0"/>
                </a:lnTo>
                <a:lnTo>
                  <a:pt x="215" y="25"/>
                </a:lnTo>
                <a:lnTo>
                  <a:pt x="186" y="63"/>
                </a:lnTo>
                <a:lnTo>
                  <a:pt x="167" y="75"/>
                </a:lnTo>
                <a:lnTo>
                  <a:pt x="147" y="64"/>
                </a:lnTo>
                <a:lnTo>
                  <a:pt x="128" y="34"/>
                </a:lnTo>
                <a:lnTo>
                  <a:pt x="102" y="75"/>
                </a:lnTo>
                <a:lnTo>
                  <a:pt x="72" y="146"/>
                </a:lnTo>
                <a:lnTo>
                  <a:pt x="60" y="215"/>
                </a:lnTo>
                <a:lnTo>
                  <a:pt x="68" y="324"/>
                </a:lnTo>
                <a:lnTo>
                  <a:pt x="114" y="467"/>
                </a:lnTo>
                <a:lnTo>
                  <a:pt x="140" y="521"/>
                </a:lnTo>
                <a:lnTo>
                  <a:pt x="189" y="470"/>
                </a:lnTo>
                <a:lnTo>
                  <a:pt x="215" y="464"/>
                </a:lnTo>
                <a:lnTo>
                  <a:pt x="241" y="472"/>
                </a:lnTo>
                <a:lnTo>
                  <a:pt x="260" y="503"/>
                </a:lnTo>
                <a:lnTo>
                  <a:pt x="258" y="532"/>
                </a:lnTo>
                <a:lnTo>
                  <a:pt x="230" y="543"/>
                </a:lnTo>
                <a:lnTo>
                  <a:pt x="143" y="551"/>
                </a:lnTo>
                <a:lnTo>
                  <a:pt x="105" y="581"/>
                </a:lnTo>
                <a:lnTo>
                  <a:pt x="59" y="609"/>
                </a:lnTo>
                <a:lnTo>
                  <a:pt x="0" y="619"/>
                </a:lnTo>
                <a:lnTo>
                  <a:pt x="42" y="630"/>
                </a:lnTo>
                <a:lnTo>
                  <a:pt x="111" y="630"/>
                </a:lnTo>
                <a:lnTo>
                  <a:pt x="213" y="598"/>
                </a:lnTo>
                <a:lnTo>
                  <a:pt x="276" y="598"/>
                </a:lnTo>
                <a:lnTo>
                  <a:pt x="325" y="579"/>
                </a:lnTo>
                <a:lnTo>
                  <a:pt x="343" y="545"/>
                </a:lnTo>
                <a:lnTo>
                  <a:pt x="343" y="491"/>
                </a:lnTo>
                <a:lnTo>
                  <a:pt x="284" y="420"/>
                </a:lnTo>
                <a:lnTo>
                  <a:pt x="219" y="333"/>
                </a:lnTo>
                <a:lnTo>
                  <a:pt x="186" y="219"/>
                </a:lnTo>
                <a:lnTo>
                  <a:pt x="213" y="146"/>
                </a:lnTo>
                <a:lnTo>
                  <a:pt x="197" y="128"/>
                </a:lnTo>
                <a:lnTo>
                  <a:pt x="234" y="78"/>
                </a:lnTo>
                <a:lnTo>
                  <a:pt x="219" y="76"/>
                </a:lnTo>
                <a:lnTo>
                  <a:pt x="251" y="30"/>
                </a:lnTo>
                <a:lnTo>
                  <a:pt x="294" y="0"/>
                </a:lnTo>
                <a:lnTo>
                  <a:pt x="294" y="0"/>
                </a:lnTo>
                <a:lnTo>
                  <a:pt x="294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16"/>
          <p:cNvSpPr/>
          <p:nvPr/>
        </p:nvSpPr>
        <p:spPr>
          <a:xfrm>
            <a:off x="4983120" y="3268800"/>
            <a:ext cx="1836720" cy="342252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157" h="2156">
                <a:moveTo>
                  <a:pt x="602" y="0"/>
                </a:moveTo>
                <a:lnTo>
                  <a:pt x="410" y="161"/>
                </a:lnTo>
                <a:lnTo>
                  <a:pt x="355" y="307"/>
                </a:lnTo>
                <a:lnTo>
                  <a:pt x="296" y="478"/>
                </a:lnTo>
                <a:lnTo>
                  <a:pt x="288" y="569"/>
                </a:lnTo>
                <a:lnTo>
                  <a:pt x="379" y="653"/>
                </a:lnTo>
                <a:lnTo>
                  <a:pt x="219" y="709"/>
                </a:lnTo>
                <a:lnTo>
                  <a:pt x="142" y="775"/>
                </a:lnTo>
                <a:lnTo>
                  <a:pt x="125" y="845"/>
                </a:lnTo>
                <a:lnTo>
                  <a:pt x="188" y="876"/>
                </a:lnTo>
                <a:lnTo>
                  <a:pt x="257" y="911"/>
                </a:lnTo>
                <a:lnTo>
                  <a:pt x="136" y="939"/>
                </a:lnTo>
                <a:lnTo>
                  <a:pt x="103" y="1005"/>
                </a:lnTo>
                <a:lnTo>
                  <a:pt x="121" y="1183"/>
                </a:lnTo>
                <a:lnTo>
                  <a:pt x="190" y="1399"/>
                </a:lnTo>
                <a:lnTo>
                  <a:pt x="265" y="1529"/>
                </a:lnTo>
                <a:lnTo>
                  <a:pt x="355" y="1650"/>
                </a:lnTo>
                <a:lnTo>
                  <a:pt x="470" y="1756"/>
                </a:lnTo>
                <a:lnTo>
                  <a:pt x="584" y="1842"/>
                </a:lnTo>
                <a:lnTo>
                  <a:pt x="794" y="1923"/>
                </a:lnTo>
                <a:lnTo>
                  <a:pt x="938" y="1927"/>
                </a:lnTo>
                <a:lnTo>
                  <a:pt x="1051" y="1905"/>
                </a:lnTo>
                <a:lnTo>
                  <a:pt x="1157" y="1868"/>
                </a:lnTo>
                <a:lnTo>
                  <a:pt x="1034" y="1934"/>
                </a:lnTo>
                <a:lnTo>
                  <a:pt x="853" y="1961"/>
                </a:lnTo>
                <a:lnTo>
                  <a:pt x="717" y="1982"/>
                </a:lnTo>
                <a:lnTo>
                  <a:pt x="763" y="2156"/>
                </a:lnTo>
                <a:lnTo>
                  <a:pt x="686" y="2142"/>
                </a:lnTo>
                <a:lnTo>
                  <a:pt x="278" y="1752"/>
                </a:lnTo>
                <a:lnTo>
                  <a:pt x="0" y="1291"/>
                </a:lnTo>
                <a:lnTo>
                  <a:pt x="45" y="604"/>
                </a:lnTo>
                <a:lnTo>
                  <a:pt x="314" y="42"/>
                </a:lnTo>
                <a:lnTo>
                  <a:pt x="602" y="0"/>
                </a:lnTo>
                <a:lnTo>
                  <a:pt x="602" y="0"/>
                </a:lnTo>
                <a:lnTo>
                  <a:pt x="602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reeform 17"/>
          <p:cNvSpPr/>
          <p:nvPr/>
        </p:nvSpPr>
        <p:spPr>
          <a:xfrm>
            <a:off x="5896080" y="3041640"/>
            <a:ext cx="1625400" cy="327348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3273480"/>
              <a:gd name="textAreaBottom" fmla="*/ 3273840 h 3273480"/>
            </a:gdLst>
            <a:ahLst/>
            <a:rect l="textAreaLeft" t="textAreaTop" r="textAreaRight" b="textAreaBottom"/>
            <a:pathLst>
              <a:path w="1024" h="2062">
                <a:moveTo>
                  <a:pt x="66" y="115"/>
                </a:moveTo>
                <a:lnTo>
                  <a:pt x="225" y="109"/>
                </a:lnTo>
                <a:lnTo>
                  <a:pt x="341" y="125"/>
                </a:lnTo>
                <a:lnTo>
                  <a:pt x="439" y="172"/>
                </a:lnTo>
                <a:lnTo>
                  <a:pt x="515" y="221"/>
                </a:lnTo>
                <a:lnTo>
                  <a:pt x="582" y="325"/>
                </a:lnTo>
                <a:lnTo>
                  <a:pt x="620" y="440"/>
                </a:lnTo>
                <a:lnTo>
                  <a:pt x="651" y="576"/>
                </a:lnTo>
                <a:lnTo>
                  <a:pt x="658" y="642"/>
                </a:lnTo>
                <a:lnTo>
                  <a:pt x="557" y="646"/>
                </a:lnTo>
                <a:lnTo>
                  <a:pt x="614" y="701"/>
                </a:lnTo>
                <a:lnTo>
                  <a:pt x="565" y="729"/>
                </a:lnTo>
                <a:lnTo>
                  <a:pt x="480" y="750"/>
                </a:lnTo>
                <a:lnTo>
                  <a:pt x="519" y="796"/>
                </a:lnTo>
                <a:lnTo>
                  <a:pt x="679" y="862"/>
                </a:lnTo>
                <a:lnTo>
                  <a:pt x="755" y="856"/>
                </a:lnTo>
                <a:lnTo>
                  <a:pt x="802" y="921"/>
                </a:lnTo>
                <a:lnTo>
                  <a:pt x="832" y="1027"/>
                </a:lnTo>
                <a:lnTo>
                  <a:pt x="843" y="1201"/>
                </a:lnTo>
                <a:lnTo>
                  <a:pt x="832" y="1372"/>
                </a:lnTo>
                <a:lnTo>
                  <a:pt x="832" y="1532"/>
                </a:lnTo>
                <a:lnTo>
                  <a:pt x="794" y="1654"/>
                </a:lnTo>
                <a:lnTo>
                  <a:pt x="661" y="1871"/>
                </a:lnTo>
                <a:lnTo>
                  <a:pt x="565" y="1962"/>
                </a:lnTo>
                <a:lnTo>
                  <a:pt x="442" y="2062"/>
                </a:lnTo>
                <a:lnTo>
                  <a:pt x="543" y="2062"/>
                </a:lnTo>
                <a:lnTo>
                  <a:pt x="802" y="1888"/>
                </a:lnTo>
                <a:lnTo>
                  <a:pt x="1024" y="1609"/>
                </a:lnTo>
                <a:lnTo>
                  <a:pt x="996" y="1148"/>
                </a:lnTo>
                <a:lnTo>
                  <a:pt x="871" y="604"/>
                </a:lnTo>
                <a:lnTo>
                  <a:pt x="679" y="143"/>
                </a:lnTo>
                <a:lnTo>
                  <a:pt x="456" y="4"/>
                </a:lnTo>
                <a:lnTo>
                  <a:pt x="229" y="0"/>
                </a:lnTo>
                <a:lnTo>
                  <a:pt x="0" y="60"/>
                </a:lnTo>
                <a:lnTo>
                  <a:pt x="66" y="115"/>
                </a:lnTo>
                <a:lnTo>
                  <a:pt x="66" y="115"/>
                </a:lnTo>
                <a:lnTo>
                  <a:pt x="66" y="115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Freeform 18"/>
          <p:cNvSpPr/>
          <p:nvPr/>
        </p:nvSpPr>
        <p:spPr>
          <a:xfrm>
            <a:off x="7327800" y="3441600"/>
            <a:ext cx="1702080" cy="3203640"/>
          </a:xfrm>
          <a:custGeom>
            <a:avLst/>
            <a:gdLst>
              <a:gd name="textAreaLeft" fmla="*/ 0 w 1702080"/>
              <a:gd name="textAreaRight" fmla="*/ 1702440 w 170208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1072" h="2018">
                <a:moveTo>
                  <a:pt x="94" y="0"/>
                </a:moveTo>
                <a:lnTo>
                  <a:pt x="496" y="168"/>
                </a:lnTo>
                <a:lnTo>
                  <a:pt x="595" y="331"/>
                </a:lnTo>
                <a:lnTo>
                  <a:pt x="700" y="461"/>
                </a:lnTo>
                <a:lnTo>
                  <a:pt x="635" y="489"/>
                </a:lnTo>
                <a:lnTo>
                  <a:pt x="706" y="641"/>
                </a:lnTo>
                <a:lnTo>
                  <a:pt x="926" y="798"/>
                </a:lnTo>
                <a:lnTo>
                  <a:pt x="1061" y="1008"/>
                </a:lnTo>
                <a:lnTo>
                  <a:pt x="1072" y="1277"/>
                </a:lnTo>
                <a:lnTo>
                  <a:pt x="898" y="1697"/>
                </a:lnTo>
                <a:lnTo>
                  <a:pt x="973" y="2006"/>
                </a:lnTo>
                <a:lnTo>
                  <a:pt x="851" y="2018"/>
                </a:lnTo>
                <a:lnTo>
                  <a:pt x="688" y="1953"/>
                </a:lnTo>
                <a:lnTo>
                  <a:pt x="548" y="1825"/>
                </a:lnTo>
                <a:lnTo>
                  <a:pt x="36" y="1744"/>
                </a:lnTo>
                <a:lnTo>
                  <a:pt x="0" y="1633"/>
                </a:lnTo>
                <a:lnTo>
                  <a:pt x="82" y="1259"/>
                </a:lnTo>
                <a:lnTo>
                  <a:pt x="46" y="926"/>
                </a:lnTo>
                <a:lnTo>
                  <a:pt x="46" y="349"/>
                </a:lnTo>
                <a:lnTo>
                  <a:pt x="94" y="0"/>
                </a:lnTo>
                <a:lnTo>
                  <a:pt x="94" y="0"/>
                </a:lnTo>
                <a:lnTo>
                  <a:pt x="94" y="0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Freeform 19"/>
          <p:cNvSpPr/>
          <p:nvPr/>
        </p:nvSpPr>
        <p:spPr>
          <a:xfrm>
            <a:off x="3768840" y="2347920"/>
            <a:ext cx="3384360" cy="432288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4322880"/>
              <a:gd name="textAreaBottom" fmla="*/ 4323240 h 4322880"/>
            </a:gdLst>
            <a:ahLst/>
            <a:rect l="textAreaLeft" t="textAreaTop" r="textAreaRight" b="textAreaBottom"/>
            <a:pathLst>
              <a:path w="2132" h="2723">
                <a:moveTo>
                  <a:pt x="302" y="992"/>
                </a:moveTo>
                <a:lnTo>
                  <a:pt x="634" y="321"/>
                </a:lnTo>
                <a:lnTo>
                  <a:pt x="850" y="204"/>
                </a:lnTo>
                <a:lnTo>
                  <a:pt x="1357" y="0"/>
                </a:lnTo>
                <a:lnTo>
                  <a:pt x="1829" y="12"/>
                </a:lnTo>
                <a:lnTo>
                  <a:pt x="2021" y="59"/>
                </a:lnTo>
                <a:lnTo>
                  <a:pt x="2109" y="176"/>
                </a:lnTo>
                <a:lnTo>
                  <a:pt x="2132" y="379"/>
                </a:lnTo>
                <a:lnTo>
                  <a:pt x="2067" y="624"/>
                </a:lnTo>
                <a:lnTo>
                  <a:pt x="1812" y="542"/>
                </a:lnTo>
                <a:lnTo>
                  <a:pt x="1683" y="449"/>
                </a:lnTo>
                <a:lnTo>
                  <a:pt x="1445" y="431"/>
                </a:lnTo>
                <a:lnTo>
                  <a:pt x="1106" y="619"/>
                </a:lnTo>
                <a:lnTo>
                  <a:pt x="867" y="1102"/>
                </a:lnTo>
                <a:lnTo>
                  <a:pt x="751" y="1628"/>
                </a:lnTo>
                <a:lnTo>
                  <a:pt x="1007" y="2450"/>
                </a:lnTo>
                <a:lnTo>
                  <a:pt x="815" y="2660"/>
                </a:lnTo>
                <a:lnTo>
                  <a:pt x="459" y="2723"/>
                </a:lnTo>
                <a:lnTo>
                  <a:pt x="46" y="2723"/>
                </a:lnTo>
                <a:lnTo>
                  <a:pt x="29" y="2549"/>
                </a:lnTo>
                <a:lnTo>
                  <a:pt x="0" y="2340"/>
                </a:lnTo>
                <a:lnTo>
                  <a:pt x="29" y="2223"/>
                </a:lnTo>
                <a:lnTo>
                  <a:pt x="64" y="2065"/>
                </a:lnTo>
                <a:lnTo>
                  <a:pt x="12" y="1908"/>
                </a:lnTo>
                <a:lnTo>
                  <a:pt x="29" y="1679"/>
                </a:lnTo>
                <a:lnTo>
                  <a:pt x="82" y="1563"/>
                </a:lnTo>
                <a:lnTo>
                  <a:pt x="46" y="1523"/>
                </a:lnTo>
                <a:lnTo>
                  <a:pt x="58" y="1441"/>
                </a:lnTo>
                <a:lnTo>
                  <a:pt x="186" y="1413"/>
                </a:lnTo>
                <a:lnTo>
                  <a:pt x="302" y="992"/>
                </a:lnTo>
                <a:lnTo>
                  <a:pt x="302" y="992"/>
                </a:lnTo>
                <a:lnTo>
                  <a:pt x="302" y="992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Freeform 20"/>
          <p:cNvSpPr/>
          <p:nvPr/>
        </p:nvSpPr>
        <p:spPr>
          <a:xfrm>
            <a:off x="5057640" y="2562120"/>
            <a:ext cx="1285920" cy="419040"/>
          </a:xfrm>
          <a:custGeom>
            <a:avLst/>
            <a:gdLst>
              <a:gd name="textAreaLeft" fmla="*/ 0 w 1285920"/>
              <a:gd name="textAreaRight" fmla="*/ 1286280 w 1285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10" h="264">
                <a:moveTo>
                  <a:pt x="0" y="217"/>
                </a:moveTo>
                <a:lnTo>
                  <a:pt x="195" y="264"/>
                </a:lnTo>
                <a:lnTo>
                  <a:pt x="439" y="264"/>
                </a:lnTo>
                <a:lnTo>
                  <a:pt x="567" y="259"/>
                </a:lnTo>
                <a:lnTo>
                  <a:pt x="728" y="190"/>
                </a:lnTo>
                <a:lnTo>
                  <a:pt x="447" y="198"/>
                </a:lnTo>
                <a:lnTo>
                  <a:pt x="358" y="162"/>
                </a:lnTo>
                <a:lnTo>
                  <a:pt x="518" y="136"/>
                </a:lnTo>
                <a:lnTo>
                  <a:pt x="653" y="82"/>
                </a:lnTo>
                <a:lnTo>
                  <a:pt x="810" y="0"/>
                </a:lnTo>
                <a:lnTo>
                  <a:pt x="366" y="13"/>
                </a:lnTo>
                <a:lnTo>
                  <a:pt x="177" y="52"/>
                </a:lnTo>
                <a:lnTo>
                  <a:pt x="417" y="82"/>
                </a:lnTo>
                <a:lnTo>
                  <a:pt x="170" y="106"/>
                </a:lnTo>
                <a:lnTo>
                  <a:pt x="358" y="205"/>
                </a:lnTo>
                <a:lnTo>
                  <a:pt x="131" y="205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reeform 21"/>
          <p:cNvSpPr/>
          <p:nvPr/>
        </p:nvSpPr>
        <p:spPr>
          <a:xfrm>
            <a:off x="5735520" y="2357280"/>
            <a:ext cx="959040" cy="171720"/>
          </a:xfrm>
          <a:custGeom>
            <a:avLst/>
            <a:gdLst>
              <a:gd name="textAreaLeft" fmla="*/ 0 w 959040"/>
              <a:gd name="textAreaRight" fmla="*/ 959400 w 959040"/>
              <a:gd name="textAreaTop" fmla="*/ 0 h 171720"/>
              <a:gd name="textAreaBottom" fmla="*/ 171720 h 171720"/>
            </a:gdLst>
            <a:ahLst/>
            <a:rect l="textAreaLeft" t="textAreaTop" r="textAreaRight" b="textAreaBottom"/>
            <a:pathLst>
              <a:path w="604" h="108">
                <a:moveTo>
                  <a:pt x="93" y="73"/>
                </a:moveTo>
                <a:lnTo>
                  <a:pt x="350" y="64"/>
                </a:lnTo>
                <a:lnTo>
                  <a:pt x="449" y="57"/>
                </a:lnTo>
                <a:lnTo>
                  <a:pt x="545" y="83"/>
                </a:lnTo>
                <a:lnTo>
                  <a:pt x="599" y="108"/>
                </a:lnTo>
                <a:lnTo>
                  <a:pt x="604" y="41"/>
                </a:lnTo>
                <a:lnTo>
                  <a:pt x="295" y="0"/>
                </a:lnTo>
                <a:lnTo>
                  <a:pt x="101" y="19"/>
                </a:lnTo>
                <a:lnTo>
                  <a:pt x="0" y="62"/>
                </a:lnTo>
                <a:lnTo>
                  <a:pt x="93" y="73"/>
                </a:lnTo>
                <a:lnTo>
                  <a:pt x="93" y="73"/>
                </a:lnTo>
                <a:lnTo>
                  <a:pt x="93" y="7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22"/>
          <p:cNvSpPr/>
          <p:nvPr/>
        </p:nvSpPr>
        <p:spPr>
          <a:xfrm>
            <a:off x="4738680" y="2871720"/>
            <a:ext cx="716040" cy="407880"/>
          </a:xfrm>
          <a:custGeom>
            <a:avLst/>
            <a:gdLst>
              <a:gd name="textAreaLeft" fmla="*/ 0 w 716040"/>
              <a:gd name="textAreaRight" fmla="*/ 716040 w 71604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451" h="257">
                <a:moveTo>
                  <a:pt x="0" y="15"/>
                </a:moveTo>
                <a:lnTo>
                  <a:pt x="88" y="121"/>
                </a:lnTo>
                <a:lnTo>
                  <a:pt x="155" y="177"/>
                </a:lnTo>
                <a:lnTo>
                  <a:pt x="229" y="216"/>
                </a:lnTo>
                <a:lnTo>
                  <a:pt x="337" y="257"/>
                </a:lnTo>
                <a:lnTo>
                  <a:pt x="451" y="257"/>
                </a:lnTo>
                <a:lnTo>
                  <a:pt x="337" y="216"/>
                </a:lnTo>
                <a:lnTo>
                  <a:pt x="194" y="149"/>
                </a:lnTo>
                <a:lnTo>
                  <a:pt x="93" y="69"/>
                </a:lnTo>
                <a:lnTo>
                  <a:pt x="20" y="0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reeform 23"/>
          <p:cNvSpPr/>
          <p:nvPr/>
        </p:nvSpPr>
        <p:spPr>
          <a:xfrm>
            <a:off x="4408560" y="3129120"/>
            <a:ext cx="498240" cy="728640"/>
          </a:xfrm>
          <a:custGeom>
            <a:avLst/>
            <a:gdLst>
              <a:gd name="textAreaLeft" fmla="*/ 0 w 498240"/>
              <a:gd name="textAreaRight" fmla="*/ 498240 w 498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314" h="459">
                <a:moveTo>
                  <a:pt x="201" y="0"/>
                </a:moveTo>
                <a:lnTo>
                  <a:pt x="275" y="125"/>
                </a:lnTo>
                <a:lnTo>
                  <a:pt x="314" y="206"/>
                </a:lnTo>
                <a:lnTo>
                  <a:pt x="314" y="260"/>
                </a:lnTo>
                <a:lnTo>
                  <a:pt x="253" y="349"/>
                </a:lnTo>
                <a:lnTo>
                  <a:pt x="0" y="459"/>
                </a:lnTo>
                <a:lnTo>
                  <a:pt x="108" y="267"/>
                </a:lnTo>
                <a:lnTo>
                  <a:pt x="201" y="0"/>
                </a:lnTo>
                <a:lnTo>
                  <a:pt x="201" y="0"/>
                </a:lnTo>
                <a:lnTo>
                  <a:pt x="201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reeform 24"/>
          <p:cNvSpPr/>
          <p:nvPr/>
        </p:nvSpPr>
        <p:spPr>
          <a:xfrm>
            <a:off x="4984920" y="3352680"/>
            <a:ext cx="190440" cy="470160"/>
          </a:xfrm>
          <a:custGeom>
            <a:avLst/>
            <a:gdLst>
              <a:gd name="textAreaLeft" fmla="*/ 0 w 190440"/>
              <a:gd name="textAreaRight" fmla="*/ 190800 w 1904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20" h="296">
                <a:moveTo>
                  <a:pt x="120" y="38"/>
                </a:moveTo>
                <a:lnTo>
                  <a:pt x="79" y="108"/>
                </a:lnTo>
                <a:lnTo>
                  <a:pt x="66" y="175"/>
                </a:lnTo>
                <a:lnTo>
                  <a:pt x="92" y="254"/>
                </a:lnTo>
                <a:lnTo>
                  <a:pt x="92" y="296"/>
                </a:lnTo>
                <a:lnTo>
                  <a:pt x="46" y="270"/>
                </a:lnTo>
                <a:lnTo>
                  <a:pt x="5" y="180"/>
                </a:lnTo>
                <a:lnTo>
                  <a:pt x="0" y="41"/>
                </a:lnTo>
                <a:lnTo>
                  <a:pt x="59" y="0"/>
                </a:lnTo>
                <a:lnTo>
                  <a:pt x="120" y="38"/>
                </a:lnTo>
                <a:lnTo>
                  <a:pt x="120" y="38"/>
                </a:lnTo>
                <a:lnTo>
                  <a:pt x="120" y="3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Freeform 25"/>
          <p:cNvSpPr/>
          <p:nvPr/>
        </p:nvSpPr>
        <p:spPr>
          <a:xfrm>
            <a:off x="7634160" y="3557520"/>
            <a:ext cx="311400" cy="938160"/>
          </a:xfrm>
          <a:custGeom>
            <a:avLst/>
            <a:gdLst>
              <a:gd name="textAreaLeft" fmla="*/ 0 w 311400"/>
              <a:gd name="textAreaRight" fmla="*/ 311760 w 311400"/>
              <a:gd name="textAreaTop" fmla="*/ 0 h 938160"/>
              <a:gd name="textAreaBottom" fmla="*/ 938160 h 938160"/>
            </a:gdLst>
            <a:ahLst/>
            <a:rect l="textAreaLeft" t="textAreaTop" r="textAreaRight" b="textAreaBottom"/>
            <a:pathLst>
              <a:path w="196" h="591">
                <a:moveTo>
                  <a:pt x="19" y="0"/>
                </a:moveTo>
                <a:lnTo>
                  <a:pt x="106" y="118"/>
                </a:lnTo>
                <a:lnTo>
                  <a:pt x="123" y="189"/>
                </a:lnTo>
                <a:lnTo>
                  <a:pt x="100" y="254"/>
                </a:lnTo>
                <a:lnTo>
                  <a:pt x="78" y="155"/>
                </a:lnTo>
                <a:lnTo>
                  <a:pt x="0" y="88"/>
                </a:lnTo>
                <a:lnTo>
                  <a:pt x="31" y="195"/>
                </a:lnTo>
                <a:lnTo>
                  <a:pt x="63" y="254"/>
                </a:lnTo>
                <a:lnTo>
                  <a:pt x="59" y="320"/>
                </a:lnTo>
                <a:lnTo>
                  <a:pt x="33" y="424"/>
                </a:lnTo>
                <a:lnTo>
                  <a:pt x="33" y="483"/>
                </a:lnTo>
                <a:lnTo>
                  <a:pt x="58" y="542"/>
                </a:lnTo>
                <a:lnTo>
                  <a:pt x="117" y="591"/>
                </a:lnTo>
                <a:lnTo>
                  <a:pt x="122" y="415"/>
                </a:lnTo>
                <a:lnTo>
                  <a:pt x="196" y="214"/>
                </a:lnTo>
                <a:lnTo>
                  <a:pt x="150" y="90"/>
                </a:lnTo>
                <a:lnTo>
                  <a:pt x="87" y="36"/>
                </a:ln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Freeform 26"/>
          <p:cNvSpPr/>
          <p:nvPr/>
        </p:nvSpPr>
        <p:spPr>
          <a:xfrm>
            <a:off x="8310600" y="4255920"/>
            <a:ext cx="727200" cy="1162080"/>
          </a:xfrm>
          <a:custGeom>
            <a:avLst/>
            <a:gdLst>
              <a:gd name="textAreaLeft" fmla="*/ 0 w 727200"/>
              <a:gd name="textAreaRight" fmla="*/ 727560 w 72720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458" h="732">
                <a:moveTo>
                  <a:pt x="8" y="0"/>
                </a:moveTo>
                <a:lnTo>
                  <a:pt x="0" y="96"/>
                </a:lnTo>
                <a:lnTo>
                  <a:pt x="16" y="181"/>
                </a:lnTo>
                <a:lnTo>
                  <a:pt x="110" y="262"/>
                </a:lnTo>
                <a:lnTo>
                  <a:pt x="183" y="321"/>
                </a:lnTo>
                <a:lnTo>
                  <a:pt x="183" y="280"/>
                </a:lnTo>
                <a:lnTo>
                  <a:pt x="314" y="390"/>
                </a:lnTo>
                <a:lnTo>
                  <a:pt x="376" y="501"/>
                </a:lnTo>
                <a:lnTo>
                  <a:pt x="423" y="609"/>
                </a:lnTo>
                <a:lnTo>
                  <a:pt x="435" y="732"/>
                </a:lnTo>
                <a:lnTo>
                  <a:pt x="458" y="595"/>
                </a:lnTo>
                <a:lnTo>
                  <a:pt x="431" y="474"/>
                </a:lnTo>
                <a:lnTo>
                  <a:pt x="360" y="366"/>
                </a:lnTo>
                <a:lnTo>
                  <a:pt x="227" y="231"/>
                </a:lnTo>
                <a:lnTo>
                  <a:pt x="77" y="72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27"/>
          <p:cNvSpPr/>
          <p:nvPr/>
        </p:nvSpPr>
        <p:spPr>
          <a:xfrm>
            <a:off x="8516880" y="4824360"/>
            <a:ext cx="285840" cy="830160"/>
          </a:xfrm>
          <a:custGeom>
            <a:avLst/>
            <a:gdLst>
              <a:gd name="textAreaLeft" fmla="*/ 0 w 285840"/>
              <a:gd name="textAreaRight" fmla="*/ 286200 w 285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80" h="523">
                <a:moveTo>
                  <a:pt x="98" y="0"/>
                </a:moveTo>
                <a:lnTo>
                  <a:pt x="156" y="93"/>
                </a:lnTo>
                <a:lnTo>
                  <a:pt x="180" y="278"/>
                </a:lnTo>
                <a:lnTo>
                  <a:pt x="112" y="433"/>
                </a:lnTo>
                <a:lnTo>
                  <a:pt x="0" y="523"/>
                </a:lnTo>
                <a:lnTo>
                  <a:pt x="80" y="351"/>
                </a:lnTo>
                <a:lnTo>
                  <a:pt x="119" y="225"/>
                </a:lnTo>
                <a:lnTo>
                  <a:pt x="117" y="149"/>
                </a:lnTo>
                <a:lnTo>
                  <a:pt x="98" y="0"/>
                </a:lnTo>
                <a:lnTo>
                  <a:pt x="98" y="0"/>
                </a:lnTo>
                <a:lnTo>
                  <a:pt x="98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28"/>
          <p:cNvSpPr/>
          <p:nvPr/>
        </p:nvSpPr>
        <p:spPr>
          <a:xfrm>
            <a:off x="3935520" y="4514760"/>
            <a:ext cx="581040" cy="308160"/>
          </a:xfrm>
          <a:custGeom>
            <a:avLst/>
            <a:gdLst>
              <a:gd name="textAreaLeft" fmla="*/ 0 w 581040"/>
              <a:gd name="textAreaRight" fmla="*/ 581400 w 58104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366" h="194">
                <a:moveTo>
                  <a:pt x="0" y="111"/>
                </a:moveTo>
                <a:lnTo>
                  <a:pt x="48" y="167"/>
                </a:lnTo>
                <a:lnTo>
                  <a:pt x="114" y="194"/>
                </a:lnTo>
                <a:lnTo>
                  <a:pt x="192" y="194"/>
                </a:lnTo>
                <a:lnTo>
                  <a:pt x="259" y="161"/>
                </a:lnTo>
                <a:lnTo>
                  <a:pt x="329" y="108"/>
                </a:lnTo>
                <a:lnTo>
                  <a:pt x="366" y="0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reeform 29"/>
          <p:cNvSpPr/>
          <p:nvPr/>
        </p:nvSpPr>
        <p:spPr>
          <a:xfrm>
            <a:off x="3747960" y="4869000"/>
            <a:ext cx="254160" cy="806400"/>
          </a:xfrm>
          <a:custGeom>
            <a:avLst/>
            <a:gdLst>
              <a:gd name="textAreaLeft" fmla="*/ 0 w 254160"/>
              <a:gd name="textAreaRight" fmla="*/ 254520 w 2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60" h="508">
                <a:moveTo>
                  <a:pt x="134" y="508"/>
                </a:moveTo>
                <a:lnTo>
                  <a:pt x="160" y="471"/>
                </a:lnTo>
                <a:lnTo>
                  <a:pt x="86" y="365"/>
                </a:lnTo>
                <a:lnTo>
                  <a:pt x="77" y="264"/>
                </a:lnTo>
                <a:lnTo>
                  <a:pt x="86" y="195"/>
                </a:lnTo>
                <a:lnTo>
                  <a:pt x="127" y="0"/>
                </a:lnTo>
                <a:lnTo>
                  <a:pt x="80" y="21"/>
                </a:lnTo>
                <a:lnTo>
                  <a:pt x="0" y="195"/>
                </a:lnTo>
                <a:lnTo>
                  <a:pt x="17" y="445"/>
                </a:lnTo>
                <a:lnTo>
                  <a:pt x="134" y="508"/>
                </a:lnTo>
                <a:lnTo>
                  <a:pt x="134" y="508"/>
                </a:lnTo>
                <a:lnTo>
                  <a:pt x="134" y="50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30"/>
          <p:cNvSpPr/>
          <p:nvPr/>
        </p:nvSpPr>
        <p:spPr>
          <a:xfrm>
            <a:off x="4071960" y="5086440"/>
            <a:ext cx="361800" cy="503280"/>
          </a:xfrm>
          <a:custGeom>
            <a:avLst/>
            <a:gdLst>
              <a:gd name="textAreaLeft" fmla="*/ 0 w 361800"/>
              <a:gd name="textAreaRight" fmla="*/ 362160 w 3618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28" h="317">
                <a:moveTo>
                  <a:pt x="56" y="200"/>
                </a:moveTo>
                <a:lnTo>
                  <a:pt x="0" y="317"/>
                </a:lnTo>
                <a:lnTo>
                  <a:pt x="52" y="311"/>
                </a:lnTo>
                <a:lnTo>
                  <a:pt x="151" y="251"/>
                </a:lnTo>
                <a:lnTo>
                  <a:pt x="200" y="172"/>
                </a:lnTo>
                <a:lnTo>
                  <a:pt x="228" y="67"/>
                </a:lnTo>
                <a:lnTo>
                  <a:pt x="207" y="0"/>
                </a:lnTo>
                <a:lnTo>
                  <a:pt x="56" y="200"/>
                </a:lnTo>
                <a:lnTo>
                  <a:pt x="56" y="200"/>
                </a:lnTo>
                <a:lnTo>
                  <a:pt x="56" y="20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31"/>
          <p:cNvSpPr/>
          <p:nvPr/>
        </p:nvSpPr>
        <p:spPr>
          <a:xfrm>
            <a:off x="4486320" y="5321160"/>
            <a:ext cx="158760" cy="658800"/>
          </a:xfrm>
          <a:custGeom>
            <a:avLst/>
            <a:gdLst>
              <a:gd name="textAreaLeft" fmla="*/ 0 w 158760"/>
              <a:gd name="textAreaRight" fmla="*/ 159120 w 15876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00" h="415">
                <a:moveTo>
                  <a:pt x="66" y="0"/>
                </a:moveTo>
                <a:lnTo>
                  <a:pt x="77" y="176"/>
                </a:lnTo>
                <a:lnTo>
                  <a:pt x="40" y="247"/>
                </a:lnTo>
                <a:lnTo>
                  <a:pt x="13" y="189"/>
                </a:lnTo>
                <a:lnTo>
                  <a:pt x="0" y="292"/>
                </a:lnTo>
                <a:lnTo>
                  <a:pt x="66" y="415"/>
                </a:lnTo>
                <a:lnTo>
                  <a:pt x="100" y="243"/>
                </a:lnTo>
                <a:lnTo>
                  <a:pt x="100" y="73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Freeform 32"/>
          <p:cNvSpPr/>
          <p:nvPr/>
        </p:nvSpPr>
        <p:spPr>
          <a:xfrm>
            <a:off x="3954600" y="6094440"/>
            <a:ext cx="241200" cy="392040"/>
          </a:xfrm>
          <a:custGeom>
            <a:avLst/>
            <a:gdLst>
              <a:gd name="textAreaLeft" fmla="*/ 0 w 241200"/>
              <a:gd name="textAreaRight" fmla="*/ 241560 w 24120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152" h="247">
                <a:moveTo>
                  <a:pt x="91" y="6"/>
                </a:moveTo>
                <a:lnTo>
                  <a:pt x="10" y="53"/>
                </a:lnTo>
                <a:lnTo>
                  <a:pt x="20" y="133"/>
                </a:lnTo>
                <a:lnTo>
                  <a:pt x="41" y="187"/>
                </a:lnTo>
                <a:lnTo>
                  <a:pt x="0" y="247"/>
                </a:lnTo>
                <a:lnTo>
                  <a:pt x="74" y="193"/>
                </a:lnTo>
                <a:lnTo>
                  <a:pt x="80" y="126"/>
                </a:lnTo>
                <a:lnTo>
                  <a:pt x="114" y="73"/>
                </a:lnTo>
                <a:lnTo>
                  <a:pt x="152" y="0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Freeform 33"/>
          <p:cNvSpPr/>
          <p:nvPr/>
        </p:nvSpPr>
        <p:spPr>
          <a:xfrm>
            <a:off x="7658280" y="4645080"/>
            <a:ext cx="568080" cy="942840"/>
          </a:xfrm>
          <a:custGeom>
            <a:avLst/>
            <a:gdLst>
              <a:gd name="textAreaLeft" fmla="*/ 0 w 568080"/>
              <a:gd name="textAreaRight" fmla="*/ 568440 w 56808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358" h="594">
                <a:moveTo>
                  <a:pt x="0" y="0"/>
                </a:moveTo>
                <a:lnTo>
                  <a:pt x="123" y="127"/>
                </a:lnTo>
                <a:lnTo>
                  <a:pt x="215" y="204"/>
                </a:lnTo>
                <a:lnTo>
                  <a:pt x="312" y="286"/>
                </a:lnTo>
                <a:lnTo>
                  <a:pt x="358" y="378"/>
                </a:lnTo>
                <a:lnTo>
                  <a:pt x="320" y="460"/>
                </a:lnTo>
                <a:lnTo>
                  <a:pt x="247" y="554"/>
                </a:lnTo>
                <a:lnTo>
                  <a:pt x="88" y="594"/>
                </a:lnTo>
                <a:lnTo>
                  <a:pt x="195" y="426"/>
                </a:lnTo>
                <a:lnTo>
                  <a:pt x="119" y="248"/>
                </a:lnTo>
                <a:lnTo>
                  <a:pt x="12" y="13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reeform 34"/>
          <p:cNvSpPr/>
          <p:nvPr/>
        </p:nvSpPr>
        <p:spPr>
          <a:xfrm>
            <a:off x="7413480" y="5076720"/>
            <a:ext cx="335160" cy="347760"/>
          </a:xfrm>
          <a:custGeom>
            <a:avLst/>
            <a:gdLst>
              <a:gd name="textAreaLeft" fmla="*/ 0 w 335160"/>
              <a:gd name="textAreaRight" fmla="*/ 335520 w 3351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211" h="219">
                <a:moveTo>
                  <a:pt x="0" y="4"/>
                </a:moveTo>
                <a:lnTo>
                  <a:pt x="11" y="77"/>
                </a:lnTo>
                <a:lnTo>
                  <a:pt x="68" y="72"/>
                </a:lnTo>
                <a:lnTo>
                  <a:pt x="134" y="107"/>
                </a:lnTo>
                <a:lnTo>
                  <a:pt x="150" y="219"/>
                </a:lnTo>
                <a:lnTo>
                  <a:pt x="211" y="169"/>
                </a:lnTo>
                <a:lnTo>
                  <a:pt x="196" y="66"/>
                </a:lnTo>
                <a:lnTo>
                  <a:pt x="119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35"/>
          <p:cNvSpPr/>
          <p:nvPr/>
        </p:nvSpPr>
        <p:spPr>
          <a:xfrm>
            <a:off x="6676920" y="2357280"/>
            <a:ext cx="389160" cy="673200"/>
          </a:xfrm>
          <a:custGeom>
            <a:avLst/>
            <a:gdLst>
              <a:gd name="textAreaLeft" fmla="*/ 0 w 389160"/>
              <a:gd name="textAreaRight" fmla="*/ 389520 w 38916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245" h="424">
                <a:moveTo>
                  <a:pt x="0" y="18"/>
                </a:moveTo>
                <a:lnTo>
                  <a:pt x="73" y="77"/>
                </a:lnTo>
                <a:lnTo>
                  <a:pt x="126" y="135"/>
                </a:lnTo>
                <a:lnTo>
                  <a:pt x="137" y="191"/>
                </a:lnTo>
                <a:lnTo>
                  <a:pt x="137" y="287"/>
                </a:lnTo>
                <a:lnTo>
                  <a:pt x="180" y="228"/>
                </a:lnTo>
                <a:lnTo>
                  <a:pt x="165" y="309"/>
                </a:lnTo>
                <a:lnTo>
                  <a:pt x="142" y="424"/>
                </a:lnTo>
                <a:lnTo>
                  <a:pt x="213" y="315"/>
                </a:lnTo>
                <a:lnTo>
                  <a:pt x="245" y="228"/>
                </a:lnTo>
                <a:lnTo>
                  <a:pt x="191" y="92"/>
                </a:lnTo>
                <a:lnTo>
                  <a:pt x="41" y="0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36"/>
          <p:cNvSpPr/>
          <p:nvPr/>
        </p:nvSpPr>
        <p:spPr>
          <a:xfrm>
            <a:off x="6308640" y="4003560"/>
            <a:ext cx="773280" cy="236520"/>
          </a:xfrm>
          <a:custGeom>
            <a:avLst/>
            <a:gdLst>
              <a:gd name="textAreaLeft" fmla="*/ 0 w 773280"/>
              <a:gd name="textAreaRight" fmla="*/ 773640 w 773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87" h="149">
                <a:moveTo>
                  <a:pt x="0" y="149"/>
                </a:moveTo>
                <a:lnTo>
                  <a:pt x="55" y="139"/>
                </a:lnTo>
                <a:lnTo>
                  <a:pt x="109" y="120"/>
                </a:lnTo>
                <a:lnTo>
                  <a:pt x="226" y="69"/>
                </a:lnTo>
                <a:lnTo>
                  <a:pt x="288" y="54"/>
                </a:lnTo>
                <a:lnTo>
                  <a:pt x="371" y="57"/>
                </a:lnTo>
                <a:lnTo>
                  <a:pt x="437" y="80"/>
                </a:lnTo>
                <a:lnTo>
                  <a:pt x="487" y="113"/>
                </a:lnTo>
                <a:lnTo>
                  <a:pt x="475" y="88"/>
                </a:lnTo>
                <a:lnTo>
                  <a:pt x="484" y="59"/>
                </a:lnTo>
                <a:lnTo>
                  <a:pt x="446" y="61"/>
                </a:lnTo>
                <a:lnTo>
                  <a:pt x="419" y="57"/>
                </a:lnTo>
                <a:lnTo>
                  <a:pt x="419" y="33"/>
                </a:lnTo>
                <a:lnTo>
                  <a:pt x="352" y="7"/>
                </a:lnTo>
                <a:lnTo>
                  <a:pt x="288" y="0"/>
                </a:lnTo>
                <a:lnTo>
                  <a:pt x="222" y="5"/>
                </a:lnTo>
                <a:lnTo>
                  <a:pt x="168" y="29"/>
                </a:lnTo>
                <a:lnTo>
                  <a:pt x="76" y="46"/>
                </a:lnTo>
                <a:lnTo>
                  <a:pt x="23" y="92"/>
                </a:lnTo>
                <a:lnTo>
                  <a:pt x="9" y="125"/>
                </a:lnTo>
                <a:lnTo>
                  <a:pt x="0" y="149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37"/>
          <p:cNvSpPr/>
          <p:nvPr/>
        </p:nvSpPr>
        <p:spPr>
          <a:xfrm>
            <a:off x="5145120" y="4273560"/>
            <a:ext cx="600120" cy="223920"/>
          </a:xfrm>
          <a:custGeom>
            <a:avLst/>
            <a:gdLst>
              <a:gd name="textAreaLeft" fmla="*/ 0 w 600120"/>
              <a:gd name="textAreaRight" fmla="*/ 600480 w 6001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378" h="141">
                <a:moveTo>
                  <a:pt x="346" y="52"/>
                </a:moveTo>
                <a:lnTo>
                  <a:pt x="295" y="66"/>
                </a:lnTo>
                <a:lnTo>
                  <a:pt x="212" y="64"/>
                </a:lnTo>
                <a:lnTo>
                  <a:pt x="156" y="64"/>
                </a:lnTo>
                <a:lnTo>
                  <a:pt x="100" y="74"/>
                </a:lnTo>
                <a:lnTo>
                  <a:pt x="32" y="109"/>
                </a:lnTo>
                <a:lnTo>
                  <a:pt x="0" y="141"/>
                </a:lnTo>
                <a:lnTo>
                  <a:pt x="32" y="74"/>
                </a:lnTo>
                <a:lnTo>
                  <a:pt x="97" y="31"/>
                </a:lnTo>
                <a:lnTo>
                  <a:pt x="171" y="23"/>
                </a:lnTo>
                <a:lnTo>
                  <a:pt x="202" y="7"/>
                </a:lnTo>
                <a:lnTo>
                  <a:pt x="292" y="0"/>
                </a:lnTo>
                <a:lnTo>
                  <a:pt x="343" y="10"/>
                </a:lnTo>
                <a:lnTo>
                  <a:pt x="378" y="33"/>
                </a:lnTo>
                <a:lnTo>
                  <a:pt x="346" y="52"/>
                </a:lnTo>
                <a:lnTo>
                  <a:pt x="346" y="52"/>
                </a:lnTo>
                <a:lnTo>
                  <a:pt x="346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reeform 38"/>
          <p:cNvSpPr/>
          <p:nvPr/>
        </p:nvSpPr>
        <p:spPr>
          <a:xfrm>
            <a:off x="6165720" y="4254480"/>
            <a:ext cx="481320" cy="1008000"/>
          </a:xfrm>
          <a:custGeom>
            <a:avLst/>
            <a:gdLst>
              <a:gd name="textAreaLeft" fmla="*/ 0 w 481320"/>
              <a:gd name="textAreaRight" fmla="*/ 481680 w 4813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303" h="635">
                <a:moveTo>
                  <a:pt x="281" y="0"/>
                </a:moveTo>
                <a:lnTo>
                  <a:pt x="220" y="35"/>
                </a:lnTo>
                <a:lnTo>
                  <a:pt x="166" y="86"/>
                </a:lnTo>
                <a:lnTo>
                  <a:pt x="145" y="116"/>
                </a:lnTo>
                <a:lnTo>
                  <a:pt x="150" y="155"/>
                </a:lnTo>
                <a:lnTo>
                  <a:pt x="116" y="153"/>
                </a:lnTo>
                <a:lnTo>
                  <a:pt x="118" y="191"/>
                </a:lnTo>
                <a:lnTo>
                  <a:pt x="160" y="317"/>
                </a:lnTo>
                <a:lnTo>
                  <a:pt x="196" y="394"/>
                </a:lnTo>
                <a:lnTo>
                  <a:pt x="260" y="449"/>
                </a:lnTo>
                <a:lnTo>
                  <a:pt x="303" y="512"/>
                </a:lnTo>
                <a:lnTo>
                  <a:pt x="286" y="577"/>
                </a:lnTo>
                <a:lnTo>
                  <a:pt x="236" y="597"/>
                </a:lnTo>
                <a:lnTo>
                  <a:pt x="191" y="593"/>
                </a:lnTo>
                <a:lnTo>
                  <a:pt x="78" y="635"/>
                </a:lnTo>
                <a:lnTo>
                  <a:pt x="0" y="635"/>
                </a:lnTo>
                <a:lnTo>
                  <a:pt x="54" y="617"/>
                </a:lnTo>
                <a:lnTo>
                  <a:pt x="83" y="595"/>
                </a:lnTo>
                <a:lnTo>
                  <a:pt x="104" y="574"/>
                </a:lnTo>
                <a:lnTo>
                  <a:pt x="128" y="566"/>
                </a:lnTo>
                <a:lnTo>
                  <a:pt x="175" y="558"/>
                </a:lnTo>
                <a:lnTo>
                  <a:pt x="241" y="558"/>
                </a:lnTo>
                <a:lnTo>
                  <a:pt x="263" y="531"/>
                </a:lnTo>
                <a:lnTo>
                  <a:pt x="263" y="491"/>
                </a:lnTo>
                <a:lnTo>
                  <a:pt x="241" y="456"/>
                </a:lnTo>
                <a:lnTo>
                  <a:pt x="217" y="440"/>
                </a:lnTo>
                <a:lnTo>
                  <a:pt x="185" y="435"/>
                </a:lnTo>
                <a:lnTo>
                  <a:pt x="124" y="494"/>
                </a:lnTo>
                <a:lnTo>
                  <a:pt x="99" y="437"/>
                </a:lnTo>
                <a:lnTo>
                  <a:pt x="72" y="331"/>
                </a:lnTo>
                <a:lnTo>
                  <a:pt x="64" y="206"/>
                </a:lnTo>
                <a:lnTo>
                  <a:pt x="62" y="155"/>
                </a:lnTo>
                <a:lnTo>
                  <a:pt x="73" y="113"/>
                </a:lnTo>
                <a:lnTo>
                  <a:pt x="99" y="70"/>
                </a:lnTo>
                <a:lnTo>
                  <a:pt x="109" y="92"/>
                </a:lnTo>
                <a:lnTo>
                  <a:pt x="128" y="102"/>
                </a:lnTo>
                <a:lnTo>
                  <a:pt x="153" y="86"/>
                </a:lnTo>
                <a:lnTo>
                  <a:pt x="194" y="40"/>
                </a:lnTo>
                <a:lnTo>
                  <a:pt x="236" y="12"/>
                </a:lnTo>
                <a:lnTo>
                  <a:pt x="281" y="0"/>
                </a:lnTo>
                <a:lnTo>
                  <a:pt x="28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reeform 39"/>
          <p:cNvSpPr/>
          <p:nvPr/>
        </p:nvSpPr>
        <p:spPr>
          <a:xfrm>
            <a:off x="6400800" y="4240080"/>
            <a:ext cx="666720" cy="257400"/>
          </a:xfrm>
          <a:custGeom>
            <a:avLst/>
            <a:gdLst>
              <a:gd name="textAreaLeft" fmla="*/ 0 w 666720"/>
              <a:gd name="textAreaRight" fmla="*/ 667080 w 6667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420" h="162">
                <a:moveTo>
                  <a:pt x="0" y="149"/>
                </a:moveTo>
                <a:lnTo>
                  <a:pt x="56" y="92"/>
                </a:lnTo>
                <a:lnTo>
                  <a:pt x="102" y="61"/>
                </a:lnTo>
                <a:lnTo>
                  <a:pt x="157" y="38"/>
                </a:lnTo>
                <a:lnTo>
                  <a:pt x="188" y="33"/>
                </a:lnTo>
                <a:lnTo>
                  <a:pt x="225" y="31"/>
                </a:lnTo>
                <a:lnTo>
                  <a:pt x="195" y="0"/>
                </a:lnTo>
                <a:lnTo>
                  <a:pt x="240" y="0"/>
                </a:lnTo>
                <a:lnTo>
                  <a:pt x="275" y="9"/>
                </a:lnTo>
                <a:lnTo>
                  <a:pt x="315" y="9"/>
                </a:lnTo>
                <a:lnTo>
                  <a:pt x="311" y="28"/>
                </a:lnTo>
                <a:lnTo>
                  <a:pt x="367" y="33"/>
                </a:lnTo>
                <a:lnTo>
                  <a:pt x="393" y="23"/>
                </a:lnTo>
                <a:lnTo>
                  <a:pt x="370" y="54"/>
                </a:lnTo>
                <a:lnTo>
                  <a:pt x="420" y="41"/>
                </a:lnTo>
                <a:lnTo>
                  <a:pt x="398" y="73"/>
                </a:lnTo>
                <a:lnTo>
                  <a:pt x="417" y="101"/>
                </a:lnTo>
                <a:lnTo>
                  <a:pt x="370" y="97"/>
                </a:lnTo>
                <a:lnTo>
                  <a:pt x="346" y="108"/>
                </a:lnTo>
                <a:lnTo>
                  <a:pt x="332" y="135"/>
                </a:lnTo>
                <a:lnTo>
                  <a:pt x="300" y="135"/>
                </a:lnTo>
                <a:lnTo>
                  <a:pt x="259" y="151"/>
                </a:lnTo>
                <a:lnTo>
                  <a:pt x="216" y="162"/>
                </a:lnTo>
                <a:lnTo>
                  <a:pt x="142" y="162"/>
                </a:lnTo>
                <a:lnTo>
                  <a:pt x="249" y="141"/>
                </a:lnTo>
                <a:lnTo>
                  <a:pt x="318" y="103"/>
                </a:lnTo>
                <a:lnTo>
                  <a:pt x="273" y="82"/>
                </a:lnTo>
                <a:lnTo>
                  <a:pt x="230" y="71"/>
                </a:lnTo>
                <a:lnTo>
                  <a:pt x="188" y="68"/>
                </a:lnTo>
                <a:lnTo>
                  <a:pt x="150" y="68"/>
                </a:lnTo>
                <a:lnTo>
                  <a:pt x="112" y="76"/>
                </a:lnTo>
                <a:lnTo>
                  <a:pt x="79" y="92"/>
                </a:lnTo>
                <a:lnTo>
                  <a:pt x="56" y="116"/>
                </a:lnTo>
                <a:lnTo>
                  <a:pt x="39" y="144"/>
                </a:lnTo>
                <a:lnTo>
                  <a:pt x="96" y="162"/>
                </a:lnTo>
                <a:lnTo>
                  <a:pt x="27" y="162"/>
                </a:lnTo>
                <a:lnTo>
                  <a:pt x="0" y="149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40"/>
          <p:cNvSpPr/>
          <p:nvPr/>
        </p:nvSpPr>
        <p:spPr>
          <a:xfrm>
            <a:off x="6647040" y="43480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17"/>
                </a:moveTo>
                <a:lnTo>
                  <a:pt x="16" y="26"/>
                </a:lnTo>
                <a:lnTo>
                  <a:pt x="19" y="38"/>
                </a:lnTo>
                <a:lnTo>
                  <a:pt x="6" y="49"/>
                </a:lnTo>
                <a:lnTo>
                  <a:pt x="27" y="54"/>
                </a:lnTo>
                <a:lnTo>
                  <a:pt x="46" y="49"/>
                </a:lnTo>
                <a:lnTo>
                  <a:pt x="54" y="33"/>
                </a:lnTo>
                <a:lnTo>
                  <a:pt x="49" y="11"/>
                </a:lnTo>
                <a:lnTo>
                  <a:pt x="30" y="0"/>
                </a:lnTo>
                <a:lnTo>
                  <a:pt x="11" y="4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41"/>
          <p:cNvSpPr/>
          <p:nvPr/>
        </p:nvSpPr>
        <p:spPr>
          <a:xfrm>
            <a:off x="6567480" y="4340160"/>
            <a:ext cx="225360" cy="154080"/>
          </a:xfrm>
          <a:custGeom>
            <a:avLst/>
            <a:gdLst>
              <a:gd name="textAreaLeft" fmla="*/ 0 w 225360"/>
              <a:gd name="textAreaRight" fmla="*/ 225720 w 225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42" h="97">
                <a:moveTo>
                  <a:pt x="31" y="0"/>
                </a:moveTo>
                <a:lnTo>
                  <a:pt x="23" y="50"/>
                </a:lnTo>
                <a:lnTo>
                  <a:pt x="45" y="78"/>
                </a:lnTo>
                <a:lnTo>
                  <a:pt x="61" y="83"/>
                </a:lnTo>
                <a:lnTo>
                  <a:pt x="85" y="83"/>
                </a:lnTo>
                <a:lnTo>
                  <a:pt x="106" y="72"/>
                </a:lnTo>
                <a:lnTo>
                  <a:pt x="123" y="50"/>
                </a:lnTo>
                <a:lnTo>
                  <a:pt x="125" y="27"/>
                </a:lnTo>
                <a:lnTo>
                  <a:pt x="114" y="2"/>
                </a:lnTo>
                <a:lnTo>
                  <a:pt x="135" y="2"/>
                </a:lnTo>
                <a:lnTo>
                  <a:pt x="142" y="29"/>
                </a:lnTo>
                <a:lnTo>
                  <a:pt x="139" y="57"/>
                </a:lnTo>
                <a:lnTo>
                  <a:pt x="123" y="81"/>
                </a:lnTo>
                <a:lnTo>
                  <a:pt x="97" y="93"/>
                </a:lnTo>
                <a:lnTo>
                  <a:pt x="59" y="97"/>
                </a:lnTo>
                <a:lnTo>
                  <a:pt x="31" y="86"/>
                </a:lnTo>
                <a:lnTo>
                  <a:pt x="7" y="50"/>
                </a:lnTo>
                <a:lnTo>
                  <a:pt x="0" y="24"/>
                </a:lnTo>
                <a:lnTo>
                  <a:pt x="0" y="10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42"/>
          <p:cNvSpPr/>
          <p:nvPr/>
        </p:nvSpPr>
        <p:spPr>
          <a:xfrm>
            <a:off x="5952960" y="5208480"/>
            <a:ext cx="179640" cy="42840"/>
          </a:xfrm>
          <a:custGeom>
            <a:avLst/>
            <a:gdLst>
              <a:gd name="textAreaLeft" fmla="*/ 0 w 179640"/>
              <a:gd name="textAreaRight" fmla="*/ 180000 w 179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3" h="27">
                <a:moveTo>
                  <a:pt x="113" y="27"/>
                </a:moveTo>
                <a:lnTo>
                  <a:pt x="49" y="0"/>
                </a:lnTo>
                <a:lnTo>
                  <a:pt x="0" y="13"/>
                </a:lnTo>
                <a:lnTo>
                  <a:pt x="14" y="27"/>
                </a:lnTo>
                <a:lnTo>
                  <a:pt x="73" y="27"/>
                </a:lnTo>
                <a:lnTo>
                  <a:pt x="113" y="27"/>
                </a:lnTo>
                <a:lnTo>
                  <a:pt x="113" y="27"/>
                </a:lnTo>
                <a:lnTo>
                  <a:pt x="113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43"/>
          <p:cNvSpPr/>
          <p:nvPr/>
        </p:nvSpPr>
        <p:spPr>
          <a:xfrm>
            <a:off x="6680160" y="5089680"/>
            <a:ext cx="327240" cy="296640"/>
          </a:xfrm>
          <a:custGeom>
            <a:avLst/>
            <a:gdLst>
              <a:gd name="textAreaLeft" fmla="*/ 0 w 327240"/>
              <a:gd name="textAreaRight" fmla="*/ 327600 w 32724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06" h="187">
                <a:moveTo>
                  <a:pt x="0" y="0"/>
                </a:moveTo>
                <a:lnTo>
                  <a:pt x="57" y="43"/>
                </a:lnTo>
                <a:lnTo>
                  <a:pt x="182" y="107"/>
                </a:lnTo>
                <a:lnTo>
                  <a:pt x="206" y="134"/>
                </a:lnTo>
                <a:lnTo>
                  <a:pt x="206" y="187"/>
                </a:lnTo>
                <a:lnTo>
                  <a:pt x="194" y="142"/>
                </a:lnTo>
                <a:lnTo>
                  <a:pt x="148" y="107"/>
                </a:lnTo>
                <a:lnTo>
                  <a:pt x="52" y="5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44"/>
          <p:cNvSpPr/>
          <p:nvPr/>
        </p:nvSpPr>
        <p:spPr>
          <a:xfrm>
            <a:off x="5859360" y="5381640"/>
            <a:ext cx="1005120" cy="18396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33" h="116">
                <a:moveTo>
                  <a:pt x="0" y="116"/>
                </a:moveTo>
                <a:lnTo>
                  <a:pt x="92" y="102"/>
                </a:lnTo>
                <a:lnTo>
                  <a:pt x="153" y="97"/>
                </a:lnTo>
                <a:lnTo>
                  <a:pt x="271" y="92"/>
                </a:lnTo>
                <a:lnTo>
                  <a:pt x="314" y="83"/>
                </a:lnTo>
                <a:lnTo>
                  <a:pt x="413" y="62"/>
                </a:lnTo>
                <a:lnTo>
                  <a:pt x="498" y="41"/>
                </a:lnTo>
                <a:lnTo>
                  <a:pt x="543" y="36"/>
                </a:lnTo>
                <a:lnTo>
                  <a:pt x="566" y="36"/>
                </a:lnTo>
                <a:lnTo>
                  <a:pt x="566" y="73"/>
                </a:lnTo>
                <a:lnTo>
                  <a:pt x="569" y="95"/>
                </a:lnTo>
                <a:lnTo>
                  <a:pt x="602" y="59"/>
                </a:lnTo>
                <a:lnTo>
                  <a:pt x="602" y="95"/>
                </a:lnTo>
                <a:lnTo>
                  <a:pt x="628" y="47"/>
                </a:lnTo>
                <a:lnTo>
                  <a:pt x="633" y="12"/>
                </a:lnTo>
                <a:lnTo>
                  <a:pt x="614" y="6"/>
                </a:lnTo>
                <a:lnTo>
                  <a:pt x="566" y="0"/>
                </a:lnTo>
                <a:lnTo>
                  <a:pt x="501" y="0"/>
                </a:lnTo>
                <a:lnTo>
                  <a:pt x="410" y="3"/>
                </a:lnTo>
                <a:lnTo>
                  <a:pt x="375" y="12"/>
                </a:lnTo>
                <a:lnTo>
                  <a:pt x="302" y="24"/>
                </a:lnTo>
                <a:lnTo>
                  <a:pt x="266" y="27"/>
                </a:lnTo>
                <a:lnTo>
                  <a:pt x="156" y="41"/>
                </a:lnTo>
                <a:lnTo>
                  <a:pt x="110" y="57"/>
                </a:lnTo>
                <a:lnTo>
                  <a:pt x="177" y="47"/>
                </a:lnTo>
                <a:lnTo>
                  <a:pt x="250" y="41"/>
                </a:lnTo>
                <a:lnTo>
                  <a:pt x="295" y="41"/>
                </a:lnTo>
                <a:lnTo>
                  <a:pt x="346" y="31"/>
                </a:lnTo>
                <a:lnTo>
                  <a:pt x="384" y="24"/>
                </a:lnTo>
                <a:lnTo>
                  <a:pt x="351" y="65"/>
                </a:lnTo>
                <a:lnTo>
                  <a:pt x="300" y="76"/>
                </a:lnTo>
                <a:lnTo>
                  <a:pt x="231" y="83"/>
                </a:lnTo>
                <a:lnTo>
                  <a:pt x="161" y="86"/>
                </a:lnTo>
                <a:lnTo>
                  <a:pt x="118" y="95"/>
                </a:lnTo>
                <a:lnTo>
                  <a:pt x="54" y="100"/>
                </a:lnTo>
                <a:lnTo>
                  <a:pt x="0" y="116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45"/>
          <p:cNvSpPr/>
          <p:nvPr/>
        </p:nvSpPr>
        <p:spPr>
          <a:xfrm>
            <a:off x="5788080" y="5562720"/>
            <a:ext cx="144360" cy="101520"/>
          </a:xfrm>
          <a:custGeom>
            <a:avLst/>
            <a:gdLst>
              <a:gd name="textAreaLeft" fmla="*/ 0 w 144360"/>
              <a:gd name="textAreaRight" fmla="*/ 144720 w 144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91" h="64">
                <a:moveTo>
                  <a:pt x="0" y="13"/>
                </a:moveTo>
                <a:lnTo>
                  <a:pt x="54" y="64"/>
                </a:lnTo>
                <a:lnTo>
                  <a:pt x="54" y="40"/>
                </a:lnTo>
                <a:lnTo>
                  <a:pt x="91" y="42"/>
                </a:lnTo>
                <a:lnTo>
                  <a:pt x="56" y="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46"/>
          <p:cNvSpPr/>
          <p:nvPr/>
        </p:nvSpPr>
        <p:spPr>
          <a:xfrm>
            <a:off x="5925960" y="5527800"/>
            <a:ext cx="831960" cy="233280"/>
          </a:xfrm>
          <a:custGeom>
            <a:avLst/>
            <a:gdLst>
              <a:gd name="textAreaLeft" fmla="*/ 0 w 831960"/>
              <a:gd name="textAreaRight" fmla="*/ 832320 w 8319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24" h="147">
                <a:moveTo>
                  <a:pt x="0" y="81"/>
                </a:moveTo>
                <a:lnTo>
                  <a:pt x="66" y="112"/>
                </a:lnTo>
                <a:lnTo>
                  <a:pt x="156" y="129"/>
                </a:lnTo>
                <a:lnTo>
                  <a:pt x="232" y="129"/>
                </a:lnTo>
                <a:lnTo>
                  <a:pt x="319" y="112"/>
                </a:lnTo>
                <a:lnTo>
                  <a:pt x="401" y="86"/>
                </a:lnTo>
                <a:lnTo>
                  <a:pt x="467" y="46"/>
                </a:lnTo>
                <a:lnTo>
                  <a:pt x="524" y="0"/>
                </a:lnTo>
                <a:lnTo>
                  <a:pt x="465" y="59"/>
                </a:lnTo>
                <a:lnTo>
                  <a:pt x="416" y="94"/>
                </a:lnTo>
                <a:lnTo>
                  <a:pt x="336" y="126"/>
                </a:lnTo>
                <a:lnTo>
                  <a:pt x="267" y="142"/>
                </a:lnTo>
                <a:lnTo>
                  <a:pt x="194" y="147"/>
                </a:lnTo>
                <a:lnTo>
                  <a:pt x="121" y="140"/>
                </a:lnTo>
                <a:lnTo>
                  <a:pt x="57" y="121"/>
                </a:lnTo>
                <a:lnTo>
                  <a:pt x="0" y="81"/>
                </a:lnTo>
                <a:lnTo>
                  <a:pt x="0" y="81"/>
                </a:lnTo>
                <a:lnTo>
                  <a:pt x="0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47"/>
          <p:cNvSpPr/>
          <p:nvPr/>
        </p:nvSpPr>
        <p:spPr>
          <a:xfrm>
            <a:off x="5952960" y="5513400"/>
            <a:ext cx="858960" cy="341280"/>
          </a:xfrm>
          <a:custGeom>
            <a:avLst/>
            <a:gdLst>
              <a:gd name="textAreaLeft" fmla="*/ 0 w 858960"/>
              <a:gd name="textAreaRight" fmla="*/ 859320 w 858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41" h="215">
                <a:moveTo>
                  <a:pt x="541" y="14"/>
                </a:moveTo>
                <a:lnTo>
                  <a:pt x="507" y="79"/>
                </a:lnTo>
                <a:lnTo>
                  <a:pt x="453" y="130"/>
                </a:lnTo>
                <a:lnTo>
                  <a:pt x="373" y="177"/>
                </a:lnTo>
                <a:lnTo>
                  <a:pt x="300" y="205"/>
                </a:lnTo>
                <a:lnTo>
                  <a:pt x="224" y="215"/>
                </a:lnTo>
                <a:lnTo>
                  <a:pt x="137" y="208"/>
                </a:lnTo>
                <a:lnTo>
                  <a:pt x="56" y="180"/>
                </a:lnTo>
                <a:lnTo>
                  <a:pt x="0" y="138"/>
                </a:lnTo>
                <a:lnTo>
                  <a:pt x="68" y="175"/>
                </a:lnTo>
                <a:lnTo>
                  <a:pt x="115" y="189"/>
                </a:lnTo>
                <a:lnTo>
                  <a:pt x="188" y="199"/>
                </a:lnTo>
                <a:lnTo>
                  <a:pt x="255" y="196"/>
                </a:lnTo>
                <a:lnTo>
                  <a:pt x="316" y="184"/>
                </a:lnTo>
                <a:lnTo>
                  <a:pt x="359" y="164"/>
                </a:lnTo>
                <a:lnTo>
                  <a:pt x="378" y="151"/>
                </a:lnTo>
                <a:lnTo>
                  <a:pt x="387" y="135"/>
                </a:lnTo>
                <a:lnTo>
                  <a:pt x="370" y="121"/>
                </a:lnTo>
                <a:lnTo>
                  <a:pt x="343" y="118"/>
                </a:lnTo>
                <a:lnTo>
                  <a:pt x="402" y="92"/>
                </a:lnTo>
                <a:lnTo>
                  <a:pt x="453" y="55"/>
                </a:lnTo>
                <a:lnTo>
                  <a:pt x="517" y="0"/>
                </a:lnTo>
                <a:lnTo>
                  <a:pt x="507" y="41"/>
                </a:lnTo>
                <a:lnTo>
                  <a:pt x="541" y="14"/>
                </a:lnTo>
                <a:lnTo>
                  <a:pt x="541" y="14"/>
                </a:lnTo>
                <a:lnTo>
                  <a:pt x="54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48"/>
          <p:cNvSpPr/>
          <p:nvPr/>
        </p:nvSpPr>
        <p:spPr>
          <a:xfrm>
            <a:off x="5603760" y="5135400"/>
            <a:ext cx="244440" cy="520920"/>
          </a:xfrm>
          <a:custGeom>
            <a:avLst/>
            <a:gdLst>
              <a:gd name="textAreaLeft" fmla="*/ 0 w 244440"/>
              <a:gd name="textAreaRight" fmla="*/ 244800 w 244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54" h="328">
                <a:moveTo>
                  <a:pt x="154" y="0"/>
                </a:moveTo>
                <a:lnTo>
                  <a:pt x="130" y="78"/>
                </a:lnTo>
                <a:lnTo>
                  <a:pt x="89" y="149"/>
                </a:lnTo>
                <a:lnTo>
                  <a:pt x="59" y="188"/>
                </a:lnTo>
                <a:lnTo>
                  <a:pt x="40" y="228"/>
                </a:lnTo>
                <a:lnTo>
                  <a:pt x="22" y="287"/>
                </a:lnTo>
                <a:lnTo>
                  <a:pt x="16" y="328"/>
                </a:lnTo>
                <a:lnTo>
                  <a:pt x="0" y="277"/>
                </a:lnTo>
                <a:lnTo>
                  <a:pt x="0" y="236"/>
                </a:lnTo>
                <a:lnTo>
                  <a:pt x="11" y="194"/>
                </a:lnTo>
                <a:lnTo>
                  <a:pt x="44" y="151"/>
                </a:lnTo>
                <a:lnTo>
                  <a:pt x="75" y="118"/>
                </a:lnTo>
                <a:lnTo>
                  <a:pt x="103" y="87"/>
                </a:lnTo>
                <a:lnTo>
                  <a:pt x="123" y="54"/>
                </a:lnTo>
                <a:lnTo>
                  <a:pt x="154" y="0"/>
                </a:lnTo>
                <a:lnTo>
                  <a:pt x="154" y="0"/>
                </a:lnTo>
                <a:lnTo>
                  <a:pt x="1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49"/>
          <p:cNvSpPr/>
          <p:nvPr/>
        </p:nvSpPr>
        <p:spPr>
          <a:xfrm>
            <a:off x="5224320" y="4518000"/>
            <a:ext cx="635040" cy="243000"/>
          </a:xfrm>
          <a:custGeom>
            <a:avLst/>
            <a:gdLst>
              <a:gd name="textAreaLeft" fmla="*/ 0 w 635040"/>
              <a:gd name="textAreaRight" fmla="*/ 635040 w 635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00" h="153">
                <a:moveTo>
                  <a:pt x="336" y="84"/>
                </a:moveTo>
                <a:lnTo>
                  <a:pt x="400" y="62"/>
                </a:lnTo>
                <a:lnTo>
                  <a:pt x="362" y="33"/>
                </a:lnTo>
                <a:lnTo>
                  <a:pt x="288" y="9"/>
                </a:lnTo>
                <a:lnTo>
                  <a:pt x="208" y="0"/>
                </a:lnTo>
                <a:lnTo>
                  <a:pt x="156" y="9"/>
                </a:lnTo>
                <a:lnTo>
                  <a:pt x="159" y="30"/>
                </a:lnTo>
                <a:lnTo>
                  <a:pt x="121" y="35"/>
                </a:lnTo>
                <a:lnTo>
                  <a:pt x="111" y="16"/>
                </a:lnTo>
                <a:lnTo>
                  <a:pt x="59" y="54"/>
                </a:lnTo>
                <a:lnTo>
                  <a:pt x="31" y="84"/>
                </a:lnTo>
                <a:lnTo>
                  <a:pt x="53" y="99"/>
                </a:lnTo>
                <a:lnTo>
                  <a:pt x="36" y="115"/>
                </a:lnTo>
                <a:lnTo>
                  <a:pt x="0" y="134"/>
                </a:lnTo>
                <a:lnTo>
                  <a:pt x="41" y="145"/>
                </a:lnTo>
                <a:lnTo>
                  <a:pt x="69" y="145"/>
                </a:lnTo>
                <a:lnTo>
                  <a:pt x="106" y="137"/>
                </a:lnTo>
                <a:lnTo>
                  <a:pt x="125" y="153"/>
                </a:lnTo>
                <a:lnTo>
                  <a:pt x="149" y="137"/>
                </a:lnTo>
                <a:lnTo>
                  <a:pt x="173" y="143"/>
                </a:lnTo>
                <a:lnTo>
                  <a:pt x="194" y="118"/>
                </a:lnTo>
                <a:lnTo>
                  <a:pt x="140" y="110"/>
                </a:lnTo>
                <a:lnTo>
                  <a:pt x="121" y="94"/>
                </a:lnTo>
                <a:lnTo>
                  <a:pt x="146" y="68"/>
                </a:lnTo>
                <a:lnTo>
                  <a:pt x="178" y="46"/>
                </a:lnTo>
                <a:lnTo>
                  <a:pt x="215" y="35"/>
                </a:lnTo>
                <a:lnTo>
                  <a:pt x="261" y="35"/>
                </a:lnTo>
                <a:lnTo>
                  <a:pt x="309" y="44"/>
                </a:lnTo>
                <a:lnTo>
                  <a:pt x="347" y="51"/>
                </a:lnTo>
                <a:lnTo>
                  <a:pt x="336" y="84"/>
                </a:lnTo>
                <a:lnTo>
                  <a:pt x="336" y="84"/>
                </a:lnTo>
                <a:lnTo>
                  <a:pt x="33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50"/>
          <p:cNvSpPr/>
          <p:nvPr/>
        </p:nvSpPr>
        <p:spPr>
          <a:xfrm>
            <a:off x="5557680" y="4656240"/>
            <a:ext cx="154080" cy="66600"/>
          </a:xfrm>
          <a:custGeom>
            <a:avLst/>
            <a:gdLst>
              <a:gd name="textAreaLeft" fmla="*/ 0 w 154080"/>
              <a:gd name="textAreaRight" fmla="*/ 154440 w 154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7" h="42">
                <a:moveTo>
                  <a:pt x="0" y="26"/>
                </a:moveTo>
                <a:lnTo>
                  <a:pt x="48" y="16"/>
                </a:lnTo>
                <a:lnTo>
                  <a:pt x="97" y="0"/>
                </a:lnTo>
                <a:lnTo>
                  <a:pt x="54" y="31"/>
                </a:lnTo>
                <a:lnTo>
                  <a:pt x="25" y="31"/>
                </a:lnTo>
                <a:lnTo>
                  <a:pt x="0" y="42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51"/>
          <p:cNvSpPr/>
          <p:nvPr/>
        </p:nvSpPr>
        <p:spPr>
          <a:xfrm>
            <a:off x="5353200" y="4476600"/>
            <a:ext cx="382320" cy="111240"/>
          </a:xfrm>
          <a:custGeom>
            <a:avLst/>
            <a:gdLst>
              <a:gd name="textAreaLeft" fmla="*/ 0 w 382320"/>
              <a:gd name="textAreaRight" fmla="*/ 382680 w 382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41" h="70">
                <a:moveTo>
                  <a:pt x="0" y="66"/>
                </a:moveTo>
                <a:lnTo>
                  <a:pt x="59" y="21"/>
                </a:lnTo>
                <a:lnTo>
                  <a:pt x="129" y="0"/>
                </a:lnTo>
                <a:lnTo>
                  <a:pt x="186" y="0"/>
                </a:lnTo>
                <a:lnTo>
                  <a:pt x="241" y="11"/>
                </a:lnTo>
                <a:lnTo>
                  <a:pt x="143" y="11"/>
                </a:lnTo>
                <a:lnTo>
                  <a:pt x="68" y="32"/>
                </a:lnTo>
                <a:lnTo>
                  <a:pt x="25" y="70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52"/>
          <p:cNvSpPr/>
          <p:nvPr/>
        </p:nvSpPr>
        <p:spPr>
          <a:xfrm>
            <a:off x="5570640" y="4578480"/>
            <a:ext cx="73080" cy="63360"/>
          </a:xfrm>
          <a:custGeom>
            <a:avLst/>
            <a:gdLst>
              <a:gd name="textAreaLeft" fmla="*/ 0 w 73080"/>
              <a:gd name="textAreaRight" fmla="*/ 73440 w 730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6" h="40">
                <a:moveTo>
                  <a:pt x="6" y="6"/>
                </a:moveTo>
                <a:lnTo>
                  <a:pt x="19" y="16"/>
                </a:lnTo>
                <a:lnTo>
                  <a:pt x="19" y="30"/>
                </a:lnTo>
                <a:lnTo>
                  <a:pt x="0" y="40"/>
                </a:lnTo>
                <a:lnTo>
                  <a:pt x="24" y="40"/>
                </a:lnTo>
                <a:lnTo>
                  <a:pt x="46" y="27"/>
                </a:lnTo>
                <a:lnTo>
                  <a:pt x="46" y="10"/>
                </a:lnTo>
                <a:lnTo>
                  <a:pt x="30" y="0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53"/>
          <p:cNvSpPr/>
          <p:nvPr/>
        </p:nvSpPr>
        <p:spPr>
          <a:xfrm>
            <a:off x="5477040" y="4557600"/>
            <a:ext cx="225360" cy="135000"/>
          </a:xfrm>
          <a:custGeom>
            <a:avLst/>
            <a:gdLst>
              <a:gd name="textAreaLeft" fmla="*/ 0 w 225360"/>
              <a:gd name="textAreaRight" fmla="*/ 225720 w 2253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42" h="85">
                <a:moveTo>
                  <a:pt x="30" y="8"/>
                </a:moveTo>
                <a:lnTo>
                  <a:pt x="21" y="45"/>
                </a:lnTo>
                <a:lnTo>
                  <a:pt x="40" y="69"/>
                </a:lnTo>
                <a:lnTo>
                  <a:pt x="70" y="78"/>
                </a:lnTo>
                <a:lnTo>
                  <a:pt x="105" y="69"/>
                </a:lnTo>
                <a:lnTo>
                  <a:pt x="127" y="48"/>
                </a:lnTo>
                <a:lnTo>
                  <a:pt x="129" y="26"/>
                </a:lnTo>
                <a:lnTo>
                  <a:pt x="115" y="0"/>
                </a:lnTo>
                <a:lnTo>
                  <a:pt x="142" y="8"/>
                </a:lnTo>
                <a:lnTo>
                  <a:pt x="142" y="37"/>
                </a:lnTo>
                <a:lnTo>
                  <a:pt x="132" y="69"/>
                </a:lnTo>
                <a:lnTo>
                  <a:pt x="99" y="85"/>
                </a:lnTo>
                <a:lnTo>
                  <a:pt x="51" y="85"/>
                </a:lnTo>
                <a:lnTo>
                  <a:pt x="30" y="81"/>
                </a:lnTo>
                <a:lnTo>
                  <a:pt x="14" y="59"/>
                </a:lnTo>
                <a:lnTo>
                  <a:pt x="6" y="37"/>
                </a:lnTo>
                <a:lnTo>
                  <a:pt x="0" y="19"/>
                </a:lnTo>
                <a:lnTo>
                  <a:pt x="30" y="8"/>
                </a:lnTo>
                <a:lnTo>
                  <a:pt x="30" y="8"/>
                </a:lnTo>
                <a:lnTo>
                  <a:pt x="3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54"/>
          <p:cNvSpPr/>
          <p:nvPr/>
        </p:nvSpPr>
        <p:spPr>
          <a:xfrm>
            <a:off x="4925880" y="2562120"/>
            <a:ext cx="1970280" cy="2222640"/>
          </a:xfrm>
          <a:custGeom>
            <a:avLst/>
            <a:gdLst>
              <a:gd name="textAreaLeft" fmla="*/ 0 w 1970280"/>
              <a:gd name="textAreaRight" fmla="*/ 1970640 w 1970280"/>
              <a:gd name="textAreaTop" fmla="*/ 0 h 2222640"/>
              <a:gd name="textAreaBottom" fmla="*/ 2223000 h 2222640"/>
            </a:gdLst>
            <a:ahLst/>
            <a:rect l="textAreaLeft" t="textAreaTop" r="textAreaRight" b="textAreaBottom"/>
            <a:pathLst>
              <a:path w="1241" h="1400">
                <a:moveTo>
                  <a:pt x="791" y="412"/>
                </a:moveTo>
                <a:lnTo>
                  <a:pt x="822" y="354"/>
                </a:lnTo>
                <a:lnTo>
                  <a:pt x="842" y="412"/>
                </a:lnTo>
                <a:lnTo>
                  <a:pt x="893" y="330"/>
                </a:lnTo>
                <a:lnTo>
                  <a:pt x="899" y="418"/>
                </a:lnTo>
                <a:lnTo>
                  <a:pt x="962" y="354"/>
                </a:lnTo>
                <a:lnTo>
                  <a:pt x="968" y="425"/>
                </a:lnTo>
                <a:lnTo>
                  <a:pt x="1032" y="393"/>
                </a:lnTo>
                <a:lnTo>
                  <a:pt x="1063" y="438"/>
                </a:lnTo>
                <a:lnTo>
                  <a:pt x="1139" y="412"/>
                </a:lnTo>
                <a:lnTo>
                  <a:pt x="1189" y="361"/>
                </a:lnTo>
                <a:lnTo>
                  <a:pt x="1222" y="286"/>
                </a:lnTo>
                <a:lnTo>
                  <a:pt x="1241" y="177"/>
                </a:lnTo>
                <a:lnTo>
                  <a:pt x="1189" y="76"/>
                </a:lnTo>
                <a:lnTo>
                  <a:pt x="1101" y="0"/>
                </a:lnTo>
                <a:lnTo>
                  <a:pt x="1145" y="63"/>
                </a:lnTo>
                <a:lnTo>
                  <a:pt x="1170" y="140"/>
                </a:lnTo>
                <a:lnTo>
                  <a:pt x="1170" y="197"/>
                </a:lnTo>
                <a:lnTo>
                  <a:pt x="1114" y="101"/>
                </a:lnTo>
                <a:lnTo>
                  <a:pt x="1032" y="63"/>
                </a:lnTo>
                <a:lnTo>
                  <a:pt x="918" y="51"/>
                </a:lnTo>
                <a:lnTo>
                  <a:pt x="842" y="76"/>
                </a:lnTo>
                <a:lnTo>
                  <a:pt x="747" y="127"/>
                </a:lnTo>
                <a:lnTo>
                  <a:pt x="683" y="152"/>
                </a:lnTo>
                <a:lnTo>
                  <a:pt x="608" y="177"/>
                </a:lnTo>
                <a:lnTo>
                  <a:pt x="481" y="203"/>
                </a:lnTo>
                <a:lnTo>
                  <a:pt x="615" y="215"/>
                </a:lnTo>
                <a:lnTo>
                  <a:pt x="735" y="215"/>
                </a:lnTo>
                <a:lnTo>
                  <a:pt x="829" y="197"/>
                </a:lnTo>
                <a:lnTo>
                  <a:pt x="905" y="159"/>
                </a:lnTo>
                <a:lnTo>
                  <a:pt x="962" y="152"/>
                </a:lnTo>
                <a:lnTo>
                  <a:pt x="1012" y="165"/>
                </a:lnTo>
                <a:lnTo>
                  <a:pt x="1039" y="197"/>
                </a:lnTo>
                <a:lnTo>
                  <a:pt x="1039" y="246"/>
                </a:lnTo>
                <a:lnTo>
                  <a:pt x="981" y="203"/>
                </a:lnTo>
                <a:lnTo>
                  <a:pt x="905" y="197"/>
                </a:lnTo>
                <a:lnTo>
                  <a:pt x="842" y="222"/>
                </a:lnTo>
                <a:lnTo>
                  <a:pt x="753" y="260"/>
                </a:lnTo>
                <a:lnTo>
                  <a:pt x="646" y="292"/>
                </a:lnTo>
                <a:lnTo>
                  <a:pt x="544" y="310"/>
                </a:lnTo>
                <a:lnTo>
                  <a:pt x="437" y="310"/>
                </a:lnTo>
                <a:lnTo>
                  <a:pt x="247" y="286"/>
                </a:lnTo>
                <a:lnTo>
                  <a:pt x="285" y="342"/>
                </a:lnTo>
                <a:lnTo>
                  <a:pt x="215" y="330"/>
                </a:lnTo>
                <a:lnTo>
                  <a:pt x="102" y="280"/>
                </a:lnTo>
                <a:lnTo>
                  <a:pt x="159" y="361"/>
                </a:lnTo>
                <a:lnTo>
                  <a:pt x="221" y="418"/>
                </a:lnTo>
                <a:lnTo>
                  <a:pt x="285" y="444"/>
                </a:lnTo>
                <a:lnTo>
                  <a:pt x="215" y="456"/>
                </a:lnTo>
                <a:lnTo>
                  <a:pt x="121" y="444"/>
                </a:lnTo>
                <a:lnTo>
                  <a:pt x="0" y="406"/>
                </a:lnTo>
                <a:lnTo>
                  <a:pt x="76" y="513"/>
                </a:lnTo>
                <a:lnTo>
                  <a:pt x="152" y="558"/>
                </a:lnTo>
                <a:lnTo>
                  <a:pt x="133" y="640"/>
                </a:lnTo>
                <a:lnTo>
                  <a:pt x="146" y="710"/>
                </a:lnTo>
                <a:lnTo>
                  <a:pt x="159" y="805"/>
                </a:lnTo>
                <a:lnTo>
                  <a:pt x="89" y="893"/>
                </a:lnTo>
                <a:lnTo>
                  <a:pt x="57" y="1001"/>
                </a:lnTo>
                <a:lnTo>
                  <a:pt x="44" y="1090"/>
                </a:lnTo>
                <a:lnTo>
                  <a:pt x="57" y="1165"/>
                </a:lnTo>
                <a:lnTo>
                  <a:pt x="44" y="1279"/>
                </a:lnTo>
                <a:lnTo>
                  <a:pt x="6" y="1400"/>
                </a:lnTo>
                <a:lnTo>
                  <a:pt x="96" y="1311"/>
                </a:lnTo>
                <a:lnTo>
                  <a:pt x="165" y="1191"/>
                </a:lnTo>
                <a:lnTo>
                  <a:pt x="209" y="1070"/>
                </a:lnTo>
                <a:lnTo>
                  <a:pt x="254" y="995"/>
                </a:lnTo>
                <a:lnTo>
                  <a:pt x="267" y="887"/>
                </a:lnTo>
                <a:lnTo>
                  <a:pt x="292" y="785"/>
                </a:lnTo>
                <a:lnTo>
                  <a:pt x="317" y="691"/>
                </a:lnTo>
                <a:lnTo>
                  <a:pt x="373" y="590"/>
                </a:lnTo>
                <a:lnTo>
                  <a:pt x="419" y="551"/>
                </a:lnTo>
                <a:lnTo>
                  <a:pt x="462" y="533"/>
                </a:lnTo>
                <a:lnTo>
                  <a:pt x="525" y="539"/>
                </a:lnTo>
                <a:lnTo>
                  <a:pt x="615" y="513"/>
                </a:lnTo>
                <a:lnTo>
                  <a:pt x="671" y="462"/>
                </a:lnTo>
                <a:lnTo>
                  <a:pt x="753" y="379"/>
                </a:lnTo>
                <a:lnTo>
                  <a:pt x="791" y="412"/>
                </a:lnTo>
                <a:lnTo>
                  <a:pt x="791" y="412"/>
                </a:lnTo>
                <a:lnTo>
                  <a:pt x="791" y="4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55"/>
          <p:cNvSpPr/>
          <p:nvPr/>
        </p:nvSpPr>
        <p:spPr>
          <a:xfrm>
            <a:off x="6703920" y="2754360"/>
            <a:ext cx="2671920" cy="3941640"/>
          </a:xfrm>
          <a:custGeom>
            <a:avLst/>
            <a:gdLst>
              <a:gd name="textAreaLeft" fmla="*/ 0 w 2671920"/>
              <a:gd name="textAreaRight" fmla="*/ 2672280 w 2671920"/>
              <a:gd name="textAreaTop" fmla="*/ 0 h 3941640"/>
              <a:gd name="textAreaBottom" fmla="*/ 3942000 h 3941640"/>
            </a:gdLst>
            <a:ahLst/>
            <a:rect l="textAreaLeft" t="textAreaTop" r="textAreaRight" b="textAreaBottom"/>
            <a:pathLst>
              <a:path w="1683" h="2483">
                <a:moveTo>
                  <a:pt x="0" y="310"/>
                </a:moveTo>
                <a:lnTo>
                  <a:pt x="76" y="285"/>
                </a:lnTo>
                <a:lnTo>
                  <a:pt x="145" y="233"/>
                </a:lnTo>
                <a:lnTo>
                  <a:pt x="221" y="159"/>
                </a:lnTo>
                <a:lnTo>
                  <a:pt x="266" y="82"/>
                </a:lnTo>
                <a:lnTo>
                  <a:pt x="279" y="0"/>
                </a:lnTo>
                <a:lnTo>
                  <a:pt x="298" y="69"/>
                </a:lnTo>
                <a:lnTo>
                  <a:pt x="373" y="56"/>
                </a:lnTo>
                <a:lnTo>
                  <a:pt x="443" y="82"/>
                </a:lnTo>
                <a:lnTo>
                  <a:pt x="506" y="133"/>
                </a:lnTo>
                <a:lnTo>
                  <a:pt x="531" y="209"/>
                </a:lnTo>
                <a:lnTo>
                  <a:pt x="545" y="297"/>
                </a:lnTo>
                <a:lnTo>
                  <a:pt x="564" y="353"/>
                </a:lnTo>
                <a:lnTo>
                  <a:pt x="608" y="392"/>
                </a:lnTo>
                <a:lnTo>
                  <a:pt x="658" y="430"/>
                </a:lnTo>
                <a:lnTo>
                  <a:pt x="791" y="475"/>
                </a:lnTo>
                <a:lnTo>
                  <a:pt x="912" y="481"/>
                </a:lnTo>
                <a:lnTo>
                  <a:pt x="791" y="512"/>
                </a:lnTo>
                <a:lnTo>
                  <a:pt x="886" y="582"/>
                </a:lnTo>
                <a:lnTo>
                  <a:pt x="955" y="658"/>
                </a:lnTo>
                <a:lnTo>
                  <a:pt x="993" y="760"/>
                </a:lnTo>
                <a:lnTo>
                  <a:pt x="937" y="684"/>
                </a:lnTo>
                <a:lnTo>
                  <a:pt x="862" y="620"/>
                </a:lnTo>
                <a:lnTo>
                  <a:pt x="797" y="601"/>
                </a:lnTo>
                <a:lnTo>
                  <a:pt x="848" y="677"/>
                </a:lnTo>
                <a:lnTo>
                  <a:pt x="880" y="753"/>
                </a:lnTo>
                <a:lnTo>
                  <a:pt x="925" y="829"/>
                </a:lnTo>
                <a:lnTo>
                  <a:pt x="987" y="855"/>
                </a:lnTo>
                <a:lnTo>
                  <a:pt x="1051" y="874"/>
                </a:lnTo>
                <a:lnTo>
                  <a:pt x="981" y="905"/>
                </a:lnTo>
                <a:lnTo>
                  <a:pt x="981" y="994"/>
                </a:lnTo>
                <a:lnTo>
                  <a:pt x="937" y="930"/>
                </a:lnTo>
                <a:lnTo>
                  <a:pt x="949" y="1070"/>
                </a:lnTo>
                <a:lnTo>
                  <a:pt x="1007" y="1140"/>
                </a:lnTo>
                <a:lnTo>
                  <a:pt x="1101" y="1209"/>
                </a:lnTo>
                <a:lnTo>
                  <a:pt x="1151" y="1254"/>
                </a:lnTo>
                <a:lnTo>
                  <a:pt x="1196" y="1329"/>
                </a:lnTo>
                <a:lnTo>
                  <a:pt x="1222" y="1394"/>
                </a:lnTo>
                <a:lnTo>
                  <a:pt x="1228" y="1456"/>
                </a:lnTo>
                <a:lnTo>
                  <a:pt x="1222" y="1539"/>
                </a:lnTo>
                <a:lnTo>
                  <a:pt x="1177" y="1614"/>
                </a:lnTo>
                <a:lnTo>
                  <a:pt x="1095" y="1704"/>
                </a:lnTo>
                <a:lnTo>
                  <a:pt x="1202" y="1659"/>
                </a:lnTo>
                <a:lnTo>
                  <a:pt x="1196" y="1760"/>
                </a:lnTo>
                <a:lnTo>
                  <a:pt x="1272" y="1672"/>
                </a:lnTo>
                <a:lnTo>
                  <a:pt x="1297" y="1595"/>
                </a:lnTo>
                <a:lnTo>
                  <a:pt x="1309" y="1520"/>
                </a:lnTo>
                <a:lnTo>
                  <a:pt x="1297" y="1437"/>
                </a:lnTo>
                <a:lnTo>
                  <a:pt x="1278" y="1368"/>
                </a:lnTo>
                <a:lnTo>
                  <a:pt x="1336" y="1444"/>
                </a:lnTo>
                <a:lnTo>
                  <a:pt x="1361" y="1493"/>
                </a:lnTo>
                <a:lnTo>
                  <a:pt x="1380" y="1558"/>
                </a:lnTo>
                <a:lnTo>
                  <a:pt x="1386" y="1627"/>
                </a:lnTo>
                <a:lnTo>
                  <a:pt x="1380" y="1716"/>
                </a:lnTo>
                <a:lnTo>
                  <a:pt x="1442" y="1627"/>
                </a:lnTo>
                <a:lnTo>
                  <a:pt x="1468" y="1527"/>
                </a:lnTo>
                <a:lnTo>
                  <a:pt x="1494" y="1641"/>
                </a:lnTo>
                <a:lnTo>
                  <a:pt x="1474" y="1734"/>
                </a:lnTo>
                <a:lnTo>
                  <a:pt x="1449" y="1811"/>
                </a:lnTo>
                <a:lnTo>
                  <a:pt x="1474" y="1919"/>
                </a:lnTo>
                <a:lnTo>
                  <a:pt x="1461" y="2001"/>
                </a:lnTo>
                <a:lnTo>
                  <a:pt x="1519" y="2052"/>
                </a:lnTo>
                <a:lnTo>
                  <a:pt x="1575" y="2058"/>
                </a:lnTo>
                <a:lnTo>
                  <a:pt x="1652" y="2033"/>
                </a:lnTo>
                <a:lnTo>
                  <a:pt x="1646" y="2109"/>
                </a:lnTo>
                <a:lnTo>
                  <a:pt x="1607" y="2171"/>
                </a:lnTo>
                <a:lnTo>
                  <a:pt x="1563" y="2211"/>
                </a:lnTo>
                <a:lnTo>
                  <a:pt x="1582" y="2273"/>
                </a:lnTo>
                <a:lnTo>
                  <a:pt x="1588" y="2369"/>
                </a:lnTo>
                <a:lnTo>
                  <a:pt x="1665" y="2419"/>
                </a:lnTo>
                <a:lnTo>
                  <a:pt x="1683" y="2483"/>
                </a:lnTo>
                <a:lnTo>
                  <a:pt x="1640" y="2431"/>
                </a:lnTo>
                <a:lnTo>
                  <a:pt x="1544" y="2457"/>
                </a:lnTo>
                <a:lnTo>
                  <a:pt x="1399" y="2457"/>
                </a:lnTo>
                <a:lnTo>
                  <a:pt x="1317" y="2444"/>
                </a:lnTo>
                <a:lnTo>
                  <a:pt x="1184" y="2394"/>
                </a:lnTo>
                <a:lnTo>
                  <a:pt x="1095" y="2312"/>
                </a:lnTo>
                <a:lnTo>
                  <a:pt x="1057" y="2229"/>
                </a:lnTo>
                <a:lnTo>
                  <a:pt x="1051" y="2128"/>
                </a:lnTo>
                <a:lnTo>
                  <a:pt x="1076" y="2001"/>
                </a:lnTo>
                <a:lnTo>
                  <a:pt x="1139" y="1868"/>
                </a:lnTo>
                <a:lnTo>
                  <a:pt x="1051" y="1975"/>
                </a:lnTo>
                <a:lnTo>
                  <a:pt x="1013" y="2065"/>
                </a:lnTo>
                <a:lnTo>
                  <a:pt x="987" y="2153"/>
                </a:lnTo>
                <a:lnTo>
                  <a:pt x="999" y="2254"/>
                </a:lnTo>
                <a:lnTo>
                  <a:pt x="1069" y="2343"/>
                </a:lnTo>
                <a:lnTo>
                  <a:pt x="912" y="2298"/>
                </a:lnTo>
                <a:lnTo>
                  <a:pt x="589" y="2273"/>
                </a:lnTo>
                <a:lnTo>
                  <a:pt x="348" y="2192"/>
                </a:lnTo>
                <a:lnTo>
                  <a:pt x="393" y="2078"/>
                </a:lnTo>
                <a:lnTo>
                  <a:pt x="437" y="1988"/>
                </a:lnTo>
                <a:lnTo>
                  <a:pt x="518" y="1899"/>
                </a:lnTo>
                <a:lnTo>
                  <a:pt x="456" y="2014"/>
                </a:lnTo>
                <a:lnTo>
                  <a:pt x="443" y="2121"/>
                </a:lnTo>
                <a:lnTo>
                  <a:pt x="506" y="2007"/>
                </a:lnTo>
                <a:lnTo>
                  <a:pt x="589" y="1925"/>
                </a:lnTo>
                <a:lnTo>
                  <a:pt x="697" y="1849"/>
                </a:lnTo>
                <a:lnTo>
                  <a:pt x="809" y="1747"/>
                </a:lnTo>
                <a:lnTo>
                  <a:pt x="880" y="1678"/>
                </a:lnTo>
                <a:lnTo>
                  <a:pt x="918" y="1595"/>
                </a:lnTo>
                <a:lnTo>
                  <a:pt x="918" y="1532"/>
                </a:lnTo>
                <a:lnTo>
                  <a:pt x="886" y="1456"/>
                </a:lnTo>
                <a:lnTo>
                  <a:pt x="816" y="1374"/>
                </a:lnTo>
                <a:lnTo>
                  <a:pt x="740" y="1291"/>
                </a:lnTo>
                <a:lnTo>
                  <a:pt x="689" y="1216"/>
                </a:lnTo>
                <a:lnTo>
                  <a:pt x="683" y="1127"/>
                </a:lnTo>
                <a:lnTo>
                  <a:pt x="735" y="1203"/>
                </a:lnTo>
                <a:lnTo>
                  <a:pt x="862" y="1254"/>
                </a:lnTo>
                <a:lnTo>
                  <a:pt x="772" y="1177"/>
                </a:lnTo>
                <a:lnTo>
                  <a:pt x="689" y="1090"/>
                </a:lnTo>
                <a:lnTo>
                  <a:pt x="652" y="988"/>
                </a:lnTo>
                <a:lnTo>
                  <a:pt x="645" y="917"/>
                </a:lnTo>
                <a:lnTo>
                  <a:pt x="677" y="843"/>
                </a:lnTo>
                <a:lnTo>
                  <a:pt x="735" y="760"/>
                </a:lnTo>
                <a:lnTo>
                  <a:pt x="740" y="670"/>
                </a:lnTo>
                <a:lnTo>
                  <a:pt x="703" y="595"/>
                </a:lnTo>
                <a:lnTo>
                  <a:pt x="626" y="531"/>
                </a:lnTo>
                <a:lnTo>
                  <a:pt x="671" y="645"/>
                </a:lnTo>
                <a:lnTo>
                  <a:pt x="677" y="709"/>
                </a:lnTo>
                <a:lnTo>
                  <a:pt x="614" y="620"/>
                </a:lnTo>
                <a:lnTo>
                  <a:pt x="633" y="709"/>
                </a:lnTo>
                <a:lnTo>
                  <a:pt x="601" y="822"/>
                </a:lnTo>
                <a:lnTo>
                  <a:pt x="500" y="969"/>
                </a:lnTo>
                <a:lnTo>
                  <a:pt x="443" y="1115"/>
                </a:lnTo>
                <a:lnTo>
                  <a:pt x="418" y="1248"/>
                </a:lnTo>
                <a:lnTo>
                  <a:pt x="399" y="1050"/>
                </a:lnTo>
                <a:lnTo>
                  <a:pt x="354" y="911"/>
                </a:lnTo>
                <a:lnTo>
                  <a:pt x="177" y="512"/>
                </a:lnTo>
                <a:lnTo>
                  <a:pt x="127" y="418"/>
                </a:lnTo>
                <a:lnTo>
                  <a:pt x="89" y="373"/>
                </a:lnTo>
                <a:lnTo>
                  <a:pt x="44" y="335"/>
                </a:lnTo>
                <a:lnTo>
                  <a:pt x="0" y="310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56"/>
          <p:cNvSpPr/>
          <p:nvPr/>
        </p:nvSpPr>
        <p:spPr>
          <a:xfrm>
            <a:off x="8312040" y="4019400"/>
            <a:ext cx="692280" cy="1006560"/>
          </a:xfrm>
          <a:custGeom>
            <a:avLst/>
            <a:gdLst>
              <a:gd name="textAreaLeft" fmla="*/ 0 w 692280"/>
              <a:gd name="textAreaRight" fmla="*/ 692640 w 69228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36" h="634">
                <a:moveTo>
                  <a:pt x="7" y="0"/>
                </a:moveTo>
                <a:lnTo>
                  <a:pt x="32" y="39"/>
                </a:lnTo>
                <a:lnTo>
                  <a:pt x="94" y="96"/>
                </a:lnTo>
                <a:lnTo>
                  <a:pt x="44" y="120"/>
                </a:lnTo>
                <a:lnTo>
                  <a:pt x="113" y="247"/>
                </a:lnTo>
                <a:lnTo>
                  <a:pt x="209" y="349"/>
                </a:lnTo>
                <a:lnTo>
                  <a:pt x="323" y="451"/>
                </a:lnTo>
                <a:lnTo>
                  <a:pt x="398" y="545"/>
                </a:lnTo>
                <a:lnTo>
                  <a:pt x="436" y="634"/>
                </a:lnTo>
                <a:lnTo>
                  <a:pt x="360" y="526"/>
                </a:lnTo>
                <a:lnTo>
                  <a:pt x="240" y="399"/>
                </a:lnTo>
                <a:lnTo>
                  <a:pt x="100" y="311"/>
                </a:lnTo>
                <a:lnTo>
                  <a:pt x="164" y="412"/>
                </a:lnTo>
                <a:lnTo>
                  <a:pt x="76" y="349"/>
                </a:lnTo>
                <a:lnTo>
                  <a:pt x="19" y="280"/>
                </a:lnTo>
                <a:lnTo>
                  <a:pt x="0" y="184"/>
                </a:lnTo>
                <a:lnTo>
                  <a:pt x="0" y="7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57"/>
          <p:cNvSpPr/>
          <p:nvPr/>
        </p:nvSpPr>
        <p:spPr>
          <a:xfrm>
            <a:off x="6323040" y="4111560"/>
            <a:ext cx="1768320" cy="260352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2603520"/>
              <a:gd name="textAreaBottom" fmla="*/ 2603880 h 2603520"/>
            </a:gdLst>
            <a:ahLst/>
            <a:rect l="textAreaLeft" t="textAreaTop" r="textAreaRight" b="textAreaBottom"/>
            <a:pathLst>
              <a:path w="1114" h="1640">
                <a:moveTo>
                  <a:pt x="689" y="222"/>
                </a:moveTo>
                <a:lnTo>
                  <a:pt x="771" y="120"/>
                </a:lnTo>
                <a:lnTo>
                  <a:pt x="866" y="0"/>
                </a:lnTo>
                <a:lnTo>
                  <a:pt x="841" y="120"/>
                </a:lnTo>
                <a:lnTo>
                  <a:pt x="835" y="202"/>
                </a:lnTo>
                <a:lnTo>
                  <a:pt x="841" y="285"/>
                </a:lnTo>
                <a:lnTo>
                  <a:pt x="873" y="399"/>
                </a:lnTo>
                <a:lnTo>
                  <a:pt x="929" y="468"/>
                </a:lnTo>
                <a:lnTo>
                  <a:pt x="1081" y="589"/>
                </a:lnTo>
                <a:lnTo>
                  <a:pt x="1114" y="638"/>
                </a:lnTo>
                <a:lnTo>
                  <a:pt x="1114" y="715"/>
                </a:lnTo>
                <a:lnTo>
                  <a:pt x="1075" y="798"/>
                </a:lnTo>
                <a:lnTo>
                  <a:pt x="1012" y="886"/>
                </a:lnTo>
                <a:lnTo>
                  <a:pt x="854" y="1000"/>
                </a:lnTo>
                <a:lnTo>
                  <a:pt x="778" y="1050"/>
                </a:lnTo>
                <a:lnTo>
                  <a:pt x="709" y="1140"/>
                </a:lnTo>
                <a:lnTo>
                  <a:pt x="658" y="1229"/>
                </a:lnTo>
                <a:lnTo>
                  <a:pt x="625" y="1349"/>
                </a:lnTo>
                <a:lnTo>
                  <a:pt x="525" y="1329"/>
                </a:lnTo>
                <a:lnTo>
                  <a:pt x="481" y="1418"/>
                </a:lnTo>
                <a:lnTo>
                  <a:pt x="392" y="1507"/>
                </a:lnTo>
                <a:lnTo>
                  <a:pt x="259" y="1589"/>
                </a:lnTo>
                <a:lnTo>
                  <a:pt x="88" y="1640"/>
                </a:lnTo>
                <a:lnTo>
                  <a:pt x="278" y="1551"/>
                </a:lnTo>
                <a:lnTo>
                  <a:pt x="385" y="1470"/>
                </a:lnTo>
                <a:lnTo>
                  <a:pt x="455" y="1387"/>
                </a:lnTo>
                <a:lnTo>
                  <a:pt x="468" y="1316"/>
                </a:lnTo>
                <a:lnTo>
                  <a:pt x="411" y="1298"/>
                </a:lnTo>
                <a:lnTo>
                  <a:pt x="297" y="1368"/>
                </a:lnTo>
                <a:lnTo>
                  <a:pt x="209" y="1406"/>
                </a:lnTo>
                <a:lnTo>
                  <a:pt x="108" y="1424"/>
                </a:lnTo>
                <a:lnTo>
                  <a:pt x="0" y="1412"/>
                </a:lnTo>
                <a:lnTo>
                  <a:pt x="113" y="1412"/>
                </a:lnTo>
                <a:lnTo>
                  <a:pt x="177" y="1393"/>
                </a:lnTo>
                <a:lnTo>
                  <a:pt x="259" y="1356"/>
                </a:lnTo>
                <a:lnTo>
                  <a:pt x="379" y="1266"/>
                </a:lnTo>
                <a:lnTo>
                  <a:pt x="500" y="1140"/>
                </a:lnTo>
                <a:lnTo>
                  <a:pt x="633" y="956"/>
                </a:lnTo>
                <a:lnTo>
                  <a:pt x="683" y="886"/>
                </a:lnTo>
                <a:lnTo>
                  <a:pt x="696" y="810"/>
                </a:lnTo>
                <a:lnTo>
                  <a:pt x="702" y="715"/>
                </a:lnTo>
                <a:lnTo>
                  <a:pt x="727" y="830"/>
                </a:lnTo>
                <a:lnTo>
                  <a:pt x="792" y="830"/>
                </a:lnTo>
                <a:lnTo>
                  <a:pt x="778" y="740"/>
                </a:lnTo>
                <a:lnTo>
                  <a:pt x="848" y="798"/>
                </a:lnTo>
                <a:lnTo>
                  <a:pt x="866" y="728"/>
                </a:lnTo>
                <a:lnTo>
                  <a:pt x="829" y="672"/>
                </a:lnTo>
                <a:lnTo>
                  <a:pt x="797" y="645"/>
                </a:lnTo>
                <a:lnTo>
                  <a:pt x="696" y="652"/>
                </a:lnTo>
                <a:lnTo>
                  <a:pt x="671" y="557"/>
                </a:lnTo>
                <a:lnTo>
                  <a:pt x="658" y="418"/>
                </a:lnTo>
                <a:lnTo>
                  <a:pt x="658" y="272"/>
                </a:lnTo>
                <a:lnTo>
                  <a:pt x="689" y="222"/>
                </a:lnTo>
                <a:lnTo>
                  <a:pt x="689" y="222"/>
                </a:lnTo>
                <a:lnTo>
                  <a:pt x="689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58"/>
          <p:cNvSpPr/>
          <p:nvPr/>
        </p:nvSpPr>
        <p:spPr>
          <a:xfrm>
            <a:off x="4213080" y="2200320"/>
            <a:ext cx="2882880" cy="143820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816" h="906">
                <a:moveTo>
                  <a:pt x="1816" y="254"/>
                </a:moveTo>
                <a:lnTo>
                  <a:pt x="1784" y="145"/>
                </a:lnTo>
                <a:lnTo>
                  <a:pt x="1665" y="76"/>
                </a:lnTo>
                <a:lnTo>
                  <a:pt x="1519" y="63"/>
                </a:lnTo>
                <a:lnTo>
                  <a:pt x="1354" y="6"/>
                </a:lnTo>
                <a:lnTo>
                  <a:pt x="1247" y="0"/>
                </a:lnTo>
                <a:lnTo>
                  <a:pt x="1151" y="6"/>
                </a:lnTo>
                <a:lnTo>
                  <a:pt x="1044" y="50"/>
                </a:lnTo>
                <a:lnTo>
                  <a:pt x="955" y="114"/>
                </a:lnTo>
                <a:lnTo>
                  <a:pt x="822" y="152"/>
                </a:lnTo>
                <a:lnTo>
                  <a:pt x="703" y="184"/>
                </a:lnTo>
                <a:lnTo>
                  <a:pt x="576" y="279"/>
                </a:lnTo>
                <a:lnTo>
                  <a:pt x="525" y="317"/>
                </a:lnTo>
                <a:lnTo>
                  <a:pt x="449" y="329"/>
                </a:lnTo>
                <a:lnTo>
                  <a:pt x="380" y="304"/>
                </a:lnTo>
                <a:lnTo>
                  <a:pt x="418" y="342"/>
                </a:lnTo>
                <a:lnTo>
                  <a:pt x="462" y="368"/>
                </a:lnTo>
                <a:lnTo>
                  <a:pt x="399" y="393"/>
                </a:lnTo>
                <a:lnTo>
                  <a:pt x="310" y="387"/>
                </a:lnTo>
                <a:lnTo>
                  <a:pt x="272" y="342"/>
                </a:lnTo>
                <a:lnTo>
                  <a:pt x="260" y="380"/>
                </a:lnTo>
                <a:lnTo>
                  <a:pt x="279" y="443"/>
                </a:lnTo>
                <a:lnTo>
                  <a:pt x="310" y="482"/>
                </a:lnTo>
                <a:lnTo>
                  <a:pt x="266" y="514"/>
                </a:lnTo>
                <a:lnTo>
                  <a:pt x="202" y="576"/>
                </a:lnTo>
                <a:lnTo>
                  <a:pt x="196" y="684"/>
                </a:lnTo>
                <a:lnTo>
                  <a:pt x="140" y="755"/>
                </a:lnTo>
                <a:lnTo>
                  <a:pt x="70" y="767"/>
                </a:lnTo>
                <a:lnTo>
                  <a:pt x="31" y="678"/>
                </a:lnTo>
                <a:lnTo>
                  <a:pt x="0" y="755"/>
                </a:lnTo>
                <a:lnTo>
                  <a:pt x="25" y="824"/>
                </a:lnTo>
                <a:lnTo>
                  <a:pt x="102" y="868"/>
                </a:lnTo>
                <a:lnTo>
                  <a:pt x="235" y="874"/>
                </a:lnTo>
                <a:lnTo>
                  <a:pt x="317" y="830"/>
                </a:lnTo>
                <a:lnTo>
                  <a:pt x="367" y="906"/>
                </a:lnTo>
                <a:lnTo>
                  <a:pt x="412" y="830"/>
                </a:lnTo>
                <a:lnTo>
                  <a:pt x="360" y="702"/>
                </a:lnTo>
                <a:lnTo>
                  <a:pt x="354" y="576"/>
                </a:lnTo>
                <a:lnTo>
                  <a:pt x="412" y="601"/>
                </a:lnTo>
                <a:lnTo>
                  <a:pt x="367" y="501"/>
                </a:lnTo>
                <a:lnTo>
                  <a:pt x="360" y="443"/>
                </a:lnTo>
                <a:lnTo>
                  <a:pt x="431" y="501"/>
                </a:lnTo>
                <a:lnTo>
                  <a:pt x="487" y="538"/>
                </a:lnTo>
                <a:lnTo>
                  <a:pt x="481" y="437"/>
                </a:lnTo>
                <a:lnTo>
                  <a:pt x="545" y="450"/>
                </a:lnTo>
                <a:lnTo>
                  <a:pt x="690" y="462"/>
                </a:lnTo>
                <a:lnTo>
                  <a:pt x="835" y="437"/>
                </a:lnTo>
                <a:lnTo>
                  <a:pt x="703" y="374"/>
                </a:lnTo>
                <a:lnTo>
                  <a:pt x="835" y="272"/>
                </a:lnTo>
                <a:lnTo>
                  <a:pt x="987" y="247"/>
                </a:lnTo>
                <a:lnTo>
                  <a:pt x="1165" y="272"/>
                </a:lnTo>
                <a:lnTo>
                  <a:pt x="1303" y="260"/>
                </a:lnTo>
                <a:lnTo>
                  <a:pt x="1392" y="222"/>
                </a:lnTo>
                <a:lnTo>
                  <a:pt x="1481" y="208"/>
                </a:lnTo>
                <a:lnTo>
                  <a:pt x="1380" y="184"/>
                </a:lnTo>
                <a:lnTo>
                  <a:pt x="1278" y="196"/>
                </a:lnTo>
                <a:lnTo>
                  <a:pt x="1178" y="190"/>
                </a:lnTo>
                <a:lnTo>
                  <a:pt x="1057" y="145"/>
                </a:lnTo>
                <a:lnTo>
                  <a:pt x="1247" y="145"/>
                </a:lnTo>
                <a:lnTo>
                  <a:pt x="1374" y="133"/>
                </a:lnTo>
                <a:lnTo>
                  <a:pt x="1475" y="145"/>
                </a:lnTo>
                <a:lnTo>
                  <a:pt x="1563" y="184"/>
                </a:lnTo>
                <a:lnTo>
                  <a:pt x="1582" y="133"/>
                </a:lnTo>
                <a:lnTo>
                  <a:pt x="1652" y="164"/>
                </a:lnTo>
                <a:lnTo>
                  <a:pt x="1696" y="234"/>
                </a:lnTo>
                <a:lnTo>
                  <a:pt x="1708" y="304"/>
                </a:lnTo>
                <a:lnTo>
                  <a:pt x="1753" y="272"/>
                </a:lnTo>
                <a:lnTo>
                  <a:pt x="1753" y="342"/>
                </a:lnTo>
                <a:lnTo>
                  <a:pt x="1721" y="462"/>
                </a:lnTo>
                <a:lnTo>
                  <a:pt x="1816" y="342"/>
                </a:lnTo>
                <a:lnTo>
                  <a:pt x="1816" y="254"/>
                </a:lnTo>
                <a:lnTo>
                  <a:pt x="1816" y="254"/>
                </a:lnTo>
                <a:lnTo>
                  <a:pt x="1816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59"/>
          <p:cNvSpPr/>
          <p:nvPr/>
        </p:nvSpPr>
        <p:spPr>
          <a:xfrm>
            <a:off x="3751200" y="3225960"/>
            <a:ext cx="2421000" cy="347004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3470040"/>
              <a:gd name="textAreaBottom" fmla="*/ 3470400 h 3470040"/>
            </a:gdLst>
            <a:ahLst/>
            <a:rect l="textAreaLeft" t="textAreaTop" r="textAreaRight" b="textAreaBottom"/>
            <a:pathLst>
              <a:path w="1525" h="2186">
                <a:moveTo>
                  <a:pt x="709" y="20"/>
                </a:moveTo>
                <a:lnTo>
                  <a:pt x="759" y="140"/>
                </a:lnTo>
                <a:lnTo>
                  <a:pt x="740" y="260"/>
                </a:lnTo>
                <a:lnTo>
                  <a:pt x="678" y="323"/>
                </a:lnTo>
                <a:lnTo>
                  <a:pt x="589" y="373"/>
                </a:lnTo>
                <a:lnTo>
                  <a:pt x="399" y="425"/>
                </a:lnTo>
                <a:lnTo>
                  <a:pt x="539" y="348"/>
                </a:lnTo>
                <a:lnTo>
                  <a:pt x="658" y="273"/>
                </a:lnTo>
                <a:lnTo>
                  <a:pt x="582" y="246"/>
                </a:lnTo>
                <a:lnTo>
                  <a:pt x="512" y="172"/>
                </a:lnTo>
                <a:lnTo>
                  <a:pt x="373" y="184"/>
                </a:lnTo>
                <a:lnTo>
                  <a:pt x="316" y="273"/>
                </a:lnTo>
                <a:lnTo>
                  <a:pt x="291" y="387"/>
                </a:lnTo>
                <a:lnTo>
                  <a:pt x="222" y="412"/>
                </a:lnTo>
                <a:lnTo>
                  <a:pt x="177" y="323"/>
                </a:lnTo>
                <a:lnTo>
                  <a:pt x="126" y="437"/>
                </a:lnTo>
                <a:lnTo>
                  <a:pt x="126" y="500"/>
                </a:lnTo>
                <a:lnTo>
                  <a:pt x="145" y="564"/>
                </a:lnTo>
                <a:lnTo>
                  <a:pt x="120" y="614"/>
                </a:lnTo>
                <a:lnTo>
                  <a:pt x="108" y="684"/>
                </a:lnTo>
                <a:lnTo>
                  <a:pt x="139" y="753"/>
                </a:lnTo>
                <a:lnTo>
                  <a:pt x="120" y="811"/>
                </a:lnTo>
                <a:lnTo>
                  <a:pt x="63" y="836"/>
                </a:lnTo>
                <a:lnTo>
                  <a:pt x="0" y="830"/>
                </a:lnTo>
                <a:lnTo>
                  <a:pt x="19" y="861"/>
                </a:lnTo>
                <a:lnTo>
                  <a:pt x="57" y="887"/>
                </a:lnTo>
                <a:lnTo>
                  <a:pt x="126" y="899"/>
                </a:lnTo>
                <a:lnTo>
                  <a:pt x="108" y="938"/>
                </a:lnTo>
                <a:lnTo>
                  <a:pt x="164" y="976"/>
                </a:lnTo>
                <a:lnTo>
                  <a:pt x="222" y="988"/>
                </a:lnTo>
                <a:lnTo>
                  <a:pt x="298" y="976"/>
                </a:lnTo>
                <a:lnTo>
                  <a:pt x="368" y="944"/>
                </a:lnTo>
                <a:lnTo>
                  <a:pt x="474" y="836"/>
                </a:lnTo>
                <a:lnTo>
                  <a:pt x="532" y="741"/>
                </a:lnTo>
                <a:lnTo>
                  <a:pt x="493" y="880"/>
                </a:lnTo>
                <a:lnTo>
                  <a:pt x="431" y="963"/>
                </a:lnTo>
                <a:lnTo>
                  <a:pt x="335" y="1026"/>
                </a:lnTo>
                <a:lnTo>
                  <a:pt x="278" y="1032"/>
                </a:lnTo>
                <a:lnTo>
                  <a:pt x="208" y="1026"/>
                </a:lnTo>
                <a:lnTo>
                  <a:pt x="139" y="1071"/>
                </a:lnTo>
                <a:lnTo>
                  <a:pt x="102" y="1172"/>
                </a:lnTo>
                <a:lnTo>
                  <a:pt x="114" y="1223"/>
                </a:lnTo>
                <a:lnTo>
                  <a:pt x="83" y="1304"/>
                </a:lnTo>
                <a:lnTo>
                  <a:pt x="96" y="1388"/>
                </a:lnTo>
                <a:lnTo>
                  <a:pt x="177" y="1496"/>
                </a:lnTo>
                <a:lnTo>
                  <a:pt x="183" y="1407"/>
                </a:lnTo>
                <a:lnTo>
                  <a:pt x="247" y="1350"/>
                </a:lnTo>
                <a:lnTo>
                  <a:pt x="247" y="1431"/>
                </a:lnTo>
                <a:lnTo>
                  <a:pt x="361" y="1344"/>
                </a:lnTo>
                <a:lnTo>
                  <a:pt x="418" y="1242"/>
                </a:lnTo>
                <a:lnTo>
                  <a:pt x="443" y="1103"/>
                </a:lnTo>
                <a:lnTo>
                  <a:pt x="481" y="1242"/>
                </a:lnTo>
                <a:lnTo>
                  <a:pt x="551" y="1362"/>
                </a:lnTo>
                <a:lnTo>
                  <a:pt x="703" y="1444"/>
                </a:lnTo>
                <a:lnTo>
                  <a:pt x="791" y="1496"/>
                </a:lnTo>
                <a:lnTo>
                  <a:pt x="842" y="1552"/>
                </a:lnTo>
                <a:lnTo>
                  <a:pt x="842" y="1654"/>
                </a:lnTo>
                <a:lnTo>
                  <a:pt x="778" y="1781"/>
                </a:lnTo>
                <a:lnTo>
                  <a:pt x="753" y="1844"/>
                </a:lnTo>
                <a:lnTo>
                  <a:pt x="740" y="1919"/>
                </a:lnTo>
                <a:lnTo>
                  <a:pt x="746" y="1988"/>
                </a:lnTo>
                <a:lnTo>
                  <a:pt x="809" y="2072"/>
                </a:lnTo>
                <a:lnTo>
                  <a:pt x="595" y="2166"/>
                </a:lnTo>
                <a:lnTo>
                  <a:pt x="873" y="2084"/>
                </a:lnTo>
                <a:lnTo>
                  <a:pt x="1063" y="1982"/>
                </a:lnTo>
                <a:lnTo>
                  <a:pt x="1107" y="2046"/>
                </a:lnTo>
                <a:lnTo>
                  <a:pt x="1215" y="2122"/>
                </a:lnTo>
                <a:lnTo>
                  <a:pt x="1310" y="2154"/>
                </a:lnTo>
                <a:lnTo>
                  <a:pt x="1355" y="2186"/>
                </a:lnTo>
                <a:lnTo>
                  <a:pt x="1513" y="2186"/>
                </a:lnTo>
                <a:lnTo>
                  <a:pt x="1469" y="2059"/>
                </a:lnTo>
                <a:lnTo>
                  <a:pt x="1429" y="1976"/>
                </a:lnTo>
                <a:lnTo>
                  <a:pt x="1525" y="1964"/>
                </a:lnTo>
                <a:lnTo>
                  <a:pt x="1398" y="1939"/>
                </a:lnTo>
                <a:lnTo>
                  <a:pt x="1177" y="1781"/>
                </a:lnTo>
                <a:lnTo>
                  <a:pt x="1076" y="1678"/>
                </a:lnTo>
                <a:lnTo>
                  <a:pt x="1013" y="1590"/>
                </a:lnTo>
                <a:lnTo>
                  <a:pt x="981" y="1527"/>
                </a:lnTo>
                <a:lnTo>
                  <a:pt x="905" y="1324"/>
                </a:lnTo>
                <a:lnTo>
                  <a:pt x="861" y="1140"/>
                </a:lnTo>
                <a:lnTo>
                  <a:pt x="867" y="988"/>
                </a:lnTo>
                <a:lnTo>
                  <a:pt x="867" y="793"/>
                </a:lnTo>
                <a:lnTo>
                  <a:pt x="766" y="924"/>
                </a:lnTo>
                <a:lnTo>
                  <a:pt x="772" y="811"/>
                </a:lnTo>
                <a:lnTo>
                  <a:pt x="753" y="704"/>
                </a:lnTo>
                <a:lnTo>
                  <a:pt x="740" y="614"/>
                </a:lnTo>
                <a:lnTo>
                  <a:pt x="753" y="506"/>
                </a:lnTo>
                <a:lnTo>
                  <a:pt x="778" y="419"/>
                </a:lnTo>
                <a:lnTo>
                  <a:pt x="849" y="355"/>
                </a:lnTo>
                <a:lnTo>
                  <a:pt x="809" y="279"/>
                </a:lnTo>
                <a:lnTo>
                  <a:pt x="803" y="215"/>
                </a:lnTo>
                <a:lnTo>
                  <a:pt x="816" y="152"/>
                </a:lnTo>
                <a:lnTo>
                  <a:pt x="867" y="89"/>
                </a:lnTo>
                <a:lnTo>
                  <a:pt x="753" y="0"/>
                </a:lnTo>
                <a:lnTo>
                  <a:pt x="709" y="20"/>
                </a:lnTo>
                <a:lnTo>
                  <a:pt x="709" y="20"/>
                </a:lnTo>
                <a:lnTo>
                  <a:pt x="709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60"/>
          <p:cNvSpPr/>
          <p:nvPr/>
        </p:nvSpPr>
        <p:spPr>
          <a:xfrm>
            <a:off x="3803760" y="4976640"/>
            <a:ext cx="1203120" cy="171000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710000"/>
              <a:gd name="textAreaBottom" fmla="*/ 1710360 h 1710000"/>
            </a:gdLst>
            <a:ahLst/>
            <a:rect l="textAreaLeft" t="textAreaTop" r="textAreaRight" b="textAreaBottom"/>
            <a:pathLst>
              <a:path w="758" h="1077">
                <a:moveTo>
                  <a:pt x="423" y="0"/>
                </a:moveTo>
                <a:lnTo>
                  <a:pt x="423" y="177"/>
                </a:lnTo>
                <a:lnTo>
                  <a:pt x="353" y="310"/>
                </a:lnTo>
                <a:lnTo>
                  <a:pt x="227" y="411"/>
                </a:lnTo>
                <a:lnTo>
                  <a:pt x="183" y="360"/>
                </a:lnTo>
                <a:lnTo>
                  <a:pt x="138" y="462"/>
                </a:lnTo>
                <a:lnTo>
                  <a:pt x="106" y="545"/>
                </a:lnTo>
                <a:lnTo>
                  <a:pt x="50" y="601"/>
                </a:lnTo>
                <a:lnTo>
                  <a:pt x="6" y="671"/>
                </a:lnTo>
                <a:lnTo>
                  <a:pt x="0" y="721"/>
                </a:lnTo>
                <a:lnTo>
                  <a:pt x="12" y="771"/>
                </a:lnTo>
                <a:lnTo>
                  <a:pt x="56" y="836"/>
                </a:lnTo>
                <a:lnTo>
                  <a:pt x="106" y="879"/>
                </a:lnTo>
                <a:lnTo>
                  <a:pt x="93" y="823"/>
                </a:lnTo>
                <a:lnTo>
                  <a:pt x="106" y="771"/>
                </a:lnTo>
                <a:lnTo>
                  <a:pt x="150" y="753"/>
                </a:lnTo>
                <a:lnTo>
                  <a:pt x="214" y="741"/>
                </a:lnTo>
                <a:lnTo>
                  <a:pt x="258" y="715"/>
                </a:lnTo>
                <a:lnTo>
                  <a:pt x="308" y="678"/>
                </a:lnTo>
                <a:lnTo>
                  <a:pt x="277" y="753"/>
                </a:lnTo>
                <a:lnTo>
                  <a:pt x="220" y="804"/>
                </a:lnTo>
                <a:lnTo>
                  <a:pt x="175" y="854"/>
                </a:lnTo>
                <a:lnTo>
                  <a:pt x="169" y="919"/>
                </a:lnTo>
                <a:lnTo>
                  <a:pt x="87" y="988"/>
                </a:lnTo>
                <a:lnTo>
                  <a:pt x="50" y="1038"/>
                </a:lnTo>
                <a:lnTo>
                  <a:pt x="30" y="1077"/>
                </a:lnTo>
                <a:lnTo>
                  <a:pt x="518" y="1077"/>
                </a:lnTo>
                <a:lnTo>
                  <a:pt x="625" y="1051"/>
                </a:lnTo>
                <a:lnTo>
                  <a:pt x="670" y="1012"/>
                </a:lnTo>
                <a:lnTo>
                  <a:pt x="631" y="981"/>
                </a:lnTo>
                <a:lnTo>
                  <a:pt x="606" y="919"/>
                </a:lnTo>
                <a:lnTo>
                  <a:pt x="618" y="816"/>
                </a:lnTo>
                <a:lnTo>
                  <a:pt x="657" y="885"/>
                </a:lnTo>
                <a:lnTo>
                  <a:pt x="657" y="792"/>
                </a:lnTo>
                <a:lnTo>
                  <a:pt x="695" y="715"/>
                </a:lnTo>
                <a:lnTo>
                  <a:pt x="758" y="588"/>
                </a:lnTo>
                <a:lnTo>
                  <a:pt x="758" y="499"/>
                </a:lnTo>
                <a:lnTo>
                  <a:pt x="726" y="405"/>
                </a:lnTo>
                <a:lnTo>
                  <a:pt x="670" y="316"/>
                </a:lnTo>
                <a:lnTo>
                  <a:pt x="512" y="235"/>
                </a:lnTo>
                <a:lnTo>
                  <a:pt x="543" y="354"/>
                </a:lnTo>
                <a:lnTo>
                  <a:pt x="556" y="417"/>
                </a:lnTo>
                <a:lnTo>
                  <a:pt x="530" y="499"/>
                </a:lnTo>
                <a:lnTo>
                  <a:pt x="479" y="601"/>
                </a:lnTo>
                <a:lnTo>
                  <a:pt x="460" y="728"/>
                </a:lnTo>
                <a:lnTo>
                  <a:pt x="429" y="620"/>
                </a:lnTo>
                <a:lnTo>
                  <a:pt x="429" y="532"/>
                </a:lnTo>
                <a:lnTo>
                  <a:pt x="479" y="393"/>
                </a:lnTo>
                <a:lnTo>
                  <a:pt x="479" y="241"/>
                </a:lnTo>
                <a:lnTo>
                  <a:pt x="466" y="114"/>
                </a:lnTo>
                <a:lnTo>
                  <a:pt x="423" y="0"/>
                </a:lnTo>
                <a:lnTo>
                  <a:pt x="423" y="0"/>
                </a:lnTo>
                <a:lnTo>
                  <a:pt x="4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61"/>
          <p:cNvSpPr/>
          <p:nvPr/>
        </p:nvSpPr>
        <p:spPr>
          <a:xfrm>
            <a:off x="3743280" y="4684680"/>
            <a:ext cx="258840" cy="1406520"/>
          </a:xfrm>
          <a:custGeom>
            <a:avLst/>
            <a:gdLst>
              <a:gd name="textAreaLeft" fmla="*/ 0 w 258840"/>
              <a:gd name="textAreaRight" fmla="*/ 259200 w 258840"/>
              <a:gd name="textAreaTop" fmla="*/ 0 h 1406520"/>
              <a:gd name="textAreaBottom" fmla="*/ 1406520 h 1406520"/>
            </a:gdLst>
            <a:ahLst/>
            <a:rect l="textAreaLeft" t="textAreaTop" r="textAreaRight" b="textAreaBottom"/>
            <a:pathLst>
              <a:path w="163" h="886">
                <a:moveTo>
                  <a:pt x="68" y="0"/>
                </a:moveTo>
                <a:lnTo>
                  <a:pt x="81" y="51"/>
                </a:lnTo>
                <a:lnTo>
                  <a:pt x="163" y="107"/>
                </a:lnTo>
                <a:lnTo>
                  <a:pt x="101" y="132"/>
                </a:lnTo>
                <a:lnTo>
                  <a:pt x="68" y="221"/>
                </a:lnTo>
                <a:lnTo>
                  <a:pt x="56" y="311"/>
                </a:lnTo>
                <a:lnTo>
                  <a:pt x="44" y="392"/>
                </a:lnTo>
                <a:lnTo>
                  <a:pt x="56" y="456"/>
                </a:lnTo>
                <a:lnTo>
                  <a:pt x="94" y="557"/>
                </a:lnTo>
                <a:lnTo>
                  <a:pt x="150" y="608"/>
                </a:lnTo>
                <a:lnTo>
                  <a:pt x="101" y="709"/>
                </a:lnTo>
                <a:lnTo>
                  <a:pt x="44" y="810"/>
                </a:lnTo>
                <a:lnTo>
                  <a:pt x="17" y="886"/>
                </a:lnTo>
                <a:lnTo>
                  <a:pt x="17" y="785"/>
                </a:lnTo>
                <a:lnTo>
                  <a:pt x="50" y="709"/>
                </a:lnTo>
                <a:lnTo>
                  <a:pt x="5" y="570"/>
                </a:lnTo>
                <a:lnTo>
                  <a:pt x="0" y="419"/>
                </a:lnTo>
                <a:lnTo>
                  <a:pt x="0" y="291"/>
                </a:lnTo>
                <a:lnTo>
                  <a:pt x="50" y="152"/>
                </a:lnTo>
                <a:lnTo>
                  <a:pt x="75" y="101"/>
                </a:lnTo>
                <a:lnTo>
                  <a:pt x="56" y="51"/>
                </a:lnTo>
                <a:lnTo>
                  <a:pt x="68" y="0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62"/>
          <p:cNvSpPr/>
          <p:nvPr/>
        </p:nvSpPr>
        <p:spPr>
          <a:xfrm>
            <a:off x="3770280" y="6272280"/>
            <a:ext cx="201600" cy="372960"/>
          </a:xfrm>
          <a:custGeom>
            <a:avLst/>
            <a:gdLst>
              <a:gd name="textAreaLeft" fmla="*/ 0 w 201600"/>
              <a:gd name="textAreaRight" fmla="*/ 201960 w 2016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27" h="235">
                <a:moveTo>
                  <a:pt x="14" y="0"/>
                </a:moveTo>
                <a:lnTo>
                  <a:pt x="45" y="63"/>
                </a:lnTo>
                <a:lnTo>
                  <a:pt x="127" y="115"/>
                </a:lnTo>
                <a:lnTo>
                  <a:pt x="51" y="235"/>
                </a:lnTo>
                <a:lnTo>
                  <a:pt x="27" y="172"/>
                </a:lnTo>
                <a:lnTo>
                  <a:pt x="0" y="69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63"/>
          <p:cNvSpPr/>
          <p:nvPr/>
        </p:nvSpPr>
        <p:spPr>
          <a:xfrm>
            <a:off x="5529240" y="4586400"/>
            <a:ext cx="55440" cy="42840"/>
          </a:xfrm>
          <a:custGeom>
            <a:avLst/>
            <a:gdLst>
              <a:gd name="textAreaLeft" fmla="*/ 0 w 55440"/>
              <a:gd name="textAreaRight" fmla="*/ 55800 w 554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5" h="27">
                <a:moveTo>
                  <a:pt x="6" y="4"/>
                </a:moveTo>
                <a:lnTo>
                  <a:pt x="25" y="0"/>
                </a:lnTo>
                <a:lnTo>
                  <a:pt x="35" y="11"/>
                </a:lnTo>
                <a:lnTo>
                  <a:pt x="30" y="27"/>
                </a:lnTo>
                <a:lnTo>
                  <a:pt x="8" y="27"/>
                </a:lnTo>
                <a:lnTo>
                  <a:pt x="0" y="18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64"/>
          <p:cNvSpPr/>
          <p:nvPr/>
        </p:nvSpPr>
        <p:spPr>
          <a:xfrm>
            <a:off x="6613560" y="4376880"/>
            <a:ext cx="50760" cy="44280"/>
          </a:xfrm>
          <a:custGeom>
            <a:avLst/>
            <a:gdLst>
              <a:gd name="textAreaLeft" fmla="*/ 0 w 50760"/>
              <a:gd name="textAreaRight" fmla="*/ 51120 w 507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32" h="28">
                <a:moveTo>
                  <a:pt x="0" y="24"/>
                </a:moveTo>
                <a:lnTo>
                  <a:pt x="3" y="4"/>
                </a:lnTo>
                <a:lnTo>
                  <a:pt x="14" y="0"/>
                </a:lnTo>
                <a:lnTo>
                  <a:pt x="27" y="6"/>
                </a:lnTo>
                <a:lnTo>
                  <a:pt x="32" y="16"/>
                </a:lnTo>
                <a:lnTo>
                  <a:pt x="32" y="24"/>
                </a:lnTo>
                <a:lnTo>
                  <a:pt x="21" y="28"/>
                </a:lnTo>
                <a:lnTo>
                  <a:pt x="10" y="27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65"/>
          <p:cNvSpPr/>
          <p:nvPr/>
        </p:nvSpPr>
        <p:spPr>
          <a:xfrm>
            <a:off x="5568840" y="3348000"/>
            <a:ext cx="1101960" cy="881280"/>
          </a:xfrm>
          <a:custGeom>
            <a:avLst/>
            <a:gdLst>
              <a:gd name="textAreaLeft" fmla="*/ 0 w 1101960"/>
              <a:gd name="textAreaRight" fmla="*/ 1102320 w 110196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694" h="555">
                <a:moveTo>
                  <a:pt x="130" y="541"/>
                </a:moveTo>
                <a:lnTo>
                  <a:pt x="32" y="507"/>
                </a:lnTo>
                <a:lnTo>
                  <a:pt x="0" y="452"/>
                </a:lnTo>
                <a:lnTo>
                  <a:pt x="0" y="376"/>
                </a:lnTo>
                <a:lnTo>
                  <a:pt x="47" y="265"/>
                </a:lnTo>
                <a:lnTo>
                  <a:pt x="125" y="135"/>
                </a:lnTo>
                <a:lnTo>
                  <a:pt x="234" y="56"/>
                </a:lnTo>
                <a:lnTo>
                  <a:pt x="332" y="4"/>
                </a:lnTo>
                <a:lnTo>
                  <a:pt x="448" y="0"/>
                </a:lnTo>
                <a:lnTo>
                  <a:pt x="507" y="19"/>
                </a:lnTo>
                <a:lnTo>
                  <a:pt x="605" y="75"/>
                </a:lnTo>
                <a:lnTo>
                  <a:pt x="652" y="149"/>
                </a:lnTo>
                <a:lnTo>
                  <a:pt x="694" y="247"/>
                </a:lnTo>
                <a:lnTo>
                  <a:pt x="694" y="317"/>
                </a:lnTo>
                <a:lnTo>
                  <a:pt x="670" y="383"/>
                </a:lnTo>
                <a:lnTo>
                  <a:pt x="602" y="428"/>
                </a:lnTo>
                <a:lnTo>
                  <a:pt x="522" y="433"/>
                </a:lnTo>
                <a:lnTo>
                  <a:pt x="441" y="481"/>
                </a:lnTo>
                <a:lnTo>
                  <a:pt x="368" y="531"/>
                </a:lnTo>
                <a:lnTo>
                  <a:pt x="261" y="555"/>
                </a:lnTo>
                <a:lnTo>
                  <a:pt x="130" y="541"/>
                </a:lnTo>
                <a:lnTo>
                  <a:pt x="130" y="541"/>
                </a:lnTo>
                <a:lnTo>
                  <a:pt x="130" y="541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66"/>
          <p:cNvSpPr/>
          <p:nvPr/>
        </p:nvSpPr>
        <p:spPr>
          <a:xfrm>
            <a:off x="6006960" y="4506840"/>
            <a:ext cx="206640" cy="601560"/>
          </a:xfrm>
          <a:custGeom>
            <a:avLst/>
            <a:gdLst>
              <a:gd name="textAreaLeft" fmla="*/ 0 w 206640"/>
              <a:gd name="textAreaRight" fmla="*/ 207000 w 2066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30" h="379">
                <a:moveTo>
                  <a:pt x="17" y="0"/>
                </a:moveTo>
                <a:lnTo>
                  <a:pt x="0" y="77"/>
                </a:lnTo>
                <a:lnTo>
                  <a:pt x="23" y="142"/>
                </a:lnTo>
                <a:lnTo>
                  <a:pt x="41" y="217"/>
                </a:lnTo>
                <a:lnTo>
                  <a:pt x="35" y="299"/>
                </a:lnTo>
                <a:lnTo>
                  <a:pt x="50" y="360"/>
                </a:lnTo>
                <a:lnTo>
                  <a:pt x="80" y="379"/>
                </a:lnTo>
                <a:lnTo>
                  <a:pt x="113" y="379"/>
                </a:lnTo>
                <a:lnTo>
                  <a:pt x="130" y="332"/>
                </a:lnTo>
                <a:lnTo>
                  <a:pt x="106" y="264"/>
                </a:lnTo>
                <a:lnTo>
                  <a:pt x="74" y="177"/>
                </a:lnTo>
                <a:lnTo>
                  <a:pt x="74" y="99"/>
                </a:lnTo>
                <a:lnTo>
                  <a:pt x="59" y="16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67"/>
          <p:cNvSpPr/>
          <p:nvPr/>
        </p:nvSpPr>
        <p:spPr>
          <a:xfrm>
            <a:off x="5959440" y="5072040"/>
            <a:ext cx="112680" cy="74520"/>
          </a:xfrm>
          <a:custGeom>
            <a:avLst/>
            <a:gdLst>
              <a:gd name="textAreaLeft" fmla="*/ 0 w 112680"/>
              <a:gd name="textAreaRight" fmla="*/ 113040 w 1126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71" h="47">
                <a:moveTo>
                  <a:pt x="0" y="39"/>
                </a:moveTo>
                <a:lnTo>
                  <a:pt x="6" y="9"/>
                </a:lnTo>
                <a:lnTo>
                  <a:pt x="38" y="0"/>
                </a:lnTo>
                <a:lnTo>
                  <a:pt x="71" y="39"/>
                </a:lnTo>
                <a:lnTo>
                  <a:pt x="38" y="47"/>
                </a:lnTo>
                <a:lnTo>
                  <a:pt x="0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68"/>
          <p:cNvSpPr/>
          <p:nvPr/>
        </p:nvSpPr>
        <p:spPr>
          <a:xfrm>
            <a:off x="5221440" y="4761000"/>
            <a:ext cx="644400" cy="527040"/>
          </a:xfrm>
          <a:custGeom>
            <a:avLst/>
            <a:gdLst>
              <a:gd name="textAreaLeft" fmla="*/ 0 w 644400"/>
              <a:gd name="textAreaRight" fmla="*/ 644760 w 6444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06" h="332">
                <a:moveTo>
                  <a:pt x="0" y="128"/>
                </a:moveTo>
                <a:lnTo>
                  <a:pt x="20" y="89"/>
                </a:lnTo>
                <a:lnTo>
                  <a:pt x="48" y="65"/>
                </a:lnTo>
                <a:lnTo>
                  <a:pt x="112" y="48"/>
                </a:lnTo>
                <a:lnTo>
                  <a:pt x="178" y="48"/>
                </a:lnTo>
                <a:lnTo>
                  <a:pt x="275" y="41"/>
                </a:lnTo>
                <a:lnTo>
                  <a:pt x="347" y="15"/>
                </a:lnTo>
                <a:lnTo>
                  <a:pt x="406" y="0"/>
                </a:lnTo>
                <a:lnTo>
                  <a:pt x="391" y="86"/>
                </a:lnTo>
                <a:lnTo>
                  <a:pt x="358" y="160"/>
                </a:lnTo>
                <a:lnTo>
                  <a:pt x="299" y="235"/>
                </a:lnTo>
                <a:lnTo>
                  <a:pt x="219" y="282"/>
                </a:lnTo>
                <a:lnTo>
                  <a:pt x="172" y="324"/>
                </a:lnTo>
                <a:lnTo>
                  <a:pt x="119" y="332"/>
                </a:lnTo>
                <a:lnTo>
                  <a:pt x="65" y="300"/>
                </a:lnTo>
                <a:lnTo>
                  <a:pt x="24" y="253"/>
                </a:lnTo>
                <a:lnTo>
                  <a:pt x="6" y="187"/>
                </a:lnTo>
                <a:lnTo>
                  <a:pt x="0" y="128"/>
                </a:lnTo>
                <a:lnTo>
                  <a:pt x="0" y="128"/>
                </a:lnTo>
                <a:lnTo>
                  <a:pt x="0" y="128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69"/>
          <p:cNvSpPr/>
          <p:nvPr/>
        </p:nvSpPr>
        <p:spPr>
          <a:xfrm>
            <a:off x="6515280" y="4514760"/>
            <a:ext cx="653760" cy="514440"/>
          </a:xfrm>
          <a:custGeom>
            <a:avLst/>
            <a:gdLst/>
            <a:ahLst/>
            <a:rect l="l" t="t" r="r" b="b"/>
            <a:pathLst>
              <a:path w="412" h="324">
                <a:moveTo>
                  <a:pt x="6" y="66"/>
                </a:moveTo>
                <a:lnTo>
                  <a:pt x="94" y="72"/>
                </a:lnTo>
                <a:lnTo>
                  <a:pt x="168" y="66"/>
                </a:lnTo>
                <a:lnTo>
                  <a:pt x="248" y="40"/>
                </a:lnTo>
                <a:lnTo>
                  <a:pt x="307" y="0"/>
                </a:lnTo>
                <a:lnTo>
                  <a:pt x="347" y="0"/>
                </a:lnTo>
                <a:lnTo>
                  <a:pt x="396" y="54"/>
                </a:lnTo>
                <a:lnTo>
                  <a:pt x="412" y="122"/>
                </a:lnTo>
                <a:lnTo>
                  <a:pt x="412" y="218"/>
                </a:lnTo>
                <a:lnTo>
                  <a:pt x="399" y="268"/>
                </a:lnTo>
                <a:lnTo>
                  <a:pt x="355" y="318"/>
                </a:lnTo>
                <a:lnTo>
                  <a:pt x="275" y="324"/>
                </a:lnTo>
                <a:lnTo>
                  <a:pt x="195" y="294"/>
                </a:lnTo>
                <a:lnTo>
                  <a:pt x="113" y="253"/>
                </a:lnTo>
                <a:lnTo>
                  <a:pt x="48" y="203"/>
                </a:lnTo>
                <a:lnTo>
                  <a:pt x="9" y="155"/>
                </a:lnTo>
                <a:lnTo>
                  <a:pt x="0" y="122"/>
                </a:lnTo>
                <a:lnTo>
                  <a:pt x="6" y="66"/>
                </a:lnTo>
                <a:lnTo>
                  <a:pt x="6" y="66"/>
                </a:lnTo>
                <a:lnTo>
                  <a:pt x="6" y="6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70"/>
          <p:cNvSpPr/>
          <p:nvPr/>
        </p:nvSpPr>
        <p:spPr>
          <a:xfrm>
            <a:off x="6100920" y="5962680"/>
            <a:ext cx="642960" cy="297000"/>
          </a:xfrm>
          <a:custGeom>
            <a:avLst/>
            <a:gdLst>
              <a:gd name="textAreaLeft" fmla="*/ 0 w 642960"/>
              <a:gd name="textAreaRight" fmla="*/ 643320 w 6429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405" h="187">
                <a:moveTo>
                  <a:pt x="23" y="116"/>
                </a:moveTo>
                <a:lnTo>
                  <a:pt x="63" y="159"/>
                </a:lnTo>
                <a:lnTo>
                  <a:pt x="128" y="187"/>
                </a:lnTo>
                <a:lnTo>
                  <a:pt x="193" y="187"/>
                </a:lnTo>
                <a:lnTo>
                  <a:pt x="267" y="172"/>
                </a:lnTo>
                <a:lnTo>
                  <a:pt x="322" y="130"/>
                </a:lnTo>
                <a:lnTo>
                  <a:pt x="387" y="65"/>
                </a:lnTo>
                <a:lnTo>
                  <a:pt x="405" y="17"/>
                </a:lnTo>
                <a:lnTo>
                  <a:pt x="355" y="0"/>
                </a:lnTo>
                <a:lnTo>
                  <a:pt x="294" y="24"/>
                </a:lnTo>
                <a:lnTo>
                  <a:pt x="219" y="71"/>
                </a:lnTo>
                <a:lnTo>
                  <a:pt x="139" y="94"/>
                </a:lnTo>
                <a:lnTo>
                  <a:pt x="65" y="89"/>
                </a:lnTo>
                <a:lnTo>
                  <a:pt x="0" y="83"/>
                </a:lnTo>
                <a:lnTo>
                  <a:pt x="23" y="116"/>
                </a:lnTo>
                <a:lnTo>
                  <a:pt x="23" y="116"/>
                </a:lnTo>
                <a:lnTo>
                  <a:pt x="23" y="11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71"/>
          <p:cNvSpPr/>
          <p:nvPr/>
        </p:nvSpPr>
        <p:spPr>
          <a:xfrm>
            <a:off x="5916600" y="5369040"/>
            <a:ext cx="258840" cy="112680"/>
          </a:xfrm>
          <a:custGeom>
            <a:avLst/>
            <a:gdLst>
              <a:gd name="textAreaLeft" fmla="*/ 0 w 258840"/>
              <a:gd name="textAreaRight" fmla="*/ 259200 w 258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63" h="71">
                <a:moveTo>
                  <a:pt x="9" y="71"/>
                </a:moveTo>
                <a:lnTo>
                  <a:pt x="98" y="39"/>
                </a:lnTo>
                <a:lnTo>
                  <a:pt x="163" y="24"/>
                </a:lnTo>
                <a:lnTo>
                  <a:pt x="107" y="0"/>
                </a:lnTo>
                <a:lnTo>
                  <a:pt x="51" y="0"/>
                </a:lnTo>
                <a:lnTo>
                  <a:pt x="0" y="39"/>
                </a:lnTo>
                <a:lnTo>
                  <a:pt x="9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72"/>
          <p:cNvSpPr/>
          <p:nvPr/>
        </p:nvSpPr>
        <p:spPr>
          <a:xfrm>
            <a:off x="5245200" y="4437000"/>
            <a:ext cx="236520" cy="163440"/>
          </a:xfrm>
          <a:custGeom>
            <a:avLst/>
            <a:gdLst>
              <a:gd name="textAreaLeft" fmla="*/ 0 w 236520"/>
              <a:gd name="textAreaRight" fmla="*/ 236880 w 2365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49" h="103">
                <a:moveTo>
                  <a:pt x="0" y="86"/>
                </a:moveTo>
                <a:lnTo>
                  <a:pt x="0" y="56"/>
                </a:lnTo>
                <a:lnTo>
                  <a:pt x="23" y="24"/>
                </a:lnTo>
                <a:lnTo>
                  <a:pt x="70" y="0"/>
                </a:lnTo>
                <a:lnTo>
                  <a:pt x="121" y="6"/>
                </a:lnTo>
                <a:lnTo>
                  <a:pt x="149" y="24"/>
                </a:lnTo>
                <a:lnTo>
                  <a:pt x="56" y="65"/>
                </a:lnTo>
                <a:lnTo>
                  <a:pt x="5" y="103"/>
                </a:lnTo>
                <a:lnTo>
                  <a:pt x="0" y="86"/>
                </a:lnTo>
                <a:lnTo>
                  <a:pt x="0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73"/>
          <p:cNvSpPr/>
          <p:nvPr/>
        </p:nvSpPr>
        <p:spPr>
          <a:xfrm>
            <a:off x="324000" y="6480"/>
            <a:ext cx="5500440" cy="3771720"/>
          </a:xfrm>
          <a:custGeom>
            <a:avLst/>
            <a:gdLst>
              <a:gd name="textAreaLeft" fmla="*/ 0 w 5500440"/>
              <a:gd name="textAreaRight" fmla="*/ 5500440 w 5500440"/>
              <a:gd name="textAreaTop" fmla="*/ 0 h 3771720"/>
              <a:gd name="textAreaBottom" fmla="*/ 3772080 h 3771720"/>
            </a:gdLst>
            <a:ahLst/>
            <a:rect l="textAreaLeft" t="textAreaTop" r="textAreaRight" b="textAreaBottom"/>
            <a:pathLst>
              <a:path w="3465" h="2376">
                <a:moveTo>
                  <a:pt x="2943" y="2376"/>
                </a:moveTo>
                <a:lnTo>
                  <a:pt x="2881" y="2327"/>
                </a:lnTo>
                <a:lnTo>
                  <a:pt x="2819" y="2256"/>
                </a:lnTo>
                <a:lnTo>
                  <a:pt x="2777" y="2194"/>
                </a:lnTo>
                <a:lnTo>
                  <a:pt x="2747" y="2126"/>
                </a:lnTo>
                <a:lnTo>
                  <a:pt x="2735" y="2079"/>
                </a:lnTo>
                <a:lnTo>
                  <a:pt x="2729" y="2044"/>
                </a:lnTo>
                <a:lnTo>
                  <a:pt x="2739" y="2032"/>
                </a:lnTo>
                <a:lnTo>
                  <a:pt x="2752" y="2017"/>
                </a:lnTo>
                <a:lnTo>
                  <a:pt x="2889" y="1948"/>
                </a:lnTo>
                <a:lnTo>
                  <a:pt x="3020" y="1859"/>
                </a:lnTo>
                <a:lnTo>
                  <a:pt x="3163" y="1744"/>
                </a:lnTo>
                <a:lnTo>
                  <a:pt x="3262" y="1638"/>
                </a:lnTo>
                <a:lnTo>
                  <a:pt x="3350" y="1512"/>
                </a:lnTo>
                <a:lnTo>
                  <a:pt x="3403" y="1408"/>
                </a:lnTo>
                <a:lnTo>
                  <a:pt x="3443" y="1267"/>
                </a:lnTo>
                <a:lnTo>
                  <a:pt x="3465" y="1115"/>
                </a:lnTo>
                <a:lnTo>
                  <a:pt x="3459" y="1028"/>
                </a:lnTo>
                <a:lnTo>
                  <a:pt x="3437" y="929"/>
                </a:lnTo>
                <a:lnTo>
                  <a:pt x="3390" y="803"/>
                </a:lnTo>
                <a:lnTo>
                  <a:pt x="3329" y="694"/>
                </a:lnTo>
                <a:lnTo>
                  <a:pt x="3290" y="640"/>
                </a:lnTo>
                <a:lnTo>
                  <a:pt x="3193" y="512"/>
                </a:lnTo>
                <a:lnTo>
                  <a:pt x="3083" y="419"/>
                </a:lnTo>
                <a:lnTo>
                  <a:pt x="2893" y="292"/>
                </a:lnTo>
                <a:lnTo>
                  <a:pt x="2748" y="218"/>
                </a:lnTo>
                <a:lnTo>
                  <a:pt x="2593" y="151"/>
                </a:lnTo>
                <a:lnTo>
                  <a:pt x="2361" y="84"/>
                </a:lnTo>
                <a:lnTo>
                  <a:pt x="2087" y="29"/>
                </a:lnTo>
                <a:lnTo>
                  <a:pt x="1893" y="8"/>
                </a:lnTo>
                <a:lnTo>
                  <a:pt x="1738" y="0"/>
                </a:lnTo>
                <a:lnTo>
                  <a:pt x="1533" y="15"/>
                </a:lnTo>
                <a:lnTo>
                  <a:pt x="1289" y="43"/>
                </a:lnTo>
                <a:lnTo>
                  <a:pt x="1142" y="77"/>
                </a:lnTo>
                <a:lnTo>
                  <a:pt x="1000" y="108"/>
                </a:lnTo>
                <a:lnTo>
                  <a:pt x="910" y="136"/>
                </a:lnTo>
                <a:lnTo>
                  <a:pt x="797" y="182"/>
                </a:lnTo>
                <a:lnTo>
                  <a:pt x="721" y="215"/>
                </a:lnTo>
                <a:lnTo>
                  <a:pt x="628" y="265"/>
                </a:lnTo>
                <a:lnTo>
                  <a:pt x="519" y="326"/>
                </a:lnTo>
                <a:lnTo>
                  <a:pt x="430" y="385"/>
                </a:lnTo>
                <a:lnTo>
                  <a:pt x="315" y="487"/>
                </a:lnTo>
                <a:lnTo>
                  <a:pt x="204" y="608"/>
                </a:lnTo>
                <a:lnTo>
                  <a:pt x="123" y="710"/>
                </a:lnTo>
                <a:lnTo>
                  <a:pt x="58" y="834"/>
                </a:lnTo>
                <a:lnTo>
                  <a:pt x="21" y="971"/>
                </a:lnTo>
                <a:lnTo>
                  <a:pt x="0" y="1115"/>
                </a:lnTo>
                <a:lnTo>
                  <a:pt x="28" y="1308"/>
                </a:lnTo>
                <a:lnTo>
                  <a:pt x="73" y="1437"/>
                </a:lnTo>
                <a:lnTo>
                  <a:pt x="137" y="1553"/>
                </a:lnTo>
                <a:lnTo>
                  <a:pt x="195" y="1630"/>
                </a:lnTo>
                <a:lnTo>
                  <a:pt x="272" y="1713"/>
                </a:lnTo>
                <a:lnTo>
                  <a:pt x="344" y="1792"/>
                </a:lnTo>
                <a:lnTo>
                  <a:pt x="468" y="1878"/>
                </a:lnTo>
                <a:lnTo>
                  <a:pt x="597" y="1963"/>
                </a:lnTo>
                <a:lnTo>
                  <a:pt x="743" y="2037"/>
                </a:lnTo>
                <a:lnTo>
                  <a:pt x="912" y="2100"/>
                </a:lnTo>
                <a:lnTo>
                  <a:pt x="1107" y="2166"/>
                </a:lnTo>
                <a:lnTo>
                  <a:pt x="1299" y="2200"/>
                </a:lnTo>
                <a:lnTo>
                  <a:pt x="1607" y="2231"/>
                </a:lnTo>
                <a:lnTo>
                  <a:pt x="1886" y="2238"/>
                </a:lnTo>
                <a:lnTo>
                  <a:pt x="2020" y="2222"/>
                </a:lnTo>
                <a:lnTo>
                  <a:pt x="2162" y="2206"/>
                </a:lnTo>
                <a:lnTo>
                  <a:pt x="2310" y="2175"/>
                </a:lnTo>
                <a:lnTo>
                  <a:pt x="2453" y="2139"/>
                </a:lnTo>
                <a:lnTo>
                  <a:pt x="2567" y="2108"/>
                </a:lnTo>
                <a:lnTo>
                  <a:pt x="2576" y="2112"/>
                </a:lnTo>
                <a:lnTo>
                  <a:pt x="2625" y="2164"/>
                </a:lnTo>
                <a:lnTo>
                  <a:pt x="2672" y="2211"/>
                </a:lnTo>
                <a:lnTo>
                  <a:pt x="2747" y="2274"/>
                </a:lnTo>
                <a:lnTo>
                  <a:pt x="2797" y="2313"/>
                </a:lnTo>
                <a:lnTo>
                  <a:pt x="2873" y="2352"/>
                </a:lnTo>
                <a:lnTo>
                  <a:pt x="2916" y="2372"/>
                </a:lnTo>
                <a:lnTo>
                  <a:pt x="2943" y="2376"/>
                </a:lnTo>
                <a:close/>
              </a:path>
            </a:pathLst>
          </a:custGeom>
          <a:solidFill>
            <a:srgbClr val="ffffff"/>
          </a:solidFill>
          <a:ln w="13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74"/>
          <p:cNvSpPr/>
          <p:nvPr/>
        </p:nvSpPr>
        <p:spPr>
          <a:xfrm>
            <a:off x="1611360" y="558720"/>
            <a:ext cx="433224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amili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cupació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3"/>
          <p:cNvSpPr/>
          <p:nvPr/>
        </p:nvSpPr>
        <p:spPr>
          <a:xfrm>
            <a:off x="-42840" y="7920"/>
            <a:ext cx="9894960" cy="68961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4"/>
          <p:cNvSpPr/>
          <p:nvPr/>
        </p:nvSpPr>
        <p:spPr>
          <a:xfrm>
            <a:off x="4932360" y="3059280"/>
            <a:ext cx="2573280" cy="3651120"/>
          </a:xfrm>
          <a:custGeom>
            <a:avLst/>
            <a:gdLst>
              <a:gd name="textAreaLeft" fmla="*/ 0 w 2573280"/>
              <a:gd name="textAreaRight" fmla="*/ 2573640 w 2573280"/>
              <a:gd name="textAreaTop" fmla="*/ 0 h 3651120"/>
              <a:gd name="textAreaBottom" fmla="*/ 3651480 h 3651120"/>
            </a:gdLst>
            <a:ahLst/>
            <a:rect l="textAreaLeft" t="textAreaTop" r="textAreaRight" b="textAreaBottom"/>
            <a:pathLst>
              <a:path w="1621" h="2300">
                <a:moveTo>
                  <a:pt x="980" y="0"/>
                </a:moveTo>
                <a:lnTo>
                  <a:pt x="721" y="24"/>
                </a:lnTo>
                <a:lnTo>
                  <a:pt x="279" y="210"/>
                </a:lnTo>
                <a:lnTo>
                  <a:pt x="125" y="687"/>
                </a:lnTo>
                <a:lnTo>
                  <a:pt x="0" y="1158"/>
                </a:lnTo>
                <a:lnTo>
                  <a:pt x="146" y="1755"/>
                </a:lnTo>
                <a:lnTo>
                  <a:pt x="683" y="2233"/>
                </a:lnTo>
                <a:lnTo>
                  <a:pt x="781" y="2300"/>
                </a:lnTo>
                <a:lnTo>
                  <a:pt x="989" y="2288"/>
                </a:lnTo>
                <a:lnTo>
                  <a:pt x="1144" y="2223"/>
                </a:lnTo>
                <a:lnTo>
                  <a:pt x="1248" y="2163"/>
                </a:lnTo>
                <a:lnTo>
                  <a:pt x="1352" y="2059"/>
                </a:lnTo>
                <a:lnTo>
                  <a:pt x="1450" y="1849"/>
                </a:lnTo>
                <a:lnTo>
                  <a:pt x="1621" y="1521"/>
                </a:lnTo>
                <a:lnTo>
                  <a:pt x="1548" y="792"/>
                </a:lnTo>
                <a:lnTo>
                  <a:pt x="1345" y="279"/>
                </a:lnTo>
                <a:lnTo>
                  <a:pt x="1154" y="65"/>
                </a:lnTo>
                <a:lnTo>
                  <a:pt x="980" y="0"/>
                </a:lnTo>
                <a:lnTo>
                  <a:pt x="980" y="0"/>
                </a:lnTo>
                <a:lnTo>
                  <a:pt x="980" y="0"/>
                </a:lnTo>
                <a:close/>
              </a:path>
            </a:pathLst>
          </a:custGeom>
          <a:solidFill>
            <a:srgbClr val="ffd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5"/>
          <p:cNvSpPr/>
          <p:nvPr/>
        </p:nvSpPr>
        <p:spPr>
          <a:xfrm>
            <a:off x="6426360" y="4305240"/>
            <a:ext cx="512640" cy="192240"/>
          </a:xfrm>
          <a:custGeom>
            <a:avLst/>
            <a:gdLst>
              <a:gd name="textAreaLeft" fmla="*/ 0 w 512640"/>
              <a:gd name="textAreaRight" fmla="*/ 513000 w 5126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23" h="121">
                <a:moveTo>
                  <a:pt x="0" y="104"/>
                </a:moveTo>
                <a:lnTo>
                  <a:pt x="69" y="40"/>
                </a:lnTo>
                <a:lnTo>
                  <a:pt x="130" y="10"/>
                </a:lnTo>
                <a:lnTo>
                  <a:pt x="227" y="0"/>
                </a:lnTo>
                <a:lnTo>
                  <a:pt x="323" y="60"/>
                </a:lnTo>
                <a:lnTo>
                  <a:pt x="227" y="113"/>
                </a:lnTo>
                <a:lnTo>
                  <a:pt x="117" y="121"/>
                </a:lnTo>
                <a:lnTo>
                  <a:pt x="49" y="119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6"/>
          <p:cNvSpPr/>
          <p:nvPr/>
        </p:nvSpPr>
        <p:spPr>
          <a:xfrm>
            <a:off x="6591240" y="4330800"/>
            <a:ext cx="182520" cy="156960"/>
          </a:xfrm>
          <a:custGeom>
            <a:avLst/>
            <a:gdLst>
              <a:gd name="textAreaLeft" fmla="*/ 0 w 182520"/>
              <a:gd name="textAreaRight" fmla="*/ 182880 w 1825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15" h="99">
                <a:moveTo>
                  <a:pt x="6" y="0"/>
                </a:moveTo>
                <a:lnTo>
                  <a:pt x="0" y="54"/>
                </a:lnTo>
                <a:lnTo>
                  <a:pt x="22" y="84"/>
                </a:lnTo>
                <a:lnTo>
                  <a:pt x="54" y="99"/>
                </a:lnTo>
                <a:lnTo>
                  <a:pt x="90" y="88"/>
                </a:lnTo>
                <a:lnTo>
                  <a:pt x="115" y="61"/>
                </a:lnTo>
                <a:lnTo>
                  <a:pt x="113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7"/>
          <p:cNvSpPr/>
          <p:nvPr/>
        </p:nvSpPr>
        <p:spPr>
          <a:xfrm>
            <a:off x="5392800" y="4548240"/>
            <a:ext cx="406440" cy="158760"/>
          </a:xfrm>
          <a:custGeom>
            <a:avLst/>
            <a:gdLst>
              <a:gd name="textAreaLeft" fmla="*/ 0 w 406440"/>
              <a:gd name="textAreaRight" fmla="*/ 406800 w 4064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56" h="100">
                <a:moveTo>
                  <a:pt x="0" y="75"/>
                </a:moveTo>
                <a:lnTo>
                  <a:pt x="66" y="7"/>
                </a:lnTo>
                <a:lnTo>
                  <a:pt x="179" y="0"/>
                </a:lnTo>
                <a:lnTo>
                  <a:pt x="256" y="28"/>
                </a:lnTo>
                <a:lnTo>
                  <a:pt x="250" y="51"/>
                </a:lnTo>
                <a:lnTo>
                  <a:pt x="171" y="82"/>
                </a:lnTo>
                <a:lnTo>
                  <a:pt x="74" y="100"/>
                </a:lnTo>
                <a:lnTo>
                  <a:pt x="16" y="98"/>
                </a:lnTo>
                <a:lnTo>
                  <a:pt x="0" y="75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8"/>
          <p:cNvSpPr/>
          <p:nvPr/>
        </p:nvSpPr>
        <p:spPr>
          <a:xfrm>
            <a:off x="5491080" y="4557600"/>
            <a:ext cx="204840" cy="139680"/>
          </a:xfrm>
          <a:custGeom>
            <a:avLst/>
            <a:gdLst>
              <a:gd name="textAreaLeft" fmla="*/ 0 w 204840"/>
              <a:gd name="textAreaRight" fmla="*/ 205200 w 204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9" h="88">
                <a:moveTo>
                  <a:pt x="0" y="7"/>
                </a:moveTo>
                <a:lnTo>
                  <a:pt x="10" y="60"/>
                </a:lnTo>
                <a:lnTo>
                  <a:pt x="27" y="76"/>
                </a:lnTo>
                <a:lnTo>
                  <a:pt x="81" y="88"/>
                </a:lnTo>
                <a:lnTo>
                  <a:pt x="119" y="54"/>
                </a:lnTo>
                <a:lnTo>
                  <a:pt x="129" y="13"/>
                </a:lnTo>
                <a:lnTo>
                  <a:pt x="109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9"/>
          <p:cNvSpPr/>
          <p:nvPr/>
        </p:nvSpPr>
        <p:spPr>
          <a:xfrm>
            <a:off x="5857920" y="5425920"/>
            <a:ext cx="920880" cy="327240"/>
          </a:xfrm>
          <a:custGeom>
            <a:avLst/>
            <a:gdLst>
              <a:gd name="textAreaLeft" fmla="*/ 0 w 920880"/>
              <a:gd name="textAreaRight" fmla="*/ 921240 w 9208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580" h="206">
                <a:moveTo>
                  <a:pt x="0" y="91"/>
                </a:moveTo>
                <a:lnTo>
                  <a:pt x="37" y="77"/>
                </a:lnTo>
                <a:lnTo>
                  <a:pt x="198" y="61"/>
                </a:lnTo>
                <a:lnTo>
                  <a:pt x="284" y="58"/>
                </a:lnTo>
                <a:lnTo>
                  <a:pt x="480" y="2"/>
                </a:lnTo>
                <a:lnTo>
                  <a:pt x="580" y="0"/>
                </a:lnTo>
                <a:lnTo>
                  <a:pt x="562" y="79"/>
                </a:lnTo>
                <a:lnTo>
                  <a:pt x="455" y="163"/>
                </a:lnTo>
                <a:lnTo>
                  <a:pt x="243" y="206"/>
                </a:lnTo>
                <a:lnTo>
                  <a:pt x="137" y="190"/>
                </a:lnTo>
                <a:lnTo>
                  <a:pt x="102" y="179"/>
                </a:lnTo>
                <a:lnTo>
                  <a:pt x="52" y="147"/>
                </a:lnTo>
                <a:lnTo>
                  <a:pt x="31" y="116"/>
                </a:lnTo>
                <a:lnTo>
                  <a:pt x="0" y="91"/>
                </a:lnTo>
                <a:lnTo>
                  <a:pt x="0" y="91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10"/>
          <p:cNvSpPr/>
          <p:nvPr/>
        </p:nvSpPr>
        <p:spPr>
          <a:xfrm>
            <a:off x="5808600" y="5400720"/>
            <a:ext cx="698400" cy="182520"/>
          </a:xfrm>
          <a:custGeom>
            <a:avLst/>
            <a:gdLst>
              <a:gd name="textAreaLeft" fmla="*/ 0 w 698400"/>
              <a:gd name="textAreaRight" fmla="*/ 698760 w 6984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40" h="115">
                <a:moveTo>
                  <a:pt x="0" y="115"/>
                </a:moveTo>
                <a:lnTo>
                  <a:pt x="79" y="79"/>
                </a:lnTo>
                <a:lnTo>
                  <a:pt x="136" y="67"/>
                </a:lnTo>
                <a:lnTo>
                  <a:pt x="166" y="56"/>
                </a:lnTo>
                <a:lnTo>
                  <a:pt x="200" y="34"/>
                </a:lnTo>
                <a:lnTo>
                  <a:pt x="320" y="20"/>
                </a:lnTo>
                <a:lnTo>
                  <a:pt x="440" y="0"/>
                </a:lnTo>
                <a:lnTo>
                  <a:pt x="411" y="54"/>
                </a:lnTo>
                <a:lnTo>
                  <a:pt x="293" y="77"/>
                </a:lnTo>
                <a:lnTo>
                  <a:pt x="136" y="84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11"/>
          <p:cNvSpPr/>
          <p:nvPr/>
        </p:nvSpPr>
        <p:spPr>
          <a:xfrm>
            <a:off x="5931000" y="5649840"/>
            <a:ext cx="669960" cy="173160"/>
          </a:xfrm>
          <a:custGeom>
            <a:avLst/>
            <a:gdLst/>
            <a:ahLst/>
            <a:rect l="l" t="t" r="r" b="b"/>
            <a:pathLst>
              <a:path w="422" h="109">
                <a:moveTo>
                  <a:pt x="0" y="0"/>
                </a:moveTo>
                <a:lnTo>
                  <a:pt x="77" y="45"/>
                </a:lnTo>
                <a:lnTo>
                  <a:pt x="196" y="59"/>
                </a:lnTo>
                <a:lnTo>
                  <a:pt x="328" y="40"/>
                </a:lnTo>
                <a:lnTo>
                  <a:pt x="408" y="11"/>
                </a:lnTo>
                <a:lnTo>
                  <a:pt x="422" y="55"/>
                </a:lnTo>
                <a:lnTo>
                  <a:pt x="375" y="88"/>
                </a:lnTo>
                <a:lnTo>
                  <a:pt x="311" y="109"/>
                </a:lnTo>
                <a:lnTo>
                  <a:pt x="341" y="78"/>
                </a:lnTo>
                <a:lnTo>
                  <a:pt x="330" y="68"/>
                </a:lnTo>
                <a:lnTo>
                  <a:pt x="278" y="73"/>
                </a:lnTo>
                <a:lnTo>
                  <a:pt x="199" y="84"/>
                </a:lnTo>
                <a:lnTo>
                  <a:pt x="143" y="81"/>
                </a:lnTo>
                <a:lnTo>
                  <a:pt x="91" y="70"/>
                </a:lnTo>
                <a:lnTo>
                  <a:pt x="48" y="4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12"/>
          <p:cNvSpPr/>
          <p:nvPr/>
        </p:nvSpPr>
        <p:spPr>
          <a:xfrm>
            <a:off x="6719760" y="5460840"/>
            <a:ext cx="111240" cy="130320"/>
          </a:xfrm>
          <a:custGeom>
            <a:avLst/>
            <a:gdLst>
              <a:gd name="textAreaLeft" fmla="*/ 0 w 111240"/>
              <a:gd name="textAreaRight" fmla="*/ 111600 w 1112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70" h="82">
                <a:moveTo>
                  <a:pt x="47" y="7"/>
                </a:moveTo>
                <a:lnTo>
                  <a:pt x="0" y="80"/>
                </a:lnTo>
                <a:lnTo>
                  <a:pt x="34" y="82"/>
                </a:lnTo>
                <a:lnTo>
                  <a:pt x="65" y="39"/>
                </a:lnTo>
                <a:lnTo>
                  <a:pt x="70" y="0"/>
                </a:lnTo>
                <a:lnTo>
                  <a:pt x="47" y="7"/>
                </a:lnTo>
                <a:lnTo>
                  <a:pt x="47" y="7"/>
                </a:lnTo>
                <a:lnTo>
                  <a:pt x="47" y="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13"/>
          <p:cNvSpPr/>
          <p:nvPr/>
        </p:nvSpPr>
        <p:spPr>
          <a:xfrm>
            <a:off x="5565600" y="5083200"/>
            <a:ext cx="317520" cy="584280"/>
          </a:xfrm>
          <a:custGeom>
            <a:avLst/>
            <a:gdLst>
              <a:gd name="textAreaLeft" fmla="*/ 0 w 317520"/>
              <a:gd name="textAreaRight" fmla="*/ 317880 w 31752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200" h="368">
                <a:moveTo>
                  <a:pt x="38" y="368"/>
                </a:moveTo>
                <a:lnTo>
                  <a:pt x="13" y="320"/>
                </a:lnTo>
                <a:lnTo>
                  <a:pt x="0" y="261"/>
                </a:lnTo>
                <a:lnTo>
                  <a:pt x="18" y="204"/>
                </a:lnTo>
                <a:lnTo>
                  <a:pt x="42" y="171"/>
                </a:lnTo>
                <a:lnTo>
                  <a:pt x="76" y="143"/>
                </a:lnTo>
                <a:lnTo>
                  <a:pt x="108" y="111"/>
                </a:lnTo>
                <a:lnTo>
                  <a:pt x="145" y="68"/>
                </a:lnTo>
                <a:lnTo>
                  <a:pt x="200" y="0"/>
                </a:lnTo>
                <a:lnTo>
                  <a:pt x="130" y="140"/>
                </a:lnTo>
                <a:lnTo>
                  <a:pt x="48" y="249"/>
                </a:lnTo>
                <a:lnTo>
                  <a:pt x="38" y="368"/>
                </a:lnTo>
                <a:lnTo>
                  <a:pt x="38" y="368"/>
                </a:lnTo>
                <a:lnTo>
                  <a:pt x="38" y="368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14"/>
          <p:cNvSpPr/>
          <p:nvPr/>
        </p:nvSpPr>
        <p:spPr>
          <a:xfrm>
            <a:off x="6676920" y="5078520"/>
            <a:ext cx="373320" cy="322200"/>
          </a:xfrm>
          <a:custGeom>
            <a:avLst/>
            <a:gdLst>
              <a:gd name="textAreaLeft" fmla="*/ 0 w 373320"/>
              <a:gd name="textAreaRight" fmla="*/ 373680 w 3733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35" h="203">
                <a:moveTo>
                  <a:pt x="0" y="0"/>
                </a:moveTo>
                <a:lnTo>
                  <a:pt x="67" y="29"/>
                </a:lnTo>
                <a:lnTo>
                  <a:pt x="120" y="56"/>
                </a:lnTo>
                <a:lnTo>
                  <a:pt x="184" y="81"/>
                </a:lnTo>
                <a:lnTo>
                  <a:pt x="229" y="116"/>
                </a:lnTo>
                <a:lnTo>
                  <a:pt x="235" y="158"/>
                </a:lnTo>
                <a:lnTo>
                  <a:pt x="208" y="203"/>
                </a:lnTo>
                <a:lnTo>
                  <a:pt x="189" y="135"/>
                </a:lnTo>
                <a:lnTo>
                  <a:pt x="110" y="86"/>
                </a:lnTo>
                <a:lnTo>
                  <a:pt x="56" y="59"/>
                </a:lnTo>
                <a:lnTo>
                  <a:pt x="11" y="1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15"/>
          <p:cNvSpPr/>
          <p:nvPr/>
        </p:nvSpPr>
        <p:spPr>
          <a:xfrm>
            <a:off x="6119640" y="4262400"/>
            <a:ext cx="544680" cy="1000080"/>
          </a:xfrm>
          <a:custGeom>
            <a:avLst/>
            <a:gdLst>
              <a:gd name="textAreaLeft" fmla="*/ 0 w 544680"/>
              <a:gd name="textAreaRight" fmla="*/ 545040 w 5446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43" h="630">
                <a:moveTo>
                  <a:pt x="294" y="0"/>
                </a:moveTo>
                <a:lnTo>
                  <a:pt x="251" y="0"/>
                </a:lnTo>
                <a:lnTo>
                  <a:pt x="215" y="25"/>
                </a:lnTo>
                <a:lnTo>
                  <a:pt x="186" y="63"/>
                </a:lnTo>
                <a:lnTo>
                  <a:pt x="167" y="75"/>
                </a:lnTo>
                <a:lnTo>
                  <a:pt x="147" y="64"/>
                </a:lnTo>
                <a:lnTo>
                  <a:pt x="128" y="34"/>
                </a:lnTo>
                <a:lnTo>
                  <a:pt x="102" y="75"/>
                </a:lnTo>
                <a:lnTo>
                  <a:pt x="72" y="146"/>
                </a:lnTo>
                <a:lnTo>
                  <a:pt x="60" y="215"/>
                </a:lnTo>
                <a:lnTo>
                  <a:pt x="68" y="324"/>
                </a:lnTo>
                <a:lnTo>
                  <a:pt x="114" y="467"/>
                </a:lnTo>
                <a:lnTo>
                  <a:pt x="140" y="521"/>
                </a:lnTo>
                <a:lnTo>
                  <a:pt x="189" y="470"/>
                </a:lnTo>
                <a:lnTo>
                  <a:pt x="215" y="464"/>
                </a:lnTo>
                <a:lnTo>
                  <a:pt x="241" y="472"/>
                </a:lnTo>
                <a:lnTo>
                  <a:pt x="260" y="503"/>
                </a:lnTo>
                <a:lnTo>
                  <a:pt x="258" y="532"/>
                </a:lnTo>
                <a:lnTo>
                  <a:pt x="230" y="543"/>
                </a:lnTo>
                <a:lnTo>
                  <a:pt x="143" y="551"/>
                </a:lnTo>
                <a:lnTo>
                  <a:pt x="105" y="581"/>
                </a:lnTo>
                <a:lnTo>
                  <a:pt x="59" y="609"/>
                </a:lnTo>
                <a:lnTo>
                  <a:pt x="0" y="619"/>
                </a:lnTo>
                <a:lnTo>
                  <a:pt x="42" y="630"/>
                </a:lnTo>
                <a:lnTo>
                  <a:pt x="111" y="630"/>
                </a:lnTo>
                <a:lnTo>
                  <a:pt x="213" y="598"/>
                </a:lnTo>
                <a:lnTo>
                  <a:pt x="276" y="598"/>
                </a:lnTo>
                <a:lnTo>
                  <a:pt x="325" y="579"/>
                </a:lnTo>
                <a:lnTo>
                  <a:pt x="343" y="545"/>
                </a:lnTo>
                <a:lnTo>
                  <a:pt x="343" y="491"/>
                </a:lnTo>
                <a:lnTo>
                  <a:pt x="284" y="420"/>
                </a:lnTo>
                <a:lnTo>
                  <a:pt x="219" y="333"/>
                </a:lnTo>
                <a:lnTo>
                  <a:pt x="186" y="219"/>
                </a:lnTo>
                <a:lnTo>
                  <a:pt x="213" y="146"/>
                </a:lnTo>
                <a:lnTo>
                  <a:pt x="197" y="128"/>
                </a:lnTo>
                <a:lnTo>
                  <a:pt x="234" y="78"/>
                </a:lnTo>
                <a:lnTo>
                  <a:pt x="219" y="76"/>
                </a:lnTo>
                <a:lnTo>
                  <a:pt x="251" y="30"/>
                </a:lnTo>
                <a:lnTo>
                  <a:pt x="294" y="0"/>
                </a:lnTo>
                <a:lnTo>
                  <a:pt x="294" y="0"/>
                </a:lnTo>
                <a:lnTo>
                  <a:pt x="294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16"/>
          <p:cNvSpPr/>
          <p:nvPr/>
        </p:nvSpPr>
        <p:spPr>
          <a:xfrm>
            <a:off x="4983120" y="3268800"/>
            <a:ext cx="1836720" cy="342252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157" h="2156">
                <a:moveTo>
                  <a:pt x="602" y="0"/>
                </a:moveTo>
                <a:lnTo>
                  <a:pt x="410" y="161"/>
                </a:lnTo>
                <a:lnTo>
                  <a:pt x="355" y="307"/>
                </a:lnTo>
                <a:lnTo>
                  <a:pt x="296" y="478"/>
                </a:lnTo>
                <a:lnTo>
                  <a:pt x="288" y="569"/>
                </a:lnTo>
                <a:lnTo>
                  <a:pt x="379" y="653"/>
                </a:lnTo>
                <a:lnTo>
                  <a:pt x="219" y="709"/>
                </a:lnTo>
                <a:lnTo>
                  <a:pt x="142" y="775"/>
                </a:lnTo>
                <a:lnTo>
                  <a:pt x="125" y="845"/>
                </a:lnTo>
                <a:lnTo>
                  <a:pt x="188" y="876"/>
                </a:lnTo>
                <a:lnTo>
                  <a:pt x="257" y="911"/>
                </a:lnTo>
                <a:lnTo>
                  <a:pt x="136" y="939"/>
                </a:lnTo>
                <a:lnTo>
                  <a:pt x="103" y="1005"/>
                </a:lnTo>
                <a:lnTo>
                  <a:pt x="121" y="1183"/>
                </a:lnTo>
                <a:lnTo>
                  <a:pt x="190" y="1399"/>
                </a:lnTo>
                <a:lnTo>
                  <a:pt x="265" y="1529"/>
                </a:lnTo>
                <a:lnTo>
                  <a:pt x="355" y="1650"/>
                </a:lnTo>
                <a:lnTo>
                  <a:pt x="470" y="1756"/>
                </a:lnTo>
                <a:lnTo>
                  <a:pt x="584" y="1842"/>
                </a:lnTo>
                <a:lnTo>
                  <a:pt x="794" y="1923"/>
                </a:lnTo>
                <a:lnTo>
                  <a:pt x="938" y="1927"/>
                </a:lnTo>
                <a:lnTo>
                  <a:pt x="1051" y="1905"/>
                </a:lnTo>
                <a:lnTo>
                  <a:pt x="1157" y="1868"/>
                </a:lnTo>
                <a:lnTo>
                  <a:pt x="1034" y="1934"/>
                </a:lnTo>
                <a:lnTo>
                  <a:pt x="853" y="1961"/>
                </a:lnTo>
                <a:lnTo>
                  <a:pt x="717" y="1982"/>
                </a:lnTo>
                <a:lnTo>
                  <a:pt x="763" y="2156"/>
                </a:lnTo>
                <a:lnTo>
                  <a:pt x="686" y="2142"/>
                </a:lnTo>
                <a:lnTo>
                  <a:pt x="278" y="1752"/>
                </a:lnTo>
                <a:lnTo>
                  <a:pt x="0" y="1291"/>
                </a:lnTo>
                <a:lnTo>
                  <a:pt x="45" y="604"/>
                </a:lnTo>
                <a:lnTo>
                  <a:pt x="314" y="42"/>
                </a:lnTo>
                <a:lnTo>
                  <a:pt x="602" y="0"/>
                </a:lnTo>
                <a:lnTo>
                  <a:pt x="602" y="0"/>
                </a:lnTo>
                <a:lnTo>
                  <a:pt x="602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17"/>
          <p:cNvSpPr/>
          <p:nvPr/>
        </p:nvSpPr>
        <p:spPr>
          <a:xfrm>
            <a:off x="5896080" y="3041640"/>
            <a:ext cx="1625400" cy="327348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3273480"/>
              <a:gd name="textAreaBottom" fmla="*/ 3273840 h 3273480"/>
            </a:gdLst>
            <a:ahLst/>
            <a:rect l="textAreaLeft" t="textAreaTop" r="textAreaRight" b="textAreaBottom"/>
            <a:pathLst>
              <a:path w="1024" h="2062">
                <a:moveTo>
                  <a:pt x="66" y="115"/>
                </a:moveTo>
                <a:lnTo>
                  <a:pt x="225" y="109"/>
                </a:lnTo>
                <a:lnTo>
                  <a:pt x="341" y="125"/>
                </a:lnTo>
                <a:lnTo>
                  <a:pt x="439" y="172"/>
                </a:lnTo>
                <a:lnTo>
                  <a:pt x="515" y="221"/>
                </a:lnTo>
                <a:lnTo>
                  <a:pt x="582" y="325"/>
                </a:lnTo>
                <a:lnTo>
                  <a:pt x="620" y="440"/>
                </a:lnTo>
                <a:lnTo>
                  <a:pt x="651" y="576"/>
                </a:lnTo>
                <a:lnTo>
                  <a:pt x="658" y="642"/>
                </a:lnTo>
                <a:lnTo>
                  <a:pt x="557" y="646"/>
                </a:lnTo>
                <a:lnTo>
                  <a:pt x="614" y="701"/>
                </a:lnTo>
                <a:lnTo>
                  <a:pt x="565" y="729"/>
                </a:lnTo>
                <a:lnTo>
                  <a:pt x="480" y="750"/>
                </a:lnTo>
                <a:lnTo>
                  <a:pt x="519" y="796"/>
                </a:lnTo>
                <a:lnTo>
                  <a:pt x="679" y="862"/>
                </a:lnTo>
                <a:lnTo>
                  <a:pt x="755" y="856"/>
                </a:lnTo>
                <a:lnTo>
                  <a:pt x="802" y="921"/>
                </a:lnTo>
                <a:lnTo>
                  <a:pt x="832" y="1027"/>
                </a:lnTo>
                <a:lnTo>
                  <a:pt x="843" y="1201"/>
                </a:lnTo>
                <a:lnTo>
                  <a:pt x="832" y="1372"/>
                </a:lnTo>
                <a:lnTo>
                  <a:pt x="832" y="1532"/>
                </a:lnTo>
                <a:lnTo>
                  <a:pt x="794" y="1654"/>
                </a:lnTo>
                <a:lnTo>
                  <a:pt x="661" y="1871"/>
                </a:lnTo>
                <a:lnTo>
                  <a:pt x="565" y="1962"/>
                </a:lnTo>
                <a:lnTo>
                  <a:pt x="442" y="2062"/>
                </a:lnTo>
                <a:lnTo>
                  <a:pt x="543" y="2062"/>
                </a:lnTo>
                <a:lnTo>
                  <a:pt x="802" y="1888"/>
                </a:lnTo>
                <a:lnTo>
                  <a:pt x="1024" y="1609"/>
                </a:lnTo>
                <a:lnTo>
                  <a:pt x="996" y="1148"/>
                </a:lnTo>
                <a:lnTo>
                  <a:pt x="871" y="604"/>
                </a:lnTo>
                <a:lnTo>
                  <a:pt x="679" y="143"/>
                </a:lnTo>
                <a:lnTo>
                  <a:pt x="456" y="4"/>
                </a:lnTo>
                <a:lnTo>
                  <a:pt x="229" y="0"/>
                </a:lnTo>
                <a:lnTo>
                  <a:pt x="0" y="60"/>
                </a:lnTo>
                <a:lnTo>
                  <a:pt x="66" y="115"/>
                </a:lnTo>
                <a:lnTo>
                  <a:pt x="66" y="115"/>
                </a:lnTo>
                <a:lnTo>
                  <a:pt x="66" y="115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18"/>
          <p:cNvSpPr/>
          <p:nvPr/>
        </p:nvSpPr>
        <p:spPr>
          <a:xfrm>
            <a:off x="7327800" y="3441600"/>
            <a:ext cx="1702080" cy="3203640"/>
          </a:xfrm>
          <a:custGeom>
            <a:avLst/>
            <a:gdLst>
              <a:gd name="textAreaLeft" fmla="*/ 0 w 1702080"/>
              <a:gd name="textAreaRight" fmla="*/ 1702440 w 170208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1072" h="2018">
                <a:moveTo>
                  <a:pt x="94" y="0"/>
                </a:moveTo>
                <a:lnTo>
                  <a:pt x="496" y="168"/>
                </a:lnTo>
                <a:lnTo>
                  <a:pt x="595" y="331"/>
                </a:lnTo>
                <a:lnTo>
                  <a:pt x="700" y="461"/>
                </a:lnTo>
                <a:lnTo>
                  <a:pt x="635" y="489"/>
                </a:lnTo>
                <a:lnTo>
                  <a:pt x="706" y="641"/>
                </a:lnTo>
                <a:lnTo>
                  <a:pt x="926" y="798"/>
                </a:lnTo>
                <a:lnTo>
                  <a:pt x="1061" y="1008"/>
                </a:lnTo>
                <a:lnTo>
                  <a:pt x="1072" y="1277"/>
                </a:lnTo>
                <a:lnTo>
                  <a:pt x="898" y="1697"/>
                </a:lnTo>
                <a:lnTo>
                  <a:pt x="973" y="2006"/>
                </a:lnTo>
                <a:lnTo>
                  <a:pt x="851" y="2018"/>
                </a:lnTo>
                <a:lnTo>
                  <a:pt x="688" y="1953"/>
                </a:lnTo>
                <a:lnTo>
                  <a:pt x="548" y="1825"/>
                </a:lnTo>
                <a:lnTo>
                  <a:pt x="36" y="1744"/>
                </a:lnTo>
                <a:lnTo>
                  <a:pt x="0" y="1633"/>
                </a:lnTo>
                <a:lnTo>
                  <a:pt x="82" y="1259"/>
                </a:lnTo>
                <a:lnTo>
                  <a:pt x="46" y="926"/>
                </a:lnTo>
                <a:lnTo>
                  <a:pt x="46" y="349"/>
                </a:lnTo>
                <a:lnTo>
                  <a:pt x="94" y="0"/>
                </a:lnTo>
                <a:lnTo>
                  <a:pt x="94" y="0"/>
                </a:lnTo>
                <a:lnTo>
                  <a:pt x="94" y="0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19"/>
          <p:cNvSpPr/>
          <p:nvPr/>
        </p:nvSpPr>
        <p:spPr>
          <a:xfrm>
            <a:off x="3768840" y="2347920"/>
            <a:ext cx="3384360" cy="432288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4322880"/>
              <a:gd name="textAreaBottom" fmla="*/ 4323240 h 4322880"/>
            </a:gdLst>
            <a:ahLst/>
            <a:rect l="textAreaLeft" t="textAreaTop" r="textAreaRight" b="textAreaBottom"/>
            <a:pathLst>
              <a:path w="2132" h="2723">
                <a:moveTo>
                  <a:pt x="302" y="992"/>
                </a:moveTo>
                <a:lnTo>
                  <a:pt x="634" y="321"/>
                </a:lnTo>
                <a:lnTo>
                  <a:pt x="850" y="204"/>
                </a:lnTo>
                <a:lnTo>
                  <a:pt x="1357" y="0"/>
                </a:lnTo>
                <a:lnTo>
                  <a:pt x="1829" y="12"/>
                </a:lnTo>
                <a:lnTo>
                  <a:pt x="2021" y="59"/>
                </a:lnTo>
                <a:lnTo>
                  <a:pt x="2109" y="176"/>
                </a:lnTo>
                <a:lnTo>
                  <a:pt x="2132" y="379"/>
                </a:lnTo>
                <a:lnTo>
                  <a:pt x="2067" y="624"/>
                </a:lnTo>
                <a:lnTo>
                  <a:pt x="1812" y="542"/>
                </a:lnTo>
                <a:lnTo>
                  <a:pt x="1683" y="449"/>
                </a:lnTo>
                <a:lnTo>
                  <a:pt x="1445" y="431"/>
                </a:lnTo>
                <a:lnTo>
                  <a:pt x="1106" y="619"/>
                </a:lnTo>
                <a:lnTo>
                  <a:pt x="867" y="1102"/>
                </a:lnTo>
                <a:lnTo>
                  <a:pt x="751" y="1628"/>
                </a:lnTo>
                <a:lnTo>
                  <a:pt x="1007" y="2450"/>
                </a:lnTo>
                <a:lnTo>
                  <a:pt x="815" y="2660"/>
                </a:lnTo>
                <a:lnTo>
                  <a:pt x="459" y="2723"/>
                </a:lnTo>
                <a:lnTo>
                  <a:pt x="46" y="2723"/>
                </a:lnTo>
                <a:lnTo>
                  <a:pt x="29" y="2549"/>
                </a:lnTo>
                <a:lnTo>
                  <a:pt x="0" y="2340"/>
                </a:lnTo>
                <a:lnTo>
                  <a:pt x="29" y="2223"/>
                </a:lnTo>
                <a:lnTo>
                  <a:pt x="64" y="2065"/>
                </a:lnTo>
                <a:lnTo>
                  <a:pt x="12" y="1908"/>
                </a:lnTo>
                <a:lnTo>
                  <a:pt x="29" y="1679"/>
                </a:lnTo>
                <a:lnTo>
                  <a:pt x="82" y="1563"/>
                </a:lnTo>
                <a:lnTo>
                  <a:pt x="46" y="1523"/>
                </a:lnTo>
                <a:lnTo>
                  <a:pt x="58" y="1441"/>
                </a:lnTo>
                <a:lnTo>
                  <a:pt x="186" y="1413"/>
                </a:lnTo>
                <a:lnTo>
                  <a:pt x="302" y="992"/>
                </a:lnTo>
                <a:lnTo>
                  <a:pt x="302" y="992"/>
                </a:lnTo>
                <a:lnTo>
                  <a:pt x="302" y="992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20"/>
          <p:cNvSpPr/>
          <p:nvPr/>
        </p:nvSpPr>
        <p:spPr>
          <a:xfrm>
            <a:off x="5057640" y="2562120"/>
            <a:ext cx="1285920" cy="419040"/>
          </a:xfrm>
          <a:custGeom>
            <a:avLst/>
            <a:gdLst>
              <a:gd name="textAreaLeft" fmla="*/ 0 w 1285920"/>
              <a:gd name="textAreaRight" fmla="*/ 1286280 w 1285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10" h="264">
                <a:moveTo>
                  <a:pt x="0" y="217"/>
                </a:moveTo>
                <a:lnTo>
                  <a:pt x="195" y="264"/>
                </a:lnTo>
                <a:lnTo>
                  <a:pt x="439" y="264"/>
                </a:lnTo>
                <a:lnTo>
                  <a:pt x="567" y="259"/>
                </a:lnTo>
                <a:lnTo>
                  <a:pt x="728" y="190"/>
                </a:lnTo>
                <a:lnTo>
                  <a:pt x="447" y="198"/>
                </a:lnTo>
                <a:lnTo>
                  <a:pt x="358" y="162"/>
                </a:lnTo>
                <a:lnTo>
                  <a:pt x="518" y="136"/>
                </a:lnTo>
                <a:lnTo>
                  <a:pt x="653" y="82"/>
                </a:lnTo>
                <a:lnTo>
                  <a:pt x="810" y="0"/>
                </a:lnTo>
                <a:lnTo>
                  <a:pt x="366" y="13"/>
                </a:lnTo>
                <a:lnTo>
                  <a:pt x="177" y="52"/>
                </a:lnTo>
                <a:lnTo>
                  <a:pt x="417" y="82"/>
                </a:lnTo>
                <a:lnTo>
                  <a:pt x="170" y="106"/>
                </a:lnTo>
                <a:lnTo>
                  <a:pt x="358" y="205"/>
                </a:lnTo>
                <a:lnTo>
                  <a:pt x="131" y="205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21"/>
          <p:cNvSpPr/>
          <p:nvPr/>
        </p:nvSpPr>
        <p:spPr>
          <a:xfrm>
            <a:off x="5735520" y="2357280"/>
            <a:ext cx="959040" cy="171720"/>
          </a:xfrm>
          <a:custGeom>
            <a:avLst/>
            <a:gdLst>
              <a:gd name="textAreaLeft" fmla="*/ 0 w 959040"/>
              <a:gd name="textAreaRight" fmla="*/ 959400 w 959040"/>
              <a:gd name="textAreaTop" fmla="*/ 0 h 171720"/>
              <a:gd name="textAreaBottom" fmla="*/ 171720 h 171720"/>
            </a:gdLst>
            <a:ahLst/>
            <a:rect l="textAreaLeft" t="textAreaTop" r="textAreaRight" b="textAreaBottom"/>
            <a:pathLst>
              <a:path w="604" h="108">
                <a:moveTo>
                  <a:pt x="93" y="73"/>
                </a:moveTo>
                <a:lnTo>
                  <a:pt x="350" y="64"/>
                </a:lnTo>
                <a:lnTo>
                  <a:pt x="449" y="57"/>
                </a:lnTo>
                <a:lnTo>
                  <a:pt x="545" y="83"/>
                </a:lnTo>
                <a:lnTo>
                  <a:pt x="599" y="108"/>
                </a:lnTo>
                <a:lnTo>
                  <a:pt x="604" y="41"/>
                </a:lnTo>
                <a:lnTo>
                  <a:pt x="295" y="0"/>
                </a:lnTo>
                <a:lnTo>
                  <a:pt x="101" y="19"/>
                </a:lnTo>
                <a:lnTo>
                  <a:pt x="0" y="62"/>
                </a:lnTo>
                <a:lnTo>
                  <a:pt x="93" y="73"/>
                </a:lnTo>
                <a:lnTo>
                  <a:pt x="93" y="73"/>
                </a:lnTo>
                <a:lnTo>
                  <a:pt x="93" y="7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22"/>
          <p:cNvSpPr/>
          <p:nvPr/>
        </p:nvSpPr>
        <p:spPr>
          <a:xfrm>
            <a:off x="4738680" y="2871720"/>
            <a:ext cx="716040" cy="407880"/>
          </a:xfrm>
          <a:custGeom>
            <a:avLst/>
            <a:gdLst>
              <a:gd name="textAreaLeft" fmla="*/ 0 w 716040"/>
              <a:gd name="textAreaRight" fmla="*/ 716040 w 71604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451" h="257">
                <a:moveTo>
                  <a:pt x="0" y="15"/>
                </a:moveTo>
                <a:lnTo>
                  <a:pt x="88" y="121"/>
                </a:lnTo>
                <a:lnTo>
                  <a:pt x="155" y="177"/>
                </a:lnTo>
                <a:lnTo>
                  <a:pt x="229" y="216"/>
                </a:lnTo>
                <a:lnTo>
                  <a:pt x="337" y="257"/>
                </a:lnTo>
                <a:lnTo>
                  <a:pt x="451" y="257"/>
                </a:lnTo>
                <a:lnTo>
                  <a:pt x="337" y="216"/>
                </a:lnTo>
                <a:lnTo>
                  <a:pt x="194" y="149"/>
                </a:lnTo>
                <a:lnTo>
                  <a:pt x="93" y="69"/>
                </a:lnTo>
                <a:lnTo>
                  <a:pt x="20" y="0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23"/>
          <p:cNvSpPr/>
          <p:nvPr/>
        </p:nvSpPr>
        <p:spPr>
          <a:xfrm>
            <a:off x="4408560" y="3129120"/>
            <a:ext cx="498240" cy="728640"/>
          </a:xfrm>
          <a:custGeom>
            <a:avLst/>
            <a:gdLst>
              <a:gd name="textAreaLeft" fmla="*/ 0 w 498240"/>
              <a:gd name="textAreaRight" fmla="*/ 498240 w 498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314" h="459">
                <a:moveTo>
                  <a:pt x="201" y="0"/>
                </a:moveTo>
                <a:lnTo>
                  <a:pt x="275" y="125"/>
                </a:lnTo>
                <a:lnTo>
                  <a:pt x="314" y="206"/>
                </a:lnTo>
                <a:lnTo>
                  <a:pt x="314" y="260"/>
                </a:lnTo>
                <a:lnTo>
                  <a:pt x="253" y="349"/>
                </a:lnTo>
                <a:lnTo>
                  <a:pt x="0" y="459"/>
                </a:lnTo>
                <a:lnTo>
                  <a:pt x="108" y="267"/>
                </a:lnTo>
                <a:lnTo>
                  <a:pt x="201" y="0"/>
                </a:lnTo>
                <a:lnTo>
                  <a:pt x="201" y="0"/>
                </a:lnTo>
                <a:lnTo>
                  <a:pt x="201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24"/>
          <p:cNvSpPr/>
          <p:nvPr/>
        </p:nvSpPr>
        <p:spPr>
          <a:xfrm>
            <a:off x="4984920" y="3352680"/>
            <a:ext cx="190440" cy="470160"/>
          </a:xfrm>
          <a:custGeom>
            <a:avLst/>
            <a:gdLst>
              <a:gd name="textAreaLeft" fmla="*/ 0 w 190440"/>
              <a:gd name="textAreaRight" fmla="*/ 190800 w 1904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20" h="296">
                <a:moveTo>
                  <a:pt x="120" y="38"/>
                </a:moveTo>
                <a:lnTo>
                  <a:pt x="79" y="108"/>
                </a:lnTo>
                <a:lnTo>
                  <a:pt x="66" y="175"/>
                </a:lnTo>
                <a:lnTo>
                  <a:pt x="92" y="254"/>
                </a:lnTo>
                <a:lnTo>
                  <a:pt x="92" y="296"/>
                </a:lnTo>
                <a:lnTo>
                  <a:pt x="46" y="270"/>
                </a:lnTo>
                <a:lnTo>
                  <a:pt x="5" y="180"/>
                </a:lnTo>
                <a:lnTo>
                  <a:pt x="0" y="41"/>
                </a:lnTo>
                <a:lnTo>
                  <a:pt x="59" y="0"/>
                </a:lnTo>
                <a:lnTo>
                  <a:pt x="120" y="38"/>
                </a:lnTo>
                <a:lnTo>
                  <a:pt x="120" y="38"/>
                </a:lnTo>
                <a:lnTo>
                  <a:pt x="120" y="3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25"/>
          <p:cNvSpPr/>
          <p:nvPr/>
        </p:nvSpPr>
        <p:spPr>
          <a:xfrm>
            <a:off x="7634160" y="3557520"/>
            <a:ext cx="311400" cy="938160"/>
          </a:xfrm>
          <a:custGeom>
            <a:avLst/>
            <a:gdLst>
              <a:gd name="textAreaLeft" fmla="*/ 0 w 311400"/>
              <a:gd name="textAreaRight" fmla="*/ 311760 w 311400"/>
              <a:gd name="textAreaTop" fmla="*/ 0 h 938160"/>
              <a:gd name="textAreaBottom" fmla="*/ 938160 h 938160"/>
            </a:gdLst>
            <a:ahLst/>
            <a:rect l="textAreaLeft" t="textAreaTop" r="textAreaRight" b="textAreaBottom"/>
            <a:pathLst>
              <a:path w="196" h="591">
                <a:moveTo>
                  <a:pt x="19" y="0"/>
                </a:moveTo>
                <a:lnTo>
                  <a:pt x="106" y="118"/>
                </a:lnTo>
                <a:lnTo>
                  <a:pt x="123" y="189"/>
                </a:lnTo>
                <a:lnTo>
                  <a:pt x="100" y="254"/>
                </a:lnTo>
                <a:lnTo>
                  <a:pt x="78" y="155"/>
                </a:lnTo>
                <a:lnTo>
                  <a:pt x="0" y="88"/>
                </a:lnTo>
                <a:lnTo>
                  <a:pt x="31" y="195"/>
                </a:lnTo>
                <a:lnTo>
                  <a:pt x="63" y="254"/>
                </a:lnTo>
                <a:lnTo>
                  <a:pt x="59" y="320"/>
                </a:lnTo>
                <a:lnTo>
                  <a:pt x="33" y="424"/>
                </a:lnTo>
                <a:lnTo>
                  <a:pt x="33" y="483"/>
                </a:lnTo>
                <a:lnTo>
                  <a:pt x="58" y="542"/>
                </a:lnTo>
                <a:lnTo>
                  <a:pt x="117" y="591"/>
                </a:lnTo>
                <a:lnTo>
                  <a:pt x="122" y="415"/>
                </a:lnTo>
                <a:lnTo>
                  <a:pt x="196" y="214"/>
                </a:lnTo>
                <a:lnTo>
                  <a:pt x="150" y="90"/>
                </a:lnTo>
                <a:lnTo>
                  <a:pt x="87" y="36"/>
                </a:ln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26"/>
          <p:cNvSpPr/>
          <p:nvPr/>
        </p:nvSpPr>
        <p:spPr>
          <a:xfrm>
            <a:off x="8310600" y="4255920"/>
            <a:ext cx="727200" cy="1162080"/>
          </a:xfrm>
          <a:custGeom>
            <a:avLst/>
            <a:gdLst>
              <a:gd name="textAreaLeft" fmla="*/ 0 w 727200"/>
              <a:gd name="textAreaRight" fmla="*/ 727560 w 72720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458" h="732">
                <a:moveTo>
                  <a:pt x="8" y="0"/>
                </a:moveTo>
                <a:lnTo>
                  <a:pt x="0" y="96"/>
                </a:lnTo>
                <a:lnTo>
                  <a:pt x="16" y="181"/>
                </a:lnTo>
                <a:lnTo>
                  <a:pt x="110" y="262"/>
                </a:lnTo>
                <a:lnTo>
                  <a:pt x="183" y="321"/>
                </a:lnTo>
                <a:lnTo>
                  <a:pt x="183" y="280"/>
                </a:lnTo>
                <a:lnTo>
                  <a:pt x="314" y="390"/>
                </a:lnTo>
                <a:lnTo>
                  <a:pt x="376" y="501"/>
                </a:lnTo>
                <a:lnTo>
                  <a:pt x="423" y="609"/>
                </a:lnTo>
                <a:lnTo>
                  <a:pt x="435" y="732"/>
                </a:lnTo>
                <a:lnTo>
                  <a:pt x="458" y="595"/>
                </a:lnTo>
                <a:lnTo>
                  <a:pt x="431" y="474"/>
                </a:lnTo>
                <a:lnTo>
                  <a:pt x="360" y="366"/>
                </a:lnTo>
                <a:lnTo>
                  <a:pt x="227" y="231"/>
                </a:lnTo>
                <a:lnTo>
                  <a:pt x="77" y="72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27"/>
          <p:cNvSpPr/>
          <p:nvPr/>
        </p:nvSpPr>
        <p:spPr>
          <a:xfrm>
            <a:off x="8516880" y="4824360"/>
            <a:ext cx="285840" cy="830160"/>
          </a:xfrm>
          <a:custGeom>
            <a:avLst/>
            <a:gdLst>
              <a:gd name="textAreaLeft" fmla="*/ 0 w 285840"/>
              <a:gd name="textAreaRight" fmla="*/ 286200 w 285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80" h="523">
                <a:moveTo>
                  <a:pt x="98" y="0"/>
                </a:moveTo>
                <a:lnTo>
                  <a:pt x="156" y="93"/>
                </a:lnTo>
                <a:lnTo>
                  <a:pt x="180" y="278"/>
                </a:lnTo>
                <a:lnTo>
                  <a:pt x="112" y="433"/>
                </a:lnTo>
                <a:lnTo>
                  <a:pt x="0" y="523"/>
                </a:lnTo>
                <a:lnTo>
                  <a:pt x="80" y="351"/>
                </a:lnTo>
                <a:lnTo>
                  <a:pt x="119" y="225"/>
                </a:lnTo>
                <a:lnTo>
                  <a:pt x="117" y="149"/>
                </a:lnTo>
                <a:lnTo>
                  <a:pt x="98" y="0"/>
                </a:lnTo>
                <a:lnTo>
                  <a:pt x="98" y="0"/>
                </a:lnTo>
                <a:lnTo>
                  <a:pt x="98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28"/>
          <p:cNvSpPr/>
          <p:nvPr/>
        </p:nvSpPr>
        <p:spPr>
          <a:xfrm>
            <a:off x="3935520" y="4514760"/>
            <a:ext cx="581040" cy="308160"/>
          </a:xfrm>
          <a:custGeom>
            <a:avLst/>
            <a:gdLst>
              <a:gd name="textAreaLeft" fmla="*/ 0 w 581040"/>
              <a:gd name="textAreaRight" fmla="*/ 581400 w 58104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366" h="194">
                <a:moveTo>
                  <a:pt x="0" y="111"/>
                </a:moveTo>
                <a:lnTo>
                  <a:pt x="48" y="167"/>
                </a:lnTo>
                <a:lnTo>
                  <a:pt x="114" y="194"/>
                </a:lnTo>
                <a:lnTo>
                  <a:pt x="192" y="194"/>
                </a:lnTo>
                <a:lnTo>
                  <a:pt x="259" y="161"/>
                </a:lnTo>
                <a:lnTo>
                  <a:pt x="329" y="108"/>
                </a:lnTo>
                <a:lnTo>
                  <a:pt x="366" y="0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29"/>
          <p:cNvSpPr/>
          <p:nvPr/>
        </p:nvSpPr>
        <p:spPr>
          <a:xfrm>
            <a:off x="3747960" y="4869000"/>
            <a:ext cx="254160" cy="806400"/>
          </a:xfrm>
          <a:custGeom>
            <a:avLst/>
            <a:gdLst>
              <a:gd name="textAreaLeft" fmla="*/ 0 w 254160"/>
              <a:gd name="textAreaRight" fmla="*/ 254520 w 2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60" h="508">
                <a:moveTo>
                  <a:pt x="134" y="508"/>
                </a:moveTo>
                <a:lnTo>
                  <a:pt x="160" y="471"/>
                </a:lnTo>
                <a:lnTo>
                  <a:pt x="86" y="365"/>
                </a:lnTo>
                <a:lnTo>
                  <a:pt x="77" y="264"/>
                </a:lnTo>
                <a:lnTo>
                  <a:pt x="86" y="195"/>
                </a:lnTo>
                <a:lnTo>
                  <a:pt x="127" y="0"/>
                </a:lnTo>
                <a:lnTo>
                  <a:pt x="80" y="21"/>
                </a:lnTo>
                <a:lnTo>
                  <a:pt x="0" y="195"/>
                </a:lnTo>
                <a:lnTo>
                  <a:pt x="17" y="445"/>
                </a:lnTo>
                <a:lnTo>
                  <a:pt x="134" y="508"/>
                </a:lnTo>
                <a:lnTo>
                  <a:pt x="134" y="508"/>
                </a:lnTo>
                <a:lnTo>
                  <a:pt x="134" y="50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30"/>
          <p:cNvSpPr/>
          <p:nvPr/>
        </p:nvSpPr>
        <p:spPr>
          <a:xfrm>
            <a:off x="4071960" y="5086440"/>
            <a:ext cx="361800" cy="503280"/>
          </a:xfrm>
          <a:custGeom>
            <a:avLst/>
            <a:gdLst>
              <a:gd name="textAreaLeft" fmla="*/ 0 w 361800"/>
              <a:gd name="textAreaRight" fmla="*/ 362160 w 3618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28" h="317">
                <a:moveTo>
                  <a:pt x="56" y="200"/>
                </a:moveTo>
                <a:lnTo>
                  <a:pt x="0" y="317"/>
                </a:lnTo>
                <a:lnTo>
                  <a:pt x="52" y="311"/>
                </a:lnTo>
                <a:lnTo>
                  <a:pt x="151" y="251"/>
                </a:lnTo>
                <a:lnTo>
                  <a:pt x="200" y="172"/>
                </a:lnTo>
                <a:lnTo>
                  <a:pt x="228" y="67"/>
                </a:lnTo>
                <a:lnTo>
                  <a:pt x="207" y="0"/>
                </a:lnTo>
                <a:lnTo>
                  <a:pt x="56" y="200"/>
                </a:lnTo>
                <a:lnTo>
                  <a:pt x="56" y="200"/>
                </a:lnTo>
                <a:lnTo>
                  <a:pt x="56" y="20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31"/>
          <p:cNvSpPr/>
          <p:nvPr/>
        </p:nvSpPr>
        <p:spPr>
          <a:xfrm>
            <a:off x="4486320" y="5321160"/>
            <a:ext cx="158760" cy="658800"/>
          </a:xfrm>
          <a:custGeom>
            <a:avLst/>
            <a:gdLst>
              <a:gd name="textAreaLeft" fmla="*/ 0 w 158760"/>
              <a:gd name="textAreaRight" fmla="*/ 159120 w 15876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00" h="415">
                <a:moveTo>
                  <a:pt x="66" y="0"/>
                </a:moveTo>
                <a:lnTo>
                  <a:pt x="77" y="176"/>
                </a:lnTo>
                <a:lnTo>
                  <a:pt x="40" y="247"/>
                </a:lnTo>
                <a:lnTo>
                  <a:pt x="13" y="189"/>
                </a:lnTo>
                <a:lnTo>
                  <a:pt x="0" y="292"/>
                </a:lnTo>
                <a:lnTo>
                  <a:pt x="66" y="415"/>
                </a:lnTo>
                <a:lnTo>
                  <a:pt x="100" y="243"/>
                </a:lnTo>
                <a:lnTo>
                  <a:pt x="100" y="73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32"/>
          <p:cNvSpPr/>
          <p:nvPr/>
        </p:nvSpPr>
        <p:spPr>
          <a:xfrm>
            <a:off x="3954600" y="6094440"/>
            <a:ext cx="241200" cy="392040"/>
          </a:xfrm>
          <a:custGeom>
            <a:avLst/>
            <a:gdLst>
              <a:gd name="textAreaLeft" fmla="*/ 0 w 241200"/>
              <a:gd name="textAreaRight" fmla="*/ 241560 w 24120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152" h="247">
                <a:moveTo>
                  <a:pt x="91" y="6"/>
                </a:moveTo>
                <a:lnTo>
                  <a:pt x="10" y="53"/>
                </a:lnTo>
                <a:lnTo>
                  <a:pt x="20" y="133"/>
                </a:lnTo>
                <a:lnTo>
                  <a:pt x="41" y="187"/>
                </a:lnTo>
                <a:lnTo>
                  <a:pt x="0" y="247"/>
                </a:lnTo>
                <a:lnTo>
                  <a:pt x="74" y="193"/>
                </a:lnTo>
                <a:lnTo>
                  <a:pt x="80" y="126"/>
                </a:lnTo>
                <a:lnTo>
                  <a:pt x="114" y="73"/>
                </a:lnTo>
                <a:lnTo>
                  <a:pt x="152" y="0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33"/>
          <p:cNvSpPr/>
          <p:nvPr/>
        </p:nvSpPr>
        <p:spPr>
          <a:xfrm>
            <a:off x="7658280" y="4645080"/>
            <a:ext cx="568080" cy="942840"/>
          </a:xfrm>
          <a:custGeom>
            <a:avLst/>
            <a:gdLst>
              <a:gd name="textAreaLeft" fmla="*/ 0 w 568080"/>
              <a:gd name="textAreaRight" fmla="*/ 568440 w 56808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358" h="594">
                <a:moveTo>
                  <a:pt x="0" y="0"/>
                </a:moveTo>
                <a:lnTo>
                  <a:pt x="123" y="127"/>
                </a:lnTo>
                <a:lnTo>
                  <a:pt x="215" y="204"/>
                </a:lnTo>
                <a:lnTo>
                  <a:pt x="312" y="286"/>
                </a:lnTo>
                <a:lnTo>
                  <a:pt x="358" y="378"/>
                </a:lnTo>
                <a:lnTo>
                  <a:pt x="320" y="460"/>
                </a:lnTo>
                <a:lnTo>
                  <a:pt x="247" y="554"/>
                </a:lnTo>
                <a:lnTo>
                  <a:pt x="88" y="594"/>
                </a:lnTo>
                <a:lnTo>
                  <a:pt x="195" y="426"/>
                </a:lnTo>
                <a:lnTo>
                  <a:pt x="119" y="248"/>
                </a:lnTo>
                <a:lnTo>
                  <a:pt x="12" y="13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34"/>
          <p:cNvSpPr/>
          <p:nvPr/>
        </p:nvSpPr>
        <p:spPr>
          <a:xfrm>
            <a:off x="7413480" y="5076720"/>
            <a:ext cx="335160" cy="347760"/>
          </a:xfrm>
          <a:custGeom>
            <a:avLst/>
            <a:gdLst>
              <a:gd name="textAreaLeft" fmla="*/ 0 w 335160"/>
              <a:gd name="textAreaRight" fmla="*/ 335520 w 3351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211" h="219">
                <a:moveTo>
                  <a:pt x="0" y="4"/>
                </a:moveTo>
                <a:lnTo>
                  <a:pt x="11" y="77"/>
                </a:lnTo>
                <a:lnTo>
                  <a:pt x="68" y="72"/>
                </a:lnTo>
                <a:lnTo>
                  <a:pt x="134" y="107"/>
                </a:lnTo>
                <a:lnTo>
                  <a:pt x="150" y="219"/>
                </a:lnTo>
                <a:lnTo>
                  <a:pt x="211" y="169"/>
                </a:lnTo>
                <a:lnTo>
                  <a:pt x="196" y="66"/>
                </a:lnTo>
                <a:lnTo>
                  <a:pt x="119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35"/>
          <p:cNvSpPr/>
          <p:nvPr/>
        </p:nvSpPr>
        <p:spPr>
          <a:xfrm>
            <a:off x="6676920" y="2357280"/>
            <a:ext cx="389160" cy="673200"/>
          </a:xfrm>
          <a:custGeom>
            <a:avLst/>
            <a:gdLst>
              <a:gd name="textAreaLeft" fmla="*/ 0 w 389160"/>
              <a:gd name="textAreaRight" fmla="*/ 389520 w 38916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245" h="424">
                <a:moveTo>
                  <a:pt x="0" y="18"/>
                </a:moveTo>
                <a:lnTo>
                  <a:pt x="73" y="77"/>
                </a:lnTo>
                <a:lnTo>
                  <a:pt x="126" y="135"/>
                </a:lnTo>
                <a:lnTo>
                  <a:pt x="137" y="191"/>
                </a:lnTo>
                <a:lnTo>
                  <a:pt x="137" y="287"/>
                </a:lnTo>
                <a:lnTo>
                  <a:pt x="180" y="228"/>
                </a:lnTo>
                <a:lnTo>
                  <a:pt x="165" y="309"/>
                </a:lnTo>
                <a:lnTo>
                  <a:pt x="142" y="424"/>
                </a:lnTo>
                <a:lnTo>
                  <a:pt x="213" y="315"/>
                </a:lnTo>
                <a:lnTo>
                  <a:pt x="245" y="228"/>
                </a:lnTo>
                <a:lnTo>
                  <a:pt x="191" y="92"/>
                </a:lnTo>
                <a:lnTo>
                  <a:pt x="41" y="0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36"/>
          <p:cNvSpPr/>
          <p:nvPr/>
        </p:nvSpPr>
        <p:spPr>
          <a:xfrm>
            <a:off x="6308640" y="4003560"/>
            <a:ext cx="773280" cy="236520"/>
          </a:xfrm>
          <a:custGeom>
            <a:avLst/>
            <a:gdLst>
              <a:gd name="textAreaLeft" fmla="*/ 0 w 773280"/>
              <a:gd name="textAreaRight" fmla="*/ 773640 w 773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87" h="149">
                <a:moveTo>
                  <a:pt x="0" y="149"/>
                </a:moveTo>
                <a:lnTo>
                  <a:pt x="55" y="139"/>
                </a:lnTo>
                <a:lnTo>
                  <a:pt x="109" y="120"/>
                </a:lnTo>
                <a:lnTo>
                  <a:pt x="226" y="69"/>
                </a:lnTo>
                <a:lnTo>
                  <a:pt x="288" y="54"/>
                </a:lnTo>
                <a:lnTo>
                  <a:pt x="371" y="57"/>
                </a:lnTo>
                <a:lnTo>
                  <a:pt x="437" y="80"/>
                </a:lnTo>
                <a:lnTo>
                  <a:pt x="487" y="113"/>
                </a:lnTo>
                <a:lnTo>
                  <a:pt x="475" y="88"/>
                </a:lnTo>
                <a:lnTo>
                  <a:pt x="484" y="59"/>
                </a:lnTo>
                <a:lnTo>
                  <a:pt x="446" y="61"/>
                </a:lnTo>
                <a:lnTo>
                  <a:pt x="419" y="57"/>
                </a:lnTo>
                <a:lnTo>
                  <a:pt x="419" y="33"/>
                </a:lnTo>
                <a:lnTo>
                  <a:pt x="352" y="7"/>
                </a:lnTo>
                <a:lnTo>
                  <a:pt x="288" y="0"/>
                </a:lnTo>
                <a:lnTo>
                  <a:pt x="222" y="5"/>
                </a:lnTo>
                <a:lnTo>
                  <a:pt x="168" y="29"/>
                </a:lnTo>
                <a:lnTo>
                  <a:pt x="76" y="46"/>
                </a:lnTo>
                <a:lnTo>
                  <a:pt x="23" y="92"/>
                </a:lnTo>
                <a:lnTo>
                  <a:pt x="9" y="125"/>
                </a:lnTo>
                <a:lnTo>
                  <a:pt x="0" y="149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37"/>
          <p:cNvSpPr/>
          <p:nvPr/>
        </p:nvSpPr>
        <p:spPr>
          <a:xfrm>
            <a:off x="5145120" y="4273560"/>
            <a:ext cx="600120" cy="223920"/>
          </a:xfrm>
          <a:custGeom>
            <a:avLst/>
            <a:gdLst>
              <a:gd name="textAreaLeft" fmla="*/ 0 w 600120"/>
              <a:gd name="textAreaRight" fmla="*/ 600480 w 6001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378" h="141">
                <a:moveTo>
                  <a:pt x="346" y="52"/>
                </a:moveTo>
                <a:lnTo>
                  <a:pt x="295" y="66"/>
                </a:lnTo>
                <a:lnTo>
                  <a:pt x="212" y="64"/>
                </a:lnTo>
                <a:lnTo>
                  <a:pt x="156" y="64"/>
                </a:lnTo>
                <a:lnTo>
                  <a:pt x="100" y="74"/>
                </a:lnTo>
                <a:lnTo>
                  <a:pt x="32" y="109"/>
                </a:lnTo>
                <a:lnTo>
                  <a:pt x="0" y="141"/>
                </a:lnTo>
                <a:lnTo>
                  <a:pt x="32" y="74"/>
                </a:lnTo>
                <a:lnTo>
                  <a:pt x="97" y="31"/>
                </a:lnTo>
                <a:lnTo>
                  <a:pt x="171" y="23"/>
                </a:lnTo>
                <a:lnTo>
                  <a:pt x="202" y="7"/>
                </a:lnTo>
                <a:lnTo>
                  <a:pt x="292" y="0"/>
                </a:lnTo>
                <a:lnTo>
                  <a:pt x="343" y="10"/>
                </a:lnTo>
                <a:lnTo>
                  <a:pt x="378" y="33"/>
                </a:lnTo>
                <a:lnTo>
                  <a:pt x="346" y="52"/>
                </a:lnTo>
                <a:lnTo>
                  <a:pt x="346" y="52"/>
                </a:lnTo>
                <a:lnTo>
                  <a:pt x="346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38"/>
          <p:cNvSpPr/>
          <p:nvPr/>
        </p:nvSpPr>
        <p:spPr>
          <a:xfrm>
            <a:off x="6165720" y="4254480"/>
            <a:ext cx="481320" cy="1008000"/>
          </a:xfrm>
          <a:custGeom>
            <a:avLst/>
            <a:gdLst>
              <a:gd name="textAreaLeft" fmla="*/ 0 w 481320"/>
              <a:gd name="textAreaRight" fmla="*/ 481680 w 4813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303" h="635">
                <a:moveTo>
                  <a:pt x="281" y="0"/>
                </a:moveTo>
                <a:lnTo>
                  <a:pt x="220" y="35"/>
                </a:lnTo>
                <a:lnTo>
                  <a:pt x="166" y="86"/>
                </a:lnTo>
                <a:lnTo>
                  <a:pt x="145" y="116"/>
                </a:lnTo>
                <a:lnTo>
                  <a:pt x="150" y="155"/>
                </a:lnTo>
                <a:lnTo>
                  <a:pt x="116" y="153"/>
                </a:lnTo>
                <a:lnTo>
                  <a:pt x="118" y="191"/>
                </a:lnTo>
                <a:lnTo>
                  <a:pt x="160" y="317"/>
                </a:lnTo>
                <a:lnTo>
                  <a:pt x="196" y="394"/>
                </a:lnTo>
                <a:lnTo>
                  <a:pt x="260" y="449"/>
                </a:lnTo>
                <a:lnTo>
                  <a:pt x="303" y="512"/>
                </a:lnTo>
                <a:lnTo>
                  <a:pt x="286" y="577"/>
                </a:lnTo>
                <a:lnTo>
                  <a:pt x="236" y="597"/>
                </a:lnTo>
                <a:lnTo>
                  <a:pt x="191" y="593"/>
                </a:lnTo>
                <a:lnTo>
                  <a:pt x="78" y="635"/>
                </a:lnTo>
                <a:lnTo>
                  <a:pt x="0" y="635"/>
                </a:lnTo>
                <a:lnTo>
                  <a:pt x="54" y="617"/>
                </a:lnTo>
                <a:lnTo>
                  <a:pt x="83" y="595"/>
                </a:lnTo>
                <a:lnTo>
                  <a:pt x="104" y="574"/>
                </a:lnTo>
                <a:lnTo>
                  <a:pt x="128" y="566"/>
                </a:lnTo>
                <a:lnTo>
                  <a:pt x="175" y="558"/>
                </a:lnTo>
                <a:lnTo>
                  <a:pt x="241" y="558"/>
                </a:lnTo>
                <a:lnTo>
                  <a:pt x="263" y="531"/>
                </a:lnTo>
                <a:lnTo>
                  <a:pt x="263" y="491"/>
                </a:lnTo>
                <a:lnTo>
                  <a:pt x="241" y="456"/>
                </a:lnTo>
                <a:lnTo>
                  <a:pt x="217" y="440"/>
                </a:lnTo>
                <a:lnTo>
                  <a:pt x="185" y="435"/>
                </a:lnTo>
                <a:lnTo>
                  <a:pt x="124" y="494"/>
                </a:lnTo>
                <a:lnTo>
                  <a:pt x="99" y="437"/>
                </a:lnTo>
                <a:lnTo>
                  <a:pt x="72" y="331"/>
                </a:lnTo>
                <a:lnTo>
                  <a:pt x="64" y="206"/>
                </a:lnTo>
                <a:lnTo>
                  <a:pt x="62" y="155"/>
                </a:lnTo>
                <a:lnTo>
                  <a:pt x="73" y="113"/>
                </a:lnTo>
                <a:lnTo>
                  <a:pt x="99" y="70"/>
                </a:lnTo>
                <a:lnTo>
                  <a:pt x="109" y="92"/>
                </a:lnTo>
                <a:lnTo>
                  <a:pt x="128" y="102"/>
                </a:lnTo>
                <a:lnTo>
                  <a:pt x="153" y="86"/>
                </a:lnTo>
                <a:lnTo>
                  <a:pt x="194" y="40"/>
                </a:lnTo>
                <a:lnTo>
                  <a:pt x="236" y="12"/>
                </a:lnTo>
                <a:lnTo>
                  <a:pt x="281" y="0"/>
                </a:lnTo>
                <a:lnTo>
                  <a:pt x="28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39"/>
          <p:cNvSpPr/>
          <p:nvPr/>
        </p:nvSpPr>
        <p:spPr>
          <a:xfrm>
            <a:off x="6400800" y="4240080"/>
            <a:ext cx="666720" cy="257400"/>
          </a:xfrm>
          <a:custGeom>
            <a:avLst/>
            <a:gdLst>
              <a:gd name="textAreaLeft" fmla="*/ 0 w 666720"/>
              <a:gd name="textAreaRight" fmla="*/ 667080 w 6667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420" h="162">
                <a:moveTo>
                  <a:pt x="0" y="149"/>
                </a:moveTo>
                <a:lnTo>
                  <a:pt x="56" y="92"/>
                </a:lnTo>
                <a:lnTo>
                  <a:pt x="102" y="61"/>
                </a:lnTo>
                <a:lnTo>
                  <a:pt x="157" y="38"/>
                </a:lnTo>
                <a:lnTo>
                  <a:pt x="188" y="33"/>
                </a:lnTo>
                <a:lnTo>
                  <a:pt x="225" y="31"/>
                </a:lnTo>
                <a:lnTo>
                  <a:pt x="195" y="0"/>
                </a:lnTo>
                <a:lnTo>
                  <a:pt x="240" y="0"/>
                </a:lnTo>
                <a:lnTo>
                  <a:pt x="275" y="9"/>
                </a:lnTo>
                <a:lnTo>
                  <a:pt x="315" y="9"/>
                </a:lnTo>
                <a:lnTo>
                  <a:pt x="311" y="28"/>
                </a:lnTo>
                <a:lnTo>
                  <a:pt x="367" y="33"/>
                </a:lnTo>
                <a:lnTo>
                  <a:pt x="393" y="23"/>
                </a:lnTo>
                <a:lnTo>
                  <a:pt x="370" y="54"/>
                </a:lnTo>
                <a:lnTo>
                  <a:pt x="420" y="41"/>
                </a:lnTo>
                <a:lnTo>
                  <a:pt x="398" y="73"/>
                </a:lnTo>
                <a:lnTo>
                  <a:pt x="417" y="101"/>
                </a:lnTo>
                <a:lnTo>
                  <a:pt x="370" y="97"/>
                </a:lnTo>
                <a:lnTo>
                  <a:pt x="346" y="108"/>
                </a:lnTo>
                <a:lnTo>
                  <a:pt x="332" y="135"/>
                </a:lnTo>
                <a:lnTo>
                  <a:pt x="300" y="135"/>
                </a:lnTo>
                <a:lnTo>
                  <a:pt x="259" y="151"/>
                </a:lnTo>
                <a:lnTo>
                  <a:pt x="216" y="162"/>
                </a:lnTo>
                <a:lnTo>
                  <a:pt x="142" y="162"/>
                </a:lnTo>
                <a:lnTo>
                  <a:pt x="249" y="141"/>
                </a:lnTo>
                <a:lnTo>
                  <a:pt x="318" y="103"/>
                </a:lnTo>
                <a:lnTo>
                  <a:pt x="273" y="82"/>
                </a:lnTo>
                <a:lnTo>
                  <a:pt x="230" y="71"/>
                </a:lnTo>
                <a:lnTo>
                  <a:pt x="188" y="68"/>
                </a:lnTo>
                <a:lnTo>
                  <a:pt x="150" y="68"/>
                </a:lnTo>
                <a:lnTo>
                  <a:pt x="112" y="76"/>
                </a:lnTo>
                <a:lnTo>
                  <a:pt x="79" y="92"/>
                </a:lnTo>
                <a:lnTo>
                  <a:pt x="56" y="116"/>
                </a:lnTo>
                <a:lnTo>
                  <a:pt x="39" y="144"/>
                </a:lnTo>
                <a:lnTo>
                  <a:pt x="96" y="162"/>
                </a:lnTo>
                <a:lnTo>
                  <a:pt x="27" y="162"/>
                </a:lnTo>
                <a:lnTo>
                  <a:pt x="0" y="149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40"/>
          <p:cNvSpPr/>
          <p:nvPr/>
        </p:nvSpPr>
        <p:spPr>
          <a:xfrm>
            <a:off x="6647040" y="43480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17"/>
                </a:moveTo>
                <a:lnTo>
                  <a:pt x="16" y="26"/>
                </a:lnTo>
                <a:lnTo>
                  <a:pt x="19" y="38"/>
                </a:lnTo>
                <a:lnTo>
                  <a:pt x="6" y="49"/>
                </a:lnTo>
                <a:lnTo>
                  <a:pt x="27" y="54"/>
                </a:lnTo>
                <a:lnTo>
                  <a:pt x="46" y="49"/>
                </a:lnTo>
                <a:lnTo>
                  <a:pt x="54" y="33"/>
                </a:lnTo>
                <a:lnTo>
                  <a:pt x="49" y="11"/>
                </a:lnTo>
                <a:lnTo>
                  <a:pt x="30" y="0"/>
                </a:lnTo>
                <a:lnTo>
                  <a:pt x="11" y="4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41"/>
          <p:cNvSpPr/>
          <p:nvPr/>
        </p:nvSpPr>
        <p:spPr>
          <a:xfrm>
            <a:off x="6567480" y="4340160"/>
            <a:ext cx="225360" cy="154080"/>
          </a:xfrm>
          <a:custGeom>
            <a:avLst/>
            <a:gdLst>
              <a:gd name="textAreaLeft" fmla="*/ 0 w 225360"/>
              <a:gd name="textAreaRight" fmla="*/ 225720 w 225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42" h="97">
                <a:moveTo>
                  <a:pt x="31" y="0"/>
                </a:moveTo>
                <a:lnTo>
                  <a:pt x="23" y="50"/>
                </a:lnTo>
                <a:lnTo>
                  <a:pt x="45" y="78"/>
                </a:lnTo>
                <a:lnTo>
                  <a:pt x="61" y="83"/>
                </a:lnTo>
                <a:lnTo>
                  <a:pt x="85" y="83"/>
                </a:lnTo>
                <a:lnTo>
                  <a:pt x="106" y="72"/>
                </a:lnTo>
                <a:lnTo>
                  <a:pt x="123" y="50"/>
                </a:lnTo>
                <a:lnTo>
                  <a:pt x="125" y="27"/>
                </a:lnTo>
                <a:lnTo>
                  <a:pt x="114" y="2"/>
                </a:lnTo>
                <a:lnTo>
                  <a:pt x="135" y="2"/>
                </a:lnTo>
                <a:lnTo>
                  <a:pt x="142" y="29"/>
                </a:lnTo>
                <a:lnTo>
                  <a:pt x="139" y="57"/>
                </a:lnTo>
                <a:lnTo>
                  <a:pt x="123" y="81"/>
                </a:lnTo>
                <a:lnTo>
                  <a:pt x="97" y="93"/>
                </a:lnTo>
                <a:lnTo>
                  <a:pt x="59" y="97"/>
                </a:lnTo>
                <a:lnTo>
                  <a:pt x="31" y="86"/>
                </a:lnTo>
                <a:lnTo>
                  <a:pt x="7" y="50"/>
                </a:lnTo>
                <a:lnTo>
                  <a:pt x="0" y="24"/>
                </a:lnTo>
                <a:lnTo>
                  <a:pt x="0" y="10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42"/>
          <p:cNvSpPr/>
          <p:nvPr/>
        </p:nvSpPr>
        <p:spPr>
          <a:xfrm>
            <a:off x="5952960" y="5208480"/>
            <a:ext cx="179640" cy="42840"/>
          </a:xfrm>
          <a:custGeom>
            <a:avLst/>
            <a:gdLst>
              <a:gd name="textAreaLeft" fmla="*/ 0 w 179640"/>
              <a:gd name="textAreaRight" fmla="*/ 180000 w 179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3" h="27">
                <a:moveTo>
                  <a:pt x="113" y="27"/>
                </a:moveTo>
                <a:lnTo>
                  <a:pt x="49" y="0"/>
                </a:lnTo>
                <a:lnTo>
                  <a:pt x="0" y="13"/>
                </a:lnTo>
                <a:lnTo>
                  <a:pt x="14" y="27"/>
                </a:lnTo>
                <a:lnTo>
                  <a:pt x="73" y="27"/>
                </a:lnTo>
                <a:lnTo>
                  <a:pt x="113" y="27"/>
                </a:lnTo>
                <a:lnTo>
                  <a:pt x="113" y="27"/>
                </a:lnTo>
                <a:lnTo>
                  <a:pt x="113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43"/>
          <p:cNvSpPr/>
          <p:nvPr/>
        </p:nvSpPr>
        <p:spPr>
          <a:xfrm>
            <a:off x="6680160" y="5089680"/>
            <a:ext cx="327240" cy="296640"/>
          </a:xfrm>
          <a:custGeom>
            <a:avLst/>
            <a:gdLst>
              <a:gd name="textAreaLeft" fmla="*/ 0 w 327240"/>
              <a:gd name="textAreaRight" fmla="*/ 327600 w 32724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06" h="187">
                <a:moveTo>
                  <a:pt x="0" y="0"/>
                </a:moveTo>
                <a:lnTo>
                  <a:pt x="57" y="43"/>
                </a:lnTo>
                <a:lnTo>
                  <a:pt x="182" y="107"/>
                </a:lnTo>
                <a:lnTo>
                  <a:pt x="206" y="134"/>
                </a:lnTo>
                <a:lnTo>
                  <a:pt x="206" y="187"/>
                </a:lnTo>
                <a:lnTo>
                  <a:pt x="194" y="142"/>
                </a:lnTo>
                <a:lnTo>
                  <a:pt x="148" y="107"/>
                </a:lnTo>
                <a:lnTo>
                  <a:pt x="52" y="5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44"/>
          <p:cNvSpPr/>
          <p:nvPr/>
        </p:nvSpPr>
        <p:spPr>
          <a:xfrm>
            <a:off x="5859360" y="5381640"/>
            <a:ext cx="1005120" cy="18396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33" h="116">
                <a:moveTo>
                  <a:pt x="0" y="116"/>
                </a:moveTo>
                <a:lnTo>
                  <a:pt x="92" y="102"/>
                </a:lnTo>
                <a:lnTo>
                  <a:pt x="153" y="97"/>
                </a:lnTo>
                <a:lnTo>
                  <a:pt x="271" y="92"/>
                </a:lnTo>
                <a:lnTo>
                  <a:pt x="314" y="83"/>
                </a:lnTo>
                <a:lnTo>
                  <a:pt x="413" y="62"/>
                </a:lnTo>
                <a:lnTo>
                  <a:pt x="498" y="41"/>
                </a:lnTo>
                <a:lnTo>
                  <a:pt x="543" y="36"/>
                </a:lnTo>
                <a:lnTo>
                  <a:pt x="566" y="36"/>
                </a:lnTo>
                <a:lnTo>
                  <a:pt x="566" y="73"/>
                </a:lnTo>
                <a:lnTo>
                  <a:pt x="569" y="95"/>
                </a:lnTo>
                <a:lnTo>
                  <a:pt x="602" y="59"/>
                </a:lnTo>
                <a:lnTo>
                  <a:pt x="602" y="95"/>
                </a:lnTo>
                <a:lnTo>
                  <a:pt x="628" y="47"/>
                </a:lnTo>
                <a:lnTo>
                  <a:pt x="633" y="12"/>
                </a:lnTo>
                <a:lnTo>
                  <a:pt x="614" y="6"/>
                </a:lnTo>
                <a:lnTo>
                  <a:pt x="566" y="0"/>
                </a:lnTo>
                <a:lnTo>
                  <a:pt x="501" y="0"/>
                </a:lnTo>
                <a:lnTo>
                  <a:pt x="410" y="3"/>
                </a:lnTo>
                <a:lnTo>
                  <a:pt x="375" y="12"/>
                </a:lnTo>
                <a:lnTo>
                  <a:pt x="302" y="24"/>
                </a:lnTo>
                <a:lnTo>
                  <a:pt x="266" y="27"/>
                </a:lnTo>
                <a:lnTo>
                  <a:pt x="156" y="41"/>
                </a:lnTo>
                <a:lnTo>
                  <a:pt x="110" y="57"/>
                </a:lnTo>
                <a:lnTo>
                  <a:pt x="177" y="47"/>
                </a:lnTo>
                <a:lnTo>
                  <a:pt x="250" y="41"/>
                </a:lnTo>
                <a:lnTo>
                  <a:pt x="295" y="41"/>
                </a:lnTo>
                <a:lnTo>
                  <a:pt x="346" y="31"/>
                </a:lnTo>
                <a:lnTo>
                  <a:pt x="384" y="24"/>
                </a:lnTo>
                <a:lnTo>
                  <a:pt x="351" y="65"/>
                </a:lnTo>
                <a:lnTo>
                  <a:pt x="300" y="76"/>
                </a:lnTo>
                <a:lnTo>
                  <a:pt x="231" y="83"/>
                </a:lnTo>
                <a:lnTo>
                  <a:pt x="161" y="86"/>
                </a:lnTo>
                <a:lnTo>
                  <a:pt x="118" y="95"/>
                </a:lnTo>
                <a:lnTo>
                  <a:pt x="54" y="100"/>
                </a:lnTo>
                <a:lnTo>
                  <a:pt x="0" y="116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45"/>
          <p:cNvSpPr/>
          <p:nvPr/>
        </p:nvSpPr>
        <p:spPr>
          <a:xfrm>
            <a:off x="5788080" y="5562720"/>
            <a:ext cx="144360" cy="101520"/>
          </a:xfrm>
          <a:custGeom>
            <a:avLst/>
            <a:gdLst>
              <a:gd name="textAreaLeft" fmla="*/ 0 w 144360"/>
              <a:gd name="textAreaRight" fmla="*/ 144720 w 144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91" h="64">
                <a:moveTo>
                  <a:pt x="0" y="13"/>
                </a:moveTo>
                <a:lnTo>
                  <a:pt x="54" y="64"/>
                </a:lnTo>
                <a:lnTo>
                  <a:pt x="54" y="40"/>
                </a:lnTo>
                <a:lnTo>
                  <a:pt x="91" y="42"/>
                </a:lnTo>
                <a:lnTo>
                  <a:pt x="56" y="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46"/>
          <p:cNvSpPr/>
          <p:nvPr/>
        </p:nvSpPr>
        <p:spPr>
          <a:xfrm>
            <a:off x="5925960" y="5527800"/>
            <a:ext cx="831960" cy="233280"/>
          </a:xfrm>
          <a:custGeom>
            <a:avLst/>
            <a:gdLst>
              <a:gd name="textAreaLeft" fmla="*/ 0 w 831960"/>
              <a:gd name="textAreaRight" fmla="*/ 832320 w 8319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24" h="147">
                <a:moveTo>
                  <a:pt x="0" y="81"/>
                </a:moveTo>
                <a:lnTo>
                  <a:pt x="66" y="112"/>
                </a:lnTo>
                <a:lnTo>
                  <a:pt x="156" y="129"/>
                </a:lnTo>
                <a:lnTo>
                  <a:pt x="232" y="129"/>
                </a:lnTo>
                <a:lnTo>
                  <a:pt x="319" y="112"/>
                </a:lnTo>
                <a:lnTo>
                  <a:pt x="401" y="86"/>
                </a:lnTo>
                <a:lnTo>
                  <a:pt x="467" y="46"/>
                </a:lnTo>
                <a:lnTo>
                  <a:pt x="524" y="0"/>
                </a:lnTo>
                <a:lnTo>
                  <a:pt x="465" y="59"/>
                </a:lnTo>
                <a:lnTo>
                  <a:pt x="416" y="94"/>
                </a:lnTo>
                <a:lnTo>
                  <a:pt x="336" y="126"/>
                </a:lnTo>
                <a:lnTo>
                  <a:pt x="267" y="142"/>
                </a:lnTo>
                <a:lnTo>
                  <a:pt x="194" y="147"/>
                </a:lnTo>
                <a:lnTo>
                  <a:pt x="121" y="140"/>
                </a:lnTo>
                <a:lnTo>
                  <a:pt x="57" y="121"/>
                </a:lnTo>
                <a:lnTo>
                  <a:pt x="0" y="81"/>
                </a:lnTo>
                <a:lnTo>
                  <a:pt x="0" y="81"/>
                </a:lnTo>
                <a:lnTo>
                  <a:pt x="0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47"/>
          <p:cNvSpPr/>
          <p:nvPr/>
        </p:nvSpPr>
        <p:spPr>
          <a:xfrm>
            <a:off x="5952960" y="5513400"/>
            <a:ext cx="858960" cy="341280"/>
          </a:xfrm>
          <a:custGeom>
            <a:avLst/>
            <a:gdLst>
              <a:gd name="textAreaLeft" fmla="*/ 0 w 858960"/>
              <a:gd name="textAreaRight" fmla="*/ 859320 w 858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41" h="215">
                <a:moveTo>
                  <a:pt x="541" y="14"/>
                </a:moveTo>
                <a:lnTo>
                  <a:pt x="507" y="79"/>
                </a:lnTo>
                <a:lnTo>
                  <a:pt x="453" y="130"/>
                </a:lnTo>
                <a:lnTo>
                  <a:pt x="373" y="177"/>
                </a:lnTo>
                <a:lnTo>
                  <a:pt x="300" y="205"/>
                </a:lnTo>
                <a:lnTo>
                  <a:pt x="224" y="215"/>
                </a:lnTo>
                <a:lnTo>
                  <a:pt x="137" y="208"/>
                </a:lnTo>
                <a:lnTo>
                  <a:pt x="56" y="180"/>
                </a:lnTo>
                <a:lnTo>
                  <a:pt x="0" y="138"/>
                </a:lnTo>
                <a:lnTo>
                  <a:pt x="68" y="175"/>
                </a:lnTo>
                <a:lnTo>
                  <a:pt x="115" y="189"/>
                </a:lnTo>
                <a:lnTo>
                  <a:pt x="188" y="199"/>
                </a:lnTo>
                <a:lnTo>
                  <a:pt x="255" y="196"/>
                </a:lnTo>
                <a:lnTo>
                  <a:pt x="316" y="184"/>
                </a:lnTo>
                <a:lnTo>
                  <a:pt x="359" y="164"/>
                </a:lnTo>
                <a:lnTo>
                  <a:pt x="378" y="151"/>
                </a:lnTo>
                <a:lnTo>
                  <a:pt x="387" y="135"/>
                </a:lnTo>
                <a:lnTo>
                  <a:pt x="370" y="121"/>
                </a:lnTo>
                <a:lnTo>
                  <a:pt x="343" y="118"/>
                </a:lnTo>
                <a:lnTo>
                  <a:pt x="402" y="92"/>
                </a:lnTo>
                <a:lnTo>
                  <a:pt x="453" y="55"/>
                </a:lnTo>
                <a:lnTo>
                  <a:pt x="517" y="0"/>
                </a:lnTo>
                <a:lnTo>
                  <a:pt x="507" y="41"/>
                </a:lnTo>
                <a:lnTo>
                  <a:pt x="541" y="14"/>
                </a:lnTo>
                <a:lnTo>
                  <a:pt x="541" y="14"/>
                </a:lnTo>
                <a:lnTo>
                  <a:pt x="54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48"/>
          <p:cNvSpPr/>
          <p:nvPr/>
        </p:nvSpPr>
        <p:spPr>
          <a:xfrm>
            <a:off x="5603760" y="5135400"/>
            <a:ext cx="244440" cy="520920"/>
          </a:xfrm>
          <a:custGeom>
            <a:avLst/>
            <a:gdLst>
              <a:gd name="textAreaLeft" fmla="*/ 0 w 244440"/>
              <a:gd name="textAreaRight" fmla="*/ 244800 w 244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54" h="328">
                <a:moveTo>
                  <a:pt x="154" y="0"/>
                </a:moveTo>
                <a:lnTo>
                  <a:pt x="130" y="78"/>
                </a:lnTo>
                <a:lnTo>
                  <a:pt x="89" y="149"/>
                </a:lnTo>
                <a:lnTo>
                  <a:pt x="59" y="188"/>
                </a:lnTo>
                <a:lnTo>
                  <a:pt x="40" y="228"/>
                </a:lnTo>
                <a:lnTo>
                  <a:pt x="22" y="287"/>
                </a:lnTo>
                <a:lnTo>
                  <a:pt x="16" y="328"/>
                </a:lnTo>
                <a:lnTo>
                  <a:pt x="0" y="277"/>
                </a:lnTo>
                <a:lnTo>
                  <a:pt x="0" y="236"/>
                </a:lnTo>
                <a:lnTo>
                  <a:pt x="11" y="194"/>
                </a:lnTo>
                <a:lnTo>
                  <a:pt x="44" y="151"/>
                </a:lnTo>
                <a:lnTo>
                  <a:pt x="75" y="118"/>
                </a:lnTo>
                <a:lnTo>
                  <a:pt x="103" y="87"/>
                </a:lnTo>
                <a:lnTo>
                  <a:pt x="123" y="54"/>
                </a:lnTo>
                <a:lnTo>
                  <a:pt x="154" y="0"/>
                </a:lnTo>
                <a:lnTo>
                  <a:pt x="154" y="0"/>
                </a:lnTo>
                <a:lnTo>
                  <a:pt x="1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49"/>
          <p:cNvSpPr/>
          <p:nvPr/>
        </p:nvSpPr>
        <p:spPr>
          <a:xfrm>
            <a:off x="5224320" y="4518000"/>
            <a:ext cx="635040" cy="243000"/>
          </a:xfrm>
          <a:custGeom>
            <a:avLst/>
            <a:gdLst>
              <a:gd name="textAreaLeft" fmla="*/ 0 w 635040"/>
              <a:gd name="textAreaRight" fmla="*/ 635040 w 635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00" h="153">
                <a:moveTo>
                  <a:pt x="336" y="84"/>
                </a:moveTo>
                <a:lnTo>
                  <a:pt x="400" y="62"/>
                </a:lnTo>
                <a:lnTo>
                  <a:pt x="362" y="33"/>
                </a:lnTo>
                <a:lnTo>
                  <a:pt x="288" y="9"/>
                </a:lnTo>
                <a:lnTo>
                  <a:pt x="208" y="0"/>
                </a:lnTo>
                <a:lnTo>
                  <a:pt x="156" y="9"/>
                </a:lnTo>
                <a:lnTo>
                  <a:pt x="159" y="30"/>
                </a:lnTo>
                <a:lnTo>
                  <a:pt x="121" y="35"/>
                </a:lnTo>
                <a:lnTo>
                  <a:pt x="111" y="16"/>
                </a:lnTo>
                <a:lnTo>
                  <a:pt x="59" y="54"/>
                </a:lnTo>
                <a:lnTo>
                  <a:pt x="31" y="84"/>
                </a:lnTo>
                <a:lnTo>
                  <a:pt x="53" y="99"/>
                </a:lnTo>
                <a:lnTo>
                  <a:pt x="36" y="115"/>
                </a:lnTo>
                <a:lnTo>
                  <a:pt x="0" y="134"/>
                </a:lnTo>
                <a:lnTo>
                  <a:pt x="41" y="145"/>
                </a:lnTo>
                <a:lnTo>
                  <a:pt x="69" y="145"/>
                </a:lnTo>
                <a:lnTo>
                  <a:pt x="106" y="137"/>
                </a:lnTo>
                <a:lnTo>
                  <a:pt x="125" y="153"/>
                </a:lnTo>
                <a:lnTo>
                  <a:pt x="149" y="137"/>
                </a:lnTo>
                <a:lnTo>
                  <a:pt x="173" y="143"/>
                </a:lnTo>
                <a:lnTo>
                  <a:pt x="194" y="118"/>
                </a:lnTo>
                <a:lnTo>
                  <a:pt x="140" y="110"/>
                </a:lnTo>
                <a:lnTo>
                  <a:pt x="121" y="94"/>
                </a:lnTo>
                <a:lnTo>
                  <a:pt x="146" y="68"/>
                </a:lnTo>
                <a:lnTo>
                  <a:pt x="178" y="46"/>
                </a:lnTo>
                <a:lnTo>
                  <a:pt x="215" y="35"/>
                </a:lnTo>
                <a:lnTo>
                  <a:pt x="261" y="35"/>
                </a:lnTo>
                <a:lnTo>
                  <a:pt x="309" y="44"/>
                </a:lnTo>
                <a:lnTo>
                  <a:pt x="347" y="51"/>
                </a:lnTo>
                <a:lnTo>
                  <a:pt x="336" y="84"/>
                </a:lnTo>
                <a:lnTo>
                  <a:pt x="336" y="84"/>
                </a:lnTo>
                <a:lnTo>
                  <a:pt x="33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50"/>
          <p:cNvSpPr/>
          <p:nvPr/>
        </p:nvSpPr>
        <p:spPr>
          <a:xfrm>
            <a:off x="5557680" y="4656240"/>
            <a:ext cx="154080" cy="66600"/>
          </a:xfrm>
          <a:custGeom>
            <a:avLst/>
            <a:gdLst>
              <a:gd name="textAreaLeft" fmla="*/ 0 w 154080"/>
              <a:gd name="textAreaRight" fmla="*/ 154440 w 154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7" h="42">
                <a:moveTo>
                  <a:pt x="0" y="26"/>
                </a:moveTo>
                <a:lnTo>
                  <a:pt x="48" y="16"/>
                </a:lnTo>
                <a:lnTo>
                  <a:pt x="97" y="0"/>
                </a:lnTo>
                <a:lnTo>
                  <a:pt x="54" y="31"/>
                </a:lnTo>
                <a:lnTo>
                  <a:pt x="25" y="31"/>
                </a:lnTo>
                <a:lnTo>
                  <a:pt x="0" y="42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51"/>
          <p:cNvSpPr/>
          <p:nvPr/>
        </p:nvSpPr>
        <p:spPr>
          <a:xfrm>
            <a:off x="5353200" y="4476600"/>
            <a:ext cx="382320" cy="111240"/>
          </a:xfrm>
          <a:custGeom>
            <a:avLst/>
            <a:gdLst>
              <a:gd name="textAreaLeft" fmla="*/ 0 w 382320"/>
              <a:gd name="textAreaRight" fmla="*/ 382680 w 382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41" h="70">
                <a:moveTo>
                  <a:pt x="0" y="66"/>
                </a:moveTo>
                <a:lnTo>
                  <a:pt x="59" y="21"/>
                </a:lnTo>
                <a:lnTo>
                  <a:pt x="129" y="0"/>
                </a:lnTo>
                <a:lnTo>
                  <a:pt x="186" y="0"/>
                </a:lnTo>
                <a:lnTo>
                  <a:pt x="241" y="11"/>
                </a:lnTo>
                <a:lnTo>
                  <a:pt x="143" y="11"/>
                </a:lnTo>
                <a:lnTo>
                  <a:pt x="68" y="32"/>
                </a:lnTo>
                <a:lnTo>
                  <a:pt x="25" y="70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52"/>
          <p:cNvSpPr/>
          <p:nvPr/>
        </p:nvSpPr>
        <p:spPr>
          <a:xfrm>
            <a:off x="5570640" y="4578480"/>
            <a:ext cx="73080" cy="63360"/>
          </a:xfrm>
          <a:custGeom>
            <a:avLst/>
            <a:gdLst>
              <a:gd name="textAreaLeft" fmla="*/ 0 w 73080"/>
              <a:gd name="textAreaRight" fmla="*/ 73440 w 730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6" h="40">
                <a:moveTo>
                  <a:pt x="6" y="6"/>
                </a:moveTo>
                <a:lnTo>
                  <a:pt x="19" y="16"/>
                </a:lnTo>
                <a:lnTo>
                  <a:pt x="19" y="30"/>
                </a:lnTo>
                <a:lnTo>
                  <a:pt x="0" y="40"/>
                </a:lnTo>
                <a:lnTo>
                  <a:pt x="24" y="40"/>
                </a:lnTo>
                <a:lnTo>
                  <a:pt x="46" y="27"/>
                </a:lnTo>
                <a:lnTo>
                  <a:pt x="46" y="10"/>
                </a:lnTo>
                <a:lnTo>
                  <a:pt x="30" y="0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53"/>
          <p:cNvSpPr/>
          <p:nvPr/>
        </p:nvSpPr>
        <p:spPr>
          <a:xfrm>
            <a:off x="5477040" y="4557600"/>
            <a:ext cx="225360" cy="135000"/>
          </a:xfrm>
          <a:custGeom>
            <a:avLst/>
            <a:gdLst>
              <a:gd name="textAreaLeft" fmla="*/ 0 w 225360"/>
              <a:gd name="textAreaRight" fmla="*/ 225720 w 2253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42" h="85">
                <a:moveTo>
                  <a:pt x="30" y="8"/>
                </a:moveTo>
                <a:lnTo>
                  <a:pt x="21" y="45"/>
                </a:lnTo>
                <a:lnTo>
                  <a:pt x="40" y="69"/>
                </a:lnTo>
                <a:lnTo>
                  <a:pt x="70" y="78"/>
                </a:lnTo>
                <a:lnTo>
                  <a:pt x="105" y="69"/>
                </a:lnTo>
                <a:lnTo>
                  <a:pt x="127" y="48"/>
                </a:lnTo>
                <a:lnTo>
                  <a:pt x="129" y="26"/>
                </a:lnTo>
                <a:lnTo>
                  <a:pt x="115" y="0"/>
                </a:lnTo>
                <a:lnTo>
                  <a:pt x="142" y="8"/>
                </a:lnTo>
                <a:lnTo>
                  <a:pt x="142" y="37"/>
                </a:lnTo>
                <a:lnTo>
                  <a:pt x="132" y="69"/>
                </a:lnTo>
                <a:lnTo>
                  <a:pt x="99" y="85"/>
                </a:lnTo>
                <a:lnTo>
                  <a:pt x="51" y="85"/>
                </a:lnTo>
                <a:lnTo>
                  <a:pt x="30" y="81"/>
                </a:lnTo>
                <a:lnTo>
                  <a:pt x="14" y="59"/>
                </a:lnTo>
                <a:lnTo>
                  <a:pt x="6" y="37"/>
                </a:lnTo>
                <a:lnTo>
                  <a:pt x="0" y="19"/>
                </a:lnTo>
                <a:lnTo>
                  <a:pt x="30" y="8"/>
                </a:lnTo>
                <a:lnTo>
                  <a:pt x="30" y="8"/>
                </a:lnTo>
                <a:lnTo>
                  <a:pt x="3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54"/>
          <p:cNvSpPr/>
          <p:nvPr/>
        </p:nvSpPr>
        <p:spPr>
          <a:xfrm>
            <a:off x="4925880" y="2562120"/>
            <a:ext cx="1970280" cy="2222640"/>
          </a:xfrm>
          <a:custGeom>
            <a:avLst/>
            <a:gdLst>
              <a:gd name="textAreaLeft" fmla="*/ 0 w 1970280"/>
              <a:gd name="textAreaRight" fmla="*/ 1970640 w 1970280"/>
              <a:gd name="textAreaTop" fmla="*/ 0 h 2222640"/>
              <a:gd name="textAreaBottom" fmla="*/ 2223000 h 2222640"/>
            </a:gdLst>
            <a:ahLst/>
            <a:rect l="textAreaLeft" t="textAreaTop" r="textAreaRight" b="textAreaBottom"/>
            <a:pathLst>
              <a:path w="1241" h="1400">
                <a:moveTo>
                  <a:pt x="791" y="412"/>
                </a:moveTo>
                <a:lnTo>
                  <a:pt x="822" y="354"/>
                </a:lnTo>
                <a:lnTo>
                  <a:pt x="842" y="412"/>
                </a:lnTo>
                <a:lnTo>
                  <a:pt x="893" y="330"/>
                </a:lnTo>
                <a:lnTo>
                  <a:pt x="899" y="418"/>
                </a:lnTo>
                <a:lnTo>
                  <a:pt x="962" y="354"/>
                </a:lnTo>
                <a:lnTo>
                  <a:pt x="968" y="425"/>
                </a:lnTo>
                <a:lnTo>
                  <a:pt x="1032" y="393"/>
                </a:lnTo>
                <a:lnTo>
                  <a:pt x="1063" y="438"/>
                </a:lnTo>
                <a:lnTo>
                  <a:pt x="1139" y="412"/>
                </a:lnTo>
                <a:lnTo>
                  <a:pt x="1189" y="361"/>
                </a:lnTo>
                <a:lnTo>
                  <a:pt x="1222" y="286"/>
                </a:lnTo>
                <a:lnTo>
                  <a:pt x="1241" y="177"/>
                </a:lnTo>
                <a:lnTo>
                  <a:pt x="1189" y="76"/>
                </a:lnTo>
                <a:lnTo>
                  <a:pt x="1101" y="0"/>
                </a:lnTo>
                <a:lnTo>
                  <a:pt x="1145" y="63"/>
                </a:lnTo>
                <a:lnTo>
                  <a:pt x="1170" y="140"/>
                </a:lnTo>
                <a:lnTo>
                  <a:pt x="1170" y="197"/>
                </a:lnTo>
                <a:lnTo>
                  <a:pt x="1114" y="101"/>
                </a:lnTo>
                <a:lnTo>
                  <a:pt x="1032" y="63"/>
                </a:lnTo>
                <a:lnTo>
                  <a:pt x="918" y="51"/>
                </a:lnTo>
                <a:lnTo>
                  <a:pt x="842" y="76"/>
                </a:lnTo>
                <a:lnTo>
                  <a:pt x="747" y="127"/>
                </a:lnTo>
                <a:lnTo>
                  <a:pt x="683" y="152"/>
                </a:lnTo>
                <a:lnTo>
                  <a:pt x="608" y="177"/>
                </a:lnTo>
                <a:lnTo>
                  <a:pt x="481" y="203"/>
                </a:lnTo>
                <a:lnTo>
                  <a:pt x="615" y="215"/>
                </a:lnTo>
                <a:lnTo>
                  <a:pt x="735" y="215"/>
                </a:lnTo>
                <a:lnTo>
                  <a:pt x="829" y="197"/>
                </a:lnTo>
                <a:lnTo>
                  <a:pt x="905" y="159"/>
                </a:lnTo>
                <a:lnTo>
                  <a:pt x="962" y="152"/>
                </a:lnTo>
                <a:lnTo>
                  <a:pt x="1012" y="165"/>
                </a:lnTo>
                <a:lnTo>
                  <a:pt x="1039" y="197"/>
                </a:lnTo>
                <a:lnTo>
                  <a:pt x="1039" y="246"/>
                </a:lnTo>
                <a:lnTo>
                  <a:pt x="981" y="203"/>
                </a:lnTo>
                <a:lnTo>
                  <a:pt x="905" y="197"/>
                </a:lnTo>
                <a:lnTo>
                  <a:pt x="842" y="222"/>
                </a:lnTo>
                <a:lnTo>
                  <a:pt x="753" y="260"/>
                </a:lnTo>
                <a:lnTo>
                  <a:pt x="646" y="292"/>
                </a:lnTo>
                <a:lnTo>
                  <a:pt x="544" y="310"/>
                </a:lnTo>
                <a:lnTo>
                  <a:pt x="437" y="310"/>
                </a:lnTo>
                <a:lnTo>
                  <a:pt x="247" y="286"/>
                </a:lnTo>
                <a:lnTo>
                  <a:pt x="285" y="342"/>
                </a:lnTo>
                <a:lnTo>
                  <a:pt x="215" y="330"/>
                </a:lnTo>
                <a:lnTo>
                  <a:pt x="102" y="280"/>
                </a:lnTo>
                <a:lnTo>
                  <a:pt x="159" y="361"/>
                </a:lnTo>
                <a:lnTo>
                  <a:pt x="221" y="418"/>
                </a:lnTo>
                <a:lnTo>
                  <a:pt x="285" y="444"/>
                </a:lnTo>
                <a:lnTo>
                  <a:pt x="215" y="456"/>
                </a:lnTo>
                <a:lnTo>
                  <a:pt x="121" y="444"/>
                </a:lnTo>
                <a:lnTo>
                  <a:pt x="0" y="406"/>
                </a:lnTo>
                <a:lnTo>
                  <a:pt x="76" y="513"/>
                </a:lnTo>
                <a:lnTo>
                  <a:pt x="152" y="558"/>
                </a:lnTo>
                <a:lnTo>
                  <a:pt x="133" y="640"/>
                </a:lnTo>
                <a:lnTo>
                  <a:pt x="146" y="710"/>
                </a:lnTo>
                <a:lnTo>
                  <a:pt x="159" y="805"/>
                </a:lnTo>
                <a:lnTo>
                  <a:pt x="89" y="893"/>
                </a:lnTo>
                <a:lnTo>
                  <a:pt x="57" y="1001"/>
                </a:lnTo>
                <a:lnTo>
                  <a:pt x="44" y="1090"/>
                </a:lnTo>
                <a:lnTo>
                  <a:pt x="57" y="1165"/>
                </a:lnTo>
                <a:lnTo>
                  <a:pt x="44" y="1279"/>
                </a:lnTo>
                <a:lnTo>
                  <a:pt x="6" y="1400"/>
                </a:lnTo>
                <a:lnTo>
                  <a:pt x="96" y="1311"/>
                </a:lnTo>
                <a:lnTo>
                  <a:pt x="165" y="1191"/>
                </a:lnTo>
                <a:lnTo>
                  <a:pt x="209" y="1070"/>
                </a:lnTo>
                <a:lnTo>
                  <a:pt x="254" y="995"/>
                </a:lnTo>
                <a:lnTo>
                  <a:pt x="267" y="887"/>
                </a:lnTo>
                <a:lnTo>
                  <a:pt x="292" y="785"/>
                </a:lnTo>
                <a:lnTo>
                  <a:pt x="317" y="691"/>
                </a:lnTo>
                <a:lnTo>
                  <a:pt x="373" y="590"/>
                </a:lnTo>
                <a:lnTo>
                  <a:pt x="419" y="551"/>
                </a:lnTo>
                <a:lnTo>
                  <a:pt x="462" y="533"/>
                </a:lnTo>
                <a:lnTo>
                  <a:pt x="525" y="539"/>
                </a:lnTo>
                <a:lnTo>
                  <a:pt x="615" y="513"/>
                </a:lnTo>
                <a:lnTo>
                  <a:pt x="671" y="462"/>
                </a:lnTo>
                <a:lnTo>
                  <a:pt x="753" y="379"/>
                </a:lnTo>
                <a:lnTo>
                  <a:pt x="791" y="412"/>
                </a:lnTo>
                <a:lnTo>
                  <a:pt x="791" y="412"/>
                </a:lnTo>
                <a:lnTo>
                  <a:pt x="791" y="4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55"/>
          <p:cNvSpPr/>
          <p:nvPr/>
        </p:nvSpPr>
        <p:spPr>
          <a:xfrm>
            <a:off x="6703920" y="2754360"/>
            <a:ext cx="2671920" cy="3941640"/>
          </a:xfrm>
          <a:custGeom>
            <a:avLst/>
            <a:gdLst>
              <a:gd name="textAreaLeft" fmla="*/ 0 w 2671920"/>
              <a:gd name="textAreaRight" fmla="*/ 2672280 w 2671920"/>
              <a:gd name="textAreaTop" fmla="*/ 0 h 3941640"/>
              <a:gd name="textAreaBottom" fmla="*/ 3942000 h 3941640"/>
            </a:gdLst>
            <a:ahLst/>
            <a:rect l="textAreaLeft" t="textAreaTop" r="textAreaRight" b="textAreaBottom"/>
            <a:pathLst>
              <a:path w="1683" h="2483">
                <a:moveTo>
                  <a:pt x="0" y="310"/>
                </a:moveTo>
                <a:lnTo>
                  <a:pt x="76" y="285"/>
                </a:lnTo>
                <a:lnTo>
                  <a:pt x="145" y="233"/>
                </a:lnTo>
                <a:lnTo>
                  <a:pt x="221" y="159"/>
                </a:lnTo>
                <a:lnTo>
                  <a:pt x="266" y="82"/>
                </a:lnTo>
                <a:lnTo>
                  <a:pt x="279" y="0"/>
                </a:lnTo>
                <a:lnTo>
                  <a:pt x="298" y="69"/>
                </a:lnTo>
                <a:lnTo>
                  <a:pt x="373" y="56"/>
                </a:lnTo>
                <a:lnTo>
                  <a:pt x="443" y="82"/>
                </a:lnTo>
                <a:lnTo>
                  <a:pt x="506" y="133"/>
                </a:lnTo>
                <a:lnTo>
                  <a:pt x="531" y="209"/>
                </a:lnTo>
                <a:lnTo>
                  <a:pt x="545" y="297"/>
                </a:lnTo>
                <a:lnTo>
                  <a:pt x="564" y="353"/>
                </a:lnTo>
                <a:lnTo>
                  <a:pt x="608" y="392"/>
                </a:lnTo>
                <a:lnTo>
                  <a:pt x="658" y="430"/>
                </a:lnTo>
                <a:lnTo>
                  <a:pt x="791" y="475"/>
                </a:lnTo>
                <a:lnTo>
                  <a:pt x="912" y="481"/>
                </a:lnTo>
                <a:lnTo>
                  <a:pt x="791" y="512"/>
                </a:lnTo>
                <a:lnTo>
                  <a:pt x="886" y="582"/>
                </a:lnTo>
                <a:lnTo>
                  <a:pt x="955" y="658"/>
                </a:lnTo>
                <a:lnTo>
                  <a:pt x="993" y="760"/>
                </a:lnTo>
                <a:lnTo>
                  <a:pt x="937" y="684"/>
                </a:lnTo>
                <a:lnTo>
                  <a:pt x="862" y="620"/>
                </a:lnTo>
                <a:lnTo>
                  <a:pt x="797" y="601"/>
                </a:lnTo>
                <a:lnTo>
                  <a:pt x="848" y="677"/>
                </a:lnTo>
                <a:lnTo>
                  <a:pt x="880" y="753"/>
                </a:lnTo>
                <a:lnTo>
                  <a:pt x="925" y="829"/>
                </a:lnTo>
                <a:lnTo>
                  <a:pt x="987" y="855"/>
                </a:lnTo>
                <a:lnTo>
                  <a:pt x="1051" y="874"/>
                </a:lnTo>
                <a:lnTo>
                  <a:pt x="981" y="905"/>
                </a:lnTo>
                <a:lnTo>
                  <a:pt x="981" y="994"/>
                </a:lnTo>
                <a:lnTo>
                  <a:pt x="937" y="930"/>
                </a:lnTo>
                <a:lnTo>
                  <a:pt x="949" y="1070"/>
                </a:lnTo>
                <a:lnTo>
                  <a:pt x="1007" y="1140"/>
                </a:lnTo>
                <a:lnTo>
                  <a:pt x="1101" y="1209"/>
                </a:lnTo>
                <a:lnTo>
                  <a:pt x="1151" y="1254"/>
                </a:lnTo>
                <a:lnTo>
                  <a:pt x="1196" y="1329"/>
                </a:lnTo>
                <a:lnTo>
                  <a:pt x="1222" y="1394"/>
                </a:lnTo>
                <a:lnTo>
                  <a:pt x="1228" y="1456"/>
                </a:lnTo>
                <a:lnTo>
                  <a:pt x="1222" y="1539"/>
                </a:lnTo>
                <a:lnTo>
                  <a:pt x="1177" y="1614"/>
                </a:lnTo>
                <a:lnTo>
                  <a:pt x="1095" y="1704"/>
                </a:lnTo>
                <a:lnTo>
                  <a:pt x="1202" y="1659"/>
                </a:lnTo>
                <a:lnTo>
                  <a:pt x="1196" y="1760"/>
                </a:lnTo>
                <a:lnTo>
                  <a:pt x="1272" y="1672"/>
                </a:lnTo>
                <a:lnTo>
                  <a:pt x="1297" y="1595"/>
                </a:lnTo>
                <a:lnTo>
                  <a:pt x="1309" y="1520"/>
                </a:lnTo>
                <a:lnTo>
                  <a:pt x="1297" y="1437"/>
                </a:lnTo>
                <a:lnTo>
                  <a:pt x="1278" y="1368"/>
                </a:lnTo>
                <a:lnTo>
                  <a:pt x="1336" y="1444"/>
                </a:lnTo>
                <a:lnTo>
                  <a:pt x="1361" y="1493"/>
                </a:lnTo>
                <a:lnTo>
                  <a:pt x="1380" y="1558"/>
                </a:lnTo>
                <a:lnTo>
                  <a:pt x="1386" y="1627"/>
                </a:lnTo>
                <a:lnTo>
                  <a:pt x="1380" y="1716"/>
                </a:lnTo>
                <a:lnTo>
                  <a:pt x="1442" y="1627"/>
                </a:lnTo>
                <a:lnTo>
                  <a:pt x="1468" y="1527"/>
                </a:lnTo>
                <a:lnTo>
                  <a:pt x="1494" y="1641"/>
                </a:lnTo>
                <a:lnTo>
                  <a:pt x="1474" y="1734"/>
                </a:lnTo>
                <a:lnTo>
                  <a:pt x="1449" y="1811"/>
                </a:lnTo>
                <a:lnTo>
                  <a:pt x="1474" y="1919"/>
                </a:lnTo>
                <a:lnTo>
                  <a:pt x="1461" y="2001"/>
                </a:lnTo>
                <a:lnTo>
                  <a:pt x="1519" y="2052"/>
                </a:lnTo>
                <a:lnTo>
                  <a:pt x="1575" y="2058"/>
                </a:lnTo>
                <a:lnTo>
                  <a:pt x="1652" y="2033"/>
                </a:lnTo>
                <a:lnTo>
                  <a:pt x="1646" y="2109"/>
                </a:lnTo>
                <a:lnTo>
                  <a:pt x="1607" y="2171"/>
                </a:lnTo>
                <a:lnTo>
                  <a:pt x="1563" y="2211"/>
                </a:lnTo>
                <a:lnTo>
                  <a:pt x="1582" y="2273"/>
                </a:lnTo>
                <a:lnTo>
                  <a:pt x="1588" y="2369"/>
                </a:lnTo>
                <a:lnTo>
                  <a:pt x="1665" y="2419"/>
                </a:lnTo>
                <a:lnTo>
                  <a:pt x="1683" y="2483"/>
                </a:lnTo>
                <a:lnTo>
                  <a:pt x="1640" y="2431"/>
                </a:lnTo>
                <a:lnTo>
                  <a:pt x="1544" y="2457"/>
                </a:lnTo>
                <a:lnTo>
                  <a:pt x="1399" y="2457"/>
                </a:lnTo>
                <a:lnTo>
                  <a:pt x="1317" y="2444"/>
                </a:lnTo>
                <a:lnTo>
                  <a:pt x="1184" y="2394"/>
                </a:lnTo>
                <a:lnTo>
                  <a:pt x="1095" y="2312"/>
                </a:lnTo>
                <a:lnTo>
                  <a:pt x="1057" y="2229"/>
                </a:lnTo>
                <a:lnTo>
                  <a:pt x="1051" y="2128"/>
                </a:lnTo>
                <a:lnTo>
                  <a:pt x="1076" y="2001"/>
                </a:lnTo>
                <a:lnTo>
                  <a:pt x="1139" y="1868"/>
                </a:lnTo>
                <a:lnTo>
                  <a:pt x="1051" y="1975"/>
                </a:lnTo>
                <a:lnTo>
                  <a:pt x="1013" y="2065"/>
                </a:lnTo>
                <a:lnTo>
                  <a:pt x="987" y="2153"/>
                </a:lnTo>
                <a:lnTo>
                  <a:pt x="999" y="2254"/>
                </a:lnTo>
                <a:lnTo>
                  <a:pt x="1069" y="2343"/>
                </a:lnTo>
                <a:lnTo>
                  <a:pt x="912" y="2298"/>
                </a:lnTo>
                <a:lnTo>
                  <a:pt x="589" y="2273"/>
                </a:lnTo>
                <a:lnTo>
                  <a:pt x="348" y="2192"/>
                </a:lnTo>
                <a:lnTo>
                  <a:pt x="393" y="2078"/>
                </a:lnTo>
                <a:lnTo>
                  <a:pt x="437" y="1988"/>
                </a:lnTo>
                <a:lnTo>
                  <a:pt x="518" y="1899"/>
                </a:lnTo>
                <a:lnTo>
                  <a:pt x="456" y="2014"/>
                </a:lnTo>
                <a:lnTo>
                  <a:pt x="443" y="2121"/>
                </a:lnTo>
                <a:lnTo>
                  <a:pt x="506" y="2007"/>
                </a:lnTo>
                <a:lnTo>
                  <a:pt x="589" y="1925"/>
                </a:lnTo>
                <a:lnTo>
                  <a:pt x="697" y="1849"/>
                </a:lnTo>
                <a:lnTo>
                  <a:pt x="809" y="1747"/>
                </a:lnTo>
                <a:lnTo>
                  <a:pt x="880" y="1678"/>
                </a:lnTo>
                <a:lnTo>
                  <a:pt x="918" y="1595"/>
                </a:lnTo>
                <a:lnTo>
                  <a:pt x="918" y="1532"/>
                </a:lnTo>
                <a:lnTo>
                  <a:pt x="886" y="1456"/>
                </a:lnTo>
                <a:lnTo>
                  <a:pt x="816" y="1374"/>
                </a:lnTo>
                <a:lnTo>
                  <a:pt x="740" y="1291"/>
                </a:lnTo>
                <a:lnTo>
                  <a:pt x="689" y="1216"/>
                </a:lnTo>
                <a:lnTo>
                  <a:pt x="683" y="1127"/>
                </a:lnTo>
                <a:lnTo>
                  <a:pt x="735" y="1203"/>
                </a:lnTo>
                <a:lnTo>
                  <a:pt x="862" y="1254"/>
                </a:lnTo>
                <a:lnTo>
                  <a:pt x="772" y="1177"/>
                </a:lnTo>
                <a:lnTo>
                  <a:pt x="689" y="1090"/>
                </a:lnTo>
                <a:lnTo>
                  <a:pt x="652" y="988"/>
                </a:lnTo>
                <a:lnTo>
                  <a:pt x="645" y="917"/>
                </a:lnTo>
                <a:lnTo>
                  <a:pt x="677" y="843"/>
                </a:lnTo>
                <a:lnTo>
                  <a:pt x="735" y="760"/>
                </a:lnTo>
                <a:lnTo>
                  <a:pt x="740" y="670"/>
                </a:lnTo>
                <a:lnTo>
                  <a:pt x="703" y="595"/>
                </a:lnTo>
                <a:lnTo>
                  <a:pt x="626" y="531"/>
                </a:lnTo>
                <a:lnTo>
                  <a:pt x="671" y="645"/>
                </a:lnTo>
                <a:lnTo>
                  <a:pt x="677" y="709"/>
                </a:lnTo>
                <a:lnTo>
                  <a:pt x="614" y="620"/>
                </a:lnTo>
                <a:lnTo>
                  <a:pt x="633" y="709"/>
                </a:lnTo>
                <a:lnTo>
                  <a:pt x="601" y="822"/>
                </a:lnTo>
                <a:lnTo>
                  <a:pt x="500" y="969"/>
                </a:lnTo>
                <a:lnTo>
                  <a:pt x="443" y="1115"/>
                </a:lnTo>
                <a:lnTo>
                  <a:pt x="418" y="1248"/>
                </a:lnTo>
                <a:lnTo>
                  <a:pt x="399" y="1050"/>
                </a:lnTo>
                <a:lnTo>
                  <a:pt x="354" y="911"/>
                </a:lnTo>
                <a:lnTo>
                  <a:pt x="177" y="512"/>
                </a:lnTo>
                <a:lnTo>
                  <a:pt x="127" y="418"/>
                </a:lnTo>
                <a:lnTo>
                  <a:pt x="89" y="373"/>
                </a:lnTo>
                <a:lnTo>
                  <a:pt x="44" y="335"/>
                </a:lnTo>
                <a:lnTo>
                  <a:pt x="0" y="310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56"/>
          <p:cNvSpPr/>
          <p:nvPr/>
        </p:nvSpPr>
        <p:spPr>
          <a:xfrm>
            <a:off x="8312040" y="4019400"/>
            <a:ext cx="692280" cy="1006560"/>
          </a:xfrm>
          <a:custGeom>
            <a:avLst/>
            <a:gdLst>
              <a:gd name="textAreaLeft" fmla="*/ 0 w 692280"/>
              <a:gd name="textAreaRight" fmla="*/ 692640 w 69228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36" h="634">
                <a:moveTo>
                  <a:pt x="7" y="0"/>
                </a:moveTo>
                <a:lnTo>
                  <a:pt x="32" y="39"/>
                </a:lnTo>
                <a:lnTo>
                  <a:pt x="94" y="96"/>
                </a:lnTo>
                <a:lnTo>
                  <a:pt x="44" y="120"/>
                </a:lnTo>
                <a:lnTo>
                  <a:pt x="113" y="247"/>
                </a:lnTo>
                <a:lnTo>
                  <a:pt x="209" y="349"/>
                </a:lnTo>
                <a:lnTo>
                  <a:pt x="323" y="451"/>
                </a:lnTo>
                <a:lnTo>
                  <a:pt x="398" y="545"/>
                </a:lnTo>
                <a:lnTo>
                  <a:pt x="436" y="634"/>
                </a:lnTo>
                <a:lnTo>
                  <a:pt x="360" y="526"/>
                </a:lnTo>
                <a:lnTo>
                  <a:pt x="240" y="399"/>
                </a:lnTo>
                <a:lnTo>
                  <a:pt x="100" y="311"/>
                </a:lnTo>
                <a:lnTo>
                  <a:pt x="164" y="412"/>
                </a:lnTo>
                <a:lnTo>
                  <a:pt x="76" y="349"/>
                </a:lnTo>
                <a:lnTo>
                  <a:pt x="19" y="280"/>
                </a:lnTo>
                <a:lnTo>
                  <a:pt x="0" y="184"/>
                </a:lnTo>
                <a:lnTo>
                  <a:pt x="0" y="7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57"/>
          <p:cNvSpPr/>
          <p:nvPr/>
        </p:nvSpPr>
        <p:spPr>
          <a:xfrm>
            <a:off x="6323040" y="4111560"/>
            <a:ext cx="1768320" cy="260352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2603520"/>
              <a:gd name="textAreaBottom" fmla="*/ 2603880 h 2603520"/>
            </a:gdLst>
            <a:ahLst/>
            <a:rect l="textAreaLeft" t="textAreaTop" r="textAreaRight" b="textAreaBottom"/>
            <a:pathLst>
              <a:path w="1114" h="1640">
                <a:moveTo>
                  <a:pt x="689" y="222"/>
                </a:moveTo>
                <a:lnTo>
                  <a:pt x="771" y="120"/>
                </a:lnTo>
                <a:lnTo>
                  <a:pt x="866" y="0"/>
                </a:lnTo>
                <a:lnTo>
                  <a:pt x="841" y="120"/>
                </a:lnTo>
                <a:lnTo>
                  <a:pt x="835" y="202"/>
                </a:lnTo>
                <a:lnTo>
                  <a:pt x="841" y="285"/>
                </a:lnTo>
                <a:lnTo>
                  <a:pt x="873" y="399"/>
                </a:lnTo>
                <a:lnTo>
                  <a:pt x="929" y="468"/>
                </a:lnTo>
                <a:lnTo>
                  <a:pt x="1081" y="589"/>
                </a:lnTo>
                <a:lnTo>
                  <a:pt x="1114" y="638"/>
                </a:lnTo>
                <a:lnTo>
                  <a:pt x="1114" y="715"/>
                </a:lnTo>
                <a:lnTo>
                  <a:pt x="1075" y="798"/>
                </a:lnTo>
                <a:lnTo>
                  <a:pt x="1012" y="886"/>
                </a:lnTo>
                <a:lnTo>
                  <a:pt x="854" y="1000"/>
                </a:lnTo>
                <a:lnTo>
                  <a:pt x="778" y="1050"/>
                </a:lnTo>
                <a:lnTo>
                  <a:pt x="709" y="1140"/>
                </a:lnTo>
                <a:lnTo>
                  <a:pt x="658" y="1229"/>
                </a:lnTo>
                <a:lnTo>
                  <a:pt x="625" y="1349"/>
                </a:lnTo>
                <a:lnTo>
                  <a:pt x="525" y="1329"/>
                </a:lnTo>
                <a:lnTo>
                  <a:pt x="481" y="1418"/>
                </a:lnTo>
                <a:lnTo>
                  <a:pt x="392" y="1507"/>
                </a:lnTo>
                <a:lnTo>
                  <a:pt x="259" y="1589"/>
                </a:lnTo>
                <a:lnTo>
                  <a:pt x="88" y="1640"/>
                </a:lnTo>
                <a:lnTo>
                  <a:pt x="278" y="1551"/>
                </a:lnTo>
                <a:lnTo>
                  <a:pt x="385" y="1470"/>
                </a:lnTo>
                <a:lnTo>
                  <a:pt x="455" y="1387"/>
                </a:lnTo>
                <a:lnTo>
                  <a:pt x="468" y="1316"/>
                </a:lnTo>
                <a:lnTo>
                  <a:pt x="411" y="1298"/>
                </a:lnTo>
                <a:lnTo>
                  <a:pt x="297" y="1368"/>
                </a:lnTo>
                <a:lnTo>
                  <a:pt x="209" y="1406"/>
                </a:lnTo>
                <a:lnTo>
                  <a:pt x="108" y="1424"/>
                </a:lnTo>
                <a:lnTo>
                  <a:pt x="0" y="1412"/>
                </a:lnTo>
                <a:lnTo>
                  <a:pt x="113" y="1412"/>
                </a:lnTo>
                <a:lnTo>
                  <a:pt x="177" y="1393"/>
                </a:lnTo>
                <a:lnTo>
                  <a:pt x="259" y="1356"/>
                </a:lnTo>
                <a:lnTo>
                  <a:pt x="379" y="1266"/>
                </a:lnTo>
                <a:lnTo>
                  <a:pt x="500" y="1140"/>
                </a:lnTo>
                <a:lnTo>
                  <a:pt x="633" y="956"/>
                </a:lnTo>
                <a:lnTo>
                  <a:pt x="683" y="886"/>
                </a:lnTo>
                <a:lnTo>
                  <a:pt x="696" y="810"/>
                </a:lnTo>
                <a:lnTo>
                  <a:pt x="702" y="715"/>
                </a:lnTo>
                <a:lnTo>
                  <a:pt x="727" y="830"/>
                </a:lnTo>
                <a:lnTo>
                  <a:pt x="792" y="830"/>
                </a:lnTo>
                <a:lnTo>
                  <a:pt x="778" y="740"/>
                </a:lnTo>
                <a:lnTo>
                  <a:pt x="848" y="798"/>
                </a:lnTo>
                <a:lnTo>
                  <a:pt x="866" y="728"/>
                </a:lnTo>
                <a:lnTo>
                  <a:pt x="829" y="672"/>
                </a:lnTo>
                <a:lnTo>
                  <a:pt x="797" y="645"/>
                </a:lnTo>
                <a:lnTo>
                  <a:pt x="696" y="652"/>
                </a:lnTo>
                <a:lnTo>
                  <a:pt x="671" y="557"/>
                </a:lnTo>
                <a:lnTo>
                  <a:pt x="658" y="418"/>
                </a:lnTo>
                <a:lnTo>
                  <a:pt x="658" y="272"/>
                </a:lnTo>
                <a:lnTo>
                  <a:pt x="689" y="222"/>
                </a:lnTo>
                <a:lnTo>
                  <a:pt x="689" y="222"/>
                </a:lnTo>
                <a:lnTo>
                  <a:pt x="689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58"/>
          <p:cNvSpPr/>
          <p:nvPr/>
        </p:nvSpPr>
        <p:spPr>
          <a:xfrm>
            <a:off x="4213080" y="2200320"/>
            <a:ext cx="2882880" cy="143820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816" h="906">
                <a:moveTo>
                  <a:pt x="1816" y="254"/>
                </a:moveTo>
                <a:lnTo>
                  <a:pt x="1784" y="145"/>
                </a:lnTo>
                <a:lnTo>
                  <a:pt x="1665" y="76"/>
                </a:lnTo>
                <a:lnTo>
                  <a:pt x="1519" y="63"/>
                </a:lnTo>
                <a:lnTo>
                  <a:pt x="1354" y="6"/>
                </a:lnTo>
                <a:lnTo>
                  <a:pt x="1247" y="0"/>
                </a:lnTo>
                <a:lnTo>
                  <a:pt x="1151" y="6"/>
                </a:lnTo>
                <a:lnTo>
                  <a:pt x="1044" y="50"/>
                </a:lnTo>
                <a:lnTo>
                  <a:pt x="955" y="114"/>
                </a:lnTo>
                <a:lnTo>
                  <a:pt x="822" y="152"/>
                </a:lnTo>
                <a:lnTo>
                  <a:pt x="703" y="184"/>
                </a:lnTo>
                <a:lnTo>
                  <a:pt x="576" y="279"/>
                </a:lnTo>
                <a:lnTo>
                  <a:pt x="525" y="317"/>
                </a:lnTo>
                <a:lnTo>
                  <a:pt x="449" y="329"/>
                </a:lnTo>
                <a:lnTo>
                  <a:pt x="380" y="304"/>
                </a:lnTo>
                <a:lnTo>
                  <a:pt x="418" y="342"/>
                </a:lnTo>
                <a:lnTo>
                  <a:pt x="462" y="368"/>
                </a:lnTo>
                <a:lnTo>
                  <a:pt x="399" y="393"/>
                </a:lnTo>
                <a:lnTo>
                  <a:pt x="310" y="387"/>
                </a:lnTo>
                <a:lnTo>
                  <a:pt x="272" y="342"/>
                </a:lnTo>
                <a:lnTo>
                  <a:pt x="260" y="380"/>
                </a:lnTo>
                <a:lnTo>
                  <a:pt x="279" y="443"/>
                </a:lnTo>
                <a:lnTo>
                  <a:pt x="310" y="482"/>
                </a:lnTo>
                <a:lnTo>
                  <a:pt x="266" y="514"/>
                </a:lnTo>
                <a:lnTo>
                  <a:pt x="202" y="576"/>
                </a:lnTo>
                <a:lnTo>
                  <a:pt x="196" y="684"/>
                </a:lnTo>
                <a:lnTo>
                  <a:pt x="140" y="755"/>
                </a:lnTo>
                <a:lnTo>
                  <a:pt x="70" y="767"/>
                </a:lnTo>
                <a:lnTo>
                  <a:pt x="31" y="678"/>
                </a:lnTo>
                <a:lnTo>
                  <a:pt x="0" y="755"/>
                </a:lnTo>
                <a:lnTo>
                  <a:pt x="25" y="824"/>
                </a:lnTo>
                <a:lnTo>
                  <a:pt x="102" y="868"/>
                </a:lnTo>
                <a:lnTo>
                  <a:pt x="235" y="874"/>
                </a:lnTo>
                <a:lnTo>
                  <a:pt x="317" y="830"/>
                </a:lnTo>
                <a:lnTo>
                  <a:pt x="367" y="906"/>
                </a:lnTo>
                <a:lnTo>
                  <a:pt x="412" y="830"/>
                </a:lnTo>
                <a:lnTo>
                  <a:pt x="360" y="702"/>
                </a:lnTo>
                <a:lnTo>
                  <a:pt x="354" y="576"/>
                </a:lnTo>
                <a:lnTo>
                  <a:pt x="412" y="601"/>
                </a:lnTo>
                <a:lnTo>
                  <a:pt x="367" y="501"/>
                </a:lnTo>
                <a:lnTo>
                  <a:pt x="360" y="443"/>
                </a:lnTo>
                <a:lnTo>
                  <a:pt x="431" y="501"/>
                </a:lnTo>
                <a:lnTo>
                  <a:pt x="487" y="538"/>
                </a:lnTo>
                <a:lnTo>
                  <a:pt x="481" y="437"/>
                </a:lnTo>
                <a:lnTo>
                  <a:pt x="545" y="450"/>
                </a:lnTo>
                <a:lnTo>
                  <a:pt x="690" y="462"/>
                </a:lnTo>
                <a:lnTo>
                  <a:pt x="835" y="437"/>
                </a:lnTo>
                <a:lnTo>
                  <a:pt x="703" y="374"/>
                </a:lnTo>
                <a:lnTo>
                  <a:pt x="835" y="272"/>
                </a:lnTo>
                <a:lnTo>
                  <a:pt x="987" y="247"/>
                </a:lnTo>
                <a:lnTo>
                  <a:pt x="1165" y="272"/>
                </a:lnTo>
                <a:lnTo>
                  <a:pt x="1303" y="260"/>
                </a:lnTo>
                <a:lnTo>
                  <a:pt x="1392" y="222"/>
                </a:lnTo>
                <a:lnTo>
                  <a:pt x="1481" y="208"/>
                </a:lnTo>
                <a:lnTo>
                  <a:pt x="1380" y="184"/>
                </a:lnTo>
                <a:lnTo>
                  <a:pt x="1278" y="196"/>
                </a:lnTo>
                <a:lnTo>
                  <a:pt x="1178" y="190"/>
                </a:lnTo>
                <a:lnTo>
                  <a:pt x="1057" y="145"/>
                </a:lnTo>
                <a:lnTo>
                  <a:pt x="1247" y="145"/>
                </a:lnTo>
                <a:lnTo>
                  <a:pt x="1374" y="133"/>
                </a:lnTo>
                <a:lnTo>
                  <a:pt x="1475" y="145"/>
                </a:lnTo>
                <a:lnTo>
                  <a:pt x="1563" y="184"/>
                </a:lnTo>
                <a:lnTo>
                  <a:pt x="1582" y="133"/>
                </a:lnTo>
                <a:lnTo>
                  <a:pt x="1652" y="164"/>
                </a:lnTo>
                <a:lnTo>
                  <a:pt x="1696" y="234"/>
                </a:lnTo>
                <a:lnTo>
                  <a:pt x="1708" y="304"/>
                </a:lnTo>
                <a:lnTo>
                  <a:pt x="1753" y="272"/>
                </a:lnTo>
                <a:lnTo>
                  <a:pt x="1753" y="342"/>
                </a:lnTo>
                <a:lnTo>
                  <a:pt x="1721" y="462"/>
                </a:lnTo>
                <a:lnTo>
                  <a:pt x="1816" y="342"/>
                </a:lnTo>
                <a:lnTo>
                  <a:pt x="1816" y="254"/>
                </a:lnTo>
                <a:lnTo>
                  <a:pt x="1816" y="254"/>
                </a:lnTo>
                <a:lnTo>
                  <a:pt x="1816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59"/>
          <p:cNvSpPr/>
          <p:nvPr/>
        </p:nvSpPr>
        <p:spPr>
          <a:xfrm>
            <a:off x="3751200" y="3225960"/>
            <a:ext cx="2421000" cy="347004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3470040"/>
              <a:gd name="textAreaBottom" fmla="*/ 3470400 h 3470040"/>
            </a:gdLst>
            <a:ahLst/>
            <a:rect l="textAreaLeft" t="textAreaTop" r="textAreaRight" b="textAreaBottom"/>
            <a:pathLst>
              <a:path w="1525" h="2186">
                <a:moveTo>
                  <a:pt x="709" y="20"/>
                </a:moveTo>
                <a:lnTo>
                  <a:pt x="759" y="140"/>
                </a:lnTo>
                <a:lnTo>
                  <a:pt x="740" y="260"/>
                </a:lnTo>
                <a:lnTo>
                  <a:pt x="678" y="323"/>
                </a:lnTo>
                <a:lnTo>
                  <a:pt x="589" y="373"/>
                </a:lnTo>
                <a:lnTo>
                  <a:pt x="399" y="425"/>
                </a:lnTo>
                <a:lnTo>
                  <a:pt x="539" y="348"/>
                </a:lnTo>
                <a:lnTo>
                  <a:pt x="658" y="273"/>
                </a:lnTo>
                <a:lnTo>
                  <a:pt x="582" y="246"/>
                </a:lnTo>
                <a:lnTo>
                  <a:pt x="512" y="172"/>
                </a:lnTo>
                <a:lnTo>
                  <a:pt x="373" y="184"/>
                </a:lnTo>
                <a:lnTo>
                  <a:pt x="316" y="273"/>
                </a:lnTo>
                <a:lnTo>
                  <a:pt x="291" y="387"/>
                </a:lnTo>
                <a:lnTo>
                  <a:pt x="222" y="412"/>
                </a:lnTo>
                <a:lnTo>
                  <a:pt x="177" y="323"/>
                </a:lnTo>
                <a:lnTo>
                  <a:pt x="126" y="437"/>
                </a:lnTo>
                <a:lnTo>
                  <a:pt x="126" y="500"/>
                </a:lnTo>
                <a:lnTo>
                  <a:pt x="145" y="564"/>
                </a:lnTo>
                <a:lnTo>
                  <a:pt x="120" y="614"/>
                </a:lnTo>
                <a:lnTo>
                  <a:pt x="108" y="684"/>
                </a:lnTo>
                <a:lnTo>
                  <a:pt x="139" y="753"/>
                </a:lnTo>
                <a:lnTo>
                  <a:pt x="120" y="811"/>
                </a:lnTo>
                <a:lnTo>
                  <a:pt x="63" y="836"/>
                </a:lnTo>
                <a:lnTo>
                  <a:pt x="0" y="830"/>
                </a:lnTo>
                <a:lnTo>
                  <a:pt x="19" y="861"/>
                </a:lnTo>
                <a:lnTo>
                  <a:pt x="57" y="887"/>
                </a:lnTo>
                <a:lnTo>
                  <a:pt x="126" y="899"/>
                </a:lnTo>
                <a:lnTo>
                  <a:pt x="108" y="938"/>
                </a:lnTo>
                <a:lnTo>
                  <a:pt x="164" y="976"/>
                </a:lnTo>
                <a:lnTo>
                  <a:pt x="222" y="988"/>
                </a:lnTo>
                <a:lnTo>
                  <a:pt x="298" y="976"/>
                </a:lnTo>
                <a:lnTo>
                  <a:pt x="368" y="944"/>
                </a:lnTo>
                <a:lnTo>
                  <a:pt x="474" y="836"/>
                </a:lnTo>
                <a:lnTo>
                  <a:pt x="532" y="741"/>
                </a:lnTo>
                <a:lnTo>
                  <a:pt x="493" y="880"/>
                </a:lnTo>
                <a:lnTo>
                  <a:pt x="431" y="963"/>
                </a:lnTo>
                <a:lnTo>
                  <a:pt x="335" y="1026"/>
                </a:lnTo>
                <a:lnTo>
                  <a:pt x="278" y="1032"/>
                </a:lnTo>
                <a:lnTo>
                  <a:pt x="208" y="1026"/>
                </a:lnTo>
                <a:lnTo>
                  <a:pt x="139" y="1071"/>
                </a:lnTo>
                <a:lnTo>
                  <a:pt x="102" y="1172"/>
                </a:lnTo>
                <a:lnTo>
                  <a:pt x="114" y="1223"/>
                </a:lnTo>
                <a:lnTo>
                  <a:pt x="83" y="1304"/>
                </a:lnTo>
                <a:lnTo>
                  <a:pt x="96" y="1388"/>
                </a:lnTo>
                <a:lnTo>
                  <a:pt x="177" y="1496"/>
                </a:lnTo>
                <a:lnTo>
                  <a:pt x="183" y="1407"/>
                </a:lnTo>
                <a:lnTo>
                  <a:pt x="247" y="1350"/>
                </a:lnTo>
                <a:lnTo>
                  <a:pt x="247" y="1431"/>
                </a:lnTo>
                <a:lnTo>
                  <a:pt x="361" y="1344"/>
                </a:lnTo>
                <a:lnTo>
                  <a:pt x="418" y="1242"/>
                </a:lnTo>
                <a:lnTo>
                  <a:pt x="443" y="1103"/>
                </a:lnTo>
                <a:lnTo>
                  <a:pt x="481" y="1242"/>
                </a:lnTo>
                <a:lnTo>
                  <a:pt x="551" y="1362"/>
                </a:lnTo>
                <a:lnTo>
                  <a:pt x="703" y="1444"/>
                </a:lnTo>
                <a:lnTo>
                  <a:pt x="791" y="1496"/>
                </a:lnTo>
                <a:lnTo>
                  <a:pt x="842" y="1552"/>
                </a:lnTo>
                <a:lnTo>
                  <a:pt x="842" y="1654"/>
                </a:lnTo>
                <a:lnTo>
                  <a:pt x="778" y="1781"/>
                </a:lnTo>
                <a:lnTo>
                  <a:pt x="753" y="1844"/>
                </a:lnTo>
                <a:lnTo>
                  <a:pt x="740" y="1919"/>
                </a:lnTo>
                <a:lnTo>
                  <a:pt x="746" y="1988"/>
                </a:lnTo>
                <a:lnTo>
                  <a:pt x="809" y="2072"/>
                </a:lnTo>
                <a:lnTo>
                  <a:pt x="595" y="2166"/>
                </a:lnTo>
                <a:lnTo>
                  <a:pt x="873" y="2084"/>
                </a:lnTo>
                <a:lnTo>
                  <a:pt x="1063" y="1982"/>
                </a:lnTo>
                <a:lnTo>
                  <a:pt x="1107" y="2046"/>
                </a:lnTo>
                <a:lnTo>
                  <a:pt x="1215" y="2122"/>
                </a:lnTo>
                <a:lnTo>
                  <a:pt x="1310" y="2154"/>
                </a:lnTo>
                <a:lnTo>
                  <a:pt x="1355" y="2186"/>
                </a:lnTo>
                <a:lnTo>
                  <a:pt x="1513" y="2186"/>
                </a:lnTo>
                <a:lnTo>
                  <a:pt x="1469" y="2059"/>
                </a:lnTo>
                <a:lnTo>
                  <a:pt x="1429" y="1976"/>
                </a:lnTo>
                <a:lnTo>
                  <a:pt x="1525" y="1964"/>
                </a:lnTo>
                <a:lnTo>
                  <a:pt x="1398" y="1939"/>
                </a:lnTo>
                <a:lnTo>
                  <a:pt x="1177" y="1781"/>
                </a:lnTo>
                <a:lnTo>
                  <a:pt x="1076" y="1678"/>
                </a:lnTo>
                <a:lnTo>
                  <a:pt x="1013" y="1590"/>
                </a:lnTo>
                <a:lnTo>
                  <a:pt x="981" y="1527"/>
                </a:lnTo>
                <a:lnTo>
                  <a:pt x="905" y="1324"/>
                </a:lnTo>
                <a:lnTo>
                  <a:pt x="861" y="1140"/>
                </a:lnTo>
                <a:lnTo>
                  <a:pt x="867" y="988"/>
                </a:lnTo>
                <a:lnTo>
                  <a:pt x="867" y="793"/>
                </a:lnTo>
                <a:lnTo>
                  <a:pt x="766" y="924"/>
                </a:lnTo>
                <a:lnTo>
                  <a:pt x="772" y="811"/>
                </a:lnTo>
                <a:lnTo>
                  <a:pt x="753" y="704"/>
                </a:lnTo>
                <a:lnTo>
                  <a:pt x="740" y="614"/>
                </a:lnTo>
                <a:lnTo>
                  <a:pt x="753" y="506"/>
                </a:lnTo>
                <a:lnTo>
                  <a:pt x="778" y="419"/>
                </a:lnTo>
                <a:lnTo>
                  <a:pt x="849" y="355"/>
                </a:lnTo>
                <a:lnTo>
                  <a:pt x="809" y="279"/>
                </a:lnTo>
                <a:lnTo>
                  <a:pt x="803" y="215"/>
                </a:lnTo>
                <a:lnTo>
                  <a:pt x="816" y="152"/>
                </a:lnTo>
                <a:lnTo>
                  <a:pt x="867" y="89"/>
                </a:lnTo>
                <a:lnTo>
                  <a:pt x="753" y="0"/>
                </a:lnTo>
                <a:lnTo>
                  <a:pt x="709" y="20"/>
                </a:lnTo>
                <a:lnTo>
                  <a:pt x="709" y="20"/>
                </a:lnTo>
                <a:lnTo>
                  <a:pt x="709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60"/>
          <p:cNvSpPr/>
          <p:nvPr/>
        </p:nvSpPr>
        <p:spPr>
          <a:xfrm>
            <a:off x="3803760" y="4976640"/>
            <a:ext cx="1203120" cy="171000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710000"/>
              <a:gd name="textAreaBottom" fmla="*/ 1710360 h 1710000"/>
            </a:gdLst>
            <a:ahLst/>
            <a:rect l="textAreaLeft" t="textAreaTop" r="textAreaRight" b="textAreaBottom"/>
            <a:pathLst>
              <a:path w="758" h="1077">
                <a:moveTo>
                  <a:pt x="423" y="0"/>
                </a:moveTo>
                <a:lnTo>
                  <a:pt x="423" y="177"/>
                </a:lnTo>
                <a:lnTo>
                  <a:pt x="353" y="310"/>
                </a:lnTo>
                <a:lnTo>
                  <a:pt x="227" y="411"/>
                </a:lnTo>
                <a:lnTo>
                  <a:pt x="183" y="360"/>
                </a:lnTo>
                <a:lnTo>
                  <a:pt x="138" y="462"/>
                </a:lnTo>
                <a:lnTo>
                  <a:pt x="106" y="545"/>
                </a:lnTo>
                <a:lnTo>
                  <a:pt x="50" y="601"/>
                </a:lnTo>
                <a:lnTo>
                  <a:pt x="6" y="671"/>
                </a:lnTo>
                <a:lnTo>
                  <a:pt x="0" y="721"/>
                </a:lnTo>
                <a:lnTo>
                  <a:pt x="12" y="771"/>
                </a:lnTo>
                <a:lnTo>
                  <a:pt x="56" y="836"/>
                </a:lnTo>
                <a:lnTo>
                  <a:pt x="106" y="879"/>
                </a:lnTo>
                <a:lnTo>
                  <a:pt x="93" y="823"/>
                </a:lnTo>
                <a:lnTo>
                  <a:pt x="106" y="771"/>
                </a:lnTo>
                <a:lnTo>
                  <a:pt x="150" y="753"/>
                </a:lnTo>
                <a:lnTo>
                  <a:pt x="214" y="741"/>
                </a:lnTo>
                <a:lnTo>
                  <a:pt x="258" y="715"/>
                </a:lnTo>
                <a:lnTo>
                  <a:pt x="308" y="678"/>
                </a:lnTo>
                <a:lnTo>
                  <a:pt x="277" y="753"/>
                </a:lnTo>
                <a:lnTo>
                  <a:pt x="220" y="804"/>
                </a:lnTo>
                <a:lnTo>
                  <a:pt x="175" y="854"/>
                </a:lnTo>
                <a:lnTo>
                  <a:pt x="169" y="919"/>
                </a:lnTo>
                <a:lnTo>
                  <a:pt x="87" y="988"/>
                </a:lnTo>
                <a:lnTo>
                  <a:pt x="50" y="1038"/>
                </a:lnTo>
                <a:lnTo>
                  <a:pt x="30" y="1077"/>
                </a:lnTo>
                <a:lnTo>
                  <a:pt x="518" y="1077"/>
                </a:lnTo>
                <a:lnTo>
                  <a:pt x="625" y="1051"/>
                </a:lnTo>
                <a:lnTo>
                  <a:pt x="670" y="1012"/>
                </a:lnTo>
                <a:lnTo>
                  <a:pt x="631" y="981"/>
                </a:lnTo>
                <a:lnTo>
                  <a:pt x="606" y="919"/>
                </a:lnTo>
                <a:lnTo>
                  <a:pt x="618" y="816"/>
                </a:lnTo>
                <a:lnTo>
                  <a:pt x="657" y="885"/>
                </a:lnTo>
                <a:lnTo>
                  <a:pt x="657" y="792"/>
                </a:lnTo>
                <a:lnTo>
                  <a:pt x="695" y="715"/>
                </a:lnTo>
                <a:lnTo>
                  <a:pt x="758" y="588"/>
                </a:lnTo>
                <a:lnTo>
                  <a:pt x="758" y="499"/>
                </a:lnTo>
                <a:lnTo>
                  <a:pt x="726" y="405"/>
                </a:lnTo>
                <a:lnTo>
                  <a:pt x="670" y="316"/>
                </a:lnTo>
                <a:lnTo>
                  <a:pt x="512" y="235"/>
                </a:lnTo>
                <a:lnTo>
                  <a:pt x="543" y="354"/>
                </a:lnTo>
                <a:lnTo>
                  <a:pt x="556" y="417"/>
                </a:lnTo>
                <a:lnTo>
                  <a:pt x="530" y="499"/>
                </a:lnTo>
                <a:lnTo>
                  <a:pt x="479" y="601"/>
                </a:lnTo>
                <a:lnTo>
                  <a:pt x="460" y="728"/>
                </a:lnTo>
                <a:lnTo>
                  <a:pt x="429" y="620"/>
                </a:lnTo>
                <a:lnTo>
                  <a:pt x="429" y="532"/>
                </a:lnTo>
                <a:lnTo>
                  <a:pt x="479" y="393"/>
                </a:lnTo>
                <a:lnTo>
                  <a:pt x="479" y="241"/>
                </a:lnTo>
                <a:lnTo>
                  <a:pt x="466" y="114"/>
                </a:lnTo>
                <a:lnTo>
                  <a:pt x="423" y="0"/>
                </a:lnTo>
                <a:lnTo>
                  <a:pt x="423" y="0"/>
                </a:lnTo>
                <a:lnTo>
                  <a:pt x="4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61"/>
          <p:cNvSpPr/>
          <p:nvPr/>
        </p:nvSpPr>
        <p:spPr>
          <a:xfrm>
            <a:off x="3743280" y="4684680"/>
            <a:ext cx="258840" cy="1406520"/>
          </a:xfrm>
          <a:custGeom>
            <a:avLst/>
            <a:gdLst>
              <a:gd name="textAreaLeft" fmla="*/ 0 w 258840"/>
              <a:gd name="textAreaRight" fmla="*/ 259200 w 258840"/>
              <a:gd name="textAreaTop" fmla="*/ 0 h 1406520"/>
              <a:gd name="textAreaBottom" fmla="*/ 1406520 h 1406520"/>
            </a:gdLst>
            <a:ahLst/>
            <a:rect l="textAreaLeft" t="textAreaTop" r="textAreaRight" b="textAreaBottom"/>
            <a:pathLst>
              <a:path w="163" h="886">
                <a:moveTo>
                  <a:pt x="68" y="0"/>
                </a:moveTo>
                <a:lnTo>
                  <a:pt x="81" y="51"/>
                </a:lnTo>
                <a:lnTo>
                  <a:pt x="163" y="107"/>
                </a:lnTo>
                <a:lnTo>
                  <a:pt x="101" y="132"/>
                </a:lnTo>
                <a:lnTo>
                  <a:pt x="68" y="221"/>
                </a:lnTo>
                <a:lnTo>
                  <a:pt x="56" y="311"/>
                </a:lnTo>
                <a:lnTo>
                  <a:pt x="44" y="392"/>
                </a:lnTo>
                <a:lnTo>
                  <a:pt x="56" y="456"/>
                </a:lnTo>
                <a:lnTo>
                  <a:pt x="94" y="557"/>
                </a:lnTo>
                <a:lnTo>
                  <a:pt x="150" y="608"/>
                </a:lnTo>
                <a:lnTo>
                  <a:pt x="101" y="709"/>
                </a:lnTo>
                <a:lnTo>
                  <a:pt x="44" y="810"/>
                </a:lnTo>
                <a:lnTo>
                  <a:pt x="17" y="886"/>
                </a:lnTo>
                <a:lnTo>
                  <a:pt x="17" y="785"/>
                </a:lnTo>
                <a:lnTo>
                  <a:pt x="50" y="709"/>
                </a:lnTo>
                <a:lnTo>
                  <a:pt x="5" y="570"/>
                </a:lnTo>
                <a:lnTo>
                  <a:pt x="0" y="419"/>
                </a:lnTo>
                <a:lnTo>
                  <a:pt x="0" y="291"/>
                </a:lnTo>
                <a:lnTo>
                  <a:pt x="50" y="152"/>
                </a:lnTo>
                <a:lnTo>
                  <a:pt x="75" y="101"/>
                </a:lnTo>
                <a:lnTo>
                  <a:pt x="56" y="51"/>
                </a:lnTo>
                <a:lnTo>
                  <a:pt x="68" y="0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62"/>
          <p:cNvSpPr/>
          <p:nvPr/>
        </p:nvSpPr>
        <p:spPr>
          <a:xfrm>
            <a:off x="3770280" y="6272280"/>
            <a:ext cx="201600" cy="372960"/>
          </a:xfrm>
          <a:custGeom>
            <a:avLst/>
            <a:gdLst>
              <a:gd name="textAreaLeft" fmla="*/ 0 w 201600"/>
              <a:gd name="textAreaRight" fmla="*/ 201960 w 2016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27" h="235">
                <a:moveTo>
                  <a:pt x="14" y="0"/>
                </a:moveTo>
                <a:lnTo>
                  <a:pt x="45" y="63"/>
                </a:lnTo>
                <a:lnTo>
                  <a:pt x="127" y="115"/>
                </a:lnTo>
                <a:lnTo>
                  <a:pt x="51" y="235"/>
                </a:lnTo>
                <a:lnTo>
                  <a:pt x="27" y="172"/>
                </a:lnTo>
                <a:lnTo>
                  <a:pt x="0" y="69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63"/>
          <p:cNvSpPr/>
          <p:nvPr/>
        </p:nvSpPr>
        <p:spPr>
          <a:xfrm>
            <a:off x="5529240" y="4586400"/>
            <a:ext cx="55440" cy="42840"/>
          </a:xfrm>
          <a:custGeom>
            <a:avLst/>
            <a:gdLst>
              <a:gd name="textAreaLeft" fmla="*/ 0 w 55440"/>
              <a:gd name="textAreaRight" fmla="*/ 55800 w 554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5" h="27">
                <a:moveTo>
                  <a:pt x="6" y="4"/>
                </a:moveTo>
                <a:lnTo>
                  <a:pt x="25" y="0"/>
                </a:lnTo>
                <a:lnTo>
                  <a:pt x="35" y="11"/>
                </a:lnTo>
                <a:lnTo>
                  <a:pt x="30" y="27"/>
                </a:lnTo>
                <a:lnTo>
                  <a:pt x="8" y="27"/>
                </a:lnTo>
                <a:lnTo>
                  <a:pt x="0" y="18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64"/>
          <p:cNvSpPr/>
          <p:nvPr/>
        </p:nvSpPr>
        <p:spPr>
          <a:xfrm>
            <a:off x="6613560" y="4376880"/>
            <a:ext cx="50760" cy="44280"/>
          </a:xfrm>
          <a:custGeom>
            <a:avLst/>
            <a:gdLst>
              <a:gd name="textAreaLeft" fmla="*/ 0 w 50760"/>
              <a:gd name="textAreaRight" fmla="*/ 51120 w 507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32" h="28">
                <a:moveTo>
                  <a:pt x="0" y="24"/>
                </a:moveTo>
                <a:lnTo>
                  <a:pt x="3" y="4"/>
                </a:lnTo>
                <a:lnTo>
                  <a:pt x="14" y="0"/>
                </a:lnTo>
                <a:lnTo>
                  <a:pt x="27" y="6"/>
                </a:lnTo>
                <a:lnTo>
                  <a:pt x="32" y="16"/>
                </a:lnTo>
                <a:lnTo>
                  <a:pt x="32" y="24"/>
                </a:lnTo>
                <a:lnTo>
                  <a:pt x="21" y="28"/>
                </a:lnTo>
                <a:lnTo>
                  <a:pt x="10" y="27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65"/>
          <p:cNvSpPr/>
          <p:nvPr/>
        </p:nvSpPr>
        <p:spPr>
          <a:xfrm>
            <a:off x="5568840" y="3348000"/>
            <a:ext cx="1101960" cy="881280"/>
          </a:xfrm>
          <a:custGeom>
            <a:avLst/>
            <a:gdLst>
              <a:gd name="textAreaLeft" fmla="*/ 0 w 1101960"/>
              <a:gd name="textAreaRight" fmla="*/ 1102320 w 110196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694" h="555">
                <a:moveTo>
                  <a:pt x="130" y="541"/>
                </a:moveTo>
                <a:lnTo>
                  <a:pt x="32" y="507"/>
                </a:lnTo>
                <a:lnTo>
                  <a:pt x="0" y="452"/>
                </a:lnTo>
                <a:lnTo>
                  <a:pt x="0" y="376"/>
                </a:lnTo>
                <a:lnTo>
                  <a:pt x="47" y="265"/>
                </a:lnTo>
                <a:lnTo>
                  <a:pt x="125" y="135"/>
                </a:lnTo>
                <a:lnTo>
                  <a:pt x="234" y="56"/>
                </a:lnTo>
                <a:lnTo>
                  <a:pt x="332" y="4"/>
                </a:lnTo>
                <a:lnTo>
                  <a:pt x="448" y="0"/>
                </a:lnTo>
                <a:lnTo>
                  <a:pt x="507" y="19"/>
                </a:lnTo>
                <a:lnTo>
                  <a:pt x="605" y="75"/>
                </a:lnTo>
                <a:lnTo>
                  <a:pt x="652" y="149"/>
                </a:lnTo>
                <a:lnTo>
                  <a:pt x="694" y="247"/>
                </a:lnTo>
                <a:lnTo>
                  <a:pt x="694" y="317"/>
                </a:lnTo>
                <a:lnTo>
                  <a:pt x="670" y="383"/>
                </a:lnTo>
                <a:lnTo>
                  <a:pt x="602" y="428"/>
                </a:lnTo>
                <a:lnTo>
                  <a:pt x="522" y="433"/>
                </a:lnTo>
                <a:lnTo>
                  <a:pt x="441" y="481"/>
                </a:lnTo>
                <a:lnTo>
                  <a:pt x="368" y="531"/>
                </a:lnTo>
                <a:lnTo>
                  <a:pt x="261" y="555"/>
                </a:lnTo>
                <a:lnTo>
                  <a:pt x="130" y="541"/>
                </a:lnTo>
                <a:lnTo>
                  <a:pt x="130" y="541"/>
                </a:lnTo>
                <a:lnTo>
                  <a:pt x="130" y="541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66"/>
          <p:cNvSpPr/>
          <p:nvPr/>
        </p:nvSpPr>
        <p:spPr>
          <a:xfrm>
            <a:off x="6006960" y="4506840"/>
            <a:ext cx="206640" cy="601560"/>
          </a:xfrm>
          <a:custGeom>
            <a:avLst/>
            <a:gdLst>
              <a:gd name="textAreaLeft" fmla="*/ 0 w 206640"/>
              <a:gd name="textAreaRight" fmla="*/ 207000 w 2066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30" h="379">
                <a:moveTo>
                  <a:pt x="17" y="0"/>
                </a:moveTo>
                <a:lnTo>
                  <a:pt x="0" y="77"/>
                </a:lnTo>
                <a:lnTo>
                  <a:pt x="23" y="142"/>
                </a:lnTo>
                <a:lnTo>
                  <a:pt x="41" y="217"/>
                </a:lnTo>
                <a:lnTo>
                  <a:pt x="35" y="299"/>
                </a:lnTo>
                <a:lnTo>
                  <a:pt x="50" y="360"/>
                </a:lnTo>
                <a:lnTo>
                  <a:pt x="80" y="379"/>
                </a:lnTo>
                <a:lnTo>
                  <a:pt x="113" y="379"/>
                </a:lnTo>
                <a:lnTo>
                  <a:pt x="130" y="332"/>
                </a:lnTo>
                <a:lnTo>
                  <a:pt x="106" y="264"/>
                </a:lnTo>
                <a:lnTo>
                  <a:pt x="74" y="177"/>
                </a:lnTo>
                <a:lnTo>
                  <a:pt x="74" y="99"/>
                </a:lnTo>
                <a:lnTo>
                  <a:pt x="59" y="16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67"/>
          <p:cNvSpPr/>
          <p:nvPr/>
        </p:nvSpPr>
        <p:spPr>
          <a:xfrm>
            <a:off x="5959440" y="5072040"/>
            <a:ext cx="112680" cy="74520"/>
          </a:xfrm>
          <a:custGeom>
            <a:avLst/>
            <a:gdLst>
              <a:gd name="textAreaLeft" fmla="*/ 0 w 112680"/>
              <a:gd name="textAreaRight" fmla="*/ 113040 w 1126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71" h="47">
                <a:moveTo>
                  <a:pt x="0" y="39"/>
                </a:moveTo>
                <a:lnTo>
                  <a:pt x="6" y="9"/>
                </a:lnTo>
                <a:lnTo>
                  <a:pt x="38" y="0"/>
                </a:lnTo>
                <a:lnTo>
                  <a:pt x="71" y="39"/>
                </a:lnTo>
                <a:lnTo>
                  <a:pt x="38" y="47"/>
                </a:lnTo>
                <a:lnTo>
                  <a:pt x="0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68"/>
          <p:cNvSpPr/>
          <p:nvPr/>
        </p:nvSpPr>
        <p:spPr>
          <a:xfrm>
            <a:off x="5221440" y="4761000"/>
            <a:ext cx="644400" cy="527040"/>
          </a:xfrm>
          <a:custGeom>
            <a:avLst/>
            <a:gdLst>
              <a:gd name="textAreaLeft" fmla="*/ 0 w 644400"/>
              <a:gd name="textAreaRight" fmla="*/ 644760 w 6444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06" h="332">
                <a:moveTo>
                  <a:pt x="0" y="128"/>
                </a:moveTo>
                <a:lnTo>
                  <a:pt x="20" y="89"/>
                </a:lnTo>
                <a:lnTo>
                  <a:pt x="48" y="65"/>
                </a:lnTo>
                <a:lnTo>
                  <a:pt x="112" y="48"/>
                </a:lnTo>
                <a:lnTo>
                  <a:pt x="178" y="48"/>
                </a:lnTo>
                <a:lnTo>
                  <a:pt x="275" y="41"/>
                </a:lnTo>
                <a:lnTo>
                  <a:pt x="347" y="15"/>
                </a:lnTo>
                <a:lnTo>
                  <a:pt x="406" y="0"/>
                </a:lnTo>
                <a:lnTo>
                  <a:pt x="391" y="86"/>
                </a:lnTo>
                <a:lnTo>
                  <a:pt x="358" y="160"/>
                </a:lnTo>
                <a:lnTo>
                  <a:pt x="299" y="235"/>
                </a:lnTo>
                <a:lnTo>
                  <a:pt x="219" y="282"/>
                </a:lnTo>
                <a:lnTo>
                  <a:pt x="172" y="324"/>
                </a:lnTo>
                <a:lnTo>
                  <a:pt x="119" y="332"/>
                </a:lnTo>
                <a:lnTo>
                  <a:pt x="65" y="300"/>
                </a:lnTo>
                <a:lnTo>
                  <a:pt x="24" y="253"/>
                </a:lnTo>
                <a:lnTo>
                  <a:pt x="6" y="187"/>
                </a:lnTo>
                <a:lnTo>
                  <a:pt x="0" y="128"/>
                </a:lnTo>
                <a:lnTo>
                  <a:pt x="0" y="128"/>
                </a:lnTo>
                <a:lnTo>
                  <a:pt x="0" y="128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69"/>
          <p:cNvSpPr/>
          <p:nvPr/>
        </p:nvSpPr>
        <p:spPr>
          <a:xfrm>
            <a:off x="6515280" y="4514760"/>
            <a:ext cx="653760" cy="514440"/>
          </a:xfrm>
          <a:custGeom>
            <a:avLst/>
            <a:gdLst/>
            <a:ahLst/>
            <a:rect l="l" t="t" r="r" b="b"/>
            <a:pathLst>
              <a:path w="412" h="324">
                <a:moveTo>
                  <a:pt x="6" y="66"/>
                </a:moveTo>
                <a:lnTo>
                  <a:pt x="94" y="72"/>
                </a:lnTo>
                <a:lnTo>
                  <a:pt x="168" y="66"/>
                </a:lnTo>
                <a:lnTo>
                  <a:pt x="248" y="40"/>
                </a:lnTo>
                <a:lnTo>
                  <a:pt x="307" y="0"/>
                </a:lnTo>
                <a:lnTo>
                  <a:pt x="347" y="0"/>
                </a:lnTo>
                <a:lnTo>
                  <a:pt x="396" y="54"/>
                </a:lnTo>
                <a:lnTo>
                  <a:pt x="412" y="122"/>
                </a:lnTo>
                <a:lnTo>
                  <a:pt x="412" y="218"/>
                </a:lnTo>
                <a:lnTo>
                  <a:pt x="399" y="268"/>
                </a:lnTo>
                <a:lnTo>
                  <a:pt x="355" y="318"/>
                </a:lnTo>
                <a:lnTo>
                  <a:pt x="275" y="324"/>
                </a:lnTo>
                <a:lnTo>
                  <a:pt x="195" y="294"/>
                </a:lnTo>
                <a:lnTo>
                  <a:pt x="113" y="253"/>
                </a:lnTo>
                <a:lnTo>
                  <a:pt x="48" y="203"/>
                </a:lnTo>
                <a:lnTo>
                  <a:pt x="9" y="155"/>
                </a:lnTo>
                <a:lnTo>
                  <a:pt x="0" y="122"/>
                </a:lnTo>
                <a:lnTo>
                  <a:pt x="6" y="66"/>
                </a:lnTo>
                <a:lnTo>
                  <a:pt x="6" y="66"/>
                </a:lnTo>
                <a:lnTo>
                  <a:pt x="6" y="6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70"/>
          <p:cNvSpPr/>
          <p:nvPr/>
        </p:nvSpPr>
        <p:spPr>
          <a:xfrm>
            <a:off x="6100920" y="5962680"/>
            <a:ext cx="642960" cy="297000"/>
          </a:xfrm>
          <a:custGeom>
            <a:avLst/>
            <a:gdLst>
              <a:gd name="textAreaLeft" fmla="*/ 0 w 642960"/>
              <a:gd name="textAreaRight" fmla="*/ 643320 w 6429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405" h="187">
                <a:moveTo>
                  <a:pt x="23" y="116"/>
                </a:moveTo>
                <a:lnTo>
                  <a:pt x="63" y="159"/>
                </a:lnTo>
                <a:lnTo>
                  <a:pt x="128" y="187"/>
                </a:lnTo>
                <a:lnTo>
                  <a:pt x="193" y="187"/>
                </a:lnTo>
                <a:lnTo>
                  <a:pt x="267" y="172"/>
                </a:lnTo>
                <a:lnTo>
                  <a:pt x="322" y="130"/>
                </a:lnTo>
                <a:lnTo>
                  <a:pt x="387" y="65"/>
                </a:lnTo>
                <a:lnTo>
                  <a:pt x="405" y="17"/>
                </a:lnTo>
                <a:lnTo>
                  <a:pt x="355" y="0"/>
                </a:lnTo>
                <a:lnTo>
                  <a:pt x="294" y="24"/>
                </a:lnTo>
                <a:lnTo>
                  <a:pt x="219" y="71"/>
                </a:lnTo>
                <a:lnTo>
                  <a:pt x="139" y="94"/>
                </a:lnTo>
                <a:lnTo>
                  <a:pt x="65" y="89"/>
                </a:lnTo>
                <a:lnTo>
                  <a:pt x="0" y="83"/>
                </a:lnTo>
                <a:lnTo>
                  <a:pt x="23" y="116"/>
                </a:lnTo>
                <a:lnTo>
                  <a:pt x="23" y="116"/>
                </a:lnTo>
                <a:lnTo>
                  <a:pt x="23" y="11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71"/>
          <p:cNvSpPr/>
          <p:nvPr/>
        </p:nvSpPr>
        <p:spPr>
          <a:xfrm>
            <a:off x="5916600" y="5369040"/>
            <a:ext cx="258840" cy="112680"/>
          </a:xfrm>
          <a:custGeom>
            <a:avLst/>
            <a:gdLst>
              <a:gd name="textAreaLeft" fmla="*/ 0 w 258840"/>
              <a:gd name="textAreaRight" fmla="*/ 259200 w 258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63" h="71">
                <a:moveTo>
                  <a:pt x="9" y="71"/>
                </a:moveTo>
                <a:lnTo>
                  <a:pt x="98" y="39"/>
                </a:lnTo>
                <a:lnTo>
                  <a:pt x="163" y="24"/>
                </a:lnTo>
                <a:lnTo>
                  <a:pt x="107" y="0"/>
                </a:lnTo>
                <a:lnTo>
                  <a:pt x="51" y="0"/>
                </a:lnTo>
                <a:lnTo>
                  <a:pt x="0" y="39"/>
                </a:lnTo>
                <a:lnTo>
                  <a:pt x="9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72"/>
          <p:cNvSpPr/>
          <p:nvPr/>
        </p:nvSpPr>
        <p:spPr>
          <a:xfrm>
            <a:off x="5245200" y="4437000"/>
            <a:ext cx="236520" cy="163440"/>
          </a:xfrm>
          <a:custGeom>
            <a:avLst/>
            <a:gdLst>
              <a:gd name="textAreaLeft" fmla="*/ 0 w 236520"/>
              <a:gd name="textAreaRight" fmla="*/ 236880 w 2365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49" h="103">
                <a:moveTo>
                  <a:pt x="0" y="86"/>
                </a:moveTo>
                <a:lnTo>
                  <a:pt x="0" y="56"/>
                </a:lnTo>
                <a:lnTo>
                  <a:pt x="23" y="24"/>
                </a:lnTo>
                <a:lnTo>
                  <a:pt x="70" y="0"/>
                </a:lnTo>
                <a:lnTo>
                  <a:pt x="121" y="6"/>
                </a:lnTo>
                <a:lnTo>
                  <a:pt x="149" y="24"/>
                </a:lnTo>
                <a:lnTo>
                  <a:pt x="56" y="65"/>
                </a:lnTo>
                <a:lnTo>
                  <a:pt x="5" y="103"/>
                </a:lnTo>
                <a:lnTo>
                  <a:pt x="0" y="86"/>
                </a:lnTo>
                <a:lnTo>
                  <a:pt x="0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73"/>
          <p:cNvSpPr/>
          <p:nvPr/>
        </p:nvSpPr>
        <p:spPr>
          <a:xfrm>
            <a:off x="324000" y="6480"/>
            <a:ext cx="5500440" cy="3771720"/>
          </a:xfrm>
          <a:custGeom>
            <a:avLst/>
            <a:gdLst>
              <a:gd name="textAreaLeft" fmla="*/ 0 w 5500440"/>
              <a:gd name="textAreaRight" fmla="*/ 5500440 w 5500440"/>
              <a:gd name="textAreaTop" fmla="*/ 0 h 3771720"/>
              <a:gd name="textAreaBottom" fmla="*/ 3772080 h 3771720"/>
            </a:gdLst>
            <a:ahLst/>
            <a:rect l="textAreaLeft" t="textAreaTop" r="textAreaRight" b="textAreaBottom"/>
            <a:pathLst>
              <a:path w="3465" h="2376">
                <a:moveTo>
                  <a:pt x="2943" y="2376"/>
                </a:moveTo>
                <a:lnTo>
                  <a:pt x="2881" y="2327"/>
                </a:lnTo>
                <a:lnTo>
                  <a:pt x="2819" y="2256"/>
                </a:lnTo>
                <a:lnTo>
                  <a:pt x="2777" y="2194"/>
                </a:lnTo>
                <a:lnTo>
                  <a:pt x="2747" y="2126"/>
                </a:lnTo>
                <a:lnTo>
                  <a:pt x="2735" y="2079"/>
                </a:lnTo>
                <a:lnTo>
                  <a:pt x="2729" y="2044"/>
                </a:lnTo>
                <a:lnTo>
                  <a:pt x="2739" y="2032"/>
                </a:lnTo>
                <a:lnTo>
                  <a:pt x="2752" y="2017"/>
                </a:lnTo>
                <a:lnTo>
                  <a:pt x="2889" y="1948"/>
                </a:lnTo>
                <a:lnTo>
                  <a:pt x="3020" y="1859"/>
                </a:lnTo>
                <a:lnTo>
                  <a:pt x="3163" y="1744"/>
                </a:lnTo>
                <a:lnTo>
                  <a:pt x="3262" y="1638"/>
                </a:lnTo>
                <a:lnTo>
                  <a:pt x="3350" y="1512"/>
                </a:lnTo>
                <a:lnTo>
                  <a:pt x="3403" y="1408"/>
                </a:lnTo>
                <a:lnTo>
                  <a:pt x="3443" y="1267"/>
                </a:lnTo>
                <a:lnTo>
                  <a:pt x="3465" y="1115"/>
                </a:lnTo>
                <a:lnTo>
                  <a:pt x="3459" y="1028"/>
                </a:lnTo>
                <a:lnTo>
                  <a:pt x="3437" y="929"/>
                </a:lnTo>
                <a:lnTo>
                  <a:pt x="3390" y="803"/>
                </a:lnTo>
                <a:lnTo>
                  <a:pt x="3329" y="694"/>
                </a:lnTo>
                <a:lnTo>
                  <a:pt x="3290" y="640"/>
                </a:lnTo>
                <a:lnTo>
                  <a:pt x="3193" y="512"/>
                </a:lnTo>
                <a:lnTo>
                  <a:pt x="3083" y="419"/>
                </a:lnTo>
                <a:lnTo>
                  <a:pt x="2893" y="292"/>
                </a:lnTo>
                <a:lnTo>
                  <a:pt x="2748" y="218"/>
                </a:lnTo>
                <a:lnTo>
                  <a:pt x="2593" y="151"/>
                </a:lnTo>
                <a:lnTo>
                  <a:pt x="2361" y="84"/>
                </a:lnTo>
                <a:lnTo>
                  <a:pt x="2087" y="29"/>
                </a:lnTo>
                <a:lnTo>
                  <a:pt x="1893" y="8"/>
                </a:lnTo>
                <a:lnTo>
                  <a:pt x="1738" y="0"/>
                </a:lnTo>
                <a:lnTo>
                  <a:pt x="1533" y="15"/>
                </a:lnTo>
                <a:lnTo>
                  <a:pt x="1289" y="43"/>
                </a:lnTo>
                <a:lnTo>
                  <a:pt x="1142" y="77"/>
                </a:lnTo>
                <a:lnTo>
                  <a:pt x="1000" y="108"/>
                </a:lnTo>
                <a:lnTo>
                  <a:pt x="910" y="136"/>
                </a:lnTo>
                <a:lnTo>
                  <a:pt x="797" y="182"/>
                </a:lnTo>
                <a:lnTo>
                  <a:pt x="721" y="215"/>
                </a:lnTo>
                <a:lnTo>
                  <a:pt x="628" y="265"/>
                </a:lnTo>
                <a:lnTo>
                  <a:pt x="519" y="326"/>
                </a:lnTo>
                <a:lnTo>
                  <a:pt x="430" y="385"/>
                </a:lnTo>
                <a:lnTo>
                  <a:pt x="315" y="487"/>
                </a:lnTo>
                <a:lnTo>
                  <a:pt x="204" y="608"/>
                </a:lnTo>
                <a:lnTo>
                  <a:pt x="123" y="710"/>
                </a:lnTo>
                <a:lnTo>
                  <a:pt x="58" y="834"/>
                </a:lnTo>
                <a:lnTo>
                  <a:pt x="21" y="971"/>
                </a:lnTo>
                <a:lnTo>
                  <a:pt x="0" y="1115"/>
                </a:lnTo>
                <a:lnTo>
                  <a:pt x="28" y="1308"/>
                </a:lnTo>
                <a:lnTo>
                  <a:pt x="73" y="1437"/>
                </a:lnTo>
                <a:lnTo>
                  <a:pt x="137" y="1553"/>
                </a:lnTo>
                <a:lnTo>
                  <a:pt x="195" y="1630"/>
                </a:lnTo>
                <a:lnTo>
                  <a:pt x="272" y="1713"/>
                </a:lnTo>
                <a:lnTo>
                  <a:pt x="344" y="1792"/>
                </a:lnTo>
                <a:lnTo>
                  <a:pt x="468" y="1878"/>
                </a:lnTo>
                <a:lnTo>
                  <a:pt x="597" y="1963"/>
                </a:lnTo>
                <a:lnTo>
                  <a:pt x="743" y="2037"/>
                </a:lnTo>
                <a:lnTo>
                  <a:pt x="912" y="2100"/>
                </a:lnTo>
                <a:lnTo>
                  <a:pt x="1107" y="2166"/>
                </a:lnTo>
                <a:lnTo>
                  <a:pt x="1299" y="2200"/>
                </a:lnTo>
                <a:lnTo>
                  <a:pt x="1607" y="2231"/>
                </a:lnTo>
                <a:lnTo>
                  <a:pt x="1886" y="2238"/>
                </a:lnTo>
                <a:lnTo>
                  <a:pt x="2020" y="2222"/>
                </a:lnTo>
                <a:lnTo>
                  <a:pt x="2162" y="2206"/>
                </a:lnTo>
                <a:lnTo>
                  <a:pt x="2310" y="2175"/>
                </a:lnTo>
                <a:lnTo>
                  <a:pt x="2453" y="2139"/>
                </a:lnTo>
                <a:lnTo>
                  <a:pt x="2567" y="2108"/>
                </a:lnTo>
                <a:lnTo>
                  <a:pt x="2576" y="2112"/>
                </a:lnTo>
                <a:lnTo>
                  <a:pt x="2625" y="2164"/>
                </a:lnTo>
                <a:lnTo>
                  <a:pt x="2672" y="2211"/>
                </a:lnTo>
                <a:lnTo>
                  <a:pt x="2747" y="2274"/>
                </a:lnTo>
                <a:lnTo>
                  <a:pt x="2797" y="2313"/>
                </a:lnTo>
                <a:lnTo>
                  <a:pt x="2873" y="2352"/>
                </a:lnTo>
                <a:lnTo>
                  <a:pt x="2916" y="2372"/>
                </a:lnTo>
                <a:lnTo>
                  <a:pt x="2943" y="2376"/>
                </a:lnTo>
                <a:close/>
              </a:path>
            </a:pathLst>
          </a:custGeom>
          <a:solidFill>
            <a:srgbClr val="ffffff"/>
          </a:solidFill>
          <a:ln w="13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74"/>
          <p:cNvSpPr/>
          <p:nvPr/>
        </p:nvSpPr>
        <p:spPr>
          <a:xfrm>
            <a:off x="1611360" y="558720"/>
            <a:ext cx="433224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amili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cupació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elig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Rectangle 3"/>
          <p:cNvSpPr/>
          <p:nvPr/>
        </p:nvSpPr>
        <p:spPr>
          <a:xfrm>
            <a:off x="-112680" y="155520"/>
            <a:ext cx="9894960" cy="6748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4"/>
          <p:cNvSpPr/>
          <p:nvPr/>
        </p:nvSpPr>
        <p:spPr>
          <a:xfrm>
            <a:off x="4932360" y="3059280"/>
            <a:ext cx="2573280" cy="3651120"/>
          </a:xfrm>
          <a:custGeom>
            <a:avLst/>
            <a:gdLst>
              <a:gd name="textAreaLeft" fmla="*/ 0 w 2573280"/>
              <a:gd name="textAreaRight" fmla="*/ 2573640 w 2573280"/>
              <a:gd name="textAreaTop" fmla="*/ 0 h 3651120"/>
              <a:gd name="textAreaBottom" fmla="*/ 3651480 h 3651120"/>
            </a:gdLst>
            <a:ahLst/>
            <a:rect l="textAreaLeft" t="textAreaTop" r="textAreaRight" b="textAreaBottom"/>
            <a:pathLst>
              <a:path w="1621" h="2300">
                <a:moveTo>
                  <a:pt x="980" y="0"/>
                </a:moveTo>
                <a:lnTo>
                  <a:pt x="721" y="24"/>
                </a:lnTo>
                <a:lnTo>
                  <a:pt x="279" y="210"/>
                </a:lnTo>
                <a:lnTo>
                  <a:pt x="125" y="687"/>
                </a:lnTo>
                <a:lnTo>
                  <a:pt x="0" y="1158"/>
                </a:lnTo>
                <a:lnTo>
                  <a:pt x="146" y="1755"/>
                </a:lnTo>
                <a:lnTo>
                  <a:pt x="683" y="2233"/>
                </a:lnTo>
                <a:lnTo>
                  <a:pt x="781" y="2300"/>
                </a:lnTo>
                <a:lnTo>
                  <a:pt x="989" y="2288"/>
                </a:lnTo>
                <a:lnTo>
                  <a:pt x="1144" y="2223"/>
                </a:lnTo>
                <a:lnTo>
                  <a:pt x="1248" y="2163"/>
                </a:lnTo>
                <a:lnTo>
                  <a:pt x="1352" y="2059"/>
                </a:lnTo>
                <a:lnTo>
                  <a:pt x="1450" y="1849"/>
                </a:lnTo>
                <a:lnTo>
                  <a:pt x="1621" y="1521"/>
                </a:lnTo>
                <a:lnTo>
                  <a:pt x="1548" y="792"/>
                </a:lnTo>
                <a:lnTo>
                  <a:pt x="1345" y="279"/>
                </a:lnTo>
                <a:lnTo>
                  <a:pt x="1154" y="65"/>
                </a:lnTo>
                <a:lnTo>
                  <a:pt x="980" y="0"/>
                </a:lnTo>
                <a:lnTo>
                  <a:pt x="980" y="0"/>
                </a:lnTo>
                <a:lnTo>
                  <a:pt x="980" y="0"/>
                </a:lnTo>
                <a:close/>
              </a:path>
            </a:pathLst>
          </a:custGeom>
          <a:solidFill>
            <a:srgbClr val="ffd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5"/>
          <p:cNvSpPr/>
          <p:nvPr/>
        </p:nvSpPr>
        <p:spPr>
          <a:xfrm>
            <a:off x="6426360" y="4305240"/>
            <a:ext cx="512640" cy="192240"/>
          </a:xfrm>
          <a:custGeom>
            <a:avLst/>
            <a:gdLst>
              <a:gd name="textAreaLeft" fmla="*/ 0 w 512640"/>
              <a:gd name="textAreaRight" fmla="*/ 513000 w 5126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23" h="121">
                <a:moveTo>
                  <a:pt x="0" y="104"/>
                </a:moveTo>
                <a:lnTo>
                  <a:pt x="69" y="40"/>
                </a:lnTo>
                <a:lnTo>
                  <a:pt x="130" y="10"/>
                </a:lnTo>
                <a:lnTo>
                  <a:pt x="227" y="0"/>
                </a:lnTo>
                <a:lnTo>
                  <a:pt x="323" y="60"/>
                </a:lnTo>
                <a:lnTo>
                  <a:pt x="227" y="113"/>
                </a:lnTo>
                <a:lnTo>
                  <a:pt x="117" y="121"/>
                </a:lnTo>
                <a:lnTo>
                  <a:pt x="49" y="119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6"/>
          <p:cNvSpPr/>
          <p:nvPr/>
        </p:nvSpPr>
        <p:spPr>
          <a:xfrm>
            <a:off x="6591240" y="4330800"/>
            <a:ext cx="182520" cy="156960"/>
          </a:xfrm>
          <a:custGeom>
            <a:avLst/>
            <a:gdLst>
              <a:gd name="textAreaLeft" fmla="*/ 0 w 182520"/>
              <a:gd name="textAreaRight" fmla="*/ 182880 w 1825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15" h="99">
                <a:moveTo>
                  <a:pt x="6" y="0"/>
                </a:moveTo>
                <a:lnTo>
                  <a:pt x="0" y="54"/>
                </a:lnTo>
                <a:lnTo>
                  <a:pt x="22" y="84"/>
                </a:lnTo>
                <a:lnTo>
                  <a:pt x="54" y="99"/>
                </a:lnTo>
                <a:lnTo>
                  <a:pt x="90" y="88"/>
                </a:lnTo>
                <a:lnTo>
                  <a:pt x="115" y="61"/>
                </a:lnTo>
                <a:lnTo>
                  <a:pt x="113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7"/>
          <p:cNvSpPr/>
          <p:nvPr/>
        </p:nvSpPr>
        <p:spPr>
          <a:xfrm>
            <a:off x="5392800" y="4548240"/>
            <a:ext cx="406440" cy="158760"/>
          </a:xfrm>
          <a:custGeom>
            <a:avLst/>
            <a:gdLst>
              <a:gd name="textAreaLeft" fmla="*/ 0 w 406440"/>
              <a:gd name="textAreaRight" fmla="*/ 406800 w 4064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56" h="100">
                <a:moveTo>
                  <a:pt x="0" y="75"/>
                </a:moveTo>
                <a:lnTo>
                  <a:pt x="66" y="7"/>
                </a:lnTo>
                <a:lnTo>
                  <a:pt x="179" y="0"/>
                </a:lnTo>
                <a:lnTo>
                  <a:pt x="256" y="28"/>
                </a:lnTo>
                <a:lnTo>
                  <a:pt x="250" y="51"/>
                </a:lnTo>
                <a:lnTo>
                  <a:pt x="171" y="82"/>
                </a:lnTo>
                <a:lnTo>
                  <a:pt x="74" y="100"/>
                </a:lnTo>
                <a:lnTo>
                  <a:pt x="16" y="98"/>
                </a:lnTo>
                <a:lnTo>
                  <a:pt x="0" y="75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8"/>
          <p:cNvSpPr/>
          <p:nvPr/>
        </p:nvSpPr>
        <p:spPr>
          <a:xfrm>
            <a:off x="5491080" y="4557600"/>
            <a:ext cx="204840" cy="139680"/>
          </a:xfrm>
          <a:custGeom>
            <a:avLst/>
            <a:gdLst>
              <a:gd name="textAreaLeft" fmla="*/ 0 w 204840"/>
              <a:gd name="textAreaRight" fmla="*/ 205200 w 204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9" h="88">
                <a:moveTo>
                  <a:pt x="0" y="7"/>
                </a:moveTo>
                <a:lnTo>
                  <a:pt x="10" y="60"/>
                </a:lnTo>
                <a:lnTo>
                  <a:pt x="27" y="76"/>
                </a:lnTo>
                <a:lnTo>
                  <a:pt x="81" y="88"/>
                </a:lnTo>
                <a:lnTo>
                  <a:pt x="119" y="54"/>
                </a:lnTo>
                <a:lnTo>
                  <a:pt x="129" y="13"/>
                </a:lnTo>
                <a:lnTo>
                  <a:pt x="109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9"/>
          <p:cNvSpPr/>
          <p:nvPr/>
        </p:nvSpPr>
        <p:spPr>
          <a:xfrm>
            <a:off x="5857920" y="5425920"/>
            <a:ext cx="920880" cy="327240"/>
          </a:xfrm>
          <a:custGeom>
            <a:avLst/>
            <a:gdLst>
              <a:gd name="textAreaLeft" fmla="*/ 0 w 920880"/>
              <a:gd name="textAreaRight" fmla="*/ 921240 w 9208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580" h="206">
                <a:moveTo>
                  <a:pt x="0" y="91"/>
                </a:moveTo>
                <a:lnTo>
                  <a:pt x="37" y="77"/>
                </a:lnTo>
                <a:lnTo>
                  <a:pt x="198" y="61"/>
                </a:lnTo>
                <a:lnTo>
                  <a:pt x="284" y="58"/>
                </a:lnTo>
                <a:lnTo>
                  <a:pt x="480" y="2"/>
                </a:lnTo>
                <a:lnTo>
                  <a:pt x="580" y="0"/>
                </a:lnTo>
                <a:lnTo>
                  <a:pt x="562" y="79"/>
                </a:lnTo>
                <a:lnTo>
                  <a:pt x="455" y="163"/>
                </a:lnTo>
                <a:lnTo>
                  <a:pt x="243" y="206"/>
                </a:lnTo>
                <a:lnTo>
                  <a:pt x="137" y="190"/>
                </a:lnTo>
                <a:lnTo>
                  <a:pt x="102" y="179"/>
                </a:lnTo>
                <a:lnTo>
                  <a:pt x="52" y="147"/>
                </a:lnTo>
                <a:lnTo>
                  <a:pt x="31" y="116"/>
                </a:lnTo>
                <a:lnTo>
                  <a:pt x="0" y="91"/>
                </a:lnTo>
                <a:lnTo>
                  <a:pt x="0" y="91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0"/>
          <p:cNvSpPr/>
          <p:nvPr/>
        </p:nvSpPr>
        <p:spPr>
          <a:xfrm>
            <a:off x="5808600" y="5400720"/>
            <a:ext cx="698400" cy="182520"/>
          </a:xfrm>
          <a:custGeom>
            <a:avLst/>
            <a:gdLst>
              <a:gd name="textAreaLeft" fmla="*/ 0 w 698400"/>
              <a:gd name="textAreaRight" fmla="*/ 698760 w 6984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40" h="115">
                <a:moveTo>
                  <a:pt x="0" y="115"/>
                </a:moveTo>
                <a:lnTo>
                  <a:pt x="79" y="79"/>
                </a:lnTo>
                <a:lnTo>
                  <a:pt x="136" y="67"/>
                </a:lnTo>
                <a:lnTo>
                  <a:pt x="166" y="56"/>
                </a:lnTo>
                <a:lnTo>
                  <a:pt x="200" y="34"/>
                </a:lnTo>
                <a:lnTo>
                  <a:pt x="320" y="20"/>
                </a:lnTo>
                <a:lnTo>
                  <a:pt x="440" y="0"/>
                </a:lnTo>
                <a:lnTo>
                  <a:pt x="411" y="54"/>
                </a:lnTo>
                <a:lnTo>
                  <a:pt x="293" y="77"/>
                </a:lnTo>
                <a:lnTo>
                  <a:pt x="136" y="84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"/>
          <p:cNvSpPr/>
          <p:nvPr/>
        </p:nvSpPr>
        <p:spPr>
          <a:xfrm>
            <a:off x="5931000" y="5649840"/>
            <a:ext cx="669960" cy="173160"/>
          </a:xfrm>
          <a:custGeom>
            <a:avLst/>
            <a:gdLst/>
            <a:ahLst/>
            <a:rect l="l" t="t" r="r" b="b"/>
            <a:pathLst>
              <a:path w="422" h="109">
                <a:moveTo>
                  <a:pt x="0" y="0"/>
                </a:moveTo>
                <a:lnTo>
                  <a:pt x="77" y="45"/>
                </a:lnTo>
                <a:lnTo>
                  <a:pt x="196" y="59"/>
                </a:lnTo>
                <a:lnTo>
                  <a:pt x="328" y="40"/>
                </a:lnTo>
                <a:lnTo>
                  <a:pt x="408" y="11"/>
                </a:lnTo>
                <a:lnTo>
                  <a:pt x="422" y="55"/>
                </a:lnTo>
                <a:lnTo>
                  <a:pt x="375" y="88"/>
                </a:lnTo>
                <a:lnTo>
                  <a:pt x="311" y="109"/>
                </a:lnTo>
                <a:lnTo>
                  <a:pt x="341" y="78"/>
                </a:lnTo>
                <a:lnTo>
                  <a:pt x="330" y="68"/>
                </a:lnTo>
                <a:lnTo>
                  <a:pt x="278" y="73"/>
                </a:lnTo>
                <a:lnTo>
                  <a:pt x="199" y="84"/>
                </a:lnTo>
                <a:lnTo>
                  <a:pt x="143" y="81"/>
                </a:lnTo>
                <a:lnTo>
                  <a:pt x="91" y="70"/>
                </a:lnTo>
                <a:lnTo>
                  <a:pt x="48" y="4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2"/>
          <p:cNvSpPr/>
          <p:nvPr/>
        </p:nvSpPr>
        <p:spPr>
          <a:xfrm>
            <a:off x="6719760" y="5460840"/>
            <a:ext cx="111240" cy="130320"/>
          </a:xfrm>
          <a:custGeom>
            <a:avLst/>
            <a:gdLst>
              <a:gd name="textAreaLeft" fmla="*/ 0 w 111240"/>
              <a:gd name="textAreaRight" fmla="*/ 111600 w 1112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70" h="82">
                <a:moveTo>
                  <a:pt x="47" y="7"/>
                </a:moveTo>
                <a:lnTo>
                  <a:pt x="0" y="80"/>
                </a:lnTo>
                <a:lnTo>
                  <a:pt x="34" y="82"/>
                </a:lnTo>
                <a:lnTo>
                  <a:pt x="65" y="39"/>
                </a:lnTo>
                <a:lnTo>
                  <a:pt x="70" y="0"/>
                </a:lnTo>
                <a:lnTo>
                  <a:pt x="47" y="7"/>
                </a:lnTo>
                <a:lnTo>
                  <a:pt x="47" y="7"/>
                </a:lnTo>
                <a:lnTo>
                  <a:pt x="47" y="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3"/>
          <p:cNvSpPr/>
          <p:nvPr/>
        </p:nvSpPr>
        <p:spPr>
          <a:xfrm>
            <a:off x="5565600" y="5083200"/>
            <a:ext cx="317520" cy="584280"/>
          </a:xfrm>
          <a:custGeom>
            <a:avLst/>
            <a:gdLst>
              <a:gd name="textAreaLeft" fmla="*/ 0 w 317520"/>
              <a:gd name="textAreaRight" fmla="*/ 317880 w 31752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200" h="368">
                <a:moveTo>
                  <a:pt x="38" y="368"/>
                </a:moveTo>
                <a:lnTo>
                  <a:pt x="13" y="320"/>
                </a:lnTo>
                <a:lnTo>
                  <a:pt x="0" y="261"/>
                </a:lnTo>
                <a:lnTo>
                  <a:pt x="18" y="204"/>
                </a:lnTo>
                <a:lnTo>
                  <a:pt x="42" y="171"/>
                </a:lnTo>
                <a:lnTo>
                  <a:pt x="76" y="143"/>
                </a:lnTo>
                <a:lnTo>
                  <a:pt x="108" y="111"/>
                </a:lnTo>
                <a:lnTo>
                  <a:pt x="145" y="68"/>
                </a:lnTo>
                <a:lnTo>
                  <a:pt x="200" y="0"/>
                </a:lnTo>
                <a:lnTo>
                  <a:pt x="130" y="140"/>
                </a:lnTo>
                <a:lnTo>
                  <a:pt x="48" y="249"/>
                </a:lnTo>
                <a:lnTo>
                  <a:pt x="38" y="368"/>
                </a:lnTo>
                <a:lnTo>
                  <a:pt x="38" y="368"/>
                </a:lnTo>
                <a:lnTo>
                  <a:pt x="38" y="368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4"/>
          <p:cNvSpPr/>
          <p:nvPr/>
        </p:nvSpPr>
        <p:spPr>
          <a:xfrm>
            <a:off x="6676920" y="5078520"/>
            <a:ext cx="373320" cy="322200"/>
          </a:xfrm>
          <a:custGeom>
            <a:avLst/>
            <a:gdLst>
              <a:gd name="textAreaLeft" fmla="*/ 0 w 373320"/>
              <a:gd name="textAreaRight" fmla="*/ 373680 w 3733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35" h="203">
                <a:moveTo>
                  <a:pt x="0" y="0"/>
                </a:moveTo>
                <a:lnTo>
                  <a:pt x="67" y="29"/>
                </a:lnTo>
                <a:lnTo>
                  <a:pt x="120" y="56"/>
                </a:lnTo>
                <a:lnTo>
                  <a:pt x="184" y="81"/>
                </a:lnTo>
                <a:lnTo>
                  <a:pt x="229" y="116"/>
                </a:lnTo>
                <a:lnTo>
                  <a:pt x="235" y="158"/>
                </a:lnTo>
                <a:lnTo>
                  <a:pt x="208" y="203"/>
                </a:lnTo>
                <a:lnTo>
                  <a:pt x="189" y="135"/>
                </a:lnTo>
                <a:lnTo>
                  <a:pt x="110" y="86"/>
                </a:lnTo>
                <a:lnTo>
                  <a:pt x="56" y="59"/>
                </a:lnTo>
                <a:lnTo>
                  <a:pt x="11" y="1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5"/>
          <p:cNvSpPr/>
          <p:nvPr/>
        </p:nvSpPr>
        <p:spPr>
          <a:xfrm>
            <a:off x="6119640" y="4262400"/>
            <a:ext cx="544680" cy="1000080"/>
          </a:xfrm>
          <a:custGeom>
            <a:avLst/>
            <a:gdLst>
              <a:gd name="textAreaLeft" fmla="*/ 0 w 544680"/>
              <a:gd name="textAreaRight" fmla="*/ 545040 w 5446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43" h="630">
                <a:moveTo>
                  <a:pt x="294" y="0"/>
                </a:moveTo>
                <a:lnTo>
                  <a:pt x="251" y="0"/>
                </a:lnTo>
                <a:lnTo>
                  <a:pt x="215" y="25"/>
                </a:lnTo>
                <a:lnTo>
                  <a:pt x="186" y="63"/>
                </a:lnTo>
                <a:lnTo>
                  <a:pt x="167" y="75"/>
                </a:lnTo>
                <a:lnTo>
                  <a:pt x="147" y="64"/>
                </a:lnTo>
                <a:lnTo>
                  <a:pt x="128" y="34"/>
                </a:lnTo>
                <a:lnTo>
                  <a:pt x="102" y="75"/>
                </a:lnTo>
                <a:lnTo>
                  <a:pt x="72" y="146"/>
                </a:lnTo>
                <a:lnTo>
                  <a:pt x="60" y="215"/>
                </a:lnTo>
                <a:lnTo>
                  <a:pt x="68" y="324"/>
                </a:lnTo>
                <a:lnTo>
                  <a:pt x="114" y="467"/>
                </a:lnTo>
                <a:lnTo>
                  <a:pt x="140" y="521"/>
                </a:lnTo>
                <a:lnTo>
                  <a:pt x="189" y="470"/>
                </a:lnTo>
                <a:lnTo>
                  <a:pt x="215" y="464"/>
                </a:lnTo>
                <a:lnTo>
                  <a:pt x="241" y="472"/>
                </a:lnTo>
                <a:lnTo>
                  <a:pt x="260" y="503"/>
                </a:lnTo>
                <a:lnTo>
                  <a:pt x="258" y="532"/>
                </a:lnTo>
                <a:lnTo>
                  <a:pt x="230" y="543"/>
                </a:lnTo>
                <a:lnTo>
                  <a:pt x="143" y="551"/>
                </a:lnTo>
                <a:lnTo>
                  <a:pt x="105" y="581"/>
                </a:lnTo>
                <a:lnTo>
                  <a:pt x="59" y="609"/>
                </a:lnTo>
                <a:lnTo>
                  <a:pt x="0" y="619"/>
                </a:lnTo>
                <a:lnTo>
                  <a:pt x="42" y="630"/>
                </a:lnTo>
                <a:lnTo>
                  <a:pt x="111" y="630"/>
                </a:lnTo>
                <a:lnTo>
                  <a:pt x="213" y="598"/>
                </a:lnTo>
                <a:lnTo>
                  <a:pt x="276" y="598"/>
                </a:lnTo>
                <a:lnTo>
                  <a:pt x="325" y="579"/>
                </a:lnTo>
                <a:lnTo>
                  <a:pt x="343" y="545"/>
                </a:lnTo>
                <a:lnTo>
                  <a:pt x="343" y="491"/>
                </a:lnTo>
                <a:lnTo>
                  <a:pt x="284" y="420"/>
                </a:lnTo>
                <a:lnTo>
                  <a:pt x="219" y="333"/>
                </a:lnTo>
                <a:lnTo>
                  <a:pt x="186" y="219"/>
                </a:lnTo>
                <a:lnTo>
                  <a:pt x="213" y="146"/>
                </a:lnTo>
                <a:lnTo>
                  <a:pt x="197" y="128"/>
                </a:lnTo>
                <a:lnTo>
                  <a:pt x="234" y="78"/>
                </a:lnTo>
                <a:lnTo>
                  <a:pt x="219" y="76"/>
                </a:lnTo>
                <a:lnTo>
                  <a:pt x="251" y="30"/>
                </a:lnTo>
                <a:lnTo>
                  <a:pt x="294" y="0"/>
                </a:lnTo>
                <a:lnTo>
                  <a:pt x="294" y="0"/>
                </a:lnTo>
                <a:lnTo>
                  <a:pt x="294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6"/>
          <p:cNvSpPr/>
          <p:nvPr/>
        </p:nvSpPr>
        <p:spPr>
          <a:xfrm>
            <a:off x="4983120" y="3268800"/>
            <a:ext cx="1836720" cy="342252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157" h="2156">
                <a:moveTo>
                  <a:pt x="602" y="0"/>
                </a:moveTo>
                <a:lnTo>
                  <a:pt x="410" y="161"/>
                </a:lnTo>
                <a:lnTo>
                  <a:pt x="355" y="307"/>
                </a:lnTo>
                <a:lnTo>
                  <a:pt x="296" y="478"/>
                </a:lnTo>
                <a:lnTo>
                  <a:pt x="288" y="569"/>
                </a:lnTo>
                <a:lnTo>
                  <a:pt x="379" y="653"/>
                </a:lnTo>
                <a:lnTo>
                  <a:pt x="219" y="709"/>
                </a:lnTo>
                <a:lnTo>
                  <a:pt x="142" y="775"/>
                </a:lnTo>
                <a:lnTo>
                  <a:pt x="125" y="845"/>
                </a:lnTo>
                <a:lnTo>
                  <a:pt x="188" y="876"/>
                </a:lnTo>
                <a:lnTo>
                  <a:pt x="257" y="911"/>
                </a:lnTo>
                <a:lnTo>
                  <a:pt x="136" y="939"/>
                </a:lnTo>
                <a:lnTo>
                  <a:pt x="103" y="1005"/>
                </a:lnTo>
                <a:lnTo>
                  <a:pt x="121" y="1183"/>
                </a:lnTo>
                <a:lnTo>
                  <a:pt x="190" y="1399"/>
                </a:lnTo>
                <a:lnTo>
                  <a:pt x="265" y="1529"/>
                </a:lnTo>
                <a:lnTo>
                  <a:pt x="355" y="1650"/>
                </a:lnTo>
                <a:lnTo>
                  <a:pt x="470" y="1756"/>
                </a:lnTo>
                <a:lnTo>
                  <a:pt x="584" y="1842"/>
                </a:lnTo>
                <a:lnTo>
                  <a:pt x="794" y="1923"/>
                </a:lnTo>
                <a:lnTo>
                  <a:pt x="938" y="1927"/>
                </a:lnTo>
                <a:lnTo>
                  <a:pt x="1051" y="1905"/>
                </a:lnTo>
                <a:lnTo>
                  <a:pt x="1157" y="1868"/>
                </a:lnTo>
                <a:lnTo>
                  <a:pt x="1034" y="1934"/>
                </a:lnTo>
                <a:lnTo>
                  <a:pt x="853" y="1961"/>
                </a:lnTo>
                <a:lnTo>
                  <a:pt x="717" y="1982"/>
                </a:lnTo>
                <a:lnTo>
                  <a:pt x="763" y="2156"/>
                </a:lnTo>
                <a:lnTo>
                  <a:pt x="686" y="2142"/>
                </a:lnTo>
                <a:lnTo>
                  <a:pt x="278" y="1752"/>
                </a:lnTo>
                <a:lnTo>
                  <a:pt x="0" y="1291"/>
                </a:lnTo>
                <a:lnTo>
                  <a:pt x="45" y="604"/>
                </a:lnTo>
                <a:lnTo>
                  <a:pt x="314" y="42"/>
                </a:lnTo>
                <a:lnTo>
                  <a:pt x="602" y="0"/>
                </a:lnTo>
                <a:lnTo>
                  <a:pt x="602" y="0"/>
                </a:lnTo>
                <a:lnTo>
                  <a:pt x="602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7"/>
          <p:cNvSpPr/>
          <p:nvPr/>
        </p:nvSpPr>
        <p:spPr>
          <a:xfrm>
            <a:off x="5896080" y="3041640"/>
            <a:ext cx="1625400" cy="327348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3273480"/>
              <a:gd name="textAreaBottom" fmla="*/ 3273840 h 3273480"/>
            </a:gdLst>
            <a:ahLst/>
            <a:rect l="textAreaLeft" t="textAreaTop" r="textAreaRight" b="textAreaBottom"/>
            <a:pathLst>
              <a:path w="1024" h="2062">
                <a:moveTo>
                  <a:pt x="66" y="115"/>
                </a:moveTo>
                <a:lnTo>
                  <a:pt x="225" y="109"/>
                </a:lnTo>
                <a:lnTo>
                  <a:pt x="341" y="125"/>
                </a:lnTo>
                <a:lnTo>
                  <a:pt x="439" y="172"/>
                </a:lnTo>
                <a:lnTo>
                  <a:pt x="515" y="221"/>
                </a:lnTo>
                <a:lnTo>
                  <a:pt x="582" y="325"/>
                </a:lnTo>
                <a:lnTo>
                  <a:pt x="620" y="440"/>
                </a:lnTo>
                <a:lnTo>
                  <a:pt x="651" y="576"/>
                </a:lnTo>
                <a:lnTo>
                  <a:pt x="658" y="642"/>
                </a:lnTo>
                <a:lnTo>
                  <a:pt x="557" y="646"/>
                </a:lnTo>
                <a:lnTo>
                  <a:pt x="614" y="701"/>
                </a:lnTo>
                <a:lnTo>
                  <a:pt x="565" y="729"/>
                </a:lnTo>
                <a:lnTo>
                  <a:pt x="480" y="750"/>
                </a:lnTo>
                <a:lnTo>
                  <a:pt x="519" y="796"/>
                </a:lnTo>
                <a:lnTo>
                  <a:pt x="679" y="862"/>
                </a:lnTo>
                <a:lnTo>
                  <a:pt x="755" y="856"/>
                </a:lnTo>
                <a:lnTo>
                  <a:pt x="802" y="921"/>
                </a:lnTo>
                <a:lnTo>
                  <a:pt x="832" y="1027"/>
                </a:lnTo>
                <a:lnTo>
                  <a:pt x="843" y="1201"/>
                </a:lnTo>
                <a:lnTo>
                  <a:pt x="832" y="1372"/>
                </a:lnTo>
                <a:lnTo>
                  <a:pt x="832" y="1532"/>
                </a:lnTo>
                <a:lnTo>
                  <a:pt x="794" y="1654"/>
                </a:lnTo>
                <a:lnTo>
                  <a:pt x="661" y="1871"/>
                </a:lnTo>
                <a:lnTo>
                  <a:pt x="565" y="1962"/>
                </a:lnTo>
                <a:lnTo>
                  <a:pt x="442" y="2062"/>
                </a:lnTo>
                <a:lnTo>
                  <a:pt x="543" y="2062"/>
                </a:lnTo>
                <a:lnTo>
                  <a:pt x="802" y="1888"/>
                </a:lnTo>
                <a:lnTo>
                  <a:pt x="1024" y="1609"/>
                </a:lnTo>
                <a:lnTo>
                  <a:pt x="996" y="1148"/>
                </a:lnTo>
                <a:lnTo>
                  <a:pt x="871" y="604"/>
                </a:lnTo>
                <a:lnTo>
                  <a:pt x="679" y="143"/>
                </a:lnTo>
                <a:lnTo>
                  <a:pt x="456" y="4"/>
                </a:lnTo>
                <a:lnTo>
                  <a:pt x="229" y="0"/>
                </a:lnTo>
                <a:lnTo>
                  <a:pt x="0" y="60"/>
                </a:lnTo>
                <a:lnTo>
                  <a:pt x="66" y="115"/>
                </a:lnTo>
                <a:lnTo>
                  <a:pt x="66" y="115"/>
                </a:lnTo>
                <a:lnTo>
                  <a:pt x="66" y="115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8"/>
          <p:cNvSpPr/>
          <p:nvPr/>
        </p:nvSpPr>
        <p:spPr>
          <a:xfrm>
            <a:off x="7327800" y="3441600"/>
            <a:ext cx="1702080" cy="3203640"/>
          </a:xfrm>
          <a:custGeom>
            <a:avLst/>
            <a:gdLst>
              <a:gd name="textAreaLeft" fmla="*/ 0 w 1702080"/>
              <a:gd name="textAreaRight" fmla="*/ 1702440 w 170208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1072" h="2018">
                <a:moveTo>
                  <a:pt x="94" y="0"/>
                </a:moveTo>
                <a:lnTo>
                  <a:pt x="496" y="168"/>
                </a:lnTo>
                <a:lnTo>
                  <a:pt x="595" y="331"/>
                </a:lnTo>
                <a:lnTo>
                  <a:pt x="700" y="461"/>
                </a:lnTo>
                <a:lnTo>
                  <a:pt x="635" y="489"/>
                </a:lnTo>
                <a:lnTo>
                  <a:pt x="706" y="641"/>
                </a:lnTo>
                <a:lnTo>
                  <a:pt x="926" y="798"/>
                </a:lnTo>
                <a:lnTo>
                  <a:pt x="1061" y="1008"/>
                </a:lnTo>
                <a:lnTo>
                  <a:pt x="1072" y="1277"/>
                </a:lnTo>
                <a:lnTo>
                  <a:pt x="898" y="1697"/>
                </a:lnTo>
                <a:lnTo>
                  <a:pt x="973" y="2006"/>
                </a:lnTo>
                <a:lnTo>
                  <a:pt x="851" y="2018"/>
                </a:lnTo>
                <a:lnTo>
                  <a:pt x="688" y="1953"/>
                </a:lnTo>
                <a:lnTo>
                  <a:pt x="548" y="1825"/>
                </a:lnTo>
                <a:lnTo>
                  <a:pt x="36" y="1744"/>
                </a:lnTo>
                <a:lnTo>
                  <a:pt x="0" y="1633"/>
                </a:lnTo>
                <a:lnTo>
                  <a:pt x="82" y="1259"/>
                </a:lnTo>
                <a:lnTo>
                  <a:pt x="46" y="926"/>
                </a:lnTo>
                <a:lnTo>
                  <a:pt x="46" y="349"/>
                </a:lnTo>
                <a:lnTo>
                  <a:pt x="94" y="0"/>
                </a:lnTo>
                <a:lnTo>
                  <a:pt x="94" y="0"/>
                </a:lnTo>
                <a:lnTo>
                  <a:pt x="94" y="0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9"/>
          <p:cNvSpPr/>
          <p:nvPr/>
        </p:nvSpPr>
        <p:spPr>
          <a:xfrm>
            <a:off x="3768840" y="2347920"/>
            <a:ext cx="3384360" cy="432288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4322880"/>
              <a:gd name="textAreaBottom" fmla="*/ 4323240 h 4322880"/>
            </a:gdLst>
            <a:ahLst/>
            <a:rect l="textAreaLeft" t="textAreaTop" r="textAreaRight" b="textAreaBottom"/>
            <a:pathLst>
              <a:path w="2132" h="2723">
                <a:moveTo>
                  <a:pt x="302" y="992"/>
                </a:moveTo>
                <a:lnTo>
                  <a:pt x="634" y="321"/>
                </a:lnTo>
                <a:lnTo>
                  <a:pt x="850" y="204"/>
                </a:lnTo>
                <a:lnTo>
                  <a:pt x="1357" y="0"/>
                </a:lnTo>
                <a:lnTo>
                  <a:pt x="1829" y="12"/>
                </a:lnTo>
                <a:lnTo>
                  <a:pt x="2021" y="59"/>
                </a:lnTo>
                <a:lnTo>
                  <a:pt x="2109" y="176"/>
                </a:lnTo>
                <a:lnTo>
                  <a:pt x="2132" y="379"/>
                </a:lnTo>
                <a:lnTo>
                  <a:pt x="2067" y="624"/>
                </a:lnTo>
                <a:lnTo>
                  <a:pt x="1812" y="542"/>
                </a:lnTo>
                <a:lnTo>
                  <a:pt x="1683" y="449"/>
                </a:lnTo>
                <a:lnTo>
                  <a:pt x="1445" y="431"/>
                </a:lnTo>
                <a:lnTo>
                  <a:pt x="1106" y="619"/>
                </a:lnTo>
                <a:lnTo>
                  <a:pt x="867" y="1102"/>
                </a:lnTo>
                <a:lnTo>
                  <a:pt x="751" y="1628"/>
                </a:lnTo>
                <a:lnTo>
                  <a:pt x="1007" y="2450"/>
                </a:lnTo>
                <a:lnTo>
                  <a:pt x="815" y="2660"/>
                </a:lnTo>
                <a:lnTo>
                  <a:pt x="459" y="2723"/>
                </a:lnTo>
                <a:lnTo>
                  <a:pt x="46" y="2723"/>
                </a:lnTo>
                <a:lnTo>
                  <a:pt x="29" y="2549"/>
                </a:lnTo>
                <a:lnTo>
                  <a:pt x="0" y="2340"/>
                </a:lnTo>
                <a:lnTo>
                  <a:pt x="29" y="2223"/>
                </a:lnTo>
                <a:lnTo>
                  <a:pt x="64" y="2065"/>
                </a:lnTo>
                <a:lnTo>
                  <a:pt x="12" y="1908"/>
                </a:lnTo>
                <a:lnTo>
                  <a:pt x="29" y="1679"/>
                </a:lnTo>
                <a:lnTo>
                  <a:pt x="82" y="1563"/>
                </a:lnTo>
                <a:lnTo>
                  <a:pt x="46" y="1523"/>
                </a:lnTo>
                <a:lnTo>
                  <a:pt x="58" y="1441"/>
                </a:lnTo>
                <a:lnTo>
                  <a:pt x="186" y="1413"/>
                </a:lnTo>
                <a:lnTo>
                  <a:pt x="302" y="992"/>
                </a:lnTo>
                <a:lnTo>
                  <a:pt x="302" y="992"/>
                </a:lnTo>
                <a:lnTo>
                  <a:pt x="302" y="992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20"/>
          <p:cNvSpPr/>
          <p:nvPr/>
        </p:nvSpPr>
        <p:spPr>
          <a:xfrm>
            <a:off x="5057640" y="2562120"/>
            <a:ext cx="1285920" cy="419040"/>
          </a:xfrm>
          <a:custGeom>
            <a:avLst/>
            <a:gdLst>
              <a:gd name="textAreaLeft" fmla="*/ 0 w 1285920"/>
              <a:gd name="textAreaRight" fmla="*/ 1286280 w 1285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10" h="264">
                <a:moveTo>
                  <a:pt x="0" y="217"/>
                </a:moveTo>
                <a:lnTo>
                  <a:pt x="195" y="264"/>
                </a:lnTo>
                <a:lnTo>
                  <a:pt x="439" y="264"/>
                </a:lnTo>
                <a:lnTo>
                  <a:pt x="567" y="259"/>
                </a:lnTo>
                <a:lnTo>
                  <a:pt x="728" y="190"/>
                </a:lnTo>
                <a:lnTo>
                  <a:pt x="447" y="198"/>
                </a:lnTo>
                <a:lnTo>
                  <a:pt x="358" y="162"/>
                </a:lnTo>
                <a:lnTo>
                  <a:pt x="518" y="136"/>
                </a:lnTo>
                <a:lnTo>
                  <a:pt x="653" y="82"/>
                </a:lnTo>
                <a:lnTo>
                  <a:pt x="810" y="0"/>
                </a:lnTo>
                <a:lnTo>
                  <a:pt x="366" y="13"/>
                </a:lnTo>
                <a:lnTo>
                  <a:pt x="177" y="52"/>
                </a:lnTo>
                <a:lnTo>
                  <a:pt x="417" y="82"/>
                </a:lnTo>
                <a:lnTo>
                  <a:pt x="170" y="106"/>
                </a:lnTo>
                <a:lnTo>
                  <a:pt x="358" y="205"/>
                </a:lnTo>
                <a:lnTo>
                  <a:pt x="131" y="205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21"/>
          <p:cNvSpPr/>
          <p:nvPr/>
        </p:nvSpPr>
        <p:spPr>
          <a:xfrm>
            <a:off x="5735520" y="2357280"/>
            <a:ext cx="959040" cy="171720"/>
          </a:xfrm>
          <a:custGeom>
            <a:avLst/>
            <a:gdLst>
              <a:gd name="textAreaLeft" fmla="*/ 0 w 959040"/>
              <a:gd name="textAreaRight" fmla="*/ 959400 w 959040"/>
              <a:gd name="textAreaTop" fmla="*/ 0 h 171720"/>
              <a:gd name="textAreaBottom" fmla="*/ 171720 h 171720"/>
            </a:gdLst>
            <a:ahLst/>
            <a:rect l="textAreaLeft" t="textAreaTop" r="textAreaRight" b="textAreaBottom"/>
            <a:pathLst>
              <a:path w="604" h="108">
                <a:moveTo>
                  <a:pt x="93" y="73"/>
                </a:moveTo>
                <a:lnTo>
                  <a:pt x="350" y="64"/>
                </a:lnTo>
                <a:lnTo>
                  <a:pt x="449" y="57"/>
                </a:lnTo>
                <a:lnTo>
                  <a:pt x="545" y="83"/>
                </a:lnTo>
                <a:lnTo>
                  <a:pt x="599" y="108"/>
                </a:lnTo>
                <a:lnTo>
                  <a:pt x="604" y="41"/>
                </a:lnTo>
                <a:lnTo>
                  <a:pt x="295" y="0"/>
                </a:lnTo>
                <a:lnTo>
                  <a:pt x="101" y="19"/>
                </a:lnTo>
                <a:lnTo>
                  <a:pt x="0" y="62"/>
                </a:lnTo>
                <a:lnTo>
                  <a:pt x="93" y="73"/>
                </a:lnTo>
                <a:lnTo>
                  <a:pt x="93" y="73"/>
                </a:lnTo>
                <a:lnTo>
                  <a:pt x="93" y="7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22"/>
          <p:cNvSpPr/>
          <p:nvPr/>
        </p:nvSpPr>
        <p:spPr>
          <a:xfrm>
            <a:off x="4738680" y="2871720"/>
            <a:ext cx="716040" cy="407880"/>
          </a:xfrm>
          <a:custGeom>
            <a:avLst/>
            <a:gdLst>
              <a:gd name="textAreaLeft" fmla="*/ 0 w 716040"/>
              <a:gd name="textAreaRight" fmla="*/ 716040 w 71604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451" h="257">
                <a:moveTo>
                  <a:pt x="0" y="15"/>
                </a:moveTo>
                <a:lnTo>
                  <a:pt x="88" y="121"/>
                </a:lnTo>
                <a:lnTo>
                  <a:pt x="155" y="177"/>
                </a:lnTo>
                <a:lnTo>
                  <a:pt x="229" y="216"/>
                </a:lnTo>
                <a:lnTo>
                  <a:pt x="337" y="257"/>
                </a:lnTo>
                <a:lnTo>
                  <a:pt x="451" y="257"/>
                </a:lnTo>
                <a:lnTo>
                  <a:pt x="337" y="216"/>
                </a:lnTo>
                <a:lnTo>
                  <a:pt x="194" y="149"/>
                </a:lnTo>
                <a:lnTo>
                  <a:pt x="93" y="69"/>
                </a:lnTo>
                <a:lnTo>
                  <a:pt x="20" y="0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23"/>
          <p:cNvSpPr/>
          <p:nvPr/>
        </p:nvSpPr>
        <p:spPr>
          <a:xfrm>
            <a:off x="4408560" y="3129120"/>
            <a:ext cx="498240" cy="728640"/>
          </a:xfrm>
          <a:custGeom>
            <a:avLst/>
            <a:gdLst>
              <a:gd name="textAreaLeft" fmla="*/ 0 w 498240"/>
              <a:gd name="textAreaRight" fmla="*/ 498240 w 498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314" h="459">
                <a:moveTo>
                  <a:pt x="201" y="0"/>
                </a:moveTo>
                <a:lnTo>
                  <a:pt x="275" y="125"/>
                </a:lnTo>
                <a:lnTo>
                  <a:pt x="314" y="206"/>
                </a:lnTo>
                <a:lnTo>
                  <a:pt x="314" y="260"/>
                </a:lnTo>
                <a:lnTo>
                  <a:pt x="253" y="349"/>
                </a:lnTo>
                <a:lnTo>
                  <a:pt x="0" y="459"/>
                </a:lnTo>
                <a:lnTo>
                  <a:pt x="108" y="267"/>
                </a:lnTo>
                <a:lnTo>
                  <a:pt x="201" y="0"/>
                </a:lnTo>
                <a:lnTo>
                  <a:pt x="201" y="0"/>
                </a:lnTo>
                <a:lnTo>
                  <a:pt x="201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24"/>
          <p:cNvSpPr/>
          <p:nvPr/>
        </p:nvSpPr>
        <p:spPr>
          <a:xfrm>
            <a:off x="4984920" y="3352680"/>
            <a:ext cx="190440" cy="470160"/>
          </a:xfrm>
          <a:custGeom>
            <a:avLst/>
            <a:gdLst>
              <a:gd name="textAreaLeft" fmla="*/ 0 w 190440"/>
              <a:gd name="textAreaRight" fmla="*/ 190800 w 1904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20" h="296">
                <a:moveTo>
                  <a:pt x="120" y="38"/>
                </a:moveTo>
                <a:lnTo>
                  <a:pt x="79" y="108"/>
                </a:lnTo>
                <a:lnTo>
                  <a:pt x="66" y="175"/>
                </a:lnTo>
                <a:lnTo>
                  <a:pt x="92" y="254"/>
                </a:lnTo>
                <a:lnTo>
                  <a:pt x="92" y="296"/>
                </a:lnTo>
                <a:lnTo>
                  <a:pt x="46" y="270"/>
                </a:lnTo>
                <a:lnTo>
                  <a:pt x="5" y="180"/>
                </a:lnTo>
                <a:lnTo>
                  <a:pt x="0" y="41"/>
                </a:lnTo>
                <a:lnTo>
                  <a:pt x="59" y="0"/>
                </a:lnTo>
                <a:lnTo>
                  <a:pt x="120" y="38"/>
                </a:lnTo>
                <a:lnTo>
                  <a:pt x="120" y="38"/>
                </a:lnTo>
                <a:lnTo>
                  <a:pt x="120" y="3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25"/>
          <p:cNvSpPr/>
          <p:nvPr/>
        </p:nvSpPr>
        <p:spPr>
          <a:xfrm>
            <a:off x="7634160" y="3557520"/>
            <a:ext cx="311400" cy="938160"/>
          </a:xfrm>
          <a:custGeom>
            <a:avLst/>
            <a:gdLst>
              <a:gd name="textAreaLeft" fmla="*/ 0 w 311400"/>
              <a:gd name="textAreaRight" fmla="*/ 311760 w 311400"/>
              <a:gd name="textAreaTop" fmla="*/ 0 h 938160"/>
              <a:gd name="textAreaBottom" fmla="*/ 938160 h 938160"/>
            </a:gdLst>
            <a:ahLst/>
            <a:rect l="textAreaLeft" t="textAreaTop" r="textAreaRight" b="textAreaBottom"/>
            <a:pathLst>
              <a:path w="196" h="591">
                <a:moveTo>
                  <a:pt x="19" y="0"/>
                </a:moveTo>
                <a:lnTo>
                  <a:pt x="106" y="118"/>
                </a:lnTo>
                <a:lnTo>
                  <a:pt x="123" y="189"/>
                </a:lnTo>
                <a:lnTo>
                  <a:pt x="100" y="254"/>
                </a:lnTo>
                <a:lnTo>
                  <a:pt x="78" y="155"/>
                </a:lnTo>
                <a:lnTo>
                  <a:pt x="0" y="88"/>
                </a:lnTo>
                <a:lnTo>
                  <a:pt x="31" y="195"/>
                </a:lnTo>
                <a:lnTo>
                  <a:pt x="63" y="254"/>
                </a:lnTo>
                <a:lnTo>
                  <a:pt x="59" y="320"/>
                </a:lnTo>
                <a:lnTo>
                  <a:pt x="33" y="424"/>
                </a:lnTo>
                <a:lnTo>
                  <a:pt x="33" y="483"/>
                </a:lnTo>
                <a:lnTo>
                  <a:pt x="58" y="542"/>
                </a:lnTo>
                <a:lnTo>
                  <a:pt x="117" y="591"/>
                </a:lnTo>
                <a:lnTo>
                  <a:pt x="122" y="415"/>
                </a:lnTo>
                <a:lnTo>
                  <a:pt x="196" y="214"/>
                </a:lnTo>
                <a:lnTo>
                  <a:pt x="150" y="90"/>
                </a:lnTo>
                <a:lnTo>
                  <a:pt x="87" y="36"/>
                </a:ln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26"/>
          <p:cNvSpPr/>
          <p:nvPr/>
        </p:nvSpPr>
        <p:spPr>
          <a:xfrm>
            <a:off x="8310600" y="4255920"/>
            <a:ext cx="727200" cy="1162080"/>
          </a:xfrm>
          <a:custGeom>
            <a:avLst/>
            <a:gdLst>
              <a:gd name="textAreaLeft" fmla="*/ 0 w 727200"/>
              <a:gd name="textAreaRight" fmla="*/ 727560 w 72720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458" h="732">
                <a:moveTo>
                  <a:pt x="8" y="0"/>
                </a:moveTo>
                <a:lnTo>
                  <a:pt x="0" y="96"/>
                </a:lnTo>
                <a:lnTo>
                  <a:pt x="16" y="181"/>
                </a:lnTo>
                <a:lnTo>
                  <a:pt x="110" y="262"/>
                </a:lnTo>
                <a:lnTo>
                  <a:pt x="183" y="321"/>
                </a:lnTo>
                <a:lnTo>
                  <a:pt x="183" y="280"/>
                </a:lnTo>
                <a:lnTo>
                  <a:pt x="314" y="390"/>
                </a:lnTo>
                <a:lnTo>
                  <a:pt x="376" y="501"/>
                </a:lnTo>
                <a:lnTo>
                  <a:pt x="423" y="609"/>
                </a:lnTo>
                <a:lnTo>
                  <a:pt x="435" y="732"/>
                </a:lnTo>
                <a:lnTo>
                  <a:pt x="458" y="595"/>
                </a:lnTo>
                <a:lnTo>
                  <a:pt x="431" y="474"/>
                </a:lnTo>
                <a:lnTo>
                  <a:pt x="360" y="366"/>
                </a:lnTo>
                <a:lnTo>
                  <a:pt x="227" y="231"/>
                </a:lnTo>
                <a:lnTo>
                  <a:pt x="77" y="72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27"/>
          <p:cNvSpPr/>
          <p:nvPr/>
        </p:nvSpPr>
        <p:spPr>
          <a:xfrm>
            <a:off x="8516880" y="4824360"/>
            <a:ext cx="285840" cy="830160"/>
          </a:xfrm>
          <a:custGeom>
            <a:avLst/>
            <a:gdLst>
              <a:gd name="textAreaLeft" fmla="*/ 0 w 285840"/>
              <a:gd name="textAreaRight" fmla="*/ 286200 w 285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80" h="523">
                <a:moveTo>
                  <a:pt x="98" y="0"/>
                </a:moveTo>
                <a:lnTo>
                  <a:pt x="156" y="93"/>
                </a:lnTo>
                <a:lnTo>
                  <a:pt x="180" y="278"/>
                </a:lnTo>
                <a:lnTo>
                  <a:pt x="112" y="433"/>
                </a:lnTo>
                <a:lnTo>
                  <a:pt x="0" y="523"/>
                </a:lnTo>
                <a:lnTo>
                  <a:pt x="80" y="351"/>
                </a:lnTo>
                <a:lnTo>
                  <a:pt x="119" y="225"/>
                </a:lnTo>
                <a:lnTo>
                  <a:pt x="117" y="149"/>
                </a:lnTo>
                <a:lnTo>
                  <a:pt x="98" y="0"/>
                </a:lnTo>
                <a:lnTo>
                  <a:pt x="98" y="0"/>
                </a:lnTo>
                <a:lnTo>
                  <a:pt x="98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28"/>
          <p:cNvSpPr/>
          <p:nvPr/>
        </p:nvSpPr>
        <p:spPr>
          <a:xfrm>
            <a:off x="3935520" y="4514760"/>
            <a:ext cx="581040" cy="308160"/>
          </a:xfrm>
          <a:custGeom>
            <a:avLst/>
            <a:gdLst>
              <a:gd name="textAreaLeft" fmla="*/ 0 w 581040"/>
              <a:gd name="textAreaRight" fmla="*/ 581400 w 58104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366" h="194">
                <a:moveTo>
                  <a:pt x="0" y="111"/>
                </a:moveTo>
                <a:lnTo>
                  <a:pt x="48" y="167"/>
                </a:lnTo>
                <a:lnTo>
                  <a:pt x="114" y="194"/>
                </a:lnTo>
                <a:lnTo>
                  <a:pt x="192" y="194"/>
                </a:lnTo>
                <a:lnTo>
                  <a:pt x="259" y="161"/>
                </a:lnTo>
                <a:lnTo>
                  <a:pt x="329" y="108"/>
                </a:lnTo>
                <a:lnTo>
                  <a:pt x="366" y="0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29"/>
          <p:cNvSpPr/>
          <p:nvPr/>
        </p:nvSpPr>
        <p:spPr>
          <a:xfrm>
            <a:off x="3747960" y="4869000"/>
            <a:ext cx="254160" cy="806400"/>
          </a:xfrm>
          <a:custGeom>
            <a:avLst/>
            <a:gdLst>
              <a:gd name="textAreaLeft" fmla="*/ 0 w 254160"/>
              <a:gd name="textAreaRight" fmla="*/ 254520 w 2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60" h="508">
                <a:moveTo>
                  <a:pt x="134" y="508"/>
                </a:moveTo>
                <a:lnTo>
                  <a:pt x="160" y="471"/>
                </a:lnTo>
                <a:lnTo>
                  <a:pt x="86" y="365"/>
                </a:lnTo>
                <a:lnTo>
                  <a:pt x="77" y="264"/>
                </a:lnTo>
                <a:lnTo>
                  <a:pt x="86" y="195"/>
                </a:lnTo>
                <a:lnTo>
                  <a:pt x="127" y="0"/>
                </a:lnTo>
                <a:lnTo>
                  <a:pt x="80" y="21"/>
                </a:lnTo>
                <a:lnTo>
                  <a:pt x="0" y="195"/>
                </a:lnTo>
                <a:lnTo>
                  <a:pt x="17" y="445"/>
                </a:lnTo>
                <a:lnTo>
                  <a:pt x="134" y="508"/>
                </a:lnTo>
                <a:lnTo>
                  <a:pt x="134" y="508"/>
                </a:lnTo>
                <a:lnTo>
                  <a:pt x="134" y="50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30"/>
          <p:cNvSpPr/>
          <p:nvPr/>
        </p:nvSpPr>
        <p:spPr>
          <a:xfrm>
            <a:off x="4071960" y="5086440"/>
            <a:ext cx="361800" cy="503280"/>
          </a:xfrm>
          <a:custGeom>
            <a:avLst/>
            <a:gdLst>
              <a:gd name="textAreaLeft" fmla="*/ 0 w 361800"/>
              <a:gd name="textAreaRight" fmla="*/ 362160 w 3618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28" h="317">
                <a:moveTo>
                  <a:pt x="56" y="200"/>
                </a:moveTo>
                <a:lnTo>
                  <a:pt x="0" y="317"/>
                </a:lnTo>
                <a:lnTo>
                  <a:pt x="52" y="311"/>
                </a:lnTo>
                <a:lnTo>
                  <a:pt x="151" y="251"/>
                </a:lnTo>
                <a:lnTo>
                  <a:pt x="200" y="172"/>
                </a:lnTo>
                <a:lnTo>
                  <a:pt x="228" y="67"/>
                </a:lnTo>
                <a:lnTo>
                  <a:pt x="207" y="0"/>
                </a:lnTo>
                <a:lnTo>
                  <a:pt x="56" y="200"/>
                </a:lnTo>
                <a:lnTo>
                  <a:pt x="56" y="200"/>
                </a:lnTo>
                <a:lnTo>
                  <a:pt x="56" y="20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31"/>
          <p:cNvSpPr/>
          <p:nvPr/>
        </p:nvSpPr>
        <p:spPr>
          <a:xfrm>
            <a:off x="4486320" y="5321160"/>
            <a:ext cx="158760" cy="658800"/>
          </a:xfrm>
          <a:custGeom>
            <a:avLst/>
            <a:gdLst>
              <a:gd name="textAreaLeft" fmla="*/ 0 w 158760"/>
              <a:gd name="textAreaRight" fmla="*/ 159120 w 15876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00" h="415">
                <a:moveTo>
                  <a:pt x="66" y="0"/>
                </a:moveTo>
                <a:lnTo>
                  <a:pt x="77" y="176"/>
                </a:lnTo>
                <a:lnTo>
                  <a:pt x="40" y="247"/>
                </a:lnTo>
                <a:lnTo>
                  <a:pt x="13" y="189"/>
                </a:lnTo>
                <a:lnTo>
                  <a:pt x="0" y="292"/>
                </a:lnTo>
                <a:lnTo>
                  <a:pt x="66" y="415"/>
                </a:lnTo>
                <a:lnTo>
                  <a:pt x="100" y="243"/>
                </a:lnTo>
                <a:lnTo>
                  <a:pt x="100" y="73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32"/>
          <p:cNvSpPr/>
          <p:nvPr/>
        </p:nvSpPr>
        <p:spPr>
          <a:xfrm>
            <a:off x="3954600" y="6094440"/>
            <a:ext cx="241200" cy="392040"/>
          </a:xfrm>
          <a:custGeom>
            <a:avLst/>
            <a:gdLst>
              <a:gd name="textAreaLeft" fmla="*/ 0 w 241200"/>
              <a:gd name="textAreaRight" fmla="*/ 241560 w 24120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152" h="247">
                <a:moveTo>
                  <a:pt x="91" y="6"/>
                </a:moveTo>
                <a:lnTo>
                  <a:pt x="10" y="53"/>
                </a:lnTo>
                <a:lnTo>
                  <a:pt x="20" y="133"/>
                </a:lnTo>
                <a:lnTo>
                  <a:pt x="41" y="187"/>
                </a:lnTo>
                <a:lnTo>
                  <a:pt x="0" y="247"/>
                </a:lnTo>
                <a:lnTo>
                  <a:pt x="74" y="193"/>
                </a:lnTo>
                <a:lnTo>
                  <a:pt x="80" y="126"/>
                </a:lnTo>
                <a:lnTo>
                  <a:pt x="114" y="73"/>
                </a:lnTo>
                <a:lnTo>
                  <a:pt x="152" y="0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33"/>
          <p:cNvSpPr/>
          <p:nvPr/>
        </p:nvSpPr>
        <p:spPr>
          <a:xfrm>
            <a:off x="7658280" y="4645080"/>
            <a:ext cx="568080" cy="942840"/>
          </a:xfrm>
          <a:custGeom>
            <a:avLst/>
            <a:gdLst>
              <a:gd name="textAreaLeft" fmla="*/ 0 w 568080"/>
              <a:gd name="textAreaRight" fmla="*/ 568440 w 56808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358" h="594">
                <a:moveTo>
                  <a:pt x="0" y="0"/>
                </a:moveTo>
                <a:lnTo>
                  <a:pt x="123" y="127"/>
                </a:lnTo>
                <a:lnTo>
                  <a:pt x="215" y="204"/>
                </a:lnTo>
                <a:lnTo>
                  <a:pt x="312" y="286"/>
                </a:lnTo>
                <a:lnTo>
                  <a:pt x="358" y="378"/>
                </a:lnTo>
                <a:lnTo>
                  <a:pt x="320" y="460"/>
                </a:lnTo>
                <a:lnTo>
                  <a:pt x="247" y="554"/>
                </a:lnTo>
                <a:lnTo>
                  <a:pt x="88" y="594"/>
                </a:lnTo>
                <a:lnTo>
                  <a:pt x="195" y="426"/>
                </a:lnTo>
                <a:lnTo>
                  <a:pt x="119" y="248"/>
                </a:lnTo>
                <a:lnTo>
                  <a:pt x="12" y="13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4"/>
          <p:cNvSpPr/>
          <p:nvPr/>
        </p:nvSpPr>
        <p:spPr>
          <a:xfrm>
            <a:off x="7413480" y="5076720"/>
            <a:ext cx="335160" cy="347760"/>
          </a:xfrm>
          <a:custGeom>
            <a:avLst/>
            <a:gdLst>
              <a:gd name="textAreaLeft" fmla="*/ 0 w 335160"/>
              <a:gd name="textAreaRight" fmla="*/ 335520 w 3351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211" h="219">
                <a:moveTo>
                  <a:pt x="0" y="4"/>
                </a:moveTo>
                <a:lnTo>
                  <a:pt x="11" y="77"/>
                </a:lnTo>
                <a:lnTo>
                  <a:pt x="68" y="72"/>
                </a:lnTo>
                <a:lnTo>
                  <a:pt x="134" y="107"/>
                </a:lnTo>
                <a:lnTo>
                  <a:pt x="150" y="219"/>
                </a:lnTo>
                <a:lnTo>
                  <a:pt x="211" y="169"/>
                </a:lnTo>
                <a:lnTo>
                  <a:pt x="196" y="66"/>
                </a:lnTo>
                <a:lnTo>
                  <a:pt x="119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5"/>
          <p:cNvSpPr/>
          <p:nvPr/>
        </p:nvSpPr>
        <p:spPr>
          <a:xfrm>
            <a:off x="6676920" y="2357280"/>
            <a:ext cx="389160" cy="673200"/>
          </a:xfrm>
          <a:custGeom>
            <a:avLst/>
            <a:gdLst>
              <a:gd name="textAreaLeft" fmla="*/ 0 w 389160"/>
              <a:gd name="textAreaRight" fmla="*/ 389520 w 38916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245" h="424">
                <a:moveTo>
                  <a:pt x="0" y="18"/>
                </a:moveTo>
                <a:lnTo>
                  <a:pt x="73" y="77"/>
                </a:lnTo>
                <a:lnTo>
                  <a:pt x="126" y="135"/>
                </a:lnTo>
                <a:lnTo>
                  <a:pt x="137" y="191"/>
                </a:lnTo>
                <a:lnTo>
                  <a:pt x="137" y="287"/>
                </a:lnTo>
                <a:lnTo>
                  <a:pt x="180" y="228"/>
                </a:lnTo>
                <a:lnTo>
                  <a:pt x="165" y="309"/>
                </a:lnTo>
                <a:lnTo>
                  <a:pt x="142" y="424"/>
                </a:lnTo>
                <a:lnTo>
                  <a:pt x="213" y="315"/>
                </a:lnTo>
                <a:lnTo>
                  <a:pt x="245" y="228"/>
                </a:lnTo>
                <a:lnTo>
                  <a:pt x="191" y="92"/>
                </a:lnTo>
                <a:lnTo>
                  <a:pt x="41" y="0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6"/>
          <p:cNvSpPr/>
          <p:nvPr/>
        </p:nvSpPr>
        <p:spPr>
          <a:xfrm>
            <a:off x="6308640" y="4003560"/>
            <a:ext cx="773280" cy="236520"/>
          </a:xfrm>
          <a:custGeom>
            <a:avLst/>
            <a:gdLst>
              <a:gd name="textAreaLeft" fmla="*/ 0 w 773280"/>
              <a:gd name="textAreaRight" fmla="*/ 773640 w 773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87" h="149">
                <a:moveTo>
                  <a:pt x="0" y="149"/>
                </a:moveTo>
                <a:lnTo>
                  <a:pt x="55" y="139"/>
                </a:lnTo>
                <a:lnTo>
                  <a:pt x="109" y="120"/>
                </a:lnTo>
                <a:lnTo>
                  <a:pt x="226" y="69"/>
                </a:lnTo>
                <a:lnTo>
                  <a:pt x="288" y="54"/>
                </a:lnTo>
                <a:lnTo>
                  <a:pt x="371" y="57"/>
                </a:lnTo>
                <a:lnTo>
                  <a:pt x="437" y="80"/>
                </a:lnTo>
                <a:lnTo>
                  <a:pt x="487" y="113"/>
                </a:lnTo>
                <a:lnTo>
                  <a:pt x="475" y="88"/>
                </a:lnTo>
                <a:lnTo>
                  <a:pt x="484" y="59"/>
                </a:lnTo>
                <a:lnTo>
                  <a:pt x="446" y="61"/>
                </a:lnTo>
                <a:lnTo>
                  <a:pt x="419" y="57"/>
                </a:lnTo>
                <a:lnTo>
                  <a:pt x="419" y="33"/>
                </a:lnTo>
                <a:lnTo>
                  <a:pt x="352" y="7"/>
                </a:lnTo>
                <a:lnTo>
                  <a:pt x="288" y="0"/>
                </a:lnTo>
                <a:lnTo>
                  <a:pt x="222" y="5"/>
                </a:lnTo>
                <a:lnTo>
                  <a:pt x="168" y="29"/>
                </a:lnTo>
                <a:lnTo>
                  <a:pt x="76" y="46"/>
                </a:lnTo>
                <a:lnTo>
                  <a:pt x="23" y="92"/>
                </a:lnTo>
                <a:lnTo>
                  <a:pt x="9" y="125"/>
                </a:lnTo>
                <a:lnTo>
                  <a:pt x="0" y="149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7"/>
          <p:cNvSpPr/>
          <p:nvPr/>
        </p:nvSpPr>
        <p:spPr>
          <a:xfrm>
            <a:off x="5145120" y="4273560"/>
            <a:ext cx="600120" cy="223920"/>
          </a:xfrm>
          <a:custGeom>
            <a:avLst/>
            <a:gdLst>
              <a:gd name="textAreaLeft" fmla="*/ 0 w 600120"/>
              <a:gd name="textAreaRight" fmla="*/ 600480 w 6001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378" h="141">
                <a:moveTo>
                  <a:pt x="346" y="52"/>
                </a:moveTo>
                <a:lnTo>
                  <a:pt x="295" y="66"/>
                </a:lnTo>
                <a:lnTo>
                  <a:pt x="212" y="64"/>
                </a:lnTo>
                <a:lnTo>
                  <a:pt x="156" y="64"/>
                </a:lnTo>
                <a:lnTo>
                  <a:pt x="100" y="74"/>
                </a:lnTo>
                <a:lnTo>
                  <a:pt x="32" y="109"/>
                </a:lnTo>
                <a:lnTo>
                  <a:pt x="0" y="141"/>
                </a:lnTo>
                <a:lnTo>
                  <a:pt x="32" y="74"/>
                </a:lnTo>
                <a:lnTo>
                  <a:pt x="97" y="31"/>
                </a:lnTo>
                <a:lnTo>
                  <a:pt x="171" y="23"/>
                </a:lnTo>
                <a:lnTo>
                  <a:pt x="202" y="7"/>
                </a:lnTo>
                <a:lnTo>
                  <a:pt x="292" y="0"/>
                </a:lnTo>
                <a:lnTo>
                  <a:pt x="343" y="10"/>
                </a:lnTo>
                <a:lnTo>
                  <a:pt x="378" y="33"/>
                </a:lnTo>
                <a:lnTo>
                  <a:pt x="346" y="52"/>
                </a:lnTo>
                <a:lnTo>
                  <a:pt x="346" y="52"/>
                </a:lnTo>
                <a:lnTo>
                  <a:pt x="346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8"/>
          <p:cNvSpPr/>
          <p:nvPr/>
        </p:nvSpPr>
        <p:spPr>
          <a:xfrm>
            <a:off x="6165720" y="4254480"/>
            <a:ext cx="481320" cy="1008000"/>
          </a:xfrm>
          <a:custGeom>
            <a:avLst/>
            <a:gdLst>
              <a:gd name="textAreaLeft" fmla="*/ 0 w 481320"/>
              <a:gd name="textAreaRight" fmla="*/ 481680 w 4813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303" h="635">
                <a:moveTo>
                  <a:pt x="281" y="0"/>
                </a:moveTo>
                <a:lnTo>
                  <a:pt x="220" y="35"/>
                </a:lnTo>
                <a:lnTo>
                  <a:pt x="166" y="86"/>
                </a:lnTo>
                <a:lnTo>
                  <a:pt x="145" y="116"/>
                </a:lnTo>
                <a:lnTo>
                  <a:pt x="150" y="155"/>
                </a:lnTo>
                <a:lnTo>
                  <a:pt x="116" y="153"/>
                </a:lnTo>
                <a:lnTo>
                  <a:pt x="118" y="191"/>
                </a:lnTo>
                <a:lnTo>
                  <a:pt x="160" y="317"/>
                </a:lnTo>
                <a:lnTo>
                  <a:pt x="196" y="394"/>
                </a:lnTo>
                <a:lnTo>
                  <a:pt x="260" y="449"/>
                </a:lnTo>
                <a:lnTo>
                  <a:pt x="303" y="512"/>
                </a:lnTo>
                <a:lnTo>
                  <a:pt x="286" y="577"/>
                </a:lnTo>
                <a:lnTo>
                  <a:pt x="236" y="597"/>
                </a:lnTo>
                <a:lnTo>
                  <a:pt x="191" y="593"/>
                </a:lnTo>
                <a:lnTo>
                  <a:pt x="78" y="635"/>
                </a:lnTo>
                <a:lnTo>
                  <a:pt x="0" y="635"/>
                </a:lnTo>
                <a:lnTo>
                  <a:pt x="54" y="617"/>
                </a:lnTo>
                <a:lnTo>
                  <a:pt x="83" y="595"/>
                </a:lnTo>
                <a:lnTo>
                  <a:pt x="104" y="574"/>
                </a:lnTo>
                <a:lnTo>
                  <a:pt x="128" y="566"/>
                </a:lnTo>
                <a:lnTo>
                  <a:pt x="175" y="558"/>
                </a:lnTo>
                <a:lnTo>
                  <a:pt x="241" y="558"/>
                </a:lnTo>
                <a:lnTo>
                  <a:pt x="263" y="531"/>
                </a:lnTo>
                <a:lnTo>
                  <a:pt x="263" y="491"/>
                </a:lnTo>
                <a:lnTo>
                  <a:pt x="241" y="456"/>
                </a:lnTo>
                <a:lnTo>
                  <a:pt x="217" y="440"/>
                </a:lnTo>
                <a:lnTo>
                  <a:pt x="185" y="435"/>
                </a:lnTo>
                <a:lnTo>
                  <a:pt x="124" y="494"/>
                </a:lnTo>
                <a:lnTo>
                  <a:pt x="99" y="437"/>
                </a:lnTo>
                <a:lnTo>
                  <a:pt x="72" y="331"/>
                </a:lnTo>
                <a:lnTo>
                  <a:pt x="64" y="206"/>
                </a:lnTo>
                <a:lnTo>
                  <a:pt x="62" y="155"/>
                </a:lnTo>
                <a:lnTo>
                  <a:pt x="73" y="113"/>
                </a:lnTo>
                <a:lnTo>
                  <a:pt x="99" y="70"/>
                </a:lnTo>
                <a:lnTo>
                  <a:pt x="109" y="92"/>
                </a:lnTo>
                <a:lnTo>
                  <a:pt x="128" y="102"/>
                </a:lnTo>
                <a:lnTo>
                  <a:pt x="153" y="86"/>
                </a:lnTo>
                <a:lnTo>
                  <a:pt x="194" y="40"/>
                </a:lnTo>
                <a:lnTo>
                  <a:pt x="236" y="12"/>
                </a:lnTo>
                <a:lnTo>
                  <a:pt x="281" y="0"/>
                </a:lnTo>
                <a:lnTo>
                  <a:pt x="28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39"/>
          <p:cNvSpPr/>
          <p:nvPr/>
        </p:nvSpPr>
        <p:spPr>
          <a:xfrm>
            <a:off x="6400800" y="4240080"/>
            <a:ext cx="666720" cy="257400"/>
          </a:xfrm>
          <a:custGeom>
            <a:avLst/>
            <a:gdLst>
              <a:gd name="textAreaLeft" fmla="*/ 0 w 666720"/>
              <a:gd name="textAreaRight" fmla="*/ 667080 w 6667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420" h="162">
                <a:moveTo>
                  <a:pt x="0" y="149"/>
                </a:moveTo>
                <a:lnTo>
                  <a:pt x="56" y="92"/>
                </a:lnTo>
                <a:lnTo>
                  <a:pt x="102" y="61"/>
                </a:lnTo>
                <a:lnTo>
                  <a:pt x="157" y="38"/>
                </a:lnTo>
                <a:lnTo>
                  <a:pt x="188" y="33"/>
                </a:lnTo>
                <a:lnTo>
                  <a:pt x="225" y="31"/>
                </a:lnTo>
                <a:lnTo>
                  <a:pt x="195" y="0"/>
                </a:lnTo>
                <a:lnTo>
                  <a:pt x="240" y="0"/>
                </a:lnTo>
                <a:lnTo>
                  <a:pt x="275" y="9"/>
                </a:lnTo>
                <a:lnTo>
                  <a:pt x="315" y="9"/>
                </a:lnTo>
                <a:lnTo>
                  <a:pt x="311" y="28"/>
                </a:lnTo>
                <a:lnTo>
                  <a:pt x="367" y="33"/>
                </a:lnTo>
                <a:lnTo>
                  <a:pt x="393" y="23"/>
                </a:lnTo>
                <a:lnTo>
                  <a:pt x="370" y="54"/>
                </a:lnTo>
                <a:lnTo>
                  <a:pt x="420" y="41"/>
                </a:lnTo>
                <a:lnTo>
                  <a:pt x="398" y="73"/>
                </a:lnTo>
                <a:lnTo>
                  <a:pt x="417" y="101"/>
                </a:lnTo>
                <a:lnTo>
                  <a:pt x="370" y="97"/>
                </a:lnTo>
                <a:lnTo>
                  <a:pt x="346" y="108"/>
                </a:lnTo>
                <a:lnTo>
                  <a:pt x="332" y="135"/>
                </a:lnTo>
                <a:lnTo>
                  <a:pt x="300" y="135"/>
                </a:lnTo>
                <a:lnTo>
                  <a:pt x="259" y="151"/>
                </a:lnTo>
                <a:lnTo>
                  <a:pt x="216" y="162"/>
                </a:lnTo>
                <a:lnTo>
                  <a:pt x="142" y="162"/>
                </a:lnTo>
                <a:lnTo>
                  <a:pt x="249" y="141"/>
                </a:lnTo>
                <a:lnTo>
                  <a:pt x="318" y="103"/>
                </a:lnTo>
                <a:lnTo>
                  <a:pt x="273" y="82"/>
                </a:lnTo>
                <a:lnTo>
                  <a:pt x="230" y="71"/>
                </a:lnTo>
                <a:lnTo>
                  <a:pt x="188" y="68"/>
                </a:lnTo>
                <a:lnTo>
                  <a:pt x="150" y="68"/>
                </a:lnTo>
                <a:lnTo>
                  <a:pt x="112" y="76"/>
                </a:lnTo>
                <a:lnTo>
                  <a:pt x="79" y="92"/>
                </a:lnTo>
                <a:lnTo>
                  <a:pt x="56" y="116"/>
                </a:lnTo>
                <a:lnTo>
                  <a:pt x="39" y="144"/>
                </a:lnTo>
                <a:lnTo>
                  <a:pt x="96" y="162"/>
                </a:lnTo>
                <a:lnTo>
                  <a:pt x="27" y="162"/>
                </a:lnTo>
                <a:lnTo>
                  <a:pt x="0" y="149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40"/>
          <p:cNvSpPr/>
          <p:nvPr/>
        </p:nvSpPr>
        <p:spPr>
          <a:xfrm>
            <a:off x="6647040" y="43480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17"/>
                </a:moveTo>
                <a:lnTo>
                  <a:pt x="16" y="26"/>
                </a:lnTo>
                <a:lnTo>
                  <a:pt x="19" y="38"/>
                </a:lnTo>
                <a:lnTo>
                  <a:pt x="6" y="49"/>
                </a:lnTo>
                <a:lnTo>
                  <a:pt x="27" y="54"/>
                </a:lnTo>
                <a:lnTo>
                  <a:pt x="46" y="49"/>
                </a:lnTo>
                <a:lnTo>
                  <a:pt x="54" y="33"/>
                </a:lnTo>
                <a:lnTo>
                  <a:pt x="49" y="11"/>
                </a:lnTo>
                <a:lnTo>
                  <a:pt x="30" y="0"/>
                </a:lnTo>
                <a:lnTo>
                  <a:pt x="11" y="4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41"/>
          <p:cNvSpPr/>
          <p:nvPr/>
        </p:nvSpPr>
        <p:spPr>
          <a:xfrm>
            <a:off x="6567480" y="4340160"/>
            <a:ext cx="225360" cy="154080"/>
          </a:xfrm>
          <a:custGeom>
            <a:avLst/>
            <a:gdLst>
              <a:gd name="textAreaLeft" fmla="*/ 0 w 225360"/>
              <a:gd name="textAreaRight" fmla="*/ 225720 w 225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42" h="97">
                <a:moveTo>
                  <a:pt x="31" y="0"/>
                </a:moveTo>
                <a:lnTo>
                  <a:pt x="23" y="50"/>
                </a:lnTo>
                <a:lnTo>
                  <a:pt x="45" y="78"/>
                </a:lnTo>
                <a:lnTo>
                  <a:pt x="61" y="83"/>
                </a:lnTo>
                <a:lnTo>
                  <a:pt x="85" y="83"/>
                </a:lnTo>
                <a:lnTo>
                  <a:pt x="106" y="72"/>
                </a:lnTo>
                <a:lnTo>
                  <a:pt x="123" y="50"/>
                </a:lnTo>
                <a:lnTo>
                  <a:pt x="125" y="27"/>
                </a:lnTo>
                <a:lnTo>
                  <a:pt x="114" y="2"/>
                </a:lnTo>
                <a:lnTo>
                  <a:pt x="135" y="2"/>
                </a:lnTo>
                <a:lnTo>
                  <a:pt x="142" y="29"/>
                </a:lnTo>
                <a:lnTo>
                  <a:pt x="139" y="57"/>
                </a:lnTo>
                <a:lnTo>
                  <a:pt x="123" y="81"/>
                </a:lnTo>
                <a:lnTo>
                  <a:pt x="97" y="93"/>
                </a:lnTo>
                <a:lnTo>
                  <a:pt x="59" y="97"/>
                </a:lnTo>
                <a:lnTo>
                  <a:pt x="31" y="86"/>
                </a:lnTo>
                <a:lnTo>
                  <a:pt x="7" y="50"/>
                </a:lnTo>
                <a:lnTo>
                  <a:pt x="0" y="24"/>
                </a:lnTo>
                <a:lnTo>
                  <a:pt x="0" y="10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42"/>
          <p:cNvSpPr/>
          <p:nvPr/>
        </p:nvSpPr>
        <p:spPr>
          <a:xfrm>
            <a:off x="5952960" y="5208480"/>
            <a:ext cx="179640" cy="42840"/>
          </a:xfrm>
          <a:custGeom>
            <a:avLst/>
            <a:gdLst>
              <a:gd name="textAreaLeft" fmla="*/ 0 w 179640"/>
              <a:gd name="textAreaRight" fmla="*/ 180000 w 179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3" h="27">
                <a:moveTo>
                  <a:pt x="113" y="27"/>
                </a:moveTo>
                <a:lnTo>
                  <a:pt x="49" y="0"/>
                </a:lnTo>
                <a:lnTo>
                  <a:pt x="0" y="13"/>
                </a:lnTo>
                <a:lnTo>
                  <a:pt x="14" y="27"/>
                </a:lnTo>
                <a:lnTo>
                  <a:pt x="73" y="27"/>
                </a:lnTo>
                <a:lnTo>
                  <a:pt x="113" y="27"/>
                </a:lnTo>
                <a:lnTo>
                  <a:pt x="113" y="27"/>
                </a:lnTo>
                <a:lnTo>
                  <a:pt x="113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43"/>
          <p:cNvSpPr/>
          <p:nvPr/>
        </p:nvSpPr>
        <p:spPr>
          <a:xfrm>
            <a:off x="6680160" y="5089680"/>
            <a:ext cx="327240" cy="296640"/>
          </a:xfrm>
          <a:custGeom>
            <a:avLst/>
            <a:gdLst>
              <a:gd name="textAreaLeft" fmla="*/ 0 w 327240"/>
              <a:gd name="textAreaRight" fmla="*/ 327600 w 32724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06" h="187">
                <a:moveTo>
                  <a:pt x="0" y="0"/>
                </a:moveTo>
                <a:lnTo>
                  <a:pt x="57" y="43"/>
                </a:lnTo>
                <a:lnTo>
                  <a:pt x="182" y="107"/>
                </a:lnTo>
                <a:lnTo>
                  <a:pt x="206" y="134"/>
                </a:lnTo>
                <a:lnTo>
                  <a:pt x="206" y="187"/>
                </a:lnTo>
                <a:lnTo>
                  <a:pt x="194" y="142"/>
                </a:lnTo>
                <a:lnTo>
                  <a:pt x="148" y="107"/>
                </a:lnTo>
                <a:lnTo>
                  <a:pt x="52" y="5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44"/>
          <p:cNvSpPr/>
          <p:nvPr/>
        </p:nvSpPr>
        <p:spPr>
          <a:xfrm>
            <a:off x="5859360" y="5381640"/>
            <a:ext cx="1005120" cy="18396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33" h="116">
                <a:moveTo>
                  <a:pt x="0" y="116"/>
                </a:moveTo>
                <a:lnTo>
                  <a:pt x="92" y="102"/>
                </a:lnTo>
                <a:lnTo>
                  <a:pt x="153" y="97"/>
                </a:lnTo>
                <a:lnTo>
                  <a:pt x="271" y="92"/>
                </a:lnTo>
                <a:lnTo>
                  <a:pt x="314" y="83"/>
                </a:lnTo>
                <a:lnTo>
                  <a:pt x="413" y="62"/>
                </a:lnTo>
                <a:lnTo>
                  <a:pt x="498" y="41"/>
                </a:lnTo>
                <a:lnTo>
                  <a:pt x="543" y="36"/>
                </a:lnTo>
                <a:lnTo>
                  <a:pt x="566" y="36"/>
                </a:lnTo>
                <a:lnTo>
                  <a:pt x="566" y="73"/>
                </a:lnTo>
                <a:lnTo>
                  <a:pt x="569" y="95"/>
                </a:lnTo>
                <a:lnTo>
                  <a:pt x="602" y="59"/>
                </a:lnTo>
                <a:lnTo>
                  <a:pt x="602" y="95"/>
                </a:lnTo>
                <a:lnTo>
                  <a:pt x="628" y="47"/>
                </a:lnTo>
                <a:lnTo>
                  <a:pt x="633" y="12"/>
                </a:lnTo>
                <a:lnTo>
                  <a:pt x="614" y="6"/>
                </a:lnTo>
                <a:lnTo>
                  <a:pt x="566" y="0"/>
                </a:lnTo>
                <a:lnTo>
                  <a:pt x="501" y="0"/>
                </a:lnTo>
                <a:lnTo>
                  <a:pt x="410" y="3"/>
                </a:lnTo>
                <a:lnTo>
                  <a:pt x="375" y="12"/>
                </a:lnTo>
                <a:lnTo>
                  <a:pt x="302" y="24"/>
                </a:lnTo>
                <a:lnTo>
                  <a:pt x="266" y="27"/>
                </a:lnTo>
                <a:lnTo>
                  <a:pt x="156" y="41"/>
                </a:lnTo>
                <a:lnTo>
                  <a:pt x="110" y="57"/>
                </a:lnTo>
                <a:lnTo>
                  <a:pt x="177" y="47"/>
                </a:lnTo>
                <a:lnTo>
                  <a:pt x="250" y="41"/>
                </a:lnTo>
                <a:lnTo>
                  <a:pt x="295" y="41"/>
                </a:lnTo>
                <a:lnTo>
                  <a:pt x="346" y="31"/>
                </a:lnTo>
                <a:lnTo>
                  <a:pt x="384" y="24"/>
                </a:lnTo>
                <a:lnTo>
                  <a:pt x="351" y="65"/>
                </a:lnTo>
                <a:lnTo>
                  <a:pt x="300" y="76"/>
                </a:lnTo>
                <a:lnTo>
                  <a:pt x="231" y="83"/>
                </a:lnTo>
                <a:lnTo>
                  <a:pt x="161" y="86"/>
                </a:lnTo>
                <a:lnTo>
                  <a:pt x="118" y="95"/>
                </a:lnTo>
                <a:lnTo>
                  <a:pt x="54" y="100"/>
                </a:lnTo>
                <a:lnTo>
                  <a:pt x="0" y="116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45"/>
          <p:cNvSpPr/>
          <p:nvPr/>
        </p:nvSpPr>
        <p:spPr>
          <a:xfrm>
            <a:off x="5788080" y="5562720"/>
            <a:ext cx="144360" cy="101520"/>
          </a:xfrm>
          <a:custGeom>
            <a:avLst/>
            <a:gdLst>
              <a:gd name="textAreaLeft" fmla="*/ 0 w 144360"/>
              <a:gd name="textAreaRight" fmla="*/ 144720 w 144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91" h="64">
                <a:moveTo>
                  <a:pt x="0" y="13"/>
                </a:moveTo>
                <a:lnTo>
                  <a:pt x="54" y="64"/>
                </a:lnTo>
                <a:lnTo>
                  <a:pt x="54" y="40"/>
                </a:lnTo>
                <a:lnTo>
                  <a:pt x="91" y="42"/>
                </a:lnTo>
                <a:lnTo>
                  <a:pt x="56" y="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46"/>
          <p:cNvSpPr/>
          <p:nvPr/>
        </p:nvSpPr>
        <p:spPr>
          <a:xfrm>
            <a:off x="5925960" y="5527800"/>
            <a:ext cx="831960" cy="233280"/>
          </a:xfrm>
          <a:custGeom>
            <a:avLst/>
            <a:gdLst>
              <a:gd name="textAreaLeft" fmla="*/ 0 w 831960"/>
              <a:gd name="textAreaRight" fmla="*/ 832320 w 8319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24" h="147">
                <a:moveTo>
                  <a:pt x="0" y="81"/>
                </a:moveTo>
                <a:lnTo>
                  <a:pt x="66" y="112"/>
                </a:lnTo>
                <a:lnTo>
                  <a:pt x="156" y="129"/>
                </a:lnTo>
                <a:lnTo>
                  <a:pt x="232" y="129"/>
                </a:lnTo>
                <a:lnTo>
                  <a:pt x="319" y="112"/>
                </a:lnTo>
                <a:lnTo>
                  <a:pt x="401" y="86"/>
                </a:lnTo>
                <a:lnTo>
                  <a:pt x="467" y="46"/>
                </a:lnTo>
                <a:lnTo>
                  <a:pt x="524" y="0"/>
                </a:lnTo>
                <a:lnTo>
                  <a:pt x="465" y="59"/>
                </a:lnTo>
                <a:lnTo>
                  <a:pt x="416" y="94"/>
                </a:lnTo>
                <a:lnTo>
                  <a:pt x="336" y="126"/>
                </a:lnTo>
                <a:lnTo>
                  <a:pt x="267" y="142"/>
                </a:lnTo>
                <a:lnTo>
                  <a:pt x="194" y="147"/>
                </a:lnTo>
                <a:lnTo>
                  <a:pt x="121" y="140"/>
                </a:lnTo>
                <a:lnTo>
                  <a:pt x="57" y="121"/>
                </a:lnTo>
                <a:lnTo>
                  <a:pt x="0" y="81"/>
                </a:lnTo>
                <a:lnTo>
                  <a:pt x="0" y="81"/>
                </a:lnTo>
                <a:lnTo>
                  <a:pt x="0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47"/>
          <p:cNvSpPr/>
          <p:nvPr/>
        </p:nvSpPr>
        <p:spPr>
          <a:xfrm>
            <a:off x="5952960" y="5513400"/>
            <a:ext cx="858960" cy="341280"/>
          </a:xfrm>
          <a:custGeom>
            <a:avLst/>
            <a:gdLst>
              <a:gd name="textAreaLeft" fmla="*/ 0 w 858960"/>
              <a:gd name="textAreaRight" fmla="*/ 859320 w 858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41" h="215">
                <a:moveTo>
                  <a:pt x="541" y="14"/>
                </a:moveTo>
                <a:lnTo>
                  <a:pt x="507" y="79"/>
                </a:lnTo>
                <a:lnTo>
                  <a:pt x="453" y="130"/>
                </a:lnTo>
                <a:lnTo>
                  <a:pt x="373" y="177"/>
                </a:lnTo>
                <a:lnTo>
                  <a:pt x="300" y="205"/>
                </a:lnTo>
                <a:lnTo>
                  <a:pt x="224" y="215"/>
                </a:lnTo>
                <a:lnTo>
                  <a:pt x="137" y="208"/>
                </a:lnTo>
                <a:lnTo>
                  <a:pt x="56" y="180"/>
                </a:lnTo>
                <a:lnTo>
                  <a:pt x="0" y="138"/>
                </a:lnTo>
                <a:lnTo>
                  <a:pt x="68" y="175"/>
                </a:lnTo>
                <a:lnTo>
                  <a:pt x="115" y="189"/>
                </a:lnTo>
                <a:lnTo>
                  <a:pt x="188" y="199"/>
                </a:lnTo>
                <a:lnTo>
                  <a:pt x="255" y="196"/>
                </a:lnTo>
                <a:lnTo>
                  <a:pt x="316" y="184"/>
                </a:lnTo>
                <a:lnTo>
                  <a:pt x="359" y="164"/>
                </a:lnTo>
                <a:lnTo>
                  <a:pt x="378" y="151"/>
                </a:lnTo>
                <a:lnTo>
                  <a:pt x="387" y="135"/>
                </a:lnTo>
                <a:lnTo>
                  <a:pt x="370" y="121"/>
                </a:lnTo>
                <a:lnTo>
                  <a:pt x="343" y="118"/>
                </a:lnTo>
                <a:lnTo>
                  <a:pt x="402" y="92"/>
                </a:lnTo>
                <a:lnTo>
                  <a:pt x="453" y="55"/>
                </a:lnTo>
                <a:lnTo>
                  <a:pt x="517" y="0"/>
                </a:lnTo>
                <a:lnTo>
                  <a:pt x="507" y="41"/>
                </a:lnTo>
                <a:lnTo>
                  <a:pt x="541" y="14"/>
                </a:lnTo>
                <a:lnTo>
                  <a:pt x="541" y="14"/>
                </a:lnTo>
                <a:lnTo>
                  <a:pt x="54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48"/>
          <p:cNvSpPr/>
          <p:nvPr/>
        </p:nvSpPr>
        <p:spPr>
          <a:xfrm>
            <a:off x="5603760" y="5135400"/>
            <a:ext cx="244440" cy="520920"/>
          </a:xfrm>
          <a:custGeom>
            <a:avLst/>
            <a:gdLst>
              <a:gd name="textAreaLeft" fmla="*/ 0 w 244440"/>
              <a:gd name="textAreaRight" fmla="*/ 244800 w 244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54" h="328">
                <a:moveTo>
                  <a:pt x="154" y="0"/>
                </a:moveTo>
                <a:lnTo>
                  <a:pt x="130" y="78"/>
                </a:lnTo>
                <a:lnTo>
                  <a:pt x="89" y="149"/>
                </a:lnTo>
                <a:lnTo>
                  <a:pt x="59" y="188"/>
                </a:lnTo>
                <a:lnTo>
                  <a:pt x="40" y="228"/>
                </a:lnTo>
                <a:lnTo>
                  <a:pt x="22" y="287"/>
                </a:lnTo>
                <a:lnTo>
                  <a:pt x="16" y="328"/>
                </a:lnTo>
                <a:lnTo>
                  <a:pt x="0" y="277"/>
                </a:lnTo>
                <a:lnTo>
                  <a:pt x="0" y="236"/>
                </a:lnTo>
                <a:lnTo>
                  <a:pt x="11" y="194"/>
                </a:lnTo>
                <a:lnTo>
                  <a:pt x="44" y="151"/>
                </a:lnTo>
                <a:lnTo>
                  <a:pt x="75" y="118"/>
                </a:lnTo>
                <a:lnTo>
                  <a:pt x="103" y="87"/>
                </a:lnTo>
                <a:lnTo>
                  <a:pt x="123" y="54"/>
                </a:lnTo>
                <a:lnTo>
                  <a:pt x="154" y="0"/>
                </a:lnTo>
                <a:lnTo>
                  <a:pt x="154" y="0"/>
                </a:lnTo>
                <a:lnTo>
                  <a:pt x="1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49"/>
          <p:cNvSpPr/>
          <p:nvPr/>
        </p:nvSpPr>
        <p:spPr>
          <a:xfrm>
            <a:off x="5224320" y="4518000"/>
            <a:ext cx="635040" cy="243000"/>
          </a:xfrm>
          <a:custGeom>
            <a:avLst/>
            <a:gdLst>
              <a:gd name="textAreaLeft" fmla="*/ 0 w 635040"/>
              <a:gd name="textAreaRight" fmla="*/ 635040 w 635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00" h="153">
                <a:moveTo>
                  <a:pt x="336" y="84"/>
                </a:moveTo>
                <a:lnTo>
                  <a:pt x="400" y="62"/>
                </a:lnTo>
                <a:lnTo>
                  <a:pt x="362" y="33"/>
                </a:lnTo>
                <a:lnTo>
                  <a:pt x="288" y="9"/>
                </a:lnTo>
                <a:lnTo>
                  <a:pt x="208" y="0"/>
                </a:lnTo>
                <a:lnTo>
                  <a:pt x="156" y="9"/>
                </a:lnTo>
                <a:lnTo>
                  <a:pt x="159" y="30"/>
                </a:lnTo>
                <a:lnTo>
                  <a:pt x="121" y="35"/>
                </a:lnTo>
                <a:lnTo>
                  <a:pt x="111" y="16"/>
                </a:lnTo>
                <a:lnTo>
                  <a:pt x="59" y="54"/>
                </a:lnTo>
                <a:lnTo>
                  <a:pt x="31" y="84"/>
                </a:lnTo>
                <a:lnTo>
                  <a:pt x="53" y="99"/>
                </a:lnTo>
                <a:lnTo>
                  <a:pt x="36" y="115"/>
                </a:lnTo>
                <a:lnTo>
                  <a:pt x="0" y="134"/>
                </a:lnTo>
                <a:lnTo>
                  <a:pt x="41" y="145"/>
                </a:lnTo>
                <a:lnTo>
                  <a:pt x="69" y="145"/>
                </a:lnTo>
                <a:lnTo>
                  <a:pt x="106" y="137"/>
                </a:lnTo>
                <a:lnTo>
                  <a:pt x="125" y="153"/>
                </a:lnTo>
                <a:lnTo>
                  <a:pt x="149" y="137"/>
                </a:lnTo>
                <a:lnTo>
                  <a:pt x="173" y="143"/>
                </a:lnTo>
                <a:lnTo>
                  <a:pt x="194" y="118"/>
                </a:lnTo>
                <a:lnTo>
                  <a:pt x="140" y="110"/>
                </a:lnTo>
                <a:lnTo>
                  <a:pt x="121" y="94"/>
                </a:lnTo>
                <a:lnTo>
                  <a:pt x="146" y="68"/>
                </a:lnTo>
                <a:lnTo>
                  <a:pt x="178" y="46"/>
                </a:lnTo>
                <a:lnTo>
                  <a:pt x="215" y="35"/>
                </a:lnTo>
                <a:lnTo>
                  <a:pt x="261" y="35"/>
                </a:lnTo>
                <a:lnTo>
                  <a:pt x="309" y="44"/>
                </a:lnTo>
                <a:lnTo>
                  <a:pt x="347" y="51"/>
                </a:lnTo>
                <a:lnTo>
                  <a:pt x="336" y="84"/>
                </a:lnTo>
                <a:lnTo>
                  <a:pt x="336" y="84"/>
                </a:lnTo>
                <a:lnTo>
                  <a:pt x="33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50"/>
          <p:cNvSpPr/>
          <p:nvPr/>
        </p:nvSpPr>
        <p:spPr>
          <a:xfrm>
            <a:off x="5557680" y="4656240"/>
            <a:ext cx="154080" cy="66600"/>
          </a:xfrm>
          <a:custGeom>
            <a:avLst/>
            <a:gdLst>
              <a:gd name="textAreaLeft" fmla="*/ 0 w 154080"/>
              <a:gd name="textAreaRight" fmla="*/ 154440 w 154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7" h="42">
                <a:moveTo>
                  <a:pt x="0" y="26"/>
                </a:moveTo>
                <a:lnTo>
                  <a:pt x="48" y="16"/>
                </a:lnTo>
                <a:lnTo>
                  <a:pt x="97" y="0"/>
                </a:lnTo>
                <a:lnTo>
                  <a:pt x="54" y="31"/>
                </a:lnTo>
                <a:lnTo>
                  <a:pt x="25" y="31"/>
                </a:lnTo>
                <a:lnTo>
                  <a:pt x="0" y="42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51"/>
          <p:cNvSpPr/>
          <p:nvPr/>
        </p:nvSpPr>
        <p:spPr>
          <a:xfrm>
            <a:off x="5353200" y="4476600"/>
            <a:ext cx="382320" cy="111240"/>
          </a:xfrm>
          <a:custGeom>
            <a:avLst/>
            <a:gdLst>
              <a:gd name="textAreaLeft" fmla="*/ 0 w 382320"/>
              <a:gd name="textAreaRight" fmla="*/ 382680 w 382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41" h="70">
                <a:moveTo>
                  <a:pt x="0" y="66"/>
                </a:moveTo>
                <a:lnTo>
                  <a:pt x="59" y="21"/>
                </a:lnTo>
                <a:lnTo>
                  <a:pt x="129" y="0"/>
                </a:lnTo>
                <a:lnTo>
                  <a:pt x="186" y="0"/>
                </a:lnTo>
                <a:lnTo>
                  <a:pt x="241" y="11"/>
                </a:lnTo>
                <a:lnTo>
                  <a:pt x="143" y="11"/>
                </a:lnTo>
                <a:lnTo>
                  <a:pt x="68" y="32"/>
                </a:lnTo>
                <a:lnTo>
                  <a:pt x="25" y="70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52"/>
          <p:cNvSpPr/>
          <p:nvPr/>
        </p:nvSpPr>
        <p:spPr>
          <a:xfrm>
            <a:off x="5570640" y="4578480"/>
            <a:ext cx="73080" cy="63360"/>
          </a:xfrm>
          <a:custGeom>
            <a:avLst/>
            <a:gdLst>
              <a:gd name="textAreaLeft" fmla="*/ 0 w 73080"/>
              <a:gd name="textAreaRight" fmla="*/ 73440 w 730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6" h="40">
                <a:moveTo>
                  <a:pt x="6" y="6"/>
                </a:moveTo>
                <a:lnTo>
                  <a:pt x="19" y="16"/>
                </a:lnTo>
                <a:lnTo>
                  <a:pt x="19" y="30"/>
                </a:lnTo>
                <a:lnTo>
                  <a:pt x="0" y="40"/>
                </a:lnTo>
                <a:lnTo>
                  <a:pt x="24" y="40"/>
                </a:lnTo>
                <a:lnTo>
                  <a:pt x="46" y="27"/>
                </a:lnTo>
                <a:lnTo>
                  <a:pt x="46" y="10"/>
                </a:lnTo>
                <a:lnTo>
                  <a:pt x="30" y="0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53"/>
          <p:cNvSpPr/>
          <p:nvPr/>
        </p:nvSpPr>
        <p:spPr>
          <a:xfrm>
            <a:off x="5477040" y="4557600"/>
            <a:ext cx="225360" cy="135000"/>
          </a:xfrm>
          <a:custGeom>
            <a:avLst/>
            <a:gdLst>
              <a:gd name="textAreaLeft" fmla="*/ 0 w 225360"/>
              <a:gd name="textAreaRight" fmla="*/ 225720 w 2253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42" h="85">
                <a:moveTo>
                  <a:pt x="30" y="8"/>
                </a:moveTo>
                <a:lnTo>
                  <a:pt x="21" y="45"/>
                </a:lnTo>
                <a:lnTo>
                  <a:pt x="40" y="69"/>
                </a:lnTo>
                <a:lnTo>
                  <a:pt x="70" y="78"/>
                </a:lnTo>
                <a:lnTo>
                  <a:pt x="105" y="69"/>
                </a:lnTo>
                <a:lnTo>
                  <a:pt x="127" y="48"/>
                </a:lnTo>
                <a:lnTo>
                  <a:pt x="129" y="26"/>
                </a:lnTo>
                <a:lnTo>
                  <a:pt x="115" y="0"/>
                </a:lnTo>
                <a:lnTo>
                  <a:pt x="142" y="8"/>
                </a:lnTo>
                <a:lnTo>
                  <a:pt x="142" y="37"/>
                </a:lnTo>
                <a:lnTo>
                  <a:pt x="132" y="69"/>
                </a:lnTo>
                <a:lnTo>
                  <a:pt x="99" y="85"/>
                </a:lnTo>
                <a:lnTo>
                  <a:pt x="51" y="85"/>
                </a:lnTo>
                <a:lnTo>
                  <a:pt x="30" y="81"/>
                </a:lnTo>
                <a:lnTo>
                  <a:pt x="14" y="59"/>
                </a:lnTo>
                <a:lnTo>
                  <a:pt x="6" y="37"/>
                </a:lnTo>
                <a:lnTo>
                  <a:pt x="0" y="19"/>
                </a:lnTo>
                <a:lnTo>
                  <a:pt x="30" y="8"/>
                </a:lnTo>
                <a:lnTo>
                  <a:pt x="30" y="8"/>
                </a:lnTo>
                <a:lnTo>
                  <a:pt x="3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54"/>
          <p:cNvSpPr/>
          <p:nvPr/>
        </p:nvSpPr>
        <p:spPr>
          <a:xfrm>
            <a:off x="4925880" y="2562120"/>
            <a:ext cx="1970280" cy="2222640"/>
          </a:xfrm>
          <a:custGeom>
            <a:avLst/>
            <a:gdLst>
              <a:gd name="textAreaLeft" fmla="*/ 0 w 1970280"/>
              <a:gd name="textAreaRight" fmla="*/ 1970640 w 1970280"/>
              <a:gd name="textAreaTop" fmla="*/ 0 h 2222640"/>
              <a:gd name="textAreaBottom" fmla="*/ 2223000 h 2222640"/>
            </a:gdLst>
            <a:ahLst/>
            <a:rect l="textAreaLeft" t="textAreaTop" r="textAreaRight" b="textAreaBottom"/>
            <a:pathLst>
              <a:path w="1241" h="1400">
                <a:moveTo>
                  <a:pt x="791" y="412"/>
                </a:moveTo>
                <a:lnTo>
                  <a:pt x="822" y="354"/>
                </a:lnTo>
                <a:lnTo>
                  <a:pt x="842" y="412"/>
                </a:lnTo>
                <a:lnTo>
                  <a:pt x="893" y="330"/>
                </a:lnTo>
                <a:lnTo>
                  <a:pt x="899" y="418"/>
                </a:lnTo>
                <a:lnTo>
                  <a:pt x="962" y="354"/>
                </a:lnTo>
                <a:lnTo>
                  <a:pt x="968" y="425"/>
                </a:lnTo>
                <a:lnTo>
                  <a:pt x="1032" y="393"/>
                </a:lnTo>
                <a:lnTo>
                  <a:pt x="1063" y="438"/>
                </a:lnTo>
                <a:lnTo>
                  <a:pt x="1139" y="412"/>
                </a:lnTo>
                <a:lnTo>
                  <a:pt x="1189" y="361"/>
                </a:lnTo>
                <a:lnTo>
                  <a:pt x="1222" y="286"/>
                </a:lnTo>
                <a:lnTo>
                  <a:pt x="1241" y="177"/>
                </a:lnTo>
                <a:lnTo>
                  <a:pt x="1189" y="76"/>
                </a:lnTo>
                <a:lnTo>
                  <a:pt x="1101" y="0"/>
                </a:lnTo>
                <a:lnTo>
                  <a:pt x="1145" y="63"/>
                </a:lnTo>
                <a:lnTo>
                  <a:pt x="1170" y="140"/>
                </a:lnTo>
                <a:lnTo>
                  <a:pt x="1170" y="197"/>
                </a:lnTo>
                <a:lnTo>
                  <a:pt x="1114" y="101"/>
                </a:lnTo>
                <a:lnTo>
                  <a:pt x="1032" y="63"/>
                </a:lnTo>
                <a:lnTo>
                  <a:pt x="918" y="51"/>
                </a:lnTo>
                <a:lnTo>
                  <a:pt x="842" y="76"/>
                </a:lnTo>
                <a:lnTo>
                  <a:pt x="747" y="127"/>
                </a:lnTo>
                <a:lnTo>
                  <a:pt x="683" y="152"/>
                </a:lnTo>
                <a:lnTo>
                  <a:pt x="608" y="177"/>
                </a:lnTo>
                <a:lnTo>
                  <a:pt x="481" y="203"/>
                </a:lnTo>
                <a:lnTo>
                  <a:pt x="615" y="215"/>
                </a:lnTo>
                <a:lnTo>
                  <a:pt x="735" y="215"/>
                </a:lnTo>
                <a:lnTo>
                  <a:pt x="829" y="197"/>
                </a:lnTo>
                <a:lnTo>
                  <a:pt x="905" y="159"/>
                </a:lnTo>
                <a:lnTo>
                  <a:pt x="962" y="152"/>
                </a:lnTo>
                <a:lnTo>
                  <a:pt x="1012" y="165"/>
                </a:lnTo>
                <a:lnTo>
                  <a:pt x="1039" y="197"/>
                </a:lnTo>
                <a:lnTo>
                  <a:pt x="1039" y="246"/>
                </a:lnTo>
                <a:lnTo>
                  <a:pt x="981" y="203"/>
                </a:lnTo>
                <a:lnTo>
                  <a:pt x="905" y="197"/>
                </a:lnTo>
                <a:lnTo>
                  <a:pt x="842" y="222"/>
                </a:lnTo>
                <a:lnTo>
                  <a:pt x="753" y="260"/>
                </a:lnTo>
                <a:lnTo>
                  <a:pt x="646" y="292"/>
                </a:lnTo>
                <a:lnTo>
                  <a:pt x="544" y="310"/>
                </a:lnTo>
                <a:lnTo>
                  <a:pt x="437" y="310"/>
                </a:lnTo>
                <a:lnTo>
                  <a:pt x="247" y="286"/>
                </a:lnTo>
                <a:lnTo>
                  <a:pt x="285" y="342"/>
                </a:lnTo>
                <a:lnTo>
                  <a:pt x="215" y="330"/>
                </a:lnTo>
                <a:lnTo>
                  <a:pt x="102" y="280"/>
                </a:lnTo>
                <a:lnTo>
                  <a:pt x="159" y="361"/>
                </a:lnTo>
                <a:lnTo>
                  <a:pt x="221" y="418"/>
                </a:lnTo>
                <a:lnTo>
                  <a:pt x="285" y="444"/>
                </a:lnTo>
                <a:lnTo>
                  <a:pt x="215" y="456"/>
                </a:lnTo>
                <a:lnTo>
                  <a:pt x="121" y="444"/>
                </a:lnTo>
                <a:lnTo>
                  <a:pt x="0" y="406"/>
                </a:lnTo>
                <a:lnTo>
                  <a:pt x="76" y="513"/>
                </a:lnTo>
                <a:lnTo>
                  <a:pt x="152" y="558"/>
                </a:lnTo>
                <a:lnTo>
                  <a:pt x="133" y="640"/>
                </a:lnTo>
                <a:lnTo>
                  <a:pt x="146" y="710"/>
                </a:lnTo>
                <a:lnTo>
                  <a:pt x="159" y="805"/>
                </a:lnTo>
                <a:lnTo>
                  <a:pt x="89" y="893"/>
                </a:lnTo>
                <a:lnTo>
                  <a:pt x="57" y="1001"/>
                </a:lnTo>
                <a:lnTo>
                  <a:pt x="44" y="1090"/>
                </a:lnTo>
                <a:lnTo>
                  <a:pt x="57" y="1165"/>
                </a:lnTo>
                <a:lnTo>
                  <a:pt x="44" y="1279"/>
                </a:lnTo>
                <a:lnTo>
                  <a:pt x="6" y="1400"/>
                </a:lnTo>
                <a:lnTo>
                  <a:pt x="96" y="1311"/>
                </a:lnTo>
                <a:lnTo>
                  <a:pt x="165" y="1191"/>
                </a:lnTo>
                <a:lnTo>
                  <a:pt x="209" y="1070"/>
                </a:lnTo>
                <a:lnTo>
                  <a:pt x="254" y="995"/>
                </a:lnTo>
                <a:lnTo>
                  <a:pt x="267" y="887"/>
                </a:lnTo>
                <a:lnTo>
                  <a:pt x="292" y="785"/>
                </a:lnTo>
                <a:lnTo>
                  <a:pt x="317" y="691"/>
                </a:lnTo>
                <a:lnTo>
                  <a:pt x="373" y="590"/>
                </a:lnTo>
                <a:lnTo>
                  <a:pt x="419" y="551"/>
                </a:lnTo>
                <a:lnTo>
                  <a:pt x="462" y="533"/>
                </a:lnTo>
                <a:lnTo>
                  <a:pt x="525" y="539"/>
                </a:lnTo>
                <a:lnTo>
                  <a:pt x="615" y="513"/>
                </a:lnTo>
                <a:lnTo>
                  <a:pt x="671" y="462"/>
                </a:lnTo>
                <a:lnTo>
                  <a:pt x="753" y="379"/>
                </a:lnTo>
                <a:lnTo>
                  <a:pt x="791" y="412"/>
                </a:lnTo>
                <a:lnTo>
                  <a:pt x="791" y="412"/>
                </a:lnTo>
                <a:lnTo>
                  <a:pt x="791" y="4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55"/>
          <p:cNvSpPr/>
          <p:nvPr/>
        </p:nvSpPr>
        <p:spPr>
          <a:xfrm>
            <a:off x="6703920" y="2754360"/>
            <a:ext cx="2671920" cy="3941640"/>
          </a:xfrm>
          <a:custGeom>
            <a:avLst/>
            <a:gdLst>
              <a:gd name="textAreaLeft" fmla="*/ 0 w 2671920"/>
              <a:gd name="textAreaRight" fmla="*/ 2672280 w 2671920"/>
              <a:gd name="textAreaTop" fmla="*/ 0 h 3941640"/>
              <a:gd name="textAreaBottom" fmla="*/ 3942000 h 3941640"/>
            </a:gdLst>
            <a:ahLst/>
            <a:rect l="textAreaLeft" t="textAreaTop" r="textAreaRight" b="textAreaBottom"/>
            <a:pathLst>
              <a:path w="1683" h="2483">
                <a:moveTo>
                  <a:pt x="0" y="310"/>
                </a:moveTo>
                <a:lnTo>
                  <a:pt x="76" y="285"/>
                </a:lnTo>
                <a:lnTo>
                  <a:pt x="145" y="233"/>
                </a:lnTo>
                <a:lnTo>
                  <a:pt x="221" y="159"/>
                </a:lnTo>
                <a:lnTo>
                  <a:pt x="266" y="82"/>
                </a:lnTo>
                <a:lnTo>
                  <a:pt x="279" y="0"/>
                </a:lnTo>
                <a:lnTo>
                  <a:pt x="298" y="69"/>
                </a:lnTo>
                <a:lnTo>
                  <a:pt x="373" y="56"/>
                </a:lnTo>
                <a:lnTo>
                  <a:pt x="443" y="82"/>
                </a:lnTo>
                <a:lnTo>
                  <a:pt x="506" y="133"/>
                </a:lnTo>
                <a:lnTo>
                  <a:pt x="531" y="209"/>
                </a:lnTo>
                <a:lnTo>
                  <a:pt x="545" y="297"/>
                </a:lnTo>
                <a:lnTo>
                  <a:pt x="564" y="353"/>
                </a:lnTo>
                <a:lnTo>
                  <a:pt x="608" y="392"/>
                </a:lnTo>
                <a:lnTo>
                  <a:pt x="658" y="430"/>
                </a:lnTo>
                <a:lnTo>
                  <a:pt x="791" y="475"/>
                </a:lnTo>
                <a:lnTo>
                  <a:pt x="912" y="481"/>
                </a:lnTo>
                <a:lnTo>
                  <a:pt x="791" y="512"/>
                </a:lnTo>
                <a:lnTo>
                  <a:pt x="886" y="582"/>
                </a:lnTo>
                <a:lnTo>
                  <a:pt x="955" y="658"/>
                </a:lnTo>
                <a:lnTo>
                  <a:pt x="993" y="760"/>
                </a:lnTo>
                <a:lnTo>
                  <a:pt x="937" y="684"/>
                </a:lnTo>
                <a:lnTo>
                  <a:pt x="862" y="620"/>
                </a:lnTo>
                <a:lnTo>
                  <a:pt x="797" y="601"/>
                </a:lnTo>
                <a:lnTo>
                  <a:pt x="848" y="677"/>
                </a:lnTo>
                <a:lnTo>
                  <a:pt x="880" y="753"/>
                </a:lnTo>
                <a:lnTo>
                  <a:pt x="925" y="829"/>
                </a:lnTo>
                <a:lnTo>
                  <a:pt x="987" y="855"/>
                </a:lnTo>
                <a:lnTo>
                  <a:pt x="1051" y="874"/>
                </a:lnTo>
                <a:lnTo>
                  <a:pt x="981" y="905"/>
                </a:lnTo>
                <a:lnTo>
                  <a:pt x="981" y="994"/>
                </a:lnTo>
                <a:lnTo>
                  <a:pt x="937" y="930"/>
                </a:lnTo>
                <a:lnTo>
                  <a:pt x="949" y="1070"/>
                </a:lnTo>
                <a:lnTo>
                  <a:pt x="1007" y="1140"/>
                </a:lnTo>
                <a:lnTo>
                  <a:pt x="1101" y="1209"/>
                </a:lnTo>
                <a:lnTo>
                  <a:pt x="1151" y="1254"/>
                </a:lnTo>
                <a:lnTo>
                  <a:pt x="1196" y="1329"/>
                </a:lnTo>
                <a:lnTo>
                  <a:pt x="1222" y="1394"/>
                </a:lnTo>
                <a:lnTo>
                  <a:pt x="1228" y="1456"/>
                </a:lnTo>
                <a:lnTo>
                  <a:pt x="1222" y="1539"/>
                </a:lnTo>
                <a:lnTo>
                  <a:pt x="1177" y="1614"/>
                </a:lnTo>
                <a:lnTo>
                  <a:pt x="1095" y="1704"/>
                </a:lnTo>
                <a:lnTo>
                  <a:pt x="1202" y="1659"/>
                </a:lnTo>
                <a:lnTo>
                  <a:pt x="1196" y="1760"/>
                </a:lnTo>
                <a:lnTo>
                  <a:pt x="1272" y="1672"/>
                </a:lnTo>
                <a:lnTo>
                  <a:pt x="1297" y="1595"/>
                </a:lnTo>
                <a:lnTo>
                  <a:pt x="1309" y="1520"/>
                </a:lnTo>
                <a:lnTo>
                  <a:pt x="1297" y="1437"/>
                </a:lnTo>
                <a:lnTo>
                  <a:pt x="1278" y="1368"/>
                </a:lnTo>
                <a:lnTo>
                  <a:pt x="1336" y="1444"/>
                </a:lnTo>
                <a:lnTo>
                  <a:pt x="1361" y="1493"/>
                </a:lnTo>
                <a:lnTo>
                  <a:pt x="1380" y="1558"/>
                </a:lnTo>
                <a:lnTo>
                  <a:pt x="1386" y="1627"/>
                </a:lnTo>
                <a:lnTo>
                  <a:pt x="1380" y="1716"/>
                </a:lnTo>
                <a:lnTo>
                  <a:pt x="1442" y="1627"/>
                </a:lnTo>
                <a:lnTo>
                  <a:pt x="1468" y="1527"/>
                </a:lnTo>
                <a:lnTo>
                  <a:pt x="1494" y="1641"/>
                </a:lnTo>
                <a:lnTo>
                  <a:pt x="1474" y="1734"/>
                </a:lnTo>
                <a:lnTo>
                  <a:pt x="1449" y="1811"/>
                </a:lnTo>
                <a:lnTo>
                  <a:pt x="1474" y="1919"/>
                </a:lnTo>
                <a:lnTo>
                  <a:pt x="1461" y="2001"/>
                </a:lnTo>
                <a:lnTo>
                  <a:pt x="1519" y="2052"/>
                </a:lnTo>
                <a:lnTo>
                  <a:pt x="1575" y="2058"/>
                </a:lnTo>
                <a:lnTo>
                  <a:pt x="1652" y="2033"/>
                </a:lnTo>
                <a:lnTo>
                  <a:pt x="1646" y="2109"/>
                </a:lnTo>
                <a:lnTo>
                  <a:pt x="1607" y="2171"/>
                </a:lnTo>
                <a:lnTo>
                  <a:pt x="1563" y="2211"/>
                </a:lnTo>
                <a:lnTo>
                  <a:pt x="1582" y="2273"/>
                </a:lnTo>
                <a:lnTo>
                  <a:pt x="1588" y="2369"/>
                </a:lnTo>
                <a:lnTo>
                  <a:pt x="1665" y="2419"/>
                </a:lnTo>
                <a:lnTo>
                  <a:pt x="1683" y="2483"/>
                </a:lnTo>
                <a:lnTo>
                  <a:pt x="1640" y="2431"/>
                </a:lnTo>
                <a:lnTo>
                  <a:pt x="1544" y="2457"/>
                </a:lnTo>
                <a:lnTo>
                  <a:pt x="1399" y="2457"/>
                </a:lnTo>
                <a:lnTo>
                  <a:pt x="1317" y="2444"/>
                </a:lnTo>
                <a:lnTo>
                  <a:pt x="1184" y="2394"/>
                </a:lnTo>
                <a:lnTo>
                  <a:pt x="1095" y="2312"/>
                </a:lnTo>
                <a:lnTo>
                  <a:pt x="1057" y="2229"/>
                </a:lnTo>
                <a:lnTo>
                  <a:pt x="1051" y="2128"/>
                </a:lnTo>
                <a:lnTo>
                  <a:pt x="1076" y="2001"/>
                </a:lnTo>
                <a:lnTo>
                  <a:pt x="1139" y="1868"/>
                </a:lnTo>
                <a:lnTo>
                  <a:pt x="1051" y="1975"/>
                </a:lnTo>
                <a:lnTo>
                  <a:pt x="1013" y="2065"/>
                </a:lnTo>
                <a:lnTo>
                  <a:pt x="987" y="2153"/>
                </a:lnTo>
                <a:lnTo>
                  <a:pt x="999" y="2254"/>
                </a:lnTo>
                <a:lnTo>
                  <a:pt x="1069" y="2343"/>
                </a:lnTo>
                <a:lnTo>
                  <a:pt x="912" y="2298"/>
                </a:lnTo>
                <a:lnTo>
                  <a:pt x="589" y="2273"/>
                </a:lnTo>
                <a:lnTo>
                  <a:pt x="348" y="2192"/>
                </a:lnTo>
                <a:lnTo>
                  <a:pt x="393" y="2078"/>
                </a:lnTo>
                <a:lnTo>
                  <a:pt x="437" y="1988"/>
                </a:lnTo>
                <a:lnTo>
                  <a:pt x="518" y="1899"/>
                </a:lnTo>
                <a:lnTo>
                  <a:pt x="456" y="2014"/>
                </a:lnTo>
                <a:lnTo>
                  <a:pt x="443" y="2121"/>
                </a:lnTo>
                <a:lnTo>
                  <a:pt x="506" y="2007"/>
                </a:lnTo>
                <a:lnTo>
                  <a:pt x="589" y="1925"/>
                </a:lnTo>
                <a:lnTo>
                  <a:pt x="697" y="1849"/>
                </a:lnTo>
                <a:lnTo>
                  <a:pt x="809" y="1747"/>
                </a:lnTo>
                <a:lnTo>
                  <a:pt x="880" y="1678"/>
                </a:lnTo>
                <a:lnTo>
                  <a:pt x="918" y="1595"/>
                </a:lnTo>
                <a:lnTo>
                  <a:pt x="918" y="1532"/>
                </a:lnTo>
                <a:lnTo>
                  <a:pt x="886" y="1456"/>
                </a:lnTo>
                <a:lnTo>
                  <a:pt x="816" y="1374"/>
                </a:lnTo>
                <a:lnTo>
                  <a:pt x="740" y="1291"/>
                </a:lnTo>
                <a:lnTo>
                  <a:pt x="689" y="1216"/>
                </a:lnTo>
                <a:lnTo>
                  <a:pt x="683" y="1127"/>
                </a:lnTo>
                <a:lnTo>
                  <a:pt x="735" y="1203"/>
                </a:lnTo>
                <a:lnTo>
                  <a:pt x="862" y="1254"/>
                </a:lnTo>
                <a:lnTo>
                  <a:pt x="772" y="1177"/>
                </a:lnTo>
                <a:lnTo>
                  <a:pt x="689" y="1090"/>
                </a:lnTo>
                <a:lnTo>
                  <a:pt x="652" y="988"/>
                </a:lnTo>
                <a:lnTo>
                  <a:pt x="645" y="917"/>
                </a:lnTo>
                <a:lnTo>
                  <a:pt x="677" y="843"/>
                </a:lnTo>
                <a:lnTo>
                  <a:pt x="735" y="760"/>
                </a:lnTo>
                <a:lnTo>
                  <a:pt x="740" y="670"/>
                </a:lnTo>
                <a:lnTo>
                  <a:pt x="703" y="595"/>
                </a:lnTo>
                <a:lnTo>
                  <a:pt x="626" y="531"/>
                </a:lnTo>
                <a:lnTo>
                  <a:pt x="671" y="645"/>
                </a:lnTo>
                <a:lnTo>
                  <a:pt x="677" y="709"/>
                </a:lnTo>
                <a:lnTo>
                  <a:pt x="614" y="620"/>
                </a:lnTo>
                <a:lnTo>
                  <a:pt x="633" y="709"/>
                </a:lnTo>
                <a:lnTo>
                  <a:pt x="601" y="822"/>
                </a:lnTo>
                <a:lnTo>
                  <a:pt x="500" y="969"/>
                </a:lnTo>
                <a:lnTo>
                  <a:pt x="443" y="1115"/>
                </a:lnTo>
                <a:lnTo>
                  <a:pt x="418" y="1248"/>
                </a:lnTo>
                <a:lnTo>
                  <a:pt x="399" y="1050"/>
                </a:lnTo>
                <a:lnTo>
                  <a:pt x="354" y="911"/>
                </a:lnTo>
                <a:lnTo>
                  <a:pt x="177" y="512"/>
                </a:lnTo>
                <a:lnTo>
                  <a:pt x="127" y="418"/>
                </a:lnTo>
                <a:lnTo>
                  <a:pt x="89" y="373"/>
                </a:lnTo>
                <a:lnTo>
                  <a:pt x="44" y="335"/>
                </a:lnTo>
                <a:lnTo>
                  <a:pt x="0" y="310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56"/>
          <p:cNvSpPr/>
          <p:nvPr/>
        </p:nvSpPr>
        <p:spPr>
          <a:xfrm>
            <a:off x="8312040" y="4019400"/>
            <a:ext cx="692280" cy="1006560"/>
          </a:xfrm>
          <a:custGeom>
            <a:avLst/>
            <a:gdLst>
              <a:gd name="textAreaLeft" fmla="*/ 0 w 692280"/>
              <a:gd name="textAreaRight" fmla="*/ 692640 w 69228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36" h="634">
                <a:moveTo>
                  <a:pt x="7" y="0"/>
                </a:moveTo>
                <a:lnTo>
                  <a:pt x="32" y="39"/>
                </a:lnTo>
                <a:lnTo>
                  <a:pt x="94" y="96"/>
                </a:lnTo>
                <a:lnTo>
                  <a:pt x="44" y="120"/>
                </a:lnTo>
                <a:lnTo>
                  <a:pt x="113" y="247"/>
                </a:lnTo>
                <a:lnTo>
                  <a:pt x="209" y="349"/>
                </a:lnTo>
                <a:lnTo>
                  <a:pt x="323" y="451"/>
                </a:lnTo>
                <a:lnTo>
                  <a:pt x="398" y="545"/>
                </a:lnTo>
                <a:lnTo>
                  <a:pt x="436" y="634"/>
                </a:lnTo>
                <a:lnTo>
                  <a:pt x="360" y="526"/>
                </a:lnTo>
                <a:lnTo>
                  <a:pt x="240" y="399"/>
                </a:lnTo>
                <a:lnTo>
                  <a:pt x="100" y="311"/>
                </a:lnTo>
                <a:lnTo>
                  <a:pt x="164" y="412"/>
                </a:lnTo>
                <a:lnTo>
                  <a:pt x="76" y="349"/>
                </a:lnTo>
                <a:lnTo>
                  <a:pt x="19" y="280"/>
                </a:lnTo>
                <a:lnTo>
                  <a:pt x="0" y="184"/>
                </a:lnTo>
                <a:lnTo>
                  <a:pt x="0" y="7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57"/>
          <p:cNvSpPr/>
          <p:nvPr/>
        </p:nvSpPr>
        <p:spPr>
          <a:xfrm>
            <a:off x="6323040" y="4111560"/>
            <a:ext cx="1768320" cy="260352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2603520"/>
              <a:gd name="textAreaBottom" fmla="*/ 2603880 h 2603520"/>
            </a:gdLst>
            <a:ahLst/>
            <a:rect l="textAreaLeft" t="textAreaTop" r="textAreaRight" b="textAreaBottom"/>
            <a:pathLst>
              <a:path w="1114" h="1640">
                <a:moveTo>
                  <a:pt x="689" y="222"/>
                </a:moveTo>
                <a:lnTo>
                  <a:pt x="771" y="120"/>
                </a:lnTo>
                <a:lnTo>
                  <a:pt x="866" y="0"/>
                </a:lnTo>
                <a:lnTo>
                  <a:pt x="841" y="120"/>
                </a:lnTo>
                <a:lnTo>
                  <a:pt x="835" y="202"/>
                </a:lnTo>
                <a:lnTo>
                  <a:pt x="841" y="285"/>
                </a:lnTo>
                <a:lnTo>
                  <a:pt x="873" y="399"/>
                </a:lnTo>
                <a:lnTo>
                  <a:pt x="929" y="468"/>
                </a:lnTo>
                <a:lnTo>
                  <a:pt x="1081" y="589"/>
                </a:lnTo>
                <a:lnTo>
                  <a:pt x="1114" y="638"/>
                </a:lnTo>
                <a:lnTo>
                  <a:pt x="1114" y="715"/>
                </a:lnTo>
                <a:lnTo>
                  <a:pt x="1075" y="798"/>
                </a:lnTo>
                <a:lnTo>
                  <a:pt x="1012" y="886"/>
                </a:lnTo>
                <a:lnTo>
                  <a:pt x="854" y="1000"/>
                </a:lnTo>
                <a:lnTo>
                  <a:pt x="778" y="1050"/>
                </a:lnTo>
                <a:lnTo>
                  <a:pt x="709" y="1140"/>
                </a:lnTo>
                <a:lnTo>
                  <a:pt x="658" y="1229"/>
                </a:lnTo>
                <a:lnTo>
                  <a:pt x="625" y="1349"/>
                </a:lnTo>
                <a:lnTo>
                  <a:pt x="525" y="1329"/>
                </a:lnTo>
                <a:lnTo>
                  <a:pt x="481" y="1418"/>
                </a:lnTo>
                <a:lnTo>
                  <a:pt x="392" y="1507"/>
                </a:lnTo>
                <a:lnTo>
                  <a:pt x="259" y="1589"/>
                </a:lnTo>
                <a:lnTo>
                  <a:pt x="88" y="1640"/>
                </a:lnTo>
                <a:lnTo>
                  <a:pt x="278" y="1551"/>
                </a:lnTo>
                <a:lnTo>
                  <a:pt x="385" y="1470"/>
                </a:lnTo>
                <a:lnTo>
                  <a:pt x="455" y="1387"/>
                </a:lnTo>
                <a:lnTo>
                  <a:pt x="468" y="1316"/>
                </a:lnTo>
                <a:lnTo>
                  <a:pt x="411" y="1298"/>
                </a:lnTo>
                <a:lnTo>
                  <a:pt x="297" y="1368"/>
                </a:lnTo>
                <a:lnTo>
                  <a:pt x="209" y="1406"/>
                </a:lnTo>
                <a:lnTo>
                  <a:pt x="108" y="1424"/>
                </a:lnTo>
                <a:lnTo>
                  <a:pt x="0" y="1412"/>
                </a:lnTo>
                <a:lnTo>
                  <a:pt x="113" y="1412"/>
                </a:lnTo>
                <a:lnTo>
                  <a:pt x="177" y="1393"/>
                </a:lnTo>
                <a:lnTo>
                  <a:pt x="259" y="1356"/>
                </a:lnTo>
                <a:lnTo>
                  <a:pt x="379" y="1266"/>
                </a:lnTo>
                <a:lnTo>
                  <a:pt x="500" y="1140"/>
                </a:lnTo>
                <a:lnTo>
                  <a:pt x="633" y="956"/>
                </a:lnTo>
                <a:lnTo>
                  <a:pt x="683" y="886"/>
                </a:lnTo>
                <a:lnTo>
                  <a:pt x="696" y="810"/>
                </a:lnTo>
                <a:lnTo>
                  <a:pt x="702" y="715"/>
                </a:lnTo>
                <a:lnTo>
                  <a:pt x="727" y="830"/>
                </a:lnTo>
                <a:lnTo>
                  <a:pt x="792" y="830"/>
                </a:lnTo>
                <a:lnTo>
                  <a:pt x="778" y="740"/>
                </a:lnTo>
                <a:lnTo>
                  <a:pt x="848" y="798"/>
                </a:lnTo>
                <a:lnTo>
                  <a:pt x="866" y="728"/>
                </a:lnTo>
                <a:lnTo>
                  <a:pt x="829" y="672"/>
                </a:lnTo>
                <a:lnTo>
                  <a:pt x="797" y="645"/>
                </a:lnTo>
                <a:lnTo>
                  <a:pt x="696" y="652"/>
                </a:lnTo>
                <a:lnTo>
                  <a:pt x="671" y="557"/>
                </a:lnTo>
                <a:lnTo>
                  <a:pt x="658" y="418"/>
                </a:lnTo>
                <a:lnTo>
                  <a:pt x="658" y="272"/>
                </a:lnTo>
                <a:lnTo>
                  <a:pt x="689" y="222"/>
                </a:lnTo>
                <a:lnTo>
                  <a:pt x="689" y="222"/>
                </a:lnTo>
                <a:lnTo>
                  <a:pt x="689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58"/>
          <p:cNvSpPr/>
          <p:nvPr/>
        </p:nvSpPr>
        <p:spPr>
          <a:xfrm>
            <a:off x="4213080" y="2200320"/>
            <a:ext cx="2882880" cy="143820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816" h="906">
                <a:moveTo>
                  <a:pt x="1816" y="254"/>
                </a:moveTo>
                <a:lnTo>
                  <a:pt x="1784" y="145"/>
                </a:lnTo>
                <a:lnTo>
                  <a:pt x="1665" y="76"/>
                </a:lnTo>
                <a:lnTo>
                  <a:pt x="1519" y="63"/>
                </a:lnTo>
                <a:lnTo>
                  <a:pt x="1354" y="6"/>
                </a:lnTo>
                <a:lnTo>
                  <a:pt x="1247" y="0"/>
                </a:lnTo>
                <a:lnTo>
                  <a:pt x="1151" y="6"/>
                </a:lnTo>
                <a:lnTo>
                  <a:pt x="1044" y="50"/>
                </a:lnTo>
                <a:lnTo>
                  <a:pt x="955" y="114"/>
                </a:lnTo>
                <a:lnTo>
                  <a:pt x="822" y="152"/>
                </a:lnTo>
                <a:lnTo>
                  <a:pt x="703" y="184"/>
                </a:lnTo>
                <a:lnTo>
                  <a:pt x="576" y="279"/>
                </a:lnTo>
                <a:lnTo>
                  <a:pt x="525" y="317"/>
                </a:lnTo>
                <a:lnTo>
                  <a:pt x="449" y="329"/>
                </a:lnTo>
                <a:lnTo>
                  <a:pt x="380" y="304"/>
                </a:lnTo>
                <a:lnTo>
                  <a:pt x="418" y="342"/>
                </a:lnTo>
                <a:lnTo>
                  <a:pt x="462" y="368"/>
                </a:lnTo>
                <a:lnTo>
                  <a:pt x="399" y="393"/>
                </a:lnTo>
                <a:lnTo>
                  <a:pt x="310" y="387"/>
                </a:lnTo>
                <a:lnTo>
                  <a:pt x="272" y="342"/>
                </a:lnTo>
                <a:lnTo>
                  <a:pt x="260" y="380"/>
                </a:lnTo>
                <a:lnTo>
                  <a:pt x="279" y="443"/>
                </a:lnTo>
                <a:lnTo>
                  <a:pt x="310" y="482"/>
                </a:lnTo>
                <a:lnTo>
                  <a:pt x="266" y="514"/>
                </a:lnTo>
                <a:lnTo>
                  <a:pt x="202" y="576"/>
                </a:lnTo>
                <a:lnTo>
                  <a:pt x="196" y="684"/>
                </a:lnTo>
                <a:lnTo>
                  <a:pt x="140" y="755"/>
                </a:lnTo>
                <a:lnTo>
                  <a:pt x="70" y="767"/>
                </a:lnTo>
                <a:lnTo>
                  <a:pt x="31" y="678"/>
                </a:lnTo>
                <a:lnTo>
                  <a:pt x="0" y="755"/>
                </a:lnTo>
                <a:lnTo>
                  <a:pt x="25" y="824"/>
                </a:lnTo>
                <a:lnTo>
                  <a:pt x="102" y="868"/>
                </a:lnTo>
                <a:lnTo>
                  <a:pt x="235" y="874"/>
                </a:lnTo>
                <a:lnTo>
                  <a:pt x="317" y="830"/>
                </a:lnTo>
                <a:lnTo>
                  <a:pt x="367" y="906"/>
                </a:lnTo>
                <a:lnTo>
                  <a:pt x="412" y="830"/>
                </a:lnTo>
                <a:lnTo>
                  <a:pt x="360" y="702"/>
                </a:lnTo>
                <a:lnTo>
                  <a:pt x="354" y="576"/>
                </a:lnTo>
                <a:lnTo>
                  <a:pt x="412" y="601"/>
                </a:lnTo>
                <a:lnTo>
                  <a:pt x="367" y="501"/>
                </a:lnTo>
                <a:lnTo>
                  <a:pt x="360" y="443"/>
                </a:lnTo>
                <a:lnTo>
                  <a:pt x="431" y="501"/>
                </a:lnTo>
                <a:lnTo>
                  <a:pt x="487" y="538"/>
                </a:lnTo>
                <a:lnTo>
                  <a:pt x="481" y="437"/>
                </a:lnTo>
                <a:lnTo>
                  <a:pt x="545" y="450"/>
                </a:lnTo>
                <a:lnTo>
                  <a:pt x="690" y="462"/>
                </a:lnTo>
                <a:lnTo>
                  <a:pt x="835" y="437"/>
                </a:lnTo>
                <a:lnTo>
                  <a:pt x="703" y="374"/>
                </a:lnTo>
                <a:lnTo>
                  <a:pt x="835" y="272"/>
                </a:lnTo>
                <a:lnTo>
                  <a:pt x="987" y="247"/>
                </a:lnTo>
                <a:lnTo>
                  <a:pt x="1165" y="272"/>
                </a:lnTo>
                <a:lnTo>
                  <a:pt x="1303" y="260"/>
                </a:lnTo>
                <a:lnTo>
                  <a:pt x="1392" y="222"/>
                </a:lnTo>
                <a:lnTo>
                  <a:pt x="1481" y="208"/>
                </a:lnTo>
                <a:lnTo>
                  <a:pt x="1380" y="184"/>
                </a:lnTo>
                <a:lnTo>
                  <a:pt x="1278" y="196"/>
                </a:lnTo>
                <a:lnTo>
                  <a:pt x="1178" y="190"/>
                </a:lnTo>
                <a:lnTo>
                  <a:pt x="1057" y="145"/>
                </a:lnTo>
                <a:lnTo>
                  <a:pt x="1247" y="145"/>
                </a:lnTo>
                <a:lnTo>
                  <a:pt x="1374" y="133"/>
                </a:lnTo>
                <a:lnTo>
                  <a:pt x="1475" y="145"/>
                </a:lnTo>
                <a:lnTo>
                  <a:pt x="1563" y="184"/>
                </a:lnTo>
                <a:lnTo>
                  <a:pt x="1582" y="133"/>
                </a:lnTo>
                <a:lnTo>
                  <a:pt x="1652" y="164"/>
                </a:lnTo>
                <a:lnTo>
                  <a:pt x="1696" y="234"/>
                </a:lnTo>
                <a:lnTo>
                  <a:pt x="1708" y="304"/>
                </a:lnTo>
                <a:lnTo>
                  <a:pt x="1753" y="272"/>
                </a:lnTo>
                <a:lnTo>
                  <a:pt x="1753" y="342"/>
                </a:lnTo>
                <a:lnTo>
                  <a:pt x="1721" y="462"/>
                </a:lnTo>
                <a:lnTo>
                  <a:pt x="1816" y="342"/>
                </a:lnTo>
                <a:lnTo>
                  <a:pt x="1816" y="254"/>
                </a:lnTo>
                <a:lnTo>
                  <a:pt x="1816" y="254"/>
                </a:lnTo>
                <a:lnTo>
                  <a:pt x="1816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59"/>
          <p:cNvSpPr/>
          <p:nvPr/>
        </p:nvSpPr>
        <p:spPr>
          <a:xfrm>
            <a:off x="3751200" y="3225960"/>
            <a:ext cx="2421000" cy="347004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3470040"/>
              <a:gd name="textAreaBottom" fmla="*/ 3470400 h 3470040"/>
            </a:gdLst>
            <a:ahLst/>
            <a:rect l="textAreaLeft" t="textAreaTop" r="textAreaRight" b="textAreaBottom"/>
            <a:pathLst>
              <a:path w="1525" h="2186">
                <a:moveTo>
                  <a:pt x="709" y="20"/>
                </a:moveTo>
                <a:lnTo>
                  <a:pt x="759" y="140"/>
                </a:lnTo>
                <a:lnTo>
                  <a:pt x="740" y="260"/>
                </a:lnTo>
                <a:lnTo>
                  <a:pt x="678" y="323"/>
                </a:lnTo>
                <a:lnTo>
                  <a:pt x="589" y="373"/>
                </a:lnTo>
                <a:lnTo>
                  <a:pt x="399" y="425"/>
                </a:lnTo>
                <a:lnTo>
                  <a:pt x="539" y="348"/>
                </a:lnTo>
                <a:lnTo>
                  <a:pt x="658" y="273"/>
                </a:lnTo>
                <a:lnTo>
                  <a:pt x="582" y="246"/>
                </a:lnTo>
                <a:lnTo>
                  <a:pt x="512" y="172"/>
                </a:lnTo>
                <a:lnTo>
                  <a:pt x="373" y="184"/>
                </a:lnTo>
                <a:lnTo>
                  <a:pt x="316" y="273"/>
                </a:lnTo>
                <a:lnTo>
                  <a:pt x="291" y="387"/>
                </a:lnTo>
                <a:lnTo>
                  <a:pt x="222" y="412"/>
                </a:lnTo>
                <a:lnTo>
                  <a:pt x="177" y="323"/>
                </a:lnTo>
                <a:lnTo>
                  <a:pt x="126" y="437"/>
                </a:lnTo>
                <a:lnTo>
                  <a:pt x="126" y="500"/>
                </a:lnTo>
                <a:lnTo>
                  <a:pt x="145" y="564"/>
                </a:lnTo>
                <a:lnTo>
                  <a:pt x="120" y="614"/>
                </a:lnTo>
                <a:lnTo>
                  <a:pt x="108" y="684"/>
                </a:lnTo>
                <a:lnTo>
                  <a:pt x="139" y="753"/>
                </a:lnTo>
                <a:lnTo>
                  <a:pt x="120" y="811"/>
                </a:lnTo>
                <a:lnTo>
                  <a:pt x="63" y="836"/>
                </a:lnTo>
                <a:lnTo>
                  <a:pt x="0" y="830"/>
                </a:lnTo>
                <a:lnTo>
                  <a:pt x="19" y="861"/>
                </a:lnTo>
                <a:lnTo>
                  <a:pt x="57" y="887"/>
                </a:lnTo>
                <a:lnTo>
                  <a:pt x="126" y="899"/>
                </a:lnTo>
                <a:lnTo>
                  <a:pt x="108" y="938"/>
                </a:lnTo>
                <a:lnTo>
                  <a:pt x="164" y="976"/>
                </a:lnTo>
                <a:lnTo>
                  <a:pt x="222" y="988"/>
                </a:lnTo>
                <a:lnTo>
                  <a:pt x="298" y="976"/>
                </a:lnTo>
                <a:lnTo>
                  <a:pt x="368" y="944"/>
                </a:lnTo>
                <a:lnTo>
                  <a:pt x="474" y="836"/>
                </a:lnTo>
                <a:lnTo>
                  <a:pt x="532" y="741"/>
                </a:lnTo>
                <a:lnTo>
                  <a:pt x="493" y="880"/>
                </a:lnTo>
                <a:lnTo>
                  <a:pt x="431" y="963"/>
                </a:lnTo>
                <a:lnTo>
                  <a:pt x="335" y="1026"/>
                </a:lnTo>
                <a:lnTo>
                  <a:pt x="278" y="1032"/>
                </a:lnTo>
                <a:lnTo>
                  <a:pt x="208" y="1026"/>
                </a:lnTo>
                <a:lnTo>
                  <a:pt x="139" y="1071"/>
                </a:lnTo>
                <a:lnTo>
                  <a:pt x="102" y="1172"/>
                </a:lnTo>
                <a:lnTo>
                  <a:pt x="114" y="1223"/>
                </a:lnTo>
                <a:lnTo>
                  <a:pt x="83" y="1304"/>
                </a:lnTo>
                <a:lnTo>
                  <a:pt x="96" y="1388"/>
                </a:lnTo>
                <a:lnTo>
                  <a:pt x="177" y="1496"/>
                </a:lnTo>
                <a:lnTo>
                  <a:pt x="183" y="1407"/>
                </a:lnTo>
                <a:lnTo>
                  <a:pt x="247" y="1350"/>
                </a:lnTo>
                <a:lnTo>
                  <a:pt x="247" y="1431"/>
                </a:lnTo>
                <a:lnTo>
                  <a:pt x="361" y="1344"/>
                </a:lnTo>
                <a:lnTo>
                  <a:pt x="418" y="1242"/>
                </a:lnTo>
                <a:lnTo>
                  <a:pt x="443" y="1103"/>
                </a:lnTo>
                <a:lnTo>
                  <a:pt x="481" y="1242"/>
                </a:lnTo>
                <a:lnTo>
                  <a:pt x="551" y="1362"/>
                </a:lnTo>
                <a:lnTo>
                  <a:pt x="703" y="1444"/>
                </a:lnTo>
                <a:lnTo>
                  <a:pt x="791" y="1496"/>
                </a:lnTo>
                <a:lnTo>
                  <a:pt x="842" y="1552"/>
                </a:lnTo>
                <a:lnTo>
                  <a:pt x="842" y="1654"/>
                </a:lnTo>
                <a:lnTo>
                  <a:pt x="778" y="1781"/>
                </a:lnTo>
                <a:lnTo>
                  <a:pt x="753" y="1844"/>
                </a:lnTo>
                <a:lnTo>
                  <a:pt x="740" y="1919"/>
                </a:lnTo>
                <a:lnTo>
                  <a:pt x="746" y="1988"/>
                </a:lnTo>
                <a:lnTo>
                  <a:pt x="809" y="2072"/>
                </a:lnTo>
                <a:lnTo>
                  <a:pt x="595" y="2166"/>
                </a:lnTo>
                <a:lnTo>
                  <a:pt x="873" y="2084"/>
                </a:lnTo>
                <a:lnTo>
                  <a:pt x="1063" y="1982"/>
                </a:lnTo>
                <a:lnTo>
                  <a:pt x="1107" y="2046"/>
                </a:lnTo>
                <a:lnTo>
                  <a:pt x="1215" y="2122"/>
                </a:lnTo>
                <a:lnTo>
                  <a:pt x="1310" y="2154"/>
                </a:lnTo>
                <a:lnTo>
                  <a:pt x="1355" y="2186"/>
                </a:lnTo>
                <a:lnTo>
                  <a:pt x="1513" y="2186"/>
                </a:lnTo>
                <a:lnTo>
                  <a:pt x="1469" y="2059"/>
                </a:lnTo>
                <a:lnTo>
                  <a:pt x="1429" y="1976"/>
                </a:lnTo>
                <a:lnTo>
                  <a:pt x="1525" y="1964"/>
                </a:lnTo>
                <a:lnTo>
                  <a:pt x="1398" y="1939"/>
                </a:lnTo>
                <a:lnTo>
                  <a:pt x="1177" y="1781"/>
                </a:lnTo>
                <a:lnTo>
                  <a:pt x="1076" y="1678"/>
                </a:lnTo>
                <a:lnTo>
                  <a:pt x="1013" y="1590"/>
                </a:lnTo>
                <a:lnTo>
                  <a:pt x="981" y="1527"/>
                </a:lnTo>
                <a:lnTo>
                  <a:pt x="905" y="1324"/>
                </a:lnTo>
                <a:lnTo>
                  <a:pt x="861" y="1140"/>
                </a:lnTo>
                <a:lnTo>
                  <a:pt x="867" y="988"/>
                </a:lnTo>
                <a:lnTo>
                  <a:pt x="867" y="793"/>
                </a:lnTo>
                <a:lnTo>
                  <a:pt x="766" y="924"/>
                </a:lnTo>
                <a:lnTo>
                  <a:pt x="772" y="811"/>
                </a:lnTo>
                <a:lnTo>
                  <a:pt x="753" y="704"/>
                </a:lnTo>
                <a:lnTo>
                  <a:pt x="740" y="614"/>
                </a:lnTo>
                <a:lnTo>
                  <a:pt x="753" y="506"/>
                </a:lnTo>
                <a:lnTo>
                  <a:pt x="778" y="419"/>
                </a:lnTo>
                <a:lnTo>
                  <a:pt x="849" y="355"/>
                </a:lnTo>
                <a:lnTo>
                  <a:pt x="809" y="279"/>
                </a:lnTo>
                <a:lnTo>
                  <a:pt x="803" y="215"/>
                </a:lnTo>
                <a:lnTo>
                  <a:pt x="816" y="152"/>
                </a:lnTo>
                <a:lnTo>
                  <a:pt x="867" y="89"/>
                </a:lnTo>
                <a:lnTo>
                  <a:pt x="753" y="0"/>
                </a:lnTo>
                <a:lnTo>
                  <a:pt x="709" y="20"/>
                </a:lnTo>
                <a:lnTo>
                  <a:pt x="709" y="20"/>
                </a:lnTo>
                <a:lnTo>
                  <a:pt x="709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60"/>
          <p:cNvSpPr/>
          <p:nvPr/>
        </p:nvSpPr>
        <p:spPr>
          <a:xfrm>
            <a:off x="3803760" y="4976640"/>
            <a:ext cx="1203120" cy="171000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710000"/>
              <a:gd name="textAreaBottom" fmla="*/ 1710360 h 1710000"/>
            </a:gdLst>
            <a:ahLst/>
            <a:rect l="textAreaLeft" t="textAreaTop" r="textAreaRight" b="textAreaBottom"/>
            <a:pathLst>
              <a:path w="758" h="1077">
                <a:moveTo>
                  <a:pt x="423" y="0"/>
                </a:moveTo>
                <a:lnTo>
                  <a:pt x="423" y="177"/>
                </a:lnTo>
                <a:lnTo>
                  <a:pt x="353" y="310"/>
                </a:lnTo>
                <a:lnTo>
                  <a:pt x="227" y="411"/>
                </a:lnTo>
                <a:lnTo>
                  <a:pt x="183" y="360"/>
                </a:lnTo>
                <a:lnTo>
                  <a:pt x="138" y="462"/>
                </a:lnTo>
                <a:lnTo>
                  <a:pt x="106" y="545"/>
                </a:lnTo>
                <a:lnTo>
                  <a:pt x="50" y="601"/>
                </a:lnTo>
                <a:lnTo>
                  <a:pt x="6" y="671"/>
                </a:lnTo>
                <a:lnTo>
                  <a:pt x="0" y="721"/>
                </a:lnTo>
                <a:lnTo>
                  <a:pt x="12" y="771"/>
                </a:lnTo>
                <a:lnTo>
                  <a:pt x="56" y="836"/>
                </a:lnTo>
                <a:lnTo>
                  <a:pt x="106" y="879"/>
                </a:lnTo>
                <a:lnTo>
                  <a:pt x="93" y="823"/>
                </a:lnTo>
                <a:lnTo>
                  <a:pt x="106" y="771"/>
                </a:lnTo>
                <a:lnTo>
                  <a:pt x="150" y="753"/>
                </a:lnTo>
                <a:lnTo>
                  <a:pt x="214" y="741"/>
                </a:lnTo>
                <a:lnTo>
                  <a:pt x="258" y="715"/>
                </a:lnTo>
                <a:lnTo>
                  <a:pt x="308" y="678"/>
                </a:lnTo>
                <a:lnTo>
                  <a:pt x="277" y="753"/>
                </a:lnTo>
                <a:lnTo>
                  <a:pt x="220" y="804"/>
                </a:lnTo>
                <a:lnTo>
                  <a:pt x="175" y="854"/>
                </a:lnTo>
                <a:lnTo>
                  <a:pt x="169" y="919"/>
                </a:lnTo>
                <a:lnTo>
                  <a:pt x="87" y="988"/>
                </a:lnTo>
                <a:lnTo>
                  <a:pt x="50" y="1038"/>
                </a:lnTo>
                <a:lnTo>
                  <a:pt x="30" y="1077"/>
                </a:lnTo>
                <a:lnTo>
                  <a:pt x="518" y="1077"/>
                </a:lnTo>
                <a:lnTo>
                  <a:pt x="625" y="1051"/>
                </a:lnTo>
                <a:lnTo>
                  <a:pt x="670" y="1012"/>
                </a:lnTo>
                <a:lnTo>
                  <a:pt x="631" y="981"/>
                </a:lnTo>
                <a:lnTo>
                  <a:pt x="606" y="919"/>
                </a:lnTo>
                <a:lnTo>
                  <a:pt x="618" y="816"/>
                </a:lnTo>
                <a:lnTo>
                  <a:pt x="657" y="885"/>
                </a:lnTo>
                <a:lnTo>
                  <a:pt x="657" y="792"/>
                </a:lnTo>
                <a:lnTo>
                  <a:pt x="695" y="715"/>
                </a:lnTo>
                <a:lnTo>
                  <a:pt x="758" y="588"/>
                </a:lnTo>
                <a:lnTo>
                  <a:pt x="758" y="499"/>
                </a:lnTo>
                <a:lnTo>
                  <a:pt x="726" y="405"/>
                </a:lnTo>
                <a:lnTo>
                  <a:pt x="670" y="316"/>
                </a:lnTo>
                <a:lnTo>
                  <a:pt x="512" y="235"/>
                </a:lnTo>
                <a:lnTo>
                  <a:pt x="543" y="354"/>
                </a:lnTo>
                <a:lnTo>
                  <a:pt x="556" y="417"/>
                </a:lnTo>
                <a:lnTo>
                  <a:pt x="530" y="499"/>
                </a:lnTo>
                <a:lnTo>
                  <a:pt x="479" y="601"/>
                </a:lnTo>
                <a:lnTo>
                  <a:pt x="460" y="728"/>
                </a:lnTo>
                <a:lnTo>
                  <a:pt x="429" y="620"/>
                </a:lnTo>
                <a:lnTo>
                  <a:pt x="429" y="532"/>
                </a:lnTo>
                <a:lnTo>
                  <a:pt x="479" y="393"/>
                </a:lnTo>
                <a:lnTo>
                  <a:pt x="479" y="241"/>
                </a:lnTo>
                <a:lnTo>
                  <a:pt x="466" y="114"/>
                </a:lnTo>
                <a:lnTo>
                  <a:pt x="423" y="0"/>
                </a:lnTo>
                <a:lnTo>
                  <a:pt x="423" y="0"/>
                </a:lnTo>
                <a:lnTo>
                  <a:pt x="4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61"/>
          <p:cNvSpPr/>
          <p:nvPr/>
        </p:nvSpPr>
        <p:spPr>
          <a:xfrm>
            <a:off x="3743280" y="4684680"/>
            <a:ext cx="258840" cy="1406520"/>
          </a:xfrm>
          <a:custGeom>
            <a:avLst/>
            <a:gdLst>
              <a:gd name="textAreaLeft" fmla="*/ 0 w 258840"/>
              <a:gd name="textAreaRight" fmla="*/ 259200 w 258840"/>
              <a:gd name="textAreaTop" fmla="*/ 0 h 1406520"/>
              <a:gd name="textAreaBottom" fmla="*/ 1406520 h 1406520"/>
            </a:gdLst>
            <a:ahLst/>
            <a:rect l="textAreaLeft" t="textAreaTop" r="textAreaRight" b="textAreaBottom"/>
            <a:pathLst>
              <a:path w="163" h="886">
                <a:moveTo>
                  <a:pt x="68" y="0"/>
                </a:moveTo>
                <a:lnTo>
                  <a:pt x="81" y="51"/>
                </a:lnTo>
                <a:lnTo>
                  <a:pt x="163" y="107"/>
                </a:lnTo>
                <a:lnTo>
                  <a:pt x="101" y="132"/>
                </a:lnTo>
                <a:lnTo>
                  <a:pt x="68" y="221"/>
                </a:lnTo>
                <a:lnTo>
                  <a:pt x="56" y="311"/>
                </a:lnTo>
                <a:lnTo>
                  <a:pt x="44" y="392"/>
                </a:lnTo>
                <a:lnTo>
                  <a:pt x="56" y="456"/>
                </a:lnTo>
                <a:lnTo>
                  <a:pt x="94" y="557"/>
                </a:lnTo>
                <a:lnTo>
                  <a:pt x="150" y="608"/>
                </a:lnTo>
                <a:lnTo>
                  <a:pt x="101" y="709"/>
                </a:lnTo>
                <a:lnTo>
                  <a:pt x="44" y="810"/>
                </a:lnTo>
                <a:lnTo>
                  <a:pt x="17" y="886"/>
                </a:lnTo>
                <a:lnTo>
                  <a:pt x="17" y="785"/>
                </a:lnTo>
                <a:lnTo>
                  <a:pt x="50" y="709"/>
                </a:lnTo>
                <a:lnTo>
                  <a:pt x="5" y="570"/>
                </a:lnTo>
                <a:lnTo>
                  <a:pt x="0" y="419"/>
                </a:lnTo>
                <a:lnTo>
                  <a:pt x="0" y="291"/>
                </a:lnTo>
                <a:lnTo>
                  <a:pt x="50" y="152"/>
                </a:lnTo>
                <a:lnTo>
                  <a:pt x="75" y="101"/>
                </a:lnTo>
                <a:lnTo>
                  <a:pt x="56" y="51"/>
                </a:lnTo>
                <a:lnTo>
                  <a:pt x="68" y="0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62"/>
          <p:cNvSpPr/>
          <p:nvPr/>
        </p:nvSpPr>
        <p:spPr>
          <a:xfrm>
            <a:off x="3770280" y="6272280"/>
            <a:ext cx="201600" cy="372960"/>
          </a:xfrm>
          <a:custGeom>
            <a:avLst/>
            <a:gdLst>
              <a:gd name="textAreaLeft" fmla="*/ 0 w 201600"/>
              <a:gd name="textAreaRight" fmla="*/ 201960 w 2016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27" h="235">
                <a:moveTo>
                  <a:pt x="14" y="0"/>
                </a:moveTo>
                <a:lnTo>
                  <a:pt x="45" y="63"/>
                </a:lnTo>
                <a:lnTo>
                  <a:pt x="127" y="115"/>
                </a:lnTo>
                <a:lnTo>
                  <a:pt x="51" y="235"/>
                </a:lnTo>
                <a:lnTo>
                  <a:pt x="27" y="172"/>
                </a:lnTo>
                <a:lnTo>
                  <a:pt x="0" y="69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63"/>
          <p:cNvSpPr/>
          <p:nvPr/>
        </p:nvSpPr>
        <p:spPr>
          <a:xfrm>
            <a:off x="5529240" y="4586400"/>
            <a:ext cx="55440" cy="42840"/>
          </a:xfrm>
          <a:custGeom>
            <a:avLst/>
            <a:gdLst>
              <a:gd name="textAreaLeft" fmla="*/ 0 w 55440"/>
              <a:gd name="textAreaRight" fmla="*/ 55800 w 554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5" h="27">
                <a:moveTo>
                  <a:pt x="6" y="4"/>
                </a:moveTo>
                <a:lnTo>
                  <a:pt x="25" y="0"/>
                </a:lnTo>
                <a:lnTo>
                  <a:pt x="35" y="11"/>
                </a:lnTo>
                <a:lnTo>
                  <a:pt x="30" y="27"/>
                </a:lnTo>
                <a:lnTo>
                  <a:pt x="8" y="27"/>
                </a:lnTo>
                <a:lnTo>
                  <a:pt x="0" y="18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64"/>
          <p:cNvSpPr/>
          <p:nvPr/>
        </p:nvSpPr>
        <p:spPr>
          <a:xfrm>
            <a:off x="6613560" y="4376880"/>
            <a:ext cx="50760" cy="44280"/>
          </a:xfrm>
          <a:custGeom>
            <a:avLst/>
            <a:gdLst>
              <a:gd name="textAreaLeft" fmla="*/ 0 w 50760"/>
              <a:gd name="textAreaRight" fmla="*/ 51120 w 507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32" h="28">
                <a:moveTo>
                  <a:pt x="0" y="24"/>
                </a:moveTo>
                <a:lnTo>
                  <a:pt x="3" y="4"/>
                </a:lnTo>
                <a:lnTo>
                  <a:pt x="14" y="0"/>
                </a:lnTo>
                <a:lnTo>
                  <a:pt x="27" y="6"/>
                </a:lnTo>
                <a:lnTo>
                  <a:pt x="32" y="16"/>
                </a:lnTo>
                <a:lnTo>
                  <a:pt x="32" y="24"/>
                </a:lnTo>
                <a:lnTo>
                  <a:pt x="21" y="28"/>
                </a:lnTo>
                <a:lnTo>
                  <a:pt x="10" y="27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65"/>
          <p:cNvSpPr/>
          <p:nvPr/>
        </p:nvSpPr>
        <p:spPr>
          <a:xfrm>
            <a:off x="5568840" y="3348000"/>
            <a:ext cx="1101960" cy="881280"/>
          </a:xfrm>
          <a:custGeom>
            <a:avLst/>
            <a:gdLst>
              <a:gd name="textAreaLeft" fmla="*/ 0 w 1101960"/>
              <a:gd name="textAreaRight" fmla="*/ 1102320 w 110196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694" h="555">
                <a:moveTo>
                  <a:pt x="130" y="541"/>
                </a:moveTo>
                <a:lnTo>
                  <a:pt x="32" y="507"/>
                </a:lnTo>
                <a:lnTo>
                  <a:pt x="0" y="452"/>
                </a:lnTo>
                <a:lnTo>
                  <a:pt x="0" y="376"/>
                </a:lnTo>
                <a:lnTo>
                  <a:pt x="47" y="265"/>
                </a:lnTo>
                <a:lnTo>
                  <a:pt x="125" y="135"/>
                </a:lnTo>
                <a:lnTo>
                  <a:pt x="234" y="56"/>
                </a:lnTo>
                <a:lnTo>
                  <a:pt x="332" y="4"/>
                </a:lnTo>
                <a:lnTo>
                  <a:pt x="448" y="0"/>
                </a:lnTo>
                <a:lnTo>
                  <a:pt x="507" y="19"/>
                </a:lnTo>
                <a:lnTo>
                  <a:pt x="605" y="75"/>
                </a:lnTo>
                <a:lnTo>
                  <a:pt x="652" y="149"/>
                </a:lnTo>
                <a:lnTo>
                  <a:pt x="694" y="247"/>
                </a:lnTo>
                <a:lnTo>
                  <a:pt x="694" y="317"/>
                </a:lnTo>
                <a:lnTo>
                  <a:pt x="670" y="383"/>
                </a:lnTo>
                <a:lnTo>
                  <a:pt x="602" y="428"/>
                </a:lnTo>
                <a:lnTo>
                  <a:pt x="522" y="433"/>
                </a:lnTo>
                <a:lnTo>
                  <a:pt x="441" y="481"/>
                </a:lnTo>
                <a:lnTo>
                  <a:pt x="368" y="531"/>
                </a:lnTo>
                <a:lnTo>
                  <a:pt x="261" y="555"/>
                </a:lnTo>
                <a:lnTo>
                  <a:pt x="130" y="541"/>
                </a:lnTo>
                <a:lnTo>
                  <a:pt x="130" y="541"/>
                </a:lnTo>
                <a:lnTo>
                  <a:pt x="130" y="541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66"/>
          <p:cNvSpPr/>
          <p:nvPr/>
        </p:nvSpPr>
        <p:spPr>
          <a:xfrm>
            <a:off x="6006960" y="4506840"/>
            <a:ext cx="206640" cy="601560"/>
          </a:xfrm>
          <a:custGeom>
            <a:avLst/>
            <a:gdLst>
              <a:gd name="textAreaLeft" fmla="*/ 0 w 206640"/>
              <a:gd name="textAreaRight" fmla="*/ 207000 w 2066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30" h="379">
                <a:moveTo>
                  <a:pt x="17" y="0"/>
                </a:moveTo>
                <a:lnTo>
                  <a:pt x="0" y="77"/>
                </a:lnTo>
                <a:lnTo>
                  <a:pt x="23" y="142"/>
                </a:lnTo>
                <a:lnTo>
                  <a:pt x="41" y="217"/>
                </a:lnTo>
                <a:lnTo>
                  <a:pt x="35" y="299"/>
                </a:lnTo>
                <a:lnTo>
                  <a:pt x="50" y="360"/>
                </a:lnTo>
                <a:lnTo>
                  <a:pt x="80" y="379"/>
                </a:lnTo>
                <a:lnTo>
                  <a:pt x="113" y="379"/>
                </a:lnTo>
                <a:lnTo>
                  <a:pt x="130" y="332"/>
                </a:lnTo>
                <a:lnTo>
                  <a:pt x="106" y="264"/>
                </a:lnTo>
                <a:lnTo>
                  <a:pt x="74" y="177"/>
                </a:lnTo>
                <a:lnTo>
                  <a:pt x="74" y="99"/>
                </a:lnTo>
                <a:lnTo>
                  <a:pt x="59" y="16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67"/>
          <p:cNvSpPr/>
          <p:nvPr/>
        </p:nvSpPr>
        <p:spPr>
          <a:xfrm>
            <a:off x="5959440" y="5072040"/>
            <a:ext cx="112680" cy="74520"/>
          </a:xfrm>
          <a:custGeom>
            <a:avLst/>
            <a:gdLst>
              <a:gd name="textAreaLeft" fmla="*/ 0 w 112680"/>
              <a:gd name="textAreaRight" fmla="*/ 113040 w 1126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71" h="47">
                <a:moveTo>
                  <a:pt x="0" y="39"/>
                </a:moveTo>
                <a:lnTo>
                  <a:pt x="6" y="9"/>
                </a:lnTo>
                <a:lnTo>
                  <a:pt x="38" y="0"/>
                </a:lnTo>
                <a:lnTo>
                  <a:pt x="71" y="39"/>
                </a:lnTo>
                <a:lnTo>
                  <a:pt x="38" y="47"/>
                </a:lnTo>
                <a:lnTo>
                  <a:pt x="0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68"/>
          <p:cNvSpPr/>
          <p:nvPr/>
        </p:nvSpPr>
        <p:spPr>
          <a:xfrm>
            <a:off x="5221440" y="4761000"/>
            <a:ext cx="644400" cy="527040"/>
          </a:xfrm>
          <a:custGeom>
            <a:avLst/>
            <a:gdLst>
              <a:gd name="textAreaLeft" fmla="*/ 0 w 644400"/>
              <a:gd name="textAreaRight" fmla="*/ 644760 w 6444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06" h="332">
                <a:moveTo>
                  <a:pt x="0" y="128"/>
                </a:moveTo>
                <a:lnTo>
                  <a:pt x="20" y="89"/>
                </a:lnTo>
                <a:lnTo>
                  <a:pt x="48" y="65"/>
                </a:lnTo>
                <a:lnTo>
                  <a:pt x="112" y="48"/>
                </a:lnTo>
                <a:lnTo>
                  <a:pt x="178" y="48"/>
                </a:lnTo>
                <a:lnTo>
                  <a:pt x="275" y="41"/>
                </a:lnTo>
                <a:lnTo>
                  <a:pt x="347" y="15"/>
                </a:lnTo>
                <a:lnTo>
                  <a:pt x="406" y="0"/>
                </a:lnTo>
                <a:lnTo>
                  <a:pt x="391" y="86"/>
                </a:lnTo>
                <a:lnTo>
                  <a:pt x="358" y="160"/>
                </a:lnTo>
                <a:lnTo>
                  <a:pt x="299" y="235"/>
                </a:lnTo>
                <a:lnTo>
                  <a:pt x="219" y="282"/>
                </a:lnTo>
                <a:lnTo>
                  <a:pt x="172" y="324"/>
                </a:lnTo>
                <a:lnTo>
                  <a:pt x="119" y="332"/>
                </a:lnTo>
                <a:lnTo>
                  <a:pt x="65" y="300"/>
                </a:lnTo>
                <a:lnTo>
                  <a:pt x="24" y="253"/>
                </a:lnTo>
                <a:lnTo>
                  <a:pt x="6" y="187"/>
                </a:lnTo>
                <a:lnTo>
                  <a:pt x="0" y="128"/>
                </a:lnTo>
                <a:lnTo>
                  <a:pt x="0" y="128"/>
                </a:lnTo>
                <a:lnTo>
                  <a:pt x="0" y="128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69"/>
          <p:cNvSpPr/>
          <p:nvPr/>
        </p:nvSpPr>
        <p:spPr>
          <a:xfrm>
            <a:off x="6515280" y="4514760"/>
            <a:ext cx="653760" cy="514440"/>
          </a:xfrm>
          <a:custGeom>
            <a:avLst/>
            <a:gdLst/>
            <a:ahLst/>
            <a:rect l="l" t="t" r="r" b="b"/>
            <a:pathLst>
              <a:path w="412" h="324">
                <a:moveTo>
                  <a:pt x="6" y="66"/>
                </a:moveTo>
                <a:lnTo>
                  <a:pt x="94" y="72"/>
                </a:lnTo>
                <a:lnTo>
                  <a:pt x="168" y="66"/>
                </a:lnTo>
                <a:lnTo>
                  <a:pt x="248" y="40"/>
                </a:lnTo>
                <a:lnTo>
                  <a:pt x="307" y="0"/>
                </a:lnTo>
                <a:lnTo>
                  <a:pt x="347" y="0"/>
                </a:lnTo>
                <a:lnTo>
                  <a:pt x="396" y="54"/>
                </a:lnTo>
                <a:lnTo>
                  <a:pt x="412" y="122"/>
                </a:lnTo>
                <a:lnTo>
                  <a:pt x="412" y="218"/>
                </a:lnTo>
                <a:lnTo>
                  <a:pt x="399" y="268"/>
                </a:lnTo>
                <a:lnTo>
                  <a:pt x="355" y="318"/>
                </a:lnTo>
                <a:lnTo>
                  <a:pt x="275" y="324"/>
                </a:lnTo>
                <a:lnTo>
                  <a:pt x="195" y="294"/>
                </a:lnTo>
                <a:lnTo>
                  <a:pt x="113" y="253"/>
                </a:lnTo>
                <a:lnTo>
                  <a:pt x="48" y="203"/>
                </a:lnTo>
                <a:lnTo>
                  <a:pt x="9" y="155"/>
                </a:lnTo>
                <a:lnTo>
                  <a:pt x="0" y="122"/>
                </a:lnTo>
                <a:lnTo>
                  <a:pt x="6" y="66"/>
                </a:lnTo>
                <a:lnTo>
                  <a:pt x="6" y="66"/>
                </a:lnTo>
                <a:lnTo>
                  <a:pt x="6" y="6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70"/>
          <p:cNvSpPr/>
          <p:nvPr/>
        </p:nvSpPr>
        <p:spPr>
          <a:xfrm>
            <a:off x="6100920" y="5962680"/>
            <a:ext cx="642960" cy="297000"/>
          </a:xfrm>
          <a:custGeom>
            <a:avLst/>
            <a:gdLst>
              <a:gd name="textAreaLeft" fmla="*/ 0 w 642960"/>
              <a:gd name="textAreaRight" fmla="*/ 643320 w 6429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405" h="187">
                <a:moveTo>
                  <a:pt x="23" y="116"/>
                </a:moveTo>
                <a:lnTo>
                  <a:pt x="63" y="159"/>
                </a:lnTo>
                <a:lnTo>
                  <a:pt x="128" y="187"/>
                </a:lnTo>
                <a:lnTo>
                  <a:pt x="193" y="187"/>
                </a:lnTo>
                <a:lnTo>
                  <a:pt x="267" y="172"/>
                </a:lnTo>
                <a:lnTo>
                  <a:pt x="322" y="130"/>
                </a:lnTo>
                <a:lnTo>
                  <a:pt x="387" y="65"/>
                </a:lnTo>
                <a:lnTo>
                  <a:pt x="405" y="17"/>
                </a:lnTo>
                <a:lnTo>
                  <a:pt x="355" y="0"/>
                </a:lnTo>
                <a:lnTo>
                  <a:pt x="294" y="24"/>
                </a:lnTo>
                <a:lnTo>
                  <a:pt x="219" y="71"/>
                </a:lnTo>
                <a:lnTo>
                  <a:pt x="139" y="94"/>
                </a:lnTo>
                <a:lnTo>
                  <a:pt x="65" y="89"/>
                </a:lnTo>
                <a:lnTo>
                  <a:pt x="0" y="83"/>
                </a:lnTo>
                <a:lnTo>
                  <a:pt x="23" y="116"/>
                </a:lnTo>
                <a:lnTo>
                  <a:pt x="23" y="116"/>
                </a:lnTo>
                <a:lnTo>
                  <a:pt x="23" y="11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71"/>
          <p:cNvSpPr/>
          <p:nvPr/>
        </p:nvSpPr>
        <p:spPr>
          <a:xfrm>
            <a:off x="5916600" y="5369040"/>
            <a:ext cx="258840" cy="112680"/>
          </a:xfrm>
          <a:custGeom>
            <a:avLst/>
            <a:gdLst>
              <a:gd name="textAreaLeft" fmla="*/ 0 w 258840"/>
              <a:gd name="textAreaRight" fmla="*/ 259200 w 258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63" h="71">
                <a:moveTo>
                  <a:pt x="9" y="71"/>
                </a:moveTo>
                <a:lnTo>
                  <a:pt x="98" y="39"/>
                </a:lnTo>
                <a:lnTo>
                  <a:pt x="163" y="24"/>
                </a:lnTo>
                <a:lnTo>
                  <a:pt x="107" y="0"/>
                </a:lnTo>
                <a:lnTo>
                  <a:pt x="51" y="0"/>
                </a:lnTo>
                <a:lnTo>
                  <a:pt x="0" y="39"/>
                </a:lnTo>
                <a:lnTo>
                  <a:pt x="9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72"/>
          <p:cNvSpPr/>
          <p:nvPr/>
        </p:nvSpPr>
        <p:spPr>
          <a:xfrm>
            <a:off x="5245200" y="4437000"/>
            <a:ext cx="236520" cy="163440"/>
          </a:xfrm>
          <a:custGeom>
            <a:avLst/>
            <a:gdLst>
              <a:gd name="textAreaLeft" fmla="*/ 0 w 236520"/>
              <a:gd name="textAreaRight" fmla="*/ 236880 w 2365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49" h="103">
                <a:moveTo>
                  <a:pt x="0" y="86"/>
                </a:moveTo>
                <a:lnTo>
                  <a:pt x="0" y="56"/>
                </a:lnTo>
                <a:lnTo>
                  <a:pt x="23" y="24"/>
                </a:lnTo>
                <a:lnTo>
                  <a:pt x="70" y="0"/>
                </a:lnTo>
                <a:lnTo>
                  <a:pt x="121" y="6"/>
                </a:lnTo>
                <a:lnTo>
                  <a:pt x="149" y="24"/>
                </a:lnTo>
                <a:lnTo>
                  <a:pt x="56" y="65"/>
                </a:lnTo>
                <a:lnTo>
                  <a:pt x="5" y="103"/>
                </a:lnTo>
                <a:lnTo>
                  <a:pt x="0" y="86"/>
                </a:lnTo>
                <a:lnTo>
                  <a:pt x="0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73"/>
          <p:cNvSpPr/>
          <p:nvPr/>
        </p:nvSpPr>
        <p:spPr>
          <a:xfrm>
            <a:off x="324000" y="6480"/>
            <a:ext cx="5500440" cy="3771720"/>
          </a:xfrm>
          <a:custGeom>
            <a:avLst/>
            <a:gdLst>
              <a:gd name="textAreaLeft" fmla="*/ 0 w 5500440"/>
              <a:gd name="textAreaRight" fmla="*/ 5500440 w 5500440"/>
              <a:gd name="textAreaTop" fmla="*/ 0 h 3771720"/>
              <a:gd name="textAreaBottom" fmla="*/ 3772080 h 3771720"/>
            </a:gdLst>
            <a:ahLst/>
            <a:rect l="textAreaLeft" t="textAreaTop" r="textAreaRight" b="textAreaBottom"/>
            <a:pathLst>
              <a:path w="3465" h="2376">
                <a:moveTo>
                  <a:pt x="2943" y="2376"/>
                </a:moveTo>
                <a:lnTo>
                  <a:pt x="2881" y="2327"/>
                </a:lnTo>
                <a:lnTo>
                  <a:pt x="2819" y="2256"/>
                </a:lnTo>
                <a:lnTo>
                  <a:pt x="2777" y="2194"/>
                </a:lnTo>
                <a:lnTo>
                  <a:pt x="2747" y="2126"/>
                </a:lnTo>
                <a:lnTo>
                  <a:pt x="2735" y="2079"/>
                </a:lnTo>
                <a:lnTo>
                  <a:pt x="2729" y="2044"/>
                </a:lnTo>
                <a:lnTo>
                  <a:pt x="2739" y="2032"/>
                </a:lnTo>
                <a:lnTo>
                  <a:pt x="2752" y="2017"/>
                </a:lnTo>
                <a:lnTo>
                  <a:pt x="2889" y="1948"/>
                </a:lnTo>
                <a:lnTo>
                  <a:pt x="3020" y="1859"/>
                </a:lnTo>
                <a:lnTo>
                  <a:pt x="3163" y="1744"/>
                </a:lnTo>
                <a:lnTo>
                  <a:pt x="3262" y="1638"/>
                </a:lnTo>
                <a:lnTo>
                  <a:pt x="3350" y="1512"/>
                </a:lnTo>
                <a:lnTo>
                  <a:pt x="3403" y="1408"/>
                </a:lnTo>
                <a:lnTo>
                  <a:pt x="3443" y="1267"/>
                </a:lnTo>
                <a:lnTo>
                  <a:pt x="3465" y="1115"/>
                </a:lnTo>
                <a:lnTo>
                  <a:pt x="3459" y="1028"/>
                </a:lnTo>
                <a:lnTo>
                  <a:pt x="3437" y="929"/>
                </a:lnTo>
                <a:lnTo>
                  <a:pt x="3390" y="803"/>
                </a:lnTo>
                <a:lnTo>
                  <a:pt x="3329" y="694"/>
                </a:lnTo>
                <a:lnTo>
                  <a:pt x="3290" y="640"/>
                </a:lnTo>
                <a:lnTo>
                  <a:pt x="3193" y="512"/>
                </a:lnTo>
                <a:lnTo>
                  <a:pt x="3083" y="419"/>
                </a:lnTo>
                <a:lnTo>
                  <a:pt x="2893" y="292"/>
                </a:lnTo>
                <a:lnTo>
                  <a:pt x="2748" y="218"/>
                </a:lnTo>
                <a:lnTo>
                  <a:pt x="2593" y="151"/>
                </a:lnTo>
                <a:lnTo>
                  <a:pt x="2361" y="84"/>
                </a:lnTo>
                <a:lnTo>
                  <a:pt x="2087" y="29"/>
                </a:lnTo>
                <a:lnTo>
                  <a:pt x="1893" y="8"/>
                </a:lnTo>
                <a:lnTo>
                  <a:pt x="1738" y="0"/>
                </a:lnTo>
                <a:lnTo>
                  <a:pt x="1533" y="15"/>
                </a:lnTo>
                <a:lnTo>
                  <a:pt x="1289" y="43"/>
                </a:lnTo>
                <a:lnTo>
                  <a:pt x="1142" y="77"/>
                </a:lnTo>
                <a:lnTo>
                  <a:pt x="1000" y="108"/>
                </a:lnTo>
                <a:lnTo>
                  <a:pt x="910" y="136"/>
                </a:lnTo>
                <a:lnTo>
                  <a:pt x="797" y="182"/>
                </a:lnTo>
                <a:lnTo>
                  <a:pt x="721" y="215"/>
                </a:lnTo>
                <a:lnTo>
                  <a:pt x="628" y="265"/>
                </a:lnTo>
                <a:lnTo>
                  <a:pt x="519" y="326"/>
                </a:lnTo>
                <a:lnTo>
                  <a:pt x="430" y="385"/>
                </a:lnTo>
                <a:lnTo>
                  <a:pt x="315" y="487"/>
                </a:lnTo>
                <a:lnTo>
                  <a:pt x="204" y="608"/>
                </a:lnTo>
                <a:lnTo>
                  <a:pt x="123" y="710"/>
                </a:lnTo>
                <a:lnTo>
                  <a:pt x="58" y="834"/>
                </a:lnTo>
                <a:lnTo>
                  <a:pt x="21" y="971"/>
                </a:lnTo>
                <a:lnTo>
                  <a:pt x="0" y="1115"/>
                </a:lnTo>
                <a:lnTo>
                  <a:pt x="28" y="1308"/>
                </a:lnTo>
                <a:lnTo>
                  <a:pt x="73" y="1437"/>
                </a:lnTo>
                <a:lnTo>
                  <a:pt x="137" y="1553"/>
                </a:lnTo>
                <a:lnTo>
                  <a:pt x="195" y="1630"/>
                </a:lnTo>
                <a:lnTo>
                  <a:pt x="272" y="1713"/>
                </a:lnTo>
                <a:lnTo>
                  <a:pt x="344" y="1792"/>
                </a:lnTo>
                <a:lnTo>
                  <a:pt x="468" y="1878"/>
                </a:lnTo>
                <a:lnTo>
                  <a:pt x="597" y="1963"/>
                </a:lnTo>
                <a:lnTo>
                  <a:pt x="743" y="2037"/>
                </a:lnTo>
                <a:lnTo>
                  <a:pt x="912" y="2100"/>
                </a:lnTo>
                <a:lnTo>
                  <a:pt x="1107" y="2166"/>
                </a:lnTo>
                <a:lnTo>
                  <a:pt x="1299" y="2200"/>
                </a:lnTo>
                <a:lnTo>
                  <a:pt x="1607" y="2231"/>
                </a:lnTo>
                <a:lnTo>
                  <a:pt x="1886" y="2238"/>
                </a:lnTo>
                <a:lnTo>
                  <a:pt x="2020" y="2222"/>
                </a:lnTo>
                <a:lnTo>
                  <a:pt x="2162" y="2206"/>
                </a:lnTo>
                <a:lnTo>
                  <a:pt x="2310" y="2175"/>
                </a:lnTo>
                <a:lnTo>
                  <a:pt x="2453" y="2139"/>
                </a:lnTo>
                <a:lnTo>
                  <a:pt x="2567" y="2108"/>
                </a:lnTo>
                <a:lnTo>
                  <a:pt x="2576" y="2112"/>
                </a:lnTo>
                <a:lnTo>
                  <a:pt x="2625" y="2164"/>
                </a:lnTo>
                <a:lnTo>
                  <a:pt x="2672" y="2211"/>
                </a:lnTo>
                <a:lnTo>
                  <a:pt x="2747" y="2274"/>
                </a:lnTo>
                <a:lnTo>
                  <a:pt x="2797" y="2313"/>
                </a:lnTo>
                <a:lnTo>
                  <a:pt x="2873" y="2352"/>
                </a:lnTo>
                <a:lnTo>
                  <a:pt x="2916" y="2372"/>
                </a:lnTo>
                <a:lnTo>
                  <a:pt x="2943" y="2376"/>
                </a:lnTo>
                <a:close/>
              </a:path>
            </a:pathLst>
          </a:custGeom>
          <a:solidFill>
            <a:srgbClr val="ffffff"/>
          </a:solidFill>
          <a:ln w="13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74"/>
          <p:cNvSpPr/>
          <p:nvPr/>
        </p:nvSpPr>
        <p:spPr>
          <a:xfrm>
            <a:off x="1609560" y="560520"/>
            <a:ext cx="4335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amili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cupació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eligió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estimonio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-63360" y="-27000"/>
            <a:ext cx="9869400" cy="6846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 rot="5340000">
            <a:off x="1290240" y="4125960"/>
            <a:ext cx="1136880" cy="113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135080" y="4506840"/>
            <a:ext cx="1520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300" spc="-1" strike="noStrike">
                <a:solidFill>
                  <a:srgbClr val="00007f"/>
                </a:solidFill>
                <a:latin typeface="Arial"/>
              </a:rPr>
              <a:t>Jes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 rot="5340000">
            <a:off x="2987640" y="1527120"/>
            <a:ext cx="1136520" cy="113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2054160" y="2523960"/>
            <a:ext cx="1181160" cy="164952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649520"/>
              <a:gd name="textAreaBottom" fmla="*/ 1649880 h 1649520"/>
            </a:gdLst>
            <a:ahLst/>
            <a:rect l="textAreaLeft" t="textAreaTop" r="textAreaRight" b="textAreaBottom"/>
            <a:pathLst>
              <a:path w="744" h="1039">
                <a:moveTo>
                  <a:pt x="0" y="1039"/>
                </a:moveTo>
                <a:lnTo>
                  <a:pt x="744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005280" y="1905120"/>
            <a:ext cx="123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ré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 rot="5340000">
            <a:off x="4330080" y="2328840"/>
            <a:ext cx="1136520" cy="1136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3971880" y="2436840"/>
            <a:ext cx="426960" cy="223920"/>
          </a:xfrm>
          <a:custGeom>
            <a:avLst/>
            <a:gdLst>
              <a:gd name="textAreaLeft" fmla="*/ 0 w 426960"/>
              <a:gd name="textAreaRight" fmla="*/ 427320 w 426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69" h="141">
                <a:moveTo>
                  <a:pt x="0" y="0"/>
                </a:moveTo>
                <a:lnTo>
                  <a:pt x="269" y="141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4322880" y="2808360"/>
            <a:ext cx="1108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299120" y="3889440"/>
            <a:ext cx="1533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e0c0"/>
                </a:solidFill>
                <a:latin typeface="Arial"/>
              </a:rPr>
              <a:t>Jn 1:41-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3"/>
          <p:cNvSpPr/>
          <p:nvPr/>
        </p:nvSpPr>
        <p:spPr>
          <a:xfrm rot="5340000">
            <a:off x="5532120" y="1479600"/>
            <a:ext cx="1133280" cy="1133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4"/>
          <p:cNvSpPr/>
          <p:nvPr/>
        </p:nvSpPr>
        <p:spPr>
          <a:xfrm>
            <a:off x="5315040" y="2405160"/>
            <a:ext cx="325440" cy="204840"/>
          </a:xfrm>
          <a:custGeom>
            <a:avLst/>
            <a:gdLst>
              <a:gd name="textAreaLeft" fmla="*/ 0 w 325440"/>
              <a:gd name="textAreaRight" fmla="*/ 325800 w 3254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05" h="129">
                <a:moveTo>
                  <a:pt x="0" y="129"/>
                </a:moveTo>
                <a:lnTo>
                  <a:pt x="205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5437080" y="1814400"/>
            <a:ext cx="1363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eg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6"/>
          <p:cNvSpPr/>
          <p:nvPr/>
        </p:nvSpPr>
        <p:spPr>
          <a:xfrm rot="5340000">
            <a:off x="6513120" y="2288880"/>
            <a:ext cx="1133280" cy="1133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7"/>
          <p:cNvSpPr/>
          <p:nvPr/>
        </p:nvSpPr>
        <p:spPr>
          <a:xfrm>
            <a:off x="5454720" y="2890800"/>
            <a:ext cx="1060560" cy="20520"/>
          </a:xfrm>
          <a:custGeom>
            <a:avLst/>
            <a:gdLst>
              <a:gd name="textAreaLeft" fmla="*/ 0 w 1060560"/>
              <a:gd name="textAreaRight" fmla="*/ 1060920 w 10605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668" h="13">
                <a:moveTo>
                  <a:pt x="0" y="13"/>
                </a:moveTo>
                <a:lnTo>
                  <a:pt x="668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6353280" y="2738520"/>
            <a:ext cx="1544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posa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2738520" y="1257480"/>
            <a:ext cx="5273640" cy="2457360"/>
          </a:xfrm>
          <a:prstGeom prst="rect">
            <a:avLst/>
          </a:prstGeom>
          <a:noFill/>
          <a:ln w="66600">
            <a:solidFill>
              <a:srgbClr val="ffff9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146160" y="1614600"/>
            <a:ext cx="2498760" cy="912600"/>
          </a:xfrm>
          <a:custGeom>
            <a:avLst/>
            <a:gdLst>
              <a:gd name="textAreaLeft" fmla="*/ 0 w 2498760"/>
              <a:gd name="textAreaRight" fmla="*/ 2499120 w 2498760"/>
              <a:gd name="textAreaTop" fmla="*/ 0 h 912600"/>
              <a:gd name="textAreaBottom" fmla="*/ 912960 h 912600"/>
            </a:gdLst>
            <a:ahLst/>
            <a:rect l="textAreaLeft" t="textAreaTop" r="textAreaRight" b="textAreaBottom"/>
            <a:pathLst>
              <a:path w="1574" h="575">
                <a:moveTo>
                  <a:pt x="1574" y="287"/>
                </a:moveTo>
                <a:lnTo>
                  <a:pt x="1573" y="287"/>
                </a:lnTo>
                <a:lnTo>
                  <a:pt x="1573" y="288"/>
                </a:lnTo>
                <a:lnTo>
                  <a:pt x="1571" y="289"/>
                </a:lnTo>
                <a:lnTo>
                  <a:pt x="1569" y="290"/>
                </a:lnTo>
                <a:lnTo>
                  <a:pt x="1567" y="292"/>
                </a:lnTo>
                <a:lnTo>
                  <a:pt x="1564" y="294"/>
                </a:lnTo>
                <a:lnTo>
                  <a:pt x="1561" y="296"/>
                </a:lnTo>
                <a:lnTo>
                  <a:pt x="1558" y="299"/>
                </a:lnTo>
                <a:lnTo>
                  <a:pt x="1554" y="302"/>
                </a:lnTo>
                <a:lnTo>
                  <a:pt x="1549" y="305"/>
                </a:lnTo>
                <a:lnTo>
                  <a:pt x="1544" y="308"/>
                </a:lnTo>
                <a:lnTo>
                  <a:pt x="1539" y="312"/>
                </a:lnTo>
                <a:lnTo>
                  <a:pt x="1534" y="316"/>
                </a:lnTo>
                <a:lnTo>
                  <a:pt x="1528" y="320"/>
                </a:lnTo>
                <a:lnTo>
                  <a:pt x="1522" y="325"/>
                </a:lnTo>
                <a:lnTo>
                  <a:pt x="1515" y="330"/>
                </a:lnTo>
                <a:lnTo>
                  <a:pt x="1509" y="335"/>
                </a:lnTo>
                <a:lnTo>
                  <a:pt x="1502" y="340"/>
                </a:lnTo>
                <a:lnTo>
                  <a:pt x="1495" y="345"/>
                </a:lnTo>
                <a:lnTo>
                  <a:pt x="1487" y="350"/>
                </a:lnTo>
                <a:lnTo>
                  <a:pt x="1480" y="356"/>
                </a:lnTo>
                <a:lnTo>
                  <a:pt x="1472" y="362"/>
                </a:lnTo>
                <a:lnTo>
                  <a:pt x="1464" y="368"/>
                </a:lnTo>
                <a:lnTo>
                  <a:pt x="1455" y="374"/>
                </a:lnTo>
                <a:lnTo>
                  <a:pt x="1447" y="380"/>
                </a:lnTo>
                <a:lnTo>
                  <a:pt x="1439" y="386"/>
                </a:lnTo>
                <a:lnTo>
                  <a:pt x="1430" y="392"/>
                </a:lnTo>
                <a:lnTo>
                  <a:pt x="1421" y="398"/>
                </a:lnTo>
                <a:lnTo>
                  <a:pt x="1413" y="405"/>
                </a:lnTo>
                <a:lnTo>
                  <a:pt x="1404" y="411"/>
                </a:lnTo>
                <a:lnTo>
                  <a:pt x="1395" y="418"/>
                </a:lnTo>
                <a:lnTo>
                  <a:pt x="1386" y="424"/>
                </a:lnTo>
                <a:lnTo>
                  <a:pt x="1377" y="431"/>
                </a:lnTo>
                <a:lnTo>
                  <a:pt x="1368" y="437"/>
                </a:lnTo>
                <a:lnTo>
                  <a:pt x="1359" y="444"/>
                </a:lnTo>
                <a:lnTo>
                  <a:pt x="1350" y="450"/>
                </a:lnTo>
                <a:lnTo>
                  <a:pt x="1341" y="457"/>
                </a:lnTo>
                <a:lnTo>
                  <a:pt x="1333" y="463"/>
                </a:lnTo>
                <a:lnTo>
                  <a:pt x="1324" y="470"/>
                </a:lnTo>
                <a:lnTo>
                  <a:pt x="1315" y="476"/>
                </a:lnTo>
                <a:lnTo>
                  <a:pt x="1307" y="482"/>
                </a:lnTo>
                <a:lnTo>
                  <a:pt x="1299" y="488"/>
                </a:lnTo>
                <a:lnTo>
                  <a:pt x="1290" y="494"/>
                </a:lnTo>
                <a:lnTo>
                  <a:pt x="1282" y="500"/>
                </a:lnTo>
                <a:lnTo>
                  <a:pt x="1275" y="506"/>
                </a:lnTo>
                <a:lnTo>
                  <a:pt x="1267" y="511"/>
                </a:lnTo>
                <a:lnTo>
                  <a:pt x="1259" y="517"/>
                </a:lnTo>
                <a:lnTo>
                  <a:pt x="1252" y="522"/>
                </a:lnTo>
                <a:lnTo>
                  <a:pt x="1245" y="527"/>
                </a:lnTo>
                <a:lnTo>
                  <a:pt x="1239" y="532"/>
                </a:lnTo>
                <a:lnTo>
                  <a:pt x="1232" y="537"/>
                </a:lnTo>
                <a:lnTo>
                  <a:pt x="1226" y="541"/>
                </a:lnTo>
                <a:lnTo>
                  <a:pt x="1220" y="546"/>
                </a:lnTo>
                <a:lnTo>
                  <a:pt x="1215" y="550"/>
                </a:lnTo>
                <a:lnTo>
                  <a:pt x="1210" y="553"/>
                </a:lnTo>
                <a:lnTo>
                  <a:pt x="1205" y="557"/>
                </a:lnTo>
                <a:lnTo>
                  <a:pt x="1200" y="560"/>
                </a:lnTo>
                <a:lnTo>
                  <a:pt x="1196" y="563"/>
                </a:lnTo>
                <a:lnTo>
                  <a:pt x="1193" y="566"/>
                </a:lnTo>
                <a:lnTo>
                  <a:pt x="1190" y="568"/>
                </a:lnTo>
                <a:lnTo>
                  <a:pt x="1187" y="570"/>
                </a:lnTo>
                <a:lnTo>
                  <a:pt x="1185" y="572"/>
                </a:lnTo>
                <a:lnTo>
                  <a:pt x="1183" y="573"/>
                </a:lnTo>
                <a:lnTo>
                  <a:pt x="1182" y="574"/>
                </a:lnTo>
                <a:lnTo>
                  <a:pt x="1181" y="574"/>
                </a:lnTo>
                <a:lnTo>
                  <a:pt x="1180" y="575"/>
                </a:lnTo>
                <a:lnTo>
                  <a:pt x="1180" y="575"/>
                </a:lnTo>
                <a:lnTo>
                  <a:pt x="1180" y="573"/>
                </a:lnTo>
                <a:lnTo>
                  <a:pt x="1180" y="570"/>
                </a:lnTo>
                <a:lnTo>
                  <a:pt x="1180" y="564"/>
                </a:lnTo>
                <a:lnTo>
                  <a:pt x="1180" y="557"/>
                </a:lnTo>
                <a:lnTo>
                  <a:pt x="1180" y="548"/>
                </a:lnTo>
                <a:lnTo>
                  <a:pt x="1180" y="537"/>
                </a:lnTo>
                <a:lnTo>
                  <a:pt x="1180" y="526"/>
                </a:lnTo>
                <a:lnTo>
                  <a:pt x="1180" y="515"/>
                </a:lnTo>
                <a:lnTo>
                  <a:pt x="1180" y="503"/>
                </a:lnTo>
                <a:lnTo>
                  <a:pt x="1180" y="491"/>
                </a:lnTo>
                <a:lnTo>
                  <a:pt x="1180" y="479"/>
                </a:lnTo>
                <a:lnTo>
                  <a:pt x="1180" y="468"/>
                </a:lnTo>
                <a:lnTo>
                  <a:pt x="1180" y="458"/>
                </a:lnTo>
                <a:lnTo>
                  <a:pt x="1180" y="449"/>
                </a:lnTo>
                <a:lnTo>
                  <a:pt x="1180" y="442"/>
                </a:lnTo>
                <a:lnTo>
                  <a:pt x="1180" y="436"/>
                </a:lnTo>
                <a:lnTo>
                  <a:pt x="1180" y="432"/>
                </a:lnTo>
                <a:lnTo>
                  <a:pt x="1180" y="431"/>
                </a:lnTo>
                <a:lnTo>
                  <a:pt x="1180" y="431"/>
                </a:lnTo>
                <a:lnTo>
                  <a:pt x="1173" y="431"/>
                </a:lnTo>
                <a:lnTo>
                  <a:pt x="1166" y="431"/>
                </a:lnTo>
                <a:lnTo>
                  <a:pt x="1158" y="431"/>
                </a:lnTo>
                <a:lnTo>
                  <a:pt x="1151" y="431"/>
                </a:lnTo>
                <a:lnTo>
                  <a:pt x="1143" y="431"/>
                </a:lnTo>
                <a:lnTo>
                  <a:pt x="1135" y="431"/>
                </a:lnTo>
                <a:lnTo>
                  <a:pt x="1127" y="431"/>
                </a:lnTo>
                <a:lnTo>
                  <a:pt x="1119" y="431"/>
                </a:lnTo>
                <a:lnTo>
                  <a:pt x="1111" y="431"/>
                </a:lnTo>
                <a:lnTo>
                  <a:pt x="1103" y="431"/>
                </a:lnTo>
                <a:lnTo>
                  <a:pt x="1095" y="431"/>
                </a:lnTo>
                <a:lnTo>
                  <a:pt x="1087" y="431"/>
                </a:lnTo>
                <a:lnTo>
                  <a:pt x="1079" y="431"/>
                </a:lnTo>
                <a:lnTo>
                  <a:pt x="1070" y="431"/>
                </a:lnTo>
                <a:lnTo>
                  <a:pt x="1062" y="431"/>
                </a:lnTo>
                <a:lnTo>
                  <a:pt x="1053" y="431"/>
                </a:lnTo>
                <a:lnTo>
                  <a:pt x="1045" y="431"/>
                </a:lnTo>
                <a:lnTo>
                  <a:pt x="1036" y="431"/>
                </a:lnTo>
                <a:lnTo>
                  <a:pt x="1028" y="431"/>
                </a:lnTo>
                <a:lnTo>
                  <a:pt x="1019" y="431"/>
                </a:lnTo>
                <a:lnTo>
                  <a:pt x="1010" y="431"/>
                </a:lnTo>
                <a:lnTo>
                  <a:pt x="1001" y="431"/>
                </a:lnTo>
                <a:lnTo>
                  <a:pt x="992" y="431"/>
                </a:lnTo>
                <a:lnTo>
                  <a:pt x="983" y="431"/>
                </a:lnTo>
                <a:lnTo>
                  <a:pt x="974" y="431"/>
                </a:lnTo>
                <a:lnTo>
                  <a:pt x="965" y="431"/>
                </a:lnTo>
                <a:lnTo>
                  <a:pt x="956" y="431"/>
                </a:lnTo>
                <a:lnTo>
                  <a:pt x="947" y="431"/>
                </a:lnTo>
                <a:lnTo>
                  <a:pt x="938" y="431"/>
                </a:lnTo>
                <a:lnTo>
                  <a:pt x="929" y="431"/>
                </a:lnTo>
                <a:lnTo>
                  <a:pt x="920" y="431"/>
                </a:lnTo>
                <a:lnTo>
                  <a:pt x="910" y="431"/>
                </a:lnTo>
                <a:lnTo>
                  <a:pt x="901" y="431"/>
                </a:lnTo>
                <a:lnTo>
                  <a:pt x="892" y="431"/>
                </a:lnTo>
                <a:lnTo>
                  <a:pt x="882" y="431"/>
                </a:lnTo>
                <a:lnTo>
                  <a:pt x="873" y="431"/>
                </a:lnTo>
                <a:lnTo>
                  <a:pt x="863" y="431"/>
                </a:lnTo>
                <a:lnTo>
                  <a:pt x="854" y="431"/>
                </a:lnTo>
                <a:lnTo>
                  <a:pt x="844" y="431"/>
                </a:lnTo>
                <a:lnTo>
                  <a:pt x="835" y="431"/>
                </a:lnTo>
                <a:lnTo>
                  <a:pt x="825" y="431"/>
                </a:lnTo>
                <a:lnTo>
                  <a:pt x="816" y="431"/>
                </a:lnTo>
                <a:lnTo>
                  <a:pt x="806" y="431"/>
                </a:lnTo>
                <a:lnTo>
                  <a:pt x="796" y="431"/>
                </a:lnTo>
                <a:lnTo>
                  <a:pt x="787" y="431"/>
                </a:lnTo>
                <a:lnTo>
                  <a:pt x="777" y="431"/>
                </a:lnTo>
                <a:lnTo>
                  <a:pt x="767" y="431"/>
                </a:lnTo>
                <a:lnTo>
                  <a:pt x="758" y="431"/>
                </a:lnTo>
                <a:lnTo>
                  <a:pt x="748" y="431"/>
                </a:lnTo>
                <a:lnTo>
                  <a:pt x="738" y="431"/>
                </a:lnTo>
                <a:lnTo>
                  <a:pt x="729" y="431"/>
                </a:lnTo>
                <a:lnTo>
                  <a:pt x="719" y="431"/>
                </a:lnTo>
                <a:lnTo>
                  <a:pt x="709" y="431"/>
                </a:lnTo>
                <a:lnTo>
                  <a:pt x="700" y="431"/>
                </a:lnTo>
                <a:lnTo>
                  <a:pt x="690" y="431"/>
                </a:lnTo>
                <a:lnTo>
                  <a:pt x="680" y="431"/>
                </a:lnTo>
                <a:lnTo>
                  <a:pt x="670" y="431"/>
                </a:lnTo>
                <a:lnTo>
                  <a:pt x="661" y="431"/>
                </a:lnTo>
                <a:lnTo>
                  <a:pt x="651" y="431"/>
                </a:lnTo>
                <a:lnTo>
                  <a:pt x="641" y="431"/>
                </a:lnTo>
                <a:lnTo>
                  <a:pt x="632" y="431"/>
                </a:lnTo>
                <a:lnTo>
                  <a:pt x="622" y="431"/>
                </a:lnTo>
                <a:lnTo>
                  <a:pt x="612" y="431"/>
                </a:lnTo>
                <a:lnTo>
                  <a:pt x="603" y="431"/>
                </a:lnTo>
                <a:lnTo>
                  <a:pt x="593" y="431"/>
                </a:lnTo>
                <a:lnTo>
                  <a:pt x="583" y="431"/>
                </a:lnTo>
                <a:lnTo>
                  <a:pt x="574" y="431"/>
                </a:lnTo>
                <a:lnTo>
                  <a:pt x="564" y="431"/>
                </a:lnTo>
                <a:lnTo>
                  <a:pt x="555" y="431"/>
                </a:lnTo>
                <a:lnTo>
                  <a:pt x="545" y="431"/>
                </a:lnTo>
                <a:lnTo>
                  <a:pt x="536" y="431"/>
                </a:lnTo>
                <a:lnTo>
                  <a:pt x="526" y="431"/>
                </a:lnTo>
                <a:lnTo>
                  <a:pt x="517" y="431"/>
                </a:lnTo>
                <a:lnTo>
                  <a:pt x="507" y="431"/>
                </a:lnTo>
                <a:lnTo>
                  <a:pt x="498" y="431"/>
                </a:lnTo>
                <a:lnTo>
                  <a:pt x="489" y="431"/>
                </a:lnTo>
                <a:lnTo>
                  <a:pt x="479" y="431"/>
                </a:lnTo>
                <a:lnTo>
                  <a:pt x="470" y="431"/>
                </a:lnTo>
                <a:lnTo>
                  <a:pt x="461" y="431"/>
                </a:lnTo>
                <a:lnTo>
                  <a:pt x="452" y="431"/>
                </a:lnTo>
                <a:lnTo>
                  <a:pt x="443" y="431"/>
                </a:lnTo>
                <a:lnTo>
                  <a:pt x="434" y="431"/>
                </a:lnTo>
                <a:lnTo>
                  <a:pt x="425" y="431"/>
                </a:lnTo>
                <a:lnTo>
                  <a:pt x="416" y="431"/>
                </a:lnTo>
                <a:lnTo>
                  <a:pt x="407" y="431"/>
                </a:lnTo>
                <a:lnTo>
                  <a:pt x="398" y="431"/>
                </a:lnTo>
                <a:lnTo>
                  <a:pt x="389" y="431"/>
                </a:lnTo>
                <a:lnTo>
                  <a:pt x="380" y="431"/>
                </a:lnTo>
                <a:lnTo>
                  <a:pt x="371" y="431"/>
                </a:lnTo>
                <a:lnTo>
                  <a:pt x="363" y="431"/>
                </a:lnTo>
                <a:lnTo>
                  <a:pt x="354" y="431"/>
                </a:lnTo>
                <a:lnTo>
                  <a:pt x="346" y="431"/>
                </a:lnTo>
                <a:lnTo>
                  <a:pt x="337" y="431"/>
                </a:lnTo>
                <a:lnTo>
                  <a:pt x="329" y="431"/>
                </a:lnTo>
                <a:lnTo>
                  <a:pt x="320" y="431"/>
                </a:lnTo>
                <a:lnTo>
                  <a:pt x="312" y="431"/>
                </a:lnTo>
                <a:lnTo>
                  <a:pt x="304" y="431"/>
                </a:lnTo>
                <a:lnTo>
                  <a:pt x="296" y="431"/>
                </a:lnTo>
                <a:lnTo>
                  <a:pt x="288" y="431"/>
                </a:lnTo>
                <a:lnTo>
                  <a:pt x="280" y="431"/>
                </a:lnTo>
                <a:lnTo>
                  <a:pt x="272" y="431"/>
                </a:lnTo>
                <a:lnTo>
                  <a:pt x="264" y="431"/>
                </a:lnTo>
                <a:lnTo>
                  <a:pt x="256" y="431"/>
                </a:lnTo>
                <a:lnTo>
                  <a:pt x="249" y="431"/>
                </a:lnTo>
                <a:lnTo>
                  <a:pt x="241" y="431"/>
                </a:lnTo>
                <a:lnTo>
                  <a:pt x="233" y="431"/>
                </a:lnTo>
                <a:lnTo>
                  <a:pt x="226" y="431"/>
                </a:lnTo>
                <a:lnTo>
                  <a:pt x="219" y="431"/>
                </a:lnTo>
                <a:lnTo>
                  <a:pt x="211" y="431"/>
                </a:lnTo>
                <a:lnTo>
                  <a:pt x="204" y="431"/>
                </a:lnTo>
                <a:lnTo>
                  <a:pt x="197" y="431"/>
                </a:lnTo>
                <a:lnTo>
                  <a:pt x="190" y="431"/>
                </a:lnTo>
                <a:lnTo>
                  <a:pt x="183" y="431"/>
                </a:lnTo>
                <a:lnTo>
                  <a:pt x="177" y="431"/>
                </a:lnTo>
                <a:lnTo>
                  <a:pt x="170" y="431"/>
                </a:lnTo>
                <a:lnTo>
                  <a:pt x="163" y="431"/>
                </a:lnTo>
                <a:lnTo>
                  <a:pt x="157" y="431"/>
                </a:lnTo>
                <a:lnTo>
                  <a:pt x="151" y="431"/>
                </a:lnTo>
                <a:lnTo>
                  <a:pt x="144" y="431"/>
                </a:lnTo>
                <a:lnTo>
                  <a:pt x="138" y="431"/>
                </a:lnTo>
                <a:lnTo>
                  <a:pt x="132" y="431"/>
                </a:lnTo>
                <a:lnTo>
                  <a:pt x="126" y="431"/>
                </a:lnTo>
                <a:lnTo>
                  <a:pt x="120" y="431"/>
                </a:lnTo>
                <a:lnTo>
                  <a:pt x="115" y="431"/>
                </a:lnTo>
                <a:lnTo>
                  <a:pt x="109" y="431"/>
                </a:lnTo>
                <a:lnTo>
                  <a:pt x="104" y="431"/>
                </a:lnTo>
                <a:lnTo>
                  <a:pt x="98" y="431"/>
                </a:lnTo>
                <a:lnTo>
                  <a:pt x="93" y="431"/>
                </a:lnTo>
                <a:lnTo>
                  <a:pt x="88" y="431"/>
                </a:lnTo>
                <a:lnTo>
                  <a:pt x="83" y="431"/>
                </a:lnTo>
                <a:lnTo>
                  <a:pt x="78" y="431"/>
                </a:lnTo>
                <a:lnTo>
                  <a:pt x="74" y="431"/>
                </a:lnTo>
                <a:lnTo>
                  <a:pt x="69" y="431"/>
                </a:lnTo>
                <a:lnTo>
                  <a:pt x="65" y="431"/>
                </a:lnTo>
                <a:lnTo>
                  <a:pt x="60" y="431"/>
                </a:lnTo>
                <a:lnTo>
                  <a:pt x="56" y="431"/>
                </a:lnTo>
                <a:lnTo>
                  <a:pt x="52" y="431"/>
                </a:lnTo>
                <a:lnTo>
                  <a:pt x="48" y="431"/>
                </a:lnTo>
                <a:lnTo>
                  <a:pt x="44" y="431"/>
                </a:lnTo>
                <a:lnTo>
                  <a:pt x="41" y="431"/>
                </a:lnTo>
                <a:lnTo>
                  <a:pt x="37" y="431"/>
                </a:lnTo>
                <a:lnTo>
                  <a:pt x="34" y="431"/>
                </a:lnTo>
                <a:lnTo>
                  <a:pt x="31" y="431"/>
                </a:lnTo>
                <a:lnTo>
                  <a:pt x="28" y="431"/>
                </a:lnTo>
                <a:lnTo>
                  <a:pt x="25" y="431"/>
                </a:lnTo>
                <a:lnTo>
                  <a:pt x="22" y="431"/>
                </a:lnTo>
                <a:lnTo>
                  <a:pt x="19" y="431"/>
                </a:lnTo>
                <a:lnTo>
                  <a:pt x="17" y="431"/>
                </a:lnTo>
                <a:lnTo>
                  <a:pt x="15" y="431"/>
                </a:lnTo>
                <a:lnTo>
                  <a:pt x="13" y="431"/>
                </a:lnTo>
                <a:lnTo>
                  <a:pt x="11" y="431"/>
                </a:lnTo>
                <a:lnTo>
                  <a:pt x="9" y="431"/>
                </a:lnTo>
                <a:lnTo>
                  <a:pt x="7" y="431"/>
                </a:lnTo>
                <a:lnTo>
                  <a:pt x="6" y="431"/>
                </a:lnTo>
                <a:lnTo>
                  <a:pt x="4" y="431"/>
                </a:lnTo>
                <a:lnTo>
                  <a:pt x="3" y="431"/>
                </a:lnTo>
                <a:lnTo>
                  <a:pt x="2" y="431"/>
                </a:lnTo>
                <a:lnTo>
                  <a:pt x="2" y="431"/>
                </a:lnTo>
                <a:lnTo>
                  <a:pt x="1" y="431"/>
                </a:lnTo>
                <a:lnTo>
                  <a:pt x="0" y="431"/>
                </a:lnTo>
                <a:lnTo>
                  <a:pt x="0" y="431"/>
                </a:lnTo>
                <a:lnTo>
                  <a:pt x="0" y="431"/>
                </a:lnTo>
                <a:lnTo>
                  <a:pt x="0" y="431"/>
                </a:lnTo>
                <a:lnTo>
                  <a:pt x="0" y="430"/>
                </a:lnTo>
                <a:lnTo>
                  <a:pt x="0" y="427"/>
                </a:lnTo>
                <a:lnTo>
                  <a:pt x="0" y="422"/>
                </a:lnTo>
                <a:lnTo>
                  <a:pt x="0" y="415"/>
                </a:lnTo>
                <a:lnTo>
                  <a:pt x="0" y="406"/>
                </a:lnTo>
                <a:lnTo>
                  <a:pt x="0" y="397"/>
                </a:lnTo>
                <a:lnTo>
                  <a:pt x="0" y="387"/>
                </a:lnTo>
                <a:lnTo>
                  <a:pt x="0" y="376"/>
                </a:lnTo>
                <a:lnTo>
                  <a:pt x="0" y="365"/>
                </a:lnTo>
                <a:lnTo>
                  <a:pt x="0" y="353"/>
                </a:lnTo>
                <a:lnTo>
                  <a:pt x="0" y="342"/>
                </a:lnTo>
                <a:lnTo>
                  <a:pt x="0" y="331"/>
                </a:lnTo>
                <a:lnTo>
                  <a:pt x="0" y="321"/>
                </a:lnTo>
                <a:lnTo>
                  <a:pt x="0" y="312"/>
                </a:lnTo>
                <a:lnTo>
                  <a:pt x="0" y="304"/>
                </a:lnTo>
                <a:lnTo>
                  <a:pt x="0" y="297"/>
                </a:lnTo>
                <a:lnTo>
                  <a:pt x="0" y="292"/>
                </a:lnTo>
                <a:lnTo>
                  <a:pt x="0" y="288"/>
                </a:lnTo>
                <a:lnTo>
                  <a:pt x="0" y="287"/>
                </a:lnTo>
                <a:lnTo>
                  <a:pt x="0" y="287"/>
                </a:lnTo>
                <a:lnTo>
                  <a:pt x="0" y="286"/>
                </a:lnTo>
                <a:lnTo>
                  <a:pt x="0" y="282"/>
                </a:lnTo>
                <a:lnTo>
                  <a:pt x="0" y="277"/>
                </a:lnTo>
                <a:lnTo>
                  <a:pt x="0" y="269"/>
                </a:lnTo>
                <a:lnTo>
                  <a:pt x="0" y="260"/>
                </a:lnTo>
                <a:lnTo>
                  <a:pt x="0" y="250"/>
                </a:lnTo>
                <a:lnTo>
                  <a:pt x="0" y="239"/>
                </a:lnTo>
                <a:lnTo>
                  <a:pt x="0" y="227"/>
                </a:lnTo>
                <a:lnTo>
                  <a:pt x="0" y="215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0" y="171"/>
                </a:lnTo>
                <a:lnTo>
                  <a:pt x="0" y="162"/>
                </a:lnTo>
                <a:lnTo>
                  <a:pt x="0" y="154"/>
                </a:lnTo>
                <a:lnTo>
                  <a:pt x="0" y="149"/>
                </a:lnTo>
                <a:lnTo>
                  <a:pt x="0" y="145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1" y="144"/>
                </a:lnTo>
                <a:lnTo>
                  <a:pt x="2" y="144"/>
                </a:lnTo>
                <a:lnTo>
                  <a:pt x="2" y="144"/>
                </a:lnTo>
                <a:lnTo>
                  <a:pt x="3" y="144"/>
                </a:lnTo>
                <a:lnTo>
                  <a:pt x="4" y="144"/>
                </a:lnTo>
                <a:lnTo>
                  <a:pt x="6" y="144"/>
                </a:lnTo>
                <a:lnTo>
                  <a:pt x="7" y="144"/>
                </a:lnTo>
                <a:lnTo>
                  <a:pt x="9" y="144"/>
                </a:lnTo>
                <a:lnTo>
                  <a:pt x="11" y="144"/>
                </a:lnTo>
                <a:lnTo>
                  <a:pt x="13" y="144"/>
                </a:lnTo>
                <a:lnTo>
                  <a:pt x="15" y="144"/>
                </a:lnTo>
                <a:lnTo>
                  <a:pt x="17" y="144"/>
                </a:lnTo>
                <a:lnTo>
                  <a:pt x="19" y="144"/>
                </a:lnTo>
                <a:lnTo>
                  <a:pt x="22" y="144"/>
                </a:lnTo>
                <a:lnTo>
                  <a:pt x="25" y="144"/>
                </a:lnTo>
                <a:lnTo>
                  <a:pt x="28" y="144"/>
                </a:lnTo>
                <a:lnTo>
                  <a:pt x="31" y="144"/>
                </a:lnTo>
                <a:lnTo>
                  <a:pt x="34" y="144"/>
                </a:lnTo>
                <a:lnTo>
                  <a:pt x="37" y="144"/>
                </a:lnTo>
                <a:lnTo>
                  <a:pt x="41" y="144"/>
                </a:lnTo>
                <a:lnTo>
                  <a:pt x="44" y="144"/>
                </a:lnTo>
                <a:lnTo>
                  <a:pt x="48" y="144"/>
                </a:lnTo>
                <a:lnTo>
                  <a:pt x="52" y="144"/>
                </a:lnTo>
                <a:lnTo>
                  <a:pt x="56" y="144"/>
                </a:lnTo>
                <a:lnTo>
                  <a:pt x="60" y="144"/>
                </a:lnTo>
                <a:lnTo>
                  <a:pt x="65" y="144"/>
                </a:lnTo>
                <a:lnTo>
                  <a:pt x="69" y="144"/>
                </a:lnTo>
                <a:lnTo>
                  <a:pt x="74" y="144"/>
                </a:lnTo>
                <a:lnTo>
                  <a:pt x="78" y="144"/>
                </a:lnTo>
                <a:lnTo>
                  <a:pt x="83" y="144"/>
                </a:lnTo>
                <a:lnTo>
                  <a:pt x="88" y="144"/>
                </a:lnTo>
                <a:lnTo>
                  <a:pt x="93" y="144"/>
                </a:lnTo>
                <a:lnTo>
                  <a:pt x="98" y="144"/>
                </a:lnTo>
                <a:lnTo>
                  <a:pt x="104" y="144"/>
                </a:lnTo>
                <a:lnTo>
                  <a:pt x="109" y="144"/>
                </a:lnTo>
                <a:lnTo>
                  <a:pt x="115" y="144"/>
                </a:lnTo>
                <a:lnTo>
                  <a:pt x="120" y="144"/>
                </a:lnTo>
                <a:lnTo>
                  <a:pt x="126" y="144"/>
                </a:lnTo>
                <a:lnTo>
                  <a:pt x="132" y="144"/>
                </a:lnTo>
                <a:lnTo>
                  <a:pt x="138" y="144"/>
                </a:lnTo>
                <a:lnTo>
                  <a:pt x="144" y="144"/>
                </a:lnTo>
                <a:lnTo>
                  <a:pt x="151" y="144"/>
                </a:lnTo>
                <a:lnTo>
                  <a:pt x="157" y="144"/>
                </a:lnTo>
                <a:lnTo>
                  <a:pt x="163" y="144"/>
                </a:lnTo>
                <a:lnTo>
                  <a:pt x="170" y="144"/>
                </a:lnTo>
                <a:lnTo>
                  <a:pt x="177" y="144"/>
                </a:lnTo>
                <a:lnTo>
                  <a:pt x="183" y="144"/>
                </a:lnTo>
                <a:lnTo>
                  <a:pt x="190" y="144"/>
                </a:lnTo>
                <a:lnTo>
                  <a:pt x="197" y="144"/>
                </a:lnTo>
                <a:lnTo>
                  <a:pt x="204" y="144"/>
                </a:lnTo>
                <a:lnTo>
                  <a:pt x="211" y="144"/>
                </a:lnTo>
                <a:lnTo>
                  <a:pt x="219" y="144"/>
                </a:lnTo>
                <a:lnTo>
                  <a:pt x="226" y="144"/>
                </a:lnTo>
                <a:lnTo>
                  <a:pt x="233" y="144"/>
                </a:lnTo>
                <a:lnTo>
                  <a:pt x="241" y="144"/>
                </a:lnTo>
                <a:lnTo>
                  <a:pt x="249" y="144"/>
                </a:lnTo>
                <a:lnTo>
                  <a:pt x="256" y="144"/>
                </a:lnTo>
                <a:lnTo>
                  <a:pt x="264" y="144"/>
                </a:lnTo>
                <a:lnTo>
                  <a:pt x="272" y="144"/>
                </a:lnTo>
                <a:lnTo>
                  <a:pt x="280" y="144"/>
                </a:lnTo>
                <a:lnTo>
                  <a:pt x="288" y="144"/>
                </a:lnTo>
                <a:lnTo>
                  <a:pt x="296" y="144"/>
                </a:lnTo>
                <a:lnTo>
                  <a:pt x="304" y="144"/>
                </a:lnTo>
                <a:lnTo>
                  <a:pt x="312" y="144"/>
                </a:lnTo>
                <a:lnTo>
                  <a:pt x="320" y="144"/>
                </a:lnTo>
                <a:lnTo>
                  <a:pt x="329" y="144"/>
                </a:lnTo>
                <a:lnTo>
                  <a:pt x="337" y="144"/>
                </a:lnTo>
                <a:lnTo>
                  <a:pt x="346" y="144"/>
                </a:lnTo>
                <a:lnTo>
                  <a:pt x="354" y="144"/>
                </a:lnTo>
                <a:lnTo>
                  <a:pt x="363" y="144"/>
                </a:lnTo>
                <a:lnTo>
                  <a:pt x="371" y="144"/>
                </a:lnTo>
                <a:lnTo>
                  <a:pt x="380" y="144"/>
                </a:lnTo>
                <a:lnTo>
                  <a:pt x="389" y="144"/>
                </a:lnTo>
                <a:lnTo>
                  <a:pt x="398" y="144"/>
                </a:lnTo>
                <a:lnTo>
                  <a:pt x="407" y="144"/>
                </a:lnTo>
                <a:lnTo>
                  <a:pt x="416" y="144"/>
                </a:lnTo>
                <a:lnTo>
                  <a:pt x="425" y="144"/>
                </a:lnTo>
                <a:lnTo>
                  <a:pt x="434" y="144"/>
                </a:lnTo>
                <a:lnTo>
                  <a:pt x="443" y="144"/>
                </a:lnTo>
                <a:lnTo>
                  <a:pt x="452" y="144"/>
                </a:lnTo>
                <a:lnTo>
                  <a:pt x="461" y="144"/>
                </a:lnTo>
                <a:lnTo>
                  <a:pt x="470" y="144"/>
                </a:lnTo>
                <a:lnTo>
                  <a:pt x="479" y="144"/>
                </a:lnTo>
                <a:lnTo>
                  <a:pt x="489" y="144"/>
                </a:lnTo>
                <a:lnTo>
                  <a:pt x="498" y="144"/>
                </a:lnTo>
                <a:lnTo>
                  <a:pt x="507" y="144"/>
                </a:lnTo>
                <a:lnTo>
                  <a:pt x="517" y="144"/>
                </a:lnTo>
                <a:lnTo>
                  <a:pt x="526" y="144"/>
                </a:lnTo>
                <a:lnTo>
                  <a:pt x="536" y="144"/>
                </a:lnTo>
                <a:lnTo>
                  <a:pt x="545" y="144"/>
                </a:lnTo>
                <a:lnTo>
                  <a:pt x="555" y="144"/>
                </a:lnTo>
                <a:lnTo>
                  <a:pt x="564" y="144"/>
                </a:lnTo>
                <a:lnTo>
                  <a:pt x="574" y="144"/>
                </a:lnTo>
                <a:lnTo>
                  <a:pt x="583" y="144"/>
                </a:lnTo>
                <a:lnTo>
                  <a:pt x="593" y="144"/>
                </a:lnTo>
                <a:lnTo>
                  <a:pt x="603" y="144"/>
                </a:lnTo>
                <a:lnTo>
                  <a:pt x="612" y="144"/>
                </a:lnTo>
                <a:lnTo>
                  <a:pt x="622" y="144"/>
                </a:lnTo>
                <a:lnTo>
                  <a:pt x="632" y="144"/>
                </a:lnTo>
                <a:lnTo>
                  <a:pt x="641" y="144"/>
                </a:lnTo>
                <a:lnTo>
                  <a:pt x="651" y="144"/>
                </a:lnTo>
                <a:lnTo>
                  <a:pt x="661" y="144"/>
                </a:lnTo>
                <a:lnTo>
                  <a:pt x="670" y="144"/>
                </a:lnTo>
                <a:lnTo>
                  <a:pt x="680" y="144"/>
                </a:lnTo>
                <a:lnTo>
                  <a:pt x="690" y="144"/>
                </a:lnTo>
                <a:lnTo>
                  <a:pt x="700" y="144"/>
                </a:lnTo>
                <a:lnTo>
                  <a:pt x="709" y="144"/>
                </a:lnTo>
                <a:lnTo>
                  <a:pt x="719" y="144"/>
                </a:lnTo>
                <a:lnTo>
                  <a:pt x="729" y="144"/>
                </a:lnTo>
                <a:lnTo>
                  <a:pt x="738" y="144"/>
                </a:lnTo>
                <a:lnTo>
                  <a:pt x="748" y="144"/>
                </a:lnTo>
                <a:lnTo>
                  <a:pt x="758" y="144"/>
                </a:lnTo>
                <a:lnTo>
                  <a:pt x="767" y="144"/>
                </a:lnTo>
                <a:lnTo>
                  <a:pt x="777" y="144"/>
                </a:lnTo>
                <a:lnTo>
                  <a:pt x="787" y="144"/>
                </a:lnTo>
                <a:lnTo>
                  <a:pt x="796" y="144"/>
                </a:lnTo>
                <a:lnTo>
                  <a:pt x="806" y="144"/>
                </a:lnTo>
                <a:lnTo>
                  <a:pt x="816" y="144"/>
                </a:lnTo>
                <a:lnTo>
                  <a:pt x="825" y="144"/>
                </a:lnTo>
                <a:lnTo>
                  <a:pt x="835" y="144"/>
                </a:lnTo>
                <a:lnTo>
                  <a:pt x="844" y="144"/>
                </a:lnTo>
                <a:lnTo>
                  <a:pt x="854" y="144"/>
                </a:lnTo>
                <a:lnTo>
                  <a:pt x="863" y="144"/>
                </a:lnTo>
                <a:lnTo>
                  <a:pt x="873" y="144"/>
                </a:lnTo>
                <a:lnTo>
                  <a:pt x="882" y="144"/>
                </a:lnTo>
                <a:lnTo>
                  <a:pt x="892" y="144"/>
                </a:lnTo>
                <a:lnTo>
                  <a:pt x="901" y="144"/>
                </a:lnTo>
                <a:lnTo>
                  <a:pt x="910" y="144"/>
                </a:lnTo>
                <a:lnTo>
                  <a:pt x="920" y="144"/>
                </a:lnTo>
                <a:lnTo>
                  <a:pt x="929" y="144"/>
                </a:lnTo>
                <a:lnTo>
                  <a:pt x="938" y="144"/>
                </a:lnTo>
                <a:lnTo>
                  <a:pt x="947" y="144"/>
                </a:lnTo>
                <a:lnTo>
                  <a:pt x="956" y="144"/>
                </a:lnTo>
                <a:lnTo>
                  <a:pt x="965" y="144"/>
                </a:lnTo>
                <a:lnTo>
                  <a:pt x="974" y="144"/>
                </a:lnTo>
                <a:lnTo>
                  <a:pt x="983" y="144"/>
                </a:lnTo>
                <a:lnTo>
                  <a:pt x="992" y="144"/>
                </a:lnTo>
                <a:lnTo>
                  <a:pt x="1001" y="144"/>
                </a:lnTo>
                <a:lnTo>
                  <a:pt x="1010" y="144"/>
                </a:lnTo>
                <a:lnTo>
                  <a:pt x="1019" y="144"/>
                </a:lnTo>
                <a:lnTo>
                  <a:pt x="1028" y="144"/>
                </a:lnTo>
                <a:lnTo>
                  <a:pt x="1036" y="144"/>
                </a:lnTo>
                <a:lnTo>
                  <a:pt x="1045" y="144"/>
                </a:lnTo>
                <a:lnTo>
                  <a:pt x="1053" y="144"/>
                </a:lnTo>
                <a:lnTo>
                  <a:pt x="1062" y="144"/>
                </a:lnTo>
                <a:lnTo>
                  <a:pt x="1070" y="144"/>
                </a:lnTo>
                <a:lnTo>
                  <a:pt x="1079" y="144"/>
                </a:lnTo>
                <a:lnTo>
                  <a:pt x="1087" y="144"/>
                </a:lnTo>
                <a:lnTo>
                  <a:pt x="1095" y="144"/>
                </a:lnTo>
                <a:lnTo>
                  <a:pt x="1103" y="144"/>
                </a:lnTo>
                <a:lnTo>
                  <a:pt x="1111" y="144"/>
                </a:lnTo>
                <a:lnTo>
                  <a:pt x="1119" y="144"/>
                </a:lnTo>
                <a:lnTo>
                  <a:pt x="1127" y="144"/>
                </a:lnTo>
                <a:lnTo>
                  <a:pt x="1135" y="144"/>
                </a:lnTo>
                <a:lnTo>
                  <a:pt x="1143" y="144"/>
                </a:lnTo>
                <a:lnTo>
                  <a:pt x="1151" y="144"/>
                </a:lnTo>
                <a:lnTo>
                  <a:pt x="1158" y="144"/>
                </a:lnTo>
                <a:lnTo>
                  <a:pt x="1166" y="144"/>
                </a:lnTo>
                <a:lnTo>
                  <a:pt x="1173" y="144"/>
                </a:lnTo>
                <a:lnTo>
                  <a:pt x="1180" y="144"/>
                </a:lnTo>
                <a:lnTo>
                  <a:pt x="1180" y="144"/>
                </a:lnTo>
                <a:lnTo>
                  <a:pt x="1180" y="142"/>
                </a:lnTo>
                <a:lnTo>
                  <a:pt x="1180" y="139"/>
                </a:lnTo>
                <a:lnTo>
                  <a:pt x="1180" y="134"/>
                </a:lnTo>
                <a:lnTo>
                  <a:pt x="1180" y="127"/>
                </a:lnTo>
                <a:lnTo>
                  <a:pt x="1180" y="119"/>
                </a:lnTo>
                <a:lnTo>
                  <a:pt x="1180" y="110"/>
                </a:lnTo>
                <a:lnTo>
                  <a:pt x="1180" y="99"/>
                </a:lnTo>
                <a:lnTo>
                  <a:pt x="1180" y="89"/>
                </a:lnTo>
                <a:lnTo>
                  <a:pt x="1180" y="77"/>
                </a:lnTo>
                <a:lnTo>
                  <a:pt x="1180" y="66"/>
                </a:lnTo>
                <a:lnTo>
                  <a:pt x="1180" y="55"/>
                </a:lnTo>
                <a:lnTo>
                  <a:pt x="1180" y="44"/>
                </a:lnTo>
                <a:lnTo>
                  <a:pt x="1180" y="34"/>
                </a:lnTo>
                <a:lnTo>
                  <a:pt x="1180" y="24"/>
                </a:lnTo>
                <a:lnTo>
                  <a:pt x="1180" y="16"/>
                </a:lnTo>
                <a:lnTo>
                  <a:pt x="1180" y="9"/>
                </a:lnTo>
                <a:lnTo>
                  <a:pt x="1180" y="4"/>
                </a:lnTo>
                <a:lnTo>
                  <a:pt x="1180" y="1"/>
                </a:lnTo>
                <a:lnTo>
                  <a:pt x="1180" y="0"/>
                </a:lnTo>
                <a:lnTo>
                  <a:pt x="1180" y="0"/>
                </a:lnTo>
                <a:lnTo>
                  <a:pt x="1181" y="0"/>
                </a:lnTo>
                <a:lnTo>
                  <a:pt x="1182" y="0"/>
                </a:lnTo>
                <a:lnTo>
                  <a:pt x="1183" y="1"/>
                </a:lnTo>
                <a:lnTo>
                  <a:pt x="1185" y="3"/>
                </a:lnTo>
                <a:lnTo>
                  <a:pt x="1187" y="4"/>
                </a:lnTo>
                <a:lnTo>
                  <a:pt x="1190" y="6"/>
                </a:lnTo>
                <a:lnTo>
                  <a:pt x="1193" y="9"/>
                </a:lnTo>
                <a:lnTo>
                  <a:pt x="1196" y="11"/>
                </a:lnTo>
                <a:lnTo>
                  <a:pt x="1200" y="14"/>
                </a:lnTo>
                <a:lnTo>
                  <a:pt x="1205" y="17"/>
                </a:lnTo>
                <a:lnTo>
                  <a:pt x="1210" y="21"/>
                </a:lnTo>
                <a:lnTo>
                  <a:pt x="1215" y="25"/>
                </a:lnTo>
                <a:lnTo>
                  <a:pt x="1220" y="29"/>
                </a:lnTo>
                <a:lnTo>
                  <a:pt x="1226" y="33"/>
                </a:lnTo>
                <a:lnTo>
                  <a:pt x="1232" y="37"/>
                </a:lnTo>
                <a:lnTo>
                  <a:pt x="1239" y="42"/>
                </a:lnTo>
                <a:lnTo>
                  <a:pt x="1245" y="47"/>
                </a:lnTo>
                <a:lnTo>
                  <a:pt x="1252" y="52"/>
                </a:lnTo>
                <a:lnTo>
                  <a:pt x="1259" y="57"/>
                </a:lnTo>
                <a:lnTo>
                  <a:pt x="1267" y="63"/>
                </a:lnTo>
                <a:lnTo>
                  <a:pt x="1275" y="68"/>
                </a:lnTo>
                <a:lnTo>
                  <a:pt x="1282" y="74"/>
                </a:lnTo>
                <a:lnTo>
                  <a:pt x="1290" y="80"/>
                </a:lnTo>
                <a:lnTo>
                  <a:pt x="1299" y="86"/>
                </a:lnTo>
                <a:lnTo>
                  <a:pt x="1307" y="92"/>
                </a:lnTo>
                <a:lnTo>
                  <a:pt x="1315" y="98"/>
                </a:lnTo>
                <a:lnTo>
                  <a:pt x="1324" y="105"/>
                </a:lnTo>
                <a:lnTo>
                  <a:pt x="1333" y="111"/>
                </a:lnTo>
                <a:lnTo>
                  <a:pt x="1341" y="117"/>
                </a:lnTo>
                <a:lnTo>
                  <a:pt x="1350" y="124"/>
                </a:lnTo>
                <a:lnTo>
                  <a:pt x="1359" y="130"/>
                </a:lnTo>
                <a:lnTo>
                  <a:pt x="1368" y="137"/>
                </a:lnTo>
                <a:lnTo>
                  <a:pt x="1377" y="143"/>
                </a:lnTo>
                <a:lnTo>
                  <a:pt x="1386" y="150"/>
                </a:lnTo>
                <a:lnTo>
                  <a:pt x="1395" y="156"/>
                </a:lnTo>
                <a:lnTo>
                  <a:pt x="1404" y="163"/>
                </a:lnTo>
                <a:lnTo>
                  <a:pt x="1413" y="169"/>
                </a:lnTo>
                <a:lnTo>
                  <a:pt x="1421" y="176"/>
                </a:lnTo>
                <a:lnTo>
                  <a:pt x="1430" y="182"/>
                </a:lnTo>
                <a:lnTo>
                  <a:pt x="1439" y="188"/>
                </a:lnTo>
                <a:lnTo>
                  <a:pt x="1447" y="195"/>
                </a:lnTo>
                <a:lnTo>
                  <a:pt x="1455" y="201"/>
                </a:lnTo>
                <a:lnTo>
                  <a:pt x="1464" y="207"/>
                </a:lnTo>
                <a:lnTo>
                  <a:pt x="1472" y="213"/>
                </a:lnTo>
                <a:lnTo>
                  <a:pt x="1480" y="218"/>
                </a:lnTo>
                <a:lnTo>
                  <a:pt x="1487" y="224"/>
                </a:lnTo>
                <a:lnTo>
                  <a:pt x="1495" y="229"/>
                </a:lnTo>
                <a:lnTo>
                  <a:pt x="1502" y="235"/>
                </a:lnTo>
                <a:lnTo>
                  <a:pt x="1509" y="240"/>
                </a:lnTo>
                <a:lnTo>
                  <a:pt x="1515" y="245"/>
                </a:lnTo>
                <a:lnTo>
                  <a:pt x="1522" y="249"/>
                </a:lnTo>
                <a:lnTo>
                  <a:pt x="1528" y="254"/>
                </a:lnTo>
                <a:lnTo>
                  <a:pt x="1534" y="258"/>
                </a:lnTo>
                <a:lnTo>
                  <a:pt x="1539" y="262"/>
                </a:lnTo>
                <a:lnTo>
                  <a:pt x="1544" y="266"/>
                </a:lnTo>
                <a:lnTo>
                  <a:pt x="1549" y="269"/>
                </a:lnTo>
                <a:lnTo>
                  <a:pt x="1554" y="273"/>
                </a:lnTo>
                <a:lnTo>
                  <a:pt x="1558" y="275"/>
                </a:lnTo>
                <a:lnTo>
                  <a:pt x="1561" y="278"/>
                </a:lnTo>
                <a:lnTo>
                  <a:pt x="1564" y="280"/>
                </a:lnTo>
                <a:lnTo>
                  <a:pt x="1567" y="282"/>
                </a:lnTo>
                <a:lnTo>
                  <a:pt x="1569" y="284"/>
                </a:lnTo>
                <a:lnTo>
                  <a:pt x="1571" y="285"/>
                </a:lnTo>
                <a:lnTo>
                  <a:pt x="1573" y="286"/>
                </a:lnTo>
                <a:lnTo>
                  <a:pt x="1573" y="287"/>
                </a:lnTo>
                <a:lnTo>
                  <a:pt x="1574" y="287"/>
                </a:lnTo>
                <a:lnTo>
                  <a:pt x="1574" y="287"/>
                </a:lnTo>
                <a:lnTo>
                  <a:pt x="1574" y="287"/>
                </a:lnTo>
                <a:close/>
              </a:path>
            </a:pathLst>
          </a:custGeom>
          <a:noFill/>
          <a:ln w="66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123840" y="1590840"/>
            <a:ext cx="2496960" cy="912600"/>
          </a:xfrm>
          <a:custGeom>
            <a:avLst/>
            <a:gdLst>
              <a:gd name="textAreaLeft" fmla="*/ 0 w 2496960"/>
              <a:gd name="textAreaRight" fmla="*/ 2496960 w 2496960"/>
              <a:gd name="textAreaTop" fmla="*/ 0 h 912600"/>
              <a:gd name="textAreaBottom" fmla="*/ 912960 h 912600"/>
            </a:gdLst>
            <a:ahLst/>
            <a:rect l="textAreaLeft" t="textAreaTop" r="textAreaRight" b="textAreaBottom"/>
            <a:pathLst>
              <a:path w="1573" h="575">
                <a:moveTo>
                  <a:pt x="1573" y="288"/>
                </a:moveTo>
                <a:lnTo>
                  <a:pt x="1572" y="288"/>
                </a:lnTo>
                <a:lnTo>
                  <a:pt x="1572" y="289"/>
                </a:lnTo>
                <a:lnTo>
                  <a:pt x="1570" y="289"/>
                </a:lnTo>
                <a:lnTo>
                  <a:pt x="1569" y="291"/>
                </a:lnTo>
                <a:lnTo>
                  <a:pt x="1566" y="292"/>
                </a:lnTo>
                <a:lnTo>
                  <a:pt x="1564" y="294"/>
                </a:lnTo>
                <a:lnTo>
                  <a:pt x="1560" y="297"/>
                </a:lnTo>
                <a:lnTo>
                  <a:pt x="1557" y="299"/>
                </a:lnTo>
                <a:lnTo>
                  <a:pt x="1553" y="302"/>
                </a:lnTo>
                <a:lnTo>
                  <a:pt x="1548" y="306"/>
                </a:lnTo>
                <a:lnTo>
                  <a:pt x="1544" y="309"/>
                </a:lnTo>
                <a:lnTo>
                  <a:pt x="1538" y="313"/>
                </a:lnTo>
                <a:lnTo>
                  <a:pt x="1533" y="317"/>
                </a:lnTo>
                <a:lnTo>
                  <a:pt x="1527" y="321"/>
                </a:lnTo>
                <a:lnTo>
                  <a:pt x="1521" y="326"/>
                </a:lnTo>
                <a:lnTo>
                  <a:pt x="1515" y="330"/>
                </a:lnTo>
                <a:lnTo>
                  <a:pt x="1508" y="335"/>
                </a:lnTo>
                <a:lnTo>
                  <a:pt x="1501" y="340"/>
                </a:lnTo>
                <a:lnTo>
                  <a:pt x="1494" y="346"/>
                </a:lnTo>
                <a:lnTo>
                  <a:pt x="1486" y="351"/>
                </a:lnTo>
                <a:lnTo>
                  <a:pt x="1479" y="357"/>
                </a:lnTo>
                <a:lnTo>
                  <a:pt x="1471" y="362"/>
                </a:lnTo>
                <a:lnTo>
                  <a:pt x="1463" y="368"/>
                </a:lnTo>
                <a:lnTo>
                  <a:pt x="1455" y="374"/>
                </a:lnTo>
                <a:lnTo>
                  <a:pt x="1446" y="380"/>
                </a:lnTo>
                <a:lnTo>
                  <a:pt x="1438" y="386"/>
                </a:lnTo>
                <a:lnTo>
                  <a:pt x="1429" y="393"/>
                </a:lnTo>
                <a:lnTo>
                  <a:pt x="1421" y="399"/>
                </a:lnTo>
                <a:lnTo>
                  <a:pt x="1412" y="405"/>
                </a:lnTo>
                <a:lnTo>
                  <a:pt x="1403" y="412"/>
                </a:lnTo>
                <a:lnTo>
                  <a:pt x="1394" y="418"/>
                </a:lnTo>
                <a:lnTo>
                  <a:pt x="1385" y="425"/>
                </a:lnTo>
                <a:lnTo>
                  <a:pt x="1376" y="432"/>
                </a:lnTo>
                <a:lnTo>
                  <a:pt x="1367" y="438"/>
                </a:lnTo>
                <a:lnTo>
                  <a:pt x="1359" y="445"/>
                </a:lnTo>
                <a:lnTo>
                  <a:pt x="1350" y="451"/>
                </a:lnTo>
                <a:lnTo>
                  <a:pt x="1341" y="458"/>
                </a:lnTo>
                <a:lnTo>
                  <a:pt x="1332" y="464"/>
                </a:lnTo>
                <a:lnTo>
                  <a:pt x="1323" y="470"/>
                </a:lnTo>
                <a:lnTo>
                  <a:pt x="1315" y="477"/>
                </a:lnTo>
                <a:lnTo>
                  <a:pt x="1306" y="483"/>
                </a:lnTo>
                <a:lnTo>
                  <a:pt x="1298" y="489"/>
                </a:lnTo>
                <a:lnTo>
                  <a:pt x="1290" y="495"/>
                </a:lnTo>
                <a:lnTo>
                  <a:pt x="1282" y="501"/>
                </a:lnTo>
                <a:lnTo>
                  <a:pt x="1274" y="506"/>
                </a:lnTo>
                <a:lnTo>
                  <a:pt x="1266" y="512"/>
                </a:lnTo>
                <a:lnTo>
                  <a:pt x="1259" y="517"/>
                </a:lnTo>
                <a:lnTo>
                  <a:pt x="1252" y="523"/>
                </a:lnTo>
                <a:lnTo>
                  <a:pt x="1245" y="528"/>
                </a:lnTo>
                <a:lnTo>
                  <a:pt x="1238" y="533"/>
                </a:lnTo>
                <a:lnTo>
                  <a:pt x="1232" y="537"/>
                </a:lnTo>
                <a:lnTo>
                  <a:pt x="1226" y="542"/>
                </a:lnTo>
                <a:lnTo>
                  <a:pt x="1220" y="546"/>
                </a:lnTo>
                <a:lnTo>
                  <a:pt x="1214" y="550"/>
                </a:lnTo>
                <a:lnTo>
                  <a:pt x="1209" y="554"/>
                </a:lnTo>
                <a:lnTo>
                  <a:pt x="1204" y="557"/>
                </a:lnTo>
                <a:lnTo>
                  <a:pt x="1200" y="561"/>
                </a:lnTo>
                <a:lnTo>
                  <a:pt x="1196" y="564"/>
                </a:lnTo>
                <a:lnTo>
                  <a:pt x="1192" y="566"/>
                </a:lnTo>
                <a:lnTo>
                  <a:pt x="1189" y="569"/>
                </a:lnTo>
                <a:lnTo>
                  <a:pt x="1186" y="571"/>
                </a:lnTo>
                <a:lnTo>
                  <a:pt x="1184" y="572"/>
                </a:lnTo>
                <a:lnTo>
                  <a:pt x="1182" y="574"/>
                </a:lnTo>
                <a:lnTo>
                  <a:pt x="1181" y="574"/>
                </a:lnTo>
                <a:lnTo>
                  <a:pt x="1180" y="575"/>
                </a:lnTo>
                <a:lnTo>
                  <a:pt x="1180" y="575"/>
                </a:lnTo>
                <a:lnTo>
                  <a:pt x="1180" y="575"/>
                </a:lnTo>
                <a:lnTo>
                  <a:pt x="1180" y="574"/>
                </a:lnTo>
                <a:lnTo>
                  <a:pt x="1180" y="571"/>
                </a:lnTo>
                <a:lnTo>
                  <a:pt x="1180" y="566"/>
                </a:lnTo>
                <a:lnTo>
                  <a:pt x="1180" y="559"/>
                </a:lnTo>
                <a:lnTo>
                  <a:pt x="1180" y="551"/>
                </a:lnTo>
                <a:lnTo>
                  <a:pt x="1180" y="541"/>
                </a:lnTo>
                <a:lnTo>
                  <a:pt x="1180" y="531"/>
                </a:lnTo>
                <a:lnTo>
                  <a:pt x="1180" y="520"/>
                </a:lnTo>
                <a:lnTo>
                  <a:pt x="1180" y="509"/>
                </a:lnTo>
                <a:lnTo>
                  <a:pt x="1180" y="498"/>
                </a:lnTo>
                <a:lnTo>
                  <a:pt x="1180" y="486"/>
                </a:lnTo>
                <a:lnTo>
                  <a:pt x="1180" y="475"/>
                </a:lnTo>
                <a:lnTo>
                  <a:pt x="1180" y="465"/>
                </a:lnTo>
                <a:lnTo>
                  <a:pt x="1180" y="456"/>
                </a:lnTo>
                <a:lnTo>
                  <a:pt x="1180" y="448"/>
                </a:lnTo>
                <a:lnTo>
                  <a:pt x="1180" y="441"/>
                </a:lnTo>
                <a:lnTo>
                  <a:pt x="1180" y="436"/>
                </a:lnTo>
                <a:lnTo>
                  <a:pt x="1180" y="432"/>
                </a:lnTo>
                <a:lnTo>
                  <a:pt x="1180" y="431"/>
                </a:lnTo>
                <a:lnTo>
                  <a:pt x="1180" y="431"/>
                </a:lnTo>
                <a:lnTo>
                  <a:pt x="1173" y="431"/>
                </a:lnTo>
                <a:lnTo>
                  <a:pt x="1165" y="431"/>
                </a:lnTo>
                <a:lnTo>
                  <a:pt x="1158" y="431"/>
                </a:lnTo>
                <a:lnTo>
                  <a:pt x="1150" y="431"/>
                </a:lnTo>
                <a:lnTo>
                  <a:pt x="1143" y="431"/>
                </a:lnTo>
                <a:lnTo>
                  <a:pt x="1135" y="431"/>
                </a:lnTo>
                <a:lnTo>
                  <a:pt x="1127" y="431"/>
                </a:lnTo>
                <a:lnTo>
                  <a:pt x="1119" y="431"/>
                </a:lnTo>
                <a:lnTo>
                  <a:pt x="1111" y="431"/>
                </a:lnTo>
                <a:lnTo>
                  <a:pt x="1103" y="431"/>
                </a:lnTo>
                <a:lnTo>
                  <a:pt x="1095" y="431"/>
                </a:lnTo>
                <a:lnTo>
                  <a:pt x="1087" y="431"/>
                </a:lnTo>
                <a:lnTo>
                  <a:pt x="1078" y="431"/>
                </a:lnTo>
                <a:lnTo>
                  <a:pt x="1070" y="431"/>
                </a:lnTo>
                <a:lnTo>
                  <a:pt x="1062" y="431"/>
                </a:lnTo>
                <a:lnTo>
                  <a:pt x="1053" y="431"/>
                </a:lnTo>
                <a:lnTo>
                  <a:pt x="1045" y="431"/>
                </a:lnTo>
                <a:lnTo>
                  <a:pt x="1036" y="431"/>
                </a:lnTo>
                <a:lnTo>
                  <a:pt x="1027" y="431"/>
                </a:lnTo>
                <a:lnTo>
                  <a:pt x="1019" y="431"/>
                </a:lnTo>
                <a:lnTo>
                  <a:pt x="1010" y="431"/>
                </a:lnTo>
                <a:lnTo>
                  <a:pt x="1001" y="431"/>
                </a:lnTo>
                <a:lnTo>
                  <a:pt x="992" y="431"/>
                </a:lnTo>
                <a:lnTo>
                  <a:pt x="983" y="431"/>
                </a:lnTo>
                <a:lnTo>
                  <a:pt x="974" y="431"/>
                </a:lnTo>
                <a:lnTo>
                  <a:pt x="965" y="431"/>
                </a:lnTo>
                <a:lnTo>
                  <a:pt x="956" y="431"/>
                </a:lnTo>
                <a:lnTo>
                  <a:pt x="947" y="431"/>
                </a:lnTo>
                <a:lnTo>
                  <a:pt x="938" y="431"/>
                </a:lnTo>
                <a:lnTo>
                  <a:pt x="928" y="431"/>
                </a:lnTo>
                <a:lnTo>
                  <a:pt x="919" y="431"/>
                </a:lnTo>
                <a:lnTo>
                  <a:pt x="910" y="431"/>
                </a:lnTo>
                <a:lnTo>
                  <a:pt x="901" y="431"/>
                </a:lnTo>
                <a:lnTo>
                  <a:pt x="891" y="431"/>
                </a:lnTo>
                <a:lnTo>
                  <a:pt x="882" y="431"/>
                </a:lnTo>
                <a:lnTo>
                  <a:pt x="872" y="431"/>
                </a:lnTo>
                <a:lnTo>
                  <a:pt x="863" y="431"/>
                </a:lnTo>
                <a:lnTo>
                  <a:pt x="853" y="431"/>
                </a:lnTo>
                <a:lnTo>
                  <a:pt x="844" y="431"/>
                </a:lnTo>
                <a:lnTo>
                  <a:pt x="834" y="431"/>
                </a:lnTo>
                <a:lnTo>
                  <a:pt x="825" y="431"/>
                </a:lnTo>
                <a:lnTo>
                  <a:pt x="815" y="431"/>
                </a:lnTo>
                <a:lnTo>
                  <a:pt x="806" y="431"/>
                </a:lnTo>
                <a:lnTo>
                  <a:pt x="796" y="431"/>
                </a:lnTo>
                <a:lnTo>
                  <a:pt x="786" y="431"/>
                </a:lnTo>
                <a:lnTo>
                  <a:pt x="777" y="431"/>
                </a:lnTo>
                <a:lnTo>
                  <a:pt x="767" y="431"/>
                </a:lnTo>
                <a:lnTo>
                  <a:pt x="757" y="431"/>
                </a:lnTo>
                <a:lnTo>
                  <a:pt x="748" y="431"/>
                </a:lnTo>
                <a:lnTo>
                  <a:pt x="738" y="431"/>
                </a:lnTo>
                <a:lnTo>
                  <a:pt x="728" y="431"/>
                </a:lnTo>
                <a:lnTo>
                  <a:pt x="719" y="431"/>
                </a:lnTo>
                <a:lnTo>
                  <a:pt x="709" y="431"/>
                </a:lnTo>
                <a:lnTo>
                  <a:pt x="699" y="431"/>
                </a:lnTo>
                <a:lnTo>
                  <a:pt x="689" y="431"/>
                </a:lnTo>
                <a:lnTo>
                  <a:pt x="680" y="431"/>
                </a:lnTo>
                <a:lnTo>
                  <a:pt x="670" y="431"/>
                </a:lnTo>
                <a:lnTo>
                  <a:pt x="660" y="431"/>
                </a:lnTo>
                <a:lnTo>
                  <a:pt x="651" y="431"/>
                </a:lnTo>
                <a:lnTo>
                  <a:pt x="641" y="431"/>
                </a:lnTo>
                <a:lnTo>
                  <a:pt x="631" y="431"/>
                </a:lnTo>
                <a:lnTo>
                  <a:pt x="622" y="431"/>
                </a:lnTo>
                <a:lnTo>
                  <a:pt x="612" y="431"/>
                </a:lnTo>
                <a:lnTo>
                  <a:pt x="602" y="431"/>
                </a:lnTo>
                <a:lnTo>
                  <a:pt x="593" y="431"/>
                </a:lnTo>
                <a:lnTo>
                  <a:pt x="583" y="431"/>
                </a:lnTo>
                <a:lnTo>
                  <a:pt x="573" y="431"/>
                </a:lnTo>
                <a:lnTo>
                  <a:pt x="564" y="431"/>
                </a:lnTo>
                <a:lnTo>
                  <a:pt x="554" y="431"/>
                </a:lnTo>
                <a:lnTo>
                  <a:pt x="545" y="431"/>
                </a:lnTo>
                <a:lnTo>
                  <a:pt x="535" y="431"/>
                </a:lnTo>
                <a:lnTo>
                  <a:pt x="526" y="431"/>
                </a:lnTo>
                <a:lnTo>
                  <a:pt x="516" y="431"/>
                </a:lnTo>
                <a:lnTo>
                  <a:pt x="507" y="431"/>
                </a:lnTo>
                <a:lnTo>
                  <a:pt x="498" y="431"/>
                </a:lnTo>
                <a:lnTo>
                  <a:pt x="488" y="431"/>
                </a:lnTo>
                <a:lnTo>
                  <a:pt x="479" y="431"/>
                </a:lnTo>
                <a:lnTo>
                  <a:pt x="470" y="431"/>
                </a:lnTo>
                <a:lnTo>
                  <a:pt x="461" y="431"/>
                </a:lnTo>
                <a:lnTo>
                  <a:pt x="451" y="431"/>
                </a:lnTo>
                <a:lnTo>
                  <a:pt x="442" y="431"/>
                </a:lnTo>
                <a:lnTo>
                  <a:pt x="433" y="431"/>
                </a:lnTo>
                <a:lnTo>
                  <a:pt x="424" y="431"/>
                </a:lnTo>
                <a:lnTo>
                  <a:pt x="415" y="431"/>
                </a:lnTo>
                <a:lnTo>
                  <a:pt x="406" y="431"/>
                </a:lnTo>
                <a:lnTo>
                  <a:pt x="397" y="431"/>
                </a:lnTo>
                <a:lnTo>
                  <a:pt x="389" y="431"/>
                </a:lnTo>
                <a:lnTo>
                  <a:pt x="380" y="431"/>
                </a:lnTo>
                <a:lnTo>
                  <a:pt x="371" y="431"/>
                </a:lnTo>
                <a:lnTo>
                  <a:pt x="362" y="431"/>
                </a:lnTo>
                <a:lnTo>
                  <a:pt x="354" y="431"/>
                </a:lnTo>
                <a:lnTo>
                  <a:pt x="345" y="431"/>
                </a:lnTo>
                <a:lnTo>
                  <a:pt x="337" y="431"/>
                </a:lnTo>
                <a:lnTo>
                  <a:pt x="328" y="431"/>
                </a:lnTo>
                <a:lnTo>
                  <a:pt x="320" y="431"/>
                </a:lnTo>
                <a:lnTo>
                  <a:pt x="312" y="431"/>
                </a:lnTo>
                <a:lnTo>
                  <a:pt x="303" y="431"/>
                </a:lnTo>
                <a:lnTo>
                  <a:pt x="295" y="431"/>
                </a:lnTo>
                <a:lnTo>
                  <a:pt x="287" y="431"/>
                </a:lnTo>
                <a:lnTo>
                  <a:pt x="279" y="431"/>
                </a:lnTo>
                <a:lnTo>
                  <a:pt x="271" y="431"/>
                </a:lnTo>
                <a:lnTo>
                  <a:pt x="264" y="431"/>
                </a:lnTo>
                <a:lnTo>
                  <a:pt x="256" y="431"/>
                </a:lnTo>
                <a:lnTo>
                  <a:pt x="248" y="431"/>
                </a:lnTo>
                <a:lnTo>
                  <a:pt x="241" y="431"/>
                </a:lnTo>
                <a:lnTo>
                  <a:pt x="233" y="431"/>
                </a:lnTo>
                <a:lnTo>
                  <a:pt x="226" y="431"/>
                </a:lnTo>
                <a:lnTo>
                  <a:pt x="218" y="431"/>
                </a:lnTo>
                <a:lnTo>
                  <a:pt x="211" y="431"/>
                </a:lnTo>
                <a:lnTo>
                  <a:pt x="204" y="431"/>
                </a:lnTo>
                <a:lnTo>
                  <a:pt x="197" y="431"/>
                </a:lnTo>
                <a:lnTo>
                  <a:pt x="190" y="431"/>
                </a:lnTo>
                <a:lnTo>
                  <a:pt x="183" y="431"/>
                </a:lnTo>
                <a:lnTo>
                  <a:pt x="176" y="431"/>
                </a:lnTo>
                <a:lnTo>
                  <a:pt x="170" y="431"/>
                </a:lnTo>
                <a:lnTo>
                  <a:pt x="163" y="431"/>
                </a:lnTo>
                <a:lnTo>
                  <a:pt x="157" y="431"/>
                </a:lnTo>
                <a:lnTo>
                  <a:pt x="150" y="431"/>
                </a:lnTo>
                <a:lnTo>
                  <a:pt x="144" y="431"/>
                </a:lnTo>
                <a:lnTo>
                  <a:pt x="138" y="431"/>
                </a:lnTo>
                <a:lnTo>
                  <a:pt x="132" y="431"/>
                </a:lnTo>
                <a:lnTo>
                  <a:pt x="126" y="431"/>
                </a:lnTo>
                <a:lnTo>
                  <a:pt x="120" y="431"/>
                </a:lnTo>
                <a:lnTo>
                  <a:pt x="114" y="431"/>
                </a:lnTo>
                <a:lnTo>
                  <a:pt x="109" y="431"/>
                </a:lnTo>
                <a:lnTo>
                  <a:pt x="103" y="431"/>
                </a:lnTo>
                <a:lnTo>
                  <a:pt x="98" y="431"/>
                </a:lnTo>
                <a:lnTo>
                  <a:pt x="93" y="431"/>
                </a:lnTo>
                <a:lnTo>
                  <a:pt x="88" y="431"/>
                </a:lnTo>
                <a:lnTo>
                  <a:pt x="83" y="431"/>
                </a:lnTo>
                <a:lnTo>
                  <a:pt x="78" y="431"/>
                </a:lnTo>
                <a:lnTo>
                  <a:pt x="73" y="431"/>
                </a:lnTo>
                <a:lnTo>
                  <a:pt x="69" y="431"/>
                </a:lnTo>
                <a:lnTo>
                  <a:pt x="64" y="431"/>
                </a:lnTo>
                <a:lnTo>
                  <a:pt x="60" y="431"/>
                </a:lnTo>
                <a:lnTo>
                  <a:pt x="56" y="431"/>
                </a:lnTo>
                <a:lnTo>
                  <a:pt x="52" y="431"/>
                </a:lnTo>
                <a:lnTo>
                  <a:pt x="48" y="431"/>
                </a:lnTo>
                <a:lnTo>
                  <a:pt x="44" y="431"/>
                </a:lnTo>
                <a:lnTo>
                  <a:pt x="40" y="431"/>
                </a:lnTo>
                <a:lnTo>
                  <a:pt x="37" y="431"/>
                </a:lnTo>
                <a:lnTo>
                  <a:pt x="33" y="431"/>
                </a:lnTo>
                <a:lnTo>
                  <a:pt x="30" y="431"/>
                </a:lnTo>
                <a:lnTo>
                  <a:pt x="27" y="431"/>
                </a:lnTo>
                <a:lnTo>
                  <a:pt x="24" y="431"/>
                </a:lnTo>
                <a:lnTo>
                  <a:pt x="22" y="431"/>
                </a:lnTo>
                <a:lnTo>
                  <a:pt x="19" y="431"/>
                </a:lnTo>
                <a:lnTo>
                  <a:pt x="17" y="431"/>
                </a:lnTo>
                <a:lnTo>
                  <a:pt x="14" y="431"/>
                </a:lnTo>
                <a:lnTo>
                  <a:pt x="12" y="431"/>
                </a:lnTo>
                <a:lnTo>
                  <a:pt x="10" y="431"/>
                </a:lnTo>
                <a:lnTo>
                  <a:pt x="8" y="431"/>
                </a:lnTo>
                <a:lnTo>
                  <a:pt x="7" y="431"/>
                </a:lnTo>
                <a:lnTo>
                  <a:pt x="5" y="431"/>
                </a:lnTo>
                <a:lnTo>
                  <a:pt x="4" y="431"/>
                </a:lnTo>
                <a:lnTo>
                  <a:pt x="3" y="431"/>
                </a:lnTo>
                <a:lnTo>
                  <a:pt x="2" y="431"/>
                </a:lnTo>
                <a:lnTo>
                  <a:pt x="1" y="431"/>
                </a:lnTo>
                <a:lnTo>
                  <a:pt x="1" y="431"/>
                </a:lnTo>
                <a:lnTo>
                  <a:pt x="0" y="431"/>
                </a:lnTo>
                <a:lnTo>
                  <a:pt x="0" y="431"/>
                </a:lnTo>
                <a:lnTo>
                  <a:pt x="0" y="431"/>
                </a:lnTo>
                <a:lnTo>
                  <a:pt x="0" y="431"/>
                </a:lnTo>
                <a:lnTo>
                  <a:pt x="0" y="430"/>
                </a:lnTo>
                <a:lnTo>
                  <a:pt x="0" y="426"/>
                </a:lnTo>
                <a:lnTo>
                  <a:pt x="0" y="421"/>
                </a:lnTo>
                <a:lnTo>
                  <a:pt x="0" y="413"/>
                </a:lnTo>
                <a:lnTo>
                  <a:pt x="0" y="404"/>
                </a:lnTo>
                <a:lnTo>
                  <a:pt x="0" y="394"/>
                </a:lnTo>
                <a:lnTo>
                  <a:pt x="0" y="383"/>
                </a:lnTo>
                <a:lnTo>
                  <a:pt x="0" y="371"/>
                </a:lnTo>
                <a:lnTo>
                  <a:pt x="0" y="359"/>
                </a:lnTo>
                <a:lnTo>
                  <a:pt x="0" y="348"/>
                </a:lnTo>
                <a:lnTo>
                  <a:pt x="0" y="336"/>
                </a:lnTo>
                <a:lnTo>
                  <a:pt x="0" y="325"/>
                </a:lnTo>
                <a:lnTo>
                  <a:pt x="0" y="315"/>
                </a:lnTo>
                <a:lnTo>
                  <a:pt x="0" y="306"/>
                </a:lnTo>
                <a:lnTo>
                  <a:pt x="0" y="298"/>
                </a:lnTo>
                <a:lnTo>
                  <a:pt x="0" y="293"/>
                </a:lnTo>
                <a:lnTo>
                  <a:pt x="0" y="289"/>
                </a:lnTo>
                <a:lnTo>
                  <a:pt x="0" y="288"/>
                </a:lnTo>
                <a:lnTo>
                  <a:pt x="0" y="288"/>
                </a:lnTo>
                <a:lnTo>
                  <a:pt x="0" y="287"/>
                </a:lnTo>
                <a:lnTo>
                  <a:pt x="0" y="283"/>
                </a:lnTo>
                <a:lnTo>
                  <a:pt x="0" y="278"/>
                </a:lnTo>
                <a:lnTo>
                  <a:pt x="0" y="271"/>
                </a:lnTo>
                <a:lnTo>
                  <a:pt x="0" y="263"/>
                </a:lnTo>
                <a:lnTo>
                  <a:pt x="0" y="254"/>
                </a:lnTo>
                <a:lnTo>
                  <a:pt x="0" y="244"/>
                </a:lnTo>
                <a:lnTo>
                  <a:pt x="0" y="233"/>
                </a:lnTo>
                <a:lnTo>
                  <a:pt x="0" y="221"/>
                </a:lnTo>
                <a:lnTo>
                  <a:pt x="0" y="210"/>
                </a:lnTo>
                <a:lnTo>
                  <a:pt x="0" y="199"/>
                </a:lnTo>
                <a:lnTo>
                  <a:pt x="0" y="188"/>
                </a:lnTo>
                <a:lnTo>
                  <a:pt x="0" y="178"/>
                </a:lnTo>
                <a:lnTo>
                  <a:pt x="0" y="168"/>
                </a:lnTo>
                <a:lnTo>
                  <a:pt x="0" y="160"/>
                </a:lnTo>
                <a:lnTo>
                  <a:pt x="0" y="153"/>
                </a:lnTo>
                <a:lnTo>
                  <a:pt x="0" y="148"/>
                </a:lnTo>
                <a:lnTo>
                  <a:pt x="0" y="145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1" y="144"/>
                </a:lnTo>
                <a:lnTo>
                  <a:pt x="1" y="144"/>
                </a:lnTo>
                <a:lnTo>
                  <a:pt x="2" y="144"/>
                </a:lnTo>
                <a:lnTo>
                  <a:pt x="3" y="144"/>
                </a:lnTo>
                <a:lnTo>
                  <a:pt x="4" y="144"/>
                </a:lnTo>
                <a:lnTo>
                  <a:pt x="5" y="144"/>
                </a:lnTo>
                <a:lnTo>
                  <a:pt x="7" y="144"/>
                </a:lnTo>
                <a:lnTo>
                  <a:pt x="8" y="144"/>
                </a:lnTo>
                <a:lnTo>
                  <a:pt x="10" y="144"/>
                </a:lnTo>
                <a:lnTo>
                  <a:pt x="12" y="144"/>
                </a:lnTo>
                <a:lnTo>
                  <a:pt x="14" y="144"/>
                </a:lnTo>
                <a:lnTo>
                  <a:pt x="17" y="144"/>
                </a:lnTo>
                <a:lnTo>
                  <a:pt x="19" y="144"/>
                </a:lnTo>
                <a:lnTo>
                  <a:pt x="22" y="144"/>
                </a:lnTo>
                <a:lnTo>
                  <a:pt x="24" y="144"/>
                </a:lnTo>
                <a:lnTo>
                  <a:pt x="27" y="144"/>
                </a:lnTo>
                <a:lnTo>
                  <a:pt x="30" y="144"/>
                </a:lnTo>
                <a:lnTo>
                  <a:pt x="33" y="144"/>
                </a:lnTo>
                <a:lnTo>
                  <a:pt x="37" y="144"/>
                </a:lnTo>
                <a:lnTo>
                  <a:pt x="40" y="144"/>
                </a:lnTo>
                <a:lnTo>
                  <a:pt x="44" y="144"/>
                </a:lnTo>
                <a:lnTo>
                  <a:pt x="48" y="144"/>
                </a:lnTo>
                <a:lnTo>
                  <a:pt x="52" y="144"/>
                </a:lnTo>
                <a:lnTo>
                  <a:pt x="56" y="144"/>
                </a:lnTo>
                <a:lnTo>
                  <a:pt x="60" y="144"/>
                </a:lnTo>
                <a:lnTo>
                  <a:pt x="64" y="144"/>
                </a:lnTo>
                <a:lnTo>
                  <a:pt x="69" y="144"/>
                </a:lnTo>
                <a:lnTo>
                  <a:pt x="73" y="144"/>
                </a:lnTo>
                <a:lnTo>
                  <a:pt x="78" y="144"/>
                </a:lnTo>
                <a:lnTo>
                  <a:pt x="83" y="144"/>
                </a:lnTo>
                <a:lnTo>
                  <a:pt x="88" y="144"/>
                </a:lnTo>
                <a:lnTo>
                  <a:pt x="93" y="144"/>
                </a:lnTo>
                <a:lnTo>
                  <a:pt x="98" y="144"/>
                </a:lnTo>
                <a:lnTo>
                  <a:pt x="103" y="144"/>
                </a:lnTo>
                <a:lnTo>
                  <a:pt x="109" y="144"/>
                </a:lnTo>
                <a:lnTo>
                  <a:pt x="114" y="144"/>
                </a:lnTo>
                <a:lnTo>
                  <a:pt x="120" y="144"/>
                </a:lnTo>
                <a:lnTo>
                  <a:pt x="126" y="144"/>
                </a:lnTo>
                <a:lnTo>
                  <a:pt x="132" y="144"/>
                </a:lnTo>
                <a:lnTo>
                  <a:pt x="138" y="144"/>
                </a:lnTo>
                <a:lnTo>
                  <a:pt x="144" y="144"/>
                </a:lnTo>
                <a:lnTo>
                  <a:pt x="150" y="144"/>
                </a:lnTo>
                <a:lnTo>
                  <a:pt x="157" y="144"/>
                </a:lnTo>
                <a:lnTo>
                  <a:pt x="163" y="144"/>
                </a:lnTo>
                <a:lnTo>
                  <a:pt x="170" y="144"/>
                </a:lnTo>
                <a:lnTo>
                  <a:pt x="176" y="144"/>
                </a:lnTo>
                <a:lnTo>
                  <a:pt x="183" y="144"/>
                </a:lnTo>
                <a:lnTo>
                  <a:pt x="190" y="144"/>
                </a:lnTo>
                <a:lnTo>
                  <a:pt x="197" y="144"/>
                </a:lnTo>
                <a:lnTo>
                  <a:pt x="204" y="144"/>
                </a:lnTo>
                <a:lnTo>
                  <a:pt x="211" y="144"/>
                </a:lnTo>
                <a:lnTo>
                  <a:pt x="218" y="144"/>
                </a:lnTo>
                <a:lnTo>
                  <a:pt x="226" y="144"/>
                </a:lnTo>
                <a:lnTo>
                  <a:pt x="233" y="144"/>
                </a:lnTo>
                <a:lnTo>
                  <a:pt x="241" y="144"/>
                </a:lnTo>
                <a:lnTo>
                  <a:pt x="248" y="144"/>
                </a:lnTo>
                <a:lnTo>
                  <a:pt x="256" y="144"/>
                </a:lnTo>
                <a:lnTo>
                  <a:pt x="264" y="144"/>
                </a:lnTo>
                <a:lnTo>
                  <a:pt x="271" y="144"/>
                </a:lnTo>
                <a:lnTo>
                  <a:pt x="279" y="144"/>
                </a:lnTo>
                <a:lnTo>
                  <a:pt x="287" y="144"/>
                </a:lnTo>
                <a:lnTo>
                  <a:pt x="295" y="144"/>
                </a:lnTo>
                <a:lnTo>
                  <a:pt x="303" y="144"/>
                </a:lnTo>
                <a:lnTo>
                  <a:pt x="312" y="144"/>
                </a:lnTo>
                <a:lnTo>
                  <a:pt x="320" y="144"/>
                </a:lnTo>
                <a:lnTo>
                  <a:pt x="328" y="144"/>
                </a:lnTo>
                <a:lnTo>
                  <a:pt x="337" y="144"/>
                </a:lnTo>
                <a:lnTo>
                  <a:pt x="345" y="144"/>
                </a:lnTo>
                <a:lnTo>
                  <a:pt x="354" y="144"/>
                </a:lnTo>
                <a:lnTo>
                  <a:pt x="362" y="144"/>
                </a:lnTo>
                <a:lnTo>
                  <a:pt x="371" y="144"/>
                </a:lnTo>
                <a:lnTo>
                  <a:pt x="380" y="144"/>
                </a:lnTo>
                <a:lnTo>
                  <a:pt x="389" y="144"/>
                </a:lnTo>
                <a:lnTo>
                  <a:pt x="397" y="144"/>
                </a:lnTo>
                <a:lnTo>
                  <a:pt x="406" y="144"/>
                </a:lnTo>
                <a:lnTo>
                  <a:pt x="415" y="144"/>
                </a:lnTo>
                <a:lnTo>
                  <a:pt x="424" y="144"/>
                </a:lnTo>
                <a:lnTo>
                  <a:pt x="433" y="144"/>
                </a:lnTo>
                <a:lnTo>
                  <a:pt x="442" y="144"/>
                </a:lnTo>
                <a:lnTo>
                  <a:pt x="451" y="144"/>
                </a:lnTo>
                <a:lnTo>
                  <a:pt x="461" y="144"/>
                </a:lnTo>
                <a:lnTo>
                  <a:pt x="470" y="144"/>
                </a:lnTo>
                <a:lnTo>
                  <a:pt x="479" y="144"/>
                </a:lnTo>
                <a:lnTo>
                  <a:pt x="488" y="144"/>
                </a:lnTo>
                <a:lnTo>
                  <a:pt x="498" y="144"/>
                </a:lnTo>
                <a:lnTo>
                  <a:pt x="507" y="144"/>
                </a:lnTo>
                <a:lnTo>
                  <a:pt x="516" y="144"/>
                </a:lnTo>
                <a:lnTo>
                  <a:pt x="526" y="144"/>
                </a:lnTo>
                <a:lnTo>
                  <a:pt x="535" y="144"/>
                </a:lnTo>
                <a:lnTo>
                  <a:pt x="545" y="144"/>
                </a:lnTo>
                <a:lnTo>
                  <a:pt x="554" y="144"/>
                </a:lnTo>
                <a:lnTo>
                  <a:pt x="564" y="144"/>
                </a:lnTo>
                <a:lnTo>
                  <a:pt x="573" y="144"/>
                </a:lnTo>
                <a:lnTo>
                  <a:pt x="583" y="144"/>
                </a:lnTo>
                <a:lnTo>
                  <a:pt x="593" y="144"/>
                </a:lnTo>
                <a:lnTo>
                  <a:pt x="602" y="144"/>
                </a:lnTo>
                <a:lnTo>
                  <a:pt x="612" y="144"/>
                </a:lnTo>
                <a:lnTo>
                  <a:pt x="622" y="144"/>
                </a:lnTo>
                <a:lnTo>
                  <a:pt x="631" y="144"/>
                </a:lnTo>
                <a:lnTo>
                  <a:pt x="641" y="144"/>
                </a:lnTo>
                <a:lnTo>
                  <a:pt x="651" y="144"/>
                </a:lnTo>
                <a:lnTo>
                  <a:pt x="660" y="144"/>
                </a:lnTo>
                <a:lnTo>
                  <a:pt x="670" y="144"/>
                </a:lnTo>
                <a:lnTo>
                  <a:pt x="680" y="144"/>
                </a:lnTo>
                <a:lnTo>
                  <a:pt x="689" y="144"/>
                </a:lnTo>
                <a:lnTo>
                  <a:pt x="699" y="144"/>
                </a:lnTo>
                <a:lnTo>
                  <a:pt x="709" y="144"/>
                </a:lnTo>
                <a:lnTo>
                  <a:pt x="719" y="144"/>
                </a:lnTo>
                <a:lnTo>
                  <a:pt x="728" y="144"/>
                </a:lnTo>
                <a:lnTo>
                  <a:pt x="738" y="144"/>
                </a:lnTo>
                <a:lnTo>
                  <a:pt x="748" y="144"/>
                </a:lnTo>
                <a:lnTo>
                  <a:pt x="757" y="144"/>
                </a:lnTo>
                <a:lnTo>
                  <a:pt x="767" y="144"/>
                </a:lnTo>
                <a:lnTo>
                  <a:pt x="777" y="144"/>
                </a:lnTo>
                <a:lnTo>
                  <a:pt x="786" y="144"/>
                </a:lnTo>
                <a:lnTo>
                  <a:pt x="796" y="144"/>
                </a:lnTo>
                <a:lnTo>
                  <a:pt x="806" y="144"/>
                </a:lnTo>
                <a:lnTo>
                  <a:pt x="815" y="144"/>
                </a:lnTo>
                <a:lnTo>
                  <a:pt x="825" y="144"/>
                </a:lnTo>
                <a:lnTo>
                  <a:pt x="834" y="144"/>
                </a:lnTo>
                <a:lnTo>
                  <a:pt x="844" y="144"/>
                </a:lnTo>
                <a:lnTo>
                  <a:pt x="853" y="144"/>
                </a:lnTo>
                <a:lnTo>
                  <a:pt x="863" y="144"/>
                </a:lnTo>
                <a:lnTo>
                  <a:pt x="872" y="144"/>
                </a:lnTo>
                <a:lnTo>
                  <a:pt x="882" y="144"/>
                </a:lnTo>
                <a:lnTo>
                  <a:pt x="891" y="144"/>
                </a:lnTo>
                <a:lnTo>
                  <a:pt x="901" y="144"/>
                </a:lnTo>
                <a:lnTo>
                  <a:pt x="910" y="144"/>
                </a:lnTo>
                <a:lnTo>
                  <a:pt x="919" y="144"/>
                </a:lnTo>
                <a:lnTo>
                  <a:pt x="928" y="144"/>
                </a:lnTo>
                <a:lnTo>
                  <a:pt x="938" y="144"/>
                </a:lnTo>
                <a:lnTo>
                  <a:pt x="947" y="144"/>
                </a:lnTo>
                <a:lnTo>
                  <a:pt x="956" y="144"/>
                </a:lnTo>
                <a:lnTo>
                  <a:pt x="965" y="144"/>
                </a:lnTo>
                <a:lnTo>
                  <a:pt x="974" y="144"/>
                </a:lnTo>
                <a:lnTo>
                  <a:pt x="983" y="144"/>
                </a:lnTo>
                <a:lnTo>
                  <a:pt x="992" y="144"/>
                </a:lnTo>
                <a:lnTo>
                  <a:pt x="1001" y="144"/>
                </a:lnTo>
                <a:lnTo>
                  <a:pt x="1010" y="144"/>
                </a:lnTo>
                <a:lnTo>
                  <a:pt x="1019" y="144"/>
                </a:lnTo>
                <a:lnTo>
                  <a:pt x="1027" y="144"/>
                </a:lnTo>
                <a:lnTo>
                  <a:pt x="1036" y="144"/>
                </a:lnTo>
                <a:lnTo>
                  <a:pt x="1045" y="144"/>
                </a:lnTo>
                <a:lnTo>
                  <a:pt x="1053" y="144"/>
                </a:lnTo>
                <a:lnTo>
                  <a:pt x="1062" y="144"/>
                </a:lnTo>
                <a:lnTo>
                  <a:pt x="1070" y="144"/>
                </a:lnTo>
                <a:lnTo>
                  <a:pt x="1078" y="144"/>
                </a:lnTo>
                <a:lnTo>
                  <a:pt x="1087" y="144"/>
                </a:lnTo>
                <a:lnTo>
                  <a:pt x="1095" y="144"/>
                </a:lnTo>
                <a:lnTo>
                  <a:pt x="1103" y="144"/>
                </a:lnTo>
                <a:lnTo>
                  <a:pt x="1111" y="144"/>
                </a:lnTo>
                <a:lnTo>
                  <a:pt x="1119" y="144"/>
                </a:lnTo>
                <a:lnTo>
                  <a:pt x="1127" y="144"/>
                </a:lnTo>
                <a:lnTo>
                  <a:pt x="1135" y="144"/>
                </a:lnTo>
                <a:lnTo>
                  <a:pt x="1143" y="144"/>
                </a:lnTo>
                <a:lnTo>
                  <a:pt x="1150" y="144"/>
                </a:lnTo>
                <a:lnTo>
                  <a:pt x="1158" y="144"/>
                </a:lnTo>
                <a:lnTo>
                  <a:pt x="1165" y="144"/>
                </a:lnTo>
                <a:lnTo>
                  <a:pt x="1173" y="144"/>
                </a:lnTo>
                <a:lnTo>
                  <a:pt x="1180" y="144"/>
                </a:lnTo>
                <a:lnTo>
                  <a:pt x="1180" y="144"/>
                </a:lnTo>
                <a:lnTo>
                  <a:pt x="1180" y="142"/>
                </a:lnTo>
                <a:lnTo>
                  <a:pt x="1180" y="139"/>
                </a:lnTo>
                <a:lnTo>
                  <a:pt x="1180" y="133"/>
                </a:lnTo>
                <a:lnTo>
                  <a:pt x="1180" y="126"/>
                </a:lnTo>
                <a:lnTo>
                  <a:pt x="1180" y="117"/>
                </a:lnTo>
                <a:lnTo>
                  <a:pt x="1180" y="107"/>
                </a:lnTo>
                <a:lnTo>
                  <a:pt x="1180" y="96"/>
                </a:lnTo>
                <a:lnTo>
                  <a:pt x="1180" y="84"/>
                </a:lnTo>
                <a:lnTo>
                  <a:pt x="1180" y="72"/>
                </a:lnTo>
                <a:lnTo>
                  <a:pt x="1180" y="60"/>
                </a:lnTo>
                <a:lnTo>
                  <a:pt x="1180" y="48"/>
                </a:lnTo>
                <a:lnTo>
                  <a:pt x="1180" y="37"/>
                </a:lnTo>
                <a:lnTo>
                  <a:pt x="1180" y="27"/>
                </a:lnTo>
                <a:lnTo>
                  <a:pt x="1180" y="18"/>
                </a:lnTo>
                <a:lnTo>
                  <a:pt x="1180" y="11"/>
                </a:lnTo>
                <a:lnTo>
                  <a:pt x="1180" y="5"/>
                </a:lnTo>
                <a:lnTo>
                  <a:pt x="1180" y="1"/>
                </a:lnTo>
                <a:lnTo>
                  <a:pt x="1180" y="0"/>
                </a:lnTo>
                <a:lnTo>
                  <a:pt x="1180" y="0"/>
                </a:lnTo>
                <a:lnTo>
                  <a:pt x="1180" y="0"/>
                </a:lnTo>
                <a:lnTo>
                  <a:pt x="1181" y="1"/>
                </a:lnTo>
                <a:lnTo>
                  <a:pt x="1182" y="2"/>
                </a:lnTo>
                <a:lnTo>
                  <a:pt x="1184" y="3"/>
                </a:lnTo>
                <a:lnTo>
                  <a:pt x="1186" y="5"/>
                </a:lnTo>
                <a:lnTo>
                  <a:pt x="1189" y="7"/>
                </a:lnTo>
                <a:lnTo>
                  <a:pt x="1192" y="9"/>
                </a:lnTo>
                <a:lnTo>
                  <a:pt x="1196" y="12"/>
                </a:lnTo>
                <a:lnTo>
                  <a:pt x="1200" y="15"/>
                </a:lnTo>
                <a:lnTo>
                  <a:pt x="1204" y="18"/>
                </a:lnTo>
                <a:lnTo>
                  <a:pt x="1209" y="22"/>
                </a:lnTo>
                <a:lnTo>
                  <a:pt x="1214" y="25"/>
                </a:lnTo>
                <a:lnTo>
                  <a:pt x="1220" y="29"/>
                </a:lnTo>
                <a:lnTo>
                  <a:pt x="1226" y="34"/>
                </a:lnTo>
                <a:lnTo>
                  <a:pt x="1232" y="38"/>
                </a:lnTo>
                <a:lnTo>
                  <a:pt x="1238" y="43"/>
                </a:lnTo>
                <a:lnTo>
                  <a:pt x="1245" y="48"/>
                </a:lnTo>
                <a:lnTo>
                  <a:pt x="1252" y="53"/>
                </a:lnTo>
                <a:lnTo>
                  <a:pt x="1259" y="58"/>
                </a:lnTo>
                <a:lnTo>
                  <a:pt x="1266" y="63"/>
                </a:lnTo>
                <a:lnTo>
                  <a:pt x="1274" y="69"/>
                </a:lnTo>
                <a:lnTo>
                  <a:pt x="1282" y="75"/>
                </a:lnTo>
                <a:lnTo>
                  <a:pt x="1290" y="81"/>
                </a:lnTo>
                <a:lnTo>
                  <a:pt x="1298" y="87"/>
                </a:lnTo>
                <a:lnTo>
                  <a:pt x="1306" y="93"/>
                </a:lnTo>
                <a:lnTo>
                  <a:pt x="1315" y="99"/>
                </a:lnTo>
                <a:lnTo>
                  <a:pt x="1323" y="105"/>
                </a:lnTo>
                <a:lnTo>
                  <a:pt x="1332" y="112"/>
                </a:lnTo>
                <a:lnTo>
                  <a:pt x="1341" y="118"/>
                </a:lnTo>
                <a:lnTo>
                  <a:pt x="1350" y="124"/>
                </a:lnTo>
                <a:lnTo>
                  <a:pt x="1359" y="131"/>
                </a:lnTo>
                <a:lnTo>
                  <a:pt x="1367" y="137"/>
                </a:lnTo>
                <a:lnTo>
                  <a:pt x="1376" y="144"/>
                </a:lnTo>
                <a:lnTo>
                  <a:pt x="1385" y="151"/>
                </a:lnTo>
                <a:lnTo>
                  <a:pt x="1394" y="157"/>
                </a:lnTo>
                <a:lnTo>
                  <a:pt x="1403" y="164"/>
                </a:lnTo>
                <a:lnTo>
                  <a:pt x="1412" y="170"/>
                </a:lnTo>
                <a:lnTo>
                  <a:pt x="1421" y="176"/>
                </a:lnTo>
                <a:lnTo>
                  <a:pt x="1429" y="183"/>
                </a:lnTo>
                <a:lnTo>
                  <a:pt x="1438" y="189"/>
                </a:lnTo>
                <a:lnTo>
                  <a:pt x="1446" y="195"/>
                </a:lnTo>
                <a:lnTo>
                  <a:pt x="1455" y="201"/>
                </a:lnTo>
                <a:lnTo>
                  <a:pt x="1463" y="207"/>
                </a:lnTo>
                <a:lnTo>
                  <a:pt x="1471" y="213"/>
                </a:lnTo>
                <a:lnTo>
                  <a:pt x="1479" y="219"/>
                </a:lnTo>
                <a:lnTo>
                  <a:pt x="1486" y="225"/>
                </a:lnTo>
                <a:lnTo>
                  <a:pt x="1494" y="230"/>
                </a:lnTo>
                <a:lnTo>
                  <a:pt x="1501" y="235"/>
                </a:lnTo>
                <a:lnTo>
                  <a:pt x="1508" y="240"/>
                </a:lnTo>
                <a:lnTo>
                  <a:pt x="1515" y="245"/>
                </a:lnTo>
                <a:lnTo>
                  <a:pt x="1521" y="250"/>
                </a:lnTo>
                <a:lnTo>
                  <a:pt x="1527" y="254"/>
                </a:lnTo>
                <a:lnTo>
                  <a:pt x="1533" y="259"/>
                </a:lnTo>
                <a:lnTo>
                  <a:pt x="1538" y="263"/>
                </a:lnTo>
                <a:lnTo>
                  <a:pt x="1544" y="266"/>
                </a:lnTo>
                <a:lnTo>
                  <a:pt x="1548" y="270"/>
                </a:lnTo>
                <a:lnTo>
                  <a:pt x="1553" y="273"/>
                </a:lnTo>
                <a:lnTo>
                  <a:pt x="1557" y="276"/>
                </a:lnTo>
                <a:lnTo>
                  <a:pt x="1560" y="279"/>
                </a:lnTo>
                <a:lnTo>
                  <a:pt x="1564" y="281"/>
                </a:lnTo>
                <a:lnTo>
                  <a:pt x="1566" y="283"/>
                </a:lnTo>
                <a:lnTo>
                  <a:pt x="1569" y="285"/>
                </a:lnTo>
                <a:lnTo>
                  <a:pt x="1570" y="286"/>
                </a:lnTo>
                <a:lnTo>
                  <a:pt x="1572" y="287"/>
                </a:lnTo>
                <a:lnTo>
                  <a:pt x="1572" y="288"/>
                </a:lnTo>
                <a:lnTo>
                  <a:pt x="1573" y="288"/>
                </a:lnTo>
                <a:lnTo>
                  <a:pt x="1573" y="288"/>
                </a:lnTo>
                <a:lnTo>
                  <a:pt x="1573" y="288"/>
                </a:lnTo>
                <a:close/>
              </a:path>
            </a:pathLst>
          </a:custGeom>
          <a:noFill/>
          <a:ln w="66600">
            <a:solidFill>
              <a:srgbClr val="ffff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324000" y="1846440"/>
            <a:ext cx="20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ffff90"/>
                </a:solidFill>
                <a:latin typeface="Arial"/>
              </a:rPr>
              <a:t>Fam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14560" y="3889440"/>
            <a:ext cx="125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e0c0"/>
                </a:solidFill>
                <a:latin typeface="Arial"/>
              </a:rPr>
              <a:t>Jn 1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395280" y="189000"/>
            <a:ext cx="792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testimonio de un laico sin exper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2751120" y="1050840"/>
            <a:ext cx="542880" cy="552600"/>
          </a:xfrm>
          <a:custGeom>
            <a:avLst/>
            <a:gdLst>
              <a:gd name="textAreaLeft" fmla="*/ 0 w 542880"/>
              <a:gd name="textAreaRight" fmla="*/ 543240 w 5428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342" h="348">
                <a:moveTo>
                  <a:pt x="342" y="348"/>
                </a:moveTo>
                <a:lnTo>
                  <a:pt x="0" y="0"/>
                </a:lnTo>
              </a:path>
            </a:pathLst>
          </a:custGeom>
          <a:noFill/>
          <a:ln w="10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"/>
          <p:cNvSpPr/>
          <p:nvPr/>
        </p:nvSpPr>
        <p:spPr>
          <a:xfrm>
            <a:off x="2268360" y="476280"/>
            <a:ext cx="933480" cy="1035000"/>
          </a:xfrm>
          <a:custGeom>
            <a:avLst/>
            <a:gdLst>
              <a:gd name="textAreaLeft" fmla="*/ 0 w 933480"/>
              <a:gd name="textAreaRight" fmla="*/ 933840 w 933480"/>
              <a:gd name="textAreaTop" fmla="*/ 0 h 1035000"/>
              <a:gd name="textAreaBottom" fmla="*/ 1035000 h 1035000"/>
            </a:gdLst>
            <a:ahLst/>
            <a:rect l="textAreaLeft" t="textAreaTop" r="textAreaRight" b="textAreaBottom"/>
            <a:pathLst>
              <a:path w="341" h="348">
                <a:moveTo>
                  <a:pt x="341" y="348"/>
                </a:moveTo>
                <a:lnTo>
                  <a:pt x="0" y="0"/>
                </a:lnTo>
              </a:path>
            </a:pathLst>
          </a:custGeom>
          <a:noFill/>
          <a:ln w="50040">
            <a:solidFill>
              <a:srgbClr val="ffff9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1440" y="-42840"/>
            <a:ext cx="9767880" cy="7005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rot="5340000">
            <a:off x="4725720" y="3541680"/>
            <a:ext cx="723960" cy="720720"/>
          </a:xfrm>
          <a:prstGeom prst="ellipse">
            <a:avLst/>
          </a:prstGeom>
          <a:solidFill>
            <a:srgbClr val="808080"/>
          </a:solidFill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rot="5340000">
            <a:off x="4504680" y="3416040"/>
            <a:ext cx="720720" cy="723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6"/>
          <p:cNvSpPr/>
          <p:nvPr/>
        </p:nvSpPr>
        <p:spPr>
          <a:xfrm>
            <a:off x="1157400" y="3887640"/>
            <a:ext cx="3363840" cy="1256040"/>
          </a:xfrm>
          <a:custGeom>
            <a:avLst/>
            <a:gdLst>
              <a:gd name="textAreaLeft" fmla="*/ 0 w 3363840"/>
              <a:gd name="textAreaRight" fmla="*/ 3364200 w 3363840"/>
              <a:gd name="textAreaTop" fmla="*/ 0 h 1256040"/>
              <a:gd name="textAreaBottom" fmla="*/ 1256400 h 1256040"/>
            </a:gdLst>
            <a:ahLst/>
            <a:rect l="textAreaLeft" t="textAreaTop" r="textAreaRight" b="textAreaBottom"/>
            <a:pathLst>
              <a:path w="2119" h="791">
                <a:moveTo>
                  <a:pt x="2119" y="0"/>
                </a:moveTo>
                <a:lnTo>
                  <a:pt x="2112" y="2"/>
                </a:lnTo>
                <a:lnTo>
                  <a:pt x="2105" y="3"/>
                </a:lnTo>
                <a:lnTo>
                  <a:pt x="2098" y="4"/>
                </a:lnTo>
                <a:lnTo>
                  <a:pt x="2090" y="5"/>
                </a:lnTo>
                <a:lnTo>
                  <a:pt x="2083" y="6"/>
                </a:lnTo>
                <a:lnTo>
                  <a:pt x="2076" y="7"/>
                </a:lnTo>
                <a:lnTo>
                  <a:pt x="2069" y="9"/>
                </a:lnTo>
                <a:lnTo>
                  <a:pt x="2062" y="10"/>
                </a:lnTo>
                <a:lnTo>
                  <a:pt x="2055" y="11"/>
                </a:lnTo>
                <a:lnTo>
                  <a:pt x="2048" y="12"/>
                </a:lnTo>
                <a:lnTo>
                  <a:pt x="2041" y="13"/>
                </a:lnTo>
                <a:lnTo>
                  <a:pt x="2034" y="15"/>
                </a:lnTo>
                <a:lnTo>
                  <a:pt x="2026" y="16"/>
                </a:lnTo>
                <a:lnTo>
                  <a:pt x="2019" y="17"/>
                </a:lnTo>
                <a:lnTo>
                  <a:pt x="2012" y="18"/>
                </a:lnTo>
                <a:lnTo>
                  <a:pt x="2005" y="20"/>
                </a:lnTo>
                <a:lnTo>
                  <a:pt x="1998" y="21"/>
                </a:lnTo>
                <a:lnTo>
                  <a:pt x="1991" y="22"/>
                </a:lnTo>
                <a:lnTo>
                  <a:pt x="1984" y="23"/>
                </a:lnTo>
                <a:lnTo>
                  <a:pt x="1977" y="25"/>
                </a:lnTo>
                <a:lnTo>
                  <a:pt x="1970" y="26"/>
                </a:lnTo>
                <a:lnTo>
                  <a:pt x="1963" y="27"/>
                </a:lnTo>
                <a:lnTo>
                  <a:pt x="1956" y="29"/>
                </a:lnTo>
                <a:lnTo>
                  <a:pt x="1949" y="30"/>
                </a:lnTo>
                <a:lnTo>
                  <a:pt x="1941" y="31"/>
                </a:lnTo>
                <a:lnTo>
                  <a:pt x="1934" y="33"/>
                </a:lnTo>
                <a:lnTo>
                  <a:pt x="1927" y="34"/>
                </a:lnTo>
                <a:lnTo>
                  <a:pt x="1920" y="35"/>
                </a:lnTo>
                <a:lnTo>
                  <a:pt x="1913" y="37"/>
                </a:lnTo>
                <a:lnTo>
                  <a:pt x="1906" y="38"/>
                </a:lnTo>
                <a:lnTo>
                  <a:pt x="1899" y="39"/>
                </a:lnTo>
                <a:lnTo>
                  <a:pt x="1892" y="41"/>
                </a:lnTo>
                <a:lnTo>
                  <a:pt x="1885" y="42"/>
                </a:lnTo>
                <a:lnTo>
                  <a:pt x="1878" y="44"/>
                </a:lnTo>
                <a:lnTo>
                  <a:pt x="1871" y="45"/>
                </a:lnTo>
                <a:lnTo>
                  <a:pt x="1864" y="47"/>
                </a:lnTo>
                <a:lnTo>
                  <a:pt x="1857" y="48"/>
                </a:lnTo>
                <a:lnTo>
                  <a:pt x="1850" y="49"/>
                </a:lnTo>
                <a:lnTo>
                  <a:pt x="1843" y="51"/>
                </a:lnTo>
                <a:lnTo>
                  <a:pt x="1836" y="52"/>
                </a:lnTo>
                <a:lnTo>
                  <a:pt x="1829" y="54"/>
                </a:lnTo>
                <a:lnTo>
                  <a:pt x="1822" y="55"/>
                </a:lnTo>
                <a:lnTo>
                  <a:pt x="1815" y="57"/>
                </a:lnTo>
                <a:lnTo>
                  <a:pt x="1807" y="58"/>
                </a:lnTo>
                <a:lnTo>
                  <a:pt x="1800" y="60"/>
                </a:lnTo>
                <a:lnTo>
                  <a:pt x="1793" y="61"/>
                </a:lnTo>
                <a:lnTo>
                  <a:pt x="1786" y="63"/>
                </a:lnTo>
                <a:lnTo>
                  <a:pt x="1779" y="65"/>
                </a:lnTo>
                <a:lnTo>
                  <a:pt x="1772" y="66"/>
                </a:lnTo>
                <a:lnTo>
                  <a:pt x="1765" y="68"/>
                </a:lnTo>
                <a:lnTo>
                  <a:pt x="1758" y="69"/>
                </a:lnTo>
                <a:lnTo>
                  <a:pt x="1751" y="71"/>
                </a:lnTo>
                <a:lnTo>
                  <a:pt x="1744" y="72"/>
                </a:lnTo>
                <a:lnTo>
                  <a:pt x="1737" y="74"/>
                </a:lnTo>
                <a:lnTo>
                  <a:pt x="1730" y="76"/>
                </a:lnTo>
                <a:lnTo>
                  <a:pt x="1723" y="77"/>
                </a:lnTo>
                <a:lnTo>
                  <a:pt x="1716" y="79"/>
                </a:lnTo>
                <a:lnTo>
                  <a:pt x="1709" y="80"/>
                </a:lnTo>
                <a:lnTo>
                  <a:pt x="1702" y="82"/>
                </a:lnTo>
                <a:lnTo>
                  <a:pt x="1695" y="84"/>
                </a:lnTo>
                <a:lnTo>
                  <a:pt x="1688" y="85"/>
                </a:lnTo>
                <a:lnTo>
                  <a:pt x="1681" y="87"/>
                </a:lnTo>
                <a:lnTo>
                  <a:pt x="1674" y="89"/>
                </a:lnTo>
                <a:lnTo>
                  <a:pt x="1667" y="90"/>
                </a:lnTo>
                <a:lnTo>
                  <a:pt x="1660" y="92"/>
                </a:lnTo>
                <a:lnTo>
                  <a:pt x="1653" y="94"/>
                </a:lnTo>
                <a:lnTo>
                  <a:pt x="1646" y="96"/>
                </a:lnTo>
                <a:lnTo>
                  <a:pt x="1639" y="97"/>
                </a:lnTo>
                <a:lnTo>
                  <a:pt x="1632" y="99"/>
                </a:lnTo>
                <a:lnTo>
                  <a:pt x="1625" y="101"/>
                </a:lnTo>
                <a:lnTo>
                  <a:pt x="1619" y="102"/>
                </a:lnTo>
                <a:lnTo>
                  <a:pt x="1612" y="104"/>
                </a:lnTo>
                <a:lnTo>
                  <a:pt x="1605" y="106"/>
                </a:lnTo>
                <a:lnTo>
                  <a:pt x="1598" y="108"/>
                </a:lnTo>
                <a:lnTo>
                  <a:pt x="1591" y="110"/>
                </a:lnTo>
                <a:lnTo>
                  <a:pt x="1584" y="111"/>
                </a:lnTo>
                <a:lnTo>
                  <a:pt x="1577" y="113"/>
                </a:lnTo>
                <a:lnTo>
                  <a:pt x="1570" y="115"/>
                </a:lnTo>
                <a:lnTo>
                  <a:pt x="1563" y="117"/>
                </a:lnTo>
                <a:lnTo>
                  <a:pt x="1556" y="119"/>
                </a:lnTo>
                <a:lnTo>
                  <a:pt x="1549" y="120"/>
                </a:lnTo>
                <a:lnTo>
                  <a:pt x="1542" y="122"/>
                </a:lnTo>
                <a:lnTo>
                  <a:pt x="1535" y="124"/>
                </a:lnTo>
                <a:lnTo>
                  <a:pt x="1528" y="126"/>
                </a:lnTo>
                <a:lnTo>
                  <a:pt x="1521" y="128"/>
                </a:lnTo>
                <a:lnTo>
                  <a:pt x="1514" y="130"/>
                </a:lnTo>
                <a:lnTo>
                  <a:pt x="1507" y="132"/>
                </a:lnTo>
                <a:lnTo>
                  <a:pt x="1500" y="134"/>
                </a:lnTo>
                <a:lnTo>
                  <a:pt x="1494" y="135"/>
                </a:lnTo>
                <a:lnTo>
                  <a:pt x="1487" y="137"/>
                </a:lnTo>
                <a:lnTo>
                  <a:pt x="1480" y="139"/>
                </a:lnTo>
                <a:lnTo>
                  <a:pt x="1473" y="141"/>
                </a:lnTo>
                <a:lnTo>
                  <a:pt x="1466" y="143"/>
                </a:lnTo>
                <a:lnTo>
                  <a:pt x="1459" y="145"/>
                </a:lnTo>
                <a:lnTo>
                  <a:pt x="1452" y="147"/>
                </a:lnTo>
                <a:lnTo>
                  <a:pt x="1445" y="149"/>
                </a:lnTo>
                <a:lnTo>
                  <a:pt x="1438" y="151"/>
                </a:lnTo>
                <a:lnTo>
                  <a:pt x="1431" y="153"/>
                </a:lnTo>
                <a:lnTo>
                  <a:pt x="1424" y="155"/>
                </a:lnTo>
                <a:lnTo>
                  <a:pt x="1418" y="157"/>
                </a:lnTo>
                <a:lnTo>
                  <a:pt x="1411" y="159"/>
                </a:lnTo>
                <a:lnTo>
                  <a:pt x="1404" y="161"/>
                </a:lnTo>
                <a:lnTo>
                  <a:pt x="1397" y="163"/>
                </a:lnTo>
                <a:lnTo>
                  <a:pt x="1390" y="165"/>
                </a:lnTo>
                <a:lnTo>
                  <a:pt x="1383" y="167"/>
                </a:lnTo>
                <a:lnTo>
                  <a:pt x="1376" y="169"/>
                </a:lnTo>
                <a:lnTo>
                  <a:pt x="1369" y="171"/>
                </a:lnTo>
                <a:lnTo>
                  <a:pt x="1363" y="173"/>
                </a:lnTo>
                <a:lnTo>
                  <a:pt x="1356" y="175"/>
                </a:lnTo>
                <a:lnTo>
                  <a:pt x="1349" y="177"/>
                </a:lnTo>
                <a:lnTo>
                  <a:pt x="1342" y="179"/>
                </a:lnTo>
                <a:lnTo>
                  <a:pt x="1335" y="182"/>
                </a:lnTo>
                <a:lnTo>
                  <a:pt x="1328" y="184"/>
                </a:lnTo>
                <a:lnTo>
                  <a:pt x="1321" y="186"/>
                </a:lnTo>
                <a:lnTo>
                  <a:pt x="1314" y="188"/>
                </a:lnTo>
                <a:lnTo>
                  <a:pt x="1308" y="190"/>
                </a:lnTo>
                <a:lnTo>
                  <a:pt x="1301" y="192"/>
                </a:lnTo>
                <a:lnTo>
                  <a:pt x="1294" y="194"/>
                </a:lnTo>
                <a:lnTo>
                  <a:pt x="1287" y="197"/>
                </a:lnTo>
                <a:lnTo>
                  <a:pt x="1280" y="199"/>
                </a:lnTo>
                <a:lnTo>
                  <a:pt x="1273" y="201"/>
                </a:lnTo>
                <a:lnTo>
                  <a:pt x="1267" y="203"/>
                </a:lnTo>
                <a:lnTo>
                  <a:pt x="1260" y="205"/>
                </a:lnTo>
                <a:lnTo>
                  <a:pt x="1253" y="208"/>
                </a:lnTo>
                <a:lnTo>
                  <a:pt x="1246" y="210"/>
                </a:lnTo>
                <a:lnTo>
                  <a:pt x="1239" y="212"/>
                </a:lnTo>
                <a:lnTo>
                  <a:pt x="1232" y="214"/>
                </a:lnTo>
                <a:lnTo>
                  <a:pt x="1226" y="216"/>
                </a:lnTo>
                <a:lnTo>
                  <a:pt x="1219" y="219"/>
                </a:lnTo>
                <a:lnTo>
                  <a:pt x="1212" y="221"/>
                </a:lnTo>
                <a:lnTo>
                  <a:pt x="1205" y="223"/>
                </a:lnTo>
                <a:lnTo>
                  <a:pt x="1198" y="225"/>
                </a:lnTo>
                <a:lnTo>
                  <a:pt x="1192" y="228"/>
                </a:lnTo>
                <a:lnTo>
                  <a:pt x="1185" y="230"/>
                </a:lnTo>
                <a:lnTo>
                  <a:pt x="1178" y="232"/>
                </a:lnTo>
                <a:lnTo>
                  <a:pt x="1171" y="235"/>
                </a:lnTo>
                <a:lnTo>
                  <a:pt x="1164" y="237"/>
                </a:lnTo>
                <a:lnTo>
                  <a:pt x="1158" y="239"/>
                </a:lnTo>
                <a:lnTo>
                  <a:pt x="1151" y="242"/>
                </a:lnTo>
                <a:lnTo>
                  <a:pt x="1144" y="244"/>
                </a:lnTo>
                <a:lnTo>
                  <a:pt x="1137" y="246"/>
                </a:lnTo>
                <a:lnTo>
                  <a:pt x="1131" y="249"/>
                </a:lnTo>
                <a:lnTo>
                  <a:pt x="1124" y="251"/>
                </a:lnTo>
                <a:lnTo>
                  <a:pt x="1117" y="253"/>
                </a:lnTo>
                <a:lnTo>
                  <a:pt x="1110" y="256"/>
                </a:lnTo>
                <a:lnTo>
                  <a:pt x="1104" y="258"/>
                </a:lnTo>
                <a:lnTo>
                  <a:pt x="1097" y="261"/>
                </a:lnTo>
                <a:lnTo>
                  <a:pt x="1090" y="263"/>
                </a:lnTo>
                <a:lnTo>
                  <a:pt x="1083" y="265"/>
                </a:lnTo>
                <a:lnTo>
                  <a:pt x="1077" y="268"/>
                </a:lnTo>
                <a:lnTo>
                  <a:pt x="1070" y="270"/>
                </a:lnTo>
                <a:lnTo>
                  <a:pt x="1063" y="273"/>
                </a:lnTo>
                <a:lnTo>
                  <a:pt x="1056" y="275"/>
                </a:lnTo>
                <a:lnTo>
                  <a:pt x="1050" y="278"/>
                </a:lnTo>
                <a:lnTo>
                  <a:pt x="1043" y="280"/>
                </a:lnTo>
                <a:lnTo>
                  <a:pt x="1036" y="283"/>
                </a:lnTo>
                <a:lnTo>
                  <a:pt x="1029" y="285"/>
                </a:lnTo>
                <a:lnTo>
                  <a:pt x="1023" y="288"/>
                </a:lnTo>
                <a:lnTo>
                  <a:pt x="1016" y="290"/>
                </a:lnTo>
                <a:lnTo>
                  <a:pt x="1009" y="293"/>
                </a:lnTo>
                <a:lnTo>
                  <a:pt x="1002" y="295"/>
                </a:lnTo>
                <a:lnTo>
                  <a:pt x="996" y="298"/>
                </a:lnTo>
                <a:lnTo>
                  <a:pt x="989" y="300"/>
                </a:lnTo>
                <a:lnTo>
                  <a:pt x="982" y="303"/>
                </a:lnTo>
                <a:lnTo>
                  <a:pt x="976" y="305"/>
                </a:lnTo>
                <a:lnTo>
                  <a:pt x="969" y="308"/>
                </a:lnTo>
                <a:lnTo>
                  <a:pt x="962" y="311"/>
                </a:lnTo>
                <a:lnTo>
                  <a:pt x="956" y="313"/>
                </a:lnTo>
                <a:lnTo>
                  <a:pt x="949" y="316"/>
                </a:lnTo>
                <a:lnTo>
                  <a:pt x="942" y="318"/>
                </a:lnTo>
                <a:lnTo>
                  <a:pt x="936" y="321"/>
                </a:lnTo>
                <a:lnTo>
                  <a:pt x="929" y="324"/>
                </a:lnTo>
                <a:lnTo>
                  <a:pt x="922" y="326"/>
                </a:lnTo>
                <a:lnTo>
                  <a:pt x="915" y="329"/>
                </a:lnTo>
                <a:lnTo>
                  <a:pt x="909" y="331"/>
                </a:lnTo>
                <a:lnTo>
                  <a:pt x="902" y="334"/>
                </a:lnTo>
                <a:lnTo>
                  <a:pt x="896" y="337"/>
                </a:lnTo>
                <a:lnTo>
                  <a:pt x="889" y="339"/>
                </a:lnTo>
                <a:lnTo>
                  <a:pt x="882" y="342"/>
                </a:lnTo>
                <a:lnTo>
                  <a:pt x="876" y="345"/>
                </a:lnTo>
                <a:lnTo>
                  <a:pt x="869" y="347"/>
                </a:lnTo>
                <a:lnTo>
                  <a:pt x="862" y="350"/>
                </a:lnTo>
                <a:lnTo>
                  <a:pt x="856" y="353"/>
                </a:lnTo>
                <a:lnTo>
                  <a:pt x="849" y="356"/>
                </a:lnTo>
                <a:lnTo>
                  <a:pt x="842" y="358"/>
                </a:lnTo>
                <a:lnTo>
                  <a:pt x="836" y="361"/>
                </a:lnTo>
                <a:lnTo>
                  <a:pt x="829" y="364"/>
                </a:lnTo>
                <a:lnTo>
                  <a:pt x="822" y="367"/>
                </a:lnTo>
                <a:lnTo>
                  <a:pt x="816" y="369"/>
                </a:lnTo>
                <a:lnTo>
                  <a:pt x="809" y="372"/>
                </a:lnTo>
                <a:lnTo>
                  <a:pt x="803" y="375"/>
                </a:lnTo>
                <a:lnTo>
                  <a:pt x="796" y="378"/>
                </a:lnTo>
                <a:lnTo>
                  <a:pt x="789" y="380"/>
                </a:lnTo>
                <a:lnTo>
                  <a:pt x="783" y="383"/>
                </a:lnTo>
                <a:lnTo>
                  <a:pt x="776" y="386"/>
                </a:lnTo>
                <a:lnTo>
                  <a:pt x="770" y="389"/>
                </a:lnTo>
                <a:lnTo>
                  <a:pt x="763" y="392"/>
                </a:lnTo>
                <a:lnTo>
                  <a:pt x="756" y="395"/>
                </a:lnTo>
                <a:lnTo>
                  <a:pt x="750" y="397"/>
                </a:lnTo>
                <a:lnTo>
                  <a:pt x="743" y="400"/>
                </a:lnTo>
                <a:lnTo>
                  <a:pt x="737" y="403"/>
                </a:lnTo>
                <a:lnTo>
                  <a:pt x="730" y="406"/>
                </a:lnTo>
                <a:lnTo>
                  <a:pt x="723" y="409"/>
                </a:lnTo>
                <a:lnTo>
                  <a:pt x="717" y="412"/>
                </a:lnTo>
                <a:lnTo>
                  <a:pt x="710" y="415"/>
                </a:lnTo>
                <a:lnTo>
                  <a:pt x="704" y="418"/>
                </a:lnTo>
                <a:lnTo>
                  <a:pt x="697" y="420"/>
                </a:lnTo>
                <a:lnTo>
                  <a:pt x="691" y="423"/>
                </a:lnTo>
                <a:lnTo>
                  <a:pt x="684" y="426"/>
                </a:lnTo>
                <a:lnTo>
                  <a:pt x="678" y="429"/>
                </a:lnTo>
                <a:lnTo>
                  <a:pt x="671" y="432"/>
                </a:lnTo>
                <a:lnTo>
                  <a:pt x="665" y="435"/>
                </a:lnTo>
                <a:lnTo>
                  <a:pt x="658" y="438"/>
                </a:lnTo>
                <a:lnTo>
                  <a:pt x="651" y="441"/>
                </a:lnTo>
                <a:lnTo>
                  <a:pt x="645" y="444"/>
                </a:lnTo>
                <a:lnTo>
                  <a:pt x="638" y="447"/>
                </a:lnTo>
                <a:lnTo>
                  <a:pt x="632" y="450"/>
                </a:lnTo>
                <a:lnTo>
                  <a:pt x="625" y="453"/>
                </a:lnTo>
                <a:lnTo>
                  <a:pt x="619" y="456"/>
                </a:lnTo>
                <a:lnTo>
                  <a:pt x="612" y="459"/>
                </a:lnTo>
                <a:lnTo>
                  <a:pt x="606" y="462"/>
                </a:lnTo>
                <a:lnTo>
                  <a:pt x="599" y="465"/>
                </a:lnTo>
                <a:lnTo>
                  <a:pt x="593" y="468"/>
                </a:lnTo>
                <a:lnTo>
                  <a:pt x="586" y="471"/>
                </a:lnTo>
                <a:lnTo>
                  <a:pt x="580" y="474"/>
                </a:lnTo>
                <a:lnTo>
                  <a:pt x="573" y="477"/>
                </a:lnTo>
                <a:lnTo>
                  <a:pt x="567" y="480"/>
                </a:lnTo>
                <a:lnTo>
                  <a:pt x="560" y="484"/>
                </a:lnTo>
                <a:lnTo>
                  <a:pt x="554" y="487"/>
                </a:lnTo>
                <a:lnTo>
                  <a:pt x="547" y="490"/>
                </a:lnTo>
                <a:lnTo>
                  <a:pt x="541" y="493"/>
                </a:lnTo>
                <a:lnTo>
                  <a:pt x="534" y="496"/>
                </a:lnTo>
                <a:lnTo>
                  <a:pt x="528" y="499"/>
                </a:lnTo>
                <a:lnTo>
                  <a:pt x="522" y="502"/>
                </a:lnTo>
                <a:lnTo>
                  <a:pt x="515" y="505"/>
                </a:lnTo>
                <a:lnTo>
                  <a:pt x="509" y="509"/>
                </a:lnTo>
                <a:lnTo>
                  <a:pt x="502" y="512"/>
                </a:lnTo>
                <a:lnTo>
                  <a:pt x="496" y="515"/>
                </a:lnTo>
                <a:lnTo>
                  <a:pt x="489" y="518"/>
                </a:lnTo>
                <a:lnTo>
                  <a:pt x="483" y="521"/>
                </a:lnTo>
                <a:lnTo>
                  <a:pt x="476" y="524"/>
                </a:lnTo>
                <a:lnTo>
                  <a:pt x="470" y="528"/>
                </a:lnTo>
                <a:lnTo>
                  <a:pt x="464" y="531"/>
                </a:lnTo>
                <a:lnTo>
                  <a:pt x="457" y="534"/>
                </a:lnTo>
                <a:lnTo>
                  <a:pt x="451" y="537"/>
                </a:lnTo>
                <a:lnTo>
                  <a:pt x="444" y="541"/>
                </a:lnTo>
                <a:lnTo>
                  <a:pt x="438" y="544"/>
                </a:lnTo>
                <a:lnTo>
                  <a:pt x="432" y="547"/>
                </a:lnTo>
                <a:lnTo>
                  <a:pt x="425" y="550"/>
                </a:lnTo>
                <a:lnTo>
                  <a:pt x="419" y="554"/>
                </a:lnTo>
                <a:lnTo>
                  <a:pt x="412" y="557"/>
                </a:lnTo>
                <a:lnTo>
                  <a:pt x="406" y="560"/>
                </a:lnTo>
                <a:lnTo>
                  <a:pt x="400" y="563"/>
                </a:lnTo>
                <a:lnTo>
                  <a:pt x="393" y="567"/>
                </a:lnTo>
                <a:lnTo>
                  <a:pt x="387" y="570"/>
                </a:lnTo>
                <a:lnTo>
                  <a:pt x="380" y="573"/>
                </a:lnTo>
                <a:lnTo>
                  <a:pt x="374" y="577"/>
                </a:lnTo>
                <a:lnTo>
                  <a:pt x="368" y="580"/>
                </a:lnTo>
                <a:lnTo>
                  <a:pt x="361" y="583"/>
                </a:lnTo>
                <a:lnTo>
                  <a:pt x="355" y="587"/>
                </a:lnTo>
                <a:lnTo>
                  <a:pt x="349" y="590"/>
                </a:lnTo>
                <a:lnTo>
                  <a:pt x="342" y="593"/>
                </a:lnTo>
                <a:lnTo>
                  <a:pt x="336" y="597"/>
                </a:lnTo>
                <a:lnTo>
                  <a:pt x="330" y="600"/>
                </a:lnTo>
                <a:lnTo>
                  <a:pt x="323" y="604"/>
                </a:lnTo>
                <a:lnTo>
                  <a:pt x="317" y="607"/>
                </a:lnTo>
                <a:lnTo>
                  <a:pt x="311" y="610"/>
                </a:lnTo>
                <a:lnTo>
                  <a:pt x="304" y="614"/>
                </a:lnTo>
                <a:lnTo>
                  <a:pt x="298" y="617"/>
                </a:lnTo>
                <a:lnTo>
                  <a:pt x="292" y="621"/>
                </a:lnTo>
                <a:lnTo>
                  <a:pt x="285" y="624"/>
                </a:lnTo>
                <a:lnTo>
                  <a:pt x="279" y="628"/>
                </a:lnTo>
                <a:lnTo>
                  <a:pt x="273" y="631"/>
                </a:lnTo>
                <a:lnTo>
                  <a:pt x="266" y="635"/>
                </a:lnTo>
                <a:lnTo>
                  <a:pt x="260" y="638"/>
                </a:lnTo>
                <a:lnTo>
                  <a:pt x="254" y="641"/>
                </a:lnTo>
                <a:lnTo>
                  <a:pt x="248" y="645"/>
                </a:lnTo>
                <a:lnTo>
                  <a:pt x="241" y="648"/>
                </a:lnTo>
                <a:lnTo>
                  <a:pt x="235" y="652"/>
                </a:lnTo>
                <a:lnTo>
                  <a:pt x="229" y="656"/>
                </a:lnTo>
                <a:lnTo>
                  <a:pt x="222" y="659"/>
                </a:lnTo>
                <a:lnTo>
                  <a:pt x="216" y="663"/>
                </a:lnTo>
                <a:lnTo>
                  <a:pt x="210" y="666"/>
                </a:lnTo>
                <a:lnTo>
                  <a:pt x="204" y="670"/>
                </a:lnTo>
                <a:lnTo>
                  <a:pt x="197" y="673"/>
                </a:lnTo>
                <a:lnTo>
                  <a:pt x="191" y="677"/>
                </a:lnTo>
                <a:lnTo>
                  <a:pt x="185" y="680"/>
                </a:lnTo>
                <a:lnTo>
                  <a:pt x="179" y="684"/>
                </a:lnTo>
                <a:lnTo>
                  <a:pt x="172" y="688"/>
                </a:lnTo>
                <a:lnTo>
                  <a:pt x="166" y="691"/>
                </a:lnTo>
                <a:lnTo>
                  <a:pt x="160" y="695"/>
                </a:lnTo>
                <a:lnTo>
                  <a:pt x="154" y="698"/>
                </a:lnTo>
                <a:lnTo>
                  <a:pt x="148" y="702"/>
                </a:lnTo>
                <a:lnTo>
                  <a:pt x="141" y="706"/>
                </a:lnTo>
                <a:lnTo>
                  <a:pt x="135" y="709"/>
                </a:lnTo>
                <a:lnTo>
                  <a:pt x="129" y="713"/>
                </a:lnTo>
                <a:lnTo>
                  <a:pt x="123" y="717"/>
                </a:lnTo>
                <a:lnTo>
                  <a:pt x="116" y="720"/>
                </a:lnTo>
                <a:lnTo>
                  <a:pt x="110" y="724"/>
                </a:lnTo>
                <a:lnTo>
                  <a:pt x="104" y="728"/>
                </a:lnTo>
                <a:lnTo>
                  <a:pt x="98" y="731"/>
                </a:lnTo>
                <a:lnTo>
                  <a:pt x="92" y="735"/>
                </a:lnTo>
                <a:lnTo>
                  <a:pt x="86" y="739"/>
                </a:lnTo>
                <a:lnTo>
                  <a:pt x="79" y="742"/>
                </a:lnTo>
                <a:lnTo>
                  <a:pt x="73" y="746"/>
                </a:lnTo>
                <a:lnTo>
                  <a:pt x="67" y="750"/>
                </a:lnTo>
                <a:lnTo>
                  <a:pt x="61" y="753"/>
                </a:lnTo>
                <a:lnTo>
                  <a:pt x="55" y="757"/>
                </a:lnTo>
                <a:lnTo>
                  <a:pt x="49" y="761"/>
                </a:lnTo>
                <a:lnTo>
                  <a:pt x="42" y="765"/>
                </a:lnTo>
                <a:lnTo>
                  <a:pt x="36" y="769"/>
                </a:lnTo>
                <a:lnTo>
                  <a:pt x="30" y="772"/>
                </a:lnTo>
                <a:lnTo>
                  <a:pt x="24" y="776"/>
                </a:lnTo>
                <a:lnTo>
                  <a:pt x="18" y="780"/>
                </a:lnTo>
                <a:lnTo>
                  <a:pt x="12" y="784"/>
                </a:lnTo>
                <a:lnTo>
                  <a:pt x="6" y="787"/>
                </a:lnTo>
                <a:lnTo>
                  <a:pt x="0" y="791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497480" y="3720960"/>
            <a:ext cx="963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OSEFI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8"/>
          <p:cNvSpPr/>
          <p:nvPr/>
        </p:nvSpPr>
        <p:spPr>
          <a:xfrm rot="5340000">
            <a:off x="585360" y="5052960"/>
            <a:ext cx="720720" cy="723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"/>
          <p:cNvSpPr/>
          <p:nvPr/>
        </p:nvSpPr>
        <p:spPr>
          <a:xfrm rot="5340000">
            <a:off x="3533400" y="2913120"/>
            <a:ext cx="720720" cy="72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0"/>
          <p:cNvSpPr/>
          <p:nvPr/>
        </p:nvSpPr>
        <p:spPr>
          <a:xfrm>
            <a:off x="4219560" y="3375000"/>
            <a:ext cx="384120" cy="162000"/>
          </a:xfrm>
          <a:custGeom>
            <a:avLst/>
            <a:gdLst>
              <a:gd name="textAreaLeft" fmla="*/ 0 w 384120"/>
              <a:gd name="textAreaRight" fmla="*/ 384480 w 38412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242" h="102">
                <a:moveTo>
                  <a:pt x="242" y="102"/>
                </a:moveTo>
                <a:lnTo>
                  <a:pt x="0" y="0"/>
                </a:lnTo>
                <a:lnTo>
                  <a:pt x="51" y="25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552840" y="320184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I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2"/>
          <p:cNvSpPr/>
          <p:nvPr/>
        </p:nvSpPr>
        <p:spPr>
          <a:xfrm>
            <a:off x="3592440" y="1919160"/>
            <a:ext cx="1231920" cy="151632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1516320"/>
              <a:gd name="textAreaBottom" fmla="*/ 1516680 h 1516320"/>
            </a:gdLst>
            <a:ahLst/>
            <a:rect l="textAreaLeft" t="textAreaTop" r="textAreaRight" b="textAreaBottom"/>
            <a:pathLst>
              <a:path w="776" h="955">
                <a:moveTo>
                  <a:pt x="776" y="955"/>
                </a:moveTo>
                <a:lnTo>
                  <a:pt x="776" y="948"/>
                </a:lnTo>
                <a:lnTo>
                  <a:pt x="776" y="941"/>
                </a:lnTo>
                <a:lnTo>
                  <a:pt x="776" y="934"/>
                </a:lnTo>
                <a:lnTo>
                  <a:pt x="775" y="927"/>
                </a:lnTo>
                <a:lnTo>
                  <a:pt x="775" y="920"/>
                </a:lnTo>
                <a:lnTo>
                  <a:pt x="774" y="913"/>
                </a:lnTo>
                <a:lnTo>
                  <a:pt x="774" y="906"/>
                </a:lnTo>
                <a:lnTo>
                  <a:pt x="774" y="899"/>
                </a:lnTo>
                <a:lnTo>
                  <a:pt x="773" y="892"/>
                </a:lnTo>
                <a:lnTo>
                  <a:pt x="772" y="885"/>
                </a:lnTo>
                <a:lnTo>
                  <a:pt x="772" y="878"/>
                </a:lnTo>
                <a:lnTo>
                  <a:pt x="771" y="871"/>
                </a:lnTo>
                <a:lnTo>
                  <a:pt x="770" y="864"/>
                </a:lnTo>
                <a:lnTo>
                  <a:pt x="770" y="858"/>
                </a:lnTo>
                <a:lnTo>
                  <a:pt x="769" y="851"/>
                </a:lnTo>
                <a:lnTo>
                  <a:pt x="768" y="844"/>
                </a:lnTo>
                <a:lnTo>
                  <a:pt x="767" y="837"/>
                </a:lnTo>
                <a:lnTo>
                  <a:pt x="766" y="830"/>
                </a:lnTo>
                <a:lnTo>
                  <a:pt x="765" y="823"/>
                </a:lnTo>
                <a:lnTo>
                  <a:pt x="764" y="817"/>
                </a:lnTo>
                <a:lnTo>
                  <a:pt x="763" y="810"/>
                </a:lnTo>
                <a:lnTo>
                  <a:pt x="762" y="803"/>
                </a:lnTo>
                <a:lnTo>
                  <a:pt x="760" y="796"/>
                </a:lnTo>
                <a:lnTo>
                  <a:pt x="759" y="790"/>
                </a:lnTo>
                <a:lnTo>
                  <a:pt x="758" y="783"/>
                </a:lnTo>
                <a:lnTo>
                  <a:pt x="757" y="776"/>
                </a:lnTo>
                <a:lnTo>
                  <a:pt x="755" y="770"/>
                </a:lnTo>
                <a:lnTo>
                  <a:pt x="754" y="763"/>
                </a:lnTo>
                <a:lnTo>
                  <a:pt x="752" y="756"/>
                </a:lnTo>
                <a:lnTo>
                  <a:pt x="751" y="750"/>
                </a:lnTo>
                <a:lnTo>
                  <a:pt x="749" y="743"/>
                </a:lnTo>
                <a:lnTo>
                  <a:pt x="748" y="736"/>
                </a:lnTo>
                <a:lnTo>
                  <a:pt x="746" y="730"/>
                </a:lnTo>
                <a:lnTo>
                  <a:pt x="744" y="723"/>
                </a:lnTo>
                <a:lnTo>
                  <a:pt x="743" y="717"/>
                </a:lnTo>
                <a:lnTo>
                  <a:pt x="741" y="710"/>
                </a:lnTo>
                <a:lnTo>
                  <a:pt x="739" y="704"/>
                </a:lnTo>
                <a:lnTo>
                  <a:pt x="737" y="697"/>
                </a:lnTo>
                <a:lnTo>
                  <a:pt x="735" y="691"/>
                </a:lnTo>
                <a:lnTo>
                  <a:pt x="733" y="684"/>
                </a:lnTo>
                <a:lnTo>
                  <a:pt x="731" y="678"/>
                </a:lnTo>
                <a:lnTo>
                  <a:pt x="729" y="671"/>
                </a:lnTo>
                <a:lnTo>
                  <a:pt x="727" y="665"/>
                </a:lnTo>
                <a:lnTo>
                  <a:pt x="725" y="658"/>
                </a:lnTo>
                <a:lnTo>
                  <a:pt x="723" y="652"/>
                </a:lnTo>
                <a:lnTo>
                  <a:pt x="721" y="646"/>
                </a:lnTo>
                <a:lnTo>
                  <a:pt x="719" y="639"/>
                </a:lnTo>
                <a:lnTo>
                  <a:pt x="716" y="633"/>
                </a:lnTo>
                <a:lnTo>
                  <a:pt x="714" y="627"/>
                </a:lnTo>
                <a:lnTo>
                  <a:pt x="712" y="620"/>
                </a:lnTo>
                <a:lnTo>
                  <a:pt x="709" y="614"/>
                </a:lnTo>
                <a:lnTo>
                  <a:pt x="707" y="608"/>
                </a:lnTo>
                <a:lnTo>
                  <a:pt x="704" y="602"/>
                </a:lnTo>
                <a:lnTo>
                  <a:pt x="702" y="595"/>
                </a:lnTo>
                <a:lnTo>
                  <a:pt x="699" y="589"/>
                </a:lnTo>
                <a:lnTo>
                  <a:pt x="697" y="583"/>
                </a:lnTo>
                <a:lnTo>
                  <a:pt x="694" y="577"/>
                </a:lnTo>
                <a:lnTo>
                  <a:pt x="691" y="571"/>
                </a:lnTo>
                <a:lnTo>
                  <a:pt x="689" y="564"/>
                </a:lnTo>
                <a:lnTo>
                  <a:pt x="686" y="558"/>
                </a:lnTo>
                <a:lnTo>
                  <a:pt x="683" y="552"/>
                </a:lnTo>
                <a:lnTo>
                  <a:pt x="680" y="546"/>
                </a:lnTo>
                <a:lnTo>
                  <a:pt x="677" y="540"/>
                </a:lnTo>
                <a:lnTo>
                  <a:pt x="674" y="534"/>
                </a:lnTo>
                <a:lnTo>
                  <a:pt x="671" y="528"/>
                </a:lnTo>
                <a:lnTo>
                  <a:pt x="668" y="522"/>
                </a:lnTo>
                <a:lnTo>
                  <a:pt x="665" y="516"/>
                </a:lnTo>
                <a:lnTo>
                  <a:pt x="662" y="510"/>
                </a:lnTo>
                <a:lnTo>
                  <a:pt x="659" y="504"/>
                </a:lnTo>
                <a:lnTo>
                  <a:pt x="656" y="499"/>
                </a:lnTo>
                <a:lnTo>
                  <a:pt x="653" y="493"/>
                </a:lnTo>
                <a:lnTo>
                  <a:pt x="650" y="487"/>
                </a:lnTo>
                <a:lnTo>
                  <a:pt x="646" y="481"/>
                </a:lnTo>
                <a:lnTo>
                  <a:pt x="643" y="475"/>
                </a:lnTo>
                <a:lnTo>
                  <a:pt x="640" y="470"/>
                </a:lnTo>
                <a:lnTo>
                  <a:pt x="636" y="464"/>
                </a:lnTo>
                <a:lnTo>
                  <a:pt x="633" y="458"/>
                </a:lnTo>
                <a:lnTo>
                  <a:pt x="629" y="452"/>
                </a:lnTo>
                <a:lnTo>
                  <a:pt x="626" y="447"/>
                </a:lnTo>
                <a:lnTo>
                  <a:pt x="622" y="441"/>
                </a:lnTo>
                <a:lnTo>
                  <a:pt x="619" y="435"/>
                </a:lnTo>
                <a:lnTo>
                  <a:pt x="615" y="430"/>
                </a:lnTo>
                <a:lnTo>
                  <a:pt x="612" y="424"/>
                </a:lnTo>
                <a:lnTo>
                  <a:pt x="608" y="419"/>
                </a:lnTo>
                <a:lnTo>
                  <a:pt x="604" y="413"/>
                </a:lnTo>
                <a:lnTo>
                  <a:pt x="600" y="408"/>
                </a:lnTo>
                <a:lnTo>
                  <a:pt x="597" y="402"/>
                </a:lnTo>
                <a:lnTo>
                  <a:pt x="593" y="397"/>
                </a:lnTo>
                <a:lnTo>
                  <a:pt x="589" y="391"/>
                </a:lnTo>
                <a:lnTo>
                  <a:pt x="585" y="386"/>
                </a:lnTo>
                <a:lnTo>
                  <a:pt x="581" y="381"/>
                </a:lnTo>
                <a:lnTo>
                  <a:pt x="577" y="375"/>
                </a:lnTo>
                <a:lnTo>
                  <a:pt x="573" y="370"/>
                </a:lnTo>
                <a:lnTo>
                  <a:pt x="569" y="365"/>
                </a:lnTo>
                <a:lnTo>
                  <a:pt x="565" y="360"/>
                </a:lnTo>
                <a:lnTo>
                  <a:pt x="561" y="354"/>
                </a:lnTo>
                <a:lnTo>
                  <a:pt x="557" y="349"/>
                </a:lnTo>
                <a:lnTo>
                  <a:pt x="553" y="344"/>
                </a:lnTo>
                <a:lnTo>
                  <a:pt x="548" y="339"/>
                </a:lnTo>
                <a:lnTo>
                  <a:pt x="544" y="334"/>
                </a:lnTo>
                <a:lnTo>
                  <a:pt x="540" y="329"/>
                </a:lnTo>
                <a:lnTo>
                  <a:pt x="535" y="324"/>
                </a:lnTo>
                <a:lnTo>
                  <a:pt x="531" y="318"/>
                </a:lnTo>
                <a:lnTo>
                  <a:pt x="527" y="313"/>
                </a:lnTo>
                <a:lnTo>
                  <a:pt x="522" y="308"/>
                </a:lnTo>
                <a:lnTo>
                  <a:pt x="518" y="304"/>
                </a:lnTo>
                <a:lnTo>
                  <a:pt x="513" y="299"/>
                </a:lnTo>
                <a:lnTo>
                  <a:pt x="509" y="294"/>
                </a:lnTo>
                <a:lnTo>
                  <a:pt x="504" y="289"/>
                </a:lnTo>
                <a:lnTo>
                  <a:pt x="500" y="284"/>
                </a:lnTo>
                <a:lnTo>
                  <a:pt x="495" y="279"/>
                </a:lnTo>
                <a:lnTo>
                  <a:pt x="491" y="274"/>
                </a:lnTo>
                <a:lnTo>
                  <a:pt x="486" y="270"/>
                </a:lnTo>
                <a:lnTo>
                  <a:pt x="481" y="265"/>
                </a:lnTo>
                <a:lnTo>
                  <a:pt x="476" y="260"/>
                </a:lnTo>
                <a:lnTo>
                  <a:pt x="472" y="256"/>
                </a:lnTo>
                <a:lnTo>
                  <a:pt x="467" y="251"/>
                </a:lnTo>
                <a:lnTo>
                  <a:pt x="462" y="247"/>
                </a:lnTo>
                <a:lnTo>
                  <a:pt x="457" y="242"/>
                </a:lnTo>
                <a:lnTo>
                  <a:pt x="452" y="237"/>
                </a:lnTo>
                <a:lnTo>
                  <a:pt x="447" y="233"/>
                </a:lnTo>
                <a:lnTo>
                  <a:pt x="442" y="229"/>
                </a:lnTo>
                <a:lnTo>
                  <a:pt x="437" y="224"/>
                </a:lnTo>
                <a:lnTo>
                  <a:pt x="432" y="220"/>
                </a:lnTo>
                <a:lnTo>
                  <a:pt x="427" y="215"/>
                </a:lnTo>
                <a:lnTo>
                  <a:pt x="422" y="211"/>
                </a:lnTo>
                <a:lnTo>
                  <a:pt x="417" y="207"/>
                </a:lnTo>
                <a:lnTo>
                  <a:pt x="412" y="202"/>
                </a:lnTo>
                <a:lnTo>
                  <a:pt x="407" y="198"/>
                </a:lnTo>
                <a:lnTo>
                  <a:pt x="402" y="194"/>
                </a:lnTo>
                <a:lnTo>
                  <a:pt x="396" y="190"/>
                </a:lnTo>
                <a:lnTo>
                  <a:pt x="391" y="186"/>
                </a:lnTo>
                <a:lnTo>
                  <a:pt x="386" y="182"/>
                </a:lnTo>
                <a:lnTo>
                  <a:pt x="380" y="178"/>
                </a:lnTo>
                <a:lnTo>
                  <a:pt x="375" y="174"/>
                </a:lnTo>
                <a:lnTo>
                  <a:pt x="370" y="170"/>
                </a:lnTo>
                <a:lnTo>
                  <a:pt x="364" y="166"/>
                </a:lnTo>
                <a:lnTo>
                  <a:pt x="359" y="162"/>
                </a:lnTo>
                <a:lnTo>
                  <a:pt x="353" y="158"/>
                </a:lnTo>
                <a:lnTo>
                  <a:pt x="348" y="154"/>
                </a:lnTo>
                <a:lnTo>
                  <a:pt x="342" y="150"/>
                </a:lnTo>
                <a:lnTo>
                  <a:pt x="337" y="146"/>
                </a:lnTo>
                <a:lnTo>
                  <a:pt x="331" y="143"/>
                </a:lnTo>
                <a:lnTo>
                  <a:pt x="326" y="139"/>
                </a:lnTo>
                <a:lnTo>
                  <a:pt x="320" y="135"/>
                </a:lnTo>
                <a:lnTo>
                  <a:pt x="314" y="132"/>
                </a:lnTo>
                <a:lnTo>
                  <a:pt x="309" y="128"/>
                </a:lnTo>
                <a:lnTo>
                  <a:pt x="303" y="125"/>
                </a:lnTo>
                <a:lnTo>
                  <a:pt x="297" y="121"/>
                </a:lnTo>
                <a:lnTo>
                  <a:pt x="292" y="118"/>
                </a:lnTo>
                <a:lnTo>
                  <a:pt x="286" y="114"/>
                </a:lnTo>
                <a:lnTo>
                  <a:pt x="280" y="111"/>
                </a:lnTo>
                <a:lnTo>
                  <a:pt x="274" y="107"/>
                </a:lnTo>
                <a:lnTo>
                  <a:pt x="268" y="104"/>
                </a:lnTo>
                <a:lnTo>
                  <a:pt x="262" y="101"/>
                </a:lnTo>
                <a:lnTo>
                  <a:pt x="256" y="97"/>
                </a:lnTo>
                <a:lnTo>
                  <a:pt x="251" y="94"/>
                </a:lnTo>
                <a:lnTo>
                  <a:pt x="245" y="91"/>
                </a:lnTo>
                <a:lnTo>
                  <a:pt x="239" y="88"/>
                </a:lnTo>
                <a:lnTo>
                  <a:pt x="233" y="85"/>
                </a:lnTo>
                <a:lnTo>
                  <a:pt x="226" y="82"/>
                </a:lnTo>
                <a:lnTo>
                  <a:pt x="220" y="79"/>
                </a:lnTo>
                <a:lnTo>
                  <a:pt x="214" y="76"/>
                </a:lnTo>
                <a:lnTo>
                  <a:pt x="208" y="73"/>
                </a:lnTo>
                <a:lnTo>
                  <a:pt x="202" y="70"/>
                </a:lnTo>
                <a:lnTo>
                  <a:pt x="196" y="67"/>
                </a:lnTo>
                <a:lnTo>
                  <a:pt x="190" y="64"/>
                </a:lnTo>
                <a:lnTo>
                  <a:pt x="183" y="61"/>
                </a:lnTo>
                <a:lnTo>
                  <a:pt x="177" y="59"/>
                </a:lnTo>
                <a:lnTo>
                  <a:pt x="171" y="56"/>
                </a:lnTo>
                <a:lnTo>
                  <a:pt x="165" y="53"/>
                </a:lnTo>
                <a:lnTo>
                  <a:pt x="158" y="51"/>
                </a:lnTo>
                <a:lnTo>
                  <a:pt x="152" y="48"/>
                </a:lnTo>
                <a:lnTo>
                  <a:pt x="146" y="45"/>
                </a:lnTo>
                <a:lnTo>
                  <a:pt x="139" y="43"/>
                </a:lnTo>
                <a:lnTo>
                  <a:pt x="133" y="40"/>
                </a:lnTo>
                <a:lnTo>
                  <a:pt x="126" y="38"/>
                </a:lnTo>
                <a:lnTo>
                  <a:pt x="120" y="36"/>
                </a:lnTo>
                <a:lnTo>
                  <a:pt x="114" y="33"/>
                </a:lnTo>
                <a:lnTo>
                  <a:pt x="107" y="31"/>
                </a:lnTo>
                <a:lnTo>
                  <a:pt x="100" y="29"/>
                </a:lnTo>
                <a:lnTo>
                  <a:pt x="94" y="27"/>
                </a:lnTo>
                <a:lnTo>
                  <a:pt x="87" y="24"/>
                </a:lnTo>
                <a:lnTo>
                  <a:pt x="81" y="22"/>
                </a:lnTo>
                <a:lnTo>
                  <a:pt x="74" y="20"/>
                </a:lnTo>
                <a:lnTo>
                  <a:pt x="68" y="18"/>
                </a:lnTo>
                <a:lnTo>
                  <a:pt x="61" y="16"/>
                </a:lnTo>
                <a:lnTo>
                  <a:pt x="54" y="14"/>
                </a:lnTo>
                <a:lnTo>
                  <a:pt x="48" y="12"/>
                </a:lnTo>
                <a:lnTo>
                  <a:pt x="41" y="10"/>
                </a:lnTo>
                <a:lnTo>
                  <a:pt x="34" y="9"/>
                </a:lnTo>
                <a:lnTo>
                  <a:pt x="27" y="7"/>
                </a:lnTo>
                <a:lnTo>
                  <a:pt x="21" y="5"/>
                </a:lnTo>
                <a:lnTo>
                  <a:pt x="14" y="3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 rot="5340000">
            <a:off x="3171600" y="1600200"/>
            <a:ext cx="720720" cy="720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168720" y="1928880"/>
            <a:ext cx="726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A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 rot="5340000">
            <a:off x="5838480" y="3054240"/>
            <a:ext cx="720720" cy="72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6"/>
          <p:cNvSpPr/>
          <p:nvPr/>
        </p:nvSpPr>
        <p:spPr>
          <a:xfrm>
            <a:off x="5248440" y="3557520"/>
            <a:ext cx="645840" cy="181080"/>
          </a:xfrm>
          <a:custGeom>
            <a:avLst/>
            <a:gdLst>
              <a:gd name="textAreaLeft" fmla="*/ 0 w 645840"/>
              <a:gd name="textAreaRight" fmla="*/ 645840 w 6458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407" h="114">
                <a:moveTo>
                  <a:pt x="0" y="114"/>
                </a:moveTo>
                <a:lnTo>
                  <a:pt x="407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5794200" y="3403440"/>
            <a:ext cx="78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E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41440" y="5322960"/>
            <a:ext cx="76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L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9"/>
          <p:cNvSpPr/>
          <p:nvPr/>
        </p:nvSpPr>
        <p:spPr>
          <a:xfrm rot="5340000">
            <a:off x="1312560" y="3500280"/>
            <a:ext cx="723960" cy="720720"/>
          </a:xfrm>
          <a:prstGeom prst="ellipse">
            <a:avLst/>
          </a:prstGeom>
          <a:solidFill>
            <a:srgbClr val="808080"/>
          </a:solidFill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20"/>
          <p:cNvSpPr/>
          <p:nvPr/>
        </p:nvSpPr>
        <p:spPr>
          <a:xfrm>
            <a:off x="2036880" y="3699000"/>
            <a:ext cx="2504880" cy="161640"/>
          </a:xfrm>
          <a:custGeom>
            <a:avLst/>
            <a:gdLst>
              <a:gd name="textAreaLeft" fmla="*/ 0 w 2504880"/>
              <a:gd name="textAreaRight" fmla="*/ 2505240 w 250488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578" h="102">
                <a:moveTo>
                  <a:pt x="0" y="102"/>
                </a:moveTo>
                <a:lnTo>
                  <a:pt x="1578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281240" y="3786120"/>
            <a:ext cx="87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OLAN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2"/>
          <p:cNvSpPr/>
          <p:nvPr/>
        </p:nvSpPr>
        <p:spPr>
          <a:xfrm rot="5340000">
            <a:off x="3493440" y="4203720"/>
            <a:ext cx="723960" cy="7239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3490920" y="4494240"/>
            <a:ext cx="79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IDO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>
            <a:off x="4159080" y="4038480"/>
            <a:ext cx="446400" cy="324000"/>
          </a:xfrm>
          <a:custGeom>
            <a:avLst/>
            <a:gdLst>
              <a:gd name="textAreaLeft" fmla="*/ 0 w 446400"/>
              <a:gd name="textAreaRight" fmla="*/ 446760 w 4464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81" h="204">
                <a:moveTo>
                  <a:pt x="281" y="0"/>
                </a:moveTo>
                <a:lnTo>
                  <a:pt x="0" y="192"/>
                </a:lnTo>
                <a:lnTo>
                  <a:pt x="0" y="204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5"/>
          <p:cNvSpPr/>
          <p:nvPr/>
        </p:nvSpPr>
        <p:spPr>
          <a:xfrm rot="5340000">
            <a:off x="4524120" y="4610160"/>
            <a:ext cx="720720" cy="72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6"/>
          <p:cNvSpPr/>
          <p:nvPr/>
        </p:nvSpPr>
        <p:spPr>
          <a:xfrm>
            <a:off x="4863960" y="4143240"/>
            <a:ext cx="360" cy="465120"/>
          </a:xfrm>
          <a:custGeom>
            <a:avLst/>
            <a:gdLst/>
            <a:ahLst/>
            <a:rect l="l" t="t" r="r" b="b"/>
            <a:pathLst>
              <a:path w="0" h="293">
                <a:moveTo>
                  <a:pt x="0" y="0"/>
                </a:moveTo>
                <a:lnTo>
                  <a:pt x="0" y="293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4521240" y="4919760"/>
            <a:ext cx="747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8"/>
          <p:cNvSpPr/>
          <p:nvPr/>
        </p:nvSpPr>
        <p:spPr>
          <a:xfrm rot="5340000">
            <a:off x="5802120" y="2144520"/>
            <a:ext cx="723960" cy="720720"/>
          </a:xfrm>
          <a:prstGeom prst="ellipse">
            <a:avLst/>
          </a:prstGeom>
          <a:noFill/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5737320" y="2452680"/>
            <a:ext cx="936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ONAR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0"/>
          <p:cNvSpPr/>
          <p:nvPr/>
        </p:nvSpPr>
        <p:spPr>
          <a:xfrm rot="5340000">
            <a:off x="5212800" y="2385720"/>
            <a:ext cx="720720" cy="7239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1"/>
          <p:cNvSpPr/>
          <p:nvPr/>
        </p:nvSpPr>
        <p:spPr>
          <a:xfrm>
            <a:off x="5087880" y="3092400"/>
            <a:ext cx="303120" cy="403200"/>
          </a:xfrm>
          <a:custGeom>
            <a:avLst/>
            <a:gdLst>
              <a:gd name="textAreaLeft" fmla="*/ 0 w 303120"/>
              <a:gd name="textAreaRight" fmla="*/ 303480 w 3031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91" h="254">
                <a:moveTo>
                  <a:pt x="0" y="254"/>
                </a:moveTo>
                <a:lnTo>
                  <a:pt x="178" y="0"/>
                </a:lnTo>
                <a:lnTo>
                  <a:pt x="191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5208480" y="2697120"/>
            <a:ext cx="727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3"/>
          <p:cNvSpPr/>
          <p:nvPr/>
        </p:nvSpPr>
        <p:spPr>
          <a:xfrm rot="5340000">
            <a:off x="7594200" y="2205000"/>
            <a:ext cx="720720" cy="723960"/>
          </a:xfrm>
          <a:prstGeom prst="ellipse">
            <a:avLst/>
          </a:prstGeom>
          <a:noFill/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4"/>
          <p:cNvSpPr/>
          <p:nvPr/>
        </p:nvSpPr>
        <p:spPr>
          <a:xfrm>
            <a:off x="5208480" y="2665440"/>
            <a:ext cx="2405160" cy="93168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1515" h="587">
                <a:moveTo>
                  <a:pt x="1515" y="2"/>
                </a:moveTo>
                <a:lnTo>
                  <a:pt x="1507" y="2"/>
                </a:lnTo>
                <a:lnTo>
                  <a:pt x="1500" y="2"/>
                </a:lnTo>
                <a:lnTo>
                  <a:pt x="1493" y="1"/>
                </a:lnTo>
                <a:lnTo>
                  <a:pt x="1486" y="1"/>
                </a:lnTo>
                <a:lnTo>
                  <a:pt x="1479" y="1"/>
                </a:lnTo>
                <a:lnTo>
                  <a:pt x="1472" y="0"/>
                </a:lnTo>
                <a:lnTo>
                  <a:pt x="1465" y="0"/>
                </a:lnTo>
                <a:lnTo>
                  <a:pt x="1458" y="0"/>
                </a:lnTo>
                <a:lnTo>
                  <a:pt x="1451" y="0"/>
                </a:lnTo>
                <a:lnTo>
                  <a:pt x="1443" y="0"/>
                </a:lnTo>
                <a:lnTo>
                  <a:pt x="1436" y="0"/>
                </a:lnTo>
                <a:lnTo>
                  <a:pt x="1429" y="0"/>
                </a:lnTo>
                <a:lnTo>
                  <a:pt x="1422" y="0"/>
                </a:lnTo>
                <a:lnTo>
                  <a:pt x="1415" y="0"/>
                </a:lnTo>
                <a:lnTo>
                  <a:pt x="1408" y="0"/>
                </a:lnTo>
                <a:lnTo>
                  <a:pt x="1401" y="0"/>
                </a:lnTo>
                <a:lnTo>
                  <a:pt x="1394" y="0"/>
                </a:lnTo>
                <a:lnTo>
                  <a:pt x="1387" y="0"/>
                </a:lnTo>
                <a:lnTo>
                  <a:pt x="1380" y="0"/>
                </a:lnTo>
                <a:lnTo>
                  <a:pt x="1373" y="0"/>
                </a:lnTo>
                <a:lnTo>
                  <a:pt x="1365" y="0"/>
                </a:lnTo>
                <a:lnTo>
                  <a:pt x="1358" y="0"/>
                </a:lnTo>
                <a:lnTo>
                  <a:pt x="1351" y="0"/>
                </a:lnTo>
                <a:lnTo>
                  <a:pt x="1344" y="1"/>
                </a:lnTo>
                <a:lnTo>
                  <a:pt x="1337" y="1"/>
                </a:lnTo>
                <a:lnTo>
                  <a:pt x="1330" y="1"/>
                </a:lnTo>
                <a:lnTo>
                  <a:pt x="1323" y="2"/>
                </a:lnTo>
                <a:lnTo>
                  <a:pt x="1316" y="2"/>
                </a:lnTo>
                <a:lnTo>
                  <a:pt x="1309" y="2"/>
                </a:lnTo>
                <a:lnTo>
                  <a:pt x="1302" y="3"/>
                </a:lnTo>
                <a:lnTo>
                  <a:pt x="1295" y="3"/>
                </a:lnTo>
                <a:lnTo>
                  <a:pt x="1288" y="3"/>
                </a:lnTo>
                <a:lnTo>
                  <a:pt x="1281" y="4"/>
                </a:lnTo>
                <a:lnTo>
                  <a:pt x="1274" y="4"/>
                </a:lnTo>
                <a:lnTo>
                  <a:pt x="1267" y="5"/>
                </a:lnTo>
                <a:lnTo>
                  <a:pt x="1260" y="5"/>
                </a:lnTo>
                <a:lnTo>
                  <a:pt x="1253" y="6"/>
                </a:lnTo>
                <a:lnTo>
                  <a:pt x="1246" y="6"/>
                </a:lnTo>
                <a:lnTo>
                  <a:pt x="1239" y="7"/>
                </a:lnTo>
                <a:lnTo>
                  <a:pt x="1232" y="8"/>
                </a:lnTo>
                <a:lnTo>
                  <a:pt x="1225" y="8"/>
                </a:lnTo>
                <a:lnTo>
                  <a:pt x="1218" y="9"/>
                </a:lnTo>
                <a:lnTo>
                  <a:pt x="1211" y="10"/>
                </a:lnTo>
                <a:lnTo>
                  <a:pt x="1204" y="10"/>
                </a:lnTo>
                <a:lnTo>
                  <a:pt x="1197" y="11"/>
                </a:lnTo>
                <a:lnTo>
                  <a:pt x="1190" y="12"/>
                </a:lnTo>
                <a:lnTo>
                  <a:pt x="1183" y="13"/>
                </a:lnTo>
                <a:lnTo>
                  <a:pt x="1176" y="14"/>
                </a:lnTo>
                <a:lnTo>
                  <a:pt x="1169" y="14"/>
                </a:lnTo>
                <a:lnTo>
                  <a:pt x="1162" y="15"/>
                </a:lnTo>
                <a:lnTo>
                  <a:pt x="1155" y="16"/>
                </a:lnTo>
                <a:lnTo>
                  <a:pt x="1148" y="17"/>
                </a:lnTo>
                <a:lnTo>
                  <a:pt x="1141" y="18"/>
                </a:lnTo>
                <a:lnTo>
                  <a:pt x="1134" y="19"/>
                </a:lnTo>
                <a:lnTo>
                  <a:pt x="1127" y="20"/>
                </a:lnTo>
                <a:lnTo>
                  <a:pt x="1120" y="21"/>
                </a:lnTo>
                <a:lnTo>
                  <a:pt x="1113" y="22"/>
                </a:lnTo>
                <a:lnTo>
                  <a:pt x="1106" y="23"/>
                </a:lnTo>
                <a:lnTo>
                  <a:pt x="1099" y="24"/>
                </a:lnTo>
                <a:lnTo>
                  <a:pt x="1092" y="25"/>
                </a:lnTo>
                <a:lnTo>
                  <a:pt x="1085" y="27"/>
                </a:lnTo>
                <a:lnTo>
                  <a:pt x="1078" y="28"/>
                </a:lnTo>
                <a:lnTo>
                  <a:pt x="1071" y="29"/>
                </a:lnTo>
                <a:lnTo>
                  <a:pt x="1065" y="30"/>
                </a:lnTo>
                <a:lnTo>
                  <a:pt x="1058" y="31"/>
                </a:lnTo>
                <a:lnTo>
                  <a:pt x="1051" y="33"/>
                </a:lnTo>
                <a:lnTo>
                  <a:pt x="1044" y="34"/>
                </a:lnTo>
                <a:lnTo>
                  <a:pt x="1037" y="35"/>
                </a:lnTo>
                <a:lnTo>
                  <a:pt x="1030" y="37"/>
                </a:lnTo>
                <a:lnTo>
                  <a:pt x="1023" y="38"/>
                </a:lnTo>
                <a:lnTo>
                  <a:pt x="1016" y="39"/>
                </a:lnTo>
                <a:lnTo>
                  <a:pt x="1010" y="41"/>
                </a:lnTo>
                <a:lnTo>
                  <a:pt x="1003" y="42"/>
                </a:lnTo>
                <a:lnTo>
                  <a:pt x="996" y="44"/>
                </a:lnTo>
                <a:lnTo>
                  <a:pt x="989" y="45"/>
                </a:lnTo>
                <a:lnTo>
                  <a:pt x="982" y="47"/>
                </a:lnTo>
                <a:lnTo>
                  <a:pt x="975" y="48"/>
                </a:lnTo>
                <a:lnTo>
                  <a:pt x="968" y="50"/>
                </a:lnTo>
                <a:lnTo>
                  <a:pt x="962" y="51"/>
                </a:lnTo>
                <a:lnTo>
                  <a:pt x="955" y="53"/>
                </a:lnTo>
                <a:lnTo>
                  <a:pt x="948" y="54"/>
                </a:lnTo>
                <a:lnTo>
                  <a:pt x="941" y="56"/>
                </a:lnTo>
                <a:lnTo>
                  <a:pt x="934" y="58"/>
                </a:lnTo>
                <a:lnTo>
                  <a:pt x="928" y="59"/>
                </a:lnTo>
                <a:lnTo>
                  <a:pt x="921" y="61"/>
                </a:lnTo>
                <a:lnTo>
                  <a:pt x="914" y="63"/>
                </a:lnTo>
                <a:lnTo>
                  <a:pt x="907" y="65"/>
                </a:lnTo>
                <a:lnTo>
                  <a:pt x="901" y="66"/>
                </a:lnTo>
                <a:lnTo>
                  <a:pt x="894" y="68"/>
                </a:lnTo>
                <a:lnTo>
                  <a:pt x="887" y="70"/>
                </a:lnTo>
                <a:lnTo>
                  <a:pt x="880" y="72"/>
                </a:lnTo>
                <a:lnTo>
                  <a:pt x="874" y="74"/>
                </a:lnTo>
                <a:lnTo>
                  <a:pt x="867" y="76"/>
                </a:lnTo>
                <a:lnTo>
                  <a:pt x="860" y="78"/>
                </a:lnTo>
                <a:lnTo>
                  <a:pt x="854" y="80"/>
                </a:lnTo>
                <a:lnTo>
                  <a:pt x="847" y="81"/>
                </a:lnTo>
                <a:lnTo>
                  <a:pt x="840" y="83"/>
                </a:lnTo>
                <a:lnTo>
                  <a:pt x="833" y="85"/>
                </a:lnTo>
                <a:lnTo>
                  <a:pt x="827" y="88"/>
                </a:lnTo>
                <a:lnTo>
                  <a:pt x="820" y="90"/>
                </a:lnTo>
                <a:lnTo>
                  <a:pt x="813" y="92"/>
                </a:lnTo>
                <a:lnTo>
                  <a:pt x="807" y="94"/>
                </a:lnTo>
                <a:lnTo>
                  <a:pt x="800" y="96"/>
                </a:lnTo>
                <a:lnTo>
                  <a:pt x="794" y="98"/>
                </a:lnTo>
                <a:lnTo>
                  <a:pt x="787" y="100"/>
                </a:lnTo>
                <a:lnTo>
                  <a:pt x="780" y="102"/>
                </a:lnTo>
                <a:lnTo>
                  <a:pt x="774" y="105"/>
                </a:lnTo>
                <a:lnTo>
                  <a:pt x="767" y="107"/>
                </a:lnTo>
                <a:lnTo>
                  <a:pt x="760" y="109"/>
                </a:lnTo>
                <a:lnTo>
                  <a:pt x="754" y="112"/>
                </a:lnTo>
                <a:lnTo>
                  <a:pt x="747" y="114"/>
                </a:lnTo>
                <a:lnTo>
                  <a:pt x="741" y="116"/>
                </a:lnTo>
                <a:lnTo>
                  <a:pt x="734" y="119"/>
                </a:lnTo>
                <a:lnTo>
                  <a:pt x="728" y="121"/>
                </a:lnTo>
                <a:lnTo>
                  <a:pt x="721" y="123"/>
                </a:lnTo>
                <a:lnTo>
                  <a:pt x="714" y="126"/>
                </a:lnTo>
                <a:lnTo>
                  <a:pt x="708" y="128"/>
                </a:lnTo>
                <a:lnTo>
                  <a:pt x="701" y="131"/>
                </a:lnTo>
                <a:lnTo>
                  <a:pt x="695" y="133"/>
                </a:lnTo>
                <a:lnTo>
                  <a:pt x="688" y="136"/>
                </a:lnTo>
                <a:lnTo>
                  <a:pt x="682" y="138"/>
                </a:lnTo>
                <a:lnTo>
                  <a:pt x="675" y="141"/>
                </a:lnTo>
                <a:lnTo>
                  <a:pt x="669" y="143"/>
                </a:lnTo>
                <a:lnTo>
                  <a:pt x="662" y="146"/>
                </a:lnTo>
                <a:lnTo>
                  <a:pt x="656" y="149"/>
                </a:lnTo>
                <a:lnTo>
                  <a:pt x="650" y="151"/>
                </a:lnTo>
                <a:lnTo>
                  <a:pt x="643" y="154"/>
                </a:lnTo>
                <a:lnTo>
                  <a:pt x="637" y="157"/>
                </a:lnTo>
                <a:lnTo>
                  <a:pt x="630" y="160"/>
                </a:lnTo>
                <a:lnTo>
                  <a:pt x="624" y="162"/>
                </a:lnTo>
                <a:lnTo>
                  <a:pt x="617" y="165"/>
                </a:lnTo>
                <a:lnTo>
                  <a:pt x="611" y="168"/>
                </a:lnTo>
                <a:lnTo>
                  <a:pt x="605" y="171"/>
                </a:lnTo>
                <a:lnTo>
                  <a:pt x="598" y="173"/>
                </a:lnTo>
                <a:lnTo>
                  <a:pt x="592" y="176"/>
                </a:lnTo>
                <a:lnTo>
                  <a:pt x="586" y="179"/>
                </a:lnTo>
                <a:lnTo>
                  <a:pt x="579" y="182"/>
                </a:lnTo>
                <a:lnTo>
                  <a:pt x="573" y="185"/>
                </a:lnTo>
                <a:lnTo>
                  <a:pt x="567" y="188"/>
                </a:lnTo>
                <a:lnTo>
                  <a:pt x="560" y="191"/>
                </a:lnTo>
                <a:lnTo>
                  <a:pt x="554" y="194"/>
                </a:lnTo>
                <a:lnTo>
                  <a:pt x="548" y="197"/>
                </a:lnTo>
                <a:lnTo>
                  <a:pt x="541" y="200"/>
                </a:lnTo>
                <a:lnTo>
                  <a:pt x="535" y="203"/>
                </a:lnTo>
                <a:lnTo>
                  <a:pt x="529" y="206"/>
                </a:lnTo>
                <a:lnTo>
                  <a:pt x="523" y="209"/>
                </a:lnTo>
                <a:lnTo>
                  <a:pt x="516" y="212"/>
                </a:lnTo>
                <a:lnTo>
                  <a:pt x="510" y="216"/>
                </a:lnTo>
                <a:lnTo>
                  <a:pt x="504" y="219"/>
                </a:lnTo>
                <a:lnTo>
                  <a:pt x="498" y="222"/>
                </a:lnTo>
                <a:lnTo>
                  <a:pt x="492" y="225"/>
                </a:lnTo>
                <a:lnTo>
                  <a:pt x="485" y="228"/>
                </a:lnTo>
                <a:lnTo>
                  <a:pt x="479" y="232"/>
                </a:lnTo>
                <a:lnTo>
                  <a:pt x="473" y="235"/>
                </a:lnTo>
                <a:lnTo>
                  <a:pt x="467" y="238"/>
                </a:lnTo>
                <a:lnTo>
                  <a:pt x="461" y="242"/>
                </a:lnTo>
                <a:lnTo>
                  <a:pt x="455" y="245"/>
                </a:lnTo>
                <a:lnTo>
                  <a:pt x="448" y="248"/>
                </a:lnTo>
                <a:lnTo>
                  <a:pt x="442" y="252"/>
                </a:lnTo>
                <a:lnTo>
                  <a:pt x="436" y="255"/>
                </a:lnTo>
                <a:lnTo>
                  <a:pt x="430" y="259"/>
                </a:lnTo>
                <a:lnTo>
                  <a:pt x="424" y="262"/>
                </a:lnTo>
                <a:lnTo>
                  <a:pt x="418" y="266"/>
                </a:lnTo>
                <a:lnTo>
                  <a:pt x="412" y="269"/>
                </a:lnTo>
                <a:lnTo>
                  <a:pt x="406" y="273"/>
                </a:lnTo>
                <a:lnTo>
                  <a:pt x="400" y="276"/>
                </a:lnTo>
                <a:lnTo>
                  <a:pt x="394" y="280"/>
                </a:lnTo>
                <a:lnTo>
                  <a:pt x="388" y="283"/>
                </a:lnTo>
                <a:lnTo>
                  <a:pt x="382" y="287"/>
                </a:lnTo>
                <a:lnTo>
                  <a:pt x="376" y="291"/>
                </a:lnTo>
                <a:lnTo>
                  <a:pt x="370" y="294"/>
                </a:lnTo>
                <a:lnTo>
                  <a:pt x="364" y="298"/>
                </a:lnTo>
                <a:lnTo>
                  <a:pt x="358" y="302"/>
                </a:lnTo>
                <a:lnTo>
                  <a:pt x="352" y="305"/>
                </a:lnTo>
                <a:lnTo>
                  <a:pt x="346" y="309"/>
                </a:lnTo>
                <a:lnTo>
                  <a:pt x="340" y="313"/>
                </a:lnTo>
                <a:lnTo>
                  <a:pt x="334" y="317"/>
                </a:lnTo>
                <a:lnTo>
                  <a:pt x="328" y="320"/>
                </a:lnTo>
                <a:lnTo>
                  <a:pt x="322" y="324"/>
                </a:lnTo>
                <a:lnTo>
                  <a:pt x="317" y="328"/>
                </a:lnTo>
                <a:lnTo>
                  <a:pt x="311" y="332"/>
                </a:lnTo>
                <a:lnTo>
                  <a:pt x="305" y="336"/>
                </a:lnTo>
                <a:lnTo>
                  <a:pt x="299" y="340"/>
                </a:lnTo>
                <a:lnTo>
                  <a:pt x="293" y="344"/>
                </a:lnTo>
                <a:lnTo>
                  <a:pt x="288" y="348"/>
                </a:lnTo>
                <a:lnTo>
                  <a:pt x="282" y="352"/>
                </a:lnTo>
                <a:lnTo>
                  <a:pt x="276" y="356"/>
                </a:lnTo>
                <a:lnTo>
                  <a:pt x="270" y="360"/>
                </a:lnTo>
                <a:lnTo>
                  <a:pt x="264" y="364"/>
                </a:lnTo>
                <a:lnTo>
                  <a:pt x="259" y="368"/>
                </a:lnTo>
                <a:lnTo>
                  <a:pt x="253" y="372"/>
                </a:lnTo>
                <a:lnTo>
                  <a:pt x="247" y="376"/>
                </a:lnTo>
                <a:lnTo>
                  <a:pt x="242" y="380"/>
                </a:lnTo>
                <a:lnTo>
                  <a:pt x="236" y="384"/>
                </a:lnTo>
                <a:lnTo>
                  <a:pt x="230" y="388"/>
                </a:lnTo>
                <a:lnTo>
                  <a:pt x="225" y="393"/>
                </a:lnTo>
                <a:lnTo>
                  <a:pt x="219" y="397"/>
                </a:lnTo>
                <a:lnTo>
                  <a:pt x="213" y="401"/>
                </a:lnTo>
                <a:lnTo>
                  <a:pt x="208" y="405"/>
                </a:lnTo>
                <a:lnTo>
                  <a:pt x="202" y="410"/>
                </a:lnTo>
                <a:lnTo>
                  <a:pt x="197" y="414"/>
                </a:lnTo>
                <a:lnTo>
                  <a:pt x="191" y="418"/>
                </a:lnTo>
                <a:lnTo>
                  <a:pt x="185" y="423"/>
                </a:lnTo>
                <a:lnTo>
                  <a:pt x="180" y="427"/>
                </a:lnTo>
                <a:lnTo>
                  <a:pt x="174" y="431"/>
                </a:lnTo>
                <a:lnTo>
                  <a:pt x="169" y="436"/>
                </a:lnTo>
                <a:lnTo>
                  <a:pt x="163" y="440"/>
                </a:lnTo>
                <a:lnTo>
                  <a:pt x="158" y="445"/>
                </a:lnTo>
                <a:lnTo>
                  <a:pt x="152" y="449"/>
                </a:lnTo>
                <a:lnTo>
                  <a:pt x="147" y="454"/>
                </a:lnTo>
                <a:lnTo>
                  <a:pt x="141" y="458"/>
                </a:lnTo>
                <a:lnTo>
                  <a:pt x="136" y="463"/>
                </a:lnTo>
                <a:lnTo>
                  <a:pt x="131" y="467"/>
                </a:lnTo>
                <a:lnTo>
                  <a:pt x="125" y="472"/>
                </a:lnTo>
                <a:lnTo>
                  <a:pt x="120" y="476"/>
                </a:lnTo>
                <a:lnTo>
                  <a:pt x="114" y="481"/>
                </a:lnTo>
                <a:lnTo>
                  <a:pt x="109" y="485"/>
                </a:lnTo>
                <a:lnTo>
                  <a:pt x="104" y="490"/>
                </a:lnTo>
                <a:lnTo>
                  <a:pt x="98" y="495"/>
                </a:lnTo>
                <a:lnTo>
                  <a:pt x="93" y="499"/>
                </a:lnTo>
                <a:lnTo>
                  <a:pt x="88" y="504"/>
                </a:lnTo>
                <a:lnTo>
                  <a:pt x="82" y="509"/>
                </a:lnTo>
                <a:lnTo>
                  <a:pt x="77" y="514"/>
                </a:lnTo>
                <a:lnTo>
                  <a:pt x="72" y="518"/>
                </a:lnTo>
                <a:lnTo>
                  <a:pt x="67" y="523"/>
                </a:lnTo>
                <a:lnTo>
                  <a:pt x="61" y="528"/>
                </a:lnTo>
                <a:lnTo>
                  <a:pt x="56" y="533"/>
                </a:lnTo>
                <a:lnTo>
                  <a:pt x="51" y="538"/>
                </a:lnTo>
                <a:lnTo>
                  <a:pt x="46" y="543"/>
                </a:lnTo>
                <a:lnTo>
                  <a:pt x="41" y="547"/>
                </a:lnTo>
                <a:lnTo>
                  <a:pt x="36" y="552"/>
                </a:lnTo>
                <a:lnTo>
                  <a:pt x="30" y="557"/>
                </a:lnTo>
                <a:lnTo>
                  <a:pt x="25" y="562"/>
                </a:lnTo>
                <a:lnTo>
                  <a:pt x="20" y="567"/>
                </a:lnTo>
                <a:lnTo>
                  <a:pt x="15" y="572"/>
                </a:lnTo>
                <a:lnTo>
                  <a:pt x="10" y="577"/>
                </a:lnTo>
                <a:lnTo>
                  <a:pt x="5" y="582"/>
                </a:lnTo>
                <a:lnTo>
                  <a:pt x="0" y="587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7613640" y="2535120"/>
            <a:ext cx="685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E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36"/>
          <p:cNvSpPr/>
          <p:nvPr/>
        </p:nvSpPr>
        <p:spPr>
          <a:xfrm rot="5340000">
            <a:off x="3132000" y="469800"/>
            <a:ext cx="723960" cy="7207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7"/>
          <p:cNvSpPr/>
          <p:nvPr/>
        </p:nvSpPr>
        <p:spPr>
          <a:xfrm>
            <a:off x="3652920" y="1152360"/>
            <a:ext cx="1293840" cy="230364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815" h="1451">
                <a:moveTo>
                  <a:pt x="815" y="1451"/>
                </a:moveTo>
                <a:lnTo>
                  <a:pt x="815" y="1444"/>
                </a:lnTo>
                <a:lnTo>
                  <a:pt x="815" y="1437"/>
                </a:lnTo>
                <a:lnTo>
                  <a:pt x="815" y="1430"/>
                </a:lnTo>
                <a:lnTo>
                  <a:pt x="815" y="1423"/>
                </a:lnTo>
                <a:lnTo>
                  <a:pt x="815" y="1415"/>
                </a:lnTo>
                <a:lnTo>
                  <a:pt x="814" y="1408"/>
                </a:lnTo>
                <a:lnTo>
                  <a:pt x="814" y="1401"/>
                </a:lnTo>
                <a:lnTo>
                  <a:pt x="814" y="1394"/>
                </a:lnTo>
                <a:lnTo>
                  <a:pt x="814" y="1387"/>
                </a:lnTo>
                <a:lnTo>
                  <a:pt x="814" y="1380"/>
                </a:lnTo>
                <a:lnTo>
                  <a:pt x="814" y="1373"/>
                </a:lnTo>
                <a:lnTo>
                  <a:pt x="813" y="1366"/>
                </a:lnTo>
                <a:lnTo>
                  <a:pt x="813" y="1359"/>
                </a:lnTo>
                <a:lnTo>
                  <a:pt x="813" y="1352"/>
                </a:lnTo>
                <a:lnTo>
                  <a:pt x="812" y="1345"/>
                </a:lnTo>
                <a:lnTo>
                  <a:pt x="812" y="1338"/>
                </a:lnTo>
                <a:lnTo>
                  <a:pt x="812" y="1331"/>
                </a:lnTo>
                <a:lnTo>
                  <a:pt x="811" y="1324"/>
                </a:lnTo>
                <a:lnTo>
                  <a:pt x="811" y="1317"/>
                </a:lnTo>
                <a:lnTo>
                  <a:pt x="810" y="1310"/>
                </a:lnTo>
                <a:lnTo>
                  <a:pt x="810" y="1303"/>
                </a:lnTo>
                <a:lnTo>
                  <a:pt x="809" y="1296"/>
                </a:lnTo>
                <a:lnTo>
                  <a:pt x="809" y="1289"/>
                </a:lnTo>
                <a:lnTo>
                  <a:pt x="808" y="1282"/>
                </a:lnTo>
                <a:lnTo>
                  <a:pt x="807" y="1275"/>
                </a:lnTo>
                <a:lnTo>
                  <a:pt x="807" y="1268"/>
                </a:lnTo>
                <a:lnTo>
                  <a:pt x="806" y="1261"/>
                </a:lnTo>
                <a:lnTo>
                  <a:pt x="805" y="1255"/>
                </a:lnTo>
                <a:lnTo>
                  <a:pt x="804" y="1248"/>
                </a:lnTo>
                <a:lnTo>
                  <a:pt x="804" y="1241"/>
                </a:lnTo>
                <a:lnTo>
                  <a:pt x="803" y="1234"/>
                </a:lnTo>
                <a:lnTo>
                  <a:pt x="802" y="1227"/>
                </a:lnTo>
                <a:lnTo>
                  <a:pt x="801" y="1220"/>
                </a:lnTo>
                <a:lnTo>
                  <a:pt x="800" y="1213"/>
                </a:lnTo>
                <a:lnTo>
                  <a:pt x="799" y="1206"/>
                </a:lnTo>
                <a:lnTo>
                  <a:pt x="798" y="1199"/>
                </a:lnTo>
                <a:lnTo>
                  <a:pt x="797" y="1192"/>
                </a:lnTo>
                <a:lnTo>
                  <a:pt x="796" y="1186"/>
                </a:lnTo>
                <a:lnTo>
                  <a:pt x="795" y="1179"/>
                </a:lnTo>
                <a:lnTo>
                  <a:pt x="794" y="1172"/>
                </a:lnTo>
                <a:lnTo>
                  <a:pt x="793" y="1165"/>
                </a:lnTo>
                <a:lnTo>
                  <a:pt x="792" y="1158"/>
                </a:lnTo>
                <a:lnTo>
                  <a:pt x="791" y="1151"/>
                </a:lnTo>
                <a:lnTo>
                  <a:pt x="790" y="1144"/>
                </a:lnTo>
                <a:lnTo>
                  <a:pt x="788" y="1138"/>
                </a:lnTo>
                <a:lnTo>
                  <a:pt x="787" y="1131"/>
                </a:lnTo>
                <a:lnTo>
                  <a:pt x="786" y="1124"/>
                </a:lnTo>
                <a:lnTo>
                  <a:pt x="785" y="1117"/>
                </a:lnTo>
                <a:lnTo>
                  <a:pt x="783" y="1110"/>
                </a:lnTo>
                <a:lnTo>
                  <a:pt x="782" y="1104"/>
                </a:lnTo>
                <a:lnTo>
                  <a:pt x="781" y="1097"/>
                </a:lnTo>
                <a:lnTo>
                  <a:pt x="779" y="1090"/>
                </a:lnTo>
                <a:lnTo>
                  <a:pt x="778" y="1083"/>
                </a:lnTo>
                <a:lnTo>
                  <a:pt x="776" y="1077"/>
                </a:lnTo>
                <a:lnTo>
                  <a:pt x="775" y="1070"/>
                </a:lnTo>
                <a:lnTo>
                  <a:pt x="773" y="1063"/>
                </a:lnTo>
                <a:lnTo>
                  <a:pt x="772" y="1056"/>
                </a:lnTo>
                <a:lnTo>
                  <a:pt x="770" y="1050"/>
                </a:lnTo>
                <a:lnTo>
                  <a:pt x="769" y="1043"/>
                </a:lnTo>
                <a:lnTo>
                  <a:pt x="767" y="1036"/>
                </a:lnTo>
                <a:lnTo>
                  <a:pt x="765" y="1029"/>
                </a:lnTo>
                <a:lnTo>
                  <a:pt x="764" y="1023"/>
                </a:lnTo>
                <a:lnTo>
                  <a:pt x="762" y="1016"/>
                </a:lnTo>
                <a:lnTo>
                  <a:pt x="760" y="1009"/>
                </a:lnTo>
                <a:lnTo>
                  <a:pt x="758" y="1003"/>
                </a:lnTo>
                <a:lnTo>
                  <a:pt x="757" y="996"/>
                </a:lnTo>
                <a:lnTo>
                  <a:pt x="755" y="990"/>
                </a:lnTo>
                <a:lnTo>
                  <a:pt x="753" y="983"/>
                </a:lnTo>
                <a:lnTo>
                  <a:pt x="751" y="976"/>
                </a:lnTo>
                <a:lnTo>
                  <a:pt x="749" y="970"/>
                </a:lnTo>
                <a:lnTo>
                  <a:pt x="747" y="963"/>
                </a:lnTo>
                <a:lnTo>
                  <a:pt x="745" y="956"/>
                </a:lnTo>
                <a:lnTo>
                  <a:pt x="743" y="950"/>
                </a:lnTo>
                <a:lnTo>
                  <a:pt x="741" y="943"/>
                </a:lnTo>
                <a:lnTo>
                  <a:pt x="739" y="937"/>
                </a:lnTo>
                <a:lnTo>
                  <a:pt x="737" y="930"/>
                </a:lnTo>
                <a:lnTo>
                  <a:pt x="735" y="924"/>
                </a:lnTo>
                <a:lnTo>
                  <a:pt x="733" y="917"/>
                </a:lnTo>
                <a:lnTo>
                  <a:pt x="731" y="911"/>
                </a:lnTo>
                <a:lnTo>
                  <a:pt x="729" y="904"/>
                </a:lnTo>
                <a:lnTo>
                  <a:pt x="727" y="898"/>
                </a:lnTo>
                <a:lnTo>
                  <a:pt x="724" y="891"/>
                </a:lnTo>
                <a:lnTo>
                  <a:pt x="722" y="885"/>
                </a:lnTo>
                <a:lnTo>
                  <a:pt x="720" y="878"/>
                </a:lnTo>
                <a:lnTo>
                  <a:pt x="718" y="872"/>
                </a:lnTo>
                <a:lnTo>
                  <a:pt x="715" y="865"/>
                </a:lnTo>
                <a:lnTo>
                  <a:pt x="713" y="859"/>
                </a:lnTo>
                <a:lnTo>
                  <a:pt x="710" y="852"/>
                </a:lnTo>
                <a:lnTo>
                  <a:pt x="708" y="846"/>
                </a:lnTo>
                <a:lnTo>
                  <a:pt x="706" y="839"/>
                </a:lnTo>
                <a:lnTo>
                  <a:pt x="703" y="833"/>
                </a:lnTo>
                <a:lnTo>
                  <a:pt x="701" y="827"/>
                </a:lnTo>
                <a:lnTo>
                  <a:pt x="698" y="820"/>
                </a:lnTo>
                <a:lnTo>
                  <a:pt x="696" y="814"/>
                </a:lnTo>
                <a:lnTo>
                  <a:pt x="693" y="808"/>
                </a:lnTo>
                <a:lnTo>
                  <a:pt x="691" y="801"/>
                </a:lnTo>
                <a:lnTo>
                  <a:pt x="688" y="795"/>
                </a:lnTo>
                <a:lnTo>
                  <a:pt x="685" y="789"/>
                </a:lnTo>
                <a:lnTo>
                  <a:pt x="683" y="782"/>
                </a:lnTo>
                <a:lnTo>
                  <a:pt x="680" y="776"/>
                </a:lnTo>
                <a:lnTo>
                  <a:pt x="677" y="770"/>
                </a:lnTo>
                <a:lnTo>
                  <a:pt x="674" y="763"/>
                </a:lnTo>
                <a:lnTo>
                  <a:pt x="672" y="757"/>
                </a:lnTo>
                <a:lnTo>
                  <a:pt x="669" y="751"/>
                </a:lnTo>
                <a:lnTo>
                  <a:pt x="666" y="745"/>
                </a:lnTo>
                <a:lnTo>
                  <a:pt x="663" y="738"/>
                </a:lnTo>
                <a:lnTo>
                  <a:pt x="660" y="732"/>
                </a:lnTo>
                <a:lnTo>
                  <a:pt x="658" y="726"/>
                </a:lnTo>
                <a:lnTo>
                  <a:pt x="655" y="720"/>
                </a:lnTo>
                <a:lnTo>
                  <a:pt x="652" y="714"/>
                </a:lnTo>
                <a:lnTo>
                  <a:pt x="649" y="707"/>
                </a:lnTo>
                <a:lnTo>
                  <a:pt x="646" y="701"/>
                </a:lnTo>
                <a:lnTo>
                  <a:pt x="643" y="695"/>
                </a:lnTo>
                <a:lnTo>
                  <a:pt x="640" y="689"/>
                </a:lnTo>
                <a:lnTo>
                  <a:pt x="637" y="683"/>
                </a:lnTo>
                <a:lnTo>
                  <a:pt x="633" y="677"/>
                </a:lnTo>
                <a:lnTo>
                  <a:pt x="630" y="671"/>
                </a:lnTo>
                <a:lnTo>
                  <a:pt x="627" y="665"/>
                </a:lnTo>
                <a:lnTo>
                  <a:pt x="624" y="659"/>
                </a:lnTo>
                <a:lnTo>
                  <a:pt x="621" y="653"/>
                </a:lnTo>
                <a:lnTo>
                  <a:pt x="618" y="647"/>
                </a:lnTo>
                <a:lnTo>
                  <a:pt x="614" y="640"/>
                </a:lnTo>
                <a:lnTo>
                  <a:pt x="611" y="634"/>
                </a:lnTo>
                <a:lnTo>
                  <a:pt x="608" y="628"/>
                </a:lnTo>
                <a:lnTo>
                  <a:pt x="605" y="622"/>
                </a:lnTo>
                <a:lnTo>
                  <a:pt x="601" y="617"/>
                </a:lnTo>
                <a:lnTo>
                  <a:pt x="598" y="611"/>
                </a:lnTo>
                <a:lnTo>
                  <a:pt x="594" y="605"/>
                </a:lnTo>
                <a:lnTo>
                  <a:pt x="591" y="599"/>
                </a:lnTo>
                <a:lnTo>
                  <a:pt x="588" y="593"/>
                </a:lnTo>
                <a:lnTo>
                  <a:pt x="584" y="587"/>
                </a:lnTo>
                <a:lnTo>
                  <a:pt x="581" y="581"/>
                </a:lnTo>
                <a:lnTo>
                  <a:pt x="577" y="575"/>
                </a:lnTo>
                <a:lnTo>
                  <a:pt x="574" y="569"/>
                </a:lnTo>
                <a:lnTo>
                  <a:pt x="570" y="563"/>
                </a:lnTo>
                <a:lnTo>
                  <a:pt x="566" y="558"/>
                </a:lnTo>
                <a:lnTo>
                  <a:pt x="563" y="552"/>
                </a:lnTo>
                <a:lnTo>
                  <a:pt x="559" y="546"/>
                </a:lnTo>
                <a:lnTo>
                  <a:pt x="556" y="540"/>
                </a:lnTo>
                <a:lnTo>
                  <a:pt x="552" y="534"/>
                </a:lnTo>
                <a:lnTo>
                  <a:pt x="548" y="529"/>
                </a:lnTo>
                <a:lnTo>
                  <a:pt x="545" y="523"/>
                </a:lnTo>
                <a:lnTo>
                  <a:pt x="541" y="517"/>
                </a:lnTo>
                <a:lnTo>
                  <a:pt x="537" y="512"/>
                </a:lnTo>
                <a:lnTo>
                  <a:pt x="533" y="506"/>
                </a:lnTo>
                <a:lnTo>
                  <a:pt x="529" y="500"/>
                </a:lnTo>
                <a:lnTo>
                  <a:pt x="526" y="494"/>
                </a:lnTo>
                <a:lnTo>
                  <a:pt x="522" y="489"/>
                </a:lnTo>
                <a:lnTo>
                  <a:pt x="518" y="483"/>
                </a:lnTo>
                <a:lnTo>
                  <a:pt x="514" y="478"/>
                </a:lnTo>
                <a:lnTo>
                  <a:pt x="510" y="472"/>
                </a:lnTo>
                <a:lnTo>
                  <a:pt x="506" y="466"/>
                </a:lnTo>
                <a:lnTo>
                  <a:pt x="502" y="461"/>
                </a:lnTo>
                <a:lnTo>
                  <a:pt x="498" y="455"/>
                </a:lnTo>
                <a:lnTo>
                  <a:pt x="494" y="450"/>
                </a:lnTo>
                <a:lnTo>
                  <a:pt x="490" y="444"/>
                </a:lnTo>
                <a:lnTo>
                  <a:pt x="486" y="439"/>
                </a:lnTo>
                <a:lnTo>
                  <a:pt x="482" y="433"/>
                </a:lnTo>
                <a:lnTo>
                  <a:pt x="478" y="428"/>
                </a:lnTo>
                <a:lnTo>
                  <a:pt x="473" y="422"/>
                </a:lnTo>
                <a:lnTo>
                  <a:pt x="469" y="417"/>
                </a:lnTo>
                <a:lnTo>
                  <a:pt x="465" y="411"/>
                </a:lnTo>
                <a:lnTo>
                  <a:pt x="461" y="406"/>
                </a:lnTo>
                <a:lnTo>
                  <a:pt x="457" y="401"/>
                </a:lnTo>
                <a:lnTo>
                  <a:pt x="452" y="395"/>
                </a:lnTo>
                <a:lnTo>
                  <a:pt x="448" y="390"/>
                </a:lnTo>
                <a:lnTo>
                  <a:pt x="444" y="385"/>
                </a:lnTo>
                <a:lnTo>
                  <a:pt x="439" y="379"/>
                </a:lnTo>
                <a:lnTo>
                  <a:pt x="435" y="374"/>
                </a:lnTo>
                <a:lnTo>
                  <a:pt x="431" y="369"/>
                </a:lnTo>
                <a:lnTo>
                  <a:pt x="426" y="363"/>
                </a:lnTo>
                <a:lnTo>
                  <a:pt x="422" y="358"/>
                </a:lnTo>
                <a:lnTo>
                  <a:pt x="417" y="353"/>
                </a:lnTo>
                <a:lnTo>
                  <a:pt x="413" y="348"/>
                </a:lnTo>
                <a:lnTo>
                  <a:pt x="409" y="342"/>
                </a:lnTo>
                <a:lnTo>
                  <a:pt x="404" y="337"/>
                </a:lnTo>
                <a:lnTo>
                  <a:pt x="400" y="332"/>
                </a:lnTo>
                <a:lnTo>
                  <a:pt x="395" y="327"/>
                </a:lnTo>
                <a:lnTo>
                  <a:pt x="390" y="322"/>
                </a:lnTo>
                <a:lnTo>
                  <a:pt x="386" y="317"/>
                </a:lnTo>
                <a:lnTo>
                  <a:pt x="381" y="312"/>
                </a:lnTo>
                <a:lnTo>
                  <a:pt x="377" y="306"/>
                </a:lnTo>
                <a:lnTo>
                  <a:pt x="372" y="301"/>
                </a:lnTo>
                <a:lnTo>
                  <a:pt x="367" y="296"/>
                </a:lnTo>
                <a:lnTo>
                  <a:pt x="362" y="291"/>
                </a:lnTo>
                <a:lnTo>
                  <a:pt x="358" y="286"/>
                </a:lnTo>
                <a:lnTo>
                  <a:pt x="353" y="281"/>
                </a:lnTo>
                <a:lnTo>
                  <a:pt x="348" y="276"/>
                </a:lnTo>
                <a:lnTo>
                  <a:pt x="343" y="271"/>
                </a:lnTo>
                <a:lnTo>
                  <a:pt x="339" y="267"/>
                </a:lnTo>
                <a:lnTo>
                  <a:pt x="334" y="262"/>
                </a:lnTo>
                <a:lnTo>
                  <a:pt x="329" y="257"/>
                </a:lnTo>
                <a:lnTo>
                  <a:pt x="324" y="252"/>
                </a:lnTo>
                <a:lnTo>
                  <a:pt x="319" y="247"/>
                </a:lnTo>
                <a:lnTo>
                  <a:pt x="314" y="242"/>
                </a:lnTo>
                <a:lnTo>
                  <a:pt x="309" y="237"/>
                </a:lnTo>
                <a:lnTo>
                  <a:pt x="304" y="233"/>
                </a:lnTo>
                <a:lnTo>
                  <a:pt x="299" y="228"/>
                </a:lnTo>
                <a:lnTo>
                  <a:pt x="294" y="223"/>
                </a:lnTo>
                <a:lnTo>
                  <a:pt x="289" y="218"/>
                </a:lnTo>
                <a:lnTo>
                  <a:pt x="284" y="214"/>
                </a:lnTo>
                <a:lnTo>
                  <a:pt x="279" y="209"/>
                </a:lnTo>
                <a:lnTo>
                  <a:pt x="274" y="204"/>
                </a:lnTo>
                <a:lnTo>
                  <a:pt x="269" y="199"/>
                </a:lnTo>
                <a:lnTo>
                  <a:pt x="264" y="195"/>
                </a:lnTo>
                <a:lnTo>
                  <a:pt x="259" y="190"/>
                </a:lnTo>
                <a:lnTo>
                  <a:pt x="253" y="186"/>
                </a:lnTo>
                <a:lnTo>
                  <a:pt x="248" y="181"/>
                </a:lnTo>
                <a:lnTo>
                  <a:pt x="243" y="176"/>
                </a:lnTo>
                <a:lnTo>
                  <a:pt x="238" y="172"/>
                </a:lnTo>
                <a:lnTo>
                  <a:pt x="233" y="167"/>
                </a:lnTo>
                <a:lnTo>
                  <a:pt x="227" y="163"/>
                </a:lnTo>
                <a:lnTo>
                  <a:pt x="222" y="158"/>
                </a:lnTo>
                <a:lnTo>
                  <a:pt x="217" y="154"/>
                </a:lnTo>
                <a:lnTo>
                  <a:pt x="211" y="149"/>
                </a:lnTo>
                <a:lnTo>
                  <a:pt x="206" y="145"/>
                </a:lnTo>
                <a:lnTo>
                  <a:pt x="201" y="141"/>
                </a:lnTo>
                <a:lnTo>
                  <a:pt x="195" y="136"/>
                </a:lnTo>
                <a:lnTo>
                  <a:pt x="190" y="132"/>
                </a:lnTo>
                <a:lnTo>
                  <a:pt x="184" y="128"/>
                </a:lnTo>
                <a:lnTo>
                  <a:pt x="179" y="123"/>
                </a:lnTo>
                <a:lnTo>
                  <a:pt x="173" y="119"/>
                </a:lnTo>
                <a:lnTo>
                  <a:pt x="168" y="115"/>
                </a:lnTo>
                <a:lnTo>
                  <a:pt x="162" y="110"/>
                </a:lnTo>
                <a:lnTo>
                  <a:pt x="157" y="106"/>
                </a:lnTo>
                <a:lnTo>
                  <a:pt x="151" y="102"/>
                </a:lnTo>
                <a:lnTo>
                  <a:pt x="146" y="98"/>
                </a:lnTo>
                <a:lnTo>
                  <a:pt x="140" y="94"/>
                </a:lnTo>
                <a:lnTo>
                  <a:pt x="134" y="90"/>
                </a:lnTo>
                <a:lnTo>
                  <a:pt x="129" y="85"/>
                </a:lnTo>
                <a:lnTo>
                  <a:pt x="123" y="81"/>
                </a:lnTo>
                <a:lnTo>
                  <a:pt x="117" y="77"/>
                </a:lnTo>
                <a:lnTo>
                  <a:pt x="112" y="73"/>
                </a:lnTo>
                <a:lnTo>
                  <a:pt x="106" y="69"/>
                </a:lnTo>
                <a:lnTo>
                  <a:pt x="100" y="65"/>
                </a:lnTo>
                <a:lnTo>
                  <a:pt x="94" y="61"/>
                </a:lnTo>
                <a:lnTo>
                  <a:pt x="89" y="57"/>
                </a:lnTo>
                <a:lnTo>
                  <a:pt x="83" y="53"/>
                </a:lnTo>
                <a:lnTo>
                  <a:pt x="77" y="49"/>
                </a:lnTo>
                <a:lnTo>
                  <a:pt x="71" y="45"/>
                </a:lnTo>
                <a:lnTo>
                  <a:pt x="65" y="42"/>
                </a:lnTo>
                <a:lnTo>
                  <a:pt x="59" y="38"/>
                </a:lnTo>
                <a:lnTo>
                  <a:pt x="54" y="34"/>
                </a:lnTo>
                <a:lnTo>
                  <a:pt x="48" y="30"/>
                </a:lnTo>
                <a:lnTo>
                  <a:pt x="42" y="26"/>
                </a:lnTo>
                <a:lnTo>
                  <a:pt x="36" y="22"/>
                </a:lnTo>
                <a:lnTo>
                  <a:pt x="30" y="19"/>
                </a:lnTo>
                <a:lnTo>
                  <a:pt x="24" y="15"/>
                </a:lnTo>
                <a:lnTo>
                  <a:pt x="18" y="11"/>
                </a:lnTo>
                <a:lnTo>
                  <a:pt x="12" y="8"/>
                </a:lnTo>
                <a:lnTo>
                  <a:pt x="6" y="4"/>
                </a:lnTo>
                <a:lnTo>
                  <a:pt x="0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3067200" y="758880"/>
            <a:ext cx="86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ASP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9"/>
          <p:cNvSpPr/>
          <p:nvPr/>
        </p:nvSpPr>
        <p:spPr>
          <a:xfrm rot="5340000">
            <a:off x="6422760" y="2792520"/>
            <a:ext cx="720720" cy="720720"/>
          </a:xfrm>
          <a:prstGeom prst="ellipse">
            <a:avLst/>
          </a:prstGeom>
          <a:noFill/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0"/>
          <p:cNvSpPr/>
          <p:nvPr/>
        </p:nvSpPr>
        <p:spPr>
          <a:xfrm>
            <a:off x="6357960" y="3100320"/>
            <a:ext cx="934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MUAL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-111240" y="127080"/>
            <a:ext cx="9972720" cy="70070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"/>
          <p:cNvSpPr/>
          <p:nvPr/>
        </p:nvSpPr>
        <p:spPr>
          <a:xfrm rot="5340000">
            <a:off x="4725720" y="3541680"/>
            <a:ext cx="723960" cy="720720"/>
          </a:xfrm>
          <a:prstGeom prst="ellipse">
            <a:avLst/>
          </a:prstGeom>
          <a:solidFill>
            <a:srgbClr val="808080"/>
          </a:solidFill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 rot="5340000">
            <a:off x="4504680" y="3416040"/>
            <a:ext cx="720720" cy="723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"/>
          <p:cNvSpPr/>
          <p:nvPr/>
        </p:nvSpPr>
        <p:spPr>
          <a:xfrm>
            <a:off x="1185840" y="3881520"/>
            <a:ext cx="3355920" cy="125100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2114" h="788">
                <a:moveTo>
                  <a:pt x="2114" y="0"/>
                </a:moveTo>
                <a:lnTo>
                  <a:pt x="2107" y="1"/>
                </a:lnTo>
                <a:lnTo>
                  <a:pt x="2100" y="2"/>
                </a:lnTo>
                <a:lnTo>
                  <a:pt x="2093" y="3"/>
                </a:lnTo>
                <a:lnTo>
                  <a:pt x="2086" y="4"/>
                </a:lnTo>
                <a:lnTo>
                  <a:pt x="2079" y="5"/>
                </a:lnTo>
                <a:lnTo>
                  <a:pt x="2072" y="7"/>
                </a:lnTo>
                <a:lnTo>
                  <a:pt x="2065" y="8"/>
                </a:lnTo>
                <a:lnTo>
                  <a:pt x="2057" y="9"/>
                </a:lnTo>
                <a:lnTo>
                  <a:pt x="2050" y="10"/>
                </a:lnTo>
                <a:lnTo>
                  <a:pt x="2043" y="11"/>
                </a:lnTo>
                <a:lnTo>
                  <a:pt x="2036" y="13"/>
                </a:lnTo>
                <a:lnTo>
                  <a:pt x="2029" y="14"/>
                </a:lnTo>
                <a:lnTo>
                  <a:pt x="2022" y="15"/>
                </a:lnTo>
                <a:lnTo>
                  <a:pt x="2015" y="16"/>
                </a:lnTo>
                <a:lnTo>
                  <a:pt x="2008" y="17"/>
                </a:lnTo>
                <a:lnTo>
                  <a:pt x="2001" y="19"/>
                </a:lnTo>
                <a:lnTo>
                  <a:pt x="1993" y="20"/>
                </a:lnTo>
                <a:lnTo>
                  <a:pt x="1986" y="21"/>
                </a:lnTo>
                <a:lnTo>
                  <a:pt x="1979" y="23"/>
                </a:lnTo>
                <a:lnTo>
                  <a:pt x="1972" y="24"/>
                </a:lnTo>
                <a:lnTo>
                  <a:pt x="1965" y="25"/>
                </a:lnTo>
                <a:lnTo>
                  <a:pt x="1958" y="26"/>
                </a:lnTo>
                <a:lnTo>
                  <a:pt x="1951" y="28"/>
                </a:lnTo>
                <a:lnTo>
                  <a:pt x="1944" y="29"/>
                </a:lnTo>
                <a:lnTo>
                  <a:pt x="1937" y="30"/>
                </a:lnTo>
                <a:lnTo>
                  <a:pt x="1930" y="32"/>
                </a:lnTo>
                <a:lnTo>
                  <a:pt x="1923" y="33"/>
                </a:lnTo>
                <a:lnTo>
                  <a:pt x="1916" y="35"/>
                </a:lnTo>
                <a:lnTo>
                  <a:pt x="1909" y="36"/>
                </a:lnTo>
                <a:lnTo>
                  <a:pt x="1901" y="37"/>
                </a:lnTo>
                <a:lnTo>
                  <a:pt x="1894" y="39"/>
                </a:lnTo>
                <a:lnTo>
                  <a:pt x="1887" y="40"/>
                </a:lnTo>
                <a:lnTo>
                  <a:pt x="1880" y="42"/>
                </a:lnTo>
                <a:lnTo>
                  <a:pt x="1873" y="43"/>
                </a:lnTo>
                <a:lnTo>
                  <a:pt x="1866" y="44"/>
                </a:lnTo>
                <a:lnTo>
                  <a:pt x="1859" y="46"/>
                </a:lnTo>
                <a:lnTo>
                  <a:pt x="1852" y="47"/>
                </a:lnTo>
                <a:lnTo>
                  <a:pt x="1845" y="49"/>
                </a:lnTo>
                <a:lnTo>
                  <a:pt x="1838" y="50"/>
                </a:lnTo>
                <a:lnTo>
                  <a:pt x="1831" y="52"/>
                </a:lnTo>
                <a:lnTo>
                  <a:pt x="1824" y="53"/>
                </a:lnTo>
                <a:lnTo>
                  <a:pt x="1817" y="55"/>
                </a:lnTo>
                <a:lnTo>
                  <a:pt x="1810" y="56"/>
                </a:lnTo>
                <a:lnTo>
                  <a:pt x="1803" y="58"/>
                </a:lnTo>
                <a:lnTo>
                  <a:pt x="1796" y="59"/>
                </a:lnTo>
                <a:lnTo>
                  <a:pt x="1789" y="61"/>
                </a:lnTo>
                <a:lnTo>
                  <a:pt x="1782" y="62"/>
                </a:lnTo>
                <a:lnTo>
                  <a:pt x="1775" y="64"/>
                </a:lnTo>
                <a:lnTo>
                  <a:pt x="1768" y="65"/>
                </a:lnTo>
                <a:lnTo>
                  <a:pt x="1761" y="67"/>
                </a:lnTo>
                <a:lnTo>
                  <a:pt x="1754" y="68"/>
                </a:lnTo>
                <a:lnTo>
                  <a:pt x="1747" y="70"/>
                </a:lnTo>
                <a:lnTo>
                  <a:pt x="1740" y="72"/>
                </a:lnTo>
                <a:lnTo>
                  <a:pt x="1733" y="73"/>
                </a:lnTo>
                <a:lnTo>
                  <a:pt x="1726" y="75"/>
                </a:lnTo>
                <a:lnTo>
                  <a:pt x="1719" y="76"/>
                </a:lnTo>
                <a:lnTo>
                  <a:pt x="1712" y="78"/>
                </a:lnTo>
                <a:lnTo>
                  <a:pt x="1705" y="80"/>
                </a:lnTo>
                <a:lnTo>
                  <a:pt x="1698" y="81"/>
                </a:lnTo>
                <a:lnTo>
                  <a:pt x="1691" y="83"/>
                </a:lnTo>
                <a:lnTo>
                  <a:pt x="1684" y="85"/>
                </a:lnTo>
                <a:lnTo>
                  <a:pt x="1677" y="86"/>
                </a:lnTo>
                <a:lnTo>
                  <a:pt x="1670" y="88"/>
                </a:lnTo>
                <a:lnTo>
                  <a:pt x="1663" y="90"/>
                </a:lnTo>
                <a:lnTo>
                  <a:pt x="1656" y="91"/>
                </a:lnTo>
                <a:lnTo>
                  <a:pt x="1649" y="93"/>
                </a:lnTo>
                <a:lnTo>
                  <a:pt x="1642" y="95"/>
                </a:lnTo>
                <a:lnTo>
                  <a:pt x="1635" y="97"/>
                </a:lnTo>
                <a:lnTo>
                  <a:pt x="1628" y="98"/>
                </a:lnTo>
                <a:lnTo>
                  <a:pt x="1621" y="100"/>
                </a:lnTo>
                <a:lnTo>
                  <a:pt x="1614" y="102"/>
                </a:lnTo>
                <a:lnTo>
                  <a:pt x="1607" y="103"/>
                </a:lnTo>
                <a:lnTo>
                  <a:pt x="1600" y="105"/>
                </a:lnTo>
                <a:lnTo>
                  <a:pt x="1593" y="107"/>
                </a:lnTo>
                <a:lnTo>
                  <a:pt x="1586" y="109"/>
                </a:lnTo>
                <a:lnTo>
                  <a:pt x="1579" y="111"/>
                </a:lnTo>
                <a:lnTo>
                  <a:pt x="1572" y="112"/>
                </a:lnTo>
                <a:lnTo>
                  <a:pt x="1565" y="114"/>
                </a:lnTo>
                <a:lnTo>
                  <a:pt x="1558" y="116"/>
                </a:lnTo>
                <a:lnTo>
                  <a:pt x="1551" y="118"/>
                </a:lnTo>
                <a:lnTo>
                  <a:pt x="1544" y="120"/>
                </a:lnTo>
                <a:lnTo>
                  <a:pt x="1537" y="122"/>
                </a:lnTo>
                <a:lnTo>
                  <a:pt x="1530" y="123"/>
                </a:lnTo>
                <a:lnTo>
                  <a:pt x="1523" y="125"/>
                </a:lnTo>
                <a:lnTo>
                  <a:pt x="1516" y="127"/>
                </a:lnTo>
                <a:lnTo>
                  <a:pt x="1509" y="129"/>
                </a:lnTo>
                <a:lnTo>
                  <a:pt x="1503" y="131"/>
                </a:lnTo>
                <a:lnTo>
                  <a:pt x="1496" y="133"/>
                </a:lnTo>
                <a:lnTo>
                  <a:pt x="1489" y="135"/>
                </a:lnTo>
                <a:lnTo>
                  <a:pt x="1482" y="137"/>
                </a:lnTo>
                <a:lnTo>
                  <a:pt x="1475" y="139"/>
                </a:lnTo>
                <a:lnTo>
                  <a:pt x="1468" y="140"/>
                </a:lnTo>
                <a:lnTo>
                  <a:pt x="1461" y="142"/>
                </a:lnTo>
                <a:lnTo>
                  <a:pt x="1454" y="144"/>
                </a:lnTo>
                <a:lnTo>
                  <a:pt x="1447" y="146"/>
                </a:lnTo>
                <a:lnTo>
                  <a:pt x="1440" y="148"/>
                </a:lnTo>
                <a:lnTo>
                  <a:pt x="1433" y="150"/>
                </a:lnTo>
                <a:lnTo>
                  <a:pt x="1426" y="152"/>
                </a:lnTo>
                <a:lnTo>
                  <a:pt x="1420" y="154"/>
                </a:lnTo>
                <a:lnTo>
                  <a:pt x="1413" y="156"/>
                </a:lnTo>
                <a:lnTo>
                  <a:pt x="1406" y="158"/>
                </a:lnTo>
                <a:lnTo>
                  <a:pt x="1399" y="160"/>
                </a:lnTo>
                <a:lnTo>
                  <a:pt x="1392" y="162"/>
                </a:lnTo>
                <a:lnTo>
                  <a:pt x="1385" y="164"/>
                </a:lnTo>
                <a:lnTo>
                  <a:pt x="1378" y="166"/>
                </a:lnTo>
                <a:lnTo>
                  <a:pt x="1371" y="168"/>
                </a:lnTo>
                <a:lnTo>
                  <a:pt x="1365" y="171"/>
                </a:lnTo>
                <a:lnTo>
                  <a:pt x="1358" y="173"/>
                </a:lnTo>
                <a:lnTo>
                  <a:pt x="1351" y="175"/>
                </a:lnTo>
                <a:lnTo>
                  <a:pt x="1344" y="177"/>
                </a:lnTo>
                <a:lnTo>
                  <a:pt x="1337" y="179"/>
                </a:lnTo>
                <a:lnTo>
                  <a:pt x="1330" y="181"/>
                </a:lnTo>
                <a:lnTo>
                  <a:pt x="1323" y="183"/>
                </a:lnTo>
                <a:lnTo>
                  <a:pt x="1316" y="185"/>
                </a:lnTo>
                <a:lnTo>
                  <a:pt x="1310" y="187"/>
                </a:lnTo>
                <a:lnTo>
                  <a:pt x="1303" y="189"/>
                </a:lnTo>
                <a:lnTo>
                  <a:pt x="1296" y="192"/>
                </a:lnTo>
                <a:lnTo>
                  <a:pt x="1289" y="194"/>
                </a:lnTo>
                <a:lnTo>
                  <a:pt x="1282" y="196"/>
                </a:lnTo>
                <a:lnTo>
                  <a:pt x="1275" y="198"/>
                </a:lnTo>
                <a:lnTo>
                  <a:pt x="1269" y="200"/>
                </a:lnTo>
                <a:lnTo>
                  <a:pt x="1262" y="203"/>
                </a:lnTo>
                <a:lnTo>
                  <a:pt x="1255" y="205"/>
                </a:lnTo>
                <a:lnTo>
                  <a:pt x="1248" y="207"/>
                </a:lnTo>
                <a:lnTo>
                  <a:pt x="1241" y="209"/>
                </a:lnTo>
                <a:lnTo>
                  <a:pt x="1234" y="211"/>
                </a:lnTo>
                <a:lnTo>
                  <a:pt x="1228" y="214"/>
                </a:lnTo>
                <a:lnTo>
                  <a:pt x="1221" y="216"/>
                </a:lnTo>
                <a:lnTo>
                  <a:pt x="1214" y="218"/>
                </a:lnTo>
                <a:lnTo>
                  <a:pt x="1207" y="220"/>
                </a:lnTo>
                <a:lnTo>
                  <a:pt x="1200" y="223"/>
                </a:lnTo>
                <a:lnTo>
                  <a:pt x="1194" y="225"/>
                </a:lnTo>
                <a:lnTo>
                  <a:pt x="1187" y="227"/>
                </a:lnTo>
                <a:lnTo>
                  <a:pt x="1180" y="230"/>
                </a:lnTo>
                <a:lnTo>
                  <a:pt x="1173" y="232"/>
                </a:lnTo>
                <a:lnTo>
                  <a:pt x="1166" y="234"/>
                </a:lnTo>
                <a:lnTo>
                  <a:pt x="1160" y="236"/>
                </a:lnTo>
                <a:lnTo>
                  <a:pt x="1153" y="239"/>
                </a:lnTo>
                <a:lnTo>
                  <a:pt x="1146" y="241"/>
                </a:lnTo>
                <a:lnTo>
                  <a:pt x="1139" y="243"/>
                </a:lnTo>
                <a:lnTo>
                  <a:pt x="1132" y="246"/>
                </a:lnTo>
                <a:lnTo>
                  <a:pt x="1126" y="248"/>
                </a:lnTo>
                <a:lnTo>
                  <a:pt x="1119" y="251"/>
                </a:lnTo>
                <a:lnTo>
                  <a:pt x="1112" y="253"/>
                </a:lnTo>
                <a:lnTo>
                  <a:pt x="1105" y="255"/>
                </a:lnTo>
                <a:lnTo>
                  <a:pt x="1099" y="258"/>
                </a:lnTo>
                <a:lnTo>
                  <a:pt x="1092" y="260"/>
                </a:lnTo>
                <a:lnTo>
                  <a:pt x="1085" y="263"/>
                </a:lnTo>
                <a:lnTo>
                  <a:pt x="1078" y="265"/>
                </a:lnTo>
                <a:lnTo>
                  <a:pt x="1072" y="267"/>
                </a:lnTo>
                <a:lnTo>
                  <a:pt x="1065" y="270"/>
                </a:lnTo>
                <a:lnTo>
                  <a:pt x="1058" y="272"/>
                </a:lnTo>
                <a:lnTo>
                  <a:pt x="1051" y="275"/>
                </a:lnTo>
                <a:lnTo>
                  <a:pt x="1045" y="277"/>
                </a:lnTo>
                <a:lnTo>
                  <a:pt x="1038" y="280"/>
                </a:lnTo>
                <a:lnTo>
                  <a:pt x="1031" y="282"/>
                </a:lnTo>
                <a:lnTo>
                  <a:pt x="1024" y="285"/>
                </a:lnTo>
                <a:lnTo>
                  <a:pt x="1018" y="287"/>
                </a:lnTo>
                <a:lnTo>
                  <a:pt x="1011" y="290"/>
                </a:lnTo>
                <a:lnTo>
                  <a:pt x="1004" y="292"/>
                </a:lnTo>
                <a:lnTo>
                  <a:pt x="997" y="295"/>
                </a:lnTo>
                <a:lnTo>
                  <a:pt x="991" y="297"/>
                </a:lnTo>
                <a:lnTo>
                  <a:pt x="984" y="300"/>
                </a:lnTo>
                <a:lnTo>
                  <a:pt x="977" y="302"/>
                </a:lnTo>
                <a:lnTo>
                  <a:pt x="971" y="305"/>
                </a:lnTo>
                <a:lnTo>
                  <a:pt x="964" y="308"/>
                </a:lnTo>
                <a:lnTo>
                  <a:pt x="957" y="310"/>
                </a:lnTo>
                <a:lnTo>
                  <a:pt x="951" y="313"/>
                </a:lnTo>
                <a:lnTo>
                  <a:pt x="944" y="315"/>
                </a:lnTo>
                <a:lnTo>
                  <a:pt x="937" y="318"/>
                </a:lnTo>
                <a:lnTo>
                  <a:pt x="931" y="321"/>
                </a:lnTo>
                <a:lnTo>
                  <a:pt x="924" y="323"/>
                </a:lnTo>
                <a:lnTo>
                  <a:pt x="917" y="326"/>
                </a:lnTo>
                <a:lnTo>
                  <a:pt x="910" y="328"/>
                </a:lnTo>
                <a:lnTo>
                  <a:pt x="904" y="331"/>
                </a:lnTo>
                <a:lnTo>
                  <a:pt x="897" y="334"/>
                </a:lnTo>
                <a:lnTo>
                  <a:pt x="890" y="336"/>
                </a:lnTo>
                <a:lnTo>
                  <a:pt x="884" y="339"/>
                </a:lnTo>
                <a:lnTo>
                  <a:pt x="877" y="342"/>
                </a:lnTo>
                <a:lnTo>
                  <a:pt x="871" y="344"/>
                </a:lnTo>
                <a:lnTo>
                  <a:pt x="864" y="347"/>
                </a:lnTo>
                <a:lnTo>
                  <a:pt x="857" y="350"/>
                </a:lnTo>
                <a:lnTo>
                  <a:pt x="851" y="353"/>
                </a:lnTo>
                <a:lnTo>
                  <a:pt x="844" y="355"/>
                </a:lnTo>
                <a:lnTo>
                  <a:pt x="837" y="358"/>
                </a:lnTo>
                <a:lnTo>
                  <a:pt x="831" y="361"/>
                </a:lnTo>
                <a:lnTo>
                  <a:pt x="824" y="364"/>
                </a:lnTo>
                <a:lnTo>
                  <a:pt x="817" y="366"/>
                </a:lnTo>
                <a:lnTo>
                  <a:pt x="811" y="369"/>
                </a:lnTo>
                <a:lnTo>
                  <a:pt x="804" y="372"/>
                </a:lnTo>
                <a:lnTo>
                  <a:pt x="798" y="375"/>
                </a:lnTo>
                <a:lnTo>
                  <a:pt x="791" y="377"/>
                </a:lnTo>
                <a:lnTo>
                  <a:pt x="784" y="380"/>
                </a:lnTo>
                <a:lnTo>
                  <a:pt x="778" y="383"/>
                </a:lnTo>
                <a:lnTo>
                  <a:pt x="771" y="386"/>
                </a:lnTo>
                <a:lnTo>
                  <a:pt x="765" y="389"/>
                </a:lnTo>
                <a:lnTo>
                  <a:pt x="758" y="391"/>
                </a:lnTo>
                <a:lnTo>
                  <a:pt x="751" y="394"/>
                </a:lnTo>
                <a:lnTo>
                  <a:pt x="745" y="397"/>
                </a:lnTo>
                <a:lnTo>
                  <a:pt x="738" y="400"/>
                </a:lnTo>
                <a:lnTo>
                  <a:pt x="732" y="403"/>
                </a:lnTo>
                <a:lnTo>
                  <a:pt x="725" y="406"/>
                </a:lnTo>
                <a:lnTo>
                  <a:pt x="718" y="409"/>
                </a:lnTo>
                <a:lnTo>
                  <a:pt x="712" y="412"/>
                </a:lnTo>
                <a:lnTo>
                  <a:pt x="705" y="414"/>
                </a:lnTo>
                <a:lnTo>
                  <a:pt x="699" y="417"/>
                </a:lnTo>
                <a:lnTo>
                  <a:pt x="692" y="420"/>
                </a:lnTo>
                <a:lnTo>
                  <a:pt x="686" y="423"/>
                </a:lnTo>
                <a:lnTo>
                  <a:pt x="679" y="426"/>
                </a:lnTo>
                <a:lnTo>
                  <a:pt x="673" y="429"/>
                </a:lnTo>
                <a:lnTo>
                  <a:pt x="666" y="432"/>
                </a:lnTo>
                <a:lnTo>
                  <a:pt x="659" y="435"/>
                </a:lnTo>
                <a:lnTo>
                  <a:pt x="653" y="438"/>
                </a:lnTo>
                <a:lnTo>
                  <a:pt x="646" y="441"/>
                </a:lnTo>
                <a:lnTo>
                  <a:pt x="640" y="444"/>
                </a:lnTo>
                <a:lnTo>
                  <a:pt x="633" y="447"/>
                </a:lnTo>
                <a:lnTo>
                  <a:pt x="627" y="450"/>
                </a:lnTo>
                <a:lnTo>
                  <a:pt x="620" y="453"/>
                </a:lnTo>
                <a:lnTo>
                  <a:pt x="614" y="456"/>
                </a:lnTo>
                <a:lnTo>
                  <a:pt x="607" y="459"/>
                </a:lnTo>
                <a:lnTo>
                  <a:pt x="601" y="462"/>
                </a:lnTo>
                <a:lnTo>
                  <a:pt x="594" y="465"/>
                </a:lnTo>
                <a:lnTo>
                  <a:pt x="588" y="468"/>
                </a:lnTo>
                <a:lnTo>
                  <a:pt x="581" y="471"/>
                </a:lnTo>
                <a:lnTo>
                  <a:pt x="575" y="474"/>
                </a:lnTo>
                <a:lnTo>
                  <a:pt x="568" y="477"/>
                </a:lnTo>
                <a:lnTo>
                  <a:pt x="562" y="480"/>
                </a:lnTo>
                <a:lnTo>
                  <a:pt x="555" y="483"/>
                </a:lnTo>
                <a:lnTo>
                  <a:pt x="549" y="487"/>
                </a:lnTo>
                <a:lnTo>
                  <a:pt x="542" y="490"/>
                </a:lnTo>
                <a:lnTo>
                  <a:pt x="536" y="493"/>
                </a:lnTo>
                <a:lnTo>
                  <a:pt x="529" y="496"/>
                </a:lnTo>
                <a:lnTo>
                  <a:pt x="523" y="499"/>
                </a:lnTo>
                <a:lnTo>
                  <a:pt x="516" y="502"/>
                </a:lnTo>
                <a:lnTo>
                  <a:pt x="510" y="505"/>
                </a:lnTo>
                <a:lnTo>
                  <a:pt x="504" y="508"/>
                </a:lnTo>
                <a:lnTo>
                  <a:pt x="497" y="512"/>
                </a:lnTo>
                <a:lnTo>
                  <a:pt x="491" y="515"/>
                </a:lnTo>
                <a:lnTo>
                  <a:pt x="484" y="518"/>
                </a:lnTo>
                <a:lnTo>
                  <a:pt x="478" y="521"/>
                </a:lnTo>
                <a:lnTo>
                  <a:pt x="471" y="524"/>
                </a:lnTo>
                <a:lnTo>
                  <a:pt x="465" y="528"/>
                </a:lnTo>
                <a:lnTo>
                  <a:pt x="458" y="531"/>
                </a:lnTo>
                <a:lnTo>
                  <a:pt x="452" y="534"/>
                </a:lnTo>
                <a:lnTo>
                  <a:pt x="446" y="537"/>
                </a:lnTo>
                <a:lnTo>
                  <a:pt x="439" y="541"/>
                </a:lnTo>
                <a:lnTo>
                  <a:pt x="433" y="544"/>
                </a:lnTo>
                <a:lnTo>
                  <a:pt x="426" y="547"/>
                </a:lnTo>
                <a:lnTo>
                  <a:pt x="420" y="550"/>
                </a:lnTo>
                <a:lnTo>
                  <a:pt x="414" y="554"/>
                </a:lnTo>
                <a:lnTo>
                  <a:pt x="407" y="557"/>
                </a:lnTo>
                <a:lnTo>
                  <a:pt x="401" y="560"/>
                </a:lnTo>
                <a:lnTo>
                  <a:pt x="394" y="563"/>
                </a:lnTo>
                <a:lnTo>
                  <a:pt x="388" y="567"/>
                </a:lnTo>
                <a:lnTo>
                  <a:pt x="382" y="570"/>
                </a:lnTo>
                <a:lnTo>
                  <a:pt x="375" y="573"/>
                </a:lnTo>
                <a:lnTo>
                  <a:pt x="369" y="577"/>
                </a:lnTo>
                <a:lnTo>
                  <a:pt x="363" y="580"/>
                </a:lnTo>
                <a:lnTo>
                  <a:pt x="356" y="583"/>
                </a:lnTo>
                <a:lnTo>
                  <a:pt x="350" y="587"/>
                </a:lnTo>
                <a:lnTo>
                  <a:pt x="343" y="590"/>
                </a:lnTo>
                <a:lnTo>
                  <a:pt x="337" y="594"/>
                </a:lnTo>
                <a:lnTo>
                  <a:pt x="331" y="597"/>
                </a:lnTo>
                <a:lnTo>
                  <a:pt x="324" y="600"/>
                </a:lnTo>
                <a:lnTo>
                  <a:pt x="318" y="604"/>
                </a:lnTo>
                <a:lnTo>
                  <a:pt x="312" y="607"/>
                </a:lnTo>
                <a:lnTo>
                  <a:pt x="305" y="611"/>
                </a:lnTo>
                <a:lnTo>
                  <a:pt x="299" y="614"/>
                </a:lnTo>
                <a:lnTo>
                  <a:pt x="293" y="617"/>
                </a:lnTo>
                <a:lnTo>
                  <a:pt x="286" y="621"/>
                </a:lnTo>
                <a:lnTo>
                  <a:pt x="280" y="624"/>
                </a:lnTo>
                <a:lnTo>
                  <a:pt x="274" y="628"/>
                </a:lnTo>
                <a:lnTo>
                  <a:pt x="268" y="631"/>
                </a:lnTo>
                <a:lnTo>
                  <a:pt x="261" y="635"/>
                </a:lnTo>
                <a:lnTo>
                  <a:pt x="255" y="638"/>
                </a:lnTo>
                <a:lnTo>
                  <a:pt x="249" y="642"/>
                </a:lnTo>
                <a:lnTo>
                  <a:pt x="242" y="645"/>
                </a:lnTo>
                <a:lnTo>
                  <a:pt x="236" y="649"/>
                </a:lnTo>
                <a:lnTo>
                  <a:pt x="230" y="652"/>
                </a:lnTo>
                <a:lnTo>
                  <a:pt x="224" y="656"/>
                </a:lnTo>
                <a:lnTo>
                  <a:pt x="217" y="659"/>
                </a:lnTo>
                <a:lnTo>
                  <a:pt x="211" y="663"/>
                </a:lnTo>
                <a:lnTo>
                  <a:pt x="205" y="666"/>
                </a:lnTo>
                <a:lnTo>
                  <a:pt x="198" y="670"/>
                </a:lnTo>
                <a:lnTo>
                  <a:pt x="192" y="673"/>
                </a:lnTo>
                <a:lnTo>
                  <a:pt x="186" y="677"/>
                </a:lnTo>
                <a:lnTo>
                  <a:pt x="180" y="681"/>
                </a:lnTo>
                <a:lnTo>
                  <a:pt x="173" y="684"/>
                </a:lnTo>
                <a:lnTo>
                  <a:pt x="167" y="688"/>
                </a:lnTo>
                <a:lnTo>
                  <a:pt x="161" y="691"/>
                </a:lnTo>
                <a:lnTo>
                  <a:pt x="155" y="695"/>
                </a:lnTo>
                <a:lnTo>
                  <a:pt x="149" y="699"/>
                </a:lnTo>
                <a:lnTo>
                  <a:pt x="142" y="702"/>
                </a:lnTo>
                <a:lnTo>
                  <a:pt x="136" y="706"/>
                </a:lnTo>
                <a:lnTo>
                  <a:pt x="130" y="709"/>
                </a:lnTo>
                <a:lnTo>
                  <a:pt x="124" y="713"/>
                </a:lnTo>
                <a:lnTo>
                  <a:pt x="117" y="717"/>
                </a:lnTo>
                <a:lnTo>
                  <a:pt x="111" y="720"/>
                </a:lnTo>
                <a:lnTo>
                  <a:pt x="105" y="724"/>
                </a:lnTo>
                <a:lnTo>
                  <a:pt x="99" y="728"/>
                </a:lnTo>
                <a:lnTo>
                  <a:pt x="93" y="732"/>
                </a:lnTo>
                <a:lnTo>
                  <a:pt x="86" y="735"/>
                </a:lnTo>
                <a:lnTo>
                  <a:pt x="80" y="739"/>
                </a:lnTo>
                <a:lnTo>
                  <a:pt x="74" y="743"/>
                </a:lnTo>
                <a:lnTo>
                  <a:pt x="68" y="746"/>
                </a:lnTo>
                <a:lnTo>
                  <a:pt x="62" y="750"/>
                </a:lnTo>
                <a:lnTo>
                  <a:pt x="56" y="754"/>
                </a:lnTo>
                <a:lnTo>
                  <a:pt x="49" y="758"/>
                </a:lnTo>
                <a:lnTo>
                  <a:pt x="43" y="761"/>
                </a:lnTo>
                <a:lnTo>
                  <a:pt x="37" y="765"/>
                </a:lnTo>
                <a:lnTo>
                  <a:pt x="31" y="769"/>
                </a:lnTo>
                <a:lnTo>
                  <a:pt x="25" y="773"/>
                </a:lnTo>
                <a:lnTo>
                  <a:pt x="19" y="776"/>
                </a:lnTo>
                <a:lnTo>
                  <a:pt x="13" y="780"/>
                </a:lnTo>
                <a:lnTo>
                  <a:pt x="7" y="784"/>
                </a:lnTo>
                <a:lnTo>
                  <a:pt x="0" y="788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4483080" y="3732120"/>
            <a:ext cx="96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OSEFI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 rot="5340000">
            <a:off x="4546080" y="1336680"/>
            <a:ext cx="720720" cy="720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 rot="5340000">
            <a:off x="5738400" y="1235160"/>
            <a:ext cx="720720" cy="72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0"/>
          <p:cNvSpPr/>
          <p:nvPr/>
        </p:nvSpPr>
        <p:spPr>
          <a:xfrm>
            <a:off x="5089680" y="2043000"/>
            <a:ext cx="287280" cy="419040"/>
          </a:xfrm>
          <a:custGeom>
            <a:avLst/>
            <a:gdLst>
              <a:gd name="textAreaLeft" fmla="*/ 0 w 287280"/>
              <a:gd name="textAreaRight" fmla="*/ 287640 w 2872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81" h="264">
                <a:moveTo>
                  <a:pt x="0" y="0"/>
                </a:moveTo>
                <a:lnTo>
                  <a:pt x="181" y="264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5753160" y="1941480"/>
            <a:ext cx="223920" cy="484200"/>
          </a:xfrm>
          <a:custGeom>
            <a:avLst/>
            <a:gdLst>
              <a:gd name="textAreaLeft" fmla="*/ 0 w 223920"/>
              <a:gd name="textAreaRight" fmla="*/ 224280 w 2239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41" h="305">
                <a:moveTo>
                  <a:pt x="0" y="305"/>
                </a:moveTo>
                <a:lnTo>
                  <a:pt x="141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 rot="5340000">
            <a:off x="4222080" y="628560"/>
            <a:ext cx="720720" cy="723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3"/>
          <p:cNvSpPr/>
          <p:nvPr/>
        </p:nvSpPr>
        <p:spPr>
          <a:xfrm rot="5340000">
            <a:off x="6546600" y="669960"/>
            <a:ext cx="720720" cy="72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4"/>
          <p:cNvSpPr/>
          <p:nvPr/>
        </p:nvSpPr>
        <p:spPr>
          <a:xfrm>
            <a:off x="6380280" y="1233360"/>
            <a:ext cx="222120" cy="141480"/>
          </a:xfrm>
          <a:custGeom>
            <a:avLst/>
            <a:gdLst>
              <a:gd name="textAreaLeft" fmla="*/ 0 w 222120"/>
              <a:gd name="textAreaRight" fmla="*/ 222480 w 2221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40" h="89">
                <a:moveTo>
                  <a:pt x="0" y="89"/>
                </a:moveTo>
                <a:lnTo>
                  <a:pt x="140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 rot="5340000">
            <a:off x="4747680" y="1233360"/>
            <a:ext cx="720720" cy="7239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 rot="5340000">
            <a:off x="5617800" y="1093680"/>
            <a:ext cx="720720" cy="72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7"/>
          <p:cNvSpPr/>
          <p:nvPr/>
        </p:nvSpPr>
        <p:spPr>
          <a:xfrm>
            <a:off x="4722840" y="1314360"/>
            <a:ext cx="360" cy="60480"/>
          </a:xfrm>
          <a:custGeom>
            <a:avLst/>
            <a:gdLst/>
            <a:ahLst/>
            <a:rect l="l" t="t" r="r" b="b"/>
            <a:pathLst>
              <a:path w="0" h="38">
                <a:moveTo>
                  <a:pt x="0" y="0"/>
                </a:moveTo>
                <a:lnTo>
                  <a:pt x="0" y="38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8"/>
          <p:cNvSpPr/>
          <p:nvPr/>
        </p:nvSpPr>
        <p:spPr>
          <a:xfrm>
            <a:off x="4703760" y="1314360"/>
            <a:ext cx="19080" cy="39600"/>
          </a:xfrm>
          <a:custGeom>
            <a:avLst/>
            <a:gdLst>
              <a:gd name="textAreaLeft" fmla="*/ 0 w 19080"/>
              <a:gd name="textAreaRight" fmla="*/ 19440 w 190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2" h="25">
                <a:moveTo>
                  <a:pt x="0" y="0"/>
                </a:moveTo>
                <a:lnTo>
                  <a:pt x="12" y="25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9"/>
          <p:cNvSpPr/>
          <p:nvPr/>
        </p:nvSpPr>
        <p:spPr>
          <a:xfrm rot="5340000">
            <a:off x="6392520" y="4618080"/>
            <a:ext cx="720720" cy="720720"/>
          </a:xfrm>
          <a:prstGeom prst="ellipse">
            <a:avLst/>
          </a:prstGeom>
          <a:solidFill>
            <a:srgbClr val="3399ff"/>
          </a:solid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0"/>
          <p:cNvSpPr/>
          <p:nvPr/>
        </p:nvSpPr>
        <p:spPr>
          <a:xfrm rot="5340000">
            <a:off x="5913000" y="4381200"/>
            <a:ext cx="720720" cy="7239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1"/>
          <p:cNvSpPr/>
          <p:nvPr/>
        </p:nvSpPr>
        <p:spPr>
          <a:xfrm rot="5340000">
            <a:off x="6960960" y="3586320"/>
            <a:ext cx="720720" cy="7207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2"/>
          <p:cNvSpPr/>
          <p:nvPr/>
        </p:nvSpPr>
        <p:spPr>
          <a:xfrm rot="5340000">
            <a:off x="6806880" y="3681360"/>
            <a:ext cx="720720" cy="7207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3"/>
          <p:cNvSpPr/>
          <p:nvPr/>
        </p:nvSpPr>
        <p:spPr>
          <a:xfrm rot="5340000">
            <a:off x="7878600" y="4081320"/>
            <a:ext cx="723960" cy="72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4"/>
          <p:cNvSpPr/>
          <p:nvPr/>
        </p:nvSpPr>
        <p:spPr>
          <a:xfrm rot="5340000">
            <a:off x="7603920" y="4079880"/>
            <a:ext cx="723600" cy="7207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5"/>
          <p:cNvSpPr/>
          <p:nvPr/>
        </p:nvSpPr>
        <p:spPr>
          <a:xfrm rot="5340000">
            <a:off x="7357680" y="4849920"/>
            <a:ext cx="720720" cy="72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6"/>
          <p:cNvSpPr/>
          <p:nvPr/>
        </p:nvSpPr>
        <p:spPr>
          <a:xfrm>
            <a:off x="6481800" y="3646440"/>
            <a:ext cx="384120" cy="206280"/>
          </a:xfrm>
          <a:custGeom>
            <a:avLst/>
            <a:gdLst>
              <a:gd name="textAreaLeft" fmla="*/ 0 w 384120"/>
              <a:gd name="textAreaRight" fmla="*/ 384480 w 3841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42" h="130">
                <a:moveTo>
                  <a:pt x="0" y="0"/>
                </a:moveTo>
                <a:lnTo>
                  <a:pt x="242" y="130"/>
                </a:lnTo>
              </a:path>
            </a:pathLst>
          </a:custGeom>
          <a:noFill/>
          <a:ln w="55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7"/>
          <p:cNvSpPr/>
          <p:nvPr/>
        </p:nvSpPr>
        <p:spPr>
          <a:xfrm>
            <a:off x="7485120" y="4195800"/>
            <a:ext cx="179280" cy="82440"/>
          </a:xfrm>
          <a:custGeom>
            <a:avLst/>
            <a:gdLst>
              <a:gd name="textAreaLeft" fmla="*/ 0 w 179280"/>
              <a:gd name="textAreaRight" fmla="*/ 179640 w 17928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13" h="52">
                <a:moveTo>
                  <a:pt x="0" y="0"/>
                </a:moveTo>
                <a:lnTo>
                  <a:pt x="113" y="52"/>
                </a:lnTo>
              </a:path>
            </a:pathLst>
          </a:custGeom>
          <a:noFill/>
          <a:ln w="55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8"/>
          <p:cNvSpPr/>
          <p:nvPr/>
        </p:nvSpPr>
        <p:spPr>
          <a:xfrm>
            <a:off x="7307280" y="4390920"/>
            <a:ext cx="244440" cy="51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517680"/>
              <a:gd name="textAreaBottom" fmla="*/ 517680 h 517680"/>
            </a:gdLst>
            <a:ahLst/>
            <a:rect l="textAreaLeft" t="textAreaTop" r="textAreaRight" b="textAreaBottom"/>
            <a:pathLst>
              <a:path w="154" h="326">
                <a:moveTo>
                  <a:pt x="0" y="0"/>
                </a:moveTo>
                <a:lnTo>
                  <a:pt x="154" y="326"/>
                </a:lnTo>
              </a:path>
            </a:pathLst>
          </a:custGeom>
          <a:noFill/>
          <a:ln w="55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9"/>
          <p:cNvSpPr/>
          <p:nvPr/>
        </p:nvSpPr>
        <p:spPr>
          <a:xfrm>
            <a:off x="6178680" y="3770280"/>
            <a:ext cx="27000" cy="619200"/>
          </a:xfrm>
          <a:custGeom>
            <a:avLst/>
            <a:gdLst>
              <a:gd name="textAreaLeft" fmla="*/ 0 w 27000"/>
              <a:gd name="textAreaRight" fmla="*/ 27360 w 2700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7" h="390">
                <a:moveTo>
                  <a:pt x="0" y="0"/>
                </a:moveTo>
                <a:lnTo>
                  <a:pt x="17" y="390"/>
                </a:lnTo>
              </a:path>
            </a:pathLst>
          </a:custGeom>
          <a:noFill/>
          <a:ln w="55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0"/>
          <p:cNvSpPr/>
          <p:nvPr/>
        </p:nvSpPr>
        <p:spPr>
          <a:xfrm rot="5340000">
            <a:off x="3576240" y="2809800"/>
            <a:ext cx="720720" cy="72396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1"/>
          <p:cNvSpPr/>
          <p:nvPr/>
        </p:nvSpPr>
        <p:spPr>
          <a:xfrm rot="5340000">
            <a:off x="3533400" y="2913120"/>
            <a:ext cx="720720" cy="72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3551400" y="320184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I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3"/>
          <p:cNvSpPr/>
          <p:nvPr/>
        </p:nvSpPr>
        <p:spPr>
          <a:xfrm rot="5340000">
            <a:off x="2768400" y="2973240"/>
            <a:ext cx="720720" cy="720720"/>
          </a:xfrm>
          <a:prstGeom prst="ellipse">
            <a:avLst/>
          </a:prstGeom>
          <a:noFill/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4"/>
          <p:cNvSpPr/>
          <p:nvPr/>
        </p:nvSpPr>
        <p:spPr>
          <a:xfrm rot="5340000">
            <a:off x="1616040" y="2287440"/>
            <a:ext cx="723960" cy="72072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5"/>
          <p:cNvSpPr/>
          <p:nvPr/>
        </p:nvSpPr>
        <p:spPr>
          <a:xfrm rot="5340000">
            <a:off x="1999800" y="2933640"/>
            <a:ext cx="720720" cy="72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6"/>
          <p:cNvSpPr/>
          <p:nvPr/>
        </p:nvSpPr>
        <p:spPr>
          <a:xfrm>
            <a:off x="2300400" y="2747880"/>
            <a:ext cx="503280" cy="182520"/>
          </a:xfrm>
          <a:custGeom>
            <a:avLst/>
            <a:gdLst>
              <a:gd name="textAreaLeft" fmla="*/ 0 w 503280"/>
              <a:gd name="textAreaRight" fmla="*/ 503640 w 5032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317" h="115">
                <a:moveTo>
                  <a:pt x="0" y="0"/>
                </a:moveTo>
                <a:lnTo>
                  <a:pt x="317" y="115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7"/>
          <p:cNvSpPr/>
          <p:nvPr/>
        </p:nvSpPr>
        <p:spPr>
          <a:xfrm rot="5340000">
            <a:off x="2768400" y="2730600"/>
            <a:ext cx="720720" cy="72072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8"/>
          <p:cNvSpPr/>
          <p:nvPr/>
        </p:nvSpPr>
        <p:spPr>
          <a:xfrm>
            <a:off x="3451320" y="3192480"/>
            <a:ext cx="120600" cy="20520"/>
          </a:xfrm>
          <a:custGeom>
            <a:avLst/>
            <a:gdLst>
              <a:gd name="textAreaLeft" fmla="*/ 0 w 120600"/>
              <a:gd name="textAreaRight" fmla="*/ 120960 w 1206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6" h="13">
                <a:moveTo>
                  <a:pt x="76" y="13"/>
                </a:moveTo>
                <a:lnTo>
                  <a:pt x="0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9"/>
          <p:cNvSpPr/>
          <p:nvPr/>
        </p:nvSpPr>
        <p:spPr>
          <a:xfrm>
            <a:off x="2703600" y="3213000"/>
            <a:ext cx="120600" cy="20880"/>
          </a:xfrm>
          <a:custGeom>
            <a:avLst/>
            <a:gdLst>
              <a:gd name="textAreaLeft" fmla="*/ 0 w 120600"/>
              <a:gd name="textAreaRight" fmla="*/ 120960 w 12060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76" h="13">
                <a:moveTo>
                  <a:pt x="0" y="13"/>
                </a:moveTo>
                <a:lnTo>
                  <a:pt x="63" y="0"/>
                </a:lnTo>
                <a:lnTo>
                  <a:pt x="76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0"/>
          <p:cNvSpPr/>
          <p:nvPr/>
        </p:nvSpPr>
        <p:spPr>
          <a:xfrm rot="5340000">
            <a:off x="2182320" y="1155600"/>
            <a:ext cx="720720" cy="7207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41"/>
          <p:cNvSpPr/>
          <p:nvPr/>
        </p:nvSpPr>
        <p:spPr>
          <a:xfrm rot="5340000">
            <a:off x="2425320" y="1882800"/>
            <a:ext cx="720720" cy="72072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2"/>
          <p:cNvSpPr/>
          <p:nvPr/>
        </p:nvSpPr>
        <p:spPr>
          <a:xfrm rot="5340000">
            <a:off x="3212640" y="1739880"/>
            <a:ext cx="720720" cy="72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3"/>
          <p:cNvSpPr/>
          <p:nvPr/>
        </p:nvSpPr>
        <p:spPr>
          <a:xfrm rot="5340000">
            <a:off x="2381040" y="2004840"/>
            <a:ext cx="723960" cy="72072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4"/>
          <p:cNvSpPr/>
          <p:nvPr/>
        </p:nvSpPr>
        <p:spPr>
          <a:xfrm rot="5340000">
            <a:off x="2058840" y="1215720"/>
            <a:ext cx="723960" cy="72072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45"/>
          <p:cNvSpPr/>
          <p:nvPr/>
        </p:nvSpPr>
        <p:spPr>
          <a:xfrm>
            <a:off x="3067200" y="2101680"/>
            <a:ext cx="160200" cy="141480"/>
          </a:xfrm>
          <a:custGeom>
            <a:avLst/>
            <a:gdLst>
              <a:gd name="textAreaLeft" fmla="*/ 0 w 160200"/>
              <a:gd name="textAreaRight" fmla="*/ 160560 w 1602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01" h="89">
                <a:moveTo>
                  <a:pt x="101" y="0"/>
                </a:moveTo>
                <a:lnTo>
                  <a:pt x="0" y="89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6"/>
          <p:cNvSpPr/>
          <p:nvPr/>
        </p:nvSpPr>
        <p:spPr>
          <a:xfrm>
            <a:off x="2782800" y="1717560"/>
            <a:ext cx="405000" cy="122400"/>
          </a:xfrm>
          <a:custGeom>
            <a:avLst/>
            <a:gdLst>
              <a:gd name="textAreaLeft" fmla="*/ 0 w 405000"/>
              <a:gd name="textAreaRight" fmla="*/ 405360 w 4050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55" h="77">
                <a:moveTo>
                  <a:pt x="255" y="77"/>
                </a:moveTo>
                <a:lnTo>
                  <a:pt x="0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7"/>
          <p:cNvSpPr/>
          <p:nvPr/>
        </p:nvSpPr>
        <p:spPr>
          <a:xfrm rot="5340000">
            <a:off x="1738080" y="407880"/>
            <a:ext cx="720720" cy="72072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8"/>
          <p:cNvSpPr/>
          <p:nvPr/>
        </p:nvSpPr>
        <p:spPr>
          <a:xfrm rot="5340000">
            <a:off x="1191600" y="1295280"/>
            <a:ext cx="720720" cy="7239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9"/>
          <p:cNvSpPr/>
          <p:nvPr/>
        </p:nvSpPr>
        <p:spPr>
          <a:xfrm>
            <a:off x="2157480" y="1146240"/>
            <a:ext cx="81000" cy="162000"/>
          </a:xfrm>
          <a:custGeom>
            <a:avLst/>
            <a:gdLst>
              <a:gd name="textAreaLeft" fmla="*/ 0 w 81000"/>
              <a:gd name="textAreaRight" fmla="*/ 81360 w 810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51" h="102">
                <a:moveTo>
                  <a:pt x="0" y="0"/>
                </a:moveTo>
                <a:lnTo>
                  <a:pt x="51" y="102"/>
                </a:lnTo>
                <a:lnTo>
                  <a:pt x="51" y="102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50"/>
          <p:cNvSpPr/>
          <p:nvPr/>
        </p:nvSpPr>
        <p:spPr>
          <a:xfrm>
            <a:off x="1895400" y="1617840"/>
            <a:ext cx="201600" cy="2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7" h="13">
                <a:moveTo>
                  <a:pt x="0" y="13"/>
                </a:moveTo>
                <a:lnTo>
                  <a:pt x="127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1"/>
          <p:cNvSpPr/>
          <p:nvPr/>
        </p:nvSpPr>
        <p:spPr>
          <a:xfrm rot="5340000">
            <a:off x="848880" y="2386080"/>
            <a:ext cx="720720" cy="72072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52"/>
          <p:cNvSpPr/>
          <p:nvPr/>
        </p:nvSpPr>
        <p:spPr>
          <a:xfrm rot="5340000">
            <a:off x="504360" y="1660680"/>
            <a:ext cx="720720" cy="72072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53"/>
          <p:cNvSpPr/>
          <p:nvPr/>
        </p:nvSpPr>
        <p:spPr>
          <a:xfrm>
            <a:off x="1208160" y="2103480"/>
            <a:ext cx="1252440" cy="60120"/>
          </a:xfrm>
          <a:custGeom>
            <a:avLst/>
            <a:gdLst>
              <a:gd name="textAreaLeft" fmla="*/ 0 w 1252440"/>
              <a:gd name="textAreaRight" fmla="*/ 1252800 w 12524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789" h="38">
                <a:moveTo>
                  <a:pt x="0" y="0"/>
                </a:moveTo>
                <a:lnTo>
                  <a:pt x="776" y="38"/>
                </a:lnTo>
                <a:lnTo>
                  <a:pt x="789" y="38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54"/>
          <p:cNvSpPr/>
          <p:nvPr/>
        </p:nvSpPr>
        <p:spPr>
          <a:xfrm rot="5340000">
            <a:off x="767880" y="2487240"/>
            <a:ext cx="720720" cy="7239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55"/>
          <p:cNvSpPr/>
          <p:nvPr/>
        </p:nvSpPr>
        <p:spPr>
          <a:xfrm rot="5340000">
            <a:off x="947520" y="534960"/>
            <a:ext cx="720720" cy="720720"/>
          </a:xfrm>
          <a:prstGeom prst="ellipse">
            <a:avLst/>
          </a:prstGeom>
          <a:solidFill>
            <a:srgbClr val="939393"/>
          </a:solidFill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56"/>
          <p:cNvSpPr/>
          <p:nvPr/>
        </p:nvSpPr>
        <p:spPr>
          <a:xfrm>
            <a:off x="1573200" y="1120680"/>
            <a:ext cx="604800" cy="219240"/>
          </a:xfrm>
          <a:custGeom>
            <a:avLst/>
            <a:gdLst>
              <a:gd name="textAreaLeft" fmla="*/ 0 w 604800"/>
              <a:gd name="textAreaRight" fmla="*/ 604800 w 604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381" h="138">
                <a:moveTo>
                  <a:pt x="0" y="0"/>
                </a:moveTo>
                <a:lnTo>
                  <a:pt x="381" y="138"/>
                </a:lnTo>
              </a:path>
            </a:pathLst>
          </a:custGeom>
          <a:noFill/>
          <a:ln w="55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7"/>
          <p:cNvSpPr/>
          <p:nvPr/>
        </p:nvSpPr>
        <p:spPr>
          <a:xfrm>
            <a:off x="2892600" y="1631880"/>
            <a:ext cx="384120" cy="128520"/>
          </a:xfrm>
          <a:custGeom>
            <a:avLst/>
            <a:gdLst>
              <a:gd name="textAreaLeft" fmla="*/ 0 w 384120"/>
              <a:gd name="textAreaRight" fmla="*/ 384480 w 3841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2" h="81">
                <a:moveTo>
                  <a:pt x="0" y="0"/>
                </a:moveTo>
                <a:lnTo>
                  <a:pt x="242" y="81"/>
                </a:lnTo>
              </a:path>
            </a:pathLst>
          </a:custGeom>
          <a:noFill/>
          <a:ln w="55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8"/>
          <p:cNvSpPr/>
          <p:nvPr/>
        </p:nvSpPr>
        <p:spPr>
          <a:xfrm>
            <a:off x="1060560" y="838080"/>
            <a:ext cx="76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JOR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59"/>
          <p:cNvSpPr/>
          <p:nvPr/>
        </p:nvSpPr>
        <p:spPr>
          <a:xfrm>
            <a:off x="1469880" y="2197080"/>
            <a:ext cx="949320" cy="330120"/>
          </a:xfrm>
          <a:custGeom>
            <a:avLst/>
            <a:gdLst>
              <a:gd name="textAreaLeft" fmla="*/ 0 w 949320"/>
              <a:gd name="textAreaRight" fmla="*/ 949680 w 9493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98" h="208">
                <a:moveTo>
                  <a:pt x="598" y="55"/>
                </a:moveTo>
                <a:lnTo>
                  <a:pt x="592" y="52"/>
                </a:lnTo>
                <a:lnTo>
                  <a:pt x="586" y="49"/>
                </a:lnTo>
                <a:lnTo>
                  <a:pt x="580" y="45"/>
                </a:lnTo>
                <a:lnTo>
                  <a:pt x="573" y="43"/>
                </a:lnTo>
                <a:lnTo>
                  <a:pt x="567" y="40"/>
                </a:lnTo>
                <a:lnTo>
                  <a:pt x="561" y="37"/>
                </a:lnTo>
                <a:lnTo>
                  <a:pt x="555" y="34"/>
                </a:lnTo>
                <a:lnTo>
                  <a:pt x="548" y="32"/>
                </a:lnTo>
                <a:lnTo>
                  <a:pt x="542" y="29"/>
                </a:lnTo>
                <a:lnTo>
                  <a:pt x="536" y="27"/>
                </a:lnTo>
                <a:lnTo>
                  <a:pt x="529" y="25"/>
                </a:lnTo>
                <a:lnTo>
                  <a:pt x="523" y="23"/>
                </a:lnTo>
                <a:lnTo>
                  <a:pt x="516" y="21"/>
                </a:lnTo>
                <a:lnTo>
                  <a:pt x="510" y="19"/>
                </a:lnTo>
                <a:lnTo>
                  <a:pt x="503" y="17"/>
                </a:lnTo>
                <a:lnTo>
                  <a:pt x="497" y="15"/>
                </a:lnTo>
                <a:lnTo>
                  <a:pt x="490" y="13"/>
                </a:lnTo>
                <a:lnTo>
                  <a:pt x="484" y="12"/>
                </a:lnTo>
                <a:lnTo>
                  <a:pt x="477" y="10"/>
                </a:lnTo>
                <a:lnTo>
                  <a:pt x="471" y="9"/>
                </a:lnTo>
                <a:lnTo>
                  <a:pt x="464" y="8"/>
                </a:lnTo>
                <a:lnTo>
                  <a:pt x="458" y="7"/>
                </a:lnTo>
                <a:lnTo>
                  <a:pt x="451" y="6"/>
                </a:lnTo>
                <a:lnTo>
                  <a:pt x="445" y="5"/>
                </a:lnTo>
                <a:lnTo>
                  <a:pt x="438" y="4"/>
                </a:lnTo>
                <a:lnTo>
                  <a:pt x="432" y="3"/>
                </a:lnTo>
                <a:lnTo>
                  <a:pt x="425" y="2"/>
                </a:lnTo>
                <a:lnTo>
                  <a:pt x="419" y="2"/>
                </a:lnTo>
                <a:lnTo>
                  <a:pt x="412" y="1"/>
                </a:lnTo>
                <a:lnTo>
                  <a:pt x="405" y="1"/>
                </a:lnTo>
                <a:lnTo>
                  <a:pt x="399" y="1"/>
                </a:lnTo>
                <a:lnTo>
                  <a:pt x="392" y="0"/>
                </a:lnTo>
                <a:lnTo>
                  <a:pt x="386" y="0"/>
                </a:lnTo>
                <a:lnTo>
                  <a:pt x="379" y="0"/>
                </a:lnTo>
                <a:lnTo>
                  <a:pt x="373" y="0"/>
                </a:lnTo>
                <a:lnTo>
                  <a:pt x="366" y="1"/>
                </a:lnTo>
                <a:lnTo>
                  <a:pt x="360" y="1"/>
                </a:lnTo>
                <a:lnTo>
                  <a:pt x="353" y="1"/>
                </a:lnTo>
                <a:lnTo>
                  <a:pt x="347" y="2"/>
                </a:lnTo>
                <a:lnTo>
                  <a:pt x="340" y="2"/>
                </a:lnTo>
                <a:lnTo>
                  <a:pt x="334" y="3"/>
                </a:lnTo>
                <a:lnTo>
                  <a:pt x="327" y="4"/>
                </a:lnTo>
                <a:lnTo>
                  <a:pt x="321" y="4"/>
                </a:lnTo>
                <a:lnTo>
                  <a:pt x="314" y="5"/>
                </a:lnTo>
                <a:lnTo>
                  <a:pt x="308" y="6"/>
                </a:lnTo>
                <a:lnTo>
                  <a:pt x="301" y="8"/>
                </a:lnTo>
                <a:lnTo>
                  <a:pt x="295" y="9"/>
                </a:lnTo>
                <a:lnTo>
                  <a:pt x="288" y="10"/>
                </a:lnTo>
                <a:lnTo>
                  <a:pt x="282" y="11"/>
                </a:lnTo>
                <a:lnTo>
                  <a:pt x="276" y="13"/>
                </a:lnTo>
                <a:lnTo>
                  <a:pt x="269" y="14"/>
                </a:lnTo>
                <a:lnTo>
                  <a:pt x="263" y="16"/>
                </a:lnTo>
                <a:lnTo>
                  <a:pt x="257" y="18"/>
                </a:lnTo>
                <a:lnTo>
                  <a:pt x="251" y="20"/>
                </a:lnTo>
                <a:lnTo>
                  <a:pt x="244" y="22"/>
                </a:lnTo>
                <a:lnTo>
                  <a:pt x="238" y="24"/>
                </a:lnTo>
                <a:lnTo>
                  <a:pt x="232" y="26"/>
                </a:lnTo>
                <a:lnTo>
                  <a:pt x="226" y="28"/>
                </a:lnTo>
                <a:lnTo>
                  <a:pt x="220" y="30"/>
                </a:lnTo>
                <a:lnTo>
                  <a:pt x="214" y="33"/>
                </a:lnTo>
                <a:lnTo>
                  <a:pt x="208" y="35"/>
                </a:lnTo>
                <a:lnTo>
                  <a:pt x="202" y="38"/>
                </a:lnTo>
                <a:lnTo>
                  <a:pt x="196" y="40"/>
                </a:lnTo>
                <a:lnTo>
                  <a:pt x="190" y="43"/>
                </a:lnTo>
                <a:lnTo>
                  <a:pt x="184" y="46"/>
                </a:lnTo>
                <a:lnTo>
                  <a:pt x="178" y="49"/>
                </a:lnTo>
                <a:lnTo>
                  <a:pt x="172" y="52"/>
                </a:lnTo>
                <a:lnTo>
                  <a:pt x="166" y="55"/>
                </a:lnTo>
                <a:lnTo>
                  <a:pt x="161" y="58"/>
                </a:lnTo>
                <a:lnTo>
                  <a:pt x="155" y="61"/>
                </a:lnTo>
                <a:lnTo>
                  <a:pt x="149" y="64"/>
                </a:lnTo>
                <a:lnTo>
                  <a:pt x="144" y="68"/>
                </a:lnTo>
                <a:lnTo>
                  <a:pt x="138" y="71"/>
                </a:lnTo>
                <a:lnTo>
                  <a:pt x="132" y="75"/>
                </a:lnTo>
                <a:lnTo>
                  <a:pt x="127" y="78"/>
                </a:lnTo>
                <a:lnTo>
                  <a:pt x="122" y="82"/>
                </a:lnTo>
                <a:lnTo>
                  <a:pt x="116" y="86"/>
                </a:lnTo>
                <a:lnTo>
                  <a:pt x="111" y="90"/>
                </a:lnTo>
                <a:lnTo>
                  <a:pt x="106" y="94"/>
                </a:lnTo>
                <a:lnTo>
                  <a:pt x="100" y="98"/>
                </a:lnTo>
                <a:lnTo>
                  <a:pt x="95" y="102"/>
                </a:lnTo>
                <a:lnTo>
                  <a:pt x="90" y="106"/>
                </a:lnTo>
                <a:lnTo>
                  <a:pt x="85" y="111"/>
                </a:lnTo>
                <a:lnTo>
                  <a:pt x="80" y="115"/>
                </a:lnTo>
                <a:lnTo>
                  <a:pt x="75" y="119"/>
                </a:lnTo>
                <a:lnTo>
                  <a:pt x="70" y="124"/>
                </a:lnTo>
                <a:lnTo>
                  <a:pt x="65" y="129"/>
                </a:lnTo>
                <a:lnTo>
                  <a:pt x="60" y="133"/>
                </a:lnTo>
                <a:lnTo>
                  <a:pt x="56" y="138"/>
                </a:lnTo>
                <a:lnTo>
                  <a:pt x="51" y="143"/>
                </a:lnTo>
                <a:lnTo>
                  <a:pt x="46" y="148"/>
                </a:lnTo>
                <a:lnTo>
                  <a:pt x="42" y="153"/>
                </a:lnTo>
                <a:lnTo>
                  <a:pt x="37" y="158"/>
                </a:lnTo>
                <a:lnTo>
                  <a:pt x="33" y="163"/>
                </a:lnTo>
                <a:lnTo>
                  <a:pt x="29" y="169"/>
                </a:lnTo>
                <a:lnTo>
                  <a:pt x="24" y="174"/>
                </a:lnTo>
                <a:lnTo>
                  <a:pt x="20" y="179"/>
                </a:lnTo>
                <a:lnTo>
                  <a:pt x="16" y="185"/>
                </a:lnTo>
                <a:lnTo>
                  <a:pt x="12" y="190"/>
                </a:lnTo>
                <a:lnTo>
                  <a:pt x="8" y="196"/>
                </a:lnTo>
                <a:lnTo>
                  <a:pt x="4" y="202"/>
                </a:lnTo>
                <a:lnTo>
                  <a:pt x="0" y="208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0"/>
          <p:cNvSpPr/>
          <p:nvPr/>
        </p:nvSpPr>
        <p:spPr>
          <a:xfrm>
            <a:off x="3166920" y="1928880"/>
            <a:ext cx="727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A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1"/>
          <p:cNvSpPr/>
          <p:nvPr/>
        </p:nvSpPr>
        <p:spPr>
          <a:xfrm rot="5340000">
            <a:off x="4383000" y="4570200"/>
            <a:ext cx="723960" cy="72072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62"/>
          <p:cNvSpPr/>
          <p:nvPr/>
        </p:nvSpPr>
        <p:spPr>
          <a:xfrm rot="5340000">
            <a:off x="5171760" y="5721480"/>
            <a:ext cx="720720" cy="72072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63"/>
          <p:cNvSpPr/>
          <p:nvPr/>
        </p:nvSpPr>
        <p:spPr>
          <a:xfrm rot="5340000">
            <a:off x="5292360" y="4933800"/>
            <a:ext cx="720720" cy="720720"/>
          </a:xfrm>
          <a:prstGeom prst="ellipse">
            <a:avLst/>
          </a:prstGeom>
          <a:solidFill>
            <a:srgbClr val="3399ff"/>
          </a:solid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4"/>
          <p:cNvSpPr/>
          <p:nvPr/>
        </p:nvSpPr>
        <p:spPr>
          <a:xfrm>
            <a:off x="4782960" y="5334120"/>
            <a:ext cx="61920" cy="546120"/>
          </a:xfrm>
          <a:custGeom>
            <a:avLst/>
            <a:gdLst>
              <a:gd name="textAreaLeft" fmla="*/ 0 w 61920"/>
              <a:gd name="textAreaRight" fmla="*/ 62280 w 619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39" h="344">
                <a:moveTo>
                  <a:pt x="39" y="0"/>
                </a:moveTo>
                <a:lnTo>
                  <a:pt x="0" y="344"/>
                </a:lnTo>
                <a:lnTo>
                  <a:pt x="0" y="344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65"/>
          <p:cNvSpPr/>
          <p:nvPr/>
        </p:nvSpPr>
        <p:spPr>
          <a:xfrm>
            <a:off x="4968720" y="5337000"/>
            <a:ext cx="378000" cy="490680"/>
          </a:xfrm>
          <a:custGeom>
            <a:avLst/>
            <a:gdLst>
              <a:gd name="textAreaLeft" fmla="*/ 0 w 378000"/>
              <a:gd name="textAreaRight" fmla="*/ 378360 w 3780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238" h="309">
                <a:moveTo>
                  <a:pt x="0" y="0"/>
                </a:moveTo>
                <a:lnTo>
                  <a:pt x="238" y="309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6"/>
          <p:cNvSpPr/>
          <p:nvPr/>
        </p:nvSpPr>
        <p:spPr>
          <a:xfrm>
            <a:off x="5187960" y="5113440"/>
            <a:ext cx="141120" cy="60120"/>
          </a:xfrm>
          <a:custGeom>
            <a:avLst/>
            <a:gdLst>
              <a:gd name="textAreaLeft" fmla="*/ 0 w 141120"/>
              <a:gd name="textAreaRight" fmla="*/ 141480 w 14112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89" h="38">
                <a:moveTo>
                  <a:pt x="0" y="0"/>
                </a:moveTo>
                <a:lnTo>
                  <a:pt x="89" y="38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7"/>
          <p:cNvSpPr/>
          <p:nvPr/>
        </p:nvSpPr>
        <p:spPr>
          <a:xfrm rot="5340000">
            <a:off x="4284360" y="5983200"/>
            <a:ext cx="720720" cy="72072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68"/>
          <p:cNvSpPr/>
          <p:nvPr/>
        </p:nvSpPr>
        <p:spPr>
          <a:xfrm rot="5340000">
            <a:off x="5275080" y="5823000"/>
            <a:ext cx="720720" cy="72072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9"/>
          <p:cNvSpPr/>
          <p:nvPr/>
        </p:nvSpPr>
        <p:spPr>
          <a:xfrm rot="5340000">
            <a:off x="4403520" y="5883120"/>
            <a:ext cx="723960" cy="72072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0"/>
          <p:cNvSpPr/>
          <p:nvPr/>
        </p:nvSpPr>
        <p:spPr>
          <a:xfrm>
            <a:off x="4521240" y="4919760"/>
            <a:ext cx="747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1"/>
          <p:cNvSpPr/>
          <p:nvPr/>
        </p:nvSpPr>
        <p:spPr>
          <a:xfrm rot="5340000">
            <a:off x="3354120" y="4165560"/>
            <a:ext cx="720720" cy="72072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2"/>
          <p:cNvSpPr/>
          <p:nvPr/>
        </p:nvSpPr>
        <p:spPr>
          <a:xfrm rot="5340000">
            <a:off x="2404440" y="4870080"/>
            <a:ext cx="720720" cy="72396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3"/>
          <p:cNvSpPr/>
          <p:nvPr/>
        </p:nvSpPr>
        <p:spPr>
          <a:xfrm rot="5340000">
            <a:off x="3131640" y="5235480"/>
            <a:ext cx="720720" cy="72072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74"/>
          <p:cNvSpPr/>
          <p:nvPr/>
        </p:nvSpPr>
        <p:spPr>
          <a:xfrm rot="5340000">
            <a:off x="3939840" y="5216400"/>
            <a:ext cx="720720" cy="72072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5"/>
          <p:cNvSpPr/>
          <p:nvPr/>
        </p:nvSpPr>
        <p:spPr>
          <a:xfrm>
            <a:off x="3067200" y="4789440"/>
            <a:ext cx="485640" cy="303120"/>
          </a:xfrm>
          <a:custGeom>
            <a:avLst/>
            <a:gdLst>
              <a:gd name="textAreaLeft" fmla="*/ 0 w 485640"/>
              <a:gd name="textAreaRight" fmla="*/ 486000 w 48564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306" h="191">
                <a:moveTo>
                  <a:pt x="306" y="0"/>
                </a:moveTo>
                <a:lnTo>
                  <a:pt x="0" y="178"/>
                </a:lnTo>
                <a:lnTo>
                  <a:pt x="0" y="191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76"/>
          <p:cNvSpPr/>
          <p:nvPr/>
        </p:nvSpPr>
        <p:spPr>
          <a:xfrm>
            <a:off x="3632040" y="4930920"/>
            <a:ext cx="101880" cy="342720"/>
          </a:xfrm>
          <a:custGeom>
            <a:avLst/>
            <a:gdLst>
              <a:gd name="textAreaLeft" fmla="*/ 0 w 101880"/>
              <a:gd name="textAreaRight" fmla="*/ 102240 w 1018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64" h="216">
                <a:moveTo>
                  <a:pt x="64" y="0"/>
                </a:moveTo>
                <a:lnTo>
                  <a:pt x="0" y="216"/>
                </a:lnTo>
                <a:lnTo>
                  <a:pt x="13" y="216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77"/>
          <p:cNvSpPr/>
          <p:nvPr/>
        </p:nvSpPr>
        <p:spPr>
          <a:xfrm>
            <a:off x="3946680" y="4938840"/>
            <a:ext cx="237960" cy="426960"/>
          </a:xfrm>
          <a:custGeom>
            <a:avLst/>
            <a:gdLst>
              <a:gd name="textAreaLeft" fmla="*/ 0 w 237960"/>
              <a:gd name="textAreaRight" fmla="*/ 238320 w 23796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50" h="269">
                <a:moveTo>
                  <a:pt x="0" y="0"/>
                </a:moveTo>
                <a:lnTo>
                  <a:pt x="150" y="269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8"/>
          <p:cNvSpPr/>
          <p:nvPr/>
        </p:nvSpPr>
        <p:spPr>
          <a:xfrm rot="5340000">
            <a:off x="2242800" y="4834080"/>
            <a:ext cx="720720" cy="72072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79"/>
          <p:cNvSpPr/>
          <p:nvPr/>
        </p:nvSpPr>
        <p:spPr>
          <a:xfrm rot="5340000">
            <a:off x="3092040" y="5419800"/>
            <a:ext cx="720720" cy="72072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0"/>
          <p:cNvSpPr/>
          <p:nvPr/>
        </p:nvSpPr>
        <p:spPr>
          <a:xfrm rot="5340000">
            <a:off x="3879360" y="5337000"/>
            <a:ext cx="721080" cy="72072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3490920" y="4495680"/>
            <a:ext cx="78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IDO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2"/>
          <p:cNvSpPr/>
          <p:nvPr/>
        </p:nvSpPr>
        <p:spPr>
          <a:xfrm rot="5340000">
            <a:off x="585360" y="5052960"/>
            <a:ext cx="720720" cy="72396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3"/>
          <p:cNvSpPr/>
          <p:nvPr/>
        </p:nvSpPr>
        <p:spPr>
          <a:xfrm>
            <a:off x="552600" y="5381640"/>
            <a:ext cx="76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L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84"/>
          <p:cNvSpPr/>
          <p:nvPr/>
        </p:nvSpPr>
        <p:spPr>
          <a:xfrm rot="5340000">
            <a:off x="5212800" y="2385720"/>
            <a:ext cx="720720" cy="72396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85"/>
          <p:cNvSpPr/>
          <p:nvPr/>
        </p:nvSpPr>
        <p:spPr>
          <a:xfrm>
            <a:off x="5087880" y="3092400"/>
            <a:ext cx="303120" cy="403200"/>
          </a:xfrm>
          <a:custGeom>
            <a:avLst/>
            <a:gdLst>
              <a:gd name="textAreaLeft" fmla="*/ 0 w 303120"/>
              <a:gd name="textAreaRight" fmla="*/ 303480 w 3031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91" h="254">
                <a:moveTo>
                  <a:pt x="0" y="254"/>
                </a:moveTo>
                <a:lnTo>
                  <a:pt x="178" y="0"/>
                </a:lnTo>
                <a:lnTo>
                  <a:pt x="191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6"/>
          <p:cNvSpPr/>
          <p:nvPr/>
        </p:nvSpPr>
        <p:spPr>
          <a:xfrm rot="5340000">
            <a:off x="5838480" y="3054240"/>
            <a:ext cx="720720" cy="720720"/>
          </a:xfrm>
          <a:prstGeom prst="ellipse">
            <a:avLst/>
          </a:prstGeom>
          <a:blipFill rotWithShape="0">
            <a:blip r:embed="rId43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7"/>
          <p:cNvSpPr/>
          <p:nvPr/>
        </p:nvSpPr>
        <p:spPr>
          <a:xfrm rot="5340000">
            <a:off x="4525560" y="4610160"/>
            <a:ext cx="720720" cy="720720"/>
          </a:xfrm>
          <a:prstGeom prst="ellipse">
            <a:avLst/>
          </a:prstGeom>
          <a:blipFill rotWithShape="0">
            <a:blip r:embed="rId44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88"/>
          <p:cNvSpPr/>
          <p:nvPr/>
        </p:nvSpPr>
        <p:spPr>
          <a:xfrm>
            <a:off x="5248440" y="3557520"/>
            <a:ext cx="645840" cy="181080"/>
          </a:xfrm>
          <a:custGeom>
            <a:avLst/>
            <a:gdLst>
              <a:gd name="textAreaLeft" fmla="*/ 0 w 645840"/>
              <a:gd name="textAreaRight" fmla="*/ 645840 w 6458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407" h="114">
                <a:moveTo>
                  <a:pt x="0" y="114"/>
                </a:moveTo>
                <a:lnTo>
                  <a:pt x="407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89"/>
          <p:cNvSpPr/>
          <p:nvPr/>
        </p:nvSpPr>
        <p:spPr>
          <a:xfrm>
            <a:off x="4863960" y="4143240"/>
            <a:ext cx="360" cy="465120"/>
          </a:xfrm>
          <a:custGeom>
            <a:avLst/>
            <a:gdLst/>
            <a:ahLst/>
            <a:rect l="l" t="t" r="r" b="b"/>
            <a:pathLst>
              <a:path w="0" h="293">
                <a:moveTo>
                  <a:pt x="0" y="0"/>
                </a:moveTo>
                <a:lnTo>
                  <a:pt x="0" y="293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0"/>
          <p:cNvSpPr/>
          <p:nvPr/>
        </p:nvSpPr>
        <p:spPr>
          <a:xfrm>
            <a:off x="5208480" y="2697120"/>
            <a:ext cx="727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1"/>
          <p:cNvSpPr/>
          <p:nvPr/>
        </p:nvSpPr>
        <p:spPr>
          <a:xfrm>
            <a:off x="5794200" y="3403440"/>
            <a:ext cx="78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E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2"/>
          <p:cNvSpPr/>
          <p:nvPr/>
        </p:nvSpPr>
        <p:spPr>
          <a:xfrm>
            <a:off x="4521240" y="4919760"/>
            <a:ext cx="747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3"/>
          <p:cNvSpPr/>
          <p:nvPr/>
        </p:nvSpPr>
        <p:spPr>
          <a:xfrm rot="5340000">
            <a:off x="3495240" y="4205160"/>
            <a:ext cx="720720" cy="720720"/>
          </a:xfrm>
          <a:prstGeom prst="ellipse">
            <a:avLst/>
          </a:prstGeom>
          <a:blipFill rotWithShape="0">
            <a:blip r:embed="rId45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4"/>
          <p:cNvSpPr/>
          <p:nvPr/>
        </p:nvSpPr>
        <p:spPr>
          <a:xfrm>
            <a:off x="3490920" y="4495680"/>
            <a:ext cx="78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IDO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95"/>
          <p:cNvSpPr/>
          <p:nvPr/>
        </p:nvSpPr>
        <p:spPr>
          <a:xfrm>
            <a:off x="3592440" y="1920960"/>
            <a:ext cx="1231920" cy="151452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1514520"/>
              <a:gd name="textAreaBottom" fmla="*/ 1514880 h 1514520"/>
            </a:gdLst>
            <a:ahLst/>
            <a:rect l="textAreaLeft" t="textAreaTop" r="textAreaRight" b="textAreaBottom"/>
            <a:pathLst>
              <a:path w="776" h="954">
                <a:moveTo>
                  <a:pt x="776" y="954"/>
                </a:moveTo>
                <a:lnTo>
                  <a:pt x="776" y="947"/>
                </a:lnTo>
                <a:lnTo>
                  <a:pt x="775" y="940"/>
                </a:lnTo>
                <a:lnTo>
                  <a:pt x="775" y="933"/>
                </a:lnTo>
                <a:lnTo>
                  <a:pt x="775" y="926"/>
                </a:lnTo>
                <a:lnTo>
                  <a:pt x="774" y="919"/>
                </a:lnTo>
                <a:lnTo>
                  <a:pt x="774" y="912"/>
                </a:lnTo>
                <a:lnTo>
                  <a:pt x="774" y="905"/>
                </a:lnTo>
                <a:lnTo>
                  <a:pt x="773" y="898"/>
                </a:lnTo>
                <a:lnTo>
                  <a:pt x="773" y="892"/>
                </a:lnTo>
                <a:lnTo>
                  <a:pt x="772" y="885"/>
                </a:lnTo>
                <a:lnTo>
                  <a:pt x="771" y="878"/>
                </a:lnTo>
                <a:lnTo>
                  <a:pt x="771" y="871"/>
                </a:lnTo>
                <a:lnTo>
                  <a:pt x="770" y="864"/>
                </a:lnTo>
                <a:lnTo>
                  <a:pt x="769" y="857"/>
                </a:lnTo>
                <a:lnTo>
                  <a:pt x="768" y="850"/>
                </a:lnTo>
                <a:lnTo>
                  <a:pt x="767" y="843"/>
                </a:lnTo>
                <a:lnTo>
                  <a:pt x="766" y="837"/>
                </a:lnTo>
                <a:lnTo>
                  <a:pt x="766" y="830"/>
                </a:lnTo>
                <a:lnTo>
                  <a:pt x="765" y="823"/>
                </a:lnTo>
                <a:lnTo>
                  <a:pt x="763" y="816"/>
                </a:lnTo>
                <a:lnTo>
                  <a:pt x="762" y="809"/>
                </a:lnTo>
                <a:lnTo>
                  <a:pt x="761" y="803"/>
                </a:lnTo>
                <a:lnTo>
                  <a:pt x="760" y="796"/>
                </a:lnTo>
                <a:lnTo>
                  <a:pt x="759" y="789"/>
                </a:lnTo>
                <a:lnTo>
                  <a:pt x="757" y="782"/>
                </a:lnTo>
                <a:lnTo>
                  <a:pt x="756" y="776"/>
                </a:lnTo>
                <a:lnTo>
                  <a:pt x="755" y="769"/>
                </a:lnTo>
                <a:lnTo>
                  <a:pt x="753" y="762"/>
                </a:lnTo>
                <a:lnTo>
                  <a:pt x="752" y="756"/>
                </a:lnTo>
                <a:lnTo>
                  <a:pt x="750" y="749"/>
                </a:lnTo>
                <a:lnTo>
                  <a:pt x="749" y="742"/>
                </a:lnTo>
                <a:lnTo>
                  <a:pt x="747" y="736"/>
                </a:lnTo>
                <a:lnTo>
                  <a:pt x="746" y="729"/>
                </a:lnTo>
                <a:lnTo>
                  <a:pt x="744" y="723"/>
                </a:lnTo>
                <a:lnTo>
                  <a:pt x="742" y="716"/>
                </a:lnTo>
                <a:lnTo>
                  <a:pt x="740" y="710"/>
                </a:lnTo>
                <a:lnTo>
                  <a:pt x="739" y="703"/>
                </a:lnTo>
                <a:lnTo>
                  <a:pt x="737" y="697"/>
                </a:lnTo>
                <a:lnTo>
                  <a:pt x="735" y="690"/>
                </a:lnTo>
                <a:lnTo>
                  <a:pt x="733" y="684"/>
                </a:lnTo>
                <a:lnTo>
                  <a:pt x="731" y="677"/>
                </a:lnTo>
                <a:lnTo>
                  <a:pt x="729" y="671"/>
                </a:lnTo>
                <a:lnTo>
                  <a:pt x="727" y="664"/>
                </a:lnTo>
                <a:lnTo>
                  <a:pt x="725" y="658"/>
                </a:lnTo>
                <a:lnTo>
                  <a:pt x="723" y="651"/>
                </a:lnTo>
                <a:lnTo>
                  <a:pt x="720" y="645"/>
                </a:lnTo>
                <a:lnTo>
                  <a:pt x="718" y="639"/>
                </a:lnTo>
                <a:lnTo>
                  <a:pt x="716" y="632"/>
                </a:lnTo>
                <a:lnTo>
                  <a:pt x="714" y="626"/>
                </a:lnTo>
                <a:lnTo>
                  <a:pt x="711" y="620"/>
                </a:lnTo>
                <a:lnTo>
                  <a:pt x="709" y="613"/>
                </a:lnTo>
                <a:lnTo>
                  <a:pt x="706" y="607"/>
                </a:lnTo>
                <a:lnTo>
                  <a:pt x="704" y="601"/>
                </a:lnTo>
                <a:lnTo>
                  <a:pt x="701" y="595"/>
                </a:lnTo>
                <a:lnTo>
                  <a:pt x="699" y="589"/>
                </a:lnTo>
                <a:lnTo>
                  <a:pt x="696" y="582"/>
                </a:lnTo>
                <a:lnTo>
                  <a:pt x="694" y="576"/>
                </a:lnTo>
                <a:lnTo>
                  <a:pt x="691" y="570"/>
                </a:lnTo>
                <a:lnTo>
                  <a:pt x="688" y="564"/>
                </a:lnTo>
                <a:lnTo>
                  <a:pt x="685" y="558"/>
                </a:lnTo>
                <a:lnTo>
                  <a:pt x="683" y="552"/>
                </a:lnTo>
                <a:lnTo>
                  <a:pt x="680" y="546"/>
                </a:lnTo>
                <a:lnTo>
                  <a:pt x="677" y="540"/>
                </a:lnTo>
                <a:lnTo>
                  <a:pt x="674" y="534"/>
                </a:lnTo>
                <a:lnTo>
                  <a:pt x="671" y="528"/>
                </a:lnTo>
                <a:lnTo>
                  <a:pt x="668" y="522"/>
                </a:lnTo>
                <a:lnTo>
                  <a:pt x="665" y="516"/>
                </a:lnTo>
                <a:lnTo>
                  <a:pt x="662" y="510"/>
                </a:lnTo>
                <a:lnTo>
                  <a:pt x="659" y="504"/>
                </a:lnTo>
                <a:lnTo>
                  <a:pt x="656" y="498"/>
                </a:lnTo>
                <a:lnTo>
                  <a:pt x="652" y="492"/>
                </a:lnTo>
                <a:lnTo>
                  <a:pt x="649" y="486"/>
                </a:lnTo>
                <a:lnTo>
                  <a:pt x="646" y="481"/>
                </a:lnTo>
                <a:lnTo>
                  <a:pt x="643" y="475"/>
                </a:lnTo>
                <a:lnTo>
                  <a:pt x="639" y="469"/>
                </a:lnTo>
                <a:lnTo>
                  <a:pt x="636" y="463"/>
                </a:lnTo>
                <a:lnTo>
                  <a:pt x="632" y="458"/>
                </a:lnTo>
                <a:lnTo>
                  <a:pt x="629" y="452"/>
                </a:lnTo>
                <a:lnTo>
                  <a:pt x="625" y="446"/>
                </a:lnTo>
                <a:lnTo>
                  <a:pt x="622" y="441"/>
                </a:lnTo>
                <a:lnTo>
                  <a:pt x="618" y="435"/>
                </a:lnTo>
                <a:lnTo>
                  <a:pt x="615" y="429"/>
                </a:lnTo>
                <a:lnTo>
                  <a:pt x="611" y="424"/>
                </a:lnTo>
                <a:lnTo>
                  <a:pt x="607" y="418"/>
                </a:lnTo>
                <a:lnTo>
                  <a:pt x="604" y="413"/>
                </a:lnTo>
                <a:lnTo>
                  <a:pt x="600" y="407"/>
                </a:lnTo>
                <a:lnTo>
                  <a:pt x="596" y="402"/>
                </a:lnTo>
                <a:lnTo>
                  <a:pt x="592" y="396"/>
                </a:lnTo>
                <a:lnTo>
                  <a:pt x="588" y="391"/>
                </a:lnTo>
                <a:lnTo>
                  <a:pt x="584" y="386"/>
                </a:lnTo>
                <a:lnTo>
                  <a:pt x="581" y="380"/>
                </a:lnTo>
                <a:lnTo>
                  <a:pt x="577" y="375"/>
                </a:lnTo>
                <a:lnTo>
                  <a:pt x="573" y="370"/>
                </a:lnTo>
                <a:lnTo>
                  <a:pt x="569" y="364"/>
                </a:lnTo>
                <a:lnTo>
                  <a:pt x="564" y="359"/>
                </a:lnTo>
                <a:lnTo>
                  <a:pt x="560" y="354"/>
                </a:lnTo>
                <a:lnTo>
                  <a:pt x="556" y="349"/>
                </a:lnTo>
                <a:lnTo>
                  <a:pt x="552" y="343"/>
                </a:lnTo>
                <a:lnTo>
                  <a:pt x="548" y="338"/>
                </a:lnTo>
                <a:lnTo>
                  <a:pt x="544" y="333"/>
                </a:lnTo>
                <a:lnTo>
                  <a:pt x="539" y="328"/>
                </a:lnTo>
                <a:lnTo>
                  <a:pt x="535" y="323"/>
                </a:lnTo>
                <a:lnTo>
                  <a:pt x="531" y="318"/>
                </a:lnTo>
                <a:lnTo>
                  <a:pt x="526" y="313"/>
                </a:lnTo>
                <a:lnTo>
                  <a:pt x="522" y="308"/>
                </a:lnTo>
                <a:lnTo>
                  <a:pt x="517" y="303"/>
                </a:lnTo>
                <a:lnTo>
                  <a:pt x="513" y="298"/>
                </a:lnTo>
                <a:lnTo>
                  <a:pt x="508" y="293"/>
                </a:lnTo>
                <a:lnTo>
                  <a:pt x="504" y="288"/>
                </a:lnTo>
                <a:lnTo>
                  <a:pt x="499" y="284"/>
                </a:lnTo>
                <a:lnTo>
                  <a:pt x="495" y="279"/>
                </a:lnTo>
                <a:lnTo>
                  <a:pt x="490" y="274"/>
                </a:lnTo>
                <a:lnTo>
                  <a:pt x="485" y="269"/>
                </a:lnTo>
                <a:lnTo>
                  <a:pt x="481" y="265"/>
                </a:lnTo>
                <a:lnTo>
                  <a:pt x="476" y="260"/>
                </a:lnTo>
                <a:lnTo>
                  <a:pt x="471" y="255"/>
                </a:lnTo>
                <a:lnTo>
                  <a:pt x="466" y="251"/>
                </a:lnTo>
                <a:lnTo>
                  <a:pt x="462" y="246"/>
                </a:lnTo>
                <a:lnTo>
                  <a:pt x="457" y="241"/>
                </a:lnTo>
                <a:lnTo>
                  <a:pt x="452" y="237"/>
                </a:lnTo>
                <a:lnTo>
                  <a:pt x="447" y="232"/>
                </a:lnTo>
                <a:lnTo>
                  <a:pt x="442" y="228"/>
                </a:lnTo>
                <a:lnTo>
                  <a:pt x="437" y="224"/>
                </a:lnTo>
                <a:lnTo>
                  <a:pt x="432" y="219"/>
                </a:lnTo>
                <a:lnTo>
                  <a:pt x="427" y="215"/>
                </a:lnTo>
                <a:lnTo>
                  <a:pt x="422" y="211"/>
                </a:lnTo>
                <a:lnTo>
                  <a:pt x="417" y="206"/>
                </a:lnTo>
                <a:lnTo>
                  <a:pt x="411" y="202"/>
                </a:lnTo>
                <a:lnTo>
                  <a:pt x="406" y="198"/>
                </a:lnTo>
                <a:lnTo>
                  <a:pt x="401" y="194"/>
                </a:lnTo>
                <a:lnTo>
                  <a:pt x="396" y="189"/>
                </a:lnTo>
                <a:lnTo>
                  <a:pt x="391" y="185"/>
                </a:lnTo>
                <a:lnTo>
                  <a:pt x="385" y="181"/>
                </a:lnTo>
                <a:lnTo>
                  <a:pt x="380" y="177"/>
                </a:lnTo>
                <a:lnTo>
                  <a:pt x="375" y="173"/>
                </a:lnTo>
                <a:lnTo>
                  <a:pt x="369" y="169"/>
                </a:lnTo>
                <a:lnTo>
                  <a:pt x="364" y="165"/>
                </a:lnTo>
                <a:lnTo>
                  <a:pt x="358" y="161"/>
                </a:lnTo>
                <a:lnTo>
                  <a:pt x="353" y="157"/>
                </a:lnTo>
                <a:lnTo>
                  <a:pt x="348" y="153"/>
                </a:lnTo>
                <a:lnTo>
                  <a:pt x="342" y="150"/>
                </a:lnTo>
                <a:lnTo>
                  <a:pt x="336" y="146"/>
                </a:lnTo>
                <a:lnTo>
                  <a:pt x="331" y="142"/>
                </a:lnTo>
                <a:lnTo>
                  <a:pt x="325" y="138"/>
                </a:lnTo>
                <a:lnTo>
                  <a:pt x="320" y="135"/>
                </a:lnTo>
                <a:lnTo>
                  <a:pt x="314" y="131"/>
                </a:lnTo>
                <a:lnTo>
                  <a:pt x="308" y="128"/>
                </a:lnTo>
                <a:lnTo>
                  <a:pt x="303" y="124"/>
                </a:lnTo>
                <a:lnTo>
                  <a:pt x="297" y="120"/>
                </a:lnTo>
                <a:lnTo>
                  <a:pt x="291" y="117"/>
                </a:lnTo>
                <a:lnTo>
                  <a:pt x="285" y="114"/>
                </a:lnTo>
                <a:lnTo>
                  <a:pt x="280" y="110"/>
                </a:lnTo>
                <a:lnTo>
                  <a:pt x="274" y="107"/>
                </a:lnTo>
                <a:lnTo>
                  <a:pt x="268" y="103"/>
                </a:lnTo>
                <a:lnTo>
                  <a:pt x="262" y="100"/>
                </a:lnTo>
                <a:lnTo>
                  <a:pt x="256" y="97"/>
                </a:lnTo>
                <a:lnTo>
                  <a:pt x="250" y="94"/>
                </a:lnTo>
                <a:lnTo>
                  <a:pt x="244" y="90"/>
                </a:lnTo>
                <a:lnTo>
                  <a:pt x="238" y="87"/>
                </a:lnTo>
                <a:lnTo>
                  <a:pt x="232" y="84"/>
                </a:lnTo>
                <a:lnTo>
                  <a:pt x="226" y="81"/>
                </a:lnTo>
                <a:lnTo>
                  <a:pt x="220" y="78"/>
                </a:lnTo>
                <a:lnTo>
                  <a:pt x="214" y="75"/>
                </a:lnTo>
                <a:lnTo>
                  <a:pt x="208" y="72"/>
                </a:lnTo>
                <a:lnTo>
                  <a:pt x="202" y="69"/>
                </a:lnTo>
                <a:lnTo>
                  <a:pt x="195" y="66"/>
                </a:lnTo>
                <a:lnTo>
                  <a:pt x="189" y="64"/>
                </a:lnTo>
                <a:lnTo>
                  <a:pt x="183" y="61"/>
                </a:lnTo>
                <a:lnTo>
                  <a:pt x="177" y="58"/>
                </a:lnTo>
                <a:lnTo>
                  <a:pt x="170" y="55"/>
                </a:lnTo>
                <a:lnTo>
                  <a:pt x="164" y="53"/>
                </a:lnTo>
                <a:lnTo>
                  <a:pt x="158" y="50"/>
                </a:lnTo>
                <a:lnTo>
                  <a:pt x="152" y="47"/>
                </a:lnTo>
                <a:lnTo>
                  <a:pt x="145" y="45"/>
                </a:lnTo>
                <a:lnTo>
                  <a:pt x="139" y="42"/>
                </a:lnTo>
                <a:lnTo>
                  <a:pt x="132" y="40"/>
                </a:lnTo>
                <a:lnTo>
                  <a:pt x="126" y="38"/>
                </a:lnTo>
                <a:lnTo>
                  <a:pt x="119" y="35"/>
                </a:lnTo>
                <a:lnTo>
                  <a:pt x="113" y="33"/>
                </a:lnTo>
                <a:lnTo>
                  <a:pt x="107" y="31"/>
                </a:lnTo>
                <a:lnTo>
                  <a:pt x="100" y="28"/>
                </a:lnTo>
                <a:lnTo>
                  <a:pt x="93" y="26"/>
                </a:lnTo>
                <a:lnTo>
                  <a:pt x="87" y="24"/>
                </a:lnTo>
                <a:lnTo>
                  <a:pt x="80" y="22"/>
                </a:lnTo>
                <a:lnTo>
                  <a:pt x="74" y="20"/>
                </a:lnTo>
                <a:lnTo>
                  <a:pt x="67" y="18"/>
                </a:lnTo>
                <a:lnTo>
                  <a:pt x="60" y="16"/>
                </a:lnTo>
                <a:lnTo>
                  <a:pt x="54" y="14"/>
                </a:lnTo>
                <a:lnTo>
                  <a:pt x="47" y="12"/>
                </a:lnTo>
                <a:lnTo>
                  <a:pt x="40" y="10"/>
                </a:lnTo>
                <a:lnTo>
                  <a:pt x="34" y="8"/>
                </a:lnTo>
                <a:lnTo>
                  <a:pt x="27" y="6"/>
                </a:lnTo>
                <a:lnTo>
                  <a:pt x="20" y="5"/>
                </a:lnTo>
                <a:lnTo>
                  <a:pt x="13" y="3"/>
                </a:lnTo>
                <a:lnTo>
                  <a:pt x="6" y="1"/>
                </a:lnTo>
                <a:lnTo>
                  <a:pt x="0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6"/>
          <p:cNvSpPr/>
          <p:nvPr/>
        </p:nvSpPr>
        <p:spPr>
          <a:xfrm rot="5340000">
            <a:off x="3171600" y="1598760"/>
            <a:ext cx="720720" cy="720720"/>
          </a:xfrm>
          <a:prstGeom prst="ellipse">
            <a:avLst/>
          </a:prstGeom>
          <a:blipFill rotWithShape="0">
            <a:blip r:embed="rId46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97"/>
          <p:cNvSpPr/>
          <p:nvPr/>
        </p:nvSpPr>
        <p:spPr>
          <a:xfrm>
            <a:off x="4218120" y="3375000"/>
            <a:ext cx="384120" cy="162000"/>
          </a:xfrm>
          <a:custGeom>
            <a:avLst/>
            <a:gdLst>
              <a:gd name="textAreaLeft" fmla="*/ 0 w 384120"/>
              <a:gd name="textAreaRight" fmla="*/ 384480 w 38412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242" h="102">
                <a:moveTo>
                  <a:pt x="242" y="102"/>
                </a:moveTo>
                <a:lnTo>
                  <a:pt x="0" y="0"/>
                </a:lnTo>
                <a:lnTo>
                  <a:pt x="51" y="25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8"/>
          <p:cNvSpPr/>
          <p:nvPr/>
        </p:nvSpPr>
        <p:spPr>
          <a:xfrm>
            <a:off x="4157640" y="4041720"/>
            <a:ext cx="444600" cy="324000"/>
          </a:xfrm>
          <a:custGeom>
            <a:avLst/>
            <a:gdLst>
              <a:gd name="textAreaLeft" fmla="*/ 0 w 444600"/>
              <a:gd name="textAreaRight" fmla="*/ 444960 w 4446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80" h="204">
                <a:moveTo>
                  <a:pt x="280" y="0"/>
                </a:moveTo>
                <a:lnTo>
                  <a:pt x="0" y="191"/>
                </a:lnTo>
                <a:lnTo>
                  <a:pt x="0" y="204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9"/>
          <p:cNvSpPr/>
          <p:nvPr/>
        </p:nvSpPr>
        <p:spPr>
          <a:xfrm>
            <a:off x="3166920" y="1928880"/>
            <a:ext cx="727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A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0"/>
          <p:cNvSpPr/>
          <p:nvPr/>
        </p:nvSpPr>
        <p:spPr>
          <a:xfrm rot="5340000">
            <a:off x="7583040" y="2205000"/>
            <a:ext cx="720720" cy="723960"/>
          </a:xfrm>
          <a:prstGeom prst="ellipse">
            <a:avLst/>
          </a:prstGeom>
          <a:noFill/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1"/>
          <p:cNvSpPr/>
          <p:nvPr/>
        </p:nvSpPr>
        <p:spPr>
          <a:xfrm rot="5340000">
            <a:off x="1366200" y="5365440"/>
            <a:ext cx="720720" cy="723960"/>
          </a:xfrm>
          <a:prstGeom prst="ellipse">
            <a:avLst/>
          </a:prstGeom>
          <a:blipFill rotWithShape="0">
            <a:blip r:embed="rId47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2"/>
          <p:cNvSpPr/>
          <p:nvPr/>
        </p:nvSpPr>
        <p:spPr>
          <a:xfrm rot="5340000">
            <a:off x="2093400" y="5732640"/>
            <a:ext cx="720720" cy="720720"/>
          </a:xfrm>
          <a:prstGeom prst="ellipse">
            <a:avLst/>
          </a:prstGeom>
          <a:blipFill rotWithShape="0">
            <a:blip r:embed="rId48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03"/>
          <p:cNvSpPr/>
          <p:nvPr/>
        </p:nvSpPr>
        <p:spPr>
          <a:xfrm>
            <a:off x="2073240" y="5392800"/>
            <a:ext cx="279360" cy="174600"/>
          </a:xfrm>
          <a:custGeom>
            <a:avLst/>
            <a:gdLst>
              <a:gd name="textAreaLeft" fmla="*/ 0 w 279360"/>
              <a:gd name="textAreaRight" fmla="*/ 279720 w 2793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76" h="110">
                <a:moveTo>
                  <a:pt x="176" y="0"/>
                </a:moveTo>
                <a:lnTo>
                  <a:pt x="0" y="103"/>
                </a:lnTo>
                <a:lnTo>
                  <a:pt x="0" y="11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04"/>
          <p:cNvSpPr/>
          <p:nvPr/>
        </p:nvSpPr>
        <p:spPr>
          <a:xfrm>
            <a:off x="2590920" y="5583240"/>
            <a:ext cx="50760" cy="174600"/>
          </a:xfrm>
          <a:custGeom>
            <a:avLst/>
            <a:gdLst>
              <a:gd name="textAreaLeft" fmla="*/ 0 w 50760"/>
              <a:gd name="textAreaRight" fmla="*/ 51120 w 50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32" h="110">
                <a:moveTo>
                  <a:pt x="32" y="0"/>
                </a:moveTo>
                <a:lnTo>
                  <a:pt x="0" y="110"/>
                </a:lnTo>
                <a:lnTo>
                  <a:pt x="6" y="11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05"/>
          <p:cNvSpPr/>
          <p:nvPr/>
        </p:nvSpPr>
        <p:spPr>
          <a:xfrm>
            <a:off x="8137440" y="2909880"/>
            <a:ext cx="184320" cy="222120"/>
          </a:xfrm>
          <a:custGeom>
            <a:avLst/>
            <a:gdLst>
              <a:gd name="textAreaLeft" fmla="*/ 0 w 184320"/>
              <a:gd name="textAreaRight" fmla="*/ 184680 w 1843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16" h="140">
                <a:moveTo>
                  <a:pt x="0" y="0"/>
                </a:moveTo>
                <a:lnTo>
                  <a:pt x="116" y="14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6"/>
          <p:cNvSpPr/>
          <p:nvPr/>
        </p:nvSpPr>
        <p:spPr>
          <a:xfrm rot="5340000">
            <a:off x="8200800" y="3033720"/>
            <a:ext cx="723960" cy="723600"/>
          </a:xfrm>
          <a:prstGeom prst="ellipse">
            <a:avLst/>
          </a:prstGeom>
          <a:blipFill rotWithShape="0">
            <a:blip r:embed="rId49"/>
            <a:srcRect/>
            <a:stretch/>
          </a:blipFill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07"/>
          <p:cNvSpPr/>
          <p:nvPr/>
        </p:nvSpPr>
        <p:spPr>
          <a:xfrm>
            <a:off x="8120160" y="1822320"/>
            <a:ext cx="155520" cy="443160"/>
          </a:xfrm>
          <a:custGeom>
            <a:avLst/>
            <a:gdLst>
              <a:gd name="textAreaLeft" fmla="*/ 0 w 155520"/>
              <a:gd name="textAreaRight" fmla="*/ 155880 w 1555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98" h="279">
                <a:moveTo>
                  <a:pt x="0" y="279"/>
                </a:moveTo>
                <a:lnTo>
                  <a:pt x="98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08"/>
          <p:cNvSpPr/>
          <p:nvPr/>
        </p:nvSpPr>
        <p:spPr>
          <a:xfrm rot="5340000">
            <a:off x="7980120" y="1215720"/>
            <a:ext cx="723960" cy="720720"/>
          </a:xfrm>
          <a:prstGeom prst="ellipse">
            <a:avLst/>
          </a:prstGeom>
          <a:blipFill rotWithShape="0">
            <a:blip r:embed="rId50"/>
            <a:srcRect/>
            <a:stretch/>
          </a:blipFill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09"/>
          <p:cNvSpPr/>
          <p:nvPr/>
        </p:nvSpPr>
        <p:spPr>
          <a:xfrm>
            <a:off x="5208480" y="2665440"/>
            <a:ext cx="2405160" cy="93168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1515" h="587">
                <a:moveTo>
                  <a:pt x="1515" y="2"/>
                </a:moveTo>
                <a:lnTo>
                  <a:pt x="1507" y="2"/>
                </a:lnTo>
                <a:lnTo>
                  <a:pt x="1500" y="2"/>
                </a:lnTo>
                <a:lnTo>
                  <a:pt x="1493" y="1"/>
                </a:lnTo>
                <a:lnTo>
                  <a:pt x="1486" y="1"/>
                </a:lnTo>
                <a:lnTo>
                  <a:pt x="1479" y="1"/>
                </a:lnTo>
                <a:lnTo>
                  <a:pt x="1472" y="0"/>
                </a:lnTo>
                <a:lnTo>
                  <a:pt x="1465" y="0"/>
                </a:lnTo>
                <a:lnTo>
                  <a:pt x="1458" y="0"/>
                </a:lnTo>
                <a:lnTo>
                  <a:pt x="1451" y="0"/>
                </a:lnTo>
                <a:lnTo>
                  <a:pt x="1443" y="0"/>
                </a:lnTo>
                <a:lnTo>
                  <a:pt x="1436" y="0"/>
                </a:lnTo>
                <a:lnTo>
                  <a:pt x="1429" y="0"/>
                </a:lnTo>
                <a:lnTo>
                  <a:pt x="1422" y="0"/>
                </a:lnTo>
                <a:lnTo>
                  <a:pt x="1415" y="0"/>
                </a:lnTo>
                <a:lnTo>
                  <a:pt x="1408" y="0"/>
                </a:lnTo>
                <a:lnTo>
                  <a:pt x="1401" y="0"/>
                </a:lnTo>
                <a:lnTo>
                  <a:pt x="1394" y="0"/>
                </a:lnTo>
                <a:lnTo>
                  <a:pt x="1387" y="0"/>
                </a:lnTo>
                <a:lnTo>
                  <a:pt x="1380" y="0"/>
                </a:lnTo>
                <a:lnTo>
                  <a:pt x="1373" y="0"/>
                </a:lnTo>
                <a:lnTo>
                  <a:pt x="1365" y="0"/>
                </a:lnTo>
                <a:lnTo>
                  <a:pt x="1358" y="0"/>
                </a:lnTo>
                <a:lnTo>
                  <a:pt x="1351" y="0"/>
                </a:lnTo>
                <a:lnTo>
                  <a:pt x="1344" y="1"/>
                </a:lnTo>
                <a:lnTo>
                  <a:pt x="1337" y="1"/>
                </a:lnTo>
                <a:lnTo>
                  <a:pt x="1330" y="1"/>
                </a:lnTo>
                <a:lnTo>
                  <a:pt x="1323" y="2"/>
                </a:lnTo>
                <a:lnTo>
                  <a:pt x="1316" y="2"/>
                </a:lnTo>
                <a:lnTo>
                  <a:pt x="1309" y="2"/>
                </a:lnTo>
                <a:lnTo>
                  <a:pt x="1302" y="3"/>
                </a:lnTo>
                <a:lnTo>
                  <a:pt x="1295" y="3"/>
                </a:lnTo>
                <a:lnTo>
                  <a:pt x="1288" y="3"/>
                </a:lnTo>
                <a:lnTo>
                  <a:pt x="1281" y="4"/>
                </a:lnTo>
                <a:lnTo>
                  <a:pt x="1274" y="4"/>
                </a:lnTo>
                <a:lnTo>
                  <a:pt x="1267" y="5"/>
                </a:lnTo>
                <a:lnTo>
                  <a:pt x="1260" y="5"/>
                </a:lnTo>
                <a:lnTo>
                  <a:pt x="1253" y="6"/>
                </a:lnTo>
                <a:lnTo>
                  <a:pt x="1246" y="6"/>
                </a:lnTo>
                <a:lnTo>
                  <a:pt x="1239" y="7"/>
                </a:lnTo>
                <a:lnTo>
                  <a:pt x="1232" y="8"/>
                </a:lnTo>
                <a:lnTo>
                  <a:pt x="1225" y="8"/>
                </a:lnTo>
                <a:lnTo>
                  <a:pt x="1218" y="9"/>
                </a:lnTo>
                <a:lnTo>
                  <a:pt x="1211" y="10"/>
                </a:lnTo>
                <a:lnTo>
                  <a:pt x="1204" y="10"/>
                </a:lnTo>
                <a:lnTo>
                  <a:pt x="1197" y="11"/>
                </a:lnTo>
                <a:lnTo>
                  <a:pt x="1190" y="12"/>
                </a:lnTo>
                <a:lnTo>
                  <a:pt x="1183" y="13"/>
                </a:lnTo>
                <a:lnTo>
                  <a:pt x="1176" y="14"/>
                </a:lnTo>
                <a:lnTo>
                  <a:pt x="1169" y="14"/>
                </a:lnTo>
                <a:lnTo>
                  <a:pt x="1162" y="15"/>
                </a:lnTo>
                <a:lnTo>
                  <a:pt x="1155" y="16"/>
                </a:lnTo>
                <a:lnTo>
                  <a:pt x="1148" y="17"/>
                </a:lnTo>
                <a:lnTo>
                  <a:pt x="1141" y="18"/>
                </a:lnTo>
                <a:lnTo>
                  <a:pt x="1134" y="19"/>
                </a:lnTo>
                <a:lnTo>
                  <a:pt x="1127" y="20"/>
                </a:lnTo>
                <a:lnTo>
                  <a:pt x="1120" y="21"/>
                </a:lnTo>
                <a:lnTo>
                  <a:pt x="1113" y="22"/>
                </a:lnTo>
                <a:lnTo>
                  <a:pt x="1106" y="23"/>
                </a:lnTo>
                <a:lnTo>
                  <a:pt x="1099" y="24"/>
                </a:lnTo>
                <a:lnTo>
                  <a:pt x="1092" y="25"/>
                </a:lnTo>
                <a:lnTo>
                  <a:pt x="1085" y="27"/>
                </a:lnTo>
                <a:lnTo>
                  <a:pt x="1078" y="28"/>
                </a:lnTo>
                <a:lnTo>
                  <a:pt x="1071" y="29"/>
                </a:lnTo>
                <a:lnTo>
                  <a:pt x="1065" y="30"/>
                </a:lnTo>
                <a:lnTo>
                  <a:pt x="1058" y="31"/>
                </a:lnTo>
                <a:lnTo>
                  <a:pt x="1051" y="33"/>
                </a:lnTo>
                <a:lnTo>
                  <a:pt x="1044" y="34"/>
                </a:lnTo>
                <a:lnTo>
                  <a:pt x="1037" y="35"/>
                </a:lnTo>
                <a:lnTo>
                  <a:pt x="1030" y="37"/>
                </a:lnTo>
                <a:lnTo>
                  <a:pt x="1023" y="38"/>
                </a:lnTo>
                <a:lnTo>
                  <a:pt x="1016" y="39"/>
                </a:lnTo>
                <a:lnTo>
                  <a:pt x="1010" y="41"/>
                </a:lnTo>
                <a:lnTo>
                  <a:pt x="1003" y="42"/>
                </a:lnTo>
                <a:lnTo>
                  <a:pt x="996" y="44"/>
                </a:lnTo>
                <a:lnTo>
                  <a:pt x="989" y="45"/>
                </a:lnTo>
                <a:lnTo>
                  <a:pt x="982" y="47"/>
                </a:lnTo>
                <a:lnTo>
                  <a:pt x="975" y="48"/>
                </a:lnTo>
                <a:lnTo>
                  <a:pt x="968" y="50"/>
                </a:lnTo>
                <a:lnTo>
                  <a:pt x="962" y="51"/>
                </a:lnTo>
                <a:lnTo>
                  <a:pt x="955" y="53"/>
                </a:lnTo>
                <a:lnTo>
                  <a:pt x="948" y="54"/>
                </a:lnTo>
                <a:lnTo>
                  <a:pt x="941" y="56"/>
                </a:lnTo>
                <a:lnTo>
                  <a:pt x="934" y="58"/>
                </a:lnTo>
                <a:lnTo>
                  <a:pt x="928" y="59"/>
                </a:lnTo>
                <a:lnTo>
                  <a:pt x="921" y="61"/>
                </a:lnTo>
                <a:lnTo>
                  <a:pt x="914" y="63"/>
                </a:lnTo>
                <a:lnTo>
                  <a:pt x="907" y="65"/>
                </a:lnTo>
                <a:lnTo>
                  <a:pt x="901" y="66"/>
                </a:lnTo>
                <a:lnTo>
                  <a:pt x="894" y="68"/>
                </a:lnTo>
                <a:lnTo>
                  <a:pt x="887" y="70"/>
                </a:lnTo>
                <a:lnTo>
                  <a:pt x="880" y="72"/>
                </a:lnTo>
                <a:lnTo>
                  <a:pt x="874" y="74"/>
                </a:lnTo>
                <a:lnTo>
                  <a:pt x="867" y="76"/>
                </a:lnTo>
                <a:lnTo>
                  <a:pt x="860" y="78"/>
                </a:lnTo>
                <a:lnTo>
                  <a:pt x="854" y="80"/>
                </a:lnTo>
                <a:lnTo>
                  <a:pt x="847" y="81"/>
                </a:lnTo>
                <a:lnTo>
                  <a:pt x="840" y="83"/>
                </a:lnTo>
                <a:lnTo>
                  <a:pt x="833" y="85"/>
                </a:lnTo>
                <a:lnTo>
                  <a:pt x="827" y="88"/>
                </a:lnTo>
                <a:lnTo>
                  <a:pt x="820" y="90"/>
                </a:lnTo>
                <a:lnTo>
                  <a:pt x="813" y="92"/>
                </a:lnTo>
                <a:lnTo>
                  <a:pt x="807" y="94"/>
                </a:lnTo>
                <a:lnTo>
                  <a:pt x="800" y="96"/>
                </a:lnTo>
                <a:lnTo>
                  <a:pt x="794" y="98"/>
                </a:lnTo>
                <a:lnTo>
                  <a:pt x="787" y="100"/>
                </a:lnTo>
                <a:lnTo>
                  <a:pt x="780" y="102"/>
                </a:lnTo>
                <a:lnTo>
                  <a:pt x="774" y="105"/>
                </a:lnTo>
                <a:lnTo>
                  <a:pt x="767" y="107"/>
                </a:lnTo>
                <a:lnTo>
                  <a:pt x="760" y="109"/>
                </a:lnTo>
                <a:lnTo>
                  <a:pt x="754" y="112"/>
                </a:lnTo>
                <a:lnTo>
                  <a:pt x="747" y="114"/>
                </a:lnTo>
                <a:lnTo>
                  <a:pt x="741" y="116"/>
                </a:lnTo>
                <a:lnTo>
                  <a:pt x="734" y="119"/>
                </a:lnTo>
                <a:lnTo>
                  <a:pt x="728" y="121"/>
                </a:lnTo>
                <a:lnTo>
                  <a:pt x="721" y="123"/>
                </a:lnTo>
                <a:lnTo>
                  <a:pt x="714" y="126"/>
                </a:lnTo>
                <a:lnTo>
                  <a:pt x="708" y="128"/>
                </a:lnTo>
                <a:lnTo>
                  <a:pt x="701" y="131"/>
                </a:lnTo>
                <a:lnTo>
                  <a:pt x="695" y="133"/>
                </a:lnTo>
                <a:lnTo>
                  <a:pt x="688" y="136"/>
                </a:lnTo>
                <a:lnTo>
                  <a:pt x="682" y="138"/>
                </a:lnTo>
                <a:lnTo>
                  <a:pt x="675" y="141"/>
                </a:lnTo>
                <a:lnTo>
                  <a:pt x="669" y="143"/>
                </a:lnTo>
                <a:lnTo>
                  <a:pt x="662" y="146"/>
                </a:lnTo>
                <a:lnTo>
                  <a:pt x="656" y="149"/>
                </a:lnTo>
                <a:lnTo>
                  <a:pt x="650" y="151"/>
                </a:lnTo>
                <a:lnTo>
                  <a:pt x="643" y="154"/>
                </a:lnTo>
                <a:lnTo>
                  <a:pt x="637" y="157"/>
                </a:lnTo>
                <a:lnTo>
                  <a:pt x="630" y="160"/>
                </a:lnTo>
                <a:lnTo>
                  <a:pt x="624" y="162"/>
                </a:lnTo>
                <a:lnTo>
                  <a:pt x="617" y="165"/>
                </a:lnTo>
                <a:lnTo>
                  <a:pt x="611" y="168"/>
                </a:lnTo>
                <a:lnTo>
                  <a:pt x="605" y="171"/>
                </a:lnTo>
                <a:lnTo>
                  <a:pt x="598" y="173"/>
                </a:lnTo>
                <a:lnTo>
                  <a:pt x="592" y="176"/>
                </a:lnTo>
                <a:lnTo>
                  <a:pt x="586" y="179"/>
                </a:lnTo>
                <a:lnTo>
                  <a:pt x="579" y="182"/>
                </a:lnTo>
                <a:lnTo>
                  <a:pt x="573" y="185"/>
                </a:lnTo>
                <a:lnTo>
                  <a:pt x="567" y="188"/>
                </a:lnTo>
                <a:lnTo>
                  <a:pt x="560" y="191"/>
                </a:lnTo>
                <a:lnTo>
                  <a:pt x="554" y="194"/>
                </a:lnTo>
                <a:lnTo>
                  <a:pt x="548" y="197"/>
                </a:lnTo>
                <a:lnTo>
                  <a:pt x="541" y="200"/>
                </a:lnTo>
                <a:lnTo>
                  <a:pt x="535" y="203"/>
                </a:lnTo>
                <a:lnTo>
                  <a:pt x="529" y="206"/>
                </a:lnTo>
                <a:lnTo>
                  <a:pt x="523" y="209"/>
                </a:lnTo>
                <a:lnTo>
                  <a:pt x="516" y="212"/>
                </a:lnTo>
                <a:lnTo>
                  <a:pt x="510" y="216"/>
                </a:lnTo>
                <a:lnTo>
                  <a:pt x="504" y="219"/>
                </a:lnTo>
                <a:lnTo>
                  <a:pt x="498" y="222"/>
                </a:lnTo>
                <a:lnTo>
                  <a:pt x="492" y="225"/>
                </a:lnTo>
                <a:lnTo>
                  <a:pt x="485" y="228"/>
                </a:lnTo>
                <a:lnTo>
                  <a:pt x="479" y="232"/>
                </a:lnTo>
                <a:lnTo>
                  <a:pt x="473" y="235"/>
                </a:lnTo>
                <a:lnTo>
                  <a:pt x="467" y="238"/>
                </a:lnTo>
                <a:lnTo>
                  <a:pt x="461" y="242"/>
                </a:lnTo>
                <a:lnTo>
                  <a:pt x="455" y="245"/>
                </a:lnTo>
                <a:lnTo>
                  <a:pt x="448" y="248"/>
                </a:lnTo>
                <a:lnTo>
                  <a:pt x="442" y="252"/>
                </a:lnTo>
                <a:lnTo>
                  <a:pt x="436" y="255"/>
                </a:lnTo>
                <a:lnTo>
                  <a:pt x="430" y="259"/>
                </a:lnTo>
                <a:lnTo>
                  <a:pt x="424" y="262"/>
                </a:lnTo>
                <a:lnTo>
                  <a:pt x="418" y="266"/>
                </a:lnTo>
                <a:lnTo>
                  <a:pt x="412" y="269"/>
                </a:lnTo>
                <a:lnTo>
                  <a:pt x="406" y="273"/>
                </a:lnTo>
                <a:lnTo>
                  <a:pt x="400" y="276"/>
                </a:lnTo>
                <a:lnTo>
                  <a:pt x="394" y="280"/>
                </a:lnTo>
                <a:lnTo>
                  <a:pt x="388" y="283"/>
                </a:lnTo>
                <a:lnTo>
                  <a:pt x="382" y="287"/>
                </a:lnTo>
                <a:lnTo>
                  <a:pt x="376" y="291"/>
                </a:lnTo>
                <a:lnTo>
                  <a:pt x="370" y="294"/>
                </a:lnTo>
                <a:lnTo>
                  <a:pt x="364" y="298"/>
                </a:lnTo>
                <a:lnTo>
                  <a:pt x="358" y="302"/>
                </a:lnTo>
                <a:lnTo>
                  <a:pt x="352" y="305"/>
                </a:lnTo>
                <a:lnTo>
                  <a:pt x="346" y="309"/>
                </a:lnTo>
                <a:lnTo>
                  <a:pt x="340" y="313"/>
                </a:lnTo>
                <a:lnTo>
                  <a:pt x="334" y="317"/>
                </a:lnTo>
                <a:lnTo>
                  <a:pt x="328" y="320"/>
                </a:lnTo>
                <a:lnTo>
                  <a:pt x="322" y="324"/>
                </a:lnTo>
                <a:lnTo>
                  <a:pt x="317" y="328"/>
                </a:lnTo>
                <a:lnTo>
                  <a:pt x="311" y="332"/>
                </a:lnTo>
                <a:lnTo>
                  <a:pt x="305" y="336"/>
                </a:lnTo>
                <a:lnTo>
                  <a:pt x="299" y="340"/>
                </a:lnTo>
                <a:lnTo>
                  <a:pt x="293" y="344"/>
                </a:lnTo>
                <a:lnTo>
                  <a:pt x="288" y="348"/>
                </a:lnTo>
                <a:lnTo>
                  <a:pt x="282" y="352"/>
                </a:lnTo>
                <a:lnTo>
                  <a:pt x="276" y="356"/>
                </a:lnTo>
                <a:lnTo>
                  <a:pt x="270" y="360"/>
                </a:lnTo>
                <a:lnTo>
                  <a:pt x="264" y="364"/>
                </a:lnTo>
                <a:lnTo>
                  <a:pt x="259" y="368"/>
                </a:lnTo>
                <a:lnTo>
                  <a:pt x="253" y="372"/>
                </a:lnTo>
                <a:lnTo>
                  <a:pt x="247" y="376"/>
                </a:lnTo>
                <a:lnTo>
                  <a:pt x="242" y="380"/>
                </a:lnTo>
                <a:lnTo>
                  <a:pt x="236" y="384"/>
                </a:lnTo>
                <a:lnTo>
                  <a:pt x="230" y="388"/>
                </a:lnTo>
                <a:lnTo>
                  <a:pt x="225" y="393"/>
                </a:lnTo>
                <a:lnTo>
                  <a:pt x="219" y="397"/>
                </a:lnTo>
                <a:lnTo>
                  <a:pt x="213" y="401"/>
                </a:lnTo>
                <a:lnTo>
                  <a:pt x="208" y="405"/>
                </a:lnTo>
                <a:lnTo>
                  <a:pt x="202" y="410"/>
                </a:lnTo>
                <a:lnTo>
                  <a:pt x="197" y="414"/>
                </a:lnTo>
                <a:lnTo>
                  <a:pt x="191" y="418"/>
                </a:lnTo>
                <a:lnTo>
                  <a:pt x="185" y="423"/>
                </a:lnTo>
                <a:lnTo>
                  <a:pt x="180" y="427"/>
                </a:lnTo>
                <a:lnTo>
                  <a:pt x="174" y="431"/>
                </a:lnTo>
                <a:lnTo>
                  <a:pt x="169" y="436"/>
                </a:lnTo>
                <a:lnTo>
                  <a:pt x="163" y="440"/>
                </a:lnTo>
                <a:lnTo>
                  <a:pt x="158" y="445"/>
                </a:lnTo>
                <a:lnTo>
                  <a:pt x="152" y="449"/>
                </a:lnTo>
                <a:lnTo>
                  <a:pt x="147" y="454"/>
                </a:lnTo>
                <a:lnTo>
                  <a:pt x="141" y="458"/>
                </a:lnTo>
                <a:lnTo>
                  <a:pt x="136" y="463"/>
                </a:lnTo>
                <a:lnTo>
                  <a:pt x="131" y="467"/>
                </a:lnTo>
                <a:lnTo>
                  <a:pt x="125" y="472"/>
                </a:lnTo>
                <a:lnTo>
                  <a:pt x="120" y="476"/>
                </a:lnTo>
                <a:lnTo>
                  <a:pt x="114" y="481"/>
                </a:lnTo>
                <a:lnTo>
                  <a:pt x="109" y="485"/>
                </a:lnTo>
                <a:lnTo>
                  <a:pt x="104" y="490"/>
                </a:lnTo>
                <a:lnTo>
                  <a:pt x="98" y="495"/>
                </a:lnTo>
                <a:lnTo>
                  <a:pt x="93" y="499"/>
                </a:lnTo>
                <a:lnTo>
                  <a:pt x="88" y="504"/>
                </a:lnTo>
                <a:lnTo>
                  <a:pt x="82" y="509"/>
                </a:lnTo>
                <a:lnTo>
                  <a:pt x="77" y="514"/>
                </a:lnTo>
                <a:lnTo>
                  <a:pt x="72" y="518"/>
                </a:lnTo>
                <a:lnTo>
                  <a:pt x="67" y="523"/>
                </a:lnTo>
                <a:lnTo>
                  <a:pt x="61" y="528"/>
                </a:lnTo>
                <a:lnTo>
                  <a:pt x="56" y="533"/>
                </a:lnTo>
                <a:lnTo>
                  <a:pt x="51" y="538"/>
                </a:lnTo>
                <a:lnTo>
                  <a:pt x="46" y="543"/>
                </a:lnTo>
                <a:lnTo>
                  <a:pt x="41" y="547"/>
                </a:lnTo>
                <a:lnTo>
                  <a:pt x="36" y="552"/>
                </a:lnTo>
                <a:lnTo>
                  <a:pt x="30" y="557"/>
                </a:lnTo>
                <a:lnTo>
                  <a:pt x="25" y="562"/>
                </a:lnTo>
                <a:lnTo>
                  <a:pt x="20" y="567"/>
                </a:lnTo>
                <a:lnTo>
                  <a:pt x="15" y="572"/>
                </a:lnTo>
                <a:lnTo>
                  <a:pt x="10" y="577"/>
                </a:lnTo>
                <a:lnTo>
                  <a:pt x="5" y="582"/>
                </a:lnTo>
                <a:lnTo>
                  <a:pt x="0" y="587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0"/>
          <p:cNvSpPr/>
          <p:nvPr/>
        </p:nvSpPr>
        <p:spPr>
          <a:xfrm>
            <a:off x="7613640" y="2535120"/>
            <a:ext cx="685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E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1"/>
          <p:cNvSpPr/>
          <p:nvPr/>
        </p:nvSpPr>
        <p:spPr>
          <a:xfrm rot="5340000">
            <a:off x="3130200" y="469800"/>
            <a:ext cx="723960" cy="720720"/>
          </a:xfrm>
          <a:prstGeom prst="ellipse">
            <a:avLst/>
          </a:prstGeom>
          <a:blipFill rotWithShape="0">
            <a:blip r:embed="rId51"/>
            <a:srcRect/>
            <a:stretch/>
          </a:blipFill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12"/>
          <p:cNvSpPr/>
          <p:nvPr/>
        </p:nvSpPr>
        <p:spPr>
          <a:xfrm>
            <a:off x="3652920" y="1154160"/>
            <a:ext cx="1293840" cy="230184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815" h="1450">
                <a:moveTo>
                  <a:pt x="815" y="1450"/>
                </a:moveTo>
                <a:lnTo>
                  <a:pt x="815" y="1443"/>
                </a:lnTo>
                <a:lnTo>
                  <a:pt x="815" y="1436"/>
                </a:lnTo>
                <a:lnTo>
                  <a:pt x="815" y="1429"/>
                </a:lnTo>
                <a:lnTo>
                  <a:pt x="815" y="1422"/>
                </a:lnTo>
                <a:lnTo>
                  <a:pt x="815" y="1415"/>
                </a:lnTo>
                <a:lnTo>
                  <a:pt x="814" y="1408"/>
                </a:lnTo>
                <a:lnTo>
                  <a:pt x="814" y="1401"/>
                </a:lnTo>
                <a:lnTo>
                  <a:pt x="814" y="1394"/>
                </a:lnTo>
                <a:lnTo>
                  <a:pt x="814" y="1387"/>
                </a:lnTo>
                <a:lnTo>
                  <a:pt x="814" y="1380"/>
                </a:lnTo>
                <a:lnTo>
                  <a:pt x="814" y="1373"/>
                </a:lnTo>
                <a:lnTo>
                  <a:pt x="813" y="1366"/>
                </a:lnTo>
                <a:lnTo>
                  <a:pt x="813" y="1359"/>
                </a:lnTo>
                <a:lnTo>
                  <a:pt x="813" y="1352"/>
                </a:lnTo>
                <a:lnTo>
                  <a:pt x="812" y="1345"/>
                </a:lnTo>
                <a:lnTo>
                  <a:pt x="812" y="1338"/>
                </a:lnTo>
                <a:lnTo>
                  <a:pt x="812" y="1331"/>
                </a:lnTo>
                <a:lnTo>
                  <a:pt x="811" y="1324"/>
                </a:lnTo>
                <a:lnTo>
                  <a:pt x="811" y="1317"/>
                </a:lnTo>
                <a:lnTo>
                  <a:pt x="810" y="1310"/>
                </a:lnTo>
                <a:lnTo>
                  <a:pt x="810" y="1303"/>
                </a:lnTo>
                <a:lnTo>
                  <a:pt x="809" y="1296"/>
                </a:lnTo>
                <a:lnTo>
                  <a:pt x="809" y="1289"/>
                </a:lnTo>
                <a:lnTo>
                  <a:pt x="808" y="1282"/>
                </a:lnTo>
                <a:lnTo>
                  <a:pt x="807" y="1275"/>
                </a:lnTo>
                <a:lnTo>
                  <a:pt x="807" y="1268"/>
                </a:lnTo>
                <a:lnTo>
                  <a:pt x="806" y="1261"/>
                </a:lnTo>
                <a:lnTo>
                  <a:pt x="805" y="1254"/>
                </a:lnTo>
                <a:lnTo>
                  <a:pt x="804" y="1247"/>
                </a:lnTo>
                <a:lnTo>
                  <a:pt x="804" y="1240"/>
                </a:lnTo>
                <a:lnTo>
                  <a:pt x="803" y="1233"/>
                </a:lnTo>
                <a:lnTo>
                  <a:pt x="802" y="1226"/>
                </a:lnTo>
                <a:lnTo>
                  <a:pt x="801" y="1219"/>
                </a:lnTo>
                <a:lnTo>
                  <a:pt x="800" y="1213"/>
                </a:lnTo>
                <a:lnTo>
                  <a:pt x="799" y="1206"/>
                </a:lnTo>
                <a:lnTo>
                  <a:pt x="798" y="1199"/>
                </a:lnTo>
                <a:lnTo>
                  <a:pt x="797" y="1192"/>
                </a:lnTo>
                <a:lnTo>
                  <a:pt x="796" y="1185"/>
                </a:lnTo>
                <a:lnTo>
                  <a:pt x="795" y="1178"/>
                </a:lnTo>
                <a:lnTo>
                  <a:pt x="794" y="1171"/>
                </a:lnTo>
                <a:lnTo>
                  <a:pt x="793" y="1164"/>
                </a:lnTo>
                <a:lnTo>
                  <a:pt x="792" y="1158"/>
                </a:lnTo>
                <a:lnTo>
                  <a:pt x="791" y="1151"/>
                </a:lnTo>
                <a:lnTo>
                  <a:pt x="790" y="1144"/>
                </a:lnTo>
                <a:lnTo>
                  <a:pt x="788" y="1137"/>
                </a:lnTo>
                <a:lnTo>
                  <a:pt x="787" y="1130"/>
                </a:lnTo>
                <a:lnTo>
                  <a:pt x="786" y="1123"/>
                </a:lnTo>
                <a:lnTo>
                  <a:pt x="785" y="1117"/>
                </a:lnTo>
                <a:lnTo>
                  <a:pt x="783" y="1110"/>
                </a:lnTo>
                <a:lnTo>
                  <a:pt x="782" y="1103"/>
                </a:lnTo>
                <a:lnTo>
                  <a:pt x="781" y="1096"/>
                </a:lnTo>
                <a:lnTo>
                  <a:pt x="779" y="1090"/>
                </a:lnTo>
                <a:lnTo>
                  <a:pt x="778" y="1083"/>
                </a:lnTo>
                <a:lnTo>
                  <a:pt x="776" y="1076"/>
                </a:lnTo>
                <a:lnTo>
                  <a:pt x="775" y="1069"/>
                </a:lnTo>
                <a:lnTo>
                  <a:pt x="773" y="1063"/>
                </a:lnTo>
                <a:lnTo>
                  <a:pt x="772" y="1056"/>
                </a:lnTo>
                <a:lnTo>
                  <a:pt x="770" y="1049"/>
                </a:lnTo>
                <a:lnTo>
                  <a:pt x="769" y="1042"/>
                </a:lnTo>
                <a:lnTo>
                  <a:pt x="767" y="1036"/>
                </a:lnTo>
                <a:lnTo>
                  <a:pt x="765" y="1029"/>
                </a:lnTo>
                <a:lnTo>
                  <a:pt x="764" y="1022"/>
                </a:lnTo>
                <a:lnTo>
                  <a:pt x="762" y="1016"/>
                </a:lnTo>
                <a:lnTo>
                  <a:pt x="760" y="1009"/>
                </a:lnTo>
                <a:lnTo>
                  <a:pt x="758" y="1002"/>
                </a:lnTo>
                <a:lnTo>
                  <a:pt x="757" y="996"/>
                </a:lnTo>
                <a:lnTo>
                  <a:pt x="755" y="989"/>
                </a:lnTo>
                <a:lnTo>
                  <a:pt x="753" y="982"/>
                </a:lnTo>
                <a:lnTo>
                  <a:pt x="751" y="976"/>
                </a:lnTo>
                <a:lnTo>
                  <a:pt x="749" y="969"/>
                </a:lnTo>
                <a:lnTo>
                  <a:pt x="747" y="963"/>
                </a:lnTo>
                <a:lnTo>
                  <a:pt x="745" y="956"/>
                </a:lnTo>
                <a:lnTo>
                  <a:pt x="743" y="949"/>
                </a:lnTo>
                <a:lnTo>
                  <a:pt x="741" y="943"/>
                </a:lnTo>
                <a:lnTo>
                  <a:pt x="739" y="936"/>
                </a:lnTo>
                <a:lnTo>
                  <a:pt x="737" y="930"/>
                </a:lnTo>
                <a:lnTo>
                  <a:pt x="735" y="923"/>
                </a:lnTo>
                <a:lnTo>
                  <a:pt x="733" y="917"/>
                </a:lnTo>
                <a:lnTo>
                  <a:pt x="731" y="910"/>
                </a:lnTo>
                <a:lnTo>
                  <a:pt x="729" y="904"/>
                </a:lnTo>
                <a:lnTo>
                  <a:pt x="727" y="897"/>
                </a:lnTo>
                <a:lnTo>
                  <a:pt x="724" y="891"/>
                </a:lnTo>
                <a:lnTo>
                  <a:pt x="722" y="884"/>
                </a:lnTo>
                <a:lnTo>
                  <a:pt x="720" y="878"/>
                </a:lnTo>
                <a:lnTo>
                  <a:pt x="718" y="871"/>
                </a:lnTo>
                <a:lnTo>
                  <a:pt x="715" y="865"/>
                </a:lnTo>
                <a:lnTo>
                  <a:pt x="713" y="858"/>
                </a:lnTo>
                <a:lnTo>
                  <a:pt x="710" y="852"/>
                </a:lnTo>
                <a:lnTo>
                  <a:pt x="708" y="845"/>
                </a:lnTo>
                <a:lnTo>
                  <a:pt x="706" y="839"/>
                </a:lnTo>
                <a:lnTo>
                  <a:pt x="703" y="833"/>
                </a:lnTo>
                <a:lnTo>
                  <a:pt x="701" y="826"/>
                </a:lnTo>
                <a:lnTo>
                  <a:pt x="698" y="820"/>
                </a:lnTo>
                <a:lnTo>
                  <a:pt x="696" y="813"/>
                </a:lnTo>
                <a:lnTo>
                  <a:pt x="693" y="807"/>
                </a:lnTo>
                <a:lnTo>
                  <a:pt x="691" y="801"/>
                </a:lnTo>
                <a:lnTo>
                  <a:pt x="688" y="794"/>
                </a:lnTo>
                <a:lnTo>
                  <a:pt x="685" y="788"/>
                </a:lnTo>
                <a:lnTo>
                  <a:pt x="683" y="782"/>
                </a:lnTo>
                <a:lnTo>
                  <a:pt x="680" y="775"/>
                </a:lnTo>
                <a:lnTo>
                  <a:pt x="677" y="769"/>
                </a:lnTo>
                <a:lnTo>
                  <a:pt x="674" y="763"/>
                </a:lnTo>
                <a:lnTo>
                  <a:pt x="672" y="757"/>
                </a:lnTo>
                <a:lnTo>
                  <a:pt x="669" y="750"/>
                </a:lnTo>
                <a:lnTo>
                  <a:pt x="666" y="744"/>
                </a:lnTo>
                <a:lnTo>
                  <a:pt x="663" y="738"/>
                </a:lnTo>
                <a:lnTo>
                  <a:pt x="660" y="732"/>
                </a:lnTo>
                <a:lnTo>
                  <a:pt x="658" y="725"/>
                </a:lnTo>
                <a:lnTo>
                  <a:pt x="655" y="719"/>
                </a:lnTo>
                <a:lnTo>
                  <a:pt x="652" y="713"/>
                </a:lnTo>
                <a:lnTo>
                  <a:pt x="649" y="707"/>
                </a:lnTo>
                <a:lnTo>
                  <a:pt x="646" y="701"/>
                </a:lnTo>
                <a:lnTo>
                  <a:pt x="643" y="695"/>
                </a:lnTo>
                <a:lnTo>
                  <a:pt x="640" y="689"/>
                </a:lnTo>
                <a:lnTo>
                  <a:pt x="637" y="682"/>
                </a:lnTo>
                <a:lnTo>
                  <a:pt x="633" y="676"/>
                </a:lnTo>
                <a:lnTo>
                  <a:pt x="630" y="670"/>
                </a:lnTo>
                <a:lnTo>
                  <a:pt x="627" y="664"/>
                </a:lnTo>
                <a:lnTo>
                  <a:pt x="624" y="658"/>
                </a:lnTo>
                <a:lnTo>
                  <a:pt x="621" y="652"/>
                </a:lnTo>
                <a:lnTo>
                  <a:pt x="618" y="646"/>
                </a:lnTo>
                <a:lnTo>
                  <a:pt x="614" y="640"/>
                </a:lnTo>
                <a:lnTo>
                  <a:pt x="611" y="634"/>
                </a:lnTo>
                <a:lnTo>
                  <a:pt x="608" y="628"/>
                </a:lnTo>
                <a:lnTo>
                  <a:pt x="605" y="622"/>
                </a:lnTo>
                <a:lnTo>
                  <a:pt x="601" y="616"/>
                </a:lnTo>
                <a:lnTo>
                  <a:pt x="598" y="610"/>
                </a:lnTo>
                <a:lnTo>
                  <a:pt x="594" y="604"/>
                </a:lnTo>
                <a:lnTo>
                  <a:pt x="591" y="598"/>
                </a:lnTo>
                <a:lnTo>
                  <a:pt x="588" y="592"/>
                </a:lnTo>
                <a:lnTo>
                  <a:pt x="584" y="586"/>
                </a:lnTo>
                <a:lnTo>
                  <a:pt x="581" y="580"/>
                </a:lnTo>
                <a:lnTo>
                  <a:pt x="577" y="575"/>
                </a:lnTo>
                <a:lnTo>
                  <a:pt x="574" y="569"/>
                </a:lnTo>
                <a:lnTo>
                  <a:pt x="570" y="563"/>
                </a:lnTo>
                <a:lnTo>
                  <a:pt x="566" y="557"/>
                </a:lnTo>
                <a:lnTo>
                  <a:pt x="563" y="551"/>
                </a:lnTo>
                <a:lnTo>
                  <a:pt x="559" y="545"/>
                </a:lnTo>
                <a:lnTo>
                  <a:pt x="556" y="540"/>
                </a:lnTo>
                <a:lnTo>
                  <a:pt x="552" y="534"/>
                </a:lnTo>
                <a:lnTo>
                  <a:pt x="548" y="528"/>
                </a:lnTo>
                <a:lnTo>
                  <a:pt x="545" y="522"/>
                </a:lnTo>
                <a:lnTo>
                  <a:pt x="541" y="517"/>
                </a:lnTo>
                <a:lnTo>
                  <a:pt x="537" y="511"/>
                </a:lnTo>
                <a:lnTo>
                  <a:pt x="533" y="505"/>
                </a:lnTo>
                <a:lnTo>
                  <a:pt x="529" y="500"/>
                </a:lnTo>
                <a:lnTo>
                  <a:pt x="526" y="494"/>
                </a:lnTo>
                <a:lnTo>
                  <a:pt x="522" y="488"/>
                </a:lnTo>
                <a:lnTo>
                  <a:pt x="518" y="483"/>
                </a:lnTo>
                <a:lnTo>
                  <a:pt x="514" y="477"/>
                </a:lnTo>
                <a:lnTo>
                  <a:pt x="510" y="471"/>
                </a:lnTo>
                <a:lnTo>
                  <a:pt x="506" y="466"/>
                </a:lnTo>
                <a:lnTo>
                  <a:pt x="502" y="460"/>
                </a:lnTo>
                <a:lnTo>
                  <a:pt x="498" y="455"/>
                </a:lnTo>
                <a:lnTo>
                  <a:pt x="494" y="449"/>
                </a:lnTo>
                <a:lnTo>
                  <a:pt x="490" y="444"/>
                </a:lnTo>
                <a:lnTo>
                  <a:pt x="486" y="438"/>
                </a:lnTo>
                <a:lnTo>
                  <a:pt x="482" y="433"/>
                </a:lnTo>
                <a:lnTo>
                  <a:pt x="478" y="427"/>
                </a:lnTo>
                <a:lnTo>
                  <a:pt x="473" y="422"/>
                </a:lnTo>
                <a:lnTo>
                  <a:pt x="469" y="416"/>
                </a:lnTo>
                <a:lnTo>
                  <a:pt x="465" y="411"/>
                </a:lnTo>
                <a:lnTo>
                  <a:pt x="461" y="405"/>
                </a:lnTo>
                <a:lnTo>
                  <a:pt x="457" y="400"/>
                </a:lnTo>
                <a:lnTo>
                  <a:pt x="452" y="395"/>
                </a:lnTo>
                <a:lnTo>
                  <a:pt x="448" y="389"/>
                </a:lnTo>
                <a:lnTo>
                  <a:pt x="444" y="384"/>
                </a:lnTo>
                <a:lnTo>
                  <a:pt x="439" y="379"/>
                </a:lnTo>
                <a:lnTo>
                  <a:pt x="435" y="373"/>
                </a:lnTo>
                <a:lnTo>
                  <a:pt x="431" y="368"/>
                </a:lnTo>
                <a:lnTo>
                  <a:pt x="426" y="363"/>
                </a:lnTo>
                <a:lnTo>
                  <a:pt x="422" y="358"/>
                </a:lnTo>
                <a:lnTo>
                  <a:pt x="417" y="352"/>
                </a:lnTo>
                <a:lnTo>
                  <a:pt x="413" y="347"/>
                </a:lnTo>
                <a:lnTo>
                  <a:pt x="409" y="342"/>
                </a:lnTo>
                <a:lnTo>
                  <a:pt x="404" y="337"/>
                </a:lnTo>
                <a:lnTo>
                  <a:pt x="400" y="332"/>
                </a:lnTo>
                <a:lnTo>
                  <a:pt x="395" y="326"/>
                </a:lnTo>
                <a:lnTo>
                  <a:pt x="390" y="321"/>
                </a:lnTo>
                <a:lnTo>
                  <a:pt x="386" y="316"/>
                </a:lnTo>
                <a:lnTo>
                  <a:pt x="381" y="311"/>
                </a:lnTo>
                <a:lnTo>
                  <a:pt x="377" y="306"/>
                </a:lnTo>
                <a:lnTo>
                  <a:pt x="372" y="301"/>
                </a:lnTo>
                <a:lnTo>
                  <a:pt x="367" y="296"/>
                </a:lnTo>
                <a:lnTo>
                  <a:pt x="362" y="291"/>
                </a:lnTo>
                <a:lnTo>
                  <a:pt x="358" y="286"/>
                </a:lnTo>
                <a:lnTo>
                  <a:pt x="353" y="281"/>
                </a:lnTo>
                <a:lnTo>
                  <a:pt x="348" y="276"/>
                </a:lnTo>
                <a:lnTo>
                  <a:pt x="343" y="271"/>
                </a:lnTo>
                <a:lnTo>
                  <a:pt x="339" y="266"/>
                </a:lnTo>
                <a:lnTo>
                  <a:pt x="334" y="261"/>
                </a:lnTo>
                <a:lnTo>
                  <a:pt x="329" y="256"/>
                </a:lnTo>
                <a:lnTo>
                  <a:pt x="324" y="251"/>
                </a:lnTo>
                <a:lnTo>
                  <a:pt x="319" y="246"/>
                </a:lnTo>
                <a:lnTo>
                  <a:pt x="314" y="242"/>
                </a:lnTo>
                <a:lnTo>
                  <a:pt x="309" y="237"/>
                </a:lnTo>
                <a:lnTo>
                  <a:pt x="304" y="232"/>
                </a:lnTo>
                <a:lnTo>
                  <a:pt x="299" y="227"/>
                </a:lnTo>
                <a:lnTo>
                  <a:pt x="294" y="222"/>
                </a:lnTo>
                <a:lnTo>
                  <a:pt x="289" y="218"/>
                </a:lnTo>
                <a:lnTo>
                  <a:pt x="284" y="213"/>
                </a:lnTo>
                <a:lnTo>
                  <a:pt x="279" y="208"/>
                </a:lnTo>
                <a:lnTo>
                  <a:pt x="274" y="204"/>
                </a:lnTo>
                <a:lnTo>
                  <a:pt x="269" y="199"/>
                </a:lnTo>
                <a:lnTo>
                  <a:pt x="264" y="194"/>
                </a:lnTo>
                <a:lnTo>
                  <a:pt x="259" y="190"/>
                </a:lnTo>
                <a:lnTo>
                  <a:pt x="253" y="185"/>
                </a:lnTo>
                <a:lnTo>
                  <a:pt x="248" y="180"/>
                </a:lnTo>
                <a:lnTo>
                  <a:pt x="243" y="176"/>
                </a:lnTo>
                <a:lnTo>
                  <a:pt x="238" y="171"/>
                </a:lnTo>
                <a:lnTo>
                  <a:pt x="233" y="167"/>
                </a:lnTo>
                <a:lnTo>
                  <a:pt x="227" y="162"/>
                </a:lnTo>
                <a:lnTo>
                  <a:pt x="222" y="158"/>
                </a:lnTo>
                <a:lnTo>
                  <a:pt x="217" y="153"/>
                </a:lnTo>
                <a:lnTo>
                  <a:pt x="211" y="149"/>
                </a:lnTo>
                <a:lnTo>
                  <a:pt x="206" y="145"/>
                </a:lnTo>
                <a:lnTo>
                  <a:pt x="201" y="140"/>
                </a:lnTo>
                <a:lnTo>
                  <a:pt x="195" y="136"/>
                </a:lnTo>
                <a:lnTo>
                  <a:pt x="190" y="131"/>
                </a:lnTo>
                <a:lnTo>
                  <a:pt x="184" y="127"/>
                </a:lnTo>
                <a:lnTo>
                  <a:pt x="179" y="123"/>
                </a:lnTo>
                <a:lnTo>
                  <a:pt x="173" y="118"/>
                </a:lnTo>
                <a:lnTo>
                  <a:pt x="168" y="114"/>
                </a:lnTo>
                <a:lnTo>
                  <a:pt x="162" y="110"/>
                </a:lnTo>
                <a:lnTo>
                  <a:pt x="157" y="106"/>
                </a:lnTo>
                <a:lnTo>
                  <a:pt x="151" y="102"/>
                </a:lnTo>
                <a:lnTo>
                  <a:pt x="146" y="97"/>
                </a:lnTo>
                <a:lnTo>
                  <a:pt x="140" y="93"/>
                </a:lnTo>
                <a:lnTo>
                  <a:pt x="134" y="89"/>
                </a:lnTo>
                <a:lnTo>
                  <a:pt x="129" y="85"/>
                </a:lnTo>
                <a:lnTo>
                  <a:pt x="123" y="81"/>
                </a:lnTo>
                <a:lnTo>
                  <a:pt x="117" y="77"/>
                </a:lnTo>
                <a:lnTo>
                  <a:pt x="112" y="73"/>
                </a:lnTo>
                <a:lnTo>
                  <a:pt x="106" y="69"/>
                </a:lnTo>
                <a:lnTo>
                  <a:pt x="100" y="65"/>
                </a:lnTo>
                <a:lnTo>
                  <a:pt x="94" y="61"/>
                </a:lnTo>
                <a:lnTo>
                  <a:pt x="89" y="57"/>
                </a:lnTo>
                <a:lnTo>
                  <a:pt x="83" y="53"/>
                </a:lnTo>
                <a:lnTo>
                  <a:pt x="77" y="49"/>
                </a:lnTo>
                <a:lnTo>
                  <a:pt x="71" y="45"/>
                </a:lnTo>
                <a:lnTo>
                  <a:pt x="65" y="41"/>
                </a:lnTo>
                <a:lnTo>
                  <a:pt x="59" y="37"/>
                </a:lnTo>
                <a:lnTo>
                  <a:pt x="54" y="33"/>
                </a:lnTo>
                <a:lnTo>
                  <a:pt x="48" y="29"/>
                </a:lnTo>
                <a:lnTo>
                  <a:pt x="42" y="26"/>
                </a:lnTo>
                <a:lnTo>
                  <a:pt x="36" y="22"/>
                </a:lnTo>
                <a:lnTo>
                  <a:pt x="30" y="18"/>
                </a:lnTo>
                <a:lnTo>
                  <a:pt x="24" y="14"/>
                </a:lnTo>
                <a:lnTo>
                  <a:pt x="18" y="11"/>
                </a:lnTo>
                <a:lnTo>
                  <a:pt x="12" y="7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3"/>
          <p:cNvSpPr/>
          <p:nvPr/>
        </p:nvSpPr>
        <p:spPr>
          <a:xfrm>
            <a:off x="3067200" y="757080"/>
            <a:ext cx="86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ASP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4"/>
          <p:cNvSpPr/>
          <p:nvPr/>
        </p:nvSpPr>
        <p:spPr>
          <a:xfrm rot="5340000">
            <a:off x="1312560" y="3500280"/>
            <a:ext cx="723960" cy="720720"/>
          </a:xfrm>
          <a:prstGeom prst="ellipse">
            <a:avLst/>
          </a:prstGeom>
          <a:solidFill>
            <a:srgbClr val="808080"/>
          </a:solidFill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15"/>
          <p:cNvSpPr/>
          <p:nvPr/>
        </p:nvSpPr>
        <p:spPr>
          <a:xfrm>
            <a:off x="2036880" y="3699000"/>
            <a:ext cx="2504880" cy="161640"/>
          </a:xfrm>
          <a:custGeom>
            <a:avLst/>
            <a:gdLst>
              <a:gd name="textAreaLeft" fmla="*/ 0 w 2504880"/>
              <a:gd name="textAreaRight" fmla="*/ 2505240 w 250488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578" h="102">
                <a:moveTo>
                  <a:pt x="0" y="102"/>
                </a:moveTo>
                <a:lnTo>
                  <a:pt x="1578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6"/>
          <p:cNvSpPr/>
          <p:nvPr/>
        </p:nvSpPr>
        <p:spPr>
          <a:xfrm>
            <a:off x="1281240" y="3786120"/>
            <a:ext cx="87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OLAN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7"/>
          <p:cNvSpPr/>
          <p:nvPr/>
        </p:nvSpPr>
        <p:spPr>
          <a:xfrm rot="5340000">
            <a:off x="3512880" y="901440"/>
            <a:ext cx="723960" cy="720720"/>
          </a:xfrm>
          <a:prstGeom prst="ellipse">
            <a:avLst/>
          </a:prstGeom>
          <a:blipFill rotWithShape="0">
            <a:blip r:embed="rId52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18"/>
          <p:cNvSpPr/>
          <p:nvPr/>
        </p:nvSpPr>
        <p:spPr>
          <a:xfrm rot="5340000">
            <a:off x="2538000" y="117360"/>
            <a:ext cx="720720" cy="720720"/>
          </a:xfrm>
          <a:prstGeom prst="ellipse">
            <a:avLst/>
          </a:prstGeom>
          <a:blipFill rotWithShape="0">
            <a:blip r:embed="rId53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19"/>
          <p:cNvSpPr/>
          <p:nvPr/>
        </p:nvSpPr>
        <p:spPr>
          <a:xfrm rot="5340000">
            <a:off x="3638160" y="157320"/>
            <a:ext cx="720720" cy="720720"/>
          </a:xfrm>
          <a:prstGeom prst="ellipse">
            <a:avLst/>
          </a:prstGeom>
          <a:blipFill rotWithShape="0">
            <a:blip r:embed="rId54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20"/>
          <p:cNvSpPr/>
          <p:nvPr/>
        </p:nvSpPr>
        <p:spPr>
          <a:xfrm>
            <a:off x="6647040" y="3728880"/>
            <a:ext cx="12600" cy="14400"/>
          </a:xfrm>
          <a:custGeom>
            <a:avLst/>
            <a:gdLst>
              <a:gd name="textAreaLeft" fmla="*/ 0 w 12600"/>
              <a:gd name="textAreaRight" fmla="*/ 12960 w 126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8" h="9">
                <a:moveTo>
                  <a:pt x="8" y="0"/>
                </a:moveTo>
                <a:lnTo>
                  <a:pt x="0" y="9"/>
                </a:lnTo>
              </a:path>
            </a:pathLst>
          </a:custGeom>
          <a:noFill/>
          <a:ln w="55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1"/>
          <p:cNvSpPr/>
          <p:nvPr/>
        </p:nvSpPr>
        <p:spPr>
          <a:xfrm rot="5340000">
            <a:off x="7818120" y="515880"/>
            <a:ext cx="720720" cy="720720"/>
          </a:xfrm>
          <a:prstGeom prst="ellipse">
            <a:avLst/>
          </a:prstGeom>
          <a:blipFill rotWithShape="0">
            <a:blip r:embed="rId55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2"/>
          <p:cNvSpPr/>
          <p:nvPr/>
        </p:nvSpPr>
        <p:spPr>
          <a:xfrm rot="5340000">
            <a:off x="8572320" y="817560"/>
            <a:ext cx="723960" cy="723600"/>
          </a:xfrm>
          <a:prstGeom prst="ellipse">
            <a:avLst/>
          </a:prstGeom>
          <a:blipFill rotWithShape="0">
            <a:blip r:embed="rId56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3"/>
          <p:cNvSpPr/>
          <p:nvPr/>
        </p:nvSpPr>
        <p:spPr>
          <a:xfrm rot="5340000">
            <a:off x="8356320" y="2317680"/>
            <a:ext cx="720720" cy="720720"/>
          </a:xfrm>
          <a:prstGeom prst="ellipse">
            <a:avLst/>
          </a:prstGeom>
          <a:blipFill rotWithShape="0">
            <a:blip r:embed="rId57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24"/>
          <p:cNvSpPr/>
          <p:nvPr/>
        </p:nvSpPr>
        <p:spPr>
          <a:xfrm rot="5340000">
            <a:off x="8905320" y="2920680"/>
            <a:ext cx="720720" cy="723960"/>
          </a:xfrm>
          <a:prstGeom prst="ellipse">
            <a:avLst/>
          </a:prstGeom>
          <a:blipFill rotWithShape="0">
            <a:blip r:embed="rId58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25"/>
          <p:cNvSpPr/>
          <p:nvPr/>
        </p:nvSpPr>
        <p:spPr>
          <a:xfrm>
            <a:off x="6024600" y="5743440"/>
            <a:ext cx="4103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Apocalipsis 14:1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26"/>
          <p:cNvSpPr/>
          <p:nvPr/>
        </p:nvSpPr>
        <p:spPr>
          <a:xfrm rot="5340000">
            <a:off x="5802120" y="2144520"/>
            <a:ext cx="723960" cy="720720"/>
          </a:xfrm>
          <a:prstGeom prst="ellipse">
            <a:avLst/>
          </a:prstGeom>
          <a:blipFill rotWithShape="0">
            <a:blip r:embed="rId59"/>
            <a:srcRect/>
            <a:stretch/>
          </a:blipFill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27"/>
          <p:cNvSpPr/>
          <p:nvPr/>
        </p:nvSpPr>
        <p:spPr>
          <a:xfrm>
            <a:off x="5737320" y="2452680"/>
            <a:ext cx="936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ONAR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28"/>
          <p:cNvSpPr/>
          <p:nvPr/>
        </p:nvSpPr>
        <p:spPr>
          <a:xfrm rot="5340000">
            <a:off x="6422760" y="2792520"/>
            <a:ext cx="720720" cy="720720"/>
          </a:xfrm>
          <a:prstGeom prst="ellipse">
            <a:avLst/>
          </a:prstGeom>
          <a:blipFill rotWithShape="0">
            <a:blip r:embed="rId60"/>
            <a:srcRect/>
            <a:stretch/>
          </a:blipFill>
          <a:ln w="50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9"/>
          <p:cNvSpPr/>
          <p:nvPr/>
        </p:nvSpPr>
        <p:spPr>
          <a:xfrm>
            <a:off x="6357960" y="3100320"/>
            <a:ext cx="934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MUAL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0"/>
          <p:cNvSpPr/>
          <p:nvPr/>
        </p:nvSpPr>
        <p:spPr>
          <a:xfrm rot="5340000">
            <a:off x="3576240" y="2809800"/>
            <a:ext cx="720720" cy="723960"/>
          </a:xfrm>
          <a:prstGeom prst="ellipse">
            <a:avLst/>
          </a:prstGeom>
          <a:blipFill rotWithShape="0">
            <a:blip r:embed="rId61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1"/>
          <p:cNvSpPr/>
          <p:nvPr/>
        </p:nvSpPr>
        <p:spPr>
          <a:xfrm rot="5340000">
            <a:off x="3533400" y="2913120"/>
            <a:ext cx="720720" cy="720720"/>
          </a:xfrm>
          <a:prstGeom prst="ellipse">
            <a:avLst/>
          </a:prstGeom>
          <a:blipFill rotWithShape="0">
            <a:blip r:embed="rId62"/>
            <a:srcRect/>
            <a:stretch/>
          </a:blip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32"/>
          <p:cNvSpPr/>
          <p:nvPr/>
        </p:nvSpPr>
        <p:spPr>
          <a:xfrm>
            <a:off x="3551400" y="320184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I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3240" y="-152280"/>
            <a:ext cx="9804240" cy="7197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"/>
          <p:cNvSpPr/>
          <p:nvPr/>
        </p:nvSpPr>
        <p:spPr>
          <a:xfrm rot="5340000">
            <a:off x="4425480" y="2295360"/>
            <a:ext cx="936720" cy="320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"/>
          <p:cNvSpPr/>
          <p:nvPr/>
        </p:nvSpPr>
        <p:spPr>
          <a:xfrm rot="5340000">
            <a:off x="4425480" y="2112840"/>
            <a:ext cx="936720" cy="3203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"/>
          <p:cNvSpPr/>
          <p:nvPr/>
        </p:nvSpPr>
        <p:spPr>
          <a:xfrm>
            <a:off x="3740040" y="968400"/>
            <a:ext cx="1944720" cy="27604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760480"/>
              <a:gd name="textAreaBottom" fmla="*/ 2760840 h 2760480"/>
            </a:gdLst>
            <a:ahLst/>
            <a:rect l="textAreaLeft" t="textAreaTop" r="textAreaRight" b="textAreaBottom"/>
            <a:pathLst>
              <a:path w="1225" h="1739">
                <a:moveTo>
                  <a:pt x="741" y="0"/>
                </a:moveTo>
                <a:lnTo>
                  <a:pt x="545" y="18"/>
                </a:lnTo>
                <a:lnTo>
                  <a:pt x="211" y="158"/>
                </a:lnTo>
                <a:lnTo>
                  <a:pt x="95" y="519"/>
                </a:lnTo>
                <a:lnTo>
                  <a:pt x="0" y="876"/>
                </a:lnTo>
                <a:lnTo>
                  <a:pt x="110" y="1327"/>
                </a:lnTo>
                <a:lnTo>
                  <a:pt x="516" y="1688"/>
                </a:lnTo>
                <a:lnTo>
                  <a:pt x="591" y="1739"/>
                </a:lnTo>
                <a:lnTo>
                  <a:pt x="748" y="1730"/>
                </a:lnTo>
                <a:lnTo>
                  <a:pt x="865" y="1681"/>
                </a:lnTo>
                <a:lnTo>
                  <a:pt x="944" y="1635"/>
                </a:lnTo>
                <a:lnTo>
                  <a:pt x="1023" y="1556"/>
                </a:lnTo>
                <a:lnTo>
                  <a:pt x="1097" y="1398"/>
                </a:lnTo>
                <a:lnTo>
                  <a:pt x="1225" y="1150"/>
                </a:lnTo>
                <a:lnTo>
                  <a:pt x="1170" y="599"/>
                </a:lnTo>
                <a:lnTo>
                  <a:pt x="1017" y="211"/>
                </a:lnTo>
                <a:lnTo>
                  <a:pt x="872" y="49"/>
                </a:lnTo>
                <a:lnTo>
                  <a:pt x="741" y="0"/>
                </a:lnTo>
                <a:lnTo>
                  <a:pt x="741" y="0"/>
                </a:lnTo>
                <a:lnTo>
                  <a:pt x="741" y="0"/>
                </a:lnTo>
                <a:close/>
              </a:path>
            </a:pathLst>
          </a:custGeom>
          <a:solidFill>
            <a:srgbClr val="ffd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4870440" y="1911240"/>
            <a:ext cx="387360" cy="144720"/>
          </a:xfrm>
          <a:custGeom>
            <a:avLst/>
            <a:gdLst>
              <a:gd name="textAreaLeft" fmla="*/ 0 w 387360"/>
              <a:gd name="textAreaRight" fmla="*/ 387720 w 387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44" h="91">
                <a:moveTo>
                  <a:pt x="0" y="78"/>
                </a:moveTo>
                <a:lnTo>
                  <a:pt x="52" y="30"/>
                </a:lnTo>
                <a:lnTo>
                  <a:pt x="98" y="7"/>
                </a:lnTo>
                <a:lnTo>
                  <a:pt x="171" y="0"/>
                </a:lnTo>
                <a:lnTo>
                  <a:pt x="244" y="44"/>
                </a:lnTo>
                <a:lnTo>
                  <a:pt x="171" y="84"/>
                </a:lnTo>
                <a:lnTo>
                  <a:pt x="88" y="91"/>
                </a:lnTo>
                <a:lnTo>
                  <a:pt x="37" y="89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4994280" y="1928880"/>
            <a:ext cx="138240" cy="119160"/>
          </a:xfrm>
          <a:custGeom>
            <a:avLst/>
            <a:gdLst>
              <a:gd name="textAreaLeft" fmla="*/ 0 w 138240"/>
              <a:gd name="textAreaRight" fmla="*/ 138240 w 1382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7" h="75">
                <a:moveTo>
                  <a:pt x="5" y="0"/>
                </a:moveTo>
                <a:lnTo>
                  <a:pt x="0" y="41"/>
                </a:lnTo>
                <a:lnTo>
                  <a:pt x="17" y="64"/>
                </a:lnTo>
                <a:lnTo>
                  <a:pt x="41" y="75"/>
                </a:lnTo>
                <a:lnTo>
                  <a:pt x="68" y="67"/>
                </a:lnTo>
                <a:lnTo>
                  <a:pt x="87" y="47"/>
                </a:lnTo>
                <a:lnTo>
                  <a:pt x="85" y="4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9"/>
          <p:cNvSpPr/>
          <p:nvPr/>
        </p:nvSpPr>
        <p:spPr>
          <a:xfrm>
            <a:off x="4089240" y="2093760"/>
            <a:ext cx="306720" cy="119160"/>
          </a:xfrm>
          <a:custGeom>
            <a:avLst/>
            <a:gdLst>
              <a:gd name="textAreaLeft" fmla="*/ 0 w 306720"/>
              <a:gd name="textAreaRight" fmla="*/ 307080 w 3067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93" h="75">
                <a:moveTo>
                  <a:pt x="0" y="57"/>
                </a:moveTo>
                <a:lnTo>
                  <a:pt x="49" y="5"/>
                </a:lnTo>
                <a:lnTo>
                  <a:pt x="134" y="0"/>
                </a:lnTo>
                <a:lnTo>
                  <a:pt x="193" y="21"/>
                </a:lnTo>
                <a:lnTo>
                  <a:pt x="188" y="38"/>
                </a:lnTo>
                <a:lnTo>
                  <a:pt x="129" y="61"/>
                </a:lnTo>
                <a:lnTo>
                  <a:pt x="56" y="75"/>
                </a:lnTo>
                <a:lnTo>
                  <a:pt x="12" y="73"/>
                </a:lnTo>
                <a:lnTo>
                  <a:pt x="0" y="57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0"/>
          <p:cNvSpPr/>
          <p:nvPr/>
        </p:nvSpPr>
        <p:spPr>
          <a:xfrm>
            <a:off x="4162320" y="2100240"/>
            <a:ext cx="155520" cy="106560"/>
          </a:xfrm>
          <a:custGeom>
            <a:avLst/>
            <a:gdLst>
              <a:gd name="textAreaLeft" fmla="*/ 0 w 155520"/>
              <a:gd name="textAreaRight" fmla="*/ 155880 w 155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98" h="67">
                <a:moveTo>
                  <a:pt x="0" y="5"/>
                </a:moveTo>
                <a:lnTo>
                  <a:pt x="8" y="46"/>
                </a:lnTo>
                <a:lnTo>
                  <a:pt x="21" y="57"/>
                </a:lnTo>
                <a:lnTo>
                  <a:pt x="62" y="67"/>
                </a:lnTo>
                <a:lnTo>
                  <a:pt x="90" y="41"/>
                </a:lnTo>
                <a:lnTo>
                  <a:pt x="98" y="10"/>
                </a:lnTo>
                <a:lnTo>
                  <a:pt x="83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1"/>
          <p:cNvSpPr/>
          <p:nvPr/>
        </p:nvSpPr>
        <p:spPr>
          <a:xfrm>
            <a:off x="4438800" y="2757600"/>
            <a:ext cx="696600" cy="247680"/>
          </a:xfrm>
          <a:custGeom>
            <a:avLst/>
            <a:gdLst>
              <a:gd name="textAreaLeft" fmla="*/ 0 w 696600"/>
              <a:gd name="textAreaRight" fmla="*/ 696960 w 6966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9" h="156">
                <a:moveTo>
                  <a:pt x="0" y="69"/>
                </a:moveTo>
                <a:lnTo>
                  <a:pt x="29" y="58"/>
                </a:lnTo>
                <a:lnTo>
                  <a:pt x="151" y="46"/>
                </a:lnTo>
                <a:lnTo>
                  <a:pt x="216" y="44"/>
                </a:lnTo>
                <a:lnTo>
                  <a:pt x="364" y="1"/>
                </a:lnTo>
                <a:lnTo>
                  <a:pt x="439" y="0"/>
                </a:lnTo>
                <a:lnTo>
                  <a:pt x="426" y="60"/>
                </a:lnTo>
                <a:lnTo>
                  <a:pt x="345" y="123"/>
                </a:lnTo>
                <a:lnTo>
                  <a:pt x="185" y="156"/>
                </a:lnTo>
                <a:lnTo>
                  <a:pt x="104" y="144"/>
                </a:lnTo>
                <a:lnTo>
                  <a:pt x="78" y="135"/>
                </a:lnTo>
                <a:lnTo>
                  <a:pt x="40" y="111"/>
                </a:lnTo>
                <a:lnTo>
                  <a:pt x="24" y="87"/>
                </a:lnTo>
                <a:lnTo>
                  <a:pt x="0" y="69"/>
                </a:lnTo>
                <a:lnTo>
                  <a:pt x="0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2"/>
          <p:cNvSpPr/>
          <p:nvPr/>
        </p:nvSpPr>
        <p:spPr>
          <a:xfrm>
            <a:off x="4402080" y="2738520"/>
            <a:ext cx="528840" cy="137880"/>
          </a:xfrm>
          <a:custGeom>
            <a:avLst/>
            <a:gdLst>
              <a:gd name="textAreaLeft" fmla="*/ 0 w 528840"/>
              <a:gd name="textAreaRight" fmla="*/ 529200 w 5288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333" h="87">
                <a:moveTo>
                  <a:pt x="0" y="87"/>
                </a:moveTo>
                <a:lnTo>
                  <a:pt x="60" y="60"/>
                </a:lnTo>
                <a:lnTo>
                  <a:pt x="103" y="51"/>
                </a:lnTo>
                <a:lnTo>
                  <a:pt x="126" y="42"/>
                </a:lnTo>
                <a:lnTo>
                  <a:pt x="152" y="26"/>
                </a:lnTo>
                <a:lnTo>
                  <a:pt x="243" y="15"/>
                </a:lnTo>
                <a:lnTo>
                  <a:pt x="333" y="0"/>
                </a:lnTo>
                <a:lnTo>
                  <a:pt x="311" y="40"/>
                </a:lnTo>
                <a:lnTo>
                  <a:pt x="222" y="58"/>
                </a:lnTo>
                <a:lnTo>
                  <a:pt x="103" y="63"/>
                </a:lnTo>
                <a:lnTo>
                  <a:pt x="0" y="87"/>
                </a:lnTo>
                <a:lnTo>
                  <a:pt x="0" y="87"/>
                </a:lnTo>
                <a:lnTo>
                  <a:pt x="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3"/>
          <p:cNvSpPr/>
          <p:nvPr/>
        </p:nvSpPr>
        <p:spPr>
          <a:xfrm>
            <a:off x="4495680" y="2927520"/>
            <a:ext cx="506520" cy="129960"/>
          </a:xfrm>
          <a:custGeom>
            <a:avLst/>
            <a:gdLst>
              <a:gd name="textAreaLeft" fmla="*/ 0 w 506520"/>
              <a:gd name="textAreaRight" fmla="*/ 506880 w 5065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19" h="82">
                <a:moveTo>
                  <a:pt x="0" y="0"/>
                </a:moveTo>
                <a:lnTo>
                  <a:pt x="58" y="34"/>
                </a:lnTo>
                <a:lnTo>
                  <a:pt x="148" y="44"/>
                </a:lnTo>
                <a:lnTo>
                  <a:pt x="248" y="30"/>
                </a:lnTo>
                <a:lnTo>
                  <a:pt x="308" y="8"/>
                </a:lnTo>
                <a:lnTo>
                  <a:pt x="319" y="41"/>
                </a:lnTo>
                <a:lnTo>
                  <a:pt x="283" y="66"/>
                </a:lnTo>
                <a:lnTo>
                  <a:pt x="235" y="82"/>
                </a:lnTo>
                <a:lnTo>
                  <a:pt x="257" y="59"/>
                </a:lnTo>
                <a:lnTo>
                  <a:pt x="250" y="51"/>
                </a:lnTo>
                <a:lnTo>
                  <a:pt x="210" y="55"/>
                </a:lnTo>
                <a:lnTo>
                  <a:pt x="150" y="63"/>
                </a:lnTo>
                <a:lnTo>
                  <a:pt x="108" y="61"/>
                </a:lnTo>
                <a:lnTo>
                  <a:pt x="68" y="53"/>
                </a:lnTo>
                <a:lnTo>
                  <a:pt x="36" y="3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5091120" y="2782800"/>
            <a:ext cx="85680" cy="100080"/>
          </a:xfrm>
          <a:custGeom>
            <a:avLst/>
            <a:gdLst>
              <a:gd name="textAreaLeft" fmla="*/ 0 w 85680"/>
              <a:gd name="textAreaRight" fmla="*/ 85680 w 856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3">
                <a:moveTo>
                  <a:pt x="36" y="6"/>
                </a:moveTo>
                <a:lnTo>
                  <a:pt x="0" y="61"/>
                </a:lnTo>
                <a:lnTo>
                  <a:pt x="26" y="63"/>
                </a:lnTo>
                <a:lnTo>
                  <a:pt x="50" y="30"/>
                </a:lnTo>
                <a:lnTo>
                  <a:pt x="54" y="0"/>
                </a:lnTo>
                <a:lnTo>
                  <a:pt x="36" y="6"/>
                </a:lnTo>
                <a:lnTo>
                  <a:pt x="36" y="6"/>
                </a:lnTo>
                <a:lnTo>
                  <a:pt x="36" y="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4219560" y="2498760"/>
            <a:ext cx="239760" cy="441360"/>
          </a:xfrm>
          <a:custGeom>
            <a:avLst/>
            <a:gdLst>
              <a:gd name="textAreaLeft" fmla="*/ 0 w 239760"/>
              <a:gd name="textAreaRight" fmla="*/ 240120 w 2397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151" h="278">
                <a:moveTo>
                  <a:pt x="29" y="278"/>
                </a:moveTo>
                <a:lnTo>
                  <a:pt x="10" y="242"/>
                </a:lnTo>
                <a:lnTo>
                  <a:pt x="0" y="197"/>
                </a:lnTo>
                <a:lnTo>
                  <a:pt x="14" y="154"/>
                </a:lnTo>
                <a:lnTo>
                  <a:pt x="31" y="129"/>
                </a:lnTo>
                <a:lnTo>
                  <a:pt x="57" y="108"/>
                </a:lnTo>
                <a:lnTo>
                  <a:pt x="81" y="84"/>
                </a:lnTo>
                <a:lnTo>
                  <a:pt x="109" y="51"/>
                </a:lnTo>
                <a:lnTo>
                  <a:pt x="151" y="0"/>
                </a:lnTo>
                <a:lnTo>
                  <a:pt x="98" y="105"/>
                </a:lnTo>
                <a:lnTo>
                  <a:pt x="36" y="188"/>
                </a:lnTo>
                <a:lnTo>
                  <a:pt x="29" y="278"/>
                </a:lnTo>
                <a:lnTo>
                  <a:pt x="29" y="278"/>
                </a:lnTo>
                <a:lnTo>
                  <a:pt x="29" y="278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5059440" y="2495520"/>
            <a:ext cx="282600" cy="243000"/>
          </a:xfrm>
          <a:custGeom>
            <a:avLst/>
            <a:gdLst>
              <a:gd name="textAreaLeft" fmla="*/ 0 w 282600"/>
              <a:gd name="textAreaRight" fmla="*/ 282960 w 282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78" h="153">
                <a:moveTo>
                  <a:pt x="0" y="0"/>
                </a:moveTo>
                <a:lnTo>
                  <a:pt x="51" y="22"/>
                </a:lnTo>
                <a:lnTo>
                  <a:pt x="91" y="42"/>
                </a:lnTo>
                <a:lnTo>
                  <a:pt x="139" y="61"/>
                </a:lnTo>
                <a:lnTo>
                  <a:pt x="173" y="88"/>
                </a:lnTo>
                <a:lnTo>
                  <a:pt x="178" y="119"/>
                </a:lnTo>
                <a:lnTo>
                  <a:pt x="157" y="153"/>
                </a:lnTo>
                <a:lnTo>
                  <a:pt x="143" y="102"/>
                </a:lnTo>
                <a:lnTo>
                  <a:pt x="83" y="65"/>
                </a:lnTo>
                <a:lnTo>
                  <a:pt x="42" y="44"/>
                </a:lnTo>
                <a:lnTo>
                  <a:pt x="8" y="1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4638600" y="1878120"/>
            <a:ext cx="411120" cy="757080"/>
          </a:xfrm>
          <a:custGeom>
            <a:avLst/>
            <a:gdLst>
              <a:gd name="textAreaLeft" fmla="*/ 0 w 411120"/>
              <a:gd name="textAreaRight" fmla="*/ 411480 w 41112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59" h="477">
                <a:moveTo>
                  <a:pt x="222" y="0"/>
                </a:moveTo>
                <a:lnTo>
                  <a:pt x="189" y="0"/>
                </a:lnTo>
                <a:lnTo>
                  <a:pt x="162" y="19"/>
                </a:lnTo>
                <a:lnTo>
                  <a:pt x="140" y="48"/>
                </a:lnTo>
                <a:lnTo>
                  <a:pt x="126" y="56"/>
                </a:lnTo>
                <a:lnTo>
                  <a:pt x="111" y="49"/>
                </a:lnTo>
                <a:lnTo>
                  <a:pt x="97" y="26"/>
                </a:lnTo>
                <a:lnTo>
                  <a:pt x="77" y="56"/>
                </a:lnTo>
                <a:lnTo>
                  <a:pt x="54" y="110"/>
                </a:lnTo>
                <a:lnTo>
                  <a:pt x="45" y="162"/>
                </a:lnTo>
                <a:lnTo>
                  <a:pt x="51" y="245"/>
                </a:lnTo>
                <a:lnTo>
                  <a:pt x="86" y="353"/>
                </a:lnTo>
                <a:lnTo>
                  <a:pt x="105" y="394"/>
                </a:lnTo>
                <a:lnTo>
                  <a:pt x="142" y="355"/>
                </a:lnTo>
                <a:lnTo>
                  <a:pt x="162" y="351"/>
                </a:lnTo>
                <a:lnTo>
                  <a:pt x="182" y="357"/>
                </a:lnTo>
                <a:lnTo>
                  <a:pt x="196" y="380"/>
                </a:lnTo>
                <a:lnTo>
                  <a:pt x="194" y="402"/>
                </a:lnTo>
                <a:lnTo>
                  <a:pt x="174" y="411"/>
                </a:lnTo>
                <a:lnTo>
                  <a:pt x="108" y="417"/>
                </a:lnTo>
                <a:lnTo>
                  <a:pt x="79" y="439"/>
                </a:lnTo>
                <a:lnTo>
                  <a:pt x="44" y="461"/>
                </a:lnTo>
                <a:lnTo>
                  <a:pt x="0" y="468"/>
                </a:lnTo>
                <a:lnTo>
                  <a:pt x="31" y="477"/>
                </a:lnTo>
                <a:lnTo>
                  <a:pt x="84" y="477"/>
                </a:lnTo>
                <a:lnTo>
                  <a:pt x="161" y="452"/>
                </a:lnTo>
                <a:lnTo>
                  <a:pt x="209" y="452"/>
                </a:lnTo>
                <a:lnTo>
                  <a:pt x="246" y="437"/>
                </a:lnTo>
                <a:lnTo>
                  <a:pt x="259" y="412"/>
                </a:lnTo>
                <a:lnTo>
                  <a:pt x="259" y="371"/>
                </a:lnTo>
                <a:lnTo>
                  <a:pt x="214" y="317"/>
                </a:lnTo>
                <a:lnTo>
                  <a:pt x="165" y="251"/>
                </a:lnTo>
                <a:lnTo>
                  <a:pt x="140" y="165"/>
                </a:lnTo>
                <a:lnTo>
                  <a:pt x="161" y="110"/>
                </a:lnTo>
                <a:lnTo>
                  <a:pt x="149" y="97"/>
                </a:lnTo>
                <a:lnTo>
                  <a:pt x="177" y="59"/>
                </a:lnTo>
                <a:lnTo>
                  <a:pt x="165" y="57"/>
                </a:lnTo>
                <a:lnTo>
                  <a:pt x="189" y="23"/>
                </a:lnTo>
                <a:lnTo>
                  <a:pt x="222" y="0"/>
                </a:lnTo>
                <a:lnTo>
                  <a:pt x="222" y="0"/>
                </a:lnTo>
                <a:lnTo>
                  <a:pt x="222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8"/>
          <p:cNvSpPr/>
          <p:nvPr/>
        </p:nvSpPr>
        <p:spPr>
          <a:xfrm>
            <a:off x="3778200" y="1125360"/>
            <a:ext cx="1389240" cy="2589480"/>
          </a:xfrm>
          <a:custGeom>
            <a:avLst/>
            <a:gdLst>
              <a:gd name="textAreaLeft" fmla="*/ 0 w 1389240"/>
              <a:gd name="textAreaRight" fmla="*/ 1389240 w 1389240"/>
              <a:gd name="textAreaTop" fmla="*/ 0 h 2589480"/>
              <a:gd name="textAreaBottom" fmla="*/ 2589840 h 2589480"/>
            </a:gdLst>
            <a:ahLst/>
            <a:rect l="textAreaLeft" t="textAreaTop" r="textAreaRight" b="textAreaBottom"/>
            <a:pathLst>
              <a:path w="875" h="1631">
                <a:moveTo>
                  <a:pt x="455" y="0"/>
                </a:moveTo>
                <a:lnTo>
                  <a:pt x="310" y="122"/>
                </a:lnTo>
                <a:lnTo>
                  <a:pt x="269" y="233"/>
                </a:lnTo>
                <a:lnTo>
                  <a:pt x="224" y="362"/>
                </a:lnTo>
                <a:lnTo>
                  <a:pt x="218" y="431"/>
                </a:lnTo>
                <a:lnTo>
                  <a:pt x="287" y="494"/>
                </a:lnTo>
                <a:lnTo>
                  <a:pt x="166" y="537"/>
                </a:lnTo>
                <a:lnTo>
                  <a:pt x="107" y="587"/>
                </a:lnTo>
                <a:lnTo>
                  <a:pt x="95" y="639"/>
                </a:lnTo>
                <a:lnTo>
                  <a:pt x="142" y="663"/>
                </a:lnTo>
                <a:lnTo>
                  <a:pt x="195" y="689"/>
                </a:lnTo>
                <a:lnTo>
                  <a:pt x="103" y="710"/>
                </a:lnTo>
                <a:lnTo>
                  <a:pt x="79" y="761"/>
                </a:lnTo>
                <a:lnTo>
                  <a:pt x="92" y="896"/>
                </a:lnTo>
                <a:lnTo>
                  <a:pt x="144" y="1058"/>
                </a:lnTo>
                <a:lnTo>
                  <a:pt x="200" y="1156"/>
                </a:lnTo>
                <a:lnTo>
                  <a:pt x="269" y="1248"/>
                </a:lnTo>
                <a:lnTo>
                  <a:pt x="356" y="1329"/>
                </a:lnTo>
                <a:lnTo>
                  <a:pt x="442" y="1393"/>
                </a:lnTo>
                <a:lnTo>
                  <a:pt x="601" y="1454"/>
                </a:lnTo>
                <a:lnTo>
                  <a:pt x="709" y="1457"/>
                </a:lnTo>
                <a:lnTo>
                  <a:pt x="795" y="1441"/>
                </a:lnTo>
                <a:lnTo>
                  <a:pt x="875" y="1413"/>
                </a:lnTo>
                <a:lnTo>
                  <a:pt x="782" y="1463"/>
                </a:lnTo>
                <a:lnTo>
                  <a:pt x="645" y="1484"/>
                </a:lnTo>
                <a:lnTo>
                  <a:pt x="543" y="1499"/>
                </a:lnTo>
                <a:lnTo>
                  <a:pt x="577" y="1631"/>
                </a:lnTo>
                <a:lnTo>
                  <a:pt x="519" y="1620"/>
                </a:lnTo>
                <a:lnTo>
                  <a:pt x="211" y="1326"/>
                </a:lnTo>
                <a:lnTo>
                  <a:pt x="0" y="977"/>
                </a:lnTo>
                <a:lnTo>
                  <a:pt x="34" y="457"/>
                </a:lnTo>
                <a:lnTo>
                  <a:pt x="237" y="33"/>
                </a:lnTo>
                <a:lnTo>
                  <a:pt x="455" y="0"/>
                </a:lnTo>
                <a:lnTo>
                  <a:pt x="455" y="0"/>
                </a:lnTo>
                <a:lnTo>
                  <a:pt x="455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9"/>
          <p:cNvSpPr/>
          <p:nvPr/>
        </p:nvSpPr>
        <p:spPr>
          <a:xfrm>
            <a:off x="4468680" y="954000"/>
            <a:ext cx="1228680" cy="24750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774" h="1559">
                <a:moveTo>
                  <a:pt x="50" y="87"/>
                </a:moveTo>
                <a:lnTo>
                  <a:pt x="171" y="83"/>
                </a:lnTo>
                <a:lnTo>
                  <a:pt x="258" y="95"/>
                </a:lnTo>
                <a:lnTo>
                  <a:pt x="332" y="130"/>
                </a:lnTo>
                <a:lnTo>
                  <a:pt x="389" y="167"/>
                </a:lnTo>
                <a:lnTo>
                  <a:pt x="440" y="246"/>
                </a:lnTo>
                <a:lnTo>
                  <a:pt x="469" y="333"/>
                </a:lnTo>
                <a:lnTo>
                  <a:pt x="492" y="436"/>
                </a:lnTo>
                <a:lnTo>
                  <a:pt x="498" y="486"/>
                </a:lnTo>
                <a:lnTo>
                  <a:pt x="421" y="489"/>
                </a:lnTo>
                <a:lnTo>
                  <a:pt x="464" y="531"/>
                </a:lnTo>
                <a:lnTo>
                  <a:pt x="427" y="551"/>
                </a:lnTo>
                <a:lnTo>
                  <a:pt x="363" y="568"/>
                </a:lnTo>
                <a:lnTo>
                  <a:pt x="392" y="602"/>
                </a:lnTo>
                <a:lnTo>
                  <a:pt x="513" y="652"/>
                </a:lnTo>
                <a:lnTo>
                  <a:pt x="571" y="647"/>
                </a:lnTo>
                <a:lnTo>
                  <a:pt x="606" y="696"/>
                </a:lnTo>
                <a:lnTo>
                  <a:pt x="629" y="777"/>
                </a:lnTo>
                <a:lnTo>
                  <a:pt x="638" y="909"/>
                </a:lnTo>
                <a:lnTo>
                  <a:pt x="629" y="1038"/>
                </a:lnTo>
                <a:lnTo>
                  <a:pt x="629" y="1159"/>
                </a:lnTo>
                <a:lnTo>
                  <a:pt x="601" y="1251"/>
                </a:lnTo>
                <a:lnTo>
                  <a:pt x="500" y="1415"/>
                </a:lnTo>
                <a:lnTo>
                  <a:pt x="427" y="1484"/>
                </a:lnTo>
                <a:lnTo>
                  <a:pt x="334" y="1559"/>
                </a:lnTo>
                <a:lnTo>
                  <a:pt x="411" y="1559"/>
                </a:lnTo>
                <a:lnTo>
                  <a:pt x="606" y="1428"/>
                </a:lnTo>
                <a:lnTo>
                  <a:pt x="774" y="1217"/>
                </a:lnTo>
                <a:lnTo>
                  <a:pt x="753" y="869"/>
                </a:lnTo>
                <a:lnTo>
                  <a:pt x="659" y="457"/>
                </a:lnTo>
                <a:lnTo>
                  <a:pt x="513" y="108"/>
                </a:lnTo>
                <a:lnTo>
                  <a:pt x="345" y="3"/>
                </a:lnTo>
                <a:lnTo>
                  <a:pt x="173" y="0"/>
                </a:lnTo>
                <a:lnTo>
                  <a:pt x="0" y="46"/>
                </a:lnTo>
                <a:lnTo>
                  <a:pt x="50" y="87"/>
                </a:lnTo>
                <a:lnTo>
                  <a:pt x="50" y="87"/>
                </a:lnTo>
                <a:lnTo>
                  <a:pt x="5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0"/>
          <p:cNvSpPr/>
          <p:nvPr/>
        </p:nvSpPr>
        <p:spPr>
          <a:xfrm>
            <a:off x="5551560" y="1257480"/>
            <a:ext cx="1287360" cy="2420640"/>
          </a:xfrm>
          <a:custGeom>
            <a:avLst/>
            <a:gdLst>
              <a:gd name="textAreaLeft" fmla="*/ 0 w 1287360"/>
              <a:gd name="textAreaRight" fmla="*/ 1287720 w 1287360"/>
              <a:gd name="textAreaTop" fmla="*/ 0 h 2420640"/>
              <a:gd name="textAreaBottom" fmla="*/ 2421000 h 2420640"/>
            </a:gdLst>
            <a:ahLst/>
            <a:rect l="textAreaLeft" t="textAreaTop" r="textAreaRight" b="textAreaBottom"/>
            <a:pathLst>
              <a:path w="811" h="1525">
                <a:moveTo>
                  <a:pt x="71" y="0"/>
                </a:moveTo>
                <a:lnTo>
                  <a:pt x="375" y="127"/>
                </a:lnTo>
                <a:lnTo>
                  <a:pt x="450" y="251"/>
                </a:lnTo>
                <a:lnTo>
                  <a:pt x="529" y="348"/>
                </a:lnTo>
                <a:lnTo>
                  <a:pt x="480" y="370"/>
                </a:lnTo>
                <a:lnTo>
                  <a:pt x="534" y="485"/>
                </a:lnTo>
                <a:lnTo>
                  <a:pt x="701" y="603"/>
                </a:lnTo>
                <a:lnTo>
                  <a:pt x="802" y="762"/>
                </a:lnTo>
                <a:lnTo>
                  <a:pt x="811" y="965"/>
                </a:lnTo>
                <a:lnTo>
                  <a:pt x="679" y="1283"/>
                </a:lnTo>
                <a:lnTo>
                  <a:pt x="736" y="1517"/>
                </a:lnTo>
                <a:lnTo>
                  <a:pt x="643" y="1525"/>
                </a:lnTo>
                <a:lnTo>
                  <a:pt x="520" y="1477"/>
                </a:lnTo>
                <a:lnTo>
                  <a:pt x="415" y="1380"/>
                </a:lnTo>
                <a:lnTo>
                  <a:pt x="27" y="1318"/>
                </a:lnTo>
                <a:lnTo>
                  <a:pt x="0" y="1235"/>
                </a:lnTo>
                <a:lnTo>
                  <a:pt x="62" y="952"/>
                </a:lnTo>
                <a:lnTo>
                  <a:pt x="35" y="700"/>
                </a:lnTo>
                <a:lnTo>
                  <a:pt x="35" y="264"/>
                </a:lnTo>
                <a:lnTo>
                  <a:pt x="71" y="0"/>
                </a:lnTo>
                <a:lnTo>
                  <a:pt x="71" y="0"/>
                </a:lnTo>
                <a:lnTo>
                  <a:pt x="71" y="0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1"/>
          <p:cNvSpPr/>
          <p:nvPr/>
        </p:nvSpPr>
        <p:spPr>
          <a:xfrm>
            <a:off x="2860560" y="430200"/>
            <a:ext cx="2559240" cy="3268800"/>
          </a:xfrm>
          <a:custGeom>
            <a:avLst/>
            <a:gdLst>
              <a:gd name="textAreaLeft" fmla="*/ 0 w 2559240"/>
              <a:gd name="textAreaRight" fmla="*/ 2559240 w 2559240"/>
              <a:gd name="textAreaTop" fmla="*/ 0 h 3268800"/>
              <a:gd name="textAreaBottom" fmla="*/ 3269160 h 3268800"/>
            </a:gdLst>
            <a:ahLst/>
            <a:rect l="textAreaLeft" t="textAreaTop" r="textAreaRight" b="textAreaBottom"/>
            <a:pathLst>
              <a:path w="1612" h="2059">
                <a:moveTo>
                  <a:pt x="228" y="749"/>
                </a:moveTo>
                <a:lnTo>
                  <a:pt x="479" y="243"/>
                </a:lnTo>
                <a:lnTo>
                  <a:pt x="643" y="155"/>
                </a:lnTo>
                <a:lnTo>
                  <a:pt x="1026" y="0"/>
                </a:lnTo>
                <a:lnTo>
                  <a:pt x="1383" y="9"/>
                </a:lnTo>
                <a:lnTo>
                  <a:pt x="1528" y="44"/>
                </a:lnTo>
                <a:lnTo>
                  <a:pt x="1594" y="133"/>
                </a:lnTo>
                <a:lnTo>
                  <a:pt x="1612" y="286"/>
                </a:lnTo>
                <a:lnTo>
                  <a:pt x="1563" y="472"/>
                </a:lnTo>
                <a:lnTo>
                  <a:pt x="1369" y="410"/>
                </a:lnTo>
                <a:lnTo>
                  <a:pt x="1273" y="340"/>
                </a:lnTo>
                <a:lnTo>
                  <a:pt x="1092" y="326"/>
                </a:lnTo>
                <a:lnTo>
                  <a:pt x="836" y="468"/>
                </a:lnTo>
                <a:lnTo>
                  <a:pt x="656" y="833"/>
                </a:lnTo>
                <a:lnTo>
                  <a:pt x="567" y="1231"/>
                </a:lnTo>
                <a:lnTo>
                  <a:pt x="761" y="1853"/>
                </a:lnTo>
                <a:lnTo>
                  <a:pt x="616" y="2011"/>
                </a:lnTo>
                <a:lnTo>
                  <a:pt x="347" y="2059"/>
                </a:lnTo>
                <a:lnTo>
                  <a:pt x="35" y="2059"/>
                </a:lnTo>
                <a:lnTo>
                  <a:pt x="22" y="1927"/>
                </a:lnTo>
                <a:lnTo>
                  <a:pt x="0" y="1769"/>
                </a:lnTo>
                <a:lnTo>
                  <a:pt x="22" y="1681"/>
                </a:lnTo>
                <a:lnTo>
                  <a:pt x="48" y="1561"/>
                </a:lnTo>
                <a:lnTo>
                  <a:pt x="9" y="1443"/>
                </a:lnTo>
                <a:lnTo>
                  <a:pt x="22" y="1270"/>
                </a:lnTo>
                <a:lnTo>
                  <a:pt x="62" y="1181"/>
                </a:lnTo>
                <a:lnTo>
                  <a:pt x="35" y="1151"/>
                </a:lnTo>
                <a:lnTo>
                  <a:pt x="44" y="1089"/>
                </a:lnTo>
                <a:lnTo>
                  <a:pt x="140" y="1068"/>
                </a:lnTo>
                <a:lnTo>
                  <a:pt x="228" y="749"/>
                </a:lnTo>
                <a:lnTo>
                  <a:pt x="228" y="749"/>
                </a:lnTo>
                <a:lnTo>
                  <a:pt x="228" y="749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2"/>
          <p:cNvSpPr/>
          <p:nvPr/>
        </p:nvSpPr>
        <p:spPr>
          <a:xfrm>
            <a:off x="3835440" y="592200"/>
            <a:ext cx="971640" cy="317520"/>
          </a:xfrm>
          <a:custGeom>
            <a:avLst/>
            <a:gdLst>
              <a:gd name="textAreaLeft" fmla="*/ 0 w 971640"/>
              <a:gd name="textAreaRight" fmla="*/ 972000 w 9716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12" h="200">
                <a:moveTo>
                  <a:pt x="0" y="164"/>
                </a:moveTo>
                <a:lnTo>
                  <a:pt x="147" y="200"/>
                </a:lnTo>
                <a:lnTo>
                  <a:pt x="332" y="200"/>
                </a:lnTo>
                <a:lnTo>
                  <a:pt x="428" y="196"/>
                </a:lnTo>
                <a:lnTo>
                  <a:pt x="550" y="143"/>
                </a:lnTo>
                <a:lnTo>
                  <a:pt x="338" y="149"/>
                </a:lnTo>
                <a:lnTo>
                  <a:pt x="271" y="123"/>
                </a:lnTo>
                <a:lnTo>
                  <a:pt x="391" y="103"/>
                </a:lnTo>
                <a:lnTo>
                  <a:pt x="494" y="62"/>
                </a:lnTo>
                <a:lnTo>
                  <a:pt x="612" y="0"/>
                </a:lnTo>
                <a:lnTo>
                  <a:pt x="276" y="10"/>
                </a:lnTo>
                <a:lnTo>
                  <a:pt x="134" y="39"/>
                </a:lnTo>
                <a:lnTo>
                  <a:pt x="315" y="62"/>
                </a:lnTo>
                <a:lnTo>
                  <a:pt x="128" y="80"/>
                </a:lnTo>
                <a:lnTo>
                  <a:pt x="271" y="155"/>
                </a:lnTo>
                <a:lnTo>
                  <a:pt x="99" y="155"/>
                </a:lnTo>
                <a:lnTo>
                  <a:pt x="0" y="164"/>
                </a:lnTo>
                <a:lnTo>
                  <a:pt x="0" y="164"/>
                </a:lnTo>
                <a:lnTo>
                  <a:pt x="0" y="16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3"/>
          <p:cNvSpPr/>
          <p:nvPr/>
        </p:nvSpPr>
        <p:spPr>
          <a:xfrm>
            <a:off x="4346640" y="438120"/>
            <a:ext cx="725400" cy="128520"/>
          </a:xfrm>
          <a:custGeom>
            <a:avLst/>
            <a:gdLst>
              <a:gd name="textAreaLeft" fmla="*/ 0 w 725400"/>
              <a:gd name="textAreaRight" fmla="*/ 725760 w 725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457" h="81">
                <a:moveTo>
                  <a:pt x="71" y="55"/>
                </a:moveTo>
                <a:lnTo>
                  <a:pt x="266" y="48"/>
                </a:lnTo>
                <a:lnTo>
                  <a:pt x="341" y="42"/>
                </a:lnTo>
                <a:lnTo>
                  <a:pt x="413" y="62"/>
                </a:lnTo>
                <a:lnTo>
                  <a:pt x="454" y="81"/>
                </a:lnTo>
                <a:lnTo>
                  <a:pt x="457" y="31"/>
                </a:lnTo>
                <a:lnTo>
                  <a:pt x="224" y="0"/>
                </a:lnTo>
                <a:lnTo>
                  <a:pt x="77" y="14"/>
                </a:lnTo>
                <a:lnTo>
                  <a:pt x="0" y="46"/>
                </a:lnTo>
                <a:lnTo>
                  <a:pt x="71" y="55"/>
                </a:lnTo>
                <a:lnTo>
                  <a:pt x="71" y="55"/>
                </a:lnTo>
                <a:lnTo>
                  <a:pt x="71" y="5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4"/>
          <p:cNvSpPr/>
          <p:nvPr/>
        </p:nvSpPr>
        <p:spPr>
          <a:xfrm>
            <a:off x="3594240" y="825480"/>
            <a:ext cx="541080" cy="309600"/>
          </a:xfrm>
          <a:custGeom>
            <a:avLst/>
            <a:gdLst>
              <a:gd name="textAreaLeft" fmla="*/ 0 w 541080"/>
              <a:gd name="textAreaRight" fmla="*/ 541080 w 5410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1" h="195">
                <a:moveTo>
                  <a:pt x="0" y="12"/>
                </a:moveTo>
                <a:lnTo>
                  <a:pt x="66" y="92"/>
                </a:lnTo>
                <a:lnTo>
                  <a:pt x="117" y="134"/>
                </a:lnTo>
                <a:lnTo>
                  <a:pt x="173" y="164"/>
                </a:lnTo>
                <a:lnTo>
                  <a:pt x="255" y="195"/>
                </a:lnTo>
                <a:lnTo>
                  <a:pt x="341" y="195"/>
                </a:lnTo>
                <a:lnTo>
                  <a:pt x="255" y="164"/>
                </a:lnTo>
                <a:lnTo>
                  <a:pt x="146" y="113"/>
                </a:lnTo>
                <a:lnTo>
                  <a:pt x="70" y="53"/>
                </a:lnTo>
                <a:lnTo>
                  <a:pt x="16" y="0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5"/>
          <p:cNvSpPr/>
          <p:nvPr/>
        </p:nvSpPr>
        <p:spPr>
          <a:xfrm>
            <a:off x="3344760" y="1020600"/>
            <a:ext cx="376200" cy="551160"/>
          </a:xfrm>
          <a:custGeom>
            <a:avLst/>
            <a:gdLst>
              <a:gd name="textAreaLeft" fmla="*/ 0 w 376200"/>
              <a:gd name="textAreaRight" fmla="*/ 376560 w 376200"/>
              <a:gd name="textAreaTop" fmla="*/ 0 h 551160"/>
              <a:gd name="textAreaBottom" fmla="*/ 551520 h 551160"/>
            </a:gdLst>
            <a:ahLst/>
            <a:rect l="textAreaLeft" t="textAreaTop" r="textAreaRight" b="textAreaBottom"/>
            <a:pathLst>
              <a:path w="237" h="347">
                <a:moveTo>
                  <a:pt x="152" y="0"/>
                </a:moveTo>
                <a:lnTo>
                  <a:pt x="207" y="95"/>
                </a:lnTo>
                <a:lnTo>
                  <a:pt x="237" y="156"/>
                </a:lnTo>
                <a:lnTo>
                  <a:pt x="237" y="197"/>
                </a:lnTo>
                <a:lnTo>
                  <a:pt x="191" y="264"/>
                </a:lnTo>
                <a:lnTo>
                  <a:pt x="0" y="347"/>
                </a:lnTo>
                <a:lnTo>
                  <a:pt x="81" y="202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6"/>
          <p:cNvSpPr/>
          <p:nvPr/>
        </p:nvSpPr>
        <p:spPr>
          <a:xfrm>
            <a:off x="3780000" y="1189080"/>
            <a:ext cx="144360" cy="355680"/>
          </a:xfrm>
          <a:custGeom>
            <a:avLst/>
            <a:gdLst>
              <a:gd name="textAreaLeft" fmla="*/ 0 w 144360"/>
              <a:gd name="textAreaRight" fmla="*/ 144720 w 1443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91" h="224">
                <a:moveTo>
                  <a:pt x="91" y="30"/>
                </a:moveTo>
                <a:lnTo>
                  <a:pt x="60" y="82"/>
                </a:lnTo>
                <a:lnTo>
                  <a:pt x="50" y="133"/>
                </a:lnTo>
                <a:lnTo>
                  <a:pt x="70" y="193"/>
                </a:lnTo>
                <a:lnTo>
                  <a:pt x="70" y="224"/>
                </a:lnTo>
                <a:lnTo>
                  <a:pt x="35" y="204"/>
                </a:lnTo>
                <a:lnTo>
                  <a:pt x="4" y="137"/>
                </a:lnTo>
                <a:lnTo>
                  <a:pt x="0" y="31"/>
                </a:lnTo>
                <a:lnTo>
                  <a:pt x="44" y="0"/>
                </a:lnTo>
                <a:lnTo>
                  <a:pt x="91" y="30"/>
                </a:lnTo>
                <a:lnTo>
                  <a:pt x="91" y="30"/>
                </a:lnTo>
                <a:lnTo>
                  <a:pt x="91" y="3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7"/>
          <p:cNvSpPr/>
          <p:nvPr/>
        </p:nvSpPr>
        <p:spPr>
          <a:xfrm>
            <a:off x="5783400" y="1344600"/>
            <a:ext cx="236520" cy="709560"/>
          </a:xfrm>
          <a:custGeom>
            <a:avLst/>
            <a:gdLst>
              <a:gd name="textAreaLeft" fmla="*/ 0 w 236520"/>
              <a:gd name="textAreaRight" fmla="*/ 236880 w 236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49" h="447">
                <a:moveTo>
                  <a:pt x="15" y="0"/>
                </a:moveTo>
                <a:lnTo>
                  <a:pt x="80" y="89"/>
                </a:lnTo>
                <a:lnTo>
                  <a:pt x="93" y="143"/>
                </a:lnTo>
                <a:lnTo>
                  <a:pt x="76" y="192"/>
                </a:lnTo>
                <a:lnTo>
                  <a:pt x="59" y="117"/>
                </a:lnTo>
                <a:lnTo>
                  <a:pt x="0" y="66"/>
                </a:lnTo>
                <a:lnTo>
                  <a:pt x="24" y="147"/>
                </a:lnTo>
                <a:lnTo>
                  <a:pt x="48" y="192"/>
                </a:lnTo>
                <a:lnTo>
                  <a:pt x="45" y="242"/>
                </a:lnTo>
                <a:lnTo>
                  <a:pt x="25" y="321"/>
                </a:lnTo>
                <a:lnTo>
                  <a:pt x="25" y="365"/>
                </a:lnTo>
                <a:lnTo>
                  <a:pt x="44" y="410"/>
                </a:lnTo>
                <a:lnTo>
                  <a:pt x="89" y="447"/>
                </a:lnTo>
                <a:lnTo>
                  <a:pt x="92" y="314"/>
                </a:lnTo>
                <a:lnTo>
                  <a:pt x="149" y="161"/>
                </a:lnTo>
                <a:lnTo>
                  <a:pt x="113" y="68"/>
                </a:lnTo>
                <a:lnTo>
                  <a:pt x="66" y="2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8"/>
          <p:cNvSpPr/>
          <p:nvPr/>
        </p:nvSpPr>
        <p:spPr>
          <a:xfrm>
            <a:off x="6294600" y="1873080"/>
            <a:ext cx="550800" cy="878040"/>
          </a:xfrm>
          <a:custGeom>
            <a:avLst/>
            <a:gdLst>
              <a:gd name="textAreaLeft" fmla="*/ 0 w 550800"/>
              <a:gd name="textAreaRight" fmla="*/ 551160 w 55080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347" h="553">
                <a:moveTo>
                  <a:pt x="6" y="0"/>
                </a:moveTo>
                <a:lnTo>
                  <a:pt x="0" y="72"/>
                </a:lnTo>
                <a:lnTo>
                  <a:pt x="12" y="137"/>
                </a:lnTo>
                <a:lnTo>
                  <a:pt x="83" y="198"/>
                </a:lnTo>
                <a:lnTo>
                  <a:pt x="139" y="242"/>
                </a:lnTo>
                <a:lnTo>
                  <a:pt x="139" y="212"/>
                </a:lnTo>
                <a:lnTo>
                  <a:pt x="237" y="295"/>
                </a:lnTo>
                <a:lnTo>
                  <a:pt x="285" y="379"/>
                </a:lnTo>
                <a:lnTo>
                  <a:pt x="320" y="461"/>
                </a:lnTo>
                <a:lnTo>
                  <a:pt x="330" y="553"/>
                </a:lnTo>
                <a:lnTo>
                  <a:pt x="347" y="450"/>
                </a:lnTo>
                <a:lnTo>
                  <a:pt x="327" y="358"/>
                </a:lnTo>
                <a:lnTo>
                  <a:pt x="272" y="276"/>
                </a:lnTo>
                <a:lnTo>
                  <a:pt x="172" y="175"/>
                </a:lnTo>
                <a:lnTo>
                  <a:pt x="58" y="5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9"/>
          <p:cNvSpPr/>
          <p:nvPr/>
        </p:nvSpPr>
        <p:spPr>
          <a:xfrm>
            <a:off x="6451560" y="2303640"/>
            <a:ext cx="216000" cy="626760"/>
          </a:xfrm>
          <a:custGeom>
            <a:avLst/>
            <a:gdLst>
              <a:gd name="textAreaLeft" fmla="*/ 0 w 216000"/>
              <a:gd name="textAreaRight" fmla="*/ 216360 w 21600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136" h="395">
                <a:moveTo>
                  <a:pt x="74" y="0"/>
                </a:moveTo>
                <a:lnTo>
                  <a:pt x="118" y="70"/>
                </a:lnTo>
                <a:lnTo>
                  <a:pt x="136" y="210"/>
                </a:lnTo>
                <a:lnTo>
                  <a:pt x="84" y="327"/>
                </a:lnTo>
                <a:lnTo>
                  <a:pt x="0" y="395"/>
                </a:lnTo>
                <a:lnTo>
                  <a:pt x="60" y="265"/>
                </a:lnTo>
                <a:lnTo>
                  <a:pt x="90" y="169"/>
                </a:lnTo>
                <a:lnTo>
                  <a:pt x="88" y="112"/>
                </a:lnTo>
                <a:lnTo>
                  <a:pt x="74" y="0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0"/>
          <p:cNvSpPr/>
          <p:nvPr/>
        </p:nvSpPr>
        <p:spPr>
          <a:xfrm>
            <a:off x="2986200" y="2068560"/>
            <a:ext cx="439560" cy="233280"/>
          </a:xfrm>
          <a:custGeom>
            <a:avLst/>
            <a:gdLst>
              <a:gd name="textAreaLeft" fmla="*/ 0 w 439560"/>
              <a:gd name="textAreaRight" fmla="*/ 439920 w 4395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7" h="147">
                <a:moveTo>
                  <a:pt x="0" y="84"/>
                </a:moveTo>
                <a:lnTo>
                  <a:pt x="37" y="126"/>
                </a:lnTo>
                <a:lnTo>
                  <a:pt x="86" y="147"/>
                </a:lnTo>
                <a:lnTo>
                  <a:pt x="146" y="147"/>
                </a:lnTo>
                <a:lnTo>
                  <a:pt x="196" y="122"/>
                </a:lnTo>
                <a:lnTo>
                  <a:pt x="249" y="81"/>
                </a:lnTo>
                <a:lnTo>
                  <a:pt x="277" y="0"/>
                </a:lnTo>
                <a:lnTo>
                  <a:pt x="0" y="84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1"/>
          <p:cNvSpPr/>
          <p:nvPr/>
        </p:nvSpPr>
        <p:spPr>
          <a:xfrm>
            <a:off x="2844720" y="2336760"/>
            <a:ext cx="192240" cy="609480"/>
          </a:xfrm>
          <a:custGeom>
            <a:avLst/>
            <a:gdLst>
              <a:gd name="textAreaLeft" fmla="*/ 0 w 192240"/>
              <a:gd name="textAreaRight" fmla="*/ 192600 w 1922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1" h="384">
                <a:moveTo>
                  <a:pt x="101" y="384"/>
                </a:moveTo>
                <a:lnTo>
                  <a:pt x="121" y="355"/>
                </a:lnTo>
                <a:lnTo>
                  <a:pt x="65" y="276"/>
                </a:lnTo>
                <a:lnTo>
                  <a:pt x="58" y="200"/>
                </a:lnTo>
                <a:lnTo>
                  <a:pt x="65" y="147"/>
                </a:lnTo>
                <a:lnTo>
                  <a:pt x="96" y="0"/>
                </a:lnTo>
                <a:lnTo>
                  <a:pt x="60" y="16"/>
                </a:lnTo>
                <a:lnTo>
                  <a:pt x="0" y="147"/>
                </a:lnTo>
                <a:lnTo>
                  <a:pt x="13" y="336"/>
                </a:lnTo>
                <a:lnTo>
                  <a:pt x="101" y="384"/>
                </a:lnTo>
                <a:lnTo>
                  <a:pt x="101" y="384"/>
                </a:lnTo>
                <a:lnTo>
                  <a:pt x="101" y="3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2"/>
          <p:cNvSpPr/>
          <p:nvPr/>
        </p:nvSpPr>
        <p:spPr>
          <a:xfrm>
            <a:off x="3089160" y="2502000"/>
            <a:ext cx="273240" cy="379440"/>
          </a:xfrm>
          <a:custGeom>
            <a:avLst/>
            <a:gdLst>
              <a:gd name="textAreaLeft" fmla="*/ 0 w 273240"/>
              <a:gd name="textAreaRight" fmla="*/ 273600 w 2732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72" h="239">
                <a:moveTo>
                  <a:pt x="43" y="151"/>
                </a:moveTo>
                <a:lnTo>
                  <a:pt x="0" y="239"/>
                </a:lnTo>
                <a:lnTo>
                  <a:pt x="40" y="234"/>
                </a:lnTo>
                <a:lnTo>
                  <a:pt x="114" y="188"/>
                </a:lnTo>
                <a:lnTo>
                  <a:pt x="151" y="129"/>
                </a:lnTo>
                <a:lnTo>
                  <a:pt x="172" y="50"/>
                </a:lnTo>
                <a:lnTo>
                  <a:pt x="157" y="0"/>
                </a:lnTo>
                <a:lnTo>
                  <a:pt x="43" y="151"/>
                </a:lnTo>
                <a:lnTo>
                  <a:pt x="43" y="151"/>
                </a:lnTo>
                <a:lnTo>
                  <a:pt x="43" y="151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3"/>
          <p:cNvSpPr/>
          <p:nvPr/>
        </p:nvSpPr>
        <p:spPr>
          <a:xfrm>
            <a:off x="3403440" y="2678040"/>
            <a:ext cx="120960" cy="498600"/>
          </a:xfrm>
          <a:custGeom>
            <a:avLst/>
            <a:gdLst>
              <a:gd name="textAreaLeft" fmla="*/ 0 w 120960"/>
              <a:gd name="textAreaRight" fmla="*/ 121320 w 12096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6" h="314">
                <a:moveTo>
                  <a:pt x="50" y="0"/>
                </a:moveTo>
                <a:lnTo>
                  <a:pt x="58" y="133"/>
                </a:lnTo>
                <a:lnTo>
                  <a:pt x="30" y="187"/>
                </a:lnTo>
                <a:lnTo>
                  <a:pt x="9" y="143"/>
                </a:lnTo>
                <a:lnTo>
                  <a:pt x="0" y="221"/>
                </a:lnTo>
                <a:lnTo>
                  <a:pt x="50" y="314"/>
                </a:lnTo>
                <a:lnTo>
                  <a:pt x="76" y="184"/>
                </a:lnTo>
                <a:lnTo>
                  <a:pt x="76" y="55"/>
                </a:lnTo>
                <a:lnTo>
                  <a:pt x="5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4"/>
          <p:cNvSpPr/>
          <p:nvPr/>
        </p:nvSpPr>
        <p:spPr>
          <a:xfrm>
            <a:off x="3000240" y="3262320"/>
            <a:ext cx="182520" cy="297000"/>
          </a:xfrm>
          <a:custGeom>
            <a:avLst/>
            <a:gdLst>
              <a:gd name="textAreaLeft" fmla="*/ 0 w 182520"/>
              <a:gd name="textAreaRight" fmla="*/ 182880 w 1825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5" h="187">
                <a:moveTo>
                  <a:pt x="69" y="5"/>
                </a:moveTo>
                <a:lnTo>
                  <a:pt x="8" y="41"/>
                </a:lnTo>
                <a:lnTo>
                  <a:pt x="15" y="101"/>
                </a:lnTo>
                <a:lnTo>
                  <a:pt x="31" y="141"/>
                </a:lnTo>
                <a:lnTo>
                  <a:pt x="0" y="187"/>
                </a:lnTo>
                <a:lnTo>
                  <a:pt x="56" y="146"/>
                </a:lnTo>
                <a:lnTo>
                  <a:pt x="61" y="96"/>
                </a:lnTo>
                <a:lnTo>
                  <a:pt x="87" y="55"/>
                </a:lnTo>
                <a:lnTo>
                  <a:pt x="115" y="0"/>
                </a:lnTo>
                <a:lnTo>
                  <a:pt x="69" y="5"/>
                </a:lnTo>
                <a:lnTo>
                  <a:pt x="69" y="5"/>
                </a:lnTo>
                <a:lnTo>
                  <a:pt x="69" y="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5"/>
          <p:cNvSpPr/>
          <p:nvPr/>
        </p:nvSpPr>
        <p:spPr>
          <a:xfrm>
            <a:off x="5802480" y="2166840"/>
            <a:ext cx="428400" cy="712800"/>
          </a:xfrm>
          <a:custGeom>
            <a:avLst/>
            <a:gdLst>
              <a:gd name="textAreaLeft" fmla="*/ 0 w 428400"/>
              <a:gd name="textAreaRight" fmla="*/ 428760 w 4284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70" h="449">
                <a:moveTo>
                  <a:pt x="0" y="0"/>
                </a:moveTo>
                <a:lnTo>
                  <a:pt x="93" y="96"/>
                </a:lnTo>
                <a:lnTo>
                  <a:pt x="162" y="154"/>
                </a:lnTo>
                <a:lnTo>
                  <a:pt x="235" y="217"/>
                </a:lnTo>
                <a:lnTo>
                  <a:pt x="270" y="286"/>
                </a:lnTo>
                <a:lnTo>
                  <a:pt x="241" y="348"/>
                </a:lnTo>
                <a:lnTo>
                  <a:pt x="186" y="419"/>
                </a:lnTo>
                <a:lnTo>
                  <a:pt x="66" y="449"/>
                </a:lnTo>
                <a:lnTo>
                  <a:pt x="147" y="322"/>
                </a:lnTo>
                <a:lnTo>
                  <a:pt x="89" y="187"/>
                </a:lnTo>
                <a:lnTo>
                  <a:pt x="8" y="10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6"/>
          <p:cNvSpPr/>
          <p:nvPr/>
        </p:nvSpPr>
        <p:spPr>
          <a:xfrm>
            <a:off x="5616720" y="2494080"/>
            <a:ext cx="252360" cy="261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59" h="165">
                <a:moveTo>
                  <a:pt x="0" y="2"/>
                </a:moveTo>
                <a:lnTo>
                  <a:pt x="8" y="58"/>
                </a:lnTo>
                <a:lnTo>
                  <a:pt x="51" y="54"/>
                </a:lnTo>
                <a:lnTo>
                  <a:pt x="101" y="81"/>
                </a:lnTo>
                <a:lnTo>
                  <a:pt x="113" y="165"/>
                </a:lnTo>
                <a:lnTo>
                  <a:pt x="159" y="127"/>
                </a:lnTo>
                <a:lnTo>
                  <a:pt x="148" y="49"/>
                </a:lnTo>
                <a:lnTo>
                  <a:pt x="9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7"/>
          <p:cNvSpPr/>
          <p:nvPr/>
        </p:nvSpPr>
        <p:spPr>
          <a:xfrm>
            <a:off x="5059440" y="438120"/>
            <a:ext cx="293760" cy="507960"/>
          </a:xfrm>
          <a:custGeom>
            <a:avLst/>
            <a:gdLst>
              <a:gd name="textAreaLeft" fmla="*/ 0 w 293760"/>
              <a:gd name="textAreaRight" fmla="*/ 294120 w 2937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85" h="320">
                <a:moveTo>
                  <a:pt x="0" y="13"/>
                </a:moveTo>
                <a:lnTo>
                  <a:pt x="55" y="58"/>
                </a:lnTo>
                <a:lnTo>
                  <a:pt x="95" y="101"/>
                </a:lnTo>
                <a:lnTo>
                  <a:pt x="103" y="144"/>
                </a:lnTo>
                <a:lnTo>
                  <a:pt x="103" y="216"/>
                </a:lnTo>
                <a:lnTo>
                  <a:pt x="137" y="172"/>
                </a:lnTo>
                <a:lnTo>
                  <a:pt x="125" y="233"/>
                </a:lnTo>
                <a:lnTo>
                  <a:pt x="108" y="320"/>
                </a:lnTo>
                <a:lnTo>
                  <a:pt x="161" y="238"/>
                </a:lnTo>
                <a:lnTo>
                  <a:pt x="185" y="172"/>
                </a:lnTo>
                <a:lnTo>
                  <a:pt x="144" y="69"/>
                </a:lnTo>
                <a:lnTo>
                  <a:pt x="31" y="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8"/>
          <p:cNvSpPr/>
          <p:nvPr/>
        </p:nvSpPr>
        <p:spPr>
          <a:xfrm>
            <a:off x="4781520" y="1681200"/>
            <a:ext cx="584280" cy="181080"/>
          </a:xfrm>
          <a:custGeom>
            <a:avLst/>
            <a:gdLst>
              <a:gd name="textAreaLeft" fmla="*/ 0 w 584280"/>
              <a:gd name="textAreaRight" fmla="*/ 584280 w 5842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368" h="114">
                <a:moveTo>
                  <a:pt x="0" y="114"/>
                </a:moveTo>
                <a:lnTo>
                  <a:pt x="41" y="106"/>
                </a:lnTo>
                <a:lnTo>
                  <a:pt x="82" y="92"/>
                </a:lnTo>
                <a:lnTo>
                  <a:pt x="171" y="53"/>
                </a:lnTo>
                <a:lnTo>
                  <a:pt x="217" y="42"/>
                </a:lnTo>
                <a:lnTo>
                  <a:pt x="280" y="44"/>
                </a:lnTo>
                <a:lnTo>
                  <a:pt x="330" y="61"/>
                </a:lnTo>
                <a:lnTo>
                  <a:pt x="368" y="86"/>
                </a:lnTo>
                <a:lnTo>
                  <a:pt x="359" y="67"/>
                </a:lnTo>
                <a:lnTo>
                  <a:pt x="366" y="45"/>
                </a:lnTo>
                <a:lnTo>
                  <a:pt x="337" y="47"/>
                </a:lnTo>
                <a:lnTo>
                  <a:pt x="316" y="44"/>
                </a:lnTo>
                <a:lnTo>
                  <a:pt x="316" y="25"/>
                </a:lnTo>
                <a:lnTo>
                  <a:pt x="266" y="6"/>
                </a:lnTo>
                <a:lnTo>
                  <a:pt x="217" y="0"/>
                </a:lnTo>
                <a:lnTo>
                  <a:pt x="167" y="4"/>
                </a:lnTo>
                <a:lnTo>
                  <a:pt x="126" y="22"/>
                </a:lnTo>
                <a:lnTo>
                  <a:pt x="57" y="35"/>
                </a:lnTo>
                <a:lnTo>
                  <a:pt x="17" y="70"/>
                </a:lnTo>
                <a:lnTo>
                  <a:pt x="7" y="95"/>
                </a:lnTo>
                <a:lnTo>
                  <a:pt x="0" y="114"/>
                </a:lnTo>
                <a:lnTo>
                  <a:pt x="0" y="114"/>
                </a:lnTo>
                <a:lnTo>
                  <a:pt x="0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9"/>
          <p:cNvSpPr/>
          <p:nvPr/>
        </p:nvSpPr>
        <p:spPr>
          <a:xfrm>
            <a:off x="3902040" y="1886040"/>
            <a:ext cx="452520" cy="169920"/>
          </a:xfrm>
          <a:custGeom>
            <a:avLst/>
            <a:gdLst>
              <a:gd name="textAreaLeft" fmla="*/ 0 w 452520"/>
              <a:gd name="textAreaRight" fmla="*/ 452880 w 4525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85" h="107">
                <a:moveTo>
                  <a:pt x="261" y="40"/>
                </a:moveTo>
                <a:lnTo>
                  <a:pt x="223" y="50"/>
                </a:lnTo>
                <a:lnTo>
                  <a:pt x="159" y="48"/>
                </a:lnTo>
                <a:lnTo>
                  <a:pt x="118" y="48"/>
                </a:lnTo>
                <a:lnTo>
                  <a:pt x="75" y="56"/>
                </a:lnTo>
                <a:lnTo>
                  <a:pt x="24" y="83"/>
                </a:lnTo>
                <a:lnTo>
                  <a:pt x="0" y="107"/>
                </a:lnTo>
                <a:lnTo>
                  <a:pt x="24" y="56"/>
                </a:lnTo>
                <a:lnTo>
                  <a:pt x="73" y="24"/>
                </a:lnTo>
                <a:lnTo>
                  <a:pt x="129" y="18"/>
                </a:lnTo>
                <a:lnTo>
                  <a:pt x="152" y="6"/>
                </a:lnTo>
                <a:lnTo>
                  <a:pt x="220" y="0"/>
                </a:lnTo>
                <a:lnTo>
                  <a:pt x="259" y="8"/>
                </a:lnTo>
                <a:lnTo>
                  <a:pt x="285" y="25"/>
                </a:lnTo>
                <a:lnTo>
                  <a:pt x="261" y="40"/>
                </a:lnTo>
                <a:lnTo>
                  <a:pt x="261" y="40"/>
                </a:lnTo>
                <a:lnTo>
                  <a:pt x="261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40"/>
          <p:cNvSpPr/>
          <p:nvPr/>
        </p:nvSpPr>
        <p:spPr>
          <a:xfrm>
            <a:off x="4673520" y="1871640"/>
            <a:ext cx="362160" cy="763560"/>
          </a:xfrm>
          <a:custGeom>
            <a:avLst/>
            <a:gdLst>
              <a:gd name="textAreaLeft" fmla="*/ 0 w 362160"/>
              <a:gd name="textAreaRight" fmla="*/ 362520 w 3621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28" h="481">
                <a:moveTo>
                  <a:pt x="212" y="0"/>
                </a:moveTo>
                <a:lnTo>
                  <a:pt x="166" y="27"/>
                </a:lnTo>
                <a:lnTo>
                  <a:pt x="125" y="65"/>
                </a:lnTo>
                <a:lnTo>
                  <a:pt x="109" y="88"/>
                </a:lnTo>
                <a:lnTo>
                  <a:pt x="113" y="117"/>
                </a:lnTo>
                <a:lnTo>
                  <a:pt x="87" y="116"/>
                </a:lnTo>
                <a:lnTo>
                  <a:pt x="89" y="144"/>
                </a:lnTo>
                <a:lnTo>
                  <a:pt x="121" y="239"/>
                </a:lnTo>
                <a:lnTo>
                  <a:pt x="148" y="298"/>
                </a:lnTo>
                <a:lnTo>
                  <a:pt x="196" y="339"/>
                </a:lnTo>
                <a:lnTo>
                  <a:pt x="228" y="388"/>
                </a:lnTo>
                <a:lnTo>
                  <a:pt x="216" y="436"/>
                </a:lnTo>
                <a:lnTo>
                  <a:pt x="178" y="452"/>
                </a:lnTo>
                <a:lnTo>
                  <a:pt x="144" y="448"/>
                </a:lnTo>
                <a:lnTo>
                  <a:pt x="59" y="481"/>
                </a:lnTo>
                <a:lnTo>
                  <a:pt x="0" y="481"/>
                </a:lnTo>
                <a:lnTo>
                  <a:pt x="41" y="466"/>
                </a:lnTo>
                <a:lnTo>
                  <a:pt x="63" y="450"/>
                </a:lnTo>
                <a:lnTo>
                  <a:pt x="79" y="434"/>
                </a:lnTo>
                <a:lnTo>
                  <a:pt x="97" y="429"/>
                </a:lnTo>
                <a:lnTo>
                  <a:pt x="132" y="422"/>
                </a:lnTo>
                <a:lnTo>
                  <a:pt x="182" y="422"/>
                </a:lnTo>
                <a:lnTo>
                  <a:pt x="198" y="402"/>
                </a:lnTo>
                <a:lnTo>
                  <a:pt x="198" y="371"/>
                </a:lnTo>
                <a:lnTo>
                  <a:pt x="182" y="345"/>
                </a:lnTo>
                <a:lnTo>
                  <a:pt x="164" y="333"/>
                </a:lnTo>
                <a:lnTo>
                  <a:pt x="140" y="329"/>
                </a:lnTo>
                <a:lnTo>
                  <a:pt x="93" y="373"/>
                </a:lnTo>
                <a:lnTo>
                  <a:pt x="75" y="331"/>
                </a:lnTo>
                <a:lnTo>
                  <a:pt x="54" y="250"/>
                </a:lnTo>
                <a:lnTo>
                  <a:pt x="48" y="156"/>
                </a:lnTo>
                <a:lnTo>
                  <a:pt x="46" y="117"/>
                </a:lnTo>
                <a:lnTo>
                  <a:pt x="55" y="86"/>
                </a:lnTo>
                <a:lnTo>
                  <a:pt x="75" y="54"/>
                </a:lnTo>
                <a:lnTo>
                  <a:pt x="82" y="69"/>
                </a:lnTo>
                <a:lnTo>
                  <a:pt x="97" y="77"/>
                </a:lnTo>
                <a:lnTo>
                  <a:pt x="116" y="65"/>
                </a:lnTo>
                <a:lnTo>
                  <a:pt x="146" y="31"/>
                </a:lnTo>
                <a:lnTo>
                  <a:pt x="178" y="9"/>
                </a:lnTo>
                <a:lnTo>
                  <a:pt x="212" y="0"/>
                </a:lnTo>
                <a:lnTo>
                  <a:pt x="212" y="0"/>
                </a:lnTo>
                <a:lnTo>
                  <a:pt x="2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41"/>
          <p:cNvSpPr/>
          <p:nvPr/>
        </p:nvSpPr>
        <p:spPr>
          <a:xfrm>
            <a:off x="4849920" y="1862280"/>
            <a:ext cx="504720" cy="193680"/>
          </a:xfrm>
          <a:custGeom>
            <a:avLst/>
            <a:gdLst>
              <a:gd name="textAreaLeft" fmla="*/ 0 w 504720"/>
              <a:gd name="textAreaRight" fmla="*/ 504720 w 504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18" h="122">
                <a:moveTo>
                  <a:pt x="0" y="111"/>
                </a:moveTo>
                <a:lnTo>
                  <a:pt x="43" y="69"/>
                </a:lnTo>
                <a:lnTo>
                  <a:pt x="77" y="45"/>
                </a:lnTo>
                <a:lnTo>
                  <a:pt x="119" y="28"/>
                </a:lnTo>
                <a:lnTo>
                  <a:pt x="142" y="24"/>
                </a:lnTo>
                <a:lnTo>
                  <a:pt x="171" y="23"/>
                </a:lnTo>
                <a:lnTo>
                  <a:pt x="148" y="0"/>
                </a:lnTo>
                <a:lnTo>
                  <a:pt x="182" y="0"/>
                </a:lnTo>
                <a:lnTo>
                  <a:pt x="209" y="6"/>
                </a:lnTo>
                <a:lnTo>
                  <a:pt x="239" y="6"/>
                </a:lnTo>
                <a:lnTo>
                  <a:pt x="235" y="21"/>
                </a:lnTo>
                <a:lnTo>
                  <a:pt x="278" y="24"/>
                </a:lnTo>
                <a:lnTo>
                  <a:pt x="298" y="17"/>
                </a:lnTo>
                <a:lnTo>
                  <a:pt x="280" y="40"/>
                </a:lnTo>
                <a:lnTo>
                  <a:pt x="318" y="31"/>
                </a:lnTo>
                <a:lnTo>
                  <a:pt x="302" y="55"/>
                </a:lnTo>
                <a:lnTo>
                  <a:pt x="316" y="75"/>
                </a:lnTo>
                <a:lnTo>
                  <a:pt x="280" y="73"/>
                </a:lnTo>
                <a:lnTo>
                  <a:pt x="262" y="81"/>
                </a:lnTo>
                <a:lnTo>
                  <a:pt x="251" y="101"/>
                </a:lnTo>
                <a:lnTo>
                  <a:pt x="227" y="101"/>
                </a:lnTo>
                <a:lnTo>
                  <a:pt x="196" y="113"/>
                </a:lnTo>
                <a:lnTo>
                  <a:pt x="164" y="122"/>
                </a:lnTo>
                <a:lnTo>
                  <a:pt x="108" y="122"/>
                </a:lnTo>
                <a:lnTo>
                  <a:pt x="189" y="106"/>
                </a:lnTo>
                <a:lnTo>
                  <a:pt x="241" y="77"/>
                </a:lnTo>
                <a:lnTo>
                  <a:pt x="207" y="62"/>
                </a:lnTo>
                <a:lnTo>
                  <a:pt x="174" y="53"/>
                </a:lnTo>
                <a:lnTo>
                  <a:pt x="142" y="51"/>
                </a:lnTo>
                <a:lnTo>
                  <a:pt x="113" y="51"/>
                </a:lnTo>
                <a:lnTo>
                  <a:pt x="85" y="57"/>
                </a:lnTo>
                <a:lnTo>
                  <a:pt x="60" y="69"/>
                </a:lnTo>
                <a:lnTo>
                  <a:pt x="43" y="87"/>
                </a:lnTo>
                <a:lnTo>
                  <a:pt x="30" y="108"/>
                </a:lnTo>
                <a:lnTo>
                  <a:pt x="73" y="122"/>
                </a:lnTo>
                <a:lnTo>
                  <a:pt x="21" y="122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42"/>
          <p:cNvSpPr/>
          <p:nvPr/>
        </p:nvSpPr>
        <p:spPr>
          <a:xfrm>
            <a:off x="5035680" y="1943280"/>
            <a:ext cx="64800" cy="64800"/>
          </a:xfrm>
          <a:custGeom>
            <a:avLst/>
            <a:gdLst>
              <a:gd name="textAreaLeft" fmla="*/ 0 w 64800"/>
              <a:gd name="textAreaRight" fmla="*/ 65160 w 648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41" h="41">
                <a:moveTo>
                  <a:pt x="0" y="12"/>
                </a:moveTo>
                <a:lnTo>
                  <a:pt x="13" y="19"/>
                </a:lnTo>
                <a:lnTo>
                  <a:pt x="15" y="28"/>
                </a:lnTo>
                <a:lnTo>
                  <a:pt x="5" y="37"/>
                </a:lnTo>
                <a:lnTo>
                  <a:pt x="21" y="41"/>
                </a:lnTo>
                <a:lnTo>
                  <a:pt x="35" y="37"/>
                </a:lnTo>
                <a:lnTo>
                  <a:pt x="41" y="24"/>
                </a:lnTo>
                <a:lnTo>
                  <a:pt x="37" y="9"/>
                </a:lnTo>
                <a:lnTo>
                  <a:pt x="23" y="0"/>
                </a:lnTo>
                <a:lnTo>
                  <a:pt x="9" y="3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43"/>
          <p:cNvSpPr/>
          <p:nvPr/>
        </p:nvSpPr>
        <p:spPr>
          <a:xfrm>
            <a:off x="4975200" y="1936800"/>
            <a:ext cx="171360" cy="115920"/>
          </a:xfrm>
          <a:custGeom>
            <a:avLst/>
            <a:gdLst>
              <a:gd name="textAreaLeft" fmla="*/ 0 w 171360"/>
              <a:gd name="textAreaRight" fmla="*/ 171720 w 1713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08" h="73">
                <a:moveTo>
                  <a:pt x="24" y="0"/>
                </a:moveTo>
                <a:lnTo>
                  <a:pt x="18" y="38"/>
                </a:lnTo>
                <a:lnTo>
                  <a:pt x="34" y="59"/>
                </a:lnTo>
                <a:lnTo>
                  <a:pt x="47" y="63"/>
                </a:lnTo>
                <a:lnTo>
                  <a:pt x="65" y="63"/>
                </a:lnTo>
                <a:lnTo>
                  <a:pt x="81" y="54"/>
                </a:lnTo>
                <a:lnTo>
                  <a:pt x="94" y="38"/>
                </a:lnTo>
                <a:lnTo>
                  <a:pt x="95" y="20"/>
                </a:lnTo>
                <a:lnTo>
                  <a:pt x="87" y="2"/>
                </a:lnTo>
                <a:lnTo>
                  <a:pt x="103" y="2"/>
                </a:lnTo>
                <a:lnTo>
                  <a:pt x="108" y="22"/>
                </a:lnTo>
                <a:lnTo>
                  <a:pt x="106" y="43"/>
                </a:lnTo>
                <a:lnTo>
                  <a:pt x="94" y="61"/>
                </a:lnTo>
                <a:lnTo>
                  <a:pt x="74" y="70"/>
                </a:lnTo>
                <a:lnTo>
                  <a:pt x="45" y="73"/>
                </a:lnTo>
                <a:lnTo>
                  <a:pt x="24" y="64"/>
                </a:lnTo>
                <a:lnTo>
                  <a:pt x="6" y="38"/>
                </a:lnTo>
                <a:lnTo>
                  <a:pt x="0" y="18"/>
                </a:lnTo>
                <a:lnTo>
                  <a:pt x="0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4"/>
          <p:cNvSpPr/>
          <p:nvPr/>
        </p:nvSpPr>
        <p:spPr>
          <a:xfrm>
            <a:off x="4511520" y="2593800"/>
            <a:ext cx="136800" cy="32040"/>
          </a:xfrm>
          <a:custGeom>
            <a:avLst/>
            <a:gdLst>
              <a:gd name="textAreaLeft" fmla="*/ 0 w 136800"/>
              <a:gd name="textAreaRight" fmla="*/ 137160 w 136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86" h="20">
                <a:moveTo>
                  <a:pt x="86" y="20"/>
                </a:moveTo>
                <a:lnTo>
                  <a:pt x="37" y="0"/>
                </a:lnTo>
                <a:lnTo>
                  <a:pt x="0" y="10"/>
                </a:lnTo>
                <a:lnTo>
                  <a:pt x="11" y="20"/>
                </a:lnTo>
                <a:lnTo>
                  <a:pt x="55" y="20"/>
                </a:lnTo>
                <a:lnTo>
                  <a:pt x="86" y="20"/>
                </a:lnTo>
                <a:lnTo>
                  <a:pt x="86" y="20"/>
                </a:lnTo>
                <a:lnTo>
                  <a:pt x="8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45"/>
          <p:cNvSpPr/>
          <p:nvPr/>
        </p:nvSpPr>
        <p:spPr>
          <a:xfrm>
            <a:off x="5062680" y="2503440"/>
            <a:ext cx="245880" cy="2239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55" h="141">
                <a:moveTo>
                  <a:pt x="0" y="0"/>
                </a:moveTo>
                <a:lnTo>
                  <a:pt x="42" y="32"/>
                </a:lnTo>
                <a:lnTo>
                  <a:pt x="137" y="81"/>
                </a:lnTo>
                <a:lnTo>
                  <a:pt x="155" y="101"/>
                </a:lnTo>
                <a:lnTo>
                  <a:pt x="155" y="141"/>
                </a:lnTo>
                <a:lnTo>
                  <a:pt x="146" y="107"/>
                </a:lnTo>
                <a:lnTo>
                  <a:pt x="111" y="81"/>
                </a:lnTo>
                <a:lnTo>
                  <a:pt x="39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46"/>
          <p:cNvSpPr/>
          <p:nvPr/>
        </p:nvSpPr>
        <p:spPr>
          <a:xfrm>
            <a:off x="4440240" y="2724120"/>
            <a:ext cx="760320" cy="139680"/>
          </a:xfrm>
          <a:custGeom>
            <a:avLst/>
            <a:gdLst>
              <a:gd name="textAreaLeft" fmla="*/ 0 w 760320"/>
              <a:gd name="textAreaRight" fmla="*/ 760680 w 760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79" h="88">
                <a:moveTo>
                  <a:pt x="0" y="88"/>
                </a:moveTo>
                <a:lnTo>
                  <a:pt x="70" y="77"/>
                </a:lnTo>
                <a:lnTo>
                  <a:pt x="117" y="73"/>
                </a:lnTo>
                <a:lnTo>
                  <a:pt x="206" y="70"/>
                </a:lnTo>
                <a:lnTo>
                  <a:pt x="238" y="63"/>
                </a:lnTo>
                <a:lnTo>
                  <a:pt x="313" y="47"/>
                </a:lnTo>
                <a:lnTo>
                  <a:pt x="377" y="31"/>
                </a:lnTo>
                <a:lnTo>
                  <a:pt x="411" y="27"/>
                </a:lnTo>
                <a:lnTo>
                  <a:pt x="429" y="27"/>
                </a:lnTo>
                <a:lnTo>
                  <a:pt x="429" y="55"/>
                </a:lnTo>
                <a:lnTo>
                  <a:pt x="431" y="72"/>
                </a:lnTo>
                <a:lnTo>
                  <a:pt x="456" y="45"/>
                </a:lnTo>
                <a:lnTo>
                  <a:pt x="456" y="72"/>
                </a:lnTo>
                <a:lnTo>
                  <a:pt x="475" y="36"/>
                </a:lnTo>
                <a:lnTo>
                  <a:pt x="479" y="9"/>
                </a:lnTo>
                <a:lnTo>
                  <a:pt x="465" y="4"/>
                </a:lnTo>
                <a:lnTo>
                  <a:pt x="429" y="0"/>
                </a:lnTo>
                <a:lnTo>
                  <a:pt x="379" y="0"/>
                </a:lnTo>
                <a:lnTo>
                  <a:pt x="311" y="2"/>
                </a:lnTo>
                <a:lnTo>
                  <a:pt x="285" y="9"/>
                </a:lnTo>
                <a:lnTo>
                  <a:pt x="229" y="18"/>
                </a:lnTo>
                <a:lnTo>
                  <a:pt x="202" y="20"/>
                </a:lnTo>
                <a:lnTo>
                  <a:pt x="119" y="31"/>
                </a:lnTo>
                <a:lnTo>
                  <a:pt x="84" y="43"/>
                </a:lnTo>
                <a:lnTo>
                  <a:pt x="134" y="36"/>
                </a:lnTo>
                <a:lnTo>
                  <a:pt x="190" y="31"/>
                </a:lnTo>
                <a:lnTo>
                  <a:pt x="224" y="31"/>
                </a:lnTo>
                <a:lnTo>
                  <a:pt x="263" y="23"/>
                </a:lnTo>
                <a:lnTo>
                  <a:pt x="291" y="18"/>
                </a:lnTo>
                <a:lnTo>
                  <a:pt x="266" y="48"/>
                </a:lnTo>
                <a:lnTo>
                  <a:pt x="227" y="57"/>
                </a:lnTo>
                <a:lnTo>
                  <a:pt x="175" y="63"/>
                </a:lnTo>
                <a:lnTo>
                  <a:pt x="122" y="65"/>
                </a:lnTo>
                <a:lnTo>
                  <a:pt x="90" y="72"/>
                </a:lnTo>
                <a:lnTo>
                  <a:pt x="41" y="75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47"/>
          <p:cNvSpPr/>
          <p:nvPr/>
        </p:nvSpPr>
        <p:spPr>
          <a:xfrm>
            <a:off x="4386240" y="2860560"/>
            <a:ext cx="109440" cy="76320"/>
          </a:xfrm>
          <a:custGeom>
            <a:avLst/>
            <a:gdLst>
              <a:gd name="textAreaLeft" fmla="*/ 0 w 109440"/>
              <a:gd name="textAreaRight" fmla="*/ 109800 w 109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9" h="48">
                <a:moveTo>
                  <a:pt x="0" y="10"/>
                </a:moveTo>
                <a:lnTo>
                  <a:pt x="41" y="48"/>
                </a:lnTo>
                <a:lnTo>
                  <a:pt x="41" y="30"/>
                </a:lnTo>
                <a:lnTo>
                  <a:pt x="69" y="32"/>
                </a:lnTo>
                <a:lnTo>
                  <a:pt x="43" y="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48"/>
          <p:cNvSpPr/>
          <p:nvPr/>
        </p:nvSpPr>
        <p:spPr>
          <a:xfrm>
            <a:off x="4492800" y="2835360"/>
            <a:ext cx="628560" cy="176040"/>
          </a:xfrm>
          <a:custGeom>
            <a:avLst/>
            <a:gdLst>
              <a:gd name="textAreaLeft" fmla="*/ 0 w 628560"/>
              <a:gd name="textAreaRight" fmla="*/ 628920 w 6285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396" h="111">
                <a:moveTo>
                  <a:pt x="0" y="61"/>
                </a:moveTo>
                <a:lnTo>
                  <a:pt x="49" y="84"/>
                </a:lnTo>
                <a:lnTo>
                  <a:pt x="118" y="97"/>
                </a:lnTo>
                <a:lnTo>
                  <a:pt x="175" y="97"/>
                </a:lnTo>
                <a:lnTo>
                  <a:pt x="241" y="84"/>
                </a:lnTo>
                <a:lnTo>
                  <a:pt x="302" y="64"/>
                </a:lnTo>
                <a:lnTo>
                  <a:pt x="353" y="34"/>
                </a:lnTo>
                <a:lnTo>
                  <a:pt x="396" y="0"/>
                </a:lnTo>
                <a:lnTo>
                  <a:pt x="351" y="44"/>
                </a:lnTo>
                <a:lnTo>
                  <a:pt x="314" y="71"/>
                </a:lnTo>
                <a:lnTo>
                  <a:pt x="254" y="95"/>
                </a:lnTo>
                <a:lnTo>
                  <a:pt x="201" y="107"/>
                </a:lnTo>
                <a:lnTo>
                  <a:pt x="146" y="111"/>
                </a:lnTo>
                <a:lnTo>
                  <a:pt x="91" y="105"/>
                </a:lnTo>
                <a:lnTo>
                  <a:pt x="42" y="91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9"/>
          <p:cNvSpPr/>
          <p:nvPr/>
        </p:nvSpPr>
        <p:spPr>
          <a:xfrm>
            <a:off x="4511520" y="2824200"/>
            <a:ext cx="649440" cy="258840"/>
          </a:xfrm>
          <a:custGeom>
            <a:avLst/>
            <a:gdLst>
              <a:gd name="textAreaLeft" fmla="*/ 0 w 649440"/>
              <a:gd name="textAreaRight" fmla="*/ 649800 w 649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09" h="163">
                <a:moveTo>
                  <a:pt x="409" y="10"/>
                </a:moveTo>
                <a:lnTo>
                  <a:pt x="384" y="59"/>
                </a:lnTo>
                <a:lnTo>
                  <a:pt x="343" y="98"/>
                </a:lnTo>
                <a:lnTo>
                  <a:pt x="282" y="134"/>
                </a:lnTo>
                <a:lnTo>
                  <a:pt x="227" y="155"/>
                </a:lnTo>
                <a:lnTo>
                  <a:pt x="170" y="163"/>
                </a:lnTo>
                <a:lnTo>
                  <a:pt x="104" y="157"/>
                </a:lnTo>
                <a:lnTo>
                  <a:pt x="43" y="136"/>
                </a:lnTo>
                <a:lnTo>
                  <a:pt x="0" y="104"/>
                </a:lnTo>
                <a:lnTo>
                  <a:pt x="51" y="132"/>
                </a:lnTo>
                <a:lnTo>
                  <a:pt x="87" y="142"/>
                </a:lnTo>
                <a:lnTo>
                  <a:pt x="143" y="150"/>
                </a:lnTo>
                <a:lnTo>
                  <a:pt x="193" y="148"/>
                </a:lnTo>
                <a:lnTo>
                  <a:pt x="240" y="139"/>
                </a:lnTo>
                <a:lnTo>
                  <a:pt x="271" y="124"/>
                </a:lnTo>
                <a:lnTo>
                  <a:pt x="286" y="114"/>
                </a:lnTo>
                <a:lnTo>
                  <a:pt x="292" y="102"/>
                </a:lnTo>
                <a:lnTo>
                  <a:pt x="280" y="91"/>
                </a:lnTo>
                <a:lnTo>
                  <a:pt x="260" y="89"/>
                </a:lnTo>
                <a:lnTo>
                  <a:pt x="304" y="69"/>
                </a:lnTo>
                <a:lnTo>
                  <a:pt x="343" y="41"/>
                </a:lnTo>
                <a:lnTo>
                  <a:pt x="391" y="0"/>
                </a:lnTo>
                <a:lnTo>
                  <a:pt x="384" y="30"/>
                </a:lnTo>
                <a:lnTo>
                  <a:pt x="409" y="10"/>
                </a:lnTo>
                <a:lnTo>
                  <a:pt x="409" y="10"/>
                </a:lnTo>
                <a:lnTo>
                  <a:pt x="4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50"/>
          <p:cNvSpPr/>
          <p:nvPr/>
        </p:nvSpPr>
        <p:spPr>
          <a:xfrm>
            <a:off x="4248000" y="2538360"/>
            <a:ext cx="184320" cy="393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16" h="248">
                <a:moveTo>
                  <a:pt x="116" y="0"/>
                </a:moveTo>
                <a:lnTo>
                  <a:pt x="98" y="59"/>
                </a:lnTo>
                <a:lnTo>
                  <a:pt x="67" y="112"/>
                </a:lnTo>
                <a:lnTo>
                  <a:pt x="45" y="142"/>
                </a:lnTo>
                <a:lnTo>
                  <a:pt x="31" y="172"/>
                </a:lnTo>
                <a:lnTo>
                  <a:pt x="16" y="217"/>
                </a:lnTo>
                <a:lnTo>
                  <a:pt x="12" y="248"/>
                </a:lnTo>
                <a:lnTo>
                  <a:pt x="0" y="209"/>
                </a:lnTo>
                <a:lnTo>
                  <a:pt x="0" y="178"/>
                </a:lnTo>
                <a:lnTo>
                  <a:pt x="9" y="146"/>
                </a:lnTo>
                <a:lnTo>
                  <a:pt x="33" y="114"/>
                </a:lnTo>
                <a:lnTo>
                  <a:pt x="57" y="89"/>
                </a:lnTo>
                <a:lnTo>
                  <a:pt x="78" y="66"/>
                </a:lnTo>
                <a:lnTo>
                  <a:pt x="93" y="41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51"/>
          <p:cNvSpPr/>
          <p:nvPr/>
        </p:nvSpPr>
        <p:spPr>
          <a:xfrm>
            <a:off x="3962520" y="2070000"/>
            <a:ext cx="477720" cy="184320"/>
          </a:xfrm>
          <a:custGeom>
            <a:avLst/>
            <a:gdLst>
              <a:gd name="textAreaLeft" fmla="*/ 0 w 477720"/>
              <a:gd name="textAreaRight" fmla="*/ 477720 w 4777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01" h="116">
                <a:moveTo>
                  <a:pt x="253" y="64"/>
                </a:moveTo>
                <a:lnTo>
                  <a:pt x="301" y="48"/>
                </a:lnTo>
                <a:lnTo>
                  <a:pt x="273" y="25"/>
                </a:lnTo>
                <a:lnTo>
                  <a:pt x="217" y="7"/>
                </a:lnTo>
                <a:lnTo>
                  <a:pt x="156" y="0"/>
                </a:lnTo>
                <a:lnTo>
                  <a:pt x="118" y="7"/>
                </a:lnTo>
                <a:lnTo>
                  <a:pt x="120" y="23"/>
                </a:lnTo>
                <a:lnTo>
                  <a:pt x="91" y="27"/>
                </a:lnTo>
                <a:lnTo>
                  <a:pt x="84" y="13"/>
                </a:lnTo>
                <a:lnTo>
                  <a:pt x="44" y="41"/>
                </a:lnTo>
                <a:lnTo>
                  <a:pt x="23" y="64"/>
                </a:lnTo>
                <a:lnTo>
                  <a:pt x="39" y="76"/>
                </a:lnTo>
                <a:lnTo>
                  <a:pt x="26" y="88"/>
                </a:lnTo>
                <a:lnTo>
                  <a:pt x="0" y="102"/>
                </a:lnTo>
                <a:lnTo>
                  <a:pt x="30" y="111"/>
                </a:lnTo>
                <a:lnTo>
                  <a:pt x="51" y="111"/>
                </a:lnTo>
                <a:lnTo>
                  <a:pt x="80" y="104"/>
                </a:lnTo>
                <a:lnTo>
                  <a:pt x="94" y="116"/>
                </a:lnTo>
                <a:lnTo>
                  <a:pt x="112" y="104"/>
                </a:lnTo>
                <a:lnTo>
                  <a:pt x="130" y="109"/>
                </a:lnTo>
                <a:lnTo>
                  <a:pt x="146" y="89"/>
                </a:lnTo>
                <a:lnTo>
                  <a:pt x="105" y="84"/>
                </a:lnTo>
                <a:lnTo>
                  <a:pt x="91" y="72"/>
                </a:lnTo>
                <a:lnTo>
                  <a:pt x="110" y="52"/>
                </a:lnTo>
                <a:lnTo>
                  <a:pt x="134" y="35"/>
                </a:lnTo>
                <a:lnTo>
                  <a:pt x="162" y="27"/>
                </a:lnTo>
                <a:lnTo>
                  <a:pt x="196" y="27"/>
                </a:lnTo>
                <a:lnTo>
                  <a:pt x="233" y="34"/>
                </a:lnTo>
                <a:lnTo>
                  <a:pt x="262" y="39"/>
                </a:lnTo>
                <a:lnTo>
                  <a:pt x="253" y="64"/>
                </a:lnTo>
                <a:lnTo>
                  <a:pt x="253" y="64"/>
                </a:lnTo>
                <a:lnTo>
                  <a:pt x="253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52"/>
          <p:cNvSpPr/>
          <p:nvPr/>
        </p:nvSpPr>
        <p:spPr>
          <a:xfrm>
            <a:off x="4213080" y="2174760"/>
            <a:ext cx="115920" cy="50760"/>
          </a:xfrm>
          <a:custGeom>
            <a:avLst/>
            <a:gdLst>
              <a:gd name="textAreaLeft" fmla="*/ 0 w 115920"/>
              <a:gd name="textAreaRight" fmla="*/ 116280 w 115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3" h="32">
                <a:moveTo>
                  <a:pt x="0" y="20"/>
                </a:moveTo>
                <a:lnTo>
                  <a:pt x="36" y="12"/>
                </a:lnTo>
                <a:lnTo>
                  <a:pt x="73" y="0"/>
                </a:lnTo>
                <a:lnTo>
                  <a:pt x="41" y="23"/>
                </a:lnTo>
                <a:lnTo>
                  <a:pt x="19" y="23"/>
                </a:lnTo>
                <a:lnTo>
                  <a:pt x="0" y="32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53"/>
          <p:cNvSpPr/>
          <p:nvPr/>
        </p:nvSpPr>
        <p:spPr>
          <a:xfrm>
            <a:off x="4057560" y="2038320"/>
            <a:ext cx="289080" cy="85680"/>
          </a:xfrm>
          <a:custGeom>
            <a:avLst/>
            <a:gdLst>
              <a:gd name="textAreaLeft" fmla="*/ 0 w 289080"/>
              <a:gd name="textAreaRight" fmla="*/ 289440 w 2890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82" h="54">
                <a:moveTo>
                  <a:pt x="0" y="51"/>
                </a:moveTo>
                <a:lnTo>
                  <a:pt x="45" y="16"/>
                </a:lnTo>
                <a:lnTo>
                  <a:pt x="98" y="0"/>
                </a:lnTo>
                <a:lnTo>
                  <a:pt x="141" y="0"/>
                </a:lnTo>
                <a:lnTo>
                  <a:pt x="182" y="9"/>
                </a:lnTo>
                <a:lnTo>
                  <a:pt x="109" y="9"/>
                </a:lnTo>
                <a:lnTo>
                  <a:pt x="52" y="25"/>
                </a:lnTo>
                <a:lnTo>
                  <a:pt x="20" y="54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54"/>
          <p:cNvSpPr/>
          <p:nvPr/>
        </p:nvSpPr>
        <p:spPr>
          <a:xfrm>
            <a:off x="4222800" y="2116080"/>
            <a:ext cx="55440" cy="47520"/>
          </a:xfrm>
          <a:custGeom>
            <a:avLst/>
            <a:gdLst>
              <a:gd name="textAreaLeft" fmla="*/ 0 w 55440"/>
              <a:gd name="textAreaRight" fmla="*/ 55800 w 554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5" h="30">
                <a:moveTo>
                  <a:pt x="5" y="5"/>
                </a:moveTo>
                <a:lnTo>
                  <a:pt x="15" y="12"/>
                </a:lnTo>
                <a:lnTo>
                  <a:pt x="15" y="23"/>
                </a:lnTo>
                <a:lnTo>
                  <a:pt x="0" y="30"/>
                </a:lnTo>
                <a:lnTo>
                  <a:pt x="18" y="30"/>
                </a:lnTo>
                <a:lnTo>
                  <a:pt x="35" y="21"/>
                </a:lnTo>
                <a:lnTo>
                  <a:pt x="35" y="8"/>
                </a:lnTo>
                <a:lnTo>
                  <a:pt x="23" y="0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55"/>
          <p:cNvSpPr/>
          <p:nvPr/>
        </p:nvSpPr>
        <p:spPr>
          <a:xfrm>
            <a:off x="4152960" y="2100240"/>
            <a:ext cx="169920" cy="103320"/>
          </a:xfrm>
          <a:custGeom>
            <a:avLst/>
            <a:gdLst>
              <a:gd name="textAreaLeft" fmla="*/ 0 w 169920"/>
              <a:gd name="textAreaRight" fmla="*/ 170280 w 1699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7" h="65">
                <a:moveTo>
                  <a:pt x="22" y="6"/>
                </a:moveTo>
                <a:lnTo>
                  <a:pt x="16" y="34"/>
                </a:lnTo>
                <a:lnTo>
                  <a:pt x="30" y="53"/>
                </a:lnTo>
                <a:lnTo>
                  <a:pt x="53" y="59"/>
                </a:lnTo>
                <a:lnTo>
                  <a:pt x="79" y="53"/>
                </a:lnTo>
                <a:lnTo>
                  <a:pt x="95" y="36"/>
                </a:lnTo>
                <a:lnTo>
                  <a:pt x="97" y="20"/>
                </a:lnTo>
                <a:lnTo>
                  <a:pt x="87" y="0"/>
                </a:lnTo>
                <a:lnTo>
                  <a:pt x="107" y="6"/>
                </a:lnTo>
                <a:lnTo>
                  <a:pt x="107" y="29"/>
                </a:lnTo>
                <a:lnTo>
                  <a:pt x="99" y="53"/>
                </a:lnTo>
                <a:lnTo>
                  <a:pt x="74" y="65"/>
                </a:lnTo>
                <a:lnTo>
                  <a:pt x="38" y="65"/>
                </a:lnTo>
                <a:lnTo>
                  <a:pt x="22" y="61"/>
                </a:lnTo>
                <a:lnTo>
                  <a:pt x="10" y="45"/>
                </a:lnTo>
                <a:lnTo>
                  <a:pt x="4" y="29"/>
                </a:lnTo>
                <a:lnTo>
                  <a:pt x="0" y="15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6"/>
          <p:cNvSpPr/>
          <p:nvPr/>
        </p:nvSpPr>
        <p:spPr>
          <a:xfrm>
            <a:off x="3735360" y="592200"/>
            <a:ext cx="1488960" cy="1679400"/>
          </a:xfrm>
          <a:custGeom>
            <a:avLst/>
            <a:gdLst>
              <a:gd name="textAreaLeft" fmla="*/ 0 w 1488960"/>
              <a:gd name="textAreaRight" fmla="*/ 1489320 w 1488960"/>
              <a:gd name="textAreaTop" fmla="*/ 0 h 1679400"/>
              <a:gd name="textAreaBottom" fmla="*/ 1679760 h 1679400"/>
            </a:gdLst>
            <a:ahLst/>
            <a:rect l="textAreaLeft" t="textAreaTop" r="textAreaRight" b="textAreaBottom"/>
            <a:pathLst>
              <a:path w="938" h="1058">
                <a:moveTo>
                  <a:pt x="599" y="311"/>
                </a:moveTo>
                <a:lnTo>
                  <a:pt x="622" y="268"/>
                </a:lnTo>
                <a:lnTo>
                  <a:pt x="636" y="311"/>
                </a:lnTo>
                <a:lnTo>
                  <a:pt x="675" y="249"/>
                </a:lnTo>
                <a:lnTo>
                  <a:pt x="680" y="316"/>
                </a:lnTo>
                <a:lnTo>
                  <a:pt x="728" y="268"/>
                </a:lnTo>
                <a:lnTo>
                  <a:pt x="732" y="321"/>
                </a:lnTo>
                <a:lnTo>
                  <a:pt x="780" y="298"/>
                </a:lnTo>
                <a:lnTo>
                  <a:pt x="804" y="331"/>
                </a:lnTo>
                <a:lnTo>
                  <a:pt x="861" y="311"/>
                </a:lnTo>
                <a:lnTo>
                  <a:pt x="899" y="273"/>
                </a:lnTo>
                <a:lnTo>
                  <a:pt x="924" y="216"/>
                </a:lnTo>
                <a:lnTo>
                  <a:pt x="938" y="134"/>
                </a:lnTo>
                <a:lnTo>
                  <a:pt x="899" y="58"/>
                </a:lnTo>
                <a:lnTo>
                  <a:pt x="833" y="0"/>
                </a:lnTo>
                <a:lnTo>
                  <a:pt x="866" y="48"/>
                </a:lnTo>
                <a:lnTo>
                  <a:pt x="885" y="106"/>
                </a:lnTo>
                <a:lnTo>
                  <a:pt x="885" y="148"/>
                </a:lnTo>
                <a:lnTo>
                  <a:pt x="842" y="76"/>
                </a:lnTo>
                <a:lnTo>
                  <a:pt x="780" y="48"/>
                </a:lnTo>
                <a:lnTo>
                  <a:pt x="695" y="38"/>
                </a:lnTo>
                <a:lnTo>
                  <a:pt x="636" y="58"/>
                </a:lnTo>
                <a:lnTo>
                  <a:pt x="565" y="96"/>
                </a:lnTo>
                <a:lnTo>
                  <a:pt x="516" y="116"/>
                </a:lnTo>
                <a:lnTo>
                  <a:pt x="460" y="134"/>
                </a:lnTo>
                <a:lnTo>
                  <a:pt x="364" y="153"/>
                </a:lnTo>
                <a:lnTo>
                  <a:pt x="465" y="163"/>
                </a:lnTo>
                <a:lnTo>
                  <a:pt x="556" y="163"/>
                </a:lnTo>
                <a:lnTo>
                  <a:pt x="627" y="148"/>
                </a:lnTo>
                <a:lnTo>
                  <a:pt x="685" y="120"/>
                </a:lnTo>
                <a:lnTo>
                  <a:pt x="728" y="116"/>
                </a:lnTo>
                <a:lnTo>
                  <a:pt x="765" y="125"/>
                </a:lnTo>
                <a:lnTo>
                  <a:pt x="785" y="148"/>
                </a:lnTo>
                <a:lnTo>
                  <a:pt x="785" y="186"/>
                </a:lnTo>
                <a:lnTo>
                  <a:pt x="742" y="153"/>
                </a:lnTo>
                <a:lnTo>
                  <a:pt x="685" y="148"/>
                </a:lnTo>
                <a:lnTo>
                  <a:pt x="636" y="167"/>
                </a:lnTo>
                <a:lnTo>
                  <a:pt x="570" y="197"/>
                </a:lnTo>
                <a:lnTo>
                  <a:pt x="488" y="220"/>
                </a:lnTo>
                <a:lnTo>
                  <a:pt x="411" y="235"/>
                </a:lnTo>
                <a:lnTo>
                  <a:pt x="331" y="235"/>
                </a:lnTo>
                <a:lnTo>
                  <a:pt x="187" y="216"/>
                </a:lnTo>
                <a:lnTo>
                  <a:pt x="216" y="259"/>
                </a:lnTo>
                <a:lnTo>
                  <a:pt x="163" y="249"/>
                </a:lnTo>
                <a:lnTo>
                  <a:pt x="77" y="211"/>
                </a:lnTo>
                <a:lnTo>
                  <a:pt x="120" y="273"/>
                </a:lnTo>
                <a:lnTo>
                  <a:pt x="167" y="316"/>
                </a:lnTo>
                <a:lnTo>
                  <a:pt x="216" y="335"/>
                </a:lnTo>
                <a:lnTo>
                  <a:pt x="163" y="345"/>
                </a:lnTo>
                <a:lnTo>
                  <a:pt x="92" y="335"/>
                </a:lnTo>
                <a:lnTo>
                  <a:pt x="0" y="307"/>
                </a:lnTo>
                <a:lnTo>
                  <a:pt x="57" y="388"/>
                </a:lnTo>
                <a:lnTo>
                  <a:pt x="115" y="422"/>
                </a:lnTo>
                <a:lnTo>
                  <a:pt x="101" y="484"/>
                </a:lnTo>
                <a:lnTo>
                  <a:pt x="110" y="537"/>
                </a:lnTo>
                <a:lnTo>
                  <a:pt x="120" y="609"/>
                </a:lnTo>
                <a:lnTo>
                  <a:pt x="68" y="675"/>
                </a:lnTo>
                <a:lnTo>
                  <a:pt x="43" y="757"/>
                </a:lnTo>
                <a:lnTo>
                  <a:pt x="34" y="824"/>
                </a:lnTo>
                <a:lnTo>
                  <a:pt x="43" y="881"/>
                </a:lnTo>
                <a:lnTo>
                  <a:pt x="34" y="967"/>
                </a:lnTo>
                <a:lnTo>
                  <a:pt x="5" y="1058"/>
                </a:lnTo>
                <a:lnTo>
                  <a:pt x="72" y="991"/>
                </a:lnTo>
                <a:lnTo>
                  <a:pt x="125" y="900"/>
                </a:lnTo>
                <a:lnTo>
                  <a:pt x="158" y="809"/>
                </a:lnTo>
                <a:lnTo>
                  <a:pt x="192" y="752"/>
                </a:lnTo>
                <a:lnTo>
                  <a:pt x="202" y="671"/>
                </a:lnTo>
                <a:lnTo>
                  <a:pt x="221" y="593"/>
                </a:lnTo>
                <a:lnTo>
                  <a:pt x="239" y="522"/>
                </a:lnTo>
                <a:lnTo>
                  <a:pt x="282" y="446"/>
                </a:lnTo>
                <a:lnTo>
                  <a:pt x="317" y="417"/>
                </a:lnTo>
                <a:lnTo>
                  <a:pt x="350" y="403"/>
                </a:lnTo>
                <a:lnTo>
                  <a:pt x="397" y="407"/>
                </a:lnTo>
                <a:lnTo>
                  <a:pt x="465" y="388"/>
                </a:lnTo>
                <a:lnTo>
                  <a:pt x="507" y="350"/>
                </a:lnTo>
                <a:lnTo>
                  <a:pt x="570" y="287"/>
                </a:lnTo>
                <a:lnTo>
                  <a:pt x="599" y="311"/>
                </a:lnTo>
                <a:lnTo>
                  <a:pt x="599" y="311"/>
                </a:lnTo>
                <a:lnTo>
                  <a:pt x="599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57"/>
          <p:cNvSpPr/>
          <p:nvPr/>
        </p:nvSpPr>
        <p:spPr>
          <a:xfrm>
            <a:off x="5079960" y="738360"/>
            <a:ext cx="2021040" cy="297972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2979720"/>
              <a:gd name="textAreaBottom" fmla="*/ 2980080 h 2979720"/>
            </a:gdLst>
            <a:ahLst/>
            <a:rect l="textAreaLeft" t="textAreaTop" r="textAreaRight" b="textAreaBottom"/>
            <a:pathLst>
              <a:path w="1273" h="1877">
                <a:moveTo>
                  <a:pt x="0" y="234"/>
                </a:moveTo>
                <a:lnTo>
                  <a:pt x="58" y="215"/>
                </a:lnTo>
                <a:lnTo>
                  <a:pt x="110" y="176"/>
                </a:lnTo>
                <a:lnTo>
                  <a:pt x="167" y="119"/>
                </a:lnTo>
                <a:lnTo>
                  <a:pt x="201" y="61"/>
                </a:lnTo>
                <a:lnTo>
                  <a:pt x="211" y="0"/>
                </a:lnTo>
                <a:lnTo>
                  <a:pt x="225" y="51"/>
                </a:lnTo>
                <a:lnTo>
                  <a:pt x="282" y="42"/>
                </a:lnTo>
                <a:lnTo>
                  <a:pt x="335" y="61"/>
                </a:lnTo>
                <a:lnTo>
                  <a:pt x="382" y="100"/>
                </a:lnTo>
                <a:lnTo>
                  <a:pt x="401" y="157"/>
                </a:lnTo>
                <a:lnTo>
                  <a:pt x="412" y="224"/>
                </a:lnTo>
                <a:lnTo>
                  <a:pt x="426" y="267"/>
                </a:lnTo>
                <a:lnTo>
                  <a:pt x="460" y="296"/>
                </a:lnTo>
                <a:lnTo>
                  <a:pt x="497" y="325"/>
                </a:lnTo>
                <a:lnTo>
                  <a:pt x="598" y="359"/>
                </a:lnTo>
                <a:lnTo>
                  <a:pt x="689" y="363"/>
                </a:lnTo>
                <a:lnTo>
                  <a:pt x="598" y="387"/>
                </a:lnTo>
                <a:lnTo>
                  <a:pt x="670" y="440"/>
                </a:lnTo>
                <a:lnTo>
                  <a:pt x="722" y="497"/>
                </a:lnTo>
                <a:lnTo>
                  <a:pt x="750" y="574"/>
                </a:lnTo>
                <a:lnTo>
                  <a:pt x="708" y="517"/>
                </a:lnTo>
                <a:lnTo>
                  <a:pt x="652" y="468"/>
                </a:lnTo>
                <a:lnTo>
                  <a:pt x="603" y="454"/>
                </a:lnTo>
                <a:lnTo>
                  <a:pt x="641" y="512"/>
                </a:lnTo>
                <a:lnTo>
                  <a:pt x="665" y="569"/>
                </a:lnTo>
                <a:lnTo>
                  <a:pt x="699" y="626"/>
                </a:lnTo>
                <a:lnTo>
                  <a:pt x="746" y="646"/>
                </a:lnTo>
                <a:lnTo>
                  <a:pt x="795" y="660"/>
                </a:lnTo>
                <a:lnTo>
                  <a:pt x="741" y="684"/>
                </a:lnTo>
                <a:lnTo>
                  <a:pt x="741" y="751"/>
                </a:lnTo>
                <a:lnTo>
                  <a:pt x="708" y="703"/>
                </a:lnTo>
                <a:lnTo>
                  <a:pt x="717" y="808"/>
                </a:lnTo>
                <a:lnTo>
                  <a:pt x="761" y="861"/>
                </a:lnTo>
                <a:lnTo>
                  <a:pt x="832" y="914"/>
                </a:lnTo>
                <a:lnTo>
                  <a:pt x="870" y="948"/>
                </a:lnTo>
                <a:lnTo>
                  <a:pt x="904" y="1005"/>
                </a:lnTo>
                <a:lnTo>
                  <a:pt x="924" y="1053"/>
                </a:lnTo>
                <a:lnTo>
                  <a:pt x="928" y="1101"/>
                </a:lnTo>
                <a:lnTo>
                  <a:pt x="924" y="1163"/>
                </a:lnTo>
                <a:lnTo>
                  <a:pt x="890" y="1220"/>
                </a:lnTo>
                <a:lnTo>
                  <a:pt x="828" y="1287"/>
                </a:lnTo>
                <a:lnTo>
                  <a:pt x="909" y="1254"/>
                </a:lnTo>
                <a:lnTo>
                  <a:pt x="904" y="1330"/>
                </a:lnTo>
                <a:lnTo>
                  <a:pt x="962" y="1263"/>
                </a:lnTo>
                <a:lnTo>
                  <a:pt x="981" y="1206"/>
                </a:lnTo>
                <a:lnTo>
                  <a:pt x="990" y="1149"/>
                </a:lnTo>
                <a:lnTo>
                  <a:pt x="981" y="1086"/>
                </a:lnTo>
                <a:lnTo>
                  <a:pt x="966" y="1034"/>
                </a:lnTo>
                <a:lnTo>
                  <a:pt x="1010" y="1091"/>
                </a:lnTo>
                <a:lnTo>
                  <a:pt x="1029" y="1129"/>
                </a:lnTo>
                <a:lnTo>
                  <a:pt x="1043" y="1178"/>
                </a:lnTo>
                <a:lnTo>
                  <a:pt x="1048" y="1229"/>
                </a:lnTo>
                <a:lnTo>
                  <a:pt x="1043" y="1297"/>
                </a:lnTo>
                <a:lnTo>
                  <a:pt x="1091" y="1229"/>
                </a:lnTo>
                <a:lnTo>
                  <a:pt x="1110" y="1154"/>
                </a:lnTo>
                <a:lnTo>
                  <a:pt x="1129" y="1240"/>
                </a:lnTo>
                <a:lnTo>
                  <a:pt x="1115" y="1311"/>
                </a:lnTo>
                <a:lnTo>
                  <a:pt x="1096" y="1369"/>
                </a:lnTo>
                <a:lnTo>
                  <a:pt x="1115" y="1451"/>
                </a:lnTo>
                <a:lnTo>
                  <a:pt x="1105" y="1513"/>
                </a:lnTo>
                <a:lnTo>
                  <a:pt x="1148" y="1551"/>
                </a:lnTo>
                <a:lnTo>
                  <a:pt x="1191" y="1556"/>
                </a:lnTo>
                <a:lnTo>
                  <a:pt x="1249" y="1537"/>
                </a:lnTo>
                <a:lnTo>
                  <a:pt x="1244" y="1594"/>
                </a:lnTo>
                <a:lnTo>
                  <a:pt x="1215" y="1641"/>
                </a:lnTo>
                <a:lnTo>
                  <a:pt x="1181" y="1671"/>
                </a:lnTo>
                <a:lnTo>
                  <a:pt x="1196" y="1718"/>
                </a:lnTo>
                <a:lnTo>
                  <a:pt x="1201" y="1791"/>
                </a:lnTo>
                <a:lnTo>
                  <a:pt x="1259" y="1828"/>
                </a:lnTo>
                <a:lnTo>
                  <a:pt x="1273" y="1877"/>
                </a:lnTo>
                <a:lnTo>
                  <a:pt x="1240" y="1838"/>
                </a:lnTo>
                <a:lnTo>
                  <a:pt x="1167" y="1857"/>
                </a:lnTo>
                <a:lnTo>
                  <a:pt x="1058" y="1857"/>
                </a:lnTo>
                <a:lnTo>
                  <a:pt x="996" y="1848"/>
                </a:lnTo>
                <a:lnTo>
                  <a:pt x="895" y="1810"/>
                </a:lnTo>
                <a:lnTo>
                  <a:pt x="828" y="1748"/>
                </a:lnTo>
                <a:lnTo>
                  <a:pt x="799" y="1685"/>
                </a:lnTo>
                <a:lnTo>
                  <a:pt x="795" y="1608"/>
                </a:lnTo>
                <a:lnTo>
                  <a:pt x="813" y="1513"/>
                </a:lnTo>
                <a:lnTo>
                  <a:pt x="861" y="1412"/>
                </a:lnTo>
                <a:lnTo>
                  <a:pt x="795" y="1493"/>
                </a:lnTo>
                <a:lnTo>
                  <a:pt x="766" y="1561"/>
                </a:lnTo>
                <a:lnTo>
                  <a:pt x="746" y="1627"/>
                </a:lnTo>
                <a:lnTo>
                  <a:pt x="755" y="1704"/>
                </a:lnTo>
                <a:lnTo>
                  <a:pt x="808" y="1771"/>
                </a:lnTo>
                <a:lnTo>
                  <a:pt x="689" y="1737"/>
                </a:lnTo>
                <a:lnTo>
                  <a:pt x="445" y="1718"/>
                </a:lnTo>
                <a:lnTo>
                  <a:pt x="263" y="1657"/>
                </a:lnTo>
                <a:lnTo>
                  <a:pt x="297" y="1571"/>
                </a:lnTo>
                <a:lnTo>
                  <a:pt x="330" y="1503"/>
                </a:lnTo>
                <a:lnTo>
                  <a:pt x="392" y="1435"/>
                </a:lnTo>
                <a:lnTo>
                  <a:pt x="344" y="1522"/>
                </a:lnTo>
                <a:lnTo>
                  <a:pt x="335" y="1604"/>
                </a:lnTo>
                <a:lnTo>
                  <a:pt x="382" y="1517"/>
                </a:lnTo>
                <a:lnTo>
                  <a:pt x="445" y="1455"/>
                </a:lnTo>
                <a:lnTo>
                  <a:pt x="527" y="1397"/>
                </a:lnTo>
                <a:lnTo>
                  <a:pt x="612" y="1321"/>
                </a:lnTo>
                <a:lnTo>
                  <a:pt x="665" y="1268"/>
                </a:lnTo>
                <a:lnTo>
                  <a:pt x="694" y="1206"/>
                </a:lnTo>
                <a:lnTo>
                  <a:pt x="694" y="1158"/>
                </a:lnTo>
                <a:lnTo>
                  <a:pt x="670" y="1101"/>
                </a:lnTo>
                <a:lnTo>
                  <a:pt x="617" y="1039"/>
                </a:lnTo>
                <a:lnTo>
                  <a:pt x="560" y="976"/>
                </a:lnTo>
                <a:lnTo>
                  <a:pt x="521" y="918"/>
                </a:lnTo>
                <a:lnTo>
                  <a:pt x="516" y="852"/>
                </a:lnTo>
                <a:lnTo>
                  <a:pt x="556" y="909"/>
                </a:lnTo>
                <a:lnTo>
                  <a:pt x="652" y="948"/>
                </a:lnTo>
                <a:lnTo>
                  <a:pt x="584" y="890"/>
                </a:lnTo>
                <a:lnTo>
                  <a:pt x="521" y="823"/>
                </a:lnTo>
                <a:lnTo>
                  <a:pt x="493" y="747"/>
                </a:lnTo>
                <a:lnTo>
                  <a:pt x="488" y="693"/>
                </a:lnTo>
                <a:lnTo>
                  <a:pt x="512" y="637"/>
                </a:lnTo>
                <a:lnTo>
                  <a:pt x="556" y="574"/>
                </a:lnTo>
                <a:lnTo>
                  <a:pt x="560" y="506"/>
                </a:lnTo>
                <a:lnTo>
                  <a:pt x="532" y="449"/>
                </a:lnTo>
                <a:lnTo>
                  <a:pt x="473" y="401"/>
                </a:lnTo>
                <a:lnTo>
                  <a:pt x="507" y="487"/>
                </a:lnTo>
                <a:lnTo>
                  <a:pt x="512" y="536"/>
                </a:lnTo>
                <a:lnTo>
                  <a:pt x="464" y="468"/>
                </a:lnTo>
                <a:lnTo>
                  <a:pt x="478" y="536"/>
                </a:lnTo>
                <a:lnTo>
                  <a:pt x="455" y="621"/>
                </a:lnTo>
                <a:lnTo>
                  <a:pt x="377" y="732"/>
                </a:lnTo>
                <a:lnTo>
                  <a:pt x="335" y="842"/>
                </a:lnTo>
                <a:lnTo>
                  <a:pt x="316" y="943"/>
                </a:lnTo>
                <a:lnTo>
                  <a:pt x="302" y="794"/>
                </a:lnTo>
                <a:lnTo>
                  <a:pt x="268" y="688"/>
                </a:lnTo>
                <a:lnTo>
                  <a:pt x="134" y="387"/>
                </a:lnTo>
                <a:lnTo>
                  <a:pt x="96" y="315"/>
                </a:lnTo>
                <a:lnTo>
                  <a:pt x="67" y="281"/>
                </a:lnTo>
                <a:lnTo>
                  <a:pt x="33" y="253"/>
                </a:lnTo>
                <a:lnTo>
                  <a:pt x="0" y="234"/>
                </a:lnTo>
                <a:lnTo>
                  <a:pt x="0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58"/>
          <p:cNvSpPr/>
          <p:nvPr/>
        </p:nvSpPr>
        <p:spPr>
          <a:xfrm>
            <a:off x="6296040" y="1693800"/>
            <a:ext cx="523800" cy="762120"/>
          </a:xfrm>
          <a:custGeom>
            <a:avLst/>
            <a:gdLst>
              <a:gd name="textAreaLeft" fmla="*/ 0 w 523800"/>
              <a:gd name="textAreaRight" fmla="*/ 524160 w 523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30" h="480">
                <a:moveTo>
                  <a:pt x="5" y="0"/>
                </a:moveTo>
                <a:lnTo>
                  <a:pt x="24" y="30"/>
                </a:lnTo>
                <a:lnTo>
                  <a:pt x="71" y="73"/>
                </a:lnTo>
                <a:lnTo>
                  <a:pt x="33" y="91"/>
                </a:lnTo>
                <a:lnTo>
                  <a:pt x="85" y="187"/>
                </a:lnTo>
                <a:lnTo>
                  <a:pt x="158" y="264"/>
                </a:lnTo>
                <a:lnTo>
                  <a:pt x="244" y="341"/>
                </a:lnTo>
                <a:lnTo>
                  <a:pt x="301" y="412"/>
                </a:lnTo>
                <a:lnTo>
                  <a:pt x="330" y="480"/>
                </a:lnTo>
                <a:lnTo>
                  <a:pt x="272" y="398"/>
                </a:lnTo>
                <a:lnTo>
                  <a:pt x="181" y="302"/>
                </a:lnTo>
                <a:lnTo>
                  <a:pt x="76" y="235"/>
                </a:lnTo>
                <a:lnTo>
                  <a:pt x="124" y="312"/>
                </a:lnTo>
                <a:lnTo>
                  <a:pt x="57" y="264"/>
                </a:lnTo>
                <a:lnTo>
                  <a:pt x="14" y="212"/>
                </a:lnTo>
                <a:lnTo>
                  <a:pt x="0" y="140"/>
                </a:lnTo>
                <a:lnTo>
                  <a:pt x="0" y="58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59"/>
          <p:cNvSpPr/>
          <p:nvPr/>
        </p:nvSpPr>
        <p:spPr>
          <a:xfrm>
            <a:off x="4792680" y="1763640"/>
            <a:ext cx="1336680" cy="197028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842" h="1241">
                <a:moveTo>
                  <a:pt x="521" y="168"/>
                </a:moveTo>
                <a:lnTo>
                  <a:pt x="582" y="91"/>
                </a:lnTo>
                <a:lnTo>
                  <a:pt x="654" y="0"/>
                </a:lnTo>
                <a:lnTo>
                  <a:pt x="636" y="91"/>
                </a:lnTo>
                <a:lnTo>
                  <a:pt x="631" y="153"/>
                </a:lnTo>
                <a:lnTo>
                  <a:pt x="636" y="215"/>
                </a:lnTo>
                <a:lnTo>
                  <a:pt x="659" y="302"/>
                </a:lnTo>
                <a:lnTo>
                  <a:pt x="702" y="354"/>
                </a:lnTo>
                <a:lnTo>
                  <a:pt x="817" y="445"/>
                </a:lnTo>
                <a:lnTo>
                  <a:pt x="842" y="483"/>
                </a:lnTo>
                <a:lnTo>
                  <a:pt x="842" y="541"/>
                </a:lnTo>
                <a:lnTo>
                  <a:pt x="812" y="603"/>
                </a:lnTo>
                <a:lnTo>
                  <a:pt x="765" y="670"/>
                </a:lnTo>
                <a:lnTo>
                  <a:pt x="645" y="756"/>
                </a:lnTo>
                <a:lnTo>
                  <a:pt x="587" y="794"/>
                </a:lnTo>
                <a:lnTo>
                  <a:pt x="535" y="862"/>
                </a:lnTo>
                <a:lnTo>
                  <a:pt x="497" y="929"/>
                </a:lnTo>
                <a:lnTo>
                  <a:pt x="473" y="1020"/>
                </a:lnTo>
                <a:lnTo>
                  <a:pt x="397" y="1005"/>
                </a:lnTo>
                <a:lnTo>
                  <a:pt x="364" y="1072"/>
                </a:lnTo>
                <a:lnTo>
                  <a:pt x="296" y="1140"/>
                </a:lnTo>
                <a:lnTo>
                  <a:pt x="195" y="1202"/>
                </a:lnTo>
                <a:lnTo>
                  <a:pt x="66" y="1241"/>
                </a:lnTo>
                <a:lnTo>
                  <a:pt x="209" y="1173"/>
                </a:lnTo>
                <a:lnTo>
                  <a:pt x="291" y="1111"/>
                </a:lnTo>
                <a:lnTo>
                  <a:pt x="343" y="1049"/>
                </a:lnTo>
                <a:lnTo>
                  <a:pt x="353" y="995"/>
                </a:lnTo>
                <a:lnTo>
                  <a:pt x="310" y="981"/>
                </a:lnTo>
                <a:lnTo>
                  <a:pt x="224" y="1034"/>
                </a:lnTo>
                <a:lnTo>
                  <a:pt x="157" y="1063"/>
                </a:lnTo>
                <a:lnTo>
                  <a:pt x="81" y="1077"/>
                </a:lnTo>
                <a:lnTo>
                  <a:pt x="0" y="1068"/>
                </a:lnTo>
                <a:lnTo>
                  <a:pt x="85" y="1068"/>
                </a:lnTo>
                <a:lnTo>
                  <a:pt x="133" y="1053"/>
                </a:lnTo>
                <a:lnTo>
                  <a:pt x="195" y="1025"/>
                </a:lnTo>
                <a:lnTo>
                  <a:pt x="286" y="958"/>
                </a:lnTo>
                <a:lnTo>
                  <a:pt x="377" y="862"/>
                </a:lnTo>
                <a:lnTo>
                  <a:pt x="478" y="723"/>
                </a:lnTo>
                <a:lnTo>
                  <a:pt x="516" y="670"/>
                </a:lnTo>
                <a:lnTo>
                  <a:pt x="525" y="613"/>
                </a:lnTo>
                <a:lnTo>
                  <a:pt x="530" y="541"/>
                </a:lnTo>
                <a:lnTo>
                  <a:pt x="549" y="627"/>
                </a:lnTo>
                <a:lnTo>
                  <a:pt x="598" y="627"/>
                </a:lnTo>
                <a:lnTo>
                  <a:pt x="587" y="560"/>
                </a:lnTo>
                <a:lnTo>
                  <a:pt x="641" y="603"/>
                </a:lnTo>
                <a:lnTo>
                  <a:pt x="654" y="551"/>
                </a:lnTo>
                <a:lnTo>
                  <a:pt x="626" y="508"/>
                </a:lnTo>
                <a:lnTo>
                  <a:pt x="602" y="488"/>
                </a:lnTo>
                <a:lnTo>
                  <a:pt x="525" y="494"/>
                </a:lnTo>
                <a:lnTo>
                  <a:pt x="506" y="421"/>
                </a:lnTo>
                <a:lnTo>
                  <a:pt x="497" y="316"/>
                </a:lnTo>
                <a:lnTo>
                  <a:pt x="497" y="206"/>
                </a:lnTo>
                <a:lnTo>
                  <a:pt x="521" y="168"/>
                </a:lnTo>
                <a:lnTo>
                  <a:pt x="521" y="168"/>
                </a:lnTo>
                <a:lnTo>
                  <a:pt x="521" y="1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60"/>
          <p:cNvSpPr/>
          <p:nvPr/>
        </p:nvSpPr>
        <p:spPr>
          <a:xfrm>
            <a:off x="3197160" y="318960"/>
            <a:ext cx="2179800" cy="10875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1373" h="685">
                <a:moveTo>
                  <a:pt x="1373" y="192"/>
                </a:moveTo>
                <a:lnTo>
                  <a:pt x="1348" y="110"/>
                </a:lnTo>
                <a:lnTo>
                  <a:pt x="1258" y="57"/>
                </a:lnTo>
                <a:lnTo>
                  <a:pt x="1148" y="47"/>
                </a:lnTo>
                <a:lnTo>
                  <a:pt x="1024" y="4"/>
                </a:lnTo>
                <a:lnTo>
                  <a:pt x="942" y="0"/>
                </a:lnTo>
                <a:lnTo>
                  <a:pt x="870" y="4"/>
                </a:lnTo>
                <a:lnTo>
                  <a:pt x="789" y="38"/>
                </a:lnTo>
                <a:lnTo>
                  <a:pt x="722" y="86"/>
                </a:lnTo>
                <a:lnTo>
                  <a:pt x="621" y="114"/>
                </a:lnTo>
                <a:lnTo>
                  <a:pt x="531" y="138"/>
                </a:lnTo>
                <a:lnTo>
                  <a:pt x="435" y="210"/>
                </a:lnTo>
                <a:lnTo>
                  <a:pt x="396" y="239"/>
                </a:lnTo>
                <a:lnTo>
                  <a:pt x="339" y="248"/>
                </a:lnTo>
                <a:lnTo>
                  <a:pt x="287" y="230"/>
                </a:lnTo>
                <a:lnTo>
                  <a:pt x="315" y="258"/>
                </a:lnTo>
                <a:lnTo>
                  <a:pt x="349" y="278"/>
                </a:lnTo>
                <a:lnTo>
                  <a:pt x="301" y="297"/>
                </a:lnTo>
                <a:lnTo>
                  <a:pt x="234" y="292"/>
                </a:lnTo>
                <a:lnTo>
                  <a:pt x="206" y="258"/>
                </a:lnTo>
                <a:lnTo>
                  <a:pt x="196" y="288"/>
                </a:lnTo>
                <a:lnTo>
                  <a:pt x="210" y="335"/>
                </a:lnTo>
                <a:lnTo>
                  <a:pt x="234" y="364"/>
                </a:lnTo>
                <a:lnTo>
                  <a:pt x="201" y="388"/>
                </a:lnTo>
                <a:lnTo>
                  <a:pt x="152" y="435"/>
                </a:lnTo>
                <a:lnTo>
                  <a:pt x="148" y="517"/>
                </a:lnTo>
                <a:lnTo>
                  <a:pt x="105" y="570"/>
                </a:lnTo>
                <a:lnTo>
                  <a:pt x="52" y="579"/>
                </a:lnTo>
                <a:lnTo>
                  <a:pt x="23" y="512"/>
                </a:lnTo>
                <a:lnTo>
                  <a:pt x="0" y="570"/>
                </a:lnTo>
                <a:lnTo>
                  <a:pt x="18" y="623"/>
                </a:lnTo>
                <a:lnTo>
                  <a:pt x="76" y="656"/>
                </a:lnTo>
                <a:lnTo>
                  <a:pt x="177" y="661"/>
                </a:lnTo>
                <a:lnTo>
                  <a:pt x="239" y="627"/>
                </a:lnTo>
                <a:lnTo>
                  <a:pt x="277" y="685"/>
                </a:lnTo>
                <a:lnTo>
                  <a:pt x="311" y="627"/>
                </a:lnTo>
                <a:lnTo>
                  <a:pt x="272" y="531"/>
                </a:lnTo>
                <a:lnTo>
                  <a:pt x="267" y="435"/>
                </a:lnTo>
                <a:lnTo>
                  <a:pt x="311" y="454"/>
                </a:lnTo>
                <a:lnTo>
                  <a:pt x="277" y="378"/>
                </a:lnTo>
                <a:lnTo>
                  <a:pt x="272" y="335"/>
                </a:lnTo>
                <a:lnTo>
                  <a:pt x="325" y="378"/>
                </a:lnTo>
                <a:lnTo>
                  <a:pt x="368" y="407"/>
                </a:lnTo>
                <a:lnTo>
                  <a:pt x="363" y="330"/>
                </a:lnTo>
                <a:lnTo>
                  <a:pt x="411" y="339"/>
                </a:lnTo>
                <a:lnTo>
                  <a:pt x="521" y="349"/>
                </a:lnTo>
                <a:lnTo>
                  <a:pt x="631" y="330"/>
                </a:lnTo>
                <a:lnTo>
                  <a:pt x="531" y="283"/>
                </a:lnTo>
                <a:lnTo>
                  <a:pt x="631" y="206"/>
                </a:lnTo>
                <a:lnTo>
                  <a:pt x="746" y="187"/>
                </a:lnTo>
                <a:lnTo>
                  <a:pt x="880" y="206"/>
                </a:lnTo>
                <a:lnTo>
                  <a:pt x="985" y="196"/>
                </a:lnTo>
                <a:lnTo>
                  <a:pt x="1052" y="168"/>
                </a:lnTo>
                <a:lnTo>
                  <a:pt x="1119" y="157"/>
                </a:lnTo>
                <a:lnTo>
                  <a:pt x="1043" y="138"/>
                </a:lnTo>
                <a:lnTo>
                  <a:pt x="966" y="148"/>
                </a:lnTo>
                <a:lnTo>
                  <a:pt x="890" y="143"/>
                </a:lnTo>
                <a:lnTo>
                  <a:pt x="799" y="110"/>
                </a:lnTo>
                <a:lnTo>
                  <a:pt x="942" y="110"/>
                </a:lnTo>
                <a:lnTo>
                  <a:pt x="1038" y="100"/>
                </a:lnTo>
                <a:lnTo>
                  <a:pt x="1115" y="110"/>
                </a:lnTo>
                <a:lnTo>
                  <a:pt x="1181" y="138"/>
                </a:lnTo>
                <a:lnTo>
                  <a:pt x="1195" y="100"/>
                </a:lnTo>
                <a:lnTo>
                  <a:pt x="1249" y="124"/>
                </a:lnTo>
                <a:lnTo>
                  <a:pt x="1282" y="176"/>
                </a:lnTo>
                <a:lnTo>
                  <a:pt x="1291" y="230"/>
                </a:lnTo>
                <a:lnTo>
                  <a:pt x="1325" y="206"/>
                </a:lnTo>
                <a:lnTo>
                  <a:pt x="1325" y="258"/>
                </a:lnTo>
                <a:lnTo>
                  <a:pt x="1301" y="349"/>
                </a:lnTo>
                <a:lnTo>
                  <a:pt x="1373" y="258"/>
                </a:lnTo>
                <a:lnTo>
                  <a:pt x="1373" y="192"/>
                </a:lnTo>
                <a:lnTo>
                  <a:pt x="1373" y="192"/>
                </a:lnTo>
                <a:lnTo>
                  <a:pt x="1373" y="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61"/>
          <p:cNvSpPr/>
          <p:nvPr/>
        </p:nvSpPr>
        <p:spPr>
          <a:xfrm>
            <a:off x="2846520" y="1093680"/>
            <a:ext cx="1831680" cy="2624400"/>
          </a:xfrm>
          <a:custGeom>
            <a:avLst/>
            <a:gdLst>
              <a:gd name="textAreaLeft" fmla="*/ 0 w 1831680"/>
              <a:gd name="textAreaRight" fmla="*/ 1832040 w 1831680"/>
              <a:gd name="textAreaTop" fmla="*/ 0 h 2624400"/>
              <a:gd name="textAreaBottom" fmla="*/ 2624760 h 2624400"/>
            </a:gdLst>
            <a:ahLst/>
            <a:rect l="textAreaLeft" t="textAreaTop" r="textAreaRight" b="textAreaBottom"/>
            <a:pathLst>
              <a:path w="1154" h="1653">
                <a:moveTo>
                  <a:pt x="536" y="15"/>
                </a:moveTo>
                <a:lnTo>
                  <a:pt x="574" y="106"/>
                </a:lnTo>
                <a:lnTo>
                  <a:pt x="560" y="197"/>
                </a:lnTo>
                <a:lnTo>
                  <a:pt x="513" y="244"/>
                </a:lnTo>
                <a:lnTo>
                  <a:pt x="446" y="282"/>
                </a:lnTo>
                <a:lnTo>
                  <a:pt x="302" y="321"/>
                </a:lnTo>
                <a:lnTo>
                  <a:pt x="408" y="263"/>
                </a:lnTo>
                <a:lnTo>
                  <a:pt x="498" y="206"/>
                </a:lnTo>
                <a:lnTo>
                  <a:pt x="441" y="187"/>
                </a:lnTo>
                <a:lnTo>
                  <a:pt x="388" y="130"/>
                </a:lnTo>
                <a:lnTo>
                  <a:pt x="283" y="139"/>
                </a:lnTo>
                <a:lnTo>
                  <a:pt x="239" y="206"/>
                </a:lnTo>
                <a:lnTo>
                  <a:pt x="221" y="293"/>
                </a:lnTo>
                <a:lnTo>
                  <a:pt x="168" y="312"/>
                </a:lnTo>
                <a:lnTo>
                  <a:pt x="134" y="244"/>
                </a:lnTo>
                <a:lnTo>
                  <a:pt x="96" y="331"/>
                </a:lnTo>
                <a:lnTo>
                  <a:pt x="96" y="378"/>
                </a:lnTo>
                <a:lnTo>
                  <a:pt x="110" y="427"/>
                </a:lnTo>
                <a:lnTo>
                  <a:pt x="91" y="464"/>
                </a:lnTo>
                <a:lnTo>
                  <a:pt x="82" y="518"/>
                </a:lnTo>
                <a:lnTo>
                  <a:pt x="106" y="570"/>
                </a:lnTo>
                <a:lnTo>
                  <a:pt x="91" y="613"/>
                </a:lnTo>
                <a:lnTo>
                  <a:pt x="49" y="632"/>
                </a:lnTo>
                <a:lnTo>
                  <a:pt x="0" y="628"/>
                </a:lnTo>
                <a:lnTo>
                  <a:pt x="15" y="651"/>
                </a:lnTo>
                <a:lnTo>
                  <a:pt x="44" y="670"/>
                </a:lnTo>
                <a:lnTo>
                  <a:pt x="96" y="680"/>
                </a:lnTo>
                <a:lnTo>
                  <a:pt x="82" y="709"/>
                </a:lnTo>
                <a:lnTo>
                  <a:pt x="125" y="738"/>
                </a:lnTo>
                <a:lnTo>
                  <a:pt x="168" y="747"/>
                </a:lnTo>
                <a:lnTo>
                  <a:pt x="225" y="738"/>
                </a:lnTo>
                <a:lnTo>
                  <a:pt x="279" y="714"/>
                </a:lnTo>
                <a:lnTo>
                  <a:pt x="359" y="632"/>
                </a:lnTo>
                <a:lnTo>
                  <a:pt x="403" y="560"/>
                </a:lnTo>
                <a:lnTo>
                  <a:pt x="373" y="666"/>
                </a:lnTo>
                <a:lnTo>
                  <a:pt x="326" y="728"/>
                </a:lnTo>
                <a:lnTo>
                  <a:pt x="254" y="776"/>
                </a:lnTo>
                <a:lnTo>
                  <a:pt x="211" y="781"/>
                </a:lnTo>
                <a:lnTo>
                  <a:pt x="158" y="776"/>
                </a:lnTo>
                <a:lnTo>
                  <a:pt x="106" y="810"/>
                </a:lnTo>
                <a:lnTo>
                  <a:pt x="78" y="886"/>
                </a:lnTo>
                <a:lnTo>
                  <a:pt x="87" y="925"/>
                </a:lnTo>
                <a:lnTo>
                  <a:pt x="63" y="987"/>
                </a:lnTo>
                <a:lnTo>
                  <a:pt x="73" y="1049"/>
                </a:lnTo>
                <a:lnTo>
                  <a:pt x="134" y="1131"/>
                </a:lnTo>
                <a:lnTo>
                  <a:pt x="139" y="1063"/>
                </a:lnTo>
                <a:lnTo>
                  <a:pt x="187" y="1021"/>
                </a:lnTo>
                <a:lnTo>
                  <a:pt x="187" y="1082"/>
                </a:lnTo>
                <a:lnTo>
                  <a:pt x="273" y="1016"/>
                </a:lnTo>
                <a:lnTo>
                  <a:pt x="317" y="939"/>
                </a:lnTo>
                <a:lnTo>
                  <a:pt x="335" y="834"/>
                </a:lnTo>
                <a:lnTo>
                  <a:pt x="364" y="939"/>
                </a:lnTo>
                <a:lnTo>
                  <a:pt x="417" y="1030"/>
                </a:lnTo>
                <a:lnTo>
                  <a:pt x="532" y="1092"/>
                </a:lnTo>
                <a:lnTo>
                  <a:pt x="598" y="1131"/>
                </a:lnTo>
                <a:lnTo>
                  <a:pt x="637" y="1173"/>
                </a:lnTo>
                <a:lnTo>
                  <a:pt x="637" y="1251"/>
                </a:lnTo>
                <a:lnTo>
                  <a:pt x="589" y="1347"/>
                </a:lnTo>
                <a:lnTo>
                  <a:pt x="570" y="1394"/>
                </a:lnTo>
                <a:lnTo>
                  <a:pt x="560" y="1451"/>
                </a:lnTo>
                <a:lnTo>
                  <a:pt x="565" y="1504"/>
                </a:lnTo>
                <a:lnTo>
                  <a:pt x="612" y="1567"/>
                </a:lnTo>
                <a:lnTo>
                  <a:pt x="451" y="1638"/>
                </a:lnTo>
                <a:lnTo>
                  <a:pt x="661" y="1576"/>
                </a:lnTo>
                <a:lnTo>
                  <a:pt x="804" y="1499"/>
                </a:lnTo>
                <a:lnTo>
                  <a:pt x="838" y="1547"/>
                </a:lnTo>
                <a:lnTo>
                  <a:pt x="919" y="1604"/>
                </a:lnTo>
                <a:lnTo>
                  <a:pt x="991" y="1628"/>
                </a:lnTo>
                <a:lnTo>
                  <a:pt x="1025" y="1653"/>
                </a:lnTo>
                <a:lnTo>
                  <a:pt x="1144" y="1653"/>
                </a:lnTo>
                <a:lnTo>
                  <a:pt x="1111" y="1557"/>
                </a:lnTo>
                <a:lnTo>
                  <a:pt x="1081" y="1494"/>
                </a:lnTo>
                <a:lnTo>
                  <a:pt x="1154" y="1485"/>
                </a:lnTo>
                <a:lnTo>
                  <a:pt x="1058" y="1466"/>
                </a:lnTo>
                <a:lnTo>
                  <a:pt x="891" y="1347"/>
                </a:lnTo>
                <a:lnTo>
                  <a:pt x="814" y="1269"/>
                </a:lnTo>
                <a:lnTo>
                  <a:pt x="766" y="1202"/>
                </a:lnTo>
                <a:lnTo>
                  <a:pt x="742" y="1155"/>
                </a:lnTo>
                <a:lnTo>
                  <a:pt x="685" y="1001"/>
                </a:lnTo>
                <a:lnTo>
                  <a:pt x="652" y="862"/>
                </a:lnTo>
                <a:lnTo>
                  <a:pt x="656" y="747"/>
                </a:lnTo>
                <a:lnTo>
                  <a:pt x="656" y="599"/>
                </a:lnTo>
                <a:lnTo>
                  <a:pt x="579" y="699"/>
                </a:lnTo>
                <a:lnTo>
                  <a:pt x="584" y="613"/>
                </a:lnTo>
                <a:lnTo>
                  <a:pt x="570" y="532"/>
                </a:lnTo>
                <a:lnTo>
                  <a:pt x="560" y="464"/>
                </a:lnTo>
                <a:lnTo>
                  <a:pt x="570" y="383"/>
                </a:lnTo>
                <a:lnTo>
                  <a:pt x="589" y="317"/>
                </a:lnTo>
                <a:lnTo>
                  <a:pt x="642" y="268"/>
                </a:lnTo>
                <a:lnTo>
                  <a:pt x="612" y="211"/>
                </a:lnTo>
                <a:lnTo>
                  <a:pt x="607" y="163"/>
                </a:lnTo>
                <a:lnTo>
                  <a:pt x="617" y="115"/>
                </a:lnTo>
                <a:lnTo>
                  <a:pt x="656" y="67"/>
                </a:lnTo>
                <a:lnTo>
                  <a:pt x="570" y="0"/>
                </a:lnTo>
                <a:lnTo>
                  <a:pt x="536" y="15"/>
                </a:lnTo>
                <a:lnTo>
                  <a:pt x="536" y="15"/>
                </a:lnTo>
                <a:lnTo>
                  <a:pt x="536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62"/>
          <p:cNvSpPr/>
          <p:nvPr/>
        </p:nvSpPr>
        <p:spPr>
          <a:xfrm>
            <a:off x="2886120" y="2417760"/>
            <a:ext cx="909720" cy="1292400"/>
          </a:xfrm>
          <a:custGeom>
            <a:avLst/>
            <a:gdLst>
              <a:gd name="textAreaLeft" fmla="*/ 0 w 909720"/>
              <a:gd name="textAreaRight" fmla="*/ 910080 w 90972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573" h="814">
                <a:moveTo>
                  <a:pt x="320" y="0"/>
                </a:moveTo>
                <a:lnTo>
                  <a:pt x="320" y="134"/>
                </a:lnTo>
                <a:lnTo>
                  <a:pt x="268" y="234"/>
                </a:lnTo>
                <a:lnTo>
                  <a:pt x="172" y="311"/>
                </a:lnTo>
                <a:lnTo>
                  <a:pt x="138" y="272"/>
                </a:lnTo>
                <a:lnTo>
                  <a:pt x="104" y="349"/>
                </a:lnTo>
                <a:lnTo>
                  <a:pt x="81" y="412"/>
                </a:lnTo>
                <a:lnTo>
                  <a:pt x="38" y="455"/>
                </a:lnTo>
                <a:lnTo>
                  <a:pt x="5" y="508"/>
                </a:lnTo>
                <a:lnTo>
                  <a:pt x="0" y="546"/>
                </a:lnTo>
                <a:lnTo>
                  <a:pt x="10" y="583"/>
                </a:lnTo>
                <a:lnTo>
                  <a:pt x="43" y="632"/>
                </a:lnTo>
                <a:lnTo>
                  <a:pt x="81" y="665"/>
                </a:lnTo>
                <a:lnTo>
                  <a:pt x="71" y="622"/>
                </a:lnTo>
                <a:lnTo>
                  <a:pt x="81" y="583"/>
                </a:lnTo>
                <a:lnTo>
                  <a:pt x="114" y="569"/>
                </a:lnTo>
                <a:lnTo>
                  <a:pt x="162" y="560"/>
                </a:lnTo>
                <a:lnTo>
                  <a:pt x="196" y="541"/>
                </a:lnTo>
                <a:lnTo>
                  <a:pt x="234" y="513"/>
                </a:lnTo>
                <a:lnTo>
                  <a:pt x="210" y="569"/>
                </a:lnTo>
                <a:lnTo>
                  <a:pt x="167" y="608"/>
                </a:lnTo>
                <a:lnTo>
                  <a:pt x="133" y="646"/>
                </a:lnTo>
                <a:lnTo>
                  <a:pt x="128" y="695"/>
                </a:lnTo>
                <a:lnTo>
                  <a:pt x="66" y="747"/>
                </a:lnTo>
                <a:lnTo>
                  <a:pt x="38" y="785"/>
                </a:lnTo>
                <a:lnTo>
                  <a:pt x="24" y="814"/>
                </a:lnTo>
                <a:lnTo>
                  <a:pt x="392" y="814"/>
                </a:lnTo>
                <a:lnTo>
                  <a:pt x="473" y="794"/>
                </a:lnTo>
                <a:lnTo>
                  <a:pt x="507" y="766"/>
                </a:lnTo>
                <a:lnTo>
                  <a:pt x="478" y="742"/>
                </a:lnTo>
                <a:lnTo>
                  <a:pt x="459" y="695"/>
                </a:lnTo>
                <a:lnTo>
                  <a:pt x="468" y="617"/>
                </a:lnTo>
                <a:lnTo>
                  <a:pt x="497" y="670"/>
                </a:lnTo>
                <a:lnTo>
                  <a:pt x="497" y="599"/>
                </a:lnTo>
                <a:lnTo>
                  <a:pt x="526" y="541"/>
                </a:lnTo>
                <a:lnTo>
                  <a:pt x="573" y="445"/>
                </a:lnTo>
                <a:lnTo>
                  <a:pt x="573" y="377"/>
                </a:lnTo>
                <a:lnTo>
                  <a:pt x="549" y="306"/>
                </a:lnTo>
                <a:lnTo>
                  <a:pt x="507" y="239"/>
                </a:lnTo>
                <a:lnTo>
                  <a:pt x="388" y="177"/>
                </a:lnTo>
                <a:lnTo>
                  <a:pt x="411" y="267"/>
                </a:lnTo>
                <a:lnTo>
                  <a:pt x="421" y="316"/>
                </a:lnTo>
                <a:lnTo>
                  <a:pt x="402" y="377"/>
                </a:lnTo>
                <a:lnTo>
                  <a:pt x="363" y="455"/>
                </a:lnTo>
                <a:lnTo>
                  <a:pt x="348" y="550"/>
                </a:lnTo>
                <a:lnTo>
                  <a:pt x="325" y="469"/>
                </a:lnTo>
                <a:lnTo>
                  <a:pt x="325" y="402"/>
                </a:lnTo>
                <a:lnTo>
                  <a:pt x="363" y="297"/>
                </a:lnTo>
                <a:lnTo>
                  <a:pt x="363" y="182"/>
                </a:lnTo>
                <a:lnTo>
                  <a:pt x="353" y="86"/>
                </a:lnTo>
                <a:lnTo>
                  <a:pt x="320" y="0"/>
                </a:lnTo>
                <a:lnTo>
                  <a:pt x="32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3"/>
          <p:cNvSpPr/>
          <p:nvPr/>
        </p:nvSpPr>
        <p:spPr>
          <a:xfrm>
            <a:off x="2841480" y="2195640"/>
            <a:ext cx="195480" cy="1065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065240"/>
              <a:gd name="textAreaBottom" fmla="*/ 1065240 h 1065240"/>
            </a:gdLst>
            <a:ahLst/>
            <a:rect l="textAreaLeft" t="textAreaTop" r="textAreaRight" b="textAreaBottom"/>
            <a:pathLst>
              <a:path w="123" h="671">
                <a:moveTo>
                  <a:pt x="52" y="0"/>
                </a:moveTo>
                <a:lnTo>
                  <a:pt x="61" y="39"/>
                </a:lnTo>
                <a:lnTo>
                  <a:pt x="123" y="82"/>
                </a:lnTo>
                <a:lnTo>
                  <a:pt x="76" y="101"/>
                </a:lnTo>
                <a:lnTo>
                  <a:pt x="52" y="168"/>
                </a:lnTo>
                <a:lnTo>
                  <a:pt x="43" y="236"/>
                </a:lnTo>
                <a:lnTo>
                  <a:pt x="33" y="297"/>
                </a:lnTo>
                <a:lnTo>
                  <a:pt x="43" y="345"/>
                </a:lnTo>
                <a:lnTo>
                  <a:pt x="71" y="422"/>
                </a:lnTo>
                <a:lnTo>
                  <a:pt x="113" y="461"/>
                </a:lnTo>
                <a:lnTo>
                  <a:pt x="76" y="537"/>
                </a:lnTo>
                <a:lnTo>
                  <a:pt x="33" y="614"/>
                </a:lnTo>
                <a:lnTo>
                  <a:pt x="13" y="671"/>
                </a:lnTo>
                <a:lnTo>
                  <a:pt x="13" y="595"/>
                </a:lnTo>
                <a:lnTo>
                  <a:pt x="38" y="537"/>
                </a:lnTo>
                <a:lnTo>
                  <a:pt x="3" y="432"/>
                </a:lnTo>
                <a:lnTo>
                  <a:pt x="0" y="317"/>
                </a:lnTo>
                <a:lnTo>
                  <a:pt x="0" y="222"/>
                </a:lnTo>
                <a:lnTo>
                  <a:pt x="38" y="116"/>
                </a:lnTo>
                <a:lnTo>
                  <a:pt x="57" y="77"/>
                </a:lnTo>
                <a:lnTo>
                  <a:pt x="43" y="39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64"/>
          <p:cNvSpPr/>
          <p:nvPr/>
        </p:nvSpPr>
        <p:spPr>
          <a:xfrm>
            <a:off x="2862360" y="3397320"/>
            <a:ext cx="152280" cy="280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96" h="177">
                <a:moveTo>
                  <a:pt x="10" y="0"/>
                </a:moveTo>
                <a:lnTo>
                  <a:pt x="34" y="48"/>
                </a:lnTo>
                <a:lnTo>
                  <a:pt x="96" y="87"/>
                </a:lnTo>
                <a:lnTo>
                  <a:pt x="39" y="177"/>
                </a:lnTo>
                <a:lnTo>
                  <a:pt x="20" y="130"/>
                </a:lnTo>
                <a:lnTo>
                  <a:pt x="0" y="53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65"/>
          <p:cNvSpPr/>
          <p:nvPr/>
        </p:nvSpPr>
        <p:spPr>
          <a:xfrm>
            <a:off x="4192560" y="212256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4" y="3"/>
                </a:moveTo>
                <a:lnTo>
                  <a:pt x="18" y="0"/>
                </a:lnTo>
                <a:lnTo>
                  <a:pt x="26" y="8"/>
                </a:lnTo>
                <a:lnTo>
                  <a:pt x="22" y="20"/>
                </a:lnTo>
                <a:lnTo>
                  <a:pt x="6" y="20"/>
                </a:lnTo>
                <a:lnTo>
                  <a:pt x="0" y="14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66"/>
          <p:cNvSpPr/>
          <p:nvPr/>
        </p:nvSpPr>
        <p:spPr>
          <a:xfrm>
            <a:off x="5011560" y="1963800"/>
            <a:ext cx="38160" cy="34920"/>
          </a:xfrm>
          <a:custGeom>
            <a:avLst/>
            <a:gdLst>
              <a:gd name="textAreaLeft" fmla="*/ 0 w 38160"/>
              <a:gd name="textAreaRight" fmla="*/ 38520 w 381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4" h="22">
                <a:moveTo>
                  <a:pt x="0" y="18"/>
                </a:moveTo>
                <a:lnTo>
                  <a:pt x="2" y="3"/>
                </a:lnTo>
                <a:lnTo>
                  <a:pt x="11" y="0"/>
                </a:lnTo>
                <a:lnTo>
                  <a:pt x="20" y="5"/>
                </a:lnTo>
                <a:lnTo>
                  <a:pt x="24" y="12"/>
                </a:lnTo>
                <a:lnTo>
                  <a:pt x="24" y="18"/>
                </a:lnTo>
                <a:lnTo>
                  <a:pt x="15" y="22"/>
                </a:lnTo>
                <a:lnTo>
                  <a:pt x="7" y="21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67"/>
          <p:cNvSpPr/>
          <p:nvPr/>
        </p:nvSpPr>
        <p:spPr>
          <a:xfrm>
            <a:off x="4221000" y="1185840"/>
            <a:ext cx="833760" cy="666720"/>
          </a:xfrm>
          <a:custGeom>
            <a:avLst/>
            <a:gdLst>
              <a:gd name="textAreaLeft" fmla="*/ 0 w 833760"/>
              <a:gd name="textAreaRight" fmla="*/ 834120 w 8337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525" h="420">
                <a:moveTo>
                  <a:pt x="99" y="409"/>
                </a:moveTo>
                <a:lnTo>
                  <a:pt x="25" y="384"/>
                </a:lnTo>
                <a:lnTo>
                  <a:pt x="0" y="342"/>
                </a:lnTo>
                <a:lnTo>
                  <a:pt x="0" y="285"/>
                </a:lnTo>
                <a:lnTo>
                  <a:pt x="36" y="201"/>
                </a:lnTo>
                <a:lnTo>
                  <a:pt x="95" y="102"/>
                </a:lnTo>
                <a:lnTo>
                  <a:pt x="177" y="43"/>
                </a:lnTo>
                <a:lnTo>
                  <a:pt x="252" y="3"/>
                </a:lnTo>
                <a:lnTo>
                  <a:pt x="339" y="0"/>
                </a:lnTo>
                <a:lnTo>
                  <a:pt x="384" y="15"/>
                </a:lnTo>
                <a:lnTo>
                  <a:pt x="457" y="57"/>
                </a:lnTo>
                <a:lnTo>
                  <a:pt x="493" y="114"/>
                </a:lnTo>
                <a:lnTo>
                  <a:pt x="525" y="187"/>
                </a:lnTo>
                <a:lnTo>
                  <a:pt x="525" y="240"/>
                </a:lnTo>
                <a:lnTo>
                  <a:pt x="507" y="290"/>
                </a:lnTo>
                <a:lnTo>
                  <a:pt x="455" y="324"/>
                </a:lnTo>
                <a:lnTo>
                  <a:pt x="395" y="328"/>
                </a:lnTo>
                <a:lnTo>
                  <a:pt x="334" y="364"/>
                </a:lnTo>
                <a:lnTo>
                  <a:pt x="278" y="402"/>
                </a:lnTo>
                <a:lnTo>
                  <a:pt x="197" y="420"/>
                </a:lnTo>
                <a:lnTo>
                  <a:pt x="99" y="409"/>
                </a:lnTo>
                <a:lnTo>
                  <a:pt x="99" y="409"/>
                </a:lnTo>
                <a:lnTo>
                  <a:pt x="99" y="40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68"/>
          <p:cNvSpPr/>
          <p:nvPr/>
        </p:nvSpPr>
        <p:spPr>
          <a:xfrm>
            <a:off x="4552920" y="2062080"/>
            <a:ext cx="155520" cy="455760"/>
          </a:xfrm>
          <a:custGeom>
            <a:avLst/>
            <a:gdLst>
              <a:gd name="textAreaLeft" fmla="*/ 0 w 155520"/>
              <a:gd name="textAreaRight" fmla="*/ 155880 w 15552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8" h="287">
                <a:moveTo>
                  <a:pt x="13" y="0"/>
                </a:moveTo>
                <a:lnTo>
                  <a:pt x="0" y="58"/>
                </a:lnTo>
                <a:lnTo>
                  <a:pt x="18" y="108"/>
                </a:lnTo>
                <a:lnTo>
                  <a:pt x="31" y="164"/>
                </a:lnTo>
                <a:lnTo>
                  <a:pt x="26" y="226"/>
                </a:lnTo>
                <a:lnTo>
                  <a:pt x="38" y="273"/>
                </a:lnTo>
                <a:lnTo>
                  <a:pt x="60" y="287"/>
                </a:lnTo>
                <a:lnTo>
                  <a:pt x="85" y="287"/>
                </a:lnTo>
                <a:lnTo>
                  <a:pt x="98" y="251"/>
                </a:lnTo>
                <a:lnTo>
                  <a:pt x="81" y="200"/>
                </a:lnTo>
                <a:lnTo>
                  <a:pt x="56" y="134"/>
                </a:lnTo>
                <a:lnTo>
                  <a:pt x="56" y="75"/>
                </a:lnTo>
                <a:lnTo>
                  <a:pt x="45" y="12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9"/>
          <p:cNvSpPr/>
          <p:nvPr/>
        </p:nvSpPr>
        <p:spPr>
          <a:xfrm>
            <a:off x="4516560" y="2490840"/>
            <a:ext cx="85680" cy="57240"/>
          </a:xfrm>
          <a:custGeom>
            <a:avLst/>
            <a:gdLst>
              <a:gd name="textAreaLeft" fmla="*/ 0 w 85680"/>
              <a:gd name="textAreaRight" fmla="*/ 85680 w 85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4" h="36">
                <a:moveTo>
                  <a:pt x="0" y="29"/>
                </a:moveTo>
                <a:lnTo>
                  <a:pt x="5" y="6"/>
                </a:lnTo>
                <a:lnTo>
                  <a:pt x="29" y="0"/>
                </a:lnTo>
                <a:lnTo>
                  <a:pt x="54" y="29"/>
                </a:lnTo>
                <a:lnTo>
                  <a:pt x="29" y="36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70"/>
          <p:cNvSpPr/>
          <p:nvPr/>
        </p:nvSpPr>
        <p:spPr>
          <a:xfrm>
            <a:off x="3959280" y="2254320"/>
            <a:ext cx="485640" cy="399960"/>
          </a:xfrm>
          <a:custGeom>
            <a:avLst/>
            <a:gdLst>
              <a:gd name="textAreaLeft" fmla="*/ 0 w 485640"/>
              <a:gd name="textAreaRight" fmla="*/ 486000 w 485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306" h="252">
                <a:moveTo>
                  <a:pt x="0" y="97"/>
                </a:moveTo>
                <a:lnTo>
                  <a:pt x="15" y="68"/>
                </a:lnTo>
                <a:lnTo>
                  <a:pt x="36" y="50"/>
                </a:lnTo>
                <a:lnTo>
                  <a:pt x="85" y="36"/>
                </a:lnTo>
                <a:lnTo>
                  <a:pt x="134" y="36"/>
                </a:lnTo>
                <a:lnTo>
                  <a:pt x="208" y="32"/>
                </a:lnTo>
                <a:lnTo>
                  <a:pt x="262" y="11"/>
                </a:lnTo>
                <a:lnTo>
                  <a:pt x="306" y="0"/>
                </a:lnTo>
                <a:lnTo>
                  <a:pt x="295" y="66"/>
                </a:lnTo>
                <a:lnTo>
                  <a:pt x="270" y="122"/>
                </a:lnTo>
                <a:lnTo>
                  <a:pt x="226" y="178"/>
                </a:lnTo>
                <a:lnTo>
                  <a:pt x="165" y="214"/>
                </a:lnTo>
                <a:lnTo>
                  <a:pt x="130" y="246"/>
                </a:lnTo>
                <a:lnTo>
                  <a:pt x="89" y="252"/>
                </a:lnTo>
                <a:lnTo>
                  <a:pt x="49" y="227"/>
                </a:lnTo>
                <a:lnTo>
                  <a:pt x="18" y="191"/>
                </a:lnTo>
                <a:lnTo>
                  <a:pt x="4" y="142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71"/>
          <p:cNvSpPr/>
          <p:nvPr/>
        </p:nvSpPr>
        <p:spPr>
          <a:xfrm>
            <a:off x="4937040" y="2068560"/>
            <a:ext cx="493920" cy="388800"/>
          </a:xfrm>
          <a:custGeom>
            <a:avLst/>
            <a:gdLst>
              <a:gd name="textAreaLeft" fmla="*/ 0 w 493920"/>
              <a:gd name="textAreaRight" fmla="*/ 494280 w 4939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311" h="245">
                <a:moveTo>
                  <a:pt x="4" y="50"/>
                </a:moveTo>
                <a:lnTo>
                  <a:pt x="71" y="54"/>
                </a:lnTo>
                <a:lnTo>
                  <a:pt x="127" y="50"/>
                </a:lnTo>
                <a:lnTo>
                  <a:pt x="188" y="30"/>
                </a:lnTo>
                <a:lnTo>
                  <a:pt x="232" y="0"/>
                </a:lnTo>
                <a:lnTo>
                  <a:pt x="262" y="0"/>
                </a:lnTo>
                <a:lnTo>
                  <a:pt x="300" y="41"/>
                </a:lnTo>
                <a:lnTo>
                  <a:pt x="311" y="92"/>
                </a:lnTo>
                <a:lnTo>
                  <a:pt x="311" y="165"/>
                </a:lnTo>
                <a:lnTo>
                  <a:pt x="302" y="203"/>
                </a:lnTo>
                <a:lnTo>
                  <a:pt x="269" y="241"/>
                </a:lnTo>
                <a:lnTo>
                  <a:pt x="208" y="245"/>
                </a:lnTo>
                <a:lnTo>
                  <a:pt x="148" y="222"/>
                </a:lnTo>
                <a:lnTo>
                  <a:pt x="85" y="191"/>
                </a:lnTo>
                <a:lnTo>
                  <a:pt x="36" y="153"/>
                </a:lnTo>
                <a:lnTo>
                  <a:pt x="6" y="117"/>
                </a:lnTo>
                <a:lnTo>
                  <a:pt x="0" y="92"/>
                </a:lnTo>
                <a:lnTo>
                  <a:pt x="4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72"/>
          <p:cNvSpPr/>
          <p:nvPr/>
        </p:nvSpPr>
        <p:spPr>
          <a:xfrm>
            <a:off x="4624560" y="3164040"/>
            <a:ext cx="485640" cy="223560"/>
          </a:xfrm>
          <a:custGeom>
            <a:avLst/>
            <a:gdLst>
              <a:gd name="textAreaLeft" fmla="*/ 0 w 485640"/>
              <a:gd name="textAreaRight" fmla="*/ 486000 w 48564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306" h="141">
                <a:moveTo>
                  <a:pt x="17" y="87"/>
                </a:moveTo>
                <a:lnTo>
                  <a:pt x="47" y="120"/>
                </a:lnTo>
                <a:lnTo>
                  <a:pt x="97" y="141"/>
                </a:lnTo>
                <a:lnTo>
                  <a:pt x="146" y="141"/>
                </a:lnTo>
                <a:lnTo>
                  <a:pt x="201" y="130"/>
                </a:lnTo>
                <a:lnTo>
                  <a:pt x="243" y="98"/>
                </a:lnTo>
                <a:lnTo>
                  <a:pt x="292" y="49"/>
                </a:lnTo>
                <a:lnTo>
                  <a:pt x="306" y="13"/>
                </a:lnTo>
                <a:lnTo>
                  <a:pt x="268" y="0"/>
                </a:lnTo>
                <a:lnTo>
                  <a:pt x="221" y="18"/>
                </a:lnTo>
                <a:lnTo>
                  <a:pt x="166" y="54"/>
                </a:lnTo>
                <a:lnTo>
                  <a:pt x="105" y="71"/>
                </a:lnTo>
                <a:lnTo>
                  <a:pt x="49" y="67"/>
                </a:lnTo>
                <a:lnTo>
                  <a:pt x="0" y="62"/>
                </a:lnTo>
                <a:lnTo>
                  <a:pt x="17" y="87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3"/>
          <p:cNvSpPr/>
          <p:nvPr/>
        </p:nvSpPr>
        <p:spPr>
          <a:xfrm>
            <a:off x="4484520" y="2714760"/>
            <a:ext cx="196920" cy="85680"/>
          </a:xfrm>
          <a:custGeom>
            <a:avLst/>
            <a:gdLst>
              <a:gd name="textAreaLeft" fmla="*/ 0 w 196920"/>
              <a:gd name="textAreaRight" fmla="*/ 197280 w 1969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24" h="54">
                <a:moveTo>
                  <a:pt x="7" y="54"/>
                </a:moveTo>
                <a:lnTo>
                  <a:pt x="74" y="29"/>
                </a:lnTo>
                <a:lnTo>
                  <a:pt x="124" y="18"/>
                </a:lnTo>
                <a:lnTo>
                  <a:pt x="81" y="0"/>
                </a:lnTo>
                <a:lnTo>
                  <a:pt x="38" y="0"/>
                </a:lnTo>
                <a:lnTo>
                  <a:pt x="0" y="29"/>
                </a:lnTo>
                <a:lnTo>
                  <a:pt x="7" y="54"/>
                </a:lnTo>
                <a:lnTo>
                  <a:pt x="7" y="54"/>
                </a:lnTo>
                <a:lnTo>
                  <a:pt x="7" y="54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4"/>
          <p:cNvSpPr/>
          <p:nvPr/>
        </p:nvSpPr>
        <p:spPr>
          <a:xfrm>
            <a:off x="3976560" y="2009880"/>
            <a:ext cx="177840" cy="123840"/>
          </a:xfrm>
          <a:custGeom>
            <a:avLst/>
            <a:gdLst>
              <a:gd name="textAreaLeft" fmla="*/ 0 w 177840"/>
              <a:gd name="textAreaRight" fmla="*/ 177840 w 177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12" h="78">
                <a:moveTo>
                  <a:pt x="0" y="65"/>
                </a:moveTo>
                <a:lnTo>
                  <a:pt x="0" y="42"/>
                </a:lnTo>
                <a:lnTo>
                  <a:pt x="17" y="18"/>
                </a:lnTo>
                <a:lnTo>
                  <a:pt x="53" y="0"/>
                </a:lnTo>
                <a:lnTo>
                  <a:pt x="91" y="5"/>
                </a:lnTo>
                <a:lnTo>
                  <a:pt x="112" y="18"/>
                </a:lnTo>
                <a:lnTo>
                  <a:pt x="42" y="49"/>
                </a:lnTo>
                <a:lnTo>
                  <a:pt x="4" y="78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5"/>
          <p:cNvSpPr/>
          <p:nvPr/>
        </p:nvSpPr>
        <p:spPr>
          <a:xfrm rot="2926200">
            <a:off x="3306240" y="3668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6"/>
          <p:cNvSpPr/>
          <p:nvPr/>
        </p:nvSpPr>
        <p:spPr>
          <a:xfrm rot="1699800">
            <a:off x="3551040" y="3862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7"/>
          <p:cNvSpPr/>
          <p:nvPr/>
        </p:nvSpPr>
        <p:spPr>
          <a:xfrm rot="781800">
            <a:off x="3882600" y="3983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8"/>
          <p:cNvSpPr/>
          <p:nvPr/>
        </p:nvSpPr>
        <p:spPr>
          <a:xfrm rot="563400">
            <a:off x="4192200" y="4041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9"/>
          <p:cNvSpPr/>
          <p:nvPr/>
        </p:nvSpPr>
        <p:spPr>
          <a:xfrm rot="273600">
            <a:off x="4543200" y="4084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0"/>
          <p:cNvSpPr/>
          <p:nvPr/>
        </p:nvSpPr>
        <p:spPr>
          <a:xfrm rot="21552600">
            <a:off x="5014800" y="4093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1"/>
          <p:cNvSpPr/>
          <p:nvPr/>
        </p:nvSpPr>
        <p:spPr>
          <a:xfrm rot="21330000">
            <a:off x="5367240" y="4071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2"/>
          <p:cNvSpPr/>
          <p:nvPr/>
        </p:nvSpPr>
        <p:spPr>
          <a:xfrm rot="21244800">
            <a:off x="5524560" y="4053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3"/>
          <p:cNvSpPr/>
          <p:nvPr/>
        </p:nvSpPr>
        <p:spPr>
          <a:xfrm rot="20866800">
            <a:off x="5873760" y="3995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4"/>
          <p:cNvSpPr/>
          <p:nvPr/>
        </p:nvSpPr>
        <p:spPr>
          <a:xfrm rot="20562000">
            <a:off x="6024600" y="3954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5"/>
          <p:cNvSpPr/>
          <p:nvPr/>
        </p:nvSpPr>
        <p:spPr>
          <a:xfrm rot="19930200">
            <a:off x="6350040" y="3816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6"/>
          <p:cNvSpPr/>
          <p:nvPr/>
        </p:nvSpPr>
        <p:spPr>
          <a:xfrm rot="18729000">
            <a:off x="6475320" y="3722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 rot="15335400">
            <a:off x="6432120" y="3385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8"/>
          <p:cNvSpPr/>
          <p:nvPr/>
        </p:nvSpPr>
        <p:spPr>
          <a:xfrm rot="15335400">
            <a:off x="6347880" y="308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3240" y="-152280"/>
            <a:ext cx="9804240" cy="7197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4"/>
          <p:cNvSpPr/>
          <p:nvPr/>
        </p:nvSpPr>
        <p:spPr>
          <a:xfrm rot="5340000">
            <a:off x="3712680" y="1292040"/>
            <a:ext cx="2286000" cy="527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"/>
          <p:cNvSpPr/>
          <p:nvPr/>
        </p:nvSpPr>
        <p:spPr>
          <a:xfrm rot="5340000">
            <a:off x="3712680" y="1109520"/>
            <a:ext cx="2286000" cy="52768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6"/>
          <p:cNvSpPr/>
          <p:nvPr/>
        </p:nvSpPr>
        <p:spPr>
          <a:xfrm rot="5340000">
            <a:off x="4425480" y="2295360"/>
            <a:ext cx="936720" cy="3203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7"/>
          <p:cNvSpPr/>
          <p:nvPr/>
        </p:nvSpPr>
        <p:spPr>
          <a:xfrm rot="5340000">
            <a:off x="4425480" y="2112840"/>
            <a:ext cx="936720" cy="3203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a0d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8"/>
          <p:cNvSpPr/>
          <p:nvPr/>
        </p:nvSpPr>
        <p:spPr>
          <a:xfrm>
            <a:off x="3740040" y="968400"/>
            <a:ext cx="1944720" cy="27604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760480"/>
              <a:gd name="textAreaBottom" fmla="*/ 2760840 h 2760480"/>
            </a:gdLst>
            <a:ahLst/>
            <a:rect l="textAreaLeft" t="textAreaTop" r="textAreaRight" b="textAreaBottom"/>
            <a:pathLst>
              <a:path w="1225" h="1739">
                <a:moveTo>
                  <a:pt x="741" y="0"/>
                </a:moveTo>
                <a:lnTo>
                  <a:pt x="545" y="18"/>
                </a:lnTo>
                <a:lnTo>
                  <a:pt x="211" y="158"/>
                </a:lnTo>
                <a:lnTo>
                  <a:pt x="95" y="519"/>
                </a:lnTo>
                <a:lnTo>
                  <a:pt x="0" y="876"/>
                </a:lnTo>
                <a:lnTo>
                  <a:pt x="110" y="1327"/>
                </a:lnTo>
                <a:lnTo>
                  <a:pt x="516" y="1688"/>
                </a:lnTo>
                <a:lnTo>
                  <a:pt x="591" y="1739"/>
                </a:lnTo>
                <a:lnTo>
                  <a:pt x="748" y="1730"/>
                </a:lnTo>
                <a:lnTo>
                  <a:pt x="865" y="1681"/>
                </a:lnTo>
                <a:lnTo>
                  <a:pt x="944" y="1635"/>
                </a:lnTo>
                <a:lnTo>
                  <a:pt x="1023" y="1556"/>
                </a:lnTo>
                <a:lnTo>
                  <a:pt x="1097" y="1398"/>
                </a:lnTo>
                <a:lnTo>
                  <a:pt x="1225" y="1150"/>
                </a:lnTo>
                <a:lnTo>
                  <a:pt x="1170" y="599"/>
                </a:lnTo>
                <a:lnTo>
                  <a:pt x="1017" y="211"/>
                </a:lnTo>
                <a:lnTo>
                  <a:pt x="872" y="49"/>
                </a:lnTo>
                <a:lnTo>
                  <a:pt x="741" y="0"/>
                </a:lnTo>
                <a:lnTo>
                  <a:pt x="741" y="0"/>
                </a:lnTo>
                <a:lnTo>
                  <a:pt x="741" y="0"/>
                </a:lnTo>
                <a:close/>
              </a:path>
            </a:pathLst>
          </a:custGeom>
          <a:solidFill>
            <a:srgbClr val="ffd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9"/>
          <p:cNvSpPr/>
          <p:nvPr/>
        </p:nvSpPr>
        <p:spPr>
          <a:xfrm>
            <a:off x="4870440" y="1911240"/>
            <a:ext cx="387360" cy="144720"/>
          </a:xfrm>
          <a:custGeom>
            <a:avLst/>
            <a:gdLst>
              <a:gd name="textAreaLeft" fmla="*/ 0 w 387360"/>
              <a:gd name="textAreaRight" fmla="*/ 387720 w 387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44" h="91">
                <a:moveTo>
                  <a:pt x="0" y="78"/>
                </a:moveTo>
                <a:lnTo>
                  <a:pt x="52" y="30"/>
                </a:lnTo>
                <a:lnTo>
                  <a:pt x="98" y="7"/>
                </a:lnTo>
                <a:lnTo>
                  <a:pt x="171" y="0"/>
                </a:lnTo>
                <a:lnTo>
                  <a:pt x="244" y="44"/>
                </a:lnTo>
                <a:lnTo>
                  <a:pt x="171" y="84"/>
                </a:lnTo>
                <a:lnTo>
                  <a:pt x="88" y="91"/>
                </a:lnTo>
                <a:lnTo>
                  <a:pt x="37" y="89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0"/>
          <p:cNvSpPr/>
          <p:nvPr/>
        </p:nvSpPr>
        <p:spPr>
          <a:xfrm>
            <a:off x="4994280" y="1928880"/>
            <a:ext cx="138240" cy="119160"/>
          </a:xfrm>
          <a:custGeom>
            <a:avLst/>
            <a:gdLst>
              <a:gd name="textAreaLeft" fmla="*/ 0 w 138240"/>
              <a:gd name="textAreaRight" fmla="*/ 138240 w 1382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7" h="75">
                <a:moveTo>
                  <a:pt x="5" y="0"/>
                </a:moveTo>
                <a:lnTo>
                  <a:pt x="0" y="41"/>
                </a:lnTo>
                <a:lnTo>
                  <a:pt x="17" y="64"/>
                </a:lnTo>
                <a:lnTo>
                  <a:pt x="41" y="75"/>
                </a:lnTo>
                <a:lnTo>
                  <a:pt x="68" y="67"/>
                </a:lnTo>
                <a:lnTo>
                  <a:pt x="87" y="47"/>
                </a:lnTo>
                <a:lnTo>
                  <a:pt x="85" y="4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1"/>
          <p:cNvSpPr/>
          <p:nvPr/>
        </p:nvSpPr>
        <p:spPr>
          <a:xfrm>
            <a:off x="4089240" y="2093760"/>
            <a:ext cx="306720" cy="119160"/>
          </a:xfrm>
          <a:custGeom>
            <a:avLst/>
            <a:gdLst>
              <a:gd name="textAreaLeft" fmla="*/ 0 w 306720"/>
              <a:gd name="textAreaRight" fmla="*/ 307080 w 3067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93" h="75">
                <a:moveTo>
                  <a:pt x="0" y="57"/>
                </a:moveTo>
                <a:lnTo>
                  <a:pt x="49" y="5"/>
                </a:lnTo>
                <a:lnTo>
                  <a:pt x="134" y="0"/>
                </a:lnTo>
                <a:lnTo>
                  <a:pt x="193" y="21"/>
                </a:lnTo>
                <a:lnTo>
                  <a:pt x="188" y="38"/>
                </a:lnTo>
                <a:lnTo>
                  <a:pt x="129" y="61"/>
                </a:lnTo>
                <a:lnTo>
                  <a:pt x="56" y="75"/>
                </a:lnTo>
                <a:lnTo>
                  <a:pt x="12" y="73"/>
                </a:lnTo>
                <a:lnTo>
                  <a:pt x="0" y="57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2"/>
          <p:cNvSpPr/>
          <p:nvPr/>
        </p:nvSpPr>
        <p:spPr>
          <a:xfrm>
            <a:off x="4162320" y="2100240"/>
            <a:ext cx="155520" cy="106560"/>
          </a:xfrm>
          <a:custGeom>
            <a:avLst/>
            <a:gdLst>
              <a:gd name="textAreaLeft" fmla="*/ 0 w 155520"/>
              <a:gd name="textAreaRight" fmla="*/ 155880 w 155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98" h="67">
                <a:moveTo>
                  <a:pt x="0" y="5"/>
                </a:moveTo>
                <a:lnTo>
                  <a:pt x="8" y="46"/>
                </a:lnTo>
                <a:lnTo>
                  <a:pt x="21" y="57"/>
                </a:lnTo>
                <a:lnTo>
                  <a:pt x="62" y="67"/>
                </a:lnTo>
                <a:lnTo>
                  <a:pt x="90" y="41"/>
                </a:lnTo>
                <a:lnTo>
                  <a:pt x="98" y="10"/>
                </a:lnTo>
                <a:lnTo>
                  <a:pt x="83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d9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3"/>
          <p:cNvSpPr/>
          <p:nvPr/>
        </p:nvSpPr>
        <p:spPr>
          <a:xfrm>
            <a:off x="4438800" y="2757600"/>
            <a:ext cx="696600" cy="247680"/>
          </a:xfrm>
          <a:custGeom>
            <a:avLst/>
            <a:gdLst>
              <a:gd name="textAreaLeft" fmla="*/ 0 w 696600"/>
              <a:gd name="textAreaRight" fmla="*/ 696960 w 6966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9" h="156">
                <a:moveTo>
                  <a:pt x="0" y="69"/>
                </a:moveTo>
                <a:lnTo>
                  <a:pt x="29" y="58"/>
                </a:lnTo>
                <a:lnTo>
                  <a:pt x="151" y="46"/>
                </a:lnTo>
                <a:lnTo>
                  <a:pt x="216" y="44"/>
                </a:lnTo>
                <a:lnTo>
                  <a:pt x="364" y="1"/>
                </a:lnTo>
                <a:lnTo>
                  <a:pt x="439" y="0"/>
                </a:lnTo>
                <a:lnTo>
                  <a:pt x="426" y="60"/>
                </a:lnTo>
                <a:lnTo>
                  <a:pt x="345" y="123"/>
                </a:lnTo>
                <a:lnTo>
                  <a:pt x="185" y="156"/>
                </a:lnTo>
                <a:lnTo>
                  <a:pt x="104" y="144"/>
                </a:lnTo>
                <a:lnTo>
                  <a:pt x="78" y="135"/>
                </a:lnTo>
                <a:lnTo>
                  <a:pt x="40" y="111"/>
                </a:lnTo>
                <a:lnTo>
                  <a:pt x="24" y="87"/>
                </a:lnTo>
                <a:lnTo>
                  <a:pt x="0" y="69"/>
                </a:lnTo>
                <a:lnTo>
                  <a:pt x="0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4"/>
          <p:cNvSpPr/>
          <p:nvPr/>
        </p:nvSpPr>
        <p:spPr>
          <a:xfrm>
            <a:off x="4402080" y="2738520"/>
            <a:ext cx="528840" cy="137880"/>
          </a:xfrm>
          <a:custGeom>
            <a:avLst/>
            <a:gdLst>
              <a:gd name="textAreaLeft" fmla="*/ 0 w 528840"/>
              <a:gd name="textAreaRight" fmla="*/ 529200 w 5288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333" h="87">
                <a:moveTo>
                  <a:pt x="0" y="87"/>
                </a:moveTo>
                <a:lnTo>
                  <a:pt x="60" y="60"/>
                </a:lnTo>
                <a:lnTo>
                  <a:pt x="103" y="51"/>
                </a:lnTo>
                <a:lnTo>
                  <a:pt x="126" y="42"/>
                </a:lnTo>
                <a:lnTo>
                  <a:pt x="152" y="26"/>
                </a:lnTo>
                <a:lnTo>
                  <a:pt x="243" y="15"/>
                </a:lnTo>
                <a:lnTo>
                  <a:pt x="333" y="0"/>
                </a:lnTo>
                <a:lnTo>
                  <a:pt x="311" y="40"/>
                </a:lnTo>
                <a:lnTo>
                  <a:pt x="222" y="58"/>
                </a:lnTo>
                <a:lnTo>
                  <a:pt x="103" y="63"/>
                </a:lnTo>
                <a:lnTo>
                  <a:pt x="0" y="87"/>
                </a:lnTo>
                <a:lnTo>
                  <a:pt x="0" y="87"/>
                </a:lnTo>
                <a:lnTo>
                  <a:pt x="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15"/>
          <p:cNvSpPr/>
          <p:nvPr/>
        </p:nvSpPr>
        <p:spPr>
          <a:xfrm>
            <a:off x="4495680" y="2927520"/>
            <a:ext cx="506520" cy="129960"/>
          </a:xfrm>
          <a:custGeom>
            <a:avLst/>
            <a:gdLst>
              <a:gd name="textAreaLeft" fmla="*/ 0 w 506520"/>
              <a:gd name="textAreaRight" fmla="*/ 506880 w 5065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19" h="82">
                <a:moveTo>
                  <a:pt x="0" y="0"/>
                </a:moveTo>
                <a:lnTo>
                  <a:pt x="58" y="34"/>
                </a:lnTo>
                <a:lnTo>
                  <a:pt x="148" y="44"/>
                </a:lnTo>
                <a:lnTo>
                  <a:pt x="248" y="30"/>
                </a:lnTo>
                <a:lnTo>
                  <a:pt x="308" y="8"/>
                </a:lnTo>
                <a:lnTo>
                  <a:pt x="319" y="41"/>
                </a:lnTo>
                <a:lnTo>
                  <a:pt x="283" y="66"/>
                </a:lnTo>
                <a:lnTo>
                  <a:pt x="235" y="82"/>
                </a:lnTo>
                <a:lnTo>
                  <a:pt x="257" y="59"/>
                </a:lnTo>
                <a:lnTo>
                  <a:pt x="250" y="51"/>
                </a:lnTo>
                <a:lnTo>
                  <a:pt x="210" y="55"/>
                </a:lnTo>
                <a:lnTo>
                  <a:pt x="150" y="63"/>
                </a:lnTo>
                <a:lnTo>
                  <a:pt x="108" y="61"/>
                </a:lnTo>
                <a:lnTo>
                  <a:pt x="68" y="53"/>
                </a:lnTo>
                <a:lnTo>
                  <a:pt x="36" y="3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6"/>
          <p:cNvSpPr/>
          <p:nvPr/>
        </p:nvSpPr>
        <p:spPr>
          <a:xfrm>
            <a:off x="5091120" y="2782800"/>
            <a:ext cx="85680" cy="100080"/>
          </a:xfrm>
          <a:custGeom>
            <a:avLst/>
            <a:gdLst>
              <a:gd name="textAreaLeft" fmla="*/ 0 w 85680"/>
              <a:gd name="textAreaRight" fmla="*/ 85680 w 856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3">
                <a:moveTo>
                  <a:pt x="36" y="6"/>
                </a:moveTo>
                <a:lnTo>
                  <a:pt x="0" y="61"/>
                </a:lnTo>
                <a:lnTo>
                  <a:pt x="26" y="63"/>
                </a:lnTo>
                <a:lnTo>
                  <a:pt x="50" y="30"/>
                </a:lnTo>
                <a:lnTo>
                  <a:pt x="54" y="0"/>
                </a:lnTo>
                <a:lnTo>
                  <a:pt x="36" y="6"/>
                </a:lnTo>
                <a:lnTo>
                  <a:pt x="36" y="6"/>
                </a:lnTo>
                <a:lnTo>
                  <a:pt x="36" y="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7"/>
          <p:cNvSpPr/>
          <p:nvPr/>
        </p:nvSpPr>
        <p:spPr>
          <a:xfrm>
            <a:off x="4219560" y="2498760"/>
            <a:ext cx="239760" cy="441360"/>
          </a:xfrm>
          <a:custGeom>
            <a:avLst/>
            <a:gdLst>
              <a:gd name="textAreaLeft" fmla="*/ 0 w 239760"/>
              <a:gd name="textAreaRight" fmla="*/ 240120 w 2397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151" h="278">
                <a:moveTo>
                  <a:pt x="29" y="278"/>
                </a:moveTo>
                <a:lnTo>
                  <a:pt x="10" y="242"/>
                </a:lnTo>
                <a:lnTo>
                  <a:pt x="0" y="197"/>
                </a:lnTo>
                <a:lnTo>
                  <a:pt x="14" y="154"/>
                </a:lnTo>
                <a:lnTo>
                  <a:pt x="31" y="129"/>
                </a:lnTo>
                <a:lnTo>
                  <a:pt x="57" y="108"/>
                </a:lnTo>
                <a:lnTo>
                  <a:pt x="81" y="84"/>
                </a:lnTo>
                <a:lnTo>
                  <a:pt x="109" y="51"/>
                </a:lnTo>
                <a:lnTo>
                  <a:pt x="151" y="0"/>
                </a:lnTo>
                <a:lnTo>
                  <a:pt x="98" y="105"/>
                </a:lnTo>
                <a:lnTo>
                  <a:pt x="36" y="188"/>
                </a:lnTo>
                <a:lnTo>
                  <a:pt x="29" y="278"/>
                </a:lnTo>
                <a:lnTo>
                  <a:pt x="29" y="278"/>
                </a:lnTo>
                <a:lnTo>
                  <a:pt x="29" y="278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8"/>
          <p:cNvSpPr/>
          <p:nvPr/>
        </p:nvSpPr>
        <p:spPr>
          <a:xfrm>
            <a:off x="5059440" y="2495520"/>
            <a:ext cx="282600" cy="243000"/>
          </a:xfrm>
          <a:custGeom>
            <a:avLst/>
            <a:gdLst>
              <a:gd name="textAreaLeft" fmla="*/ 0 w 282600"/>
              <a:gd name="textAreaRight" fmla="*/ 282960 w 282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78" h="153">
                <a:moveTo>
                  <a:pt x="0" y="0"/>
                </a:moveTo>
                <a:lnTo>
                  <a:pt x="51" y="22"/>
                </a:lnTo>
                <a:lnTo>
                  <a:pt x="91" y="42"/>
                </a:lnTo>
                <a:lnTo>
                  <a:pt x="139" y="61"/>
                </a:lnTo>
                <a:lnTo>
                  <a:pt x="173" y="88"/>
                </a:lnTo>
                <a:lnTo>
                  <a:pt x="178" y="119"/>
                </a:lnTo>
                <a:lnTo>
                  <a:pt x="157" y="153"/>
                </a:lnTo>
                <a:lnTo>
                  <a:pt x="143" y="102"/>
                </a:lnTo>
                <a:lnTo>
                  <a:pt x="83" y="65"/>
                </a:lnTo>
                <a:lnTo>
                  <a:pt x="42" y="44"/>
                </a:lnTo>
                <a:lnTo>
                  <a:pt x="8" y="1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9"/>
          <p:cNvSpPr/>
          <p:nvPr/>
        </p:nvSpPr>
        <p:spPr>
          <a:xfrm>
            <a:off x="4638600" y="1878120"/>
            <a:ext cx="411120" cy="757080"/>
          </a:xfrm>
          <a:custGeom>
            <a:avLst/>
            <a:gdLst>
              <a:gd name="textAreaLeft" fmla="*/ 0 w 411120"/>
              <a:gd name="textAreaRight" fmla="*/ 411480 w 41112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59" h="477">
                <a:moveTo>
                  <a:pt x="222" y="0"/>
                </a:moveTo>
                <a:lnTo>
                  <a:pt x="189" y="0"/>
                </a:lnTo>
                <a:lnTo>
                  <a:pt x="162" y="19"/>
                </a:lnTo>
                <a:lnTo>
                  <a:pt x="140" y="48"/>
                </a:lnTo>
                <a:lnTo>
                  <a:pt x="126" y="56"/>
                </a:lnTo>
                <a:lnTo>
                  <a:pt x="111" y="49"/>
                </a:lnTo>
                <a:lnTo>
                  <a:pt x="97" y="26"/>
                </a:lnTo>
                <a:lnTo>
                  <a:pt x="77" y="56"/>
                </a:lnTo>
                <a:lnTo>
                  <a:pt x="54" y="110"/>
                </a:lnTo>
                <a:lnTo>
                  <a:pt x="45" y="162"/>
                </a:lnTo>
                <a:lnTo>
                  <a:pt x="51" y="245"/>
                </a:lnTo>
                <a:lnTo>
                  <a:pt x="86" y="353"/>
                </a:lnTo>
                <a:lnTo>
                  <a:pt x="105" y="394"/>
                </a:lnTo>
                <a:lnTo>
                  <a:pt x="142" y="355"/>
                </a:lnTo>
                <a:lnTo>
                  <a:pt x="162" y="351"/>
                </a:lnTo>
                <a:lnTo>
                  <a:pt x="182" y="357"/>
                </a:lnTo>
                <a:lnTo>
                  <a:pt x="196" y="380"/>
                </a:lnTo>
                <a:lnTo>
                  <a:pt x="194" y="402"/>
                </a:lnTo>
                <a:lnTo>
                  <a:pt x="174" y="411"/>
                </a:lnTo>
                <a:lnTo>
                  <a:pt x="108" y="417"/>
                </a:lnTo>
                <a:lnTo>
                  <a:pt x="79" y="439"/>
                </a:lnTo>
                <a:lnTo>
                  <a:pt x="44" y="461"/>
                </a:lnTo>
                <a:lnTo>
                  <a:pt x="0" y="468"/>
                </a:lnTo>
                <a:lnTo>
                  <a:pt x="31" y="477"/>
                </a:lnTo>
                <a:lnTo>
                  <a:pt x="84" y="477"/>
                </a:lnTo>
                <a:lnTo>
                  <a:pt x="161" y="452"/>
                </a:lnTo>
                <a:lnTo>
                  <a:pt x="209" y="452"/>
                </a:lnTo>
                <a:lnTo>
                  <a:pt x="246" y="437"/>
                </a:lnTo>
                <a:lnTo>
                  <a:pt x="259" y="412"/>
                </a:lnTo>
                <a:lnTo>
                  <a:pt x="259" y="371"/>
                </a:lnTo>
                <a:lnTo>
                  <a:pt x="214" y="317"/>
                </a:lnTo>
                <a:lnTo>
                  <a:pt x="165" y="251"/>
                </a:lnTo>
                <a:lnTo>
                  <a:pt x="140" y="165"/>
                </a:lnTo>
                <a:lnTo>
                  <a:pt x="161" y="110"/>
                </a:lnTo>
                <a:lnTo>
                  <a:pt x="149" y="97"/>
                </a:lnTo>
                <a:lnTo>
                  <a:pt x="177" y="59"/>
                </a:lnTo>
                <a:lnTo>
                  <a:pt x="165" y="57"/>
                </a:lnTo>
                <a:lnTo>
                  <a:pt x="189" y="23"/>
                </a:lnTo>
                <a:lnTo>
                  <a:pt x="222" y="0"/>
                </a:lnTo>
                <a:lnTo>
                  <a:pt x="222" y="0"/>
                </a:lnTo>
                <a:lnTo>
                  <a:pt x="222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20"/>
          <p:cNvSpPr/>
          <p:nvPr/>
        </p:nvSpPr>
        <p:spPr>
          <a:xfrm>
            <a:off x="3778200" y="1125360"/>
            <a:ext cx="1389240" cy="2589480"/>
          </a:xfrm>
          <a:custGeom>
            <a:avLst/>
            <a:gdLst>
              <a:gd name="textAreaLeft" fmla="*/ 0 w 1389240"/>
              <a:gd name="textAreaRight" fmla="*/ 1389240 w 1389240"/>
              <a:gd name="textAreaTop" fmla="*/ 0 h 2589480"/>
              <a:gd name="textAreaBottom" fmla="*/ 2589840 h 2589480"/>
            </a:gdLst>
            <a:ahLst/>
            <a:rect l="textAreaLeft" t="textAreaTop" r="textAreaRight" b="textAreaBottom"/>
            <a:pathLst>
              <a:path w="875" h="1631">
                <a:moveTo>
                  <a:pt x="455" y="0"/>
                </a:moveTo>
                <a:lnTo>
                  <a:pt x="310" y="122"/>
                </a:lnTo>
                <a:lnTo>
                  <a:pt x="269" y="233"/>
                </a:lnTo>
                <a:lnTo>
                  <a:pt x="224" y="362"/>
                </a:lnTo>
                <a:lnTo>
                  <a:pt x="218" y="431"/>
                </a:lnTo>
                <a:lnTo>
                  <a:pt x="287" y="494"/>
                </a:lnTo>
                <a:lnTo>
                  <a:pt x="166" y="537"/>
                </a:lnTo>
                <a:lnTo>
                  <a:pt x="107" y="587"/>
                </a:lnTo>
                <a:lnTo>
                  <a:pt x="95" y="639"/>
                </a:lnTo>
                <a:lnTo>
                  <a:pt x="142" y="663"/>
                </a:lnTo>
                <a:lnTo>
                  <a:pt x="195" y="689"/>
                </a:lnTo>
                <a:lnTo>
                  <a:pt x="103" y="710"/>
                </a:lnTo>
                <a:lnTo>
                  <a:pt x="79" y="761"/>
                </a:lnTo>
                <a:lnTo>
                  <a:pt x="92" y="896"/>
                </a:lnTo>
                <a:lnTo>
                  <a:pt x="144" y="1058"/>
                </a:lnTo>
                <a:lnTo>
                  <a:pt x="200" y="1156"/>
                </a:lnTo>
                <a:lnTo>
                  <a:pt x="269" y="1248"/>
                </a:lnTo>
                <a:lnTo>
                  <a:pt x="356" y="1329"/>
                </a:lnTo>
                <a:lnTo>
                  <a:pt x="442" y="1393"/>
                </a:lnTo>
                <a:lnTo>
                  <a:pt x="601" y="1454"/>
                </a:lnTo>
                <a:lnTo>
                  <a:pt x="709" y="1457"/>
                </a:lnTo>
                <a:lnTo>
                  <a:pt x="795" y="1441"/>
                </a:lnTo>
                <a:lnTo>
                  <a:pt x="875" y="1413"/>
                </a:lnTo>
                <a:lnTo>
                  <a:pt x="782" y="1463"/>
                </a:lnTo>
                <a:lnTo>
                  <a:pt x="645" y="1484"/>
                </a:lnTo>
                <a:lnTo>
                  <a:pt x="543" y="1499"/>
                </a:lnTo>
                <a:lnTo>
                  <a:pt x="577" y="1631"/>
                </a:lnTo>
                <a:lnTo>
                  <a:pt x="519" y="1620"/>
                </a:lnTo>
                <a:lnTo>
                  <a:pt x="211" y="1326"/>
                </a:lnTo>
                <a:lnTo>
                  <a:pt x="0" y="977"/>
                </a:lnTo>
                <a:lnTo>
                  <a:pt x="34" y="457"/>
                </a:lnTo>
                <a:lnTo>
                  <a:pt x="237" y="33"/>
                </a:lnTo>
                <a:lnTo>
                  <a:pt x="455" y="0"/>
                </a:lnTo>
                <a:lnTo>
                  <a:pt x="455" y="0"/>
                </a:lnTo>
                <a:lnTo>
                  <a:pt x="455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21"/>
          <p:cNvSpPr/>
          <p:nvPr/>
        </p:nvSpPr>
        <p:spPr>
          <a:xfrm>
            <a:off x="4468680" y="954000"/>
            <a:ext cx="1228680" cy="24750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774" h="1559">
                <a:moveTo>
                  <a:pt x="50" y="87"/>
                </a:moveTo>
                <a:lnTo>
                  <a:pt x="171" y="83"/>
                </a:lnTo>
                <a:lnTo>
                  <a:pt x="258" y="95"/>
                </a:lnTo>
                <a:lnTo>
                  <a:pt x="332" y="130"/>
                </a:lnTo>
                <a:lnTo>
                  <a:pt x="389" y="167"/>
                </a:lnTo>
                <a:lnTo>
                  <a:pt x="440" y="246"/>
                </a:lnTo>
                <a:lnTo>
                  <a:pt x="469" y="333"/>
                </a:lnTo>
                <a:lnTo>
                  <a:pt x="492" y="436"/>
                </a:lnTo>
                <a:lnTo>
                  <a:pt x="498" y="486"/>
                </a:lnTo>
                <a:lnTo>
                  <a:pt x="421" y="489"/>
                </a:lnTo>
                <a:lnTo>
                  <a:pt x="464" y="531"/>
                </a:lnTo>
                <a:lnTo>
                  <a:pt x="427" y="551"/>
                </a:lnTo>
                <a:lnTo>
                  <a:pt x="363" y="568"/>
                </a:lnTo>
                <a:lnTo>
                  <a:pt x="392" y="602"/>
                </a:lnTo>
                <a:lnTo>
                  <a:pt x="513" y="652"/>
                </a:lnTo>
                <a:lnTo>
                  <a:pt x="571" y="647"/>
                </a:lnTo>
                <a:lnTo>
                  <a:pt x="606" y="696"/>
                </a:lnTo>
                <a:lnTo>
                  <a:pt x="629" y="777"/>
                </a:lnTo>
                <a:lnTo>
                  <a:pt x="638" y="909"/>
                </a:lnTo>
                <a:lnTo>
                  <a:pt x="629" y="1038"/>
                </a:lnTo>
                <a:lnTo>
                  <a:pt x="629" y="1159"/>
                </a:lnTo>
                <a:lnTo>
                  <a:pt x="601" y="1251"/>
                </a:lnTo>
                <a:lnTo>
                  <a:pt x="500" y="1415"/>
                </a:lnTo>
                <a:lnTo>
                  <a:pt x="427" y="1484"/>
                </a:lnTo>
                <a:lnTo>
                  <a:pt x="334" y="1559"/>
                </a:lnTo>
                <a:lnTo>
                  <a:pt x="411" y="1559"/>
                </a:lnTo>
                <a:lnTo>
                  <a:pt x="606" y="1428"/>
                </a:lnTo>
                <a:lnTo>
                  <a:pt x="774" y="1217"/>
                </a:lnTo>
                <a:lnTo>
                  <a:pt x="753" y="869"/>
                </a:lnTo>
                <a:lnTo>
                  <a:pt x="659" y="457"/>
                </a:lnTo>
                <a:lnTo>
                  <a:pt x="513" y="108"/>
                </a:lnTo>
                <a:lnTo>
                  <a:pt x="345" y="3"/>
                </a:lnTo>
                <a:lnTo>
                  <a:pt x="173" y="0"/>
                </a:lnTo>
                <a:lnTo>
                  <a:pt x="0" y="46"/>
                </a:lnTo>
                <a:lnTo>
                  <a:pt x="50" y="87"/>
                </a:lnTo>
                <a:lnTo>
                  <a:pt x="50" y="87"/>
                </a:lnTo>
                <a:lnTo>
                  <a:pt x="50" y="87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22"/>
          <p:cNvSpPr/>
          <p:nvPr/>
        </p:nvSpPr>
        <p:spPr>
          <a:xfrm>
            <a:off x="5551560" y="1257480"/>
            <a:ext cx="1287360" cy="2420640"/>
          </a:xfrm>
          <a:custGeom>
            <a:avLst/>
            <a:gdLst>
              <a:gd name="textAreaLeft" fmla="*/ 0 w 1287360"/>
              <a:gd name="textAreaRight" fmla="*/ 1287720 w 1287360"/>
              <a:gd name="textAreaTop" fmla="*/ 0 h 2420640"/>
              <a:gd name="textAreaBottom" fmla="*/ 2421000 h 2420640"/>
            </a:gdLst>
            <a:ahLst/>
            <a:rect l="textAreaLeft" t="textAreaTop" r="textAreaRight" b="textAreaBottom"/>
            <a:pathLst>
              <a:path w="811" h="1525">
                <a:moveTo>
                  <a:pt x="71" y="0"/>
                </a:moveTo>
                <a:lnTo>
                  <a:pt x="375" y="127"/>
                </a:lnTo>
                <a:lnTo>
                  <a:pt x="450" y="251"/>
                </a:lnTo>
                <a:lnTo>
                  <a:pt x="529" y="348"/>
                </a:lnTo>
                <a:lnTo>
                  <a:pt x="480" y="370"/>
                </a:lnTo>
                <a:lnTo>
                  <a:pt x="534" y="485"/>
                </a:lnTo>
                <a:lnTo>
                  <a:pt x="701" y="603"/>
                </a:lnTo>
                <a:lnTo>
                  <a:pt x="802" y="762"/>
                </a:lnTo>
                <a:lnTo>
                  <a:pt x="811" y="965"/>
                </a:lnTo>
                <a:lnTo>
                  <a:pt x="679" y="1283"/>
                </a:lnTo>
                <a:lnTo>
                  <a:pt x="736" y="1517"/>
                </a:lnTo>
                <a:lnTo>
                  <a:pt x="643" y="1525"/>
                </a:lnTo>
                <a:lnTo>
                  <a:pt x="520" y="1477"/>
                </a:lnTo>
                <a:lnTo>
                  <a:pt x="415" y="1380"/>
                </a:lnTo>
                <a:lnTo>
                  <a:pt x="27" y="1318"/>
                </a:lnTo>
                <a:lnTo>
                  <a:pt x="0" y="1235"/>
                </a:lnTo>
                <a:lnTo>
                  <a:pt x="62" y="952"/>
                </a:lnTo>
                <a:lnTo>
                  <a:pt x="35" y="700"/>
                </a:lnTo>
                <a:lnTo>
                  <a:pt x="35" y="264"/>
                </a:lnTo>
                <a:lnTo>
                  <a:pt x="71" y="0"/>
                </a:lnTo>
                <a:lnTo>
                  <a:pt x="71" y="0"/>
                </a:lnTo>
                <a:lnTo>
                  <a:pt x="71" y="0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23"/>
          <p:cNvSpPr/>
          <p:nvPr/>
        </p:nvSpPr>
        <p:spPr>
          <a:xfrm>
            <a:off x="2860560" y="430200"/>
            <a:ext cx="2559240" cy="3268800"/>
          </a:xfrm>
          <a:custGeom>
            <a:avLst/>
            <a:gdLst>
              <a:gd name="textAreaLeft" fmla="*/ 0 w 2559240"/>
              <a:gd name="textAreaRight" fmla="*/ 2559240 w 2559240"/>
              <a:gd name="textAreaTop" fmla="*/ 0 h 3268800"/>
              <a:gd name="textAreaBottom" fmla="*/ 3269160 h 3268800"/>
            </a:gdLst>
            <a:ahLst/>
            <a:rect l="textAreaLeft" t="textAreaTop" r="textAreaRight" b="textAreaBottom"/>
            <a:pathLst>
              <a:path w="1612" h="2059">
                <a:moveTo>
                  <a:pt x="228" y="749"/>
                </a:moveTo>
                <a:lnTo>
                  <a:pt x="479" y="243"/>
                </a:lnTo>
                <a:lnTo>
                  <a:pt x="643" y="155"/>
                </a:lnTo>
                <a:lnTo>
                  <a:pt x="1026" y="0"/>
                </a:lnTo>
                <a:lnTo>
                  <a:pt x="1383" y="9"/>
                </a:lnTo>
                <a:lnTo>
                  <a:pt x="1528" y="44"/>
                </a:lnTo>
                <a:lnTo>
                  <a:pt x="1594" y="133"/>
                </a:lnTo>
                <a:lnTo>
                  <a:pt x="1612" y="286"/>
                </a:lnTo>
                <a:lnTo>
                  <a:pt x="1563" y="472"/>
                </a:lnTo>
                <a:lnTo>
                  <a:pt x="1369" y="410"/>
                </a:lnTo>
                <a:lnTo>
                  <a:pt x="1273" y="340"/>
                </a:lnTo>
                <a:lnTo>
                  <a:pt x="1092" y="326"/>
                </a:lnTo>
                <a:lnTo>
                  <a:pt x="836" y="468"/>
                </a:lnTo>
                <a:lnTo>
                  <a:pt x="656" y="833"/>
                </a:lnTo>
                <a:lnTo>
                  <a:pt x="567" y="1231"/>
                </a:lnTo>
                <a:lnTo>
                  <a:pt x="761" y="1853"/>
                </a:lnTo>
                <a:lnTo>
                  <a:pt x="616" y="2011"/>
                </a:lnTo>
                <a:lnTo>
                  <a:pt x="347" y="2059"/>
                </a:lnTo>
                <a:lnTo>
                  <a:pt x="35" y="2059"/>
                </a:lnTo>
                <a:lnTo>
                  <a:pt x="22" y="1927"/>
                </a:lnTo>
                <a:lnTo>
                  <a:pt x="0" y="1769"/>
                </a:lnTo>
                <a:lnTo>
                  <a:pt x="22" y="1681"/>
                </a:lnTo>
                <a:lnTo>
                  <a:pt x="48" y="1561"/>
                </a:lnTo>
                <a:lnTo>
                  <a:pt x="9" y="1443"/>
                </a:lnTo>
                <a:lnTo>
                  <a:pt x="22" y="1270"/>
                </a:lnTo>
                <a:lnTo>
                  <a:pt x="62" y="1181"/>
                </a:lnTo>
                <a:lnTo>
                  <a:pt x="35" y="1151"/>
                </a:lnTo>
                <a:lnTo>
                  <a:pt x="44" y="1089"/>
                </a:lnTo>
                <a:lnTo>
                  <a:pt x="140" y="1068"/>
                </a:lnTo>
                <a:lnTo>
                  <a:pt x="228" y="749"/>
                </a:lnTo>
                <a:lnTo>
                  <a:pt x="228" y="749"/>
                </a:lnTo>
                <a:lnTo>
                  <a:pt x="228" y="749"/>
                </a:lnTo>
                <a:close/>
              </a:path>
            </a:pathLst>
          </a:custGeom>
          <a:solidFill>
            <a:srgbClr val="cc7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24"/>
          <p:cNvSpPr/>
          <p:nvPr/>
        </p:nvSpPr>
        <p:spPr>
          <a:xfrm>
            <a:off x="3835440" y="592200"/>
            <a:ext cx="971640" cy="317520"/>
          </a:xfrm>
          <a:custGeom>
            <a:avLst/>
            <a:gdLst>
              <a:gd name="textAreaLeft" fmla="*/ 0 w 971640"/>
              <a:gd name="textAreaRight" fmla="*/ 972000 w 9716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12" h="200">
                <a:moveTo>
                  <a:pt x="0" y="164"/>
                </a:moveTo>
                <a:lnTo>
                  <a:pt x="147" y="200"/>
                </a:lnTo>
                <a:lnTo>
                  <a:pt x="332" y="200"/>
                </a:lnTo>
                <a:lnTo>
                  <a:pt x="428" y="196"/>
                </a:lnTo>
                <a:lnTo>
                  <a:pt x="550" y="143"/>
                </a:lnTo>
                <a:lnTo>
                  <a:pt x="338" y="149"/>
                </a:lnTo>
                <a:lnTo>
                  <a:pt x="271" y="123"/>
                </a:lnTo>
                <a:lnTo>
                  <a:pt x="391" y="103"/>
                </a:lnTo>
                <a:lnTo>
                  <a:pt x="494" y="62"/>
                </a:lnTo>
                <a:lnTo>
                  <a:pt x="612" y="0"/>
                </a:lnTo>
                <a:lnTo>
                  <a:pt x="276" y="10"/>
                </a:lnTo>
                <a:lnTo>
                  <a:pt x="134" y="39"/>
                </a:lnTo>
                <a:lnTo>
                  <a:pt x="315" y="62"/>
                </a:lnTo>
                <a:lnTo>
                  <a:pt x="128" y="80"/>
                </a:lnTo>
                <a:lnTo>
                  <a:pt x="271" y="155"/>
                </a:lnTo>
                <a:lnTo>
                  <a:pt x="99" y="155"/>
                </a:lnTo>
                <a:lnTo>
                  <a:pt x="0" y="164"/>
                </a:lnTo>
                <a:lnTo>
                  <a:pt x="0" y="164"/>
                </a:lnTo>
                <a:lnTo>
                  <a:pt x="0" y="16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25"/>
          <p:cNvSpPr/>
          <p:nvPr/>
        </p:nvSpPr>
        <p:spPr>
          <a:xfrm>
            <a:off x="4346640" y="438120"/>
            <a:ext cx="725400" cy="128520"/>
          </a:xfrm>
          <a:custGeom>
            <a:avLst/>
            <a:gdLst>
              <a:gd name="textAreaLeft" fmla="*/ 0 w 725400"/>
              <a:gd name="textAreaRight" fmla="*/ 725760 w 725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457" h="81">
                <a:moveTo>
                  <a:pt x="71" y="55"/>
                </a:moveTo>
                <a:lnTo>
                  <a:pt x="266" y="48"/>
                </a:lnTo>
                <a:lnTo>
                  <a:pt x="341" y="42"/>
                </a:lnTo>
                <a:lnTo>
                  <a:pt x="413" y="62"/>
                </a:lnTo>
                <a:lnTo>
                  <a:pt x="454" y="81"/>
                </a:lnTo>
                <a:lnTo>
                  <a:pt x="457" y="31"/>
                </a:lnTo>
                <a:lnTo>
                  <a:pt x="224" y="0"/>
                </a:lnTo>
                <a:lnTo>
                  <a:pt x="77" y="14"/>
                </a:lnTo>
                <a:lnTo>
                  <a:pt x="0" y="46"/>
                </a:lnTo>
                <a:lnTo>
                  <a:pt x="71" y="55"/>
                </a:lnTo>
                <a:lnTo>
                  <a:pt x="71" y="55"/>
                </a:lnTo>
                <a:lnTo>
                  <a:pt x="71" y="5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6"/>
          <p:cNvSpPr/>
          <p:nvPr/>
        </p:nvSpPr>
        <p:spPr>
          <a:xfrm>
            <a:off x="3594240" y="825480"/>
            <a:ext cx="541080" cy="309600"/>
          </a:xfrm>
          <a:custGeom>
            <a:avLst/>
            <a:gdLst>
              <a:gd name="textAreaLeft" fmla="*/ 0 w 541080"/>
              <a:gd name="textAreaRight" fmla="*/ 541080 w 5410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1" h="195">
                <a:moveTo>
                  <a:pt x="0" y="12"/>
                </a:moveTo>
                <a:lnTo>
                  <a:pt x="66" y="92"/>
                </a:lnTo>
                <a:lnTo>
                  <a:pt x="117" y="134"/>
                </a:lnTo>
                <a:lnTo>
                  <a:pt x="173" y="164"/>
                </a:lnTo>
                <a:lnTo>
                  <a:pt x="255" y="195"/>
                </a:lnTo>
                <a:lnTo>
                  <a:pt x="341" y="195"/>
                </a:lnTo>
                <a:lnTo>
                  <a:pt x="255" y="164"/>
                </a:lnTo>
                <a:lnTo>
                  <a:pt x="146" y="113"/>
                </a:lnTo>
                <a:lnTo>
                  <a:pt x="70" y="53"/>
                </a:lnTo>
                <a:lnTo>
                  <a:pt x="16" y="0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7"/>
          <p:cNvSpPr/>
          <p:nvPr/>
        </p:nvSpPr>
        <p:spPr>
          <a:xfrm>
            <a:off x="3344760" y="1020600"/>
            <a:ext cx="376200" cy="551160"/>
          </a:xfrm>
          <a:custGeom>
            <a:avLst/>
            <a:gdLst>
              <a:gd name="textAreaLeft" fmla="*/ 0 w 376200"/>
              <a:gd name="textAreaRight" fmla="*/ 376560 w 376200"/>
              <a:gd name="textAreaTop" fmla="*/ 0 h 551160"/>
              <a:gd name="textAreaBottom" fmla="*/ 551520 h 551160"/>
            </a:gdLst>
            <a:ahLst/>
            <a:rect l="textAreaLeft" t="textAreaTop" r="textAreaRight" b="textAreaBottom"/>
            <a:pathLst>
              <a:path w="237" h="347">
                <a:moveTo>
                  <a:pt x="152" y="0"/>
                </a:moveTo>
                <a:lnTo>
                  <a:pt x="207" y="95"/>
                </a:lnTo>
                <a:lnTo>
                  <a:pt x="237" y="156"/>
                </a:lnTo>
                <a:lnTo>
                  <a:pt x="237" y="197"/>
                </a:lnTo>
                <a:lnTo>
                  <a:pt x="191" y="264"/>
                </a:lnTo>
                <a:lnTo>
                  <a:pt x="0" y="347"/>
                </a:lnTo>
                <a:lnTo>
                  <a:pt x="81" y="202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8"/>
          <p:cNvSpPr/>
          <p:nvPr/>
        </p:nvSpPr>
        <p:spPr>
          <a:xfrm>
            <a:off x="3780000" y="1189080"/>
            <a:ext cx="144360" cy="355680"/>
          </a:xfrm>
          <a:custGeom>
            <a:avLst/>
            <a:gdLst>
              <a:gd name="textAreaLeft" fmla="*/ 0 w 144360"/>
              <a:gd name="textAreaRight" fmla="*/ 144720 w 1443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91" h="224">
                <a:moveTo>
                  <a:pt x="91" y="30"/>
                </a:moveTo>
                <a:lnTo>
                  <a:pt x="60" y="82"/>
                </a:lnTo>
                <a:lnTo>
                  <a:pt x="50" y="133"/>
                </a:lnTo>
                <a:lnTo>
                  <a:pt x="70" y="193"/>
                </a:lnTo>
                <a:lnTo>
                  <a:pt x="70" y="224"/>
                </a:lnTo>
                <a:lnTo>
                  <a:pt x="35" y="204"/>
                </a:lnTo>
                <a:lnTo>
                  <a:pt x="4" y="137"/>
                </a:lnTo>
                <a:lnTo>
                  <a:pt x="0" y="31"/>
                </a:lnTo>
                <a:lnTo>
                  <a:pt x="44" y="0"/>
                </a:lnTo>
                <a:lnTo>
                  <a:pt x="91" y="30"/>
                </a:lnTo>
                <a:lnTo>
                  <a:pt x="91" y="30"/>
                </a:lnTo>
                <a:lnTo>
                  <a:pt x="91" y="3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29"/>
          <p:cNvSpPr/>
          <p:nvPr/>
        </p:nvSpPr>
        <p:spPr>
          <a:xfrm>
            <a:off x="5783400" y="1344600"/>
            <a:ext cx="236520" cy="709560"/>
          </a:xfrm>
          <a:custGeom>
            <a:avLst/>
            <a:gdLst>
              <a:gd name="textAreaLeft" fmla="*/ 0 w 236520"/>
              <a:gd name="textAreaRight" fmla="*/ 236880 w 236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49" h="447">
                <a:moveTo>
                  <a:pt x="15" y="0"/>
                </a:moveTo>
                <a:lnTo>
                  <a:pt x="80" y="89"/>
                </a:lnTo>
                <a:lnTo>
                  <a:pt x="93" y="143"/>
                </a:lnTo>
                <a:lnTo>
                  <a:pt x="76" y="192"/>
                </a:lnTo>
                <a:lnTo>
                  <a:pt x="59" y="117"/>
                </a:lnTo>
                <a:lnTo>
                  <a:pt x="0" y="66"/>
                </a:lnTo>
                <a:lnTo>
                  <a:pt x="24" y="147"/>
                </a:lnTo>
                <a:lnTo>
                  <a:pt x="48" y="192"/>
                </a:lnTo>
                <a:lnTo>
                  <a:pt x="45" y="242"/>
                </a:lnTo>
                <a:lnTo>
                  <a:pt x="25" y="321"/>
                </a:lnTo>
                <a:lnTo>
                  <a:pt x="25" y="365"/>
                </a:lnTo>
                <a:lnTo>
                  <a:pt x="44" y="410"/>
                </a:lnTo>
                <a:lnTo>
                  <a:pt x="89" y="447"/>
                </a:lnTo>
                <a:lnTo>
                  <a:pt x="92" y="314"/>
                </a:lnTo>
                <a:lnTo>
                  <a:pt x="149" y="161"/>
                </a:lnTo>
                <a:lnTo>
                  <a:pt x="113" y="68"/>
                </a:lnTo>
                <a:lnTo>
                  <a:pt x="66" y="2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0"/>
          <p:cNvSpPr/>
          <p:nvPr/>
        </p:nvSpPr>
        <p:spPr>
          <a:xfrm>
            <a:off x="6294600" y="1873080"/>
            <a:ext cx="550800" cy="878040"/>
          </a:xfrm>
          <a:custGeom>
            <a:avLst/>
            <a:gdLst>
              <a:gd name="textAreaLeft" fmla="*/ 0 w 550800"/>
              <a:gd name="textAreaRight" fmla="*/ 551160 w 55080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347" h="553">
                <a:moveTo>
                  <a:pt x="6" y="0"/>
                </a:moveTo>
                <a:lnTo>
                  <a:pt x="0" y="72"/>
                </a:lnTo>
                <a:lnTo>
                  <a:pt x="12" y="137"/>
                </a:lnTo>
                <a:lnTo>
                  <a:pt x="83" y="198"/>
                </a:lnTo>
                <a:lnTo>
                  <a:pt x="139" y="242"/>
                </a:lnTo>
                <a:lnTo>
                  <a:pt x="139" y="212"/>
                </a:lnTo>
                <a:lnTo>
                  <a:pt x="237" y="295"/>
                </a:lnTo>
                <a:lnTo>
                  <a:pt x="285" y="379"/>
                </a:lnTo>
                <a:lnTo>
                  <a:pt x="320" y="461"/>
                </a:lnTo>
                <a:lnTo>
                  <a:pt x="330" y="553"/>
                </a:lnTo>
                <a:lnTo>
                  <a:pt x="347" y="450"/>
                </a:lnTo>
                <a:lnTo>
                  <a:pt x="327" y="358"/>
                </a:lnTo>
                <a:lnTo>
                  <a:pt x="272" y="276"/>
                </a:lnTo>
                <a:lnTo>
                  <a:pt x="172" y="175"/>
                </a:lnTo>
                <a:lnTo>
                  <a:pt x="58" y="5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"/>
          <p:cNvSpPr/>
          <p:nvPr/>
        </p:nvSpPr>
        <p:spPr>
          <a:xfrm>
            <a:off x="6451560" y="2303640"/>
            <a:ext cx="216000" cy="626760"/>
          </a:xfrm>
          <a:custGeom>
            <a:avLst/>
            <a:gdLst>
              <a:gd name="textAreaLeft" fmla="*/ 0 w 216000"/>
              <a:gd name="textAreaRight" fmla="*/ 216360 w 21600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136" h="395">
                <a:moveTo>
                  <a:pt x="74" y="0"/>
                </a:moveTo>
                <a:lnTo>
                  <a:pt x="118" y="70"/>
                </a:lnTo>
                <a:lnTo>
                  <a:pt x="136" y="210"/>
                </a:lnTo>
                <a:lnTo>
                  <a:pt x="84" y="327"/>
                </a:lnTo>
                <a:lnTo>
                  <a:pt x="0" y="395"/>
                </a:lnTo>
                <a:lnTo>
                  <a:pt x="60" y="265"/>
                </a:lnTo>
                <a:lnTo>
                  <a:pt x="90" y="169"/>
                </a:lnTo>
                <a:lnTo>
                  <a:pt x="88" y="112"/>
                </a:lnTo>
                <a:lnTo>
                  <a:pt x="74" y="0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2"/>
          <p:cNvSpPr/>
          <p:nvPr/>
        </p:nvSpPr>
        <p:spPr>
          <a:xfrm>
            <a:off x="2986200" y="2068560"/>
            <a:ext cx="439560" cy="233280"/>
          </a:xfrm>
          <a:custGeom>
            <a:avLst/>
            <a:gdLst>
              <a:gd name="textAreaLeft" fmla="*/ 0 w 439560"/>
              <a:gd name="textAreaRight" fmla="*/ 439920 w 4395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7" h="147">
                <a:moveTo>
                  <a:pt x="0" y="84"/>
                </a:moveTo>
                <a:lnTo>
                  <a:pt x="37" y="126"/>
                </a:lnTo>
                <a:lnTo>
                  <a:pt x="86" y="147"/>
                </a:lnTo>
                <a:lnTo>
                  <a:pt x="146" y="147"/>
                </a:lnTo>
                <a:lnTo>
                  <a:pt x="196" y="122"/>
                </a:lnTo>
                <a:lnTo>
                  <a:pt x="249" y="81"/>
                </a:lnTo>
                <a:lnTo>
                  <a:pt x="277" y="0"/>
                </a:lnTo>
                <a:lnTo>
                  <a:pt x="0" y="84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3"/>
          <p:cNvSpPr/>
          <p:nvPr/>
        </p:nvSpPr>
        <p:spPr>
          <a:xfrm>
            <a:off x="2844720" y="2336760"/>
            <a:ext cx="192240" cy="609480"/>
          </a:xfrm>
          <a:custGeom>
            <a:avLst/>
            <a:gdLst>
              <a:gd name="textAreaLeft" fmla="*/ 0 w 192240"/>
              <a:gd name="textAreaRight" fmla="*/ 192600 w 1922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1" h="384">
                <a:moveTo>
                  <a:pt x="101" y="384"/>
                </a:moveTo>
                <a:lnTo>
                  <a:pt x="121" y="355"/>
                </a:lnTo>
                <a:lnTo>
                  <a:pt x="65" y="276"/>
                </a:lnTo>
                <a:lnTo>
                  <a:pt x="58" y="200"/>
                </a:lnTo>
                <a:lnTo>
                  <a:pt x="65" y="147"/>
                </a:lnTo>
                <a:lnTo>
                  <a:pt x="96" y="0"/>
                </a:lnTo>
                <a:lnTo>
                  <a:pt x="60" y="16"/>
                </a:lnTo>
                <a:lnTo>
                  <a:pt x="0" y="147"/>
                </a:lnTo>
                <a:lnTo>
                  <a:pt x="13" y="336"/>
                </a:lnTo>
                <a:lnTo>
                  <a:pt x="101" y="384"/>
                </a:lnTo>
                <a:lnTo>
                  <a:pt x="101" y="384"/>
                </a:lnTo>
                <a:lnTo>
                  <a:pt x="101" y="384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4"/>
          <p:cNvSpPr/>
          <p:nvPr/>
        </p:nvSpPr>
        <p:spPr>
          <a:xfrm>
            <a:off x="3089160" y="2502000"/>
            <a:ext cx="273240" cy="379440"/>
          </a:xfrm>
          <a:custGeom>
            <a:avLst/>
            <a:gdLst>
              <a:gd name="textAreaLeft" fmla="*/ 0 w 273240"/>
              <a:gd name="textAreaRight" fmla="*/ 273600 w 2732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72" h="239">
                <a:moveTo>
                  <a:pt x="43" y="151"/>
                </a:moveTo>
                <a:lnTo>
                  <a:pt x="0" y="239"/>
                </a:lnTo>
                <a:lnTo>
                  <a:pt x="40" y="234"/>
                </a:lnTo>
                <a:lnTo>
                  <a:pt x="114" y="188"/>
                </a:lnTo>
                <a:lnTo>
                  <a:pt x="151" y="129"/>
                </a:lnTo>
                <a:lnTo>
                  <a:pt x="172" y="50"/>
                </a:lnTo>
                <a:lnTo>
                  <a:pt x="157" y="0"/>
                </a:lnTo>
                <a:lnTo>
                  <a:pt x="43" y="151"/>
                </a:lnTo>
                <a:lnTo>
                  <a:pt x="43" y="151"/>
                </a:lnTo>
                <a:lnTo>
                  <a:pt x="43" y="151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5"/>
          <p:cNvSpPr/>
          <p:nvPr/>
        </p:nvSpPr>
        <p:spPr>
          <a:xfrm>
            <a:off x="3403440" y="2678040"/>
            <a:ext cx="120960" cy="498600"/>
          </a:xfrm>
          <a:custGeom>
            <a:avLst/>
            <a:gdLst>
              <a:gd name="textAreaLeft" fmla="*/ 0 w 120960"/>
              <a:gd name="textAreaRight" fmla="*/ 121320 w 12096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6" h="314">
                <a:moveTo>
                  <a:pt x="50" y="0"/>
                </a:moveTo>
                <a:lnTo>
                  <a:pt x="58" y="133"/>
                </a:lnTo>
                <a:lnTo>
                  <a:pt x="30" y="187"/>
                </a:lnTo>
                <a:lnTo>
                  <a:pt x="9" y="143"/>
                </a:lnTo>
                <a:lnTo>
                  <a:pt x="0" y="221"/>
                </a:lnTo>
                <a:lnTo>
                  <a:pt x="50" y="314"/>
                </a:lnTo>
                <a:lnTo>
                  <a:pt x="76" y="184"/>
                </a:lnTo>
                <a:lnTo>
                  <a:pt x="76" y="55"/>
                </a:lnTo>
                <a:lnTo>
                  <a:pt x="5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6"/>
          <p:cNvSpPr/>
          <p:nvPr/>
        </p:nvSpPr>
        <p:spPr>
          <a:xfrm>
            <a:off x="3000240" y="3262320"/>
            <a:ext cx="182520" cy="297000"/>
          </a:xfrm>
          <a:custGeom>
            <a:avLst/>
            <a:gdLst>
              <a:gd name="textAreaLeft" fmla="*/ 0 w 182520"/>
              <a:gd name="textAreaRight" fmla="*/ 182880 w 1825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5" h="187">
                <a:moveTo>
                  <a:pt x="69" y="5"/>
                </a:moveTo>
                <a:lnTo>
                  <a:pt x="8" y="41"/>
                </a:lnTo>
                <a:lnTo>
                  <a:pt x="15" y="101"/>
                </a:lnTo>
                <a:lnTo>
                  <a:pt x="31" y="141"/>
                </a:lnTo>
                <a:lnTo>
                  <a:pt x="0" y="187"/>
                </a:lnTo>
                <a:lnTo>
                  <a:pt x="56" y="146"/>
                </a:lnTo>
                <a:lnTo>
                  <a:pt x="61" y="96"/>
                </a:lnTo>
                <a:lnTo>
                  <a:pt x="87" y="55"/>
                </a:lnTo>
                <a:lnTo>
                  <a:pt x="115" y="0"/>
                </a:lnTo>
                <a:lnTo>
                  <a:pt x="69" y="5"/>
                </a:lnTo>
                <a:lnTo>
                  <a:pt x="69" y="5"/>
                </a:lnTo>
                <a:lnTo>
                  <a:pt x="69" y="5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7"/>
          <p:cNvSpPr/>
          <p:nvPr/>
        </p:nvSpPr>
        <p:spPr>
          <a:xfrm>
            <a:off x="5802480" y="2166840"/>
            <a:ext cx="428400" cy="712800"/>
          </a:xfrm>
          <a:custGeom>
            <a:avLst/>
            <a:gdLst>
              <a:gd name="textAreaLeft" fmla="*/ 0 w 428400"/>
              <a:gd name="textAreaRight" fmla="*/ 428760 w 4284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70" h="449">
                <a:moveTo>
                  <a:pt x="0" y="0"/>
                </a:moveTo>
                <a:lnTo>
                  <a:pt x="93" y="96"/>
                </a:lnTo>
                <a:lnTo>
                  <a:pt x="162" y="154"/>
                </a:lnTo>
                <a:lnTo>
                  <a:pt x="235" y="217"/>
                </a:lnTo>
                <a:lnTo>
                  <a:pt x="270" y="286"/>
                </a:lnTo>
                <a:lnTo>
                  <a:pt x="241" y="348"/>
                </a:lnTo>
                <a:lnTo>
                  <a:pt x="186" y="419"/>
                </a:lnTo>
                <a:lnTo>
                  <a:pt x="66" y="449"/>
                </a:lnTo>
                <a:lnTo>
                  <a:pt x="147" y="322"/>
                </a:lnTo>
                <a:lnTo>
                  <a:pt x="89" y="187"/>
                </a:lnTo>
                <a:lnTo>
                  <a:pt x="8" y="10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8"/>
          <p:cNvSpPr/>
          <p:nvPr/>
        </p:nvSpPr>
        <p:spPr>
          <a:xfrm>
            <a:off x="5616720" y="2494080"/>
            <a:ext cx="252360" cy="261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59" h="165">
                <a:moveTo>
                  <a:pt x="0" y="2"/>
                </a:moveTo>
                <a:lnTo>
                  <a:pt x="8" y="58"/>
                </a:lnTo>
                <a:lnTo>
                  <a:pt x="51" y="54"/>
                </a:lnTo>
                <a:lnTo>
                  <a:pt x="101" y="81"/>
                </a:lnTo>
                <a:lnTo>
                  <a:pt x="113" y="165"/>
                </a:lnTo>
                <a:lnTo>
                  <a:pt x="159" y="127"/>
                </a:lnTo>
                <a:lnTo>
                  <a:pt x="148" y="49"/>
                </a:lnTo>
                <a:lnTo>
                  <a:pt x="9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9"/>
          <p:cNvSpPr/>
          <p:nvPr/>
        </p:nvSpPr>
        <p:spPr>
          <a:xfrm>
            <a:off x="5059440" y="438120"/>
            <a:ext cx="293760" cy="507960"/>
          </a:xfrm>
          <a:custGeom>
            <a:avLst/>
            <a:gdLst>
              <a:gd name="textAreaLeft" fmla="*/ 0 w 293760"/>
              <a:gd name="textAreaRight" fmla="*/ 294120 w 2937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85" h="320">
                <a:moveTo>
                  <a:pt x="0" y="13"/>
                </a:moveTo>
                <a:lnTo>
                  <a:pt x="55" y="58"/>
                </a:lnTo>
                <a:lnTo>
                  <a:pt x="95" y="101"/>
                </a:lnTo>
                <a:lnTo>
                  <a:pt x="103" y="144"/>
                </a:lnTo>
                <a:lnTo>
                  <a:pt x="103" y="216"/>
                </a:lnTo>
                <a:lnTo>
                  <a:pt x="137" y="172"/>
                </a:lnTo>
                <a:lnTo>
                  <a:pt x="125" y="233"/>
                </a:lnTo>
                <a:lnTo>
                  <a:pt x="108" y="320"/>
                </a:lnTo>
                <a:lnTo>
                  <a:pt x="161" y="238"/>
                </a:lnTo>
                <a:lnTo>
                  <a:pt x="185" y="172"/>
                </a:lnTo>
                <a:lnTo>
                  <a:pt x="144" y="69"/>
                </a:lnTo>
                <a:lnTo>
                  <a:pt x="31" y="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40"/>
          <p:cNvSpPr/>
          <p:nvPr/>
        </p:nvSpPr>
        <p:spPr>
          <a:xfrm>
            <a:off x="4781520" y="1681200"/>
            <a:ext cx="584280" cy="181080"/>
          </a:xfrm>
          <a:custGeom>
            <a:avLst/>
            <a:gdLst>
              <a:gd name="textAreaLeft" fmla="*/ 0 w 584280"/>
              <a:gd name="textAreaRight" fmla="*/ 584280 w 5842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368" h="114">
                <a:moveTo>
                  <a:pt x="0" y="114"/>
                </a:moveTo>
                <a:lnTo>
                  <a:pt x="41" y="106"/>
                </a:lnTo>
                <a:lnTo>
                  <a:pt x="82" y="92"/>
                </a:lnTo>
                <a:lnTo>
                  <a:pt x="171" y="53"/>
                </a:lnTo>
                <a:lnTo>
                  <a:pt x="217" y="42"/>
                </a:lnTo>
                <a:lnTo>
                  <a:pt x="280" y="44"/>
                </a:lnTo>
                <a:lnTo>
                  <a:pt x="330" y="61"/>
                </a:lnTo>
                <a:lnTo>
                  <a:pt x="368" y="86"/>
                </a:lnTo>
                <a:lnTo>
                  <a:pt x="359" y="67"/>
                </a:lnTo>
                <a:lnTo>
                  <a:pt x="366" y="45"/>
                </a:lnTo>
                <a:lnTo>
                  <a:pt x="337" y="47"/>
                </a:lnTo>
                <a:lnTo>
                  <a:pt x="316" y="44"/>
                </a:lnTo>
                <a:lnTo>
                  <a:pt x="316" y="25"/>
                </a:lnTo>
                <a:lnTo>
                  <a:pt x="266" y="6"/>
                </a:lnTo>
                <a:lnTo>
                  <a:pt x="217" y="0"/>
                </a:lnTo>
                <a:lnTo>
                  <a:pt x="167" y="4"/>
                </a:lnTo>
                <a:lnTo>
                  <a:pt x="126" y="22"/>
                </a:lnTo>
                <a:lnTo>
                  <a:pt x="57" y="35"/>
                </a:lnTo>
                <a:lnTo>
                  <a:pt x="17" y="70"/>
                </a:lnTo>
                <a:lnTo>
                  <a:pt x="7" y="95"/>
                </a:lnTo>
                <a:lnTo>
                  <a:pt x="0" y="114"/>
                </a:lnTo>
                <a:lnTo>
                  <a:pt x="0" y="114"/>
                </a:lnTo>
                <a:lnTo>
                  <a:pt x="0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41"/>
          <p:cNvSpPr/>
          <p:nvPr/>
        </p:nvSpPr>
        <p:spPr>
          <a:xfrm>
            <a:off x="3902040" y="1886040"/>
            <a:ext cx="452520" cy="169920"/>
          </a:xfrm>
          <a:custGeom>
            <a:avLst/>
            <a:gdLst>
              <a:gd name="textAreaLeft" fmla="*/ 0 w 452520"/>
              <a:gd name="textAreaRight" fmla="*/ 452880 w 4525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85" h="107">
                <a:moveTo>
                  <a:pt x="261" y="40"/>
                </a:moveTo>
                <a:lnTo>
                  <a:pt x="223" y="50"/>
                </a:lnTo>
                <a:lnTo>
                  <a:pt x="159" y="48"/>
                </a:lnTo>
                <a:lnTo>
                  <a:pt x="118" y="48"/>
                </a:lnTo>
                <a:lnTo>
                  <a:pt x="75" y="56"/>
                </a:lnTo>
                <a:lnTo>
                  <a:pt x="24" y="83"/>
                </a:lnTo>
                <a:lnTo>
                  <a:pt x="0" y="107"/>
                </a:lnTo>
                <a:lnTo>
                  <a:pt x="24" y="56"/>
                </a:lnTo>
                <a:lnTo>
                  <a:pt x="73" y="24"/>
                </a:lnTo>
                <a:lnTo>
                  <a:pt x="129" y="18"/>
                </a:lnTo>
                <a:lnTo>
                  <a:pt x="152" y="6"/>
                </a:lnTo>
                <a:lnTo>
                  <a:pt x="220" y="0"/>
                </a:lnTo>
                <a:lnTo>
                  <a:pt x="259" y="8"/>
                </a:lnTo>
                <a:lnTo>
                  <a:pt x="285" y="25"/>
                </a:lnTo>
                <a:lnTo>
                  <a:pt x="261" y="40"/>
                </a:lnTo>
                <a:lnTo>
                  <a:pt x="261" y="40"/>
                </a:lnTo>
                <a:lnTo>
                  <a:pt x="261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2"/>
          <p:cNvSpPr/>
          <p:nvPr/>
        </p:nvSpPr>
        <p:spPr>
          <a:xfrm>
            <a:off x="4673520" y="1871640"/>
            <a:ext cx="362160" cy="763560"/>
          </a:xfrm>
          <a:custGeom>
            <a:avLst/>
            <a:gdLst>
              <a:gd name="textAreaLeft" fmla="*/ 0 w 362160"/>
              <a:gd name="textAreaRight" fmla="*/ 362520 w 3621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28" h="481">
                <a:moveTo>
                  <a:pt x="212" y="0"/>
                </a:moveTo>
                <a:lnTo>
                  <a:pt x="166" y="27"/>
                </a:lnTo>
                <a:lnTo>
                  <a:pt x="125" y="65"/>
                </a:lnTo>
                <a:lnTo>
                  <a:pt x="109" y="88"/>
                </a:lnTo>
                <a:lnTo>
                  <a:pt x="113" y="117"/>
                </a:lnTo>
                <a:lnTo>
                  <a:pt x="87" y="116"/>
                </a:lnTo>
                <a:lnTo>
                  <a:pt x="89" y="144"/>
                </a:lnTo>
                <a:lnTo>
                  <a:pt x="121" y="239"/>
                </a:lnTo>
                <a:lnTo>
                  <a:pt x="148" y="298"/>
                </a:lnTo>
                <a:lnTo>
                  <a:pt x="196" y="339"/>
                </a:lnTo>
                <a:lnTo>
                  <a:pt x="228" y="388"/>
                </a:lnTo>
                <a:lnTo>
                  <a:pt x="216" y="436"/>
                </a:lnTo>
                <a:lnTo>
                  <a:pt x="178" y="452"/>
                </a:lnTo>
                <a:lnTo>
                  <a:pt x="144" y="448"/>
                </a:lnTo>
                <a:lnTo>
                  <a:pt x="59" y="481"/>
                </a:lnTo>
                <a:lnTo>
                  <a:pt x="0" y="481"/>
                </a:lnTo>
                <a:lnTo>
                  <a:pt x="41" y="466"/>
                </a:lnTo>
                <a:lnTo>
                  <a:pt x="63" y="450"/>
                </a:lnTo>
                <a:lnTo>
                  <a:pt x="79" y="434"/>
                </a:lnTo>
                <a:lnTo>
                  <a:pt x="97" y="429"/>
                </a:lnTo>
                <a:lnTo>
                  <a:pt x="132" y="422"/>
                </a:lnTo>
                <a:lnTo>
                  <a:pt x="182" y="422"/>
                </a:lnTo>
                <a:lnTo>
                  <a:pt x="198" y="402"/>
                </a:lnTo>
                <a:lnTo>
                  <a:pt x="198" y="371"/>
                </a:lnTo>
                <a:lnTo>
                  <a:pt x="182" y="345"/>
                </a:lnTo>
                <a:lnTo>
                  <a:pt x="164" y="333"/>
                </a:lnTo>
                <a:lnTo>
                  <a:pt x="140" y="329"/>
                </a:lnTo>
                <a:lnTo>
                  <a:pt x="93" y="373"/>
                </a:lnTo>
                <a:lnTo>
                  <a:pt x="75" y="331"/>
                </a:lnTo>
                <a:lnTo>
                  <a:pt x="54" y="250"/>
                </a:lnTo>
                <a:lnTo>
                  <a:pt x="48" y="156"/>
                </a:lnTo>
                <a:lnTo>
                  <a:pt x="46" y="117"/>
                </a:lnTo>
                <a:lnTo>
                  <a:pt x="55" y="86"/>
                </a:lnTo>
                <a:lnTo>
                  <a:pt x="75" y="54"/>
                </a:lnTo>
                <a:lnTo>
                  <a:pt x="82" y="69"/>
                </a:lnTo>
                <a:lnTo>
                  <a:pt x="97" y="77"/>
                </a:lnTo>
                <a:lnTo>
                  <a:pt x="116" y="65"/>
                </a:lnTo>
                <a:lnTo>
                  <a:pt x="146" y="31"/>
                </a:lnTo>
                <a:lnTo>
                  <a:pt x="178" y="9"/>
                </a:lnTo>
                <a:lnTo>
                  <a:pt x="212" y="0"/>
                </a:lnTo>
                <a:lnTo>
                  <a:pt x="212" y="0"/>
                </a:lnTo>
                <a:lnTo>
                  <a:pt x="2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3"/>
          <p:cNvSpPr/>
          <p:nvPr/>
        </p:nvSpPr>
        <p:spPr>
          <a:xfrm>
            <a:off x="4849920" y="1862280"/>
            <a:ext cx="504720" cy="193680"/>
          </a:xfrm>
          <a:custGeom>
            <a:avLst/>
            <a:gdLst>
              <a:gd name="textAreaLeft" fmla="*/ 0 w 504720"/>
              <a:gd name="textAreaRight" fmla="*/ 504720 w 504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18" h="122">
                <a:moveTo>
                  <a:pt x="0" y="111"/>
                </a:moveTo>
                <a:lnTo>
                  <a:pt x="43" y="69"/>
                </a:lnTo>
                <a:lnTo>
                  <a:pt x="77" y="45"/>
                </a:lnTo>
                <a:lnTo>
                  <a:pt x="119" y="28"/>
                </a:lnTo>
                <a:lnTo>
                  <a:pt x="142" y="24"/>
                </a:lnTo>
                <a:lnTo>
                  <a:pt x="171" y="23"/>
                </a:lnTo>
                <a:lnTo>
                  <a:pt x="148" y="0"/>
                </a:lnTo>
                <a:lnTo>
                  <a:pt x="182" y="0"/>
                </a:lnTo>
                <a:lnTo>
                  <a:pt x="209" y="6"/>
                </a:lnTo>
                <a:lnTo>
                  <a:pt x="239" y="6"/>
                </a:lnTo>
                <a:lnTo>
                  <a:pt x="235" y="21"/>
                </a:lnTo>
                <a:lnTo>
                  <a:pt x="278" y="24"/>
                </a:lnTo>
                <a:lnTo>
                  <a:pt x="298" y="17"/>
                </a:lnTo>
                <a:lnTo>
                  <a:pt x="280" y="40"/>
                </a:lnTo>
                <a:lnTo>
                  <a:pt x="318" y="31"/>
                </a:lnTo>
                <a:lnTo>
                  <a:pt x="302" y="55"/>
                </a:lnTo>
                <a:lnTo>
                  <a:pt x="316" y="75"/>
                </a:lnTo>
                <a:lnTo>
                  <a:pt x="280" y="73"/>
                </a:lnTo>
                <a:lnTo>
                  <a:pt x="262" y="81"/>
                </a:lnTo>
                <a:lnTo>
                  <a:pt x="251" y="101"/>
                </a:lnTo>
                <a:lnTo>
                  <a:pt x="227" y="101"/>
                </a:lnTo>
                <a:lnTo>
                  <a:pt x="196" y="113"/>
                </a:lnTo>
                <a:lnTo>
                  <a:pt x="164" y="122"/>
                </a:lnTo>
                <a:lnTo>
                  <a:pt x="108" y="122"/>
                </a:lnTo>
                <a:lnTo>
                  <a:pt x="189" y="106"/>
                </a:lnTo>
                <a:lnTo>
                  <a:pt x="241" y="77"/>
                </a:lnTo>
                <a:lnTo>
                  <a:pt x="207" y="62"/>
                </a:lnTo>
                <a:lnTo>
                  <a:pt x="174" y="53"/>
                </a:lnTo>
                <a:lnTo>
                  <a:pt x="142" y="51"/>
                </a:lnTo>
                <a:lnTo>
                  <a:pt x="113" y="51"/>
                </a:lnTo>
                <a:lnTo>
                  <a:pt x="85" y="57"/>
                </a:lnTo>
                <a:lnTo>
                  <a:pt x="60" y="69"/>
                </a:lnTo>
                <a:lnTo>
                  <a:pt x="43" y="87"/>
                </a:lnTo>
                <a:lnTo>
                  <a:pt x="30" y="108"/>
                </a:lnTo>
                <a:lnTo>
                  <a:pt x="73" y="122"/>
                </a:lnTo>
                <a:lnTo>
                  <a:pt x="21" y="122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4"/>
          <p:cNvSpPr/>
          <p:nvPr/>
        </p:nvSpPr>
        <p:spPr>
          <a:xfrm>
            <a:off x="5035680" y="1943280"/>
            <a:ext cx="64800" cy="64800"/>
          </a:xfrm>
          <a:custGeom>
            <a:avLst/>
            <a:gdLst>
              <a:gd name="textAreaLeft" fmla="*/ 0 w 64800"/>
              <a:gd name="textAreaRight" fmla="*/ 65160 w 648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41" h="41">
                <a:moveTo>
                  <a:pt x="0" y="12"/>
                </a:moveTo>
                <a:lnTo>
                  <a:pt x="13" y="19"/>
                </a:lnTo>
                <a:lnTo>
                  <a:pt x="15" y="28"/>
                </a:lnTo>
                <a:lnTo>
                  <a:pt x="5" y="37"/>
                </a:lnTo>
                <a:lnTo>
                  <a:pt x="21" y="41"/>
                </a:lnTo>
                <a:lnTo>
                  <a:pt x="35" y="37"/>
                </a:lnTo>
                <a:lnTo>
                  <a:pt x="41" y="24"/>
                </a:lnTo>
                <a:lnTo>
                  <a:pt x="37" y="9"/>
                </a:lnTo>
                <a:lnTo>
                  <a:pt x="23" y="0"/>
                </a:lnTo>
                <a:lnTo>
                  <a:pt x="9" y="3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45"/>
          <p:cNvSpPr/>
          <p:nvPr/>
        </p:nvSpPr>
        <p:spPr>
          <a:xfrm>
            <a:off x="4975200" y="1936800"/>
            <a:ext cx="171360" cy="115920"/>
          </a:xfrm>
          <a:custGeom>
            <a:avLst/>
            <a:gdLst>
              <a:gd name="textAreaLeft" fmla="*/ 0 w 171360"/>
              <a:gd name="textAreaRight" fmla="*/ 171720 w 1713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08" h="73">
                <a:moveTo>
                  <a:pt x="24" y="0"/>
                </a:moveTo>
                <a:lnTo>
                  <a:pt x="18" y="38"/>
                </a:lnTo>
                <a:lnTo>
                  <a:pt x="34" y="59"/>
                </a:lnTo>
                <a:lnTo>
                  <a:pt x="47" y="63"/>
                </a:lnTo>
                <a:lnTo>
                  <a:pt x="65" y="63"/>
                </a:lnTo>
                <a:lnTo>
                  <a:pt x="81" y="54"/>
                </a:lnTo>
                <a:lnTo>
                  <a:pt x="94" y="38"/>
                </a:lnTo>
                <a:lnTo>
                  <a:pt x="95" y="20"/>
                </a:lnTo>
                <a:lnTo>
                  <a:pt x="87" y="2"/>
                </a:lnTo>
                <a:lnTo>
                  <a:pt x="103" y="2"/>
                </a:lnTo>
                <a:lnTo>
                  <a:pt x="108" y="22"/>
                </a:lnTo>
                <a:lnTo>
                  <a:pt x="106" y="43"/>
                </a:lnTo>
                <a:lnTo>
                  <a:pt x="94" y="61"/>
                </a:lnTo>
                <a:lnTo>
                  <a:pt x="74" y="70"/>
                </a:lnTo>
                <a:lnTo>
                  <a:pt x="45" y="73"/>
                </a:lnTo>
                <a:lnTo>
                  <a:pt x="24" y="64"/>
                </a:lnTo>
                <a:lnTo>
                  <a:pt x="6" y="38"/>
                </a:lnTo>
                <a:lnTo>
                  <a:pt x="0" y="18"/>
                </a:lnTo>
                <a:lnTo>
                  <a:pt x="0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46"/>
          <p:cNvSpPr/>
          <p:nvPr/>
        </p:nvSpPr>
        <p:spPr>
          <a:xfrm>
            <a:off x="4511520" y="2593800"/>
            <a:ext cx="136800" cy="32040"/>
          </a:xfrm>
          <a:custGeom>
            <a:avLst/>
            <a:gdLst>
              <a:gd name="textAreaLeft" fmla="*/ 0 w 136800"/>
              <a:gd name="textAreaRight" fmla="*/ 137160 w 136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86" h="20">
                <a:moveTo>
                  <a:pt x="86" y="20"/>
                </a:moveTo>
                <a:lnTo>
                  <a:pt x="37" y="0"/>
                </a:lnTo>
                <a:lnTo>
                  <a:pt x="0" y="10"/>
                </a:lnTo>
                <a:lnTo>
                  <a:pt x="11" y="20"/>
                </a:lnTo>
                <a:lnTo>
                  <a:pt x="55" y="20"/>
                </a:lnTo>
                <a:lnTo>
                  <a:pt x="86" y="20"/>
                </a:lnTo>
                <a:lnTo>
                  <a:pt x="86" y="20"/>
                </a:lnTo>
                <a:lnTo>
                  <a:pt x="8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47"/>
          <p:cNvSpPr/>
          <p:nvPr/>
        </p:nvSpPr>
        <p:spPr>
          <a:xfrm>
            <a:off x="5062680" y="2503440"/>
            <a:ext cx="245880" cy="2239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55" h="141">
                <a:moveTo>
                  <a:pt x="0" y="0"/>
                </a:moveTo>
                <a:lnTo>
                  <a:pt x="42" y="32"/>
                </a:lnTo>
                <a:lnTo>
                  <a:pt x="137" y="81"/>
                </a:lnTo>
                <a:lnTo>
                  <a:pt x="155" y="101"/>
                </a:lnTo>
                <a:lnTo>
                  <a:pt x="155" y="141"/>
                </a:lnTo>
                <a:lnTo>
                  <a:pt x="146" y="107"/>
                </a:lnTo>
                <a:lnTo>
                  <a:pt x="111" y="81"/>
                </a:lnTo>
                <a:lnTo>
                  <a:pt x="39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48"/>
          <p:cNvSpPr/>
          <p:nvPr/>
        </p:nvSpPr>
        <p:spPr>
          <a:xfrm>
            <a:off x="4440240" y="2724120"/>
            <a:ext cx="760320" cy="139680"/>
          </a:xfrm>
          <a:custGeom>
            <a:avLst/>
            <a:gdLst>
              <a:gd name="textAreaLeft" fmla="*/ 0 w 760320"/>
              <a:gd name="textAreaRight" fmla="*/ 760680 w 760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79" h="88">
                <a:moveTo>
                  <a:pt x="0" y="88"/>
                </a:moveTo>
                <a:lnTo>
                  <a:pt x="70" y="77"/>
                </a:lnTo>
                <a:lnTo>
                  <a:pt x="117" y="73"/>
                </a:lnTo>
                <a:lnTo>
                  <a:pt x="206" y="70"/>
                </a:lnTo>
                <a:lnTo>
                  <a:pt x="238" y="63"/>
                </a:lnTo>
                <a:lnTo>
                  <a:pt x="313" y="47"/>
                </a:lnTo>
                <a:lnTo>
                  <a:pt x="377" y="31"/>
                </a:lnTo>
                <a:lnTo>
                  <a:pt x="411" y="27"/>
                </a:lnTo>
                <a:lnTo>
                  <a:pt x="429" y="27"/>
                </a:lnTo>
                <a:lnTo>
                  <a:pt x="429" y="55"/>
                </a:lnTo>
                <a:lnTo>
                  <a:pt x="431" y="72"/>
                </a:lnTo>
                <a:lnTo>
                  <a:pt x="456" y="45"/>
                </a:lnTo>
                <a:lnTo>
                  <a:pt x="456" y="72"/>
                </a:lnTo>
                <a:lnTo>
                  <a:pt x="475" y="36"/>
                </a:lnTo>
                <a:lnTo>
                  <a:pt x="479" y="9"/>
                </a:lnTo>
                <a:lnTo>
                  <a:pt x="465" y="4"/>
                </a:lnTo>
                <a:lnTo>
                  <a:pt x="429" y="0"/>
                </a:lnTo>
                <a:lnTo>
                  <a:pt x="379" y="0"/>
                </a:lnTo>
                <a:lnTo>
                  <a:pt x="311" y="2"/>
                </a:lnTo>
                <a:lnTo>
                  <a:pt x="285" y="9"/>
                </a:lnTo>
                <a:lnTo>
                  <a:pt x="229" y="18"/>
                </a:lnTo>
                <a:lnTo>
                  <a:pt x="202" y="20"/>
                </a:lnTo>
                <a:lnTo>
                  <a:pt x="119" y="31"/>
                </a:lnTo>
                <a:lnTo>
                  <a:pt x="84" y="43"/>
                </a:lnTo>
                <a:lnTo>
                  <a:pt x="134" y="36"/>
                </a:lnTo>
                <a:lnTo>
                  <a:pt x="190" y="31"/>
                </a:lnTo>
                <a:lnTo>
                  <a:pt x="224" y="31"/>
                </a:lnTo>
                <a:lnTo>
                  <a:pt x="263" y="23"/>
                </a:lnTo>
                <a:lnTo>
                  <a:pt x="291" y="18"/>
                </a:lnTo>
                <a:lnTo>
                  <a:pt x="266" y="48"/>
                </a:lnTo>
                <a:lnTo>
                  <a:pt x="227" y="57"/>
                </a:lnTo>
                <a:lnTo>
                  <a:pt x="175" y="63"/>
                </a:lnTo>
                <a:lnTo>
                  <a:pt x="122" y="65"/>
                </a:lnTo>
                <a:lnTo>
                  <a:pt x="90" y="72"/>
                </a:lnTo>
                <a:lnTo>
                  <a:pt x="41" y="75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49"/>
          <p:cNvSpPr/>
          <p:nvPr/>
        </p:nvSpPr>
        <p:spPr>
          <a:xfrm>
            <a:off x="4386240" y="2860560"/>
            <a:ext cx="109440" cy="76320"/>
          </a:xfrm>
          <a:custGeom>
            <a:avLst/>
            <a:gdLst>
              <a:gd name="textAreaLeft" fmla="*/ 0 w 109440"/>
              <a:gd name="textAreaRight" fmla="*/ 109800 w 109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9" h="48">
                <a:moveTo>
                  <a:pt x="0" y="10"/>
                </a:moveTo>
                <a:lnTo>
                  <a:pt x="41" y="48"/>
                </a:lnTo>
                <a:lnTo>
                  <a:pt x="41" y="30"/>
                </a:lnTo>
                <a:lnTo>
                  <a:pt x="69" y="32"/>
                </a:lnTo>
                <a:lnTo>
                  <a:pt x="43" y="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50"/>
          <p:cNvSpPr/>
          <p:nvPr/>
        </p:nvSpPr>
        <p:spPr>
          <a:xfrm>
            <a:off x="4492800" y="2835360"/>
            <a:ext cx="628560" cy="176040"/>
          </a:xfrm>
          <a:custGeom>
            <a:avLst/>
            <a:gdLst>
              <a:gd name="textAreaLeft" fmla="*/ 0 w 628560"/>
              <a:gd name="textAreaRight" fmla="*/ 628920 w 6285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396" h="111">
                <a:moveTo>
                  <a:pt x="0" y="61"/>
                </a:moveTo>
                <a:lnTo>
                  <a:pt x="49" y="84"/>
                </a:lnTo>
                <a:lnTo>
                  <a:pt x="118" y="97"/>
                </a:lnTo>
                <a:lnTo>
                  <a:pt x="175" y="97"/>
                </a:lnTo>
                <a:lnTo>
                  <a:pt x="241" y="84"/>
                </a:lnTo>
                <a:lnTo>
                  <a:pt x="302" y="64"/>
                </a:lnTo>
                <a:lnTo>
                  <a:pt x="353" y="34"/>
                </a:lnTo>
                <a:lnTo>
                  <a:pt x="396" y="0"/>
                </a:lnTo>
                <a:lnTo>
                  <a:pt x="351" y="44"/>
                </a:lnTo>
                <a:lnTo>
                  <a:pt x="314" y="71"/>
                </a:lnTo>
                <a:lnTo>
                  <a:pt x="254" y="95"/>
                </a:lnTo>
                <a:lnTo>
                  <a:pt x="201" y="107"/>
                </a:lnTo>
                <a:lnTo>
                  <a:pt x="146" y="111"/>
                </a:lnTo>
                <a:lnTo>
                  <a:pt x="91" y="105"/>
                </a:lnTo>
                <a:lnTo>
                  <a:pt x="42" y="91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51"/>
          <p:cNvSpPr/>
          <p:nvPr/>
        </p:nvSpPr>
        <p:spPr>
          <a:xfrm>
            <a:off x="4511520" y="2824200"/>
            <a:ext cx="649440" cy="258840"/>
          </a:xfrm>
          <a:custGeom>
            <a:avLst/>
            <a:gdLst>
              <a:gd name="textAreaLeft" fmla="*/ 0 w 649440"/>
              <a:gd name="textAreaRight" fmla="*/ 649800 w 649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09" h="163">
                <a:moveTo>
                  <a:pt x="409" y="10"/>
                </a:moveTo>
                <a:lnTo>
                  <a:pt x="384" y="59"/>
                </a:lnTo>
                <a:lnTo>
                  <a:pt x="343" y="98"/>
                </a:lnTo>
                <a:lnTo>
                  <a:pt x="282" y="134"/>
                </a:lnTo>
                <a:lnTo>
                  <a:pt x="227" y="155"/>
                </a:lnTo>
                <a:lnTo>
                  <a:pt x="170" y="163"/>
                </a:lnTo>
                <a:lnTo>
                  <a:pt x="104" y="157"/>
                </a:lnTo>
                <a:lnTo>
                  <a:pt x="43" y="136"/>
                </a:lnTo>
                <a:lnTo>
                  <a:pt x="0" y="104"/>
                </a:lnTo>
                <a:lnTo>
                  <a:pt x="51" y="132"/>
                </a:lnTo>
                <a:lnTo>
                  <a:pt x="87" y="142"/>
                </a:lnTo>
                <a:lnTo>
                  <a:pt x="143" y="150"/>
                </a:lnTo>
                <a:lnTo>
                  <a:pt x="193" y="148"/>
                </a:lnTo>
                <a:lnTo>
                  <a:pt x="240" y="139"/>
                </a:lnTo>
                <a:lnTo>
                  <a:pt x="271" y="124"/>
                </a:lnTo>
                <a:lnTo>
                  <a:pt x="286" y="114"/>
                </a:lnTo>
                <a:lnTo>
                  <a:pt x="292" y="102"/>
                </a:lnTo>
                <a:lnTo>
                  <a:pt x="280" y="91"/>
                </a:lnTo>
                <a:lnTo>
                  <a:pt x="260" y="89"/>
                </a:lnTo>
                <a:lnTo>
                  <a:pt x="304" y="69"/>
                </a:lnTo>
                <a:lnTo>
                  <a:pt x="343" y="41"/>
                </a:lnTo>
                <a:lnTo>
                  <a:pt x="391" y="0"/>
                </a:lnTo>
                <a:lnTo>
                  <a:pt x="384" y="30"/>
                </a:lnTo>
                <a:lnTo>
                  <a:pt x="409" y="10"/>
                </a:lnTo>
                <a:lnTo>
                  <a:pt x="409" y="10"/>
                </a:lnTo>
                <a:lnTo>
                  <a:pt x="4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52"/>
          <p:cNvSpPr/>
          <p:nvPr/>
        </p:nvSpPr>
        <p:spPr>
          <a:xfrm>
            <a:off x="4248000" y="2538360"/>
            <a:ext cx="184320" cy="393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16" h="248">
                <a:moveTo>
                  <a:pt x="116" y="0"/>
                </a:moveTo>
                <a:lnTo>
                  <a:pt x="98" y="59"/>
                </a:lnTo>
                <a:lnTo>
                  <a:pt x="67" y="112"/>
                </a:lnTo>
                <a:lnTo>
                  <a:pt x="45" y="142"/>
                </a:lnTo>
                <a:lnTo>
                  <a:pt x="31" y="172"/>
                </a:lnTo>
                <a:lnTo>
                  <a:pt x="16" y="217"/>
                </a:lnTo>
                <a:lnTo>
                  <a:pt x="12" y="248"/>
                </a:lnTo>
                <a:lnTo>
                  <a:pt x="0" y="209"/>
                </a:lnTo>
                <a:lnTo>
                  <a:pt x="0" y="178"/>
                </a:lnTo>
                <a:lnTo>
                  <a:pt x="9" y="146"/>
                </a:lnTo>
                <a:lnTo>
                  <a:pt x="33" y="114"/>
                </a:lnTo>
                <a:lnTo>
                  <a:pt x="57" y="89"/>
                </a:lnTo>
                <a:lnTo>
                  <a:pt x="78" y="66"/>
                </a:lnTo>
                <a:lnTo>
                  <a:pt x="93" y="41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3"/>
          <p:cNvSpPr/>
          <p:nvPr/>
        </p:nvSpPr>
        <p:spPr>
          <a:xfrm>
            <a:off x="3962520" y="2070000"/>
            <a:ext cx="477720" cy="184320"/>
          </a:xfrm>
          <a:custGeom>
            <a:avLst/>
            <a:gdLst>
              <a:gd name="textAreaLeft" fmla="*/ 0 w 477720"/>
              <a:gd name="textAreaRight" fmla="*/ 477720 w 4777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01" h="116">
                <a:moveTo>
                  <a:pt x="253" y="64"/>
                </a:moveTo>
                <a:lnTo>
                  <a:pt x="301" y="48"/>
                </a:lnTo>
                <a:lnTo>
                  <a:pt x="273" y="25"/>
                </a:lnTo>
                <a:lnTo>
                  <a:pt x="217" y="7"/>
                </a:lnTo>
                <a:lnTo>
                  <a:pt x="156" y="0"/>
                </a:lnTo>
                <a:lnTo>
                  <a:pt x="118" y="7"/>
                </a:lnTo>
                <a:lnTo>
                  <a:pt x="120" y="23"/>
                </a:lnTo>
                <a:lnTo>
                  <a:pt x="91" y="27"/>
                </a:lnTo>
                <a:lnTo>
                  <a:pt x="84" y="13"/>
                </a:lnTo>
                <a:lnTo>
                  <a:pt x="44" y="41"/>
                </a:lnTo>
                <a:lnTo>
                  <a:pt x="23" y="64"/>
                </a:lnTo>
                <a:lnTo>
                  <a:pt x="39" y="76"/>
                </a:lnTo>
                <a:lnTo>
                  <a:pt x="26" y="88"/>
                </a:lnTo>
                <a:lnTo>
                  <a:pt x="0" y="102"/>
                </a:lnTo>
                <a:lnTo>
                  <a:pt x="30" y="111"/>
                </a:lnTo>
                <a:lnTo>
                  <a:pt x="51" y="111"/>
                </a:lnTo>
                <a:lnTo>
                  <a:pt x="80" y="104"/>
                </a:lnTo>
                <a:lnTo>
                  <a:pt x="94" y="116"/>
                </a:lnTo>
                <a:lnTo>
                  <a:pt x="112" y="104"/>
                </a:lnTo>
                <a:lnTo>
                  <a:pt x="130" y="109"/>
                </a:lnTo>
                <a:lnTo>
                  <a:pt x="146" y="89"/>
                </a:lnTo>
                <a:lnTo>
                  <a:pt x="105" y="84"/>
                </a:lnTo>
                <a:lnTo>
                  <a:pt x="91" y="72"/>
                </a:lnTo>
                <a:lnTo>
                  <a:pt x="110" y="52"/>
                </a:lnTo>
                <a:lnTo>
                  <a:pt x="134" y="35"/>
                </a:lnTo>
                <a:lnTo>
                  <a:pt x="162" y="27"/>
                </a:lnTo>
                <a:lnTo>
                  <a:pt x="196" y="27"/>
                </a:lnTo>
                <a:lnTo>
                  <a:pt x="233" y="34"/>
                </a:lnTo>
                <a:lnTo>
                  <a:pt x="262" y="39"/>
                </a:lnTo>
                <a:lnTo>
                  <a:pt x="253" y="64"/>
                </a:lnTo>
                <a:lnTo>
                  <a:pt x="253" y="64"/>
                </a:lnTo>
                <a:lnTo>
                  <a:pt x="253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54"/>
          <p:cNvSpPr/>
          <p:nvPr/>
        </p:nvSpPr>
        <p:spPr>
          <a:xfrm>
            <a:off x="4213080" y="2174760"/>
            <a:ext cx="115920" cy="50760"/>
          </a:xfrm>
          <a:custGeom>
            <a:avLst/>
            <a:gdLst>
              <a:gd name="textAreaLeft" fmla="*/ 0 w 115920"/>
              <a:gd name="textAreaRight" fmla="*/ 116280 w 115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3" h="32">
                <a:moveTo>
                  <a:pt x="0" y="20"/>
                </a:moveTo>
                <a:lnTo>
                  <a:pt x="36" y="12"/>
                </a:lnTo>
                <a:lnTo>
                  <a:pt x="73" y="0"/>
                </a:lnTo>
                <a:lnTo>
                  <a:pt x="41" y="23"/>
                </a:lnTo>
                <a:lnTo>
                  <a:pt x="19" y="23"/>
                </a:lnTo>
                <a:lnTo>
                  <a:pt x="0" y="32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55"/>
          <p:cNvSpPr/>
          <p:nvPr/>
        </p:nvSpPr>
        <p:spPr>
          <a:xfrm>
            <a:off x="4057560" y="2038320"/>
            <a:ext cx="289080" cy="85680"/>
          </a:xfrm>
          <a:custGeom>
            <a:avLst/>
            <a:gdLst>
              <a:gd name="textAreaLeft" fmla="*/ 0 w 289080"/>
              <a:gd name="textAreaRight" fmla="*/ 289440 w 2890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82" h="54">
                <a:moveTo>
                  <a:pt x="0" y="51"/>
                </a:moveTo>
                <a:lnTo>
                  <a:pt x="45" y="16"/>
                </a:lnTo>
                <a:lnTo>
                  <a:pt x="98" y="0"/>
                </a:lnTo>
                <a:lnTo>
                  <a:pt x="141" y="0"/>
                </a:lnTo>
                <a:lnTo>
                  <a:pt x="182" y="9"/>
                </a:lnTo>
                <a:lnTo>
                  <a:pt x="109" y="9"/>
                </a:lnTo>
                <a:lnTo>
                  <a:pt x="52" y="25"/>
                </a:lnTo>
                <a:lnTo>
                  <a:pt x="20" y="54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56"/>
          <p:cNvSpPr/>
          <p:nvPr/>
        </p:nvSpPr>
        <p:spPr>
          <a:xfrm>
            <a:off x="4222800" y="2116080"/>
            <a:ext cx="55440" cy="47520"/>
          </a:xfrm>
          <a:custGeom>
            <a:avLst/>
            <a:gdLst>
              <a:gd name="textAreaLeft" fmla="*/ 0 w 55440"/>
              <a:gd name="textAreaRight" fmla="*/ 55800 w 554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5" h="30">
                <a:moveTo>
                  <a:pt x="5" y="5"/>
                </a:moveTo>
                <a:lnTo>
                  <a:pt x="15" y="12"/>
                </a:lnTo>
                <a:lnTo>
                  <a:pt x="15" y="23"/>
                </a:lnTo>
                <a:lnTo>
                  <a:pt x="0" y="30"/>
                </a:lnTo>
                <a:lnTo>
                  <a:pt x="18" y="30"/>
                </a:lnTo>
                <a:lnTo>
                  <a:pt x="35" y="21"/>
                </a:lnTo>
                <a:lnTo>
                  <a:pt x="35" y="8"/>
                </a:lnTo>
                <a:lnTo>
                  <a:pt x="23" y="0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57"/>
          <p:cNvSpPr/>
          <p:nvPr/>
        </p:nvSpPr>
        <p:spPr>
          <a:xfrm>
            <a:off x="4152960" y="2100240"/>
            <a:ext cx="169920" cy="103320"/>
          </a:xfrm>
          <a:custGeom>
            <a:avLst/>
            <a:gdLst>
              <a:gd name="textAreaLeft" fmla="*/ 0 w 169920"/>
              <a:gd name="textAreaRight" fmla="*/ 170280 w 1699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7" h="65">
                <a:moveTo>
                  <a:pt x="22" y="6"/>
                </a:moveTo>
                <a:lnTo>
                  <a:pt x="16" y="34"/>
                </a:lnTo>
                <a:lnTo>
                  <a:pt x="30" y="53"/>
                </a:lnTo>
                <a:lnTo>
                  <a:pt x="53" y="59"/>
                </a:lnTo>
                <a:lnTo>
                  <a:pt x="79" y="53"/>
                </a:lnTo>
                <a:lnTo>
                  <a:pt x="95" y="36"/>
                </a:lnTo>
                <a:lnTo>
                  <a:pt x="97" y="20"/>
                </a:lnTo>
                <a:lnTo>
                  <a:pt x="87" y="0"/>
                </a:lnTo>
                <a:lnTo>
                  <a:pt x="107" y="6"/>
                </a:lnTo>
                <a:lnTo>
                  <a:pt x="107" y="29"/>
                </a:lnTo>
                <a:lnTo>
                  <a:pt x="99" y="53"/>
                </a:lnTo>
                <a:lnTo>
                  <a:pt x="74" y="65"/>
                </a:lnTo>
                <a:lnTo>
                  <a:pt x="38" y="65"/>
                </a:lnTo>
                <a:lnTo>
                  <a:pt x="22" y="61"/>
                </a:lnTo>
                <a:lnTo>
                  <a:pt x="10" y="45"/>
                </a:lnTo>
                <a:lnTo>
                  <a:pt x="4" y="29"/>
                </a:lnTo>
                <a:lnTo>
                  <a:pt x="0" y="15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58"/>
          <p:cNvSpPr/>
          <p:nvPr/>
        </p:nvSpPr>
        <p:spPr>
          <a:xfrm>
            <a:off x="3735360" y="592200"/>
            <a:ext cx="1488960" cy="1679400"/>
          </a:xfrm>
          <a:custGeom>
            <a:avLst/>
            <a:gdLst>
              <a:gd name="textAreaLeft" fmla="*/ 0 w 1488960"/>
              <a:gd name="textAreaRight" fmla="*/ 1489320 w 1488960"/>
              <a:gd name="textAreaTop" fmla="*/ 0 h 1679400"/>
              <a:gd name="textAreaBottom" fmla="*/ 1679760 h 1679400"/>
            </a:gdLst>
            <a:ahLst/>
            <a:rect l="textAreaLeft" t="textAreaTop" r="textAreaRight" b="textAreaBottom"/>
            <a:pathLst>
              <a:path w="938" h="1058">
                <a:moveTo>
                  <a:pt x="599" y="311"/>
                </a:moveTo>
                <a:lnTo>
                  <a:pt x="622" y="268"/>
                </a:lnTo>
                <a:lnTo>
                  <a:pt x="636" y="311"/>
                </a:lnTo>
                <a:lnTo>
                  <a:pt x="675" y="249"/>
                </a:lnTo>
                <a:lnTo>
                  <a:pt x="680" y="316"/>
                </a:lnTo>
                <a:lnTo>
                  <a:pt x="728" y="268"/>
                </a:lnTo>
                <a:lnTo>
                  <a:pt x="732" y="321"/>
                </a:lnTo>
                <a:lnTo>
                  <a:pt x="780" y="298"/>
                </a:lnTo>
                <a:lnTo>
                  <a:pt x="804" y="331"/>
                </a:lnTo>
                <a:lnTo>
                  <a:pt x="861" y="311"/>
                </a:lnTo>
                <a:lnTo>
                  <a:pt x="899" y="273"/>
                </a:lnTo>
                <a:lnTo>
                  <a:pt x="924" y="216"/>
                </a:lnTo>
                <a:lnTo>
                  <a:pt x="938" y="134"/>
                </a:lnTo>
                <a:lnTo>
                  <a:pt x="899" y="58"/>
                </a:lnTo>
                <a:lnTo>
                  <a:pt x="833" y="0"/>
                </a:lnTo>
                <a:lnTo>
                  <a:pt x="866" y="48"/>
                </a:lnTo>
                <a:lnTo>
                  <a:pt x="885" y="106"/>
                </a:lnTo>
                <a:lnTo>
                  <a:pt x="885" y="148"/>
                </a:lnTo>
                <a:lnTo>
                  <a:pt x="842" y="76"/>
                </a:lnTo>
                <a:lnTo>
                  <a:pt x="780" y="48"/>
                </a:lnTo>
                <a:lnTo>
                  <a:pt x="695" y="38"/>
                </a:lnTo>
                <a:lnTo>
                  <a:pt x="636" y="58"/>
                </a:lnTo>
                <a:lnTo>
                  <a:pt x="565" y="96"/>
                </a:lnTo>
                <a:lnTo>
                  <a:pt x="516" y="116"/>
                </a:lnTo>
                <a:lnTo>
                  <a:pt x="460" y="134"/>
                </a:lnTo>
                <a:lnTo>
                  <a:pt x="364" y="153"/>
                </a:lnTo>
                <a:lnTo>
                  <a:pt x="465" y="163"/>
                </a:lnTo>
                <a:lnTo>
                  <a:pt x="556" y="163"/>
                </a:lnTo>
                <a:lnTo>
                  <a:pt x="627" y="148"/>
                </a:lnTo>
                <a:lnTo>
                  <a:pt x="685" y="120"/>
                </a:lnTo>
                <a:lnTo>
                  <a:pt x="728" y="116"/>
                </a:lnTo>
                <a:lnTo>
                  <a:pt x="765" y="125"/>
                </a:lnTo>
                <a:lnTo>
                  <a:pt x="785" y="148"/>
                </a:lnTo>
                <a:lnTo>
                  <a:pt x="785" y="186"/>
                </a:lnTo>
                <a:lnTo>
                  <a:pt x="742" y="153"/>
                </a:lnTo>
                <a:lnTo>
                  <a:pt x="685" y="148"/>
                </a:lnTo>
                <a:lnTo>
                  <a:pt x="636" y="167"/>
                </a:lnTo>
                <a:lnTo>
                  <a:pt x="570" y="197"/>
                </a:lnTo>
                <a:lnTo>
                  <a:pt x="488" y="220"/>
                </a:lnTo>
                <a:lnTo>
                  <a:pt x="411" y="235"/>
                </a:lnTo>
                <a:lnTo>
                  <a:pt x="331" y="235"/>
                </a:lnTo>
                <a:lnTo>
                  <a:pt x="187" y="216"/>
                </a:lnTo>
                <a:lnTo>
                  <a:pt x="216" y="259"/>
                </a:lnTo>
                <a:lnTo>
                  <a:pt x="163" y="249"/>
                </a:lnTo>
                <a:lnTo>
                  <a:pt x="77" y="211"/>
                </a:lnTo>
                <a:lnTo>
                  <a:pt x="120" y="273"/>
                </a:lnTo>
                <a:lnTo>
                  <a:pt x="167" y="316"/>
                </a:lnTo>
                <a:lnTo>
                  <a:pt x="216" y="335"/>
                </a:lnTo>
                <a:lnTo>
                  <a:pt x="163" y="345"/>
                </a:lnTo>
                <a:lnTo>
                  <a:pt x="92" y="335"/>
                </a:lnTo>
                <a:lnTo>
                  <a:pt x="0" y="307"/>
                </a:lnTo>
                <a:lnTo>
                  <a:pt x="57" y="388"/>
                </a:lnTo>
                <a:lnTo>
                  <a:pt x="115" y="422"/>
                </a:lnTo>
                <a:lnTo>
                  <a:pt x="101" y="484"/>
                </a:lnTo>
                <a:lnTo>
                  <a:pt x="110" y="537"/>
                </a:lnTo>
                <a:lnTo>
                  <a:pt x="120" y="609"/>
                </a:lnTo>
                <a:lnTo>
                  <a:pt x="68" y="675"/>
                </a:lnTo>
                <a:lnTo>
                  <a:pt x="43" y="757"/>
                </a:lnTo>
                <a:lnTo>
                  <a:pt x="34" y="824"/>
                </a:lnTo>
                <a:lnTo>
                  <a:pt x="43" y="881"/>
                </a:lnTo>
                <a:lnTo>
                  <a:pt x="34" y="967"/>
                </a:lnTo>
                <a:lnTo>
                  <a:pt x="5" y="1058"/>
                </a:lnTo>
                <a:lnTo>
                  <a:pt x="72" y="991"/>
                </a:lnTo>
                <a:lnTo>
                  <a:pt x="125" y="900"/>
                </a:lnTo>
                <a:lnTo>
                  <a:pt x="158" y="809"/>
                </a:lnTo>
                <a:lnTo>
                  <a:pt x="192" y="752"/>
                </a:lnTo>
                <a:lnTo>
                  <a:pt x="202" y="671"/>
                </a:lnTo>
                <a:lnTo>
                  <a:pt x="221" y="593"/>
                </a:lnTo>
                <a:lnTo>
                  <a:pt x="239" y="522"/>
                </a:lnTo>
                <a:lnTo>
                  <a:pt x="282" y="446"/>
                </a:lnTo>
                <a:lnTo>
                  <a:pt x="317" y="417"/>
                </a:lnTo>
                <a:lnTo>
                  <a:pt x="350" y="403"/>
                </a:lnTo>
                <a:lnTo>
                  <a:pt x="397" y="407"/>
                </a:lnTo>
                <a:lnTo>
                  <a:pt x="465" y="388"/>
                </a:lnTo>
                <a:lnTo>
                  <a:pt x="507" y="350"/>
                </a:lnTo>
                <a:lnTo>
                  <a:pt x="570" y="287"/>
                </a:lnTo>
                <a:lnTo>
                  <a:pt x="599" y="311"/>
                </a:lnTo>
                <a:lnTo>
                  <a:pt x="599" y="311"/>
                </a:lnTo>
                <a:lnTo>
                  <a:pt x="599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59"/>
          <p:cNvSpPr/>
          <p:nvPr/>
        </p:nvSpPr>
        <p:spPr>
          <a:xfrm>
            <a:off x="5079960" y="738360"/>
            <a:ext cx="2021040" cy="297972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2979720"/>
              <a:gd name="textAreaBottom" fmla="*/ 2980080 h 2979720"/>
            </a:gdLst>
            <a:ahLst/>
            <a:rect l="textAreaLeft" t="textAreaTop" r="textAreaRight" b="textAreaBottom"/>
            <a:pathLst>
              <a:path w="1273" h="1877">
                <a:moveTo>
                  <a:pt x="0" y="234"/>
                </a:moveTo>
                <a:lnTo>
                  <a:pt x="58" y="215"/>
                </a:lnTo>
                <a:lnTo>
                  <a:pt x="110" y="176"/>
                </a:lnTo>
                <a:lnTo>
                  <a:pt x="167" y="119"/>
                </a:lnTo>
                <a:lnTo>
                  <a:pt x="201" y="61"/>
                </a:lnTo>
                <a:lnTo>
                  <a:pt x="211" y="0"/>
                </a:lnTo>
                <a:lnTo>
                  <a:pt x="225" y="51"/>
                </a:lnTo>
                <a:lnTo>
                  <a:pt x="282" y="42"/>
                </a:lnTo>
                <a:lnTo>
                  <a:pt x="335" y="61"/>
                </a:lnTo>
                <a:lnTo>
                  <a:pt x="382" y="100"/>
                </a:lnTo>
                <a:lnTo>
                  <a:pt x="401" y="157"/>
                </a:lnTo>
                <a:lnTo>
                  <a:pt x="412" y="224"/>
                </a:lnTo>
                <a:lnTo>
                  <a:pt x="426" y="267"/>
                </a:lnTo>
                <a:lnTo>
                  <a:pt x="460" y="296"/>
                </a:lnTo>
                <a:lnTo>
                  <a:pt x="497" y="325"/>
                </a:lnTo>
                <a:lnTo>
                  <a:pt x="598" y="359"/>
                </a:lnTo>
                <a:lnTo>
                  <a:pt x="689" y="363"/>
                </a:lnTo>
                <a:lnTo>
                  <a:pt x="598" y="387"/>
                </a:lnTo>
                <a:lnTo>
                  <a:pt x="670" y="440"/>
                </a:lnTo>
                <a:lnTo>
                  <a:pt x="722" y="497"/>
                </a:lnTo>
                <a:lnTo>
                  <a:pt x="750" y="574"/>
                </a:lnTo>
                <a:lnTo>
                  <a:pt x="708" y="517"/>
                </a:lnTo>
                <a:lnTo>
                  <a:pt x="652" y="468"/>
                </a:lnTo>
                <a:lnTo>
                  <a:pt x="603" y="454"/>
                </a:lnTo>
                <a:lnTo>
                  <a:pt x="641" y="512"/>
                </a:lnTo>
                <a:lnTo>
                  <a:pt x="665" y="569"/>
                </a:lnTo>
                <a:lnTo>
                  <a:pt x="699" y="626"/>
                </a:lnTo>
                <a:lnTo>
                  <a:pt x="746" y="646"/>
                </a:lnTo>
                <a:lnTo>
                  <a:pt x="795" y="660"/>
                </a:lnTo>
                <a:lnTo>
                  <a:pt x="741" y="684"/>
                </a:lnTo>
                <a:lnTo>
                  <a:pt x="741" y="751"/>
                </a:lnTo>
                <a:lnTo>
                  <a:pt x="708" y="703"/>
                </a:lnTo>
                <a:lnTo>
                  <a:pt x="717" y="808"/>
                </a:lnTo>
                <a:lnTo>
                  <a:pt x="761" y="861"/>
                </a:lnTo>
                <a:lnTo>
                  <a:pt x="832" y="914"/>
                </a:lnTo>
                <a:lnTo>
                  <a:pt x="870" y="948"/>
                </a:lnTo>
                <a:lnTo>
                  <a:pt x="904" y="1005"/>
                </a:lnTo>
                <a:lnTo>
                  <a:pt x="924" y="1053"/>
                </a:lnTo>
                <a:lnTo>
                  <a:pt x="928" y="1101"/>
                </a:lnTo>
                <a:lnTo>
                  <a:pt x="924" y="1163"/>
                </a:lnTo>
                <a:lnTo>
                  <a:pt x="890" y="1220"/>
                </a:lnTo>
                <a:lnTo>
                  <a:pt x="828" y="1287"/>
                </a:lnTo>
                <a:lnTo>
                  <a:pt x="909" y="1254"/>
                </a:lnTo>
                <a:lnTo>
                  <a:pt x="904" y="1330"/>
                </a:lnTo>
                <a:lnTo>
                  <a:pt x="962" y="1263"/>
                </a:lnTo>
                <a:lnTo>
                  <a:pt x="981" y="1206"/>
                </a:lnTo>
                <a:lnTo>
                  <a:pt x="990" y="1149"/>
                </a:lnTo>
                <a:lnTo>
                  <a:pt x="981" y="1086"/>
                </a:lnTo>
                <a:lnTo>
                  <a:pt x="966" y="1034"/>
                </a:lnTo>
                <a:lnTo>
                  <a:pt x="1010" y="1091"/>
                </a:lnTo>
                <a:lnTo>
                  <a:pt x="1029" y="1129"/>
                </a:lnTo>
                <a:lnTo>
                  <a:pt x="1043" y="1178"/>
                </a:lnTo>
                <a:lnTo>
                  <a:pt x="1048" y="1229"/>
                </a:lnTo>
                <a:lnTo>
                  <a:pt x="1043" y="1297"/>
                </a:lnTo>
                <a:lnTo>
                  <a:pt x="1091" y="1229"/>
                </a:lnTo>
                <a:lnTo>
                  <a:pt x="1110" y="1154"/>
                </a:lnTo>
                <a:lnTo>
                  <a:pt x="1129" y="1240"/>
                </a:lnTo>
                <a:lnTo>
                  <a:pt x="1115" y="1311"/>
                </a:lnTo>
                <a:lnTo>
                  <a:pt x="1096" y="1369"/>
                </a:lnTo>
                <a:lnTo>
                  <a:pt x="1115" y="1451"/>
                </a:lnTo>
                <a:lnTo>
                  <a:pt x="1105" y="1513"/>
                </a:lnTo>
                <a:lnTo>
                  <a:pt x="1148" y="1551"/>
                </a:lnTo>
                <a:lnTo>
                  <a:pt x="1191" y="1556"/>
                </a:lnTo>
                <a:lnTo>
                  <a:pt x="1249" y="1537"/>
                </a:lnTo>
                <a:lnTo>
                  <a:pt x="1244" y="1594"/>
                </a:lnTo>
                <a:lnTo>
                  <a:pt x="1215" y="1641"/>
                </a:lnTo>
                <a:lnTo>
                  <a:pt x="1181" y="1671"/>
                </a:lnTo>
                <a:lnTo>
                  <a:pt x="1196" y="1718"/>
                </a:lnTo>
                <a:lnTo>
                  <a:pt x="1201" y="1791"/>
                </a:lnTo>
                <a:lnTo>
                  <a:pt x="1259" y="1828"/>
                </a:lnTo>
                <a:lnTo>
                  <a:pt x="1273" y="1877"/>
                </a:lnTo>
                <a:lnTo>
                  <a:pt x="1240" y="1838"/>
                </a:lnTo>
                <a:lnTo>
                  <a:pt x="1167" y="1857"/>
                </a:lnTo>
                <a:lnTo>
                  <a:pt x="1058" y="1857"/>
                </a:lnTo>
                <a:lnTo>
                  <a:pt x="996" y="1848"/>
                </a:lnTo>
                <a:lnTo>
                  <a:pt x="895" y="1810"/>
                </a:lnTo>
                <a:lnTo>
                  <a:pt x="828" y="1748"/>
                </a:lnTo>
                <a:lnTo>
                  <a:pt x="799" y="1685"/>
                </a:lnTo>
                <a:lnTo>
                  <a:pt x="795" y="1608"/>
                </a:lnTo>
                <a:lnTo>
                  <a:pt x="813" y="1513"/>
                </a:lnTo>
                <a:lnTo>
                  <a:pt x="861" y="1412"/>
                </a:lnTo>
                <a:lnTo>
                  <a:pt x="795" y="1493"/>
                </a:lnTo>
                <a:lnTo>
                  <a:pt x="766" y="1561"/>
                </a:lnTo>
                <a:lnTo>
                  <a:pt x="746" y="1627"/>
                </a:lnTo>
                <a:lnTo>
                  <a:pt x="755" y="1704"/>
                </a:lnTo>
                <a:lnTo>
                  <a:pt x="808" y="1771"/>
                </a:lnTo>
                <a:lnTo>
                  <a:pt x="689" y="1737"/>
                </a:lnTo>
                <a:lnTo>
                  <a:pt x="445" y="1718"/>
                </a:lnTo>
                <a:lnTo>
                  <a:pt x="263" y="1657"/>
                </a:lnTo>
                <a:lnTo>
                  <a:pt x="297" y="1571"/>
                </a:lnTo>
                <a:lnTo>
                  <a:pt x="330" y="1503"/>
                </a:lnTo>
                <a:lnTo>
                  <a:pt x="392" y="1435"/>
                </a:lnTo>
                <a:lnTo>
                  <a:pt x="344" y="1522"/>
                </a:lnTo>
                <a:lnTo>
                  <a:pt x="335" y="1604"/>
                </a:lnTo>
                <a:lnTo>
                  <a:pt x="382" y="1517"/>
                </a:lnTo>
                <a:lnTo>
                  <a:pt x="445" y="1455"/>
                </a:lnTo>
                <a:lnTo>
                  <a:pt x="527" y="1397"/>
                </a:lnTo>
                <a:lnTo>
                  <a:pt x="612" y="1321"/>
                </a:lnTo>
                <a:lnTo>
                  <a:pt x="665" y="1268"/>
                </a:lnTo>
                <a:lnTo>
                  <a:pt x="694" y="1206"/>
                </a:lnTo>
                <a:lnTo>
                  <a:pt x="694" y="1158"/>
                </a:lnTo>
                <a:lnTo>
                  <a:pt x="670" y="1101"/>
                </a:lnTo>
                <a:lnTo>
                  <a:pt x="617" y="1039"/>
                </a:lnTo>
                <a:lnTo>
                  <a:pt x="560" y="976"/>
                </a:lnTo>
                <a:lnTo>
                  <a:pt x="521" y="918"/>
                </a:lnTo>
                <a:lnTo>
                  <a:pt x="516" y="852"/>
                </a:lnTo>
                <a:lnTo>
                  <a:pt x="556" y="909"/>
                </a:lnTo>
                <a:lnTo>
                  <a:pt x="652" y="948"/>
                </a:lnTo>
                <a:lnTo>
                  <a:pt x="584" y="890"/>
                </a:lnTo>
                <a:lnTo>
                  <a:pt x="521" y="823"/>
                </a:lnTo>
                <a:lnTo>
                  <a:pt x="493" y="747"/>
                </a:lnTo>
                <a:lnTo>
                  <a:pt x="488" y="693"/>
                </a:lnTo>
                <a:lnTo>
                  <a:pt x="512" y="637"/>
                </a:lnTo>
                <a:lnTo>
                  <a:pt x="556" y="574"/>
                </a:lnTo>
                <a:lnTo>
                  <a:pt x="560" y="506"/>
                </a:lnTo>
                <a:lnTo>
                  <a:pt x="532" y="449"/>
                </a:lnTo>
                <a:lnTo>
                  <a:pt x="473" y="401"/>
                </a:lnTo>
                <a:lnTo>
                  <a:pt x="507" y="487"/>
                </a:lnTo>
                <a:lnTo>
                  <a:pt x="512" y="536"/>
                </a:lnTo>
                <a:lnTo>
                  <a:pt x="464" y="468"/>
                </a:lnTo>
                <a:lnTo>
                  <a:pt x="478" y="536"/>
                </a:lnTo>
                <a:lnTo>
                  <a:pt x="455" y="621"/>
                </a:lnTo>
                <a:lnTo>
                  <a:pt x="377" y="732"/>
                </a:lnTo>
                <a:lnTo>
                  <a:pt x="335" y="842"/>
                </a:lnTo>
                <a:lnTo>
                  <a:pt x="316" y="943"/>
                </a:lnTo>
                <a:lnTo>
                  <a:pt x="302" y="794"/>
                </a:lnTo>
                <a:lnTo>
                  <a:pt x="268" y="688"/>
                </a:lnTo>
                <a:lnTo>
                  <a:pt x="134" y="387"/>
                </a:lnTo>
                <a:lnTo>
                  <a:pt x="96" y="315"/>
                </a:lnTo>
                <a:lnTo>
                  <a:pt x="67" y="281"/>
                </a:lnTo>
                <a:lnTo>
                  <a:pt x="33" y="253"/>
                </a:lnTo>
                <a:lnTo>
                  <a:pt x="0" y="234"/>
                </a:lnTo>
                <a:lnTo>
                  <a:pt x="0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60"/>
          <p:cNvSpPr/>
          <p:nvPr/>
        </p:nvSpPr>
        <p:spPr>
          <a:xfrm>
            <a:off x="6296040" y="1693800"/>
            <a:ext cx="523800" cy="762120"/>
          </a:xfrm>
          <a:custGeom>
            <a:avLst/>
            <a:gdLst>
              <a:gd name="textAreaLeft" fmla="*/ 0 w 523800"/>
              <a:gd name="textAreaRight" fmla="*/ 524160 w 523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30" h="480">
                <a:moveTo>
                  <a:pt x="5" y="0"/>
                </a:moveTo>
                <a:lnTo>
                  <a:pt x="24" y="30"/>
                </a:lnTo>
                <a:lnTo>
                  <a:pt x="71" y="73"/>
                </a:lnTo>
                <a:lnTo>
                  <a:pt x="33" y="91"/>
                </a:lnTo>
                <a:lnTo>
                  <a:pt x="85" y="187"/>
                </a:lnTo>
                <a:lnTo>
                  <a:pt x="158" y="264"/>
                </a:lnTo>
                <a:lnTo>
                  <a:pt x="244" y="341"/>
                </a:lnTo>
                <a:lnTo>
                  <a:pt x="301" y="412"/>
                </a:lnTo>
                <a:lnTo>
                  <a:pt x="330" y="480"/>
                </a:lnTo>
                <a:lnTo>
                  <a:pt x="272" y="398"/>
                </a:lnTo>
                <a:lnTo>
                  <a:pt x="181" y="302"/>
                </a:lnTo>
                <a:lnTo>
                  <a:pt x="76" y="235"/>
                </a:lnTo>
                <a:lnTo>
                  <a:pt x="124" y="312"/>
                </a:lnTo>
                <a:lnTo>
                  <a:pt x="57" y="264"/>
                </a:lnTo>
                <a:lnTo>
                  <a:pt x="14" y="212"/>
                </a:lnTo>
                <a:lnTo>
                  <a:pt x="0" y="140"/>
                </a:lnTo>
                <a:lnTo>
                  <a:pt x="0" y="58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61"/>
          <p:cNvSpPr/>
          <p:nvPr/>
        </p:nvSpPr>
        <p:spPr>
          <a:xfrm>
            <a:off x="4792680" y="1763640"/>
            <a:ext cx="1336680" cy="197028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842" h="1241">
                <a:moveTo>
                  <a:pt x="521" y="168"/>
                </a:moveTo>
                <a:lnTo>
                  <a:pt x="582" y="91"/>
                </a:lnTo>
                <a:lnTo>
                  <a:pt x="654" y="0"/>
                </a:lnTo>
                <a:lnTo>
                  <a:pt x="636" y="91"/>
                </a:lnTo>
                <a:lnTo>
                  <a:pt x="631" y="153"/>
                </a:lnTo>
                <a:lnTo>
                  <a:pt x="636" y="215"/>
                </a:lnTo>
                <a:lnTo>
                  <a:pt x="659" y="302"/>
                </a:lnTo>
                <a:lnTo>
                  <a:pt x="702" y="354"/>
                </a:lnTo>
                <a:lnTo>
                  <a:pt x="817" y="445"/>
                </a:lnTo>
                <a:lnTo>
                  <a:pt x="842" y="483"/>
                </a:lnTo>
                <a:lnTo>
                  <a:pt x="842" y="541"/>
                </a:lnTo>
                <a:lnTo>
                  <a:pt x="812" y="603"/>
                </a:lnTo>
                <a:lnTo>
                  <a:pt x="765" y="670"/>
                </a:lnTo>
                <a:lnTo>
                  <a:pt x="645" y="756"/>
                </a:lnTo>
                <a:lnTo>
                  <a:pt x="587" y="794"/>
                </a:lnTo>
                <a:lnTo>
                  <a:pt x="535" y="862"/>
                </a:lnTo>
                <a:lnTo>
                  <a:pt x="497" y="929"/>
                </a:lnTo>
                <a:lnTo>
                  <a:pt x="473" y="1020"/>
                </a:lnTo>
                <a:lnTo>
                  <a:pt x="397" y="1005"/>
                </a:lnTo>
                <a:lnTo>
                  <a:pt x="364" y="1072"/>
                </a:lnTo>
                <a:lnTo>
                  <a:pt x="296" y="1140"/>
                </a:lnTo>
                <a:lnTo>
                  <a:pt x="195" y="1202"/>
                </a:lnTo>
                <a:lnTo>
                  <a:pt x="66" y="1241"/>
                </a:lnTo>
                <a:lnTo>
                  <a:pt x="209" y="1173"/>
                </a:lnTo>
                <a:lnTo>
                  <a:pt x="291" y="1111"/>
                </a:lnTo>
                <a:lnTo>
                  <a:pt x="343" y="1049"/>
                </a:lnTo>
                <a:lnTo>
                  <a:pt x="353" y="995"/>
                </a:lnTo>
                <a:lnTo>
                  <a:pt x="310" y="981"/>
                </a:lnTo>
                <a:lnTo>
                  <a:pt x="224" y="1034"/>
                </a:lnTo>
                <a:lnTo>
                  <a:pt x="157" y="1063"/>
                </a:lnTo>
                <a:lnTo>
                  <a:pt x="81" y="1077"/>
                </a:lnTo>
                <a:lnTo>
                  <a:pt x="0" y="1068"/>
                </a:lnTo>
                <a:lnTo>
                  <a:pt x="85" y="1068"/>
                </a:lnTo>
                <a:lnTo>
                  <a:pt x="133" y="1053"/>
                </a:lnTo>
                <a:lnTo>
                  <a:pt x="195" y="1025"/>
                </a:lnTo>
                <a:lnTo>
                  <a:pt x="286" y="958"/>
                </a:lnTo>
                <a:lnTo>
                  <a:pt x="377" y="862"/>
                </a:lnTo>
                <a:lnTo>
                  <a:pt x="478" y="723"/>
                </a:lnTo>
                <a:lnTo>
                  <a:pt x="516" y="670"/>
                </a:lnTo>
                <a:lnTo>
                  <a:pt x="525" y="613"/>
                </a:lnTo>
                <a:lnTo>
                  <a:pt x="530" y="541"/>
                </a:lnTo>
                <a:lnTo>
                  <a:pt x="549" y="627"/>
                </a:lnTo>
                <a:lnTo>
                  <a:pt x="598" y="627"/>
                </a:lnTo>
                <a:lnTo>
                  <a:pt x="587" y="560"/>
                </a:lnTo>
                <a:lnTo>
                  <a:pt x="641" y="603"/>
                </a:lnTo>
                <a:lnTo>
                  <a:pt x="654" y="551"/>
                </a:lnTo>
                <a:lnTo>
                  <a:pt x="626" y="508"/>
                </a:lnTo>
                <a:lnTo>
                  <a:pt x="602" y="488"/>
                </a:lnTo>
                <a:lnTo>
                  <a:pt x="525" y="494"/>
                </a:lnTo>
                <a:lnTo>
                  <a:pt x="506" y="421"/>
                </a:lnTo>
                <a:lnTo>
                  <a:pt x="497" y="316"/>
                </a:lnTo>
                <a:lnTo>
                  <a:pt x="497" y="206"/>
                </a:lnTo>
                <a:lnTo>
                  <a:pt x="521" y="168"/>
                </a:lnTo>
                <a:lnTo>
                  <a:pt x="521" y="168"/>
                </a:lnTo>
                <a:lnTo>
                  <a:pt x="521" y="1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62"/>
          <p:cNvSpPr/>
          <p:nvPr/>
        </p:nvSpPr>
        <p:spPr>
          <a:xfrm>
            <a:off x="3197160" y="318960"/>
            <a:ext cx="2179800" cy="10875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1373" h="685">
                <a:moveTo>
                  <a:pt x="1373" y="192"/>
                </a:moveTo>
                <a:lnTo>
                  <a:pt x="1348" y="110"/>
                </a:lnTo>
                <a:lnTo>
                  <a:pt x="1258" y="57"/>
                </a:lnTo>
                <a:lnTo>
                  <a:pt x="1148" y="47"/>
                </a:lnTo>
                <a:lnTo>
                  <a:pt x="1024" y="4"/>
                </a:lnTo>
                <a:lnTo>
                  <a:pt x="942" y="0"/>
                </a:lnTo>
                <a:lnTo>
                  <a:pt x="870" y="4"/>
                </a:lnTo>
                <a:lnTo>
                  <a:pt x="789" y="38"/>
                </a:lnTo>
                <a:lnTo>
                  <a:pt x="722" y="86"/>
                </a:lnTo>
                <a:lnTo>
                  <a:pt x="621" y="114"/>
                </a:lnTo>
                <a:lnTo>
                  <a:pt x="531" y="138"/>
                </a:lnTo>
                <a:lnTo>
                  <a:pt x="435" y="210"/>
                </a:lnTo>
                <a:lnTo>
                  <a:pt x="396" y="239"/>
                </a:lnTo>
                <a:lnTo>
                  <a:pt x="339" y="248"/>
                </a:lnTo>
                <a:lnTo>
                  <a:pt x="287" y="230"/>
                </a:lnTo>
                <a:lnTo>
                  <a:pt x="315" y="258"/>
                </a:lnTo>
                <a:lnTo>
                  <a:pt x="349" y="278"/>
                </a:lnTo>
                <a:lnTo>
                  <a:pt x="301" y="297"/>
                </a:lnTo>
                <a:lnTo>
                  <a:pt x="234" y="292"/>
                </a:lnTo>
                <a:lnTo>
                  <a:pt x="206" y="258"/>
                </a:lnTo>
                <a:lnTo>
                  <a:pt x="196" y="288"/>
                </a:lnTo>
                <a:lnTo>
                  <a:pt x="210" y="335"/>
                </a:lnTo>
                <a:lnTo>
                  <a:pt x="234" y="364"/>
                </a:lnTo>
                <a:lnTo>
                  <a:pt x="201" y="388"/>
                </a:lnTo>
                <a:lnTo>
                  <a:pt x="152" y="435"/>
                </a:lnTo>
                <a:lnTo>
                  <a:pt x="148" y="517"/>
                </a:lnTo>
                <a:lnTo>
                  <a:pt x="105" y="570"/>
                </a:lnTo>
                <a:lnTo>
                  <a:pt x="52" y="579"/>
                </a:lnTo>
                <a:lnTo>
                  <a:pt x="23" y="512"/>
                </a:lnTo>
                <a:lnTo>
                  <a:pt x="0" y="570"/>
                </a:lnTo>
                <a:lnTo>
                  <a:pt x="18" y="623"/>
                </a:lnTo>
                <a:lnTo>
                  <a:pt x="76" y="656"/>
                </a:lnTo>
                <a:lnTo>
                  <a:pt x="177" y="661"/>
                </a:lnTo>
                <a:lnTo>
                  <a:pt x="239" y="627"/>
                </a:lnTo>
                <a:lnTo>
                  <a:pt x="277" y="685"/>
                </a:lnTo>
                <a:lnTo>
                  <a:pt x="311" y="627"/>
                </a:lnTo>
                <a:lnTo>
                  <a:pt x="272" y="531"/>
                </a:lnTo>
                <a:lnTo>
                  <a:pt x="267" y="435"/>
                </a:lnTo>
                <a:lnTo>
                  <a:pt x="311" y="454"/>
                </a:lnTo>
                <a:lnTo>
                  <a:pt x="277" y="378"/>
                </a:lnTo>
                <a:lnTo>
                  <a:pt x="272" y="335"/>
                </a:lnTo>
                <a:lnTo>
                  <a:pt x="325" y="378"/>
                </a:lnTo>
                <a:lnTo>
                  <a:pt x="368" y="407"/>
                </a:lnTo>
                <a:lnTo>
                  <a:pt x="363" y="330"/>
                </a:lnTo>
                <a:lnTo>
                  <a:pt x="411" y="339"/>
                </a:lnTo>
                <a:lnTo>
                  <a:pt x="521" y="349"/>
                </a:lnTo>
                <a:lnTo>
                  <a:pt x="631" y="330"/>
                </a:lnTo>
                <a:lnTo>
                  <a:pt x="531" y="283"/>
                </a:lnTo>
                <a:lnTo>
                  <a:pt x="631" y="206"/>
                </a:lnTo>
                <a:lnTo>
                  <a:pt x="746" y="187"/>
                </a:lnTo>
                <a:lnTo>
                  <a:pt x="880" y="206"/>
                </a:lnTo>
                <a:lnTo>
                  <a:pt x="985" y="196"/>
                </a:lnTo>
                <a:lnTo>
                  <a:pt x="1052" y="168"/>
                </a:lnTo>
                <a:lnTo>
                  <a:pt x="1119" y="157"/>
                </a:lnTo>
                <a:lnTo>
                  <a:pt x="1043" y="138"/>
                </a:lnTo>
                <a:lnTo>
                  <a:pt x="966" y="148"/>
                </a:lnTo>
                <a:lnTo>
                  <a:pt x="890" y="143"/>
                </a:lnTo>
                <a:lnTo>
                  <a:pt x="799" y="110"/>
                </a:lnTo>
                <a:lnTo>
                  <a:pt x="942" y="110"/>
                </a:lnTo>
                <a:lnTo>
                  <a:pt x="1038" y="100"/>
                </a:lnTo>
                <a:lnTo>
                  <a:pt x="1115" y="110"/>
                </a:lnTo>
                <a:lnTo>
                  <a:pt x="1181" y="138"/>
                </a:lnTo>
                <a:lnTo>
                  <a:pt x="1195" y="100"/>
                </a:lnTo>
                <a:lnTo>
                  <a:pt x="1249" y="124"/>
                </a:lnTo>
                <a:lnTo>
                  <a:pt x="1282" y="176"/>
                </a:lnTo>
                <a:lnTo>
                  <a:pt x="1291" y="230"/>
                </a:lnTo>
                <a:lnTo>
                  <a:pt x="1325" y="206"/>
                </a:lnTo>
                <a:lnTo>
                  <a:pt x="1325" y="258"/>
                </a:lnTo>
                <a:lnTo>
                  <a:pt x="1301" y="349"/>
                </a:lnTo>
                <a:lnTo>
                  <a:pt x="1373" y="258"/>
                </a:lnTo>
                <a:lnTo>
                  <a:pt x="1373" y="192"/>
                </a:lnTo>
                <a:lnTo>
                  <a:pt x="1373" y="192"/>
                </a:lnTo>
                <a:lnTo>
                  <a:pt x="1373" y="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3"/>
          <p:cNvSpPr/>
          <p:nvPr/>
        </p:nvSpPr>
        <p:spPr>
          <a:xfrm>
            <a:off x="2846520" y="1093680"/>
            <a:ext cx="1831680" cy="2624400"/>
          </a:xfrm>
          <a:custGeom>
            <a:avLst/>
            <a:gdLst>
              <a:gd name="textAreaLeft" fmla="*/ 0 w 1831680"/>
              <a:gd name="textAreaRight" fmla="*/ 1832040 w 1831680"/>
              <a:gd name="textAreaTop" fmla="*/ 0 h 2624400"/>
              <a:gd name="textAreaBottom" fmla="*/ 2624760 h 2624400"/>
            </a:gdLst>
            <a:ahLst/>
            <a:rect l="textAreaLeft" t="textAreaTop" r="textAreaRight" b="textAreaBottom"/>
            <a:pathLst>
              <a:path w="1154" h="1653">
                <a:moveTo>
                  <a:pt x="536" y="15"/>
                </a:moveTo>
                <a:lnTo>
                  <a:pt x="574" y="106"/>
                </a:lnTo>
                <a:lnTo>
                  <a:pt x="560" y="197"/>
                </a:lnTo>
                <a:lnTo>
                  <a:pt x="513" y="244"/>
                </a:lnTo>
                <a:lnTo>
                  <a:pt x="446" y="282"/>
                </a:lnTo>
                <a:lnTo>
                  <a:pt x="302" y="321"/>
                </a:lnTo>
                <a:lnTo>
                  <a:pt x="408" y="263"/>
                </a:lnTo>
                <a:lnTo>
                  <a:pt x="498" y="206"/>
                </a:lnTo>
                <a:lnTo>
                  <a:pt x="441" y="187"/>
                </a:lnTo>
                <a:lnTo>
                  <a:pt x="388" y="130"/>
                </a:lnTo>
                <a:lnTo>
                  <a:pt x="283" y="139"/>
                </a:lnTo>
                <a:lnTo>
                  <a:pt x="239" y="206"/>
                </a:lnTo>
                <a:lnTo>
                  <a:pt x="221" y="293"/>
                </a:lnTo>
                <a:lnTo>
                  <a:pt x="168" y="312"/>
                </a:lnTo>
                <a:lnTo>
                  <a:pt x="134" y="244"/>
                </a:lnTo>
                <a:lnTo>
                  <a:pt x="96" y="331"/>
                </a:lnTo>
                <a:lnTo>
                  <a:pt x="96" y="378"/>
                </a:lnTo>
                <a:lnTo>
                  <a:pt x="110" y="427"/>
                </a:lnTo>
                <a:lnTo>
                  <a:pt x="91" y="464"/>
                </a:lnTo>
                <a:lnTo>
                  <a:pt x="82" y="518"/>
                </a:lnTo>
                <a:lnTo>
                  <a:pt x="106" y="570"/>
                </a:lnTo>
                <a:lnTo>
                  <a:pt x="91" y="613"/>
                </a:lnTo>
                <a:lnTo>
                  <a:pt x="49" y="632"/>
                </a:lnTo>
                <a:lnTo>
                  <a:pt x="0" y="628"/>
                </a:lnTo>
                <a:lnTo>
                  <a:pt x="15" y="651"/>
                </a:lnTo>
                <a:lnTo>
                  <a:pt x="44" y="670"/>
                </a:lnTo>
                <a:lnTo>
                  <a:pt x="96" y="680"/>
                </a:lnTo>
                <a:lnTo>
                  <a:pt x="82" y="709"/>
                </a:lnTo>
                <a:lnTo>
                  <a:pt x="125" y="738"/>
                </a:lnTo>
                <a:lnTo>
                  <a:pt x="168" y="747"/>
                </a:lnTo>
                <a:lnTo>
                  <a:pt x="225" y="738"/>
                </a:lnTo>
                <a:lnTo>
                  <a:pt x="279" y="714"/>
                </a:lnTo>
                <a:lnTo>
                  <a:pt x="359" y="632"/>
                </a:lnTo>
                <a:lnTo>
                  <a:pt x="403" y="560"/>
                </a:lnTo>
                <a:lnTo>
                  <a:pt x="373" y="666"/>
                </a:lnTo>
                <a:lnTo>
                  <a:pt x="326" y="728"/>
                </a:lnTo>
                <a:lnTo>
                  <a:pt x="254" y="776"/>
                </a:lnTo>
                <a:lnTo>
                  <a:pt x="211" y="781"/>
                </a:lnTo>
                <a:lnTo>
                  <a:pt x="158" y="776"/>
                </a:lnTo>
                <a:lnTo>
                  <a:pt x="106" y="810"/>
                </a:lnTo>
                <a:lnTo>
                  <a:pt x="78" y="886"/>
                </a:lnTo>
                <a:lnTo>
                  <a:pt x="87" y="925"/>
                </a:lnTo>
                <a:lnTo>
                  <a:pt x="63" y="987"/>
                </a:lnTo>
                <a:lnTo>
                  <a:pt x="73" y="1049"/>
                </a:lnTo>
                <a:lnTo>
                  <a:pt x="134" y="1131"/>
                </a:lnTo>
                <a:lnTo>
                  <a:pt x="139" y="1063"/>
                </a:lnTo>
                <a:lnTo>
                  <a:pt x="187" y="1021"/>
                </a:lnTo>
                <a:lnTo>
                  <a:pt x="187" y="1082"/>
                </a:lnTo>
                <a:lnTo>
                  <a:pt x="273" y="1016"/>
                </a:lnTo>
                <a:lnTo>
                  <a:pt x="317" y="939"/>
                </a:lnTo>
                <a:lnTo>
                  <a:pt x="335" y="834"/>
                </a:lnTo>
                <a:lnTo>
                  <a:pt x="364" y="939"/>
                </a:lnTo>
                <a:lnTo>
                  <a:pt x="417" y="1030"/>
                </a:lnTo>
                <a:lnTo>
                  <a:pt x="532" y="1092"/>
                </a:lnTo>
                <a:lnTo>
                  <a:pt x="598" y="1131"/>
                </a:lnTo>
                <a:lnTo>
                  <a:pt x="637" y="1173"/>
                </a:lnTo>
                <a:lnTo>
                  <a:pt x="637" y="1251"/>
                </a:lnTo>
                <a:lnTo>
                  <a:pt x="589" y="1347"/>
                </a:lnTo>
                <a:lnTo>
                  <a:pt x="570" y="1394"/>
                </a:lnTo>
                <a:lnTo>
                  <a:pt x="560" y="1451"/>
                </a:lnTo>
                <a:lnTo>
                  <a:pt x="565" y="1504"/>
                </a:lnTo>
                <a:lnTo>
                  <a:pt x="612" y="1567"/>
                </a:lnTo>
                <a:lnTo>
                  <a:pt x="451" y="1638"/>
                </a:lnTo>
                <a:lnTo>
                  <a:pt x="661" y="1576"/>
                </a:lnTo>
                <a:lnTo>
                  <a:pt x="804" y="1499"/>
                </a:lnTo>
                <a:lnTo>
                  <a:pt x="838" y="1547"/>
                </a:lnTo>
                <a:lnTo>
                  <a:pt x="919" y="1604"/>
                </a:lnTo>
                <a:lnTo>
                  <a:pt x="991" y="1628"/>
                </a:lnTo>
                <a:lnTo>
                  <a:pt x="1025" y="1653"/>
                </a:lnTo>
                <a:lnTo>
                  <a:pt x="1144" y="1653"/>
                </a:lnTo>
                <a:lnTo>
                  <a:pt x="1111" y="1557"/>
                </a:lnTo>
                <a:lnTo>
                  <a:pt x="1081" y="1494"/>
                </a:lnTo>
                <a:lnTo>
                  <a:pt x="1154" y="1485"/>
                </a:lnTo>
                <a:lnTo>
                  <a:pt x="1058" y="1466"/>
                </a:lnTo>
                <a:lnTo>
                  <a:pt x="891" y="1347"/>
                </a:lnTo>
                <a:lnTo>
                  <a:pt x="814" y="1269"/>
                </a:lnTo>
                <a:lnTo>
                  <a:pt x="766" y="1202"/>
                </a:lnTo>
                <a:lnTo>
                  <a:pt x="742" y="1155"/>
                </a:lnTo>
                <a:lnTo>
                  <a:pt x="685" y="1001"/>
                </a:lnTo>
                <a:lnTo>
                  <a:pt x="652" y="862"/>
                </a:lnTo>
                <a:lnTo>
                  <a:pt x="656" y="747"/>
                </a:lnTo>
                <a:lnTo>
                  <a:pt x="656" y="599"/>
                </a:lnTo>
                <a:lnTo>
                  <a:pt x="579" y="699"/>
                </a:lnTo>
                <a:lnTo>
                  <a:pt x="584" y="613"/>
                </a:lnTo>
                <a:lnTo>
                  <a:pt x="570" y="532"/>
                </a:lnTo>
                <a:lnTo>
                  <a:pt x="560" y="464"/>
                </a:lnTo>
                <a:lnTo>
                  <a:pt x="570" y="383"/>
                </a:lnTo>
                <a:lnTo>
                  <a:pt x="589" y="317"/>
                </a:lnTo>
                <a:lnTo>
                  <a:pt x="642" y="268"/>
                </a:lnTo>
                <a:lnTo>
                  <a:pt x="612" y="211"/>
                </a:lnTo>
                <a:lnTo>
                  <a:pt x="607" y="163"/>
                </a:lnTo>
                <a:lnTo>
                  <a:pt x="617" y="115"/>
                </a:lnTo>
                <a:lnTo>
                  <a:pt x="656" y="67"/>
                </a:lnTo>
                <a:lnTo>
                  <a:pt x="570" y="0"/>
                </a:lnTo>
                <a:lnTo>
                  <a:pt x="536" y="15"/>
                </a:lnTo>
                <a:lnTo>
                  <a:pt x="536" y="15"/>
                </a:lnTo>
                <a:lnTo>
                  <a:pt x="536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64"/>
          <p:cNvSpPr/>
          <p:nvPr/>
        </p:nvSpPr>
        <p:spPr>
          <a:xfrm>
            <a:off x="2886120" y="2417760"/>
            <a:ext cx="909720" cy="1292400"/>
          </a:xfrm>
          <a:custGeom>
            <a:avLst/>
            <a:gdLst>
              <a:gd name="textAreaLeft" fmla="*/ 0 w 909720"/>
              <a:gd name="textAreaRight" fmla="*/ 910080 w 90972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573" h="814">
                <a:moveTo>
                  <a:pt x="320" y="0"/>
                </a:moveTo>
                <a:lnTo>
                  <a:pt x="320" y="134"/>
                </a:lnTo>
                <a:lnTo>
                  <a:pt x="268" y="234"/>
                </a:lnTo>
                <a:lnTo>
                  <a:pt x="172" y="311"/>
                </a:lnTo>
                <a:lnTo>
                  <a:pt x="138" y="272"/>
                </a:lnTo>
                <a:lnTo>
                  <a:pt x="104" y="349"/>
                </a:lnTo>
                <a:lnTo>
                  <a:pt x="81" y="412"/>
                </a:lnTo>
                <a:lnTo>
                  <a:pt x="38" y="455"/>
                </a:lnTo>
                <a:lnTo>
                  <a:pt x="5" y="508"/>
                </a:lnTo>
                <a:lnTo>
                  <a:pt x="0" y="546"/>
                </a:lnTo>
                <a:lnTo>
                  <a:pt x="10" y="583"/>
                </a:lnTo>
                <a:lnTo>
                  <a:pt x="43" y="632"/>
                </a:lnTo>
                <a:lnTo>
                  <a:pt x="81" y="665"/>
                </a:lnTo>
                <a:lnTo>
                  <a:pt x="71" y="622"/>
                </a:lnTo>
                <a:lnTo>
                  <a:pt x="81" y="583"/>
                </a:lnTo>
                <a:lnTo>
                  <a:pt x="114" y="569"/>
                </a:lnTo>
                <a:lnTo>
                  <a:pt x="162" y="560"/>
                </a:lnTo>
                <a:lnTo>
                  <a:pt x="196" y="541"/>
                </a:lnTo>
                <a:lnTo>
                  <a:pt x="234" y="513"/>
                </a:lnTo>
                <a:lnTo>
                  <a:pt x="210" y="569"/>
                </a:lnTo>
                <a:lnTo>
                  <a:pt x="167" y="608"/>
                </a:lnTo>
                <a:lnTo>
                  <a:pt x="133" y="646"/>
                </a:lnTo>
                <a:lnTo>
                  <a:pt x="128" y="695"/>
                </a:lnTo>
                <a:lnTo>
                  <a:pt x="66" y="747"/>
                </a:lnTo>
                <a:lnTo>
                  <a:pt x="38" y="785"/>
                </a:lnTo>
                <a:lnTo>
                  <a:pt x="24" y="814"/>
                </a:lnTo>
                <a:lnTo>
                  <a:pt x="392" y="814"/>
                </a:lnTo>
                <a:lnTo>
                  <a:pt x="473" y="794"/>
                </a:lnTo>
                <a:lnTo>
                  <a:pt x="507" y="766"/>
                </a:lnTo>
                <a:lnTo>
                  <a:pt x="478" y="742"/>
                </a:lnTo>
                <a:lnTo>
                  <a:pt x="459" y="695"/>
                </a:lnTo>
                <a:lnTo>
                  <a:pt x="468" y="617"/>
                </a:lnTo>
                <a:lnTo>
                  <a:pt x="497" y="670"/>
                </a:lnTo>
                <a:lnTo>
                  <a:pt x="497" y="599"/>
                </a:lnTo>
                <a:lnTo>
                  <a:pt x="526" y="541"/>
                </a:lnTo>
                <a:lnTo>
                  <a:pt x="573" y="445"/>
                </a:lnTo>
                <a:lnTo>
                  <a:pt x="573" y="377"/>
                </a:lnTo>
                <a:lnTo>
                  <a:pt x="549" y="306"/>
                </a:lnTo>
                <a:lnTo>
                  <a:pt x="507" y="239"/>
                </a:lnTo>
                <a:lnTo>
                  <a:pt x="388" y="177"/>
                </a:lnTo>
                <a:lnTo>
                  <a:pt x="411" y="267"/>
                </a:lnTo>
                <a:lnTo>
                  <a:pt x="421" y="316"/>
                </a:lnTo>
                <a:lnTo>
                  <a:pt x="402" y="377"/>
                </a:lnTo>
                <a:lnTo>
                  <a:pt x="363" y="455"/>
                </a:lnTo>
                <a:lnTo>
                  <a:pt x="348" y="550"/>
                </a:lnTo>
                <a:lnTo>
                  <a:pt x="325" y="469"/>
                </a:lnTo>
                <a:lnTo>
                  <a:pt x="325" y="402"/>
                </a:lnTo>
                <a:lnTo>
                  <a:pt x="363" y="297"/>
                </a:lnTo>
                <a:lnTo>
                  <a:pt x="363" y="182"/>
                </a:lnTo>
                <a:lnTo>
                  <a:pt x="353" y="86"/>
                </a:lnTo>
                <a:lnTo>
                  <a:pt x="320" y="0"/>
                </a:lnTo>
                <a:lnTo>
                  <a:pt x="32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65"/>
          <p:cNvSpPr/>
          <p:nvPr/>
        </p:nvSpPr>
        <p:spPr>
          <a:xfrm>
            <a:off x="2841480" y="2195640"/>
            <a:ext cx="195480" cy="1065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065240"/>
              <a:gd name="textAreaBottom" fmla="*/ 1065240 h 1065240"/>
            </a:gdLst>
            <a:ahLst/>
            <a:rect l="textAreaLeft" t="textAreaTop" r="textAreaRight" b="textAreaBottom"/>
            <a:pathLst>
              <a:path w="123" h="671">
                <a:moveTo>
                  <a:pt x="52" y="0"/>
                </a:moveTo>
                <a:lnTo>
                  <a:pt x="61" y="39"/>
                </a:lnTo>
                <a:lnTo>
                  <a:pt x="123" y="82"/>
                </a:lnTo>
                <a:lnTo>
                  <a:pt x="76" y="101"/>
                </a:lnTo>
                <a:lnTo>
                  <a:pt x="52" y="168"/>
                </a:lnTo>
                <a:lnTo>
                  <a:pt x="43" y="236"/>
                </a:lnTo>
                <a:lnTo>
                  <a:pt x="33" y="297"/>
                </a:lnTo>
                <a:lnTo>
                  <a:pt x="43" y="345"/>
                </a:lnTo>
                <a:lnTo>
                  <a:pt x="71" y="422"/>
                </a:lnTo>
                <a:lnTo>
                  <a:pt x="113" y="461"/>
                </a:lnTo>
                <a:lnTo>
                  <a:pt x="76" y="537"/>
                </a:lnTo>
                <a:lnTo>
                  <a:pt x="33" y="614"/>
                </a:lnTo>
                <a:lnTo>
                  <a:pt x="13" y="671"/>
                </a:lnTo>
                <a:lnTo>
                  <a:pt x="13" y="595"/>
                </a:lnTo>
                <a:lnTo>
                  <a:pt x="38" y="537"/>
                </a:lnTo>
                <a:lnTo>
                  <a:pt x="3" y="432"/>
                </a:lnTo>
                <a:lnTo>
                  <a:pt x="0" y="317"/>
                </a:lnTo>
                <a:lnTo>
                  <a:pt x="0" y="222"/>
                </a:lnTo>
                <a:lnTo>
                  <a:pt x="38" y="116"/>
                </a:lnTo>
                <a:lnTo>
                  <a:pt x="57" y="77"/>
                </a:lnTo>
                <a:lnTo>
                  <a:pt x="43" y="39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66"/>
          <p:cNvSpPr/>
          <p:nvPr/>
        </p:nvSpPr>
        <p:spPr>
          <a:xfrm>
            <a:off x="2862360" y="3397320"/>
            <a:ext cx="152280" cy="280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96" h="177">
                <a:moveTo>
                  <a:pt x="10" y="0"/>
                </a:moveTo>
                <a:lnTo>
                  <a:pt x="34" y="48"/>
                </a:lnTo>
                <a:lnTo>
                  <a:pt x="96" y="87"/>
                </a:lnTo>
                <a:lnTo>
                  <a:pt x="39" y="177"/>
                </a:lnTo>
                <a:lnTo>
                  <a:pt x="20" y="130"/>
                </a:lnTo>
                <a:lnTo>
                  <a:pt x="0" y="53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7"/>
          <p:cNvSpPr/>
          <p:nvPr/>
        </p:nvSpPr>
        <p:spPr>
          <a:xfrm>
            <a:off x="4192560" y="212256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4" y="3"/>
                </a:moveTo>
                <a:lnTo>
                  <a:pt x="18" y="0"/>
                </a:lnTo>
                <a:lnTo>
                  <a:pt x="26" y="8"/>
                </a:lnTo>
                <a:lnTo>
                  <a:pt x="22" y="20"/>
                </a:lnTo>
                <a:lnTo>
                  <a:pt x="6" y="20"/>
                </a:lnTo>
                <a:lnTo>
                  <a:pt x="0" y="14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68"/>
          <p:cNvSpPr/>
          <p:nvPr/>
        </p:nvSpPr>
        <p:spPr>
          <a:xfrm>
            <a:off x="5011560" y="1963800"/>
            <a:ext cx="38160" cy="34920"/>
          </a:xfrm>
          <a:custGeom>
            <a:avLst/>
            <a:gdLst>
              <a:gd name="textAreaLeft" fmla="*/ 0 w 38160"/>
              <a:gd name="textAreaRight" fmla="*/ 38520 w 381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4" h="22">
                <a:moveTo>
                  <a:pt x="0" y="18"/>
                </a:moveTo>
                <a:lnTo>
                  <a:pt x="2" y="3"/>
                </a:lnTo>
                <a:lnTo>
                  <a:pt x="11" y="0"/>
                </a:lnTo>
                <a:lnTo>
                  <a:pt x="20" y="5"/>
                </a:lnTo>
                <a:lnTo>
                  <a:pt x="24" y="12"/>
                </a:lnTo>
                <a:lnTo>
                  <a:pt x="24" y="18"/>
                </a:lnTo>
                <a:lnTo>
                  <a:pt x="15" y="22"/>
                </a:lnTo>
                <a:lnTo>
                  <a:pt x="7" y="21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69"/>
          <p:cNvSpPr/>
          <p:nvPr/>
        </p:nvSpPr>
        <p:spPr>
          <a:xfrm>
            <a:off x="4221000" y="1185840"/>
            <a:ext cx="833760" cy="666720"/>
          </a:xfrm>
          <a:custGeom>
            <a:avLst/>
            <a:gdLst>
              <a:gd name="textAreaLeft" fmla="*/ 0 w 833760"/>
              <a:gd name="textAreaRight" fmla="*/ 834120 w 8337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525" h="420">
                <a:moveTo>
                  <a:pt x="99" y="409"/>
                </a:moveTo>
                <a:lnTo>
                  <a:pt x="25" y="384"/>
                </a:lnTo>
                <a:lnTo>
                  <a:pt x="0" y="342"/>
                </a:lnTo>
                <a:lnTo>
                  <a:pt x="0" y="285"/>
                </a:lnTo>
                <a:lnTo>
                  <a:pt x="36" y="201"/>
                </a:lnTo>
                <a:lnTo>
                  <a:pt x="95" y="102"/>
                </a:lnTo>
                <a:lnTo>
                  <a:pt x="177" y="43"/>
                </a:lnTo>
                <a:lnTo>
                  <a:pt x="252" y="3"/>
                </a:lnTo>
                <a:lnTo>
                  <a:pt x="339" y="0"/>
                </a:lnTo>
                <a:lnTo>
                  <a:pt x="384" y="15"/>
                </a:lnTo>
                <a:lnTo>
                  <a:pt x="457" y="57"/>
                </a:lnTo>
                <a:lnTo>
                  <a:pt x="493" y="114"/>
                </a:lnTo>
                <a:lnTo>
                  <a:pt x="525" y="187"/>
                </a:lnTo>
                <a:lnTo>
                  <a:pt x="525" y="240"/>
                </a:lnTo>
                <a:lnTo>
                  <a:pt x="507" y="290"/>
                </a:lnTo>
                <a:lnTo>
                  <a:pt x="455" y="324"/>
                </a:lnTo>
                <a:lnTo>
                  <a:pt x="395" y="328"/>
                </a:lnTo>
                <a:lnTo>
                  <a:pt x="334" y="364"/>
                </a:lnTo>
                <a:lnTo>
                  <a:pt x="278" y="402"/>
                </a:lnTo>
                <a:lnTo>
                  <a:pt x="197" y="420"/>
                </a:lnTo>
                <a:lnTo>
                  <a:pt x="99" y="409"/>
                </a:lnTo>
                <a:lnTo>
                  <a:pt x="99" y="409"/>
                </a:lnTo>
                <a:lnTo>
                  <a:pt x="99" y="40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70"/>
          <p:cNvSpPr/>
          <p:nvPr/>
        </p:nvSpPr>
        <p:spPr>
          <a:xfrm>
            <a:off x="4552920" y="2062080"/>
            <a:ext cx="155520" cy="455760"/>
          </a:xfrm>
          <a:custGeom>
            <a:avLst/>
            <a:gdLst>
              <a:gd name="textAreaLeft" fmla="*/ 0 w 155520"/>
              <a:gd name="textAreaRight" fmla="*/ 155880 w 15552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8" h="287">
                <a:moveTo>
                  <a:pt x="13" y="0"/>
                </a:moveTo>
                <a:lnTo>
                  <a:pt x="0" y="58"/>
                </a:lnTo>
                <a:lnTo>
                  <a:pt x="18" y="108"/>
                </a:lnTo>
                <a:lnTo>
                  <a:pt x="31" y="164"/>
                </a:lnTo>
                <a:lnTo>
                  <a:pt x="26" y="226"/>
                </a:lnTo>
                <a:lnTo>
                  <a:pt x="38" y="273"/>
                </a:lnTo>
                <a:lnTo>
                  <a:pt x="60" y="287"/>
                </a:lnTo>
                <a:lnTo>
                  <a:pt x="85" y="287"/>
                </a:lnTo>
                <a:lnTo>
                  <a:pt x="98" y="251"/>
                </a:lnTo>
                <a:lnTo>
                  <a:pt x="81" y="200"/>
                </a:lnTo>
                <a:lnTo>
                  <a:pt x="56" y="134"/>
                </a:lnTo>
                <a:lnTo>
                  <a:pt x="56" y="75"/>
                </a:lnTo>
                <a:lnTo>
                  <a:pt x="45" y="12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71"/>
          <p:cNvSpPr/>
          <p:nvPr/>
        </p:nvSpPr>
        <p:spPr>
          <a:xfrm>
            <a:off x="4516560" y="2490840"/>
            <a:ext cx="85680" cy="57240"/>
          </a:xfrm>
          <a:custGeom>
            <a:avLst/>
            <a:gdLst>
              <a:gd name="textAreaLeft" fmla="*/ 0 w 85680"/>
              <a:gd name="textAreaRight" fmla="*/ 85680 w 85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4" h="36">
                <a:moveTo>
                  <a:pt x="0" y="29"/>
                </a:moveTo>
                <a:lnTo>
                  <a:pt x="5" y="6"/>
                </a:lnTo>
                <a:lnTo>
                  <a:pt x="29" y="0"/>
                </a:lnTo>
                <a:lnTo>
                  <a:pt x="54" y="29"/>
                </a:lnTo>
                <a:lnTo>
                  <a:pt x="29" y="36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72"/>
          <p:cNvSpPr/>
          <p:nvPr/>
        </p:nvSpPr>
        <p:spPr>
          <a:xfrm>
            <a:off x="3959280" y="2254320"/>
            <a:ext cx="485640" cy="399960"/>
          </a:xfrm>
          <a:custGeom>
            <a:avLst/>
            <a:gdLst>
              <a:gd name="textAreaLeft" fmla="*/ 0 w 485640"/>
              <a:gd name="textAreaRight" fmla="*/ 486000 w 485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306" h="252">
                <a:moveTo>
                  <a:pt x="0" y="97"/>
                </a:moveTo>
                <a:lnTo>
                  <a:pt x="15" y="68"/>
                </a:lnTo>
                <a:lnTo>
                  <a:pt x="36" y="50"/>
                </a:lnTo>
                <a:lnTo>
                  <a:pt x="85" y="36"/>
                </a:lnTo>
                <a:lnTo>
                  <a:pt x="134" y="36"/>
                </a:lnTo>
                <a:lnTo>
                  <a:pt x="208" y="32"/>
                </a:lnTo>
                <a:lnTo>
                  <a:pt x="262" y="11"/>
                </a:lnTo>
                <a:lnTo>
                  <a:pt x="306" y="0"/>
                </a:lnTo>
                <a:lnTo>
                  <a:pt x="295" y="66"/>
                </a:lnTo>
                <a:lnTo>
                  <a:pt x="270" y="122"/>
                </a:lnTo>
                <a:lnTo>
                  <a:pt x="226" y="178"/>
                </a:lnTo>
                <a:lnTo>
                  <a:pt x="165" y="214"/>
                </a:lnTo>
                <a:lnTo>
                  <a:pt x="130" y="246"/>
                </a:lnTo>
                <a:lnTo>
                  <a:pt x="89" y="252"/>
                </a:lnTo>
                <a:lnTo>
                  <a:pt x="49" y="227"/>
                </a:lnTo>
                <a:lnTo>
                  <a:pt x="18" y="191"/>
                </a:lnTo>
                <a:lnTo>
                  <a:pt x="4" y="142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73"/>
          <p:cNvSpPr/>
          <p:nvPr/>
        </p:nvSpPr>
        <p:spPr>
          <a:xfrm>
            <a:off x="4937040" y="2068560"/>
            <a:ext cx="493920" cy="388800"/>
          </a:xfrm>
          <a:custGeom>
            <a:avLst/>
            <a:gdLst>
              <a:gd name="textAreaLeft" fmla="*/ 0 w 493920"/>
              <a:gd name="textAreaRight" fmla="*/ 494280 w 4939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311" h="245">
                <a:moveTo>
                  <a:pt x="4" y="50"/>
                </a:moveTo>
                <a:lnTo>
                  <a:pt x="71" y="54"/>
                </a:lnTo>
                <a:lnTo>
                  <a:pt x="127" y="50"/>
                </a:lnTo>
                <a:lnTo>
                  <a:pt x="188" y="30"/>
                </a:lnTo>
                <a:lnTo>
                  <a:pt x="232" y="0"/>
                </a:lnTo>
                <a:lnTo>
                  <a:pt x="262" y="0"/>
                </a:lnTo>
                <a:lnTo>
                  <a:pt x="300" y="41"/>
                </a:lnTo>
                <a:lnTo>
                  <a:pt x="311" y="92"/>
                </a:lnTo>
                <a:lnTo>
                  <a:pt x="311" y="165"/>
                </a:lnTo>
                <a:lnTo>
                  <a:pt x="302" y="203"/>
                </a:lnTo>
                <a:lnTo>
                  <a:pt x="269" y="241"/>
                </a:lnTo>
                <a:lnTo>
                  <a:pt x="208" y="245"/>
                </a:lnTo>
                <a:lnTo>
                  <a:pt x="148" y="222"/>
                </a:lnTo>
                <a:lnTo>
                  <a:pt x="85" y="191"/>
                </a:lnTo>
                <a:lnTo>
                  <a:pt x="36" y="153"/>
                </a:lnTo>
                <a:lnTo>
                  <a:pt x="6" y="117"/>
                </a:lnTo>
                <a:lnTo>
                  <a:pt x="0" y="92"/>
                </a:lnTo>
                <a:lnTo>
                  <a:pt x="4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74"/>
          <p:cNvSpPr/>
          <p:nvPr/>
        </p:nvSpPr>
        <p:spPr>
          <a:xfrm>
            <a:off x="4624560" y="3164040"/>
            <a:ext cx="485640" cy="223560"/>
          </a:xfrm>
          <a:custGeom>
            <a:avLst/>
            <a:gdLst>
              <a:gd name="textAreaLeft" fmla="*/ 0 w 485640"/>
              <a:gd name="textAreaRight" fmla="*/ 486000 w 48564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306" h="141">
                <a:moveTo>
                  <a:pt x="17" y="87"/>
                </a:moveTo>
                <a:lnTo>
                  <a:pt x="47" y="120"/>
                </a:lnTo>
                <a:lnTo>
                  <a:pt x="97" y="141"/>
                </a:lnTo>
                <a:lnTo>
                  <a:pt x="146" y="141"/>
                </a:lnTo>
                <a:lnTo>
                  <a:pt x="201" y="130"/>
                </a:lnTo>
                <a:lnTo>
                  <a:pt x="243" y="98"/>
                </a:lnTo>
                <a:lnTo>
                  <a:pt x="292" y="49"/>
                </a:lnTo>
                <a:lnTo>
                  <a:pt x="306" y="13"/>
                </a:lnTo>
                <a:lnTo>
                  <a:pt x="268" y="0"/>
                </a:lnTo>
                <a:lnTo>
                  <a:pt x="221" y="18"/>
                </a:lnTo>
                <a:lnTo>
                  <a:pt x="166" y="54"/>
                </a:lnTo>
                <a:lnTo>
                  <a:pt x="105" y="71"/>
                </a:lnTo>
                <a:lnTo>
                  <a:pt x="49" y="67"/>
                </a:lnTo>
                <a:lnTo>
                  <a:pt x="0" y="62"/>
                </a:lnTo>
                <a:lnTo>
                  <a:pt x="17" y="87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75"/>
          <p:cNvSpPr/>
          <p:nvPr/>
        </p:nvSpPr>
        <p:spPr>
          <a:xfrm>
            <a:off x="4484520" y="2714760"/>
            <a:ext cx="196920" cy="85680"/>
          </a:xfrm>
          <a:custGeom>
            <a:avLst/>
            <a:gdLst>
              <a:gd name="textAreaLeft" fmla="*/ 0 w 196920"/>
              <a:gd name="textAreaRight" fmla="*/ 197280 w 1969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24" h="54">
                <a:moveTo>
                  <a:pt x="7" y="54"/>
                </a:moveTo>
                <a:lnTo>
                  <a:pt x="74" y="29"/>
                </a:lnTo>
                <a:lnTo>
                  <a:pt x="124" y="18"/>
                </a:lnTo>
                <a:lnTo>
                  <a:pt x="81" y="0"/>
                </a:lnTo>
                <a:lnTo>
                  <a:pt x="38" y="0"/>
                </a:lnTo>
                <a:lnTo>
                  <a:pt x="0" y="29"/>
                </a:lnTo>
                <a:lnTo>
                  <a:pt x="7" y="54"/>
                </a:lnTo>
                <a:lnTo>
                  <a:pt x="7" y="54"/>
                </a:lnTo>
                <a:lnTo>
                  <a:pt x="7" y="54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76"/>
          <p:cNvSpPr/>
          <p:nvPr/>
        </p:nvSpPr>
        <p:spPr>
          <a:xfrm>
            <a:off x="3976560" y="2009880"/>
            <a:ext cx="177840" cy="123840"/>
          </a:xfrm>
          <a:custGeom>
            <a:avLst/>
            <a:gdLst>
              <a:gd name="textAreaLeft" fmla="*/ 0 w 177840"/>
              <a:gd name="textAreaRight" fmla="*/ 177840 w 177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12" h="78">
                <a:moveTo>
                  <a:pt x="0" y="65"/>
                </a:moveTo>
                <a:lnTo>
                  <a:pt x="0" y="42"/>
                </a:lnTo>
                <a:lnTo>
                  <a:pt x="17" y="18"/>
                </a:lnTo>
                <a:lnTo>
                  <a:pt x="53" y="0"/>
                </a:lnTo>
                <a:lnTo>
                  <a:pt x="91" y="5"/>
                </a:lnTo>
                <a:lnTo>
                  <a:pt x="112" y="18"/>
                </a:lnTo>
                <a:lnTo>
                  <a:pt x="42" y="49"/>
                </a:lnTo>
                <a:lnTo>
                  <a:pt x="4" y="78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7"/>
          <p:cNvSpPr/>
          <p:nvPr/>
        </p:nvSpPr>
        <p:spPr>
          <a:xfrm rot="2926200">
            <a:off x="3306240" y="3668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8"/>
          <p:cNvSpPr/>
          <p:nvPr/>
        </p:nvSpPr>
        <p:spPr>
          <a:xfrm rot="1699800">
            <a:off x="3551040" y="3862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9"/>
          <p:cNvSpPr/>
          <p:nvPr/>
        </p:nvSpPr>
        <p:spPr>
          <a:xfrm rot="781800">
            <a:off x="3882600" y="3983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0"/>
          <p:cNvSpPr/>
          <p:nvPr/>
        </p:nvSpPr>
        <p:spPr>
          <a:xfrm rot="563400">
            <a:off x="4192200" y="4041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1"/>
          <p:cNvSpPr/>
          <p:nvPr/>
        </p:nvSpPr>
        <p:spPr>
          <a:xfrm rot="273600">
            <a:off x="4543200" y="4084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2"/>
          <p:cNvSpPr/>
          <p:nvPr/>
        </p:nvSpPr>
        <p:spPr>
          <a:xfrm rot="21552600">
            <a:off x="5014800" y="4093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3"/>
          <p:cNvSpPr/>
          <p:nvPr/>
        </p:nvSpPr>
        <p:spPr>
          <a:xfrm rot="21330000">
            <a:off x="5367240" y="4071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4"/>
          <p:cNvSpPr/>
          <p:nvPr/>
        </p:nvSpPr>
        <p:spPr>
          <a:xfrm rot="21244800">
            <a:off x="5524560" y="4053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5"/>
          <p:cNvSpPr/>
          <p:nvPr/>
        </p:nvSpPr>
        <p:spPr>
          <a:xfrm rot="20866800">
            <a:off x="5873760" y="3995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6"/>
          <p:cNvSpPr/>
          <p:nvPr/>
        </p:nvSpPr>
        <p:spPr>
          <a:xfrm rot="20562000">
            <a:off x="6024600" y="3954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7"/>
          <p:cNvSpPr/>
          <p:nvPr/>
        </p:nvSpPr>
        <p:spPr>
          <a:xfrm rot="19930200">
            <a:off x="6350040" y="3816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8"/>
          <p:cNvSpPr/>
          <p:nvPr/>
        </p:nvSpPr>
        <p:spPr>
          <a:xfrm rot="18729000">
            <a:off x="6475320" y="3722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9"/>
          <p:cNvSpPr/>
          <p:nvPr/>
        </p:nvSpPr>
        <p:spPr>
          <a:xfrm rot="15335400">
            <a:off x="6432120" y="3385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0"/>
          <p:cNvSpPr/>
          <p:nvPr/>
        </p:nvSpPr>
        <p:spPr>
          <a:xfrm rot="15335400">
            <a:off x="6347880" y="308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1"/>
          <p:cNvSpPr/>
          <p:nvPr/>
        </p:nvSpPr>
        <p:spPr>
          <a:xfrm rot="1418400">
            <a:off x="2927160" y="4398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92"/>
          <p:cNvSpPr/>
          <p:nvPr/>
        </p:nvSpPr>
        <p:spPr>
          <a:xfrm rot="1275600">
            <a:off x="3266640" y="4535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3"/>
          <p:cNvSpPr/>
          <p:nvPr/>
        </p:nvSpPr>
        <p:spPr>
          <a:xfrm rot="764400">
            <a:off x="3601800" y="4649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4"/>
          <p:cNvSpPr/>
          <p:nvPr/>
        </p:nvSpPr>
        <p:spPr>
          <a:xfrm rot="514200">
            <a:off x="4065120" y="4734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5"/>
          <p:cNvSpPr/>
          <p:nvPr/>
        </p:nvSpPr>
        <p:spPr>
          <a:xfrm rot="296400">
            <a:off x="4417560" y="4776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6"/>
          <p:cNvSpPr/>
          <p:nvPr/>
        </p:nvSpPr>
        <p:spPr>
          <a:xfrm rot="135600">
            <a:off x="4573080" y="4786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7"/>
          <p:cNvSpPr/>
          <p:nvPr/>
        </p:nvSpPr>
        <p:spPr>
          <a:xfrm rot="21552000">
            <a:off x="4927680" y="47858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8"/>
          <p:cNvSpPr/>
          <p:nvPr/>
        </p:nvSpPr>
        <p:spPr>
          <a:xfrm rot="21399600">
            <a:off x="5241960" y="4770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9"/>
          <p:cNvSpPr/>
          <p:nvPr/>
        </p:nvSpPr>
        <p:spPr>
          <a:xfrm rot="21220800">
            <a:off x="5594400" y="4733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0"/>
          <p:cNvSpPr/>
          <p:nvPr/>
        </p:nvSpPr>
        <p:spPr>
          <a:xfrm rot="21023400">
            <a:off x="5905440" y="4684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01"/>
          <p:cNvSpPr/>
          <p:nvPr/>
        </p:nvSpPr>
        <p:spPr>
          <a:xfrm rot="20796000">
            <a:off x="6249960" y="460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"/>
          <p:cNvSpPr/>
          <p:nvPr/>
        </p:nvSpPr>
        <p:spPr>
          <a:xfrm rot="20302200">
            <a:off x="6524640" y="452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-19080" y="-130320"/>
            <a:ext cx="9802800" cy="7199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954000" y="1341360"/>
            <a:ext cx="826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Eligió a unas pocas perso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954000" y="476280"/>
            <a:ext cx="7139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MÉTODO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954000" y="2133720"/>
            <a:ext cx="826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Las invitó a seguir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954000" y="2863800"/>
            <a:ext cx="8267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40464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llas fueron en busca de sus parientes y conoc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954000" y="4221000"/>
            <a:ext cx="826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Los trajeron a Cri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954000" y="5091120"/>
            <a:ext cx="826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404640"/>
                <a:tab algn="l" pos="81108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view and Heral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8-12- 188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240" y="-152280"/>
            <a:ext cx="9804240" cy="7197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 rot="5340000">
            <a:off x="1953720" y="2684160"/>
            <a:ext cx="1133280" cy="1133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"/>
          <p:cNvSpPr/>
          <p:nvPr/>
        </p:nvSpPr>
        <p:spPr>
          <a:xfrm rot="5340000">
            <a:off x="4261680" y="2701800"/>
            <a:ext cx="1133640" cy="1133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6"/>
          <p:cNvSpPr/>
          <p:nvPr/>
        </p:nvSpPr>
        <p:spPr>
          <a:xfrm>
            <a:off x="3132000" y="3300480"/>
            <a:ext cx="1222560" cy="3492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770" h="22">
                <a:moveTo>
                  <a:pt x="0" y="0"/>
                </a:moveTo>
                <a:lnTo>
                  <a:pt x="22" y="22"/>
                </a:lnTo>
                <a:lnTo>
                  <a:pt x="0" y="0"/>
                </a:lnTo>
                <a:lnTo>
                  <a:pt x="770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1773360" y="3106800"/>
            <a:ext cx="1528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Jesú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4245120" y="3110040"/>
            <a:ext cx="1253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elip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"/>
          <p:cNvSpPr/>
          <p:nvPr/>
        </p:nvSpPr>
        <p:spPr>
          <a:xfrm rot="5340000">
            <a:off x="6636960" y="2684160"/>
            <a:ext cx="1133280" cy="113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0"/>
          <p:cNvSpPr/>
          <p:nvPr/>
        </p:nvSpPr>
        <p:spPr>
          <a:xfrm>
            <a:off x="5405400" y="3300480"/>
            <a:ext cx="1255680" cy="360"/>
          </a:xfrm>
          <a:custGeom>
            <a:avLst/>
            <a:gdLst/>
            <a:ahLst/>
            <a:rect l="l" t="t" r="r" b="b"/>
            <a:pathLst>
              <a:path w="791" h="0">
                <a:moveTo>
                  <a:pt x="0" y="0"/>
                </a:moveTo>
                <a:lnTo>
                  <a:pt x="791" y="0"/>
                </a:ln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6454800" y="3139920"/>
            <a:ext cx="1611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an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4159080" y="4121280"/>
            <a:ext cx="15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n 1:45-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2073240" y="4121280"/>
            <a:ext cx="119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e0c0"/>
                </a:solidFill>
                <a:latin typeface="Arial"/>
              </a:rPr>
              <a:t>Jn 1: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2556000" y="736560"/>
            <a:ext cx="6912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04920"/>
                <a:tab algn="l" pos="609480"/>
                <a:tab algn="l" pos="91440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 laico sin experiencia le di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 testimonio a un am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6"/>
          <p:cNvSpPr/>
          <p:nvPr/>
        </p:nvSpPr>
        <p:spPr>
          <a:xfrm>
            <a:off x="4608360" y="1905120"/>
            <a:ext cx="184320" cy="865080"/>
          </a:xfrm>
          <a:custGeom>
            <a:avLst/>
            <a:gdLst>
              <a:gd name="textAreaLeft" fmla="*/ 0 w 184320"/>
              <a:gd name="textAreaRight" fmla="*/ 184680 w 1843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16" h="545">
                <a:moveTo>
                  <a:pt x="116" y="545"/>
                </a:moveTo>
                <a:lnTo>
                  <a:pt x="0" y="0"/>
                </a:lnTo>
              </a:path>
            </a:pathLst>
          </a:custGeom>
          <a:noFill/>
          <a:ln w="500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7"/>
          <p:cNvSpPr/>
          <p:nvPr/>
        </p:nvSpPr>
        <p:spPr>
          <a:xfrm>
            <a:off x="4516560" y="1811160"/>
            <a:ext cx="185760" cy="865440"/>
          </a:xfrm>
          <a:custGeom>
            <a:avLst/>
            <a:gdLst>
              <a:gd name="textAreaLeft" fmla="*/ 0 w 185760"/>
              <a:gd name="textAreaRight" fmla="*/ 186120 w 1857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17" h="545">
                <a:moveTo>
                  <a:pt x="117" y="545"/>
                </a:moveTo>
                <a:lnTo>
                  <a:pt x="0" y="0"/>
                </a:lnTo>
              </a:path>
            </a:pathLst>
          </a:custGeom>
          <a:noFill/>
          <a:ln w="50040">
            <a:solidFill>
              <a:srgbClr val="ffff9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8"/>
          <p:cNvSpPr/>
          <p:nvPr/>
        </p:nvSpPr>
        <p:spPr>
          <a:xfrm>
            <a:off x="7418520" y="2239920"/>
            <a:ext cx="393480" cy="492120"/>
          </a:xfrm>
          <a:custGeom>
            <a:avLst/>
            <a:gdLst>
              <a:gd name="textAreaLeft" fmla="*/ 0 w 393480"/>
              <a:gd name="textAreaRight" fmla="*/ 393840 w 3934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8" h="310">
                <a:moveTo>
                  <a:pt x="0" y="310"/>
                </a:moveTo>
                <a:lnTo>
                  <a:pt x="248" y="0"/>
                </a:lnTo>
              </a:path>
            </a:pathLst>
          </a:custGeom>
          <a:noFill/>
          <a:ln w="500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9"/>
          <p:cNvSpPr/>
          <p:nvPr/>
        </p:nvSpPr>
        <p:spPr>
          <a:xfrm>
            <a:off x="7326360" y="2149560"/>
            <a:ext cx="395280" cy="490320"/>
          </a:xfrm>
          <a:custGeom>
            <a:avLst/>
            <a:gdLst>
              <a:gd name="textAreaLeft" fmla="*/ 0 w 395280"/>
              <a:gd name="textAreaRight" fmla="*/ 395640 w 39528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249" h="309">
                <a:moveTo>
                  <a:pt x="0" y="309"/>
                </a:moveTo>
                <a:lnTo>
                  <a:pt x="249" y="0"/>
                </a:lnTo>
              </a:path>
            </a:pathLst>
          </a:custGeom>
          <a:noFill/>
          <a:ln w="50040">
            <a:solidFill>
              <a:srgbClr val="ffff9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Toala</cp:lastModifiedBy>
  <dcterms:modified xsi:type="dcterms:W3CDTF">2011-07-26T19:18:07Z</dcterms:modified>
  <cp:revision>2</cp:revision>
  <dc:subject/>
  <dc:title>Diapositiva 1</dc:title>
</cp:coreProperties>
</file>