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-345960"/>
            <a:ext cx="9774360" cy="736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-79200" y="1176480"/>
            <a:ext cx="9932760" cy="1076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14280" y="1584360"/>
            <a:ext cx="919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l proceso de la test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2120" y="1490760"/>
            <a:ext cx="919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l proceso de la test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-4680" y="237960"/>
            <a:ext cx="9775800" cy="6734520"/>
          </a:xfrm>
          <a:prstGeom prst="rect">
            <a:avLst/>
          </a:prstGeom>
          <a:ln w="0">
            <a:noFill/>
          </a:ln>
        </p:spPr>
      </p:pic>
      <p:sp>
        <p:nvSpPr>
          <p:cNvPr id="126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3635280" y="260280"/>
            <a:ext cx="5040360" cy="3529080"/>
          </a:xfrm>
          <a:prstGeom prst="rect">
            <a:avLst/>
          </a:prstGeom>
          <a:noFill/>
          <a:ln w="50040">
            <a:solidFill>
              <a:srgbClr val="ff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882960" y="765000"/>
            <a:ext cx="4865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sta gente busca soluciones y el evangelio las ti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-4680" y="237960"/>
            <a:ext cx="9775800" cy="6734520"/>
          </a:xfrm>
          <a:prstGeom prst="rect">
            <a:avLst/>
          </a:prstGeom>
          <a:ln w="0">
            <a:noFill/>
          </a:ln>
        </p:spPr>
      </p:pic>
      <p:sp>
        <p:nvSpPr>
          <p:cNvPr id="132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708360" y="1179360"/>
            <a:ext cx="6056280" cy="108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 rot="5340000">
            <a:off x="5070240" y="-1049040"/>
            <a:ext cx="2247840" cy="489888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 rot="5340000">
            <a:off x="3561840" y="1419120"/>
            <a:ext cx="285840" cy="36180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 rot="5340000">
            <a:off x="3342600" y="1521000"/>
            <a:ext cx="193680" cy="22860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361040" y="800280"/>
            <a:ext cx="36082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2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Qué hubiera hecho Jesús con esa 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395960" y="2719440"/>
            <a:ext cx="53290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35568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1. 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Los habría tratado como quien 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deseaba hacerles b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395960" y="5095800"/>
            <a:ext cx="521964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2000"/>
              </a:lnSpc>
              <a:spcBef>
                <a:spcPts val="1001"/>
              </a:spcBef>
              <a:tabLst>
                <a:tab algn="l" pos="0"/>
                <a:tab algn="l" pos="355680"/>
                <a:tab algn="l" pos="4626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2.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Les habría mostrado simpatía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-4680" y="237960"/>
            <a:ext cx="9775800" cy="673452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708360" y="1179360"/>
            <a:ext cx="6056280" cy="108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 rot="5340000">
            <a:off x="5070240" y="-1049040"/>
            <a:ext cx="2247840" cy="489888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"/>
          <p:cNvSpPr/>
          <p:nvPr/>
        </p:nvSpPr>
        <p:spPr>
          <a:xfrm rot="5340000">
            <a:off x="3561840" y="1419120"/>
            <a:ext cx="285840" cy="36180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9"/>
          <p:cNvSpPr/>
          <p:nvPr/>
        </p:nvSpPr>
        <p:spPr>
          <a:xfrm rot="5340000">
            <a:off x="3342600" y="1521000"/>
            <a:ext cx="193680" cy="22860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361040" y="800280"/>
            <a:ext cx="36082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2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Qué hubiera hecho Jesús con esa 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4395960" y="2708280"/>
            <a:ext cx="52290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35568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3.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Hubiese atendido sus            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neces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395960" y="4221000"/>
            <a:ext cx="532908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2000"/>
              </a:lnSpc>
              <a:spcBef>
                <a:spcPts val="1001"/>
              </a:spcBef>
              <a:tabLst>
                <a:tab algn="l" pos="0"/>
                <a:tab algn="l" pos="35568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4.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ffd8b2"/>
                </a:solidFill>
                <a:latin typeface="Arial Narrow"/>
              </a:rPr>
              <a:t>Se habría ganado su 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-4680" y="237960"/>
            <a:ext cx="9775800" cy="673452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708360" y="1179360"/>
            <a:ext cx="6056280" cy="108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 rot="5340000">
            <a:off x="5070240" y="-1049040"/>
            <a:ext cx="2247840" cy="489888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 rot="5340000">
            <a:off x="3561840" y="1419120"/>
            <a:ext cx="285840" cy="36180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 rot="5340000">
            <a:off x="3342600" y="1521000"/>
            <a:ext cx="193680" cy="22860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61040" y="800280"/>
            <a:ext cx="36082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2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Qué hubiera hecho Jesús con esa 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4395960" y="2852640"/>
            <a:ext cx="5074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spcBef>
                <a:spcPts val="901"/>
              </a:spcBef>
              <a:tabLst>
                <a:tab algn="l" pos="0"/>
                <a:tab algn="l" pos="35568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b0ffff"/>
                </a:solidFill>
                <a:latin typeface="Arial Narrow"/>
              </a:rPr>
              <a:t>5.</a:t>
            </a:r>
            <a:r>
              <a:rPr b="1" lang="en-US" sz="3600" spc="-1" strike="noStrike">
                <a:solidFill>
                  <a:srgbClr val="b0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b0ffff"/>
                </a:solidFill>
                <a:latin typeface="Arial Narrow"/>
              </a:rPr>
              <a:t>Entonces les habría dicho: Sigueme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-4680" y="237960"/>
            <a:ext cx="9775800" cy="6734520"/>
          </a:xfrm>
          <a:prstGeom prst="rect">
            <a:avLst/>
          </a:prstGeom>
          <a:ln w="0">
            <a:noFill/>
          </a:ln>
        </p:spPr>
      </p:pic>
      <p:sp>
        <p:nvSpPr>
          <p:cNvPr id="164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708360" y="1179360"/>
            <a:ext cx="6056280" cy="108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 rot="5340000">
            <a:off x="5070240" y="-1049040"/>
            <a:ext cx="2247840" cy="489888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/>
          <p:cNvSpPr/>
          <p:nvPr/>
        </p:nvSpPr>
        <p:spPr>
          <a:xfrm rot="5340000">
            <a:off x="3561840" y="1419120"/>
            <a:ext cx="285840" cy="36180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/>
          <p:cNvSpPr/>
          <p:nvPr/>
        </p:nvSpPr>
        <p:spPr>
          <a:xfrm rot="5340000">
            <a:off x="3342600" y="1521000"/>
            <a:ext cx="193680" cy="22860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954600" y="1173240"/>
            <a:ext cx="4468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2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6000"/>
                </a:solidFill>
                <a:latin typeface="Arial"/>
              </a:rPr>
              <a:t>Ve túy haz lo m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10088280" cy="695016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780000" y="476280"/>
            <a:ext cx="56451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 esto conocerán que sois mis discípulos, si tuvieses amor los unos por los 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4400" y="220680"/>
            <a:ext cx="1036800" cy="673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-447840"/>
            <a:ext cx="9736200" cy="730584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5"/>
          <p:cNvSpPr/>
          <p:nvPr/>
        </p:nvSpPr>
        <p:spPr>
          <a:xfrm>
            <a:off x="5729400" y="1211400"/>
            <a:ext cx="655560" cy="1038240"/>
          </a:xfrm>
          <a:custGeom>
            <a:avLst/>
            <a:gdLst>
              <a:gd name="textAreaLeft" fmla="*/ 0 w 655560"/>
              <a:gd name="textAreaRight" fmla="*/ 655920 w 65556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413" h="654">
                <a:moveTo>
                  <a:pt x="0" y="0"/>
                </a:moveTo>
                <a:lnTo>
                  <a:pt x="413" y="1"/>
                </a:lnTo>
                <a:lnTo>
                  <a:pt x="289" y="647"/>
                </a:lnTo>
                <a:lnTo>
                  <a:pt x="22" y="65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111111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4000" y="1125360"/>
            <a:ext cx="5742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Mi Padre hasta ahora trabaja y yo trabaj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5: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79280" y="2901960"/>
            <a:ext cx="640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elipe y el eunuco etí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79280" y="3693960"/>
            <a:ext cx="5720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dro y Corne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79280" y="4702320"/>
            <a:ext cx="5154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anías y Sa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08000" y="5640480"/>
            <a:ext cx="640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sa a Macedonia y ayúdano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179280" y="115920"/>
            <a:ext cx="5997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os guía la test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14400" y="220680"/>
            <a:ext cx="1036800" cy="673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758880" y="239760"/>
            <a:ext cx="8977320" cy="673560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5"/>
          <p:cNvSpPr/>
          <p:nvPr/>
        </p:nvSpPr>
        <p:spPr>
          <a:xfrm>
            <a:off x="5729400" y="1211400"/>
            <a:ext cx="655560" cy="1038240"/>
          </a:xfrm>
          <a:custGeom>
            <a:avLst/>
            <a:gdLst>
              <a:gd name="textAreaLeft" fmla="*/ 0 w 655560"/>
              <a:gd name="textAreaRight" fmla="*/ 655920 w 65556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413" h="654">
                <a:moveTo>
                  <a:pt x="0" y="0"/>
                </a:moveTo>
                <a:lnTo>
                  <a:pt x="413" y="1"/>
                </a:lnTo>
                <a:lnTo>
                  <a:pt x="289" y="647"/>
                </a:lnTo>
                <a:lnTo>
                  <a:pt x="22" y="65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111111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-36360" y="1214280"/>
            <a:ext cx="6192720" cy="1927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0" y="1338120"/>
            <a:ext cx="613872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Mi Padre hasta ahora trabaja y yo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: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79280" y="3573360"/>
            <a:ext cx="590076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a alma que Cristo rescató está llamada a trabajar en su nombre para la salva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 los perdidos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ervicio Cristiano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411120" y="260280"/>
            <a:ext cx="5997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os guía la test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-14400" y="220680"/>
            <a:ext cx="1036800" cy="673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758880" y="239760"/>
            <a:ext cx="8977320" cy="6735600"/>
          </a:xfrm>
          <a:prstGeom prst="rect">
            <a:avLst/>
          </a:prstGeom>
          <a:ln w="0">
            <a:noFill/>
          </a:ln>
        </p:spPr>
      </p:pic>
      <p:sp>
        <p:nvSpPr>
          <p:cNvPr id="197" name="Freeform 5"/>
          <p:cNvSpPr/>
          <p:nvPr/>
        </p:nvSpPr>
        <p:spPr>
          <a:xfrm>
            <a:off x="5729400" y="1211400"/>
            <a:ext cx="655560" cy="1038240"/>
          </a:xfrm>
          <a:custGeom>
            <a:avLst/>
            <a:gdLst>
              <a:gd name="textAreaLeft" fmla="*/ 0 w 655560"/>
              <a:gd name="textAreaRight" fmla="*/ 655920 w 65556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413" h="654">
                <a:moveTo>
                  <a:pt x="0" y="0"/>
                </a:moveTo>
                <a:lnTo>
                  <a:pt x="413" y="1"/>
                </a:lnTo>
                <a:lnTo>
                  <a:pt x="289" y="647"/>
                </a:lnTo>
                <a:lnTo>
                  <a:pt x="22" y="65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111111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50920" y="333360"/>
            <a:ext cx="577836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cada uno se le ha asignado una obra y nadie puede reemplazarlo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evicio Cristiano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50920" y="2997360"/>
            <a:ext cx="5829120" cy="28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ñor, pon hoy en mi camino a alguien que necesite oir mi testimonio, y yo le hablo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o que hiciste por m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0" y="0"/>
            <a:ext cx="9806040" cy="695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408480" y="241200"/>
            <a:ext cx="4686120" cy="24624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57040" y="647640"/>
            <a:ext cx="43214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dLib BT"/>
              </a:rPr>
              <a:t>¿Cómo iniciar un diálogo de testificación?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84360" y="4006800"/>
            <a:ext cx="8280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Espíritu Santo os enseñará en la misma hora lo que debáis decir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c 12: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-345960"/>
            <a:ext cx="9774360" cy="7362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642960" y="596880"/>
            <a:ext cx="88977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2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"Pero recibiréis el poder, cuando venga sobre vosotros el Espíritu Santo, y me seréis testigos en Jerusalén, en toda Judea, en Samaria, y hasta lo último de la tierra"</a:t>
            </a: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Hch 1:8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258920" y="1484280"/>
            <a:ext cx="69850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uélvete a tu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 cuenta cuán grandes cosas ha hecho Dios conti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Luca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8:39)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233280" y="0"/>
            <a:ext cx="10005840" cy="6897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3643200" y="1660680"/>
            <a:ext cx="6113520" cy="20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spcBef>
                <a:spcPts val="18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Narrow"/>
              </a:rPr>
              <a:t>Vosotros soi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18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Narrow"/>
              </a:rPr>
              <a:t>la luz del mu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-369720" y="0"/>
            <a:ext cx="10144080" cy="6861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-108000" y="115920"/>
            <a:ext cx="6408720" cy="61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El Salvador trataba con los hombres como quien deseaba hacerles bien. Les mostraba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impatía, atend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us necesi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y se gana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u conf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Ento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les decí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"Seguidme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. Cur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-314280" y="0"/>
            <a:ext cx="10088640" cy="695016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3995640" y="260280"/>
            <a:ext cx="547236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Venid a mi todos los que estáis trabajados y cargados, y yo os haré descansar”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Mt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: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79280" y="1413000"/>
            <a:ext cx="8847360" cy="1076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12840" y="1585800"/>
            <a:ext cx="9192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l proceso de la test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44360" y="1589040"/>
            <a:ext cx="954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l proceso de la test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4920" y="2503440"/>
            <a:ext cx="886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800" spc="-1" strike="noStrike">
                <a:solidFill>
                  <a:srgbClr val="0080ff"/>
                </a:solidFill>
                <a:latin typeface="Arial Black"/>
              </a:rPr>
              <a:t>Sólo el método de Cristo será el que dará éxito para llegar a la gen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0080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80ff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0080ff"/>
                </a:solidFill>
                <a:latin typeface="Arial Black"/>
              </a:rPr>
              <a:t>M. C. </a:t>
            </a:r>
            <a:r>
              <a:rPr b="1" lang="en-US" sz="4000" spc="-1" strike="noStrike">
                <a:solidFill>
                  <a:srgbClr val="0080ff"/>
                </a:solidFill>
                <a:latin typeface="Arial Black"/>
              </a:rPr>
              <a:t> 10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197000"/>
            <a:ext cx="9144000" cy="1076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-108000" y="1432080"/>
            <a:ext cx="919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Jesús no siguió un sólo mét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492280"/>
            <a:ext cx="8640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De los métodos de labor de Cristo podemos aprender lecciones valiosas.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El no siguió sólo un método</a:t>
            </a: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; en varias formas buscó captar la atención de la multitud, para poder proclamarles las verdades del Evangelio.  </a:t>
            </a: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8080"/>
                </a:solidFill>
                <a:latin typeface="Arial"/>
              </a:rPr>
              <a:t>Review and Herald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, 9-5-19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24000" y="2432160"/>
            <a:ext cx="871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9480"/>
                <a:tab algn="l" pos="731520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 Black"/>
              </a:rPr>
              <a:t>1. </a:t>
            </a:r>
            <a:r>
              <a:rPr b="1" lang="en-US" sz="3200" spc="-1" strike="noStrike">
                <a:solidFill>
                  <a:srgbClr val="7f7f7f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7f7f7f"/>
                </a:solidFill>
                <a:latin typeface="Arial Black"/>
              </a:rPr>
              <a:t>Como quien </a:t>
            </a:r>
            <a:r>
              <a:rPr b="1" lang="en-US" sz="3200" spc="-1" strike="noStrike">
                <a:solidFill>
                  <a:srgbClr val="ff8000"/>
                </a:solidFill>
                <a:latin typeface="Arial Black"/>
              </a:rPr>
              <a:t>deseaba hacerles bien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24000" y="3141720"/>
            <a:ext cx="7416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04920"/>
                <a:tab algn="l" pos="6094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 Black"/>
              </a:rPr>
              <a:t>2.</a:t>
            </a:r>
            <a:r>
              <a:rPr b="1" lang="en-US" sz="3600" spc="-1" strike="noStrike">
                <a:solidFill>
                  <a:srgbClr val="7f7f7f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7f7f7f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Les mostraba</a:t>
            </a:r>
            <a:r>
              <a:rPr b="1" lang="en-US" sz="3600" spc="-1" strike="noStrike">
                <a:solidFill>
                  <a:srgbClr val="7f7f7f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simpat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3666960"/>
            <a:ext cx="784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04920"/>
                <a:tab algn="l" pos="6094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 Black"/>
              </a:rPr>
              <a:t>3.</a:t>
            </a:r>
            <a:r>
              <a:rPr b="1" lang="en-US" sz="36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Atendía sus neces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4000" y="4243320"/>
            <a:ext cx="6753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04920"/>
                <a:tab algn="l" pos="6094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 Black"/>
              </a:rPr>
              <a:t>4.</a:t>
            </a:r>
            <a:r>
              <a:rPr b="1" lang="en-US" sz="36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Se ganaba su confi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5280" y="4869000"/>
            <a:ext cx="8497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04920"/>
                <a:tab algn="l" pos="6094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 Black"/>
              </a:rPr>
              <a:t>5.</a:t>
            </a:r>
            <a:r>
              <a:rPr b="1" lang="en-US" sz="36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Entonces les decía: 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8000"/>
                </a:solidFill>
                <a:latin typeface="Arial Black"/>
              </a:rPr>
              <a:t>      "Seguidm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197000"/>
            <a:ext cx="9144000" cy="105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08000" y="1192320"/>
            <a:ext cx="8982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¿Recuerdas alguna situación en la cual Cristo aplicó este méto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651120" y="6105600"/>
            <a:ext cx="52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7f7f7f"/>
                </a:solidFill>
                <a:latin typeface="Arial"/>
              </a:rPr>
              <a:t>Min. Cur.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052640"/>
            <a:ext cx="9144000" cy="1076040"/>
          </a:xfrm>
          <a:prstGeom prst="rect">
            <a:avLst/>
          </a:pr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8000" y="1265400"/>
            <a:ext cx="9191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¿Por qué es tan importante aplicar el método de Jesú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71640" y="3213000"/>
            <a:ext cx="675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 Black"/>
              </a:rPr>
              <a:t>¡ Platiquemo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23840"/>
            <a:ext cx="9775800" cy="6734160"/>
          </a:xfrm>
          <a:prstGeom prst="rect">
            <a:avLst/>
          </a:prstGeom>
          <a:ln w="0">
            <a:noFill/>
          </a:ln>
        </p:spPr>
      </p:pic>
      <p:sp>
        <p:nvSpPr>
          <p:cNvPr id="98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92360" y="404640"/>
            <a:ext cx="6193080" cy="158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564000" y="476280"/>
            <a:ext cx="5986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La mayoría se torna receptiva cuando tien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492360" y="2205000"/>
            <a:ext cx="5938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ffb0ff"/>
                </a:solidFill>
                <a:latin typeface="Arial Black"/>
              </a:rPr>
              <a:t>Los problemas más estres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356000" y="4265640"/>
            <a:ext cx="4935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Muerte del cónyuge: 10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38640" y="3867120"/>
            <a:ext cx="4221000" cy="1433520"/>
          </a:xfrm>
          <a:prstGeom prst="rect">
            <a:avLst/>
          </a:prstGeom>
          <a:noFill/>
          <a:ln w="50040">
            <a:solidFill>
              <a:srgbClr val="ff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50920" y="5516640"/>
            <a:ext cx="9505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Esta gente busca soluciones y el evangelio las t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-4680" y="237960"/>
            <a:ext cx="9775800" cy="6734520"/>
          </a:xfrm>
          <a:prstGeom prst="rect">
            <a:avLst/>
          </a:prstGeom>
          <a:ln w="0">
            <a:noFill/>
          </a:ln>
        </p:spPr>
      </p:pic>
      <p:sp>
        <p:nvSpPr>
          <p:cNvPr id="108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851280" y="404640"/>
            <a:ext cx="4935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Divorcio: 7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924360" y="1413000"/>
            <a:ext cx="4935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Separación matrimonial: 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924360" y="2924280"/>
            <a:ext cx="4935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Suspender un año escolar: 6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924360" y="4368960"/>
            <a:ext cx="4935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Muerte de un familiar cercano:6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635280" y="260280"/>
            <a:ext cx="5508720" cy="6597720"/>
          </a:xfrm>
          <a:prstGeom prst="rect">
            <a:avLst/>
          </a:prstGeom>
          <a:noFill/>
          <a:ln w="50040">
            <a:solidFill>
              <a:srgbClr val="ff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-14400" y="69840"/>
            <a:ext cx="98139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-4680" y="237960"/>
            <a:ext cx="9775800" cy="673452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4"/>
          <p:cNvSpPr/>
          <p:nvPr/>
        </p:nvSpPr>
        <p:spPr>
          <a:xfrm>
            <a:off x="3421080" y="1177920"/>
            <a:ext cx="299880" cy="1084320"/>
          </a:xfrm>
          <a:custGeom>
            <a:avLst/>
            <a:gdLst>
              <a:gd name="textAreaLeft" fmla="*/ 0 w 299880"/>
              <a:gd name="textAreaRight" fmla="*/ 300240 w 2998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89" h="683">
                <a:moveTo>
                  <a:pt x="57" y="0"/>
                </a:moveTo>
                <a:lnTo>
                  <a:pt x="57" y="65"/>
                </a:lnTo>
                <a:lnTo>
                  <a:pt x="64" y="131"/>
                </a:lnTo>
                <a:lnTo>
                  <a:pt x="71" y="167"/>
                </a:lnTo>
                <a:lnTo>
                  <a:pt x="32" y="305"/>
                </a:lnTo>
                <a:lnTo>
                  <a:pt x="25" y="349"/>
                </a:lnTo>
                <a:lnTo>
                  <a:pt x="36" y="435"/>
                </a:lnTo>
                <a:lnTo>
                  <a:pt x="11" y="465"/>
                </a:lnTo>
                <a:lnTo>
                  <a:pt x="21" y="530"/>
                </a:lnTo>
                <a:lnTo>
                  <a:pt x="11" y="625"/>
                </a:lnTo>
                <a:lnTo>
                  <a:pt x="0" y="683"/>
                </a:lnTo>
                <a:lnTo>
                  <a:pt x="4" y="683"/>
                </a:lnTo>
                <a:lnTo>
                  <a:pt x="189" y="683"/>
                </a:lnTo>
                <a:lnTo>
                  <a:pt x="185" y="0"/>
                </a:lnTo>
                <a:lnTo>
                  <a:pt x="57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-36360" y="1177920"/>
            <a:ext cx="690480" cy="1084320"/>
          </a:xfrm>
          <a:custGeom>
            <a:avLst/>
            <a:gdLst>
              <a:gd name="textAreaLeft" fmla="*/ 0 w 690480"/>
              <a:gd name="textAreaRight" fmla="*/ 690840 w 6904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435" h="683">
                <a:moveTo>
                  <a:pt x="420" y="0"/>
                </a:moveTo>
                <a:lnTo>
                  <a:pt x="420" y="65"/>
                </a:lnTo>
                <a:lnTo>
                  <a:pt x="435" y="65"/>
                </a:lnTo>
                <a:lnTo>
                  <a:pt x="413" y="136"/>
                </a:lnTo>
                <a:lnTo>
                  <a:pt x="398" y="194"/>
                </a:lnTo>
                <a:lnTo>
                  <a:pt x="362" y="225"/>
                </a:lnTo>
                <a:lnTo>
                  <a:pt x="355" y="290"/>
                </a:lnTo>
                <a:lnTo>
                  <a:pt x="347" y="392"/>
                </a:lnTo>
                <a:lnTo>
                  <a:pt x="391" y="560"/>
                </a:lnTo>
                <a:lnTo>
                  <a:pt x="435" y="683"/>
                </a:lnTo>
                <a:lnTo>
                  <a:pt x="14" y="683"/>
                </a:lnTo>
                <a:lnTo>
                  <a:pt x="0" y="0"/>
                </a:lnTo>
                <a:lnTo>
                  <a:pt x="7" y="0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48a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924360" y="404640"/>
            <a:ext cx="49356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04920"/>
                <a:tab algn="l" pos="6094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Un problema personal o una </a:t>
            </a: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enfermedad: 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924360" y="2852640"/>
            <a:ext cx="4935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Matrimonio, casarse: 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995640" y="4797360"/>
            <a:ext cx="4935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600" spc="-1" strike="noStrike">
                <a:solidFill>
                  <a:srgbClr val="ffb0ff"/>
                </a:solidFill>
                <a:latin typeface="Arial"/>
              </a:rPr>
              <a:t>Despido del trabajo: 4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3635280" y="260280"/>
            <a:ext cx="5508720" cy="6597720"/>
          </a:xfrm>
          <a:prstGeom prst="rect">
            <a:avLst/>
          </a:prstGeom>
          <a:noFill/>
          <a:ln w="50040">
            <a:solidFill>
              <a:srgbClr val="ff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4621320" y="6234120"/>
            <a:ext cx="486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Esta gente busca soluciones y el evangelio las t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iza Ramirez</cp:lastModifiedBy>
  <dcterms:modified xsi:type="dcterms:W3CDTF">2011-07-28T04:53:23Z</dcterms:modified>
  <cp:revision>21</cp:revision>
  <dc:subject/>
  <dc:title>Diapositiva 1</dc:title>
</cp:coreProperties>
</file>